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787320" y="7188120"/>
            <a:ext cx="11430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9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165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873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519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165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787320" y="7188120"/>
            <a:ext cx="11430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9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165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519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165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19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5165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873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6519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5165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787320" y="7188120"/>
            <a:ext cx="11430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19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5165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7873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6519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5165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87320" y="7188120"/>
            <a:ext cx="11430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19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165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873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519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165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7188120"/>
            <a:ext cx="11430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165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519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165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87320" y="7188120"/>
            <a:ext cx="11430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165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873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519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165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87320" y="7188120"/>
            <a:ext cx="11430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165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873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519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165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87320" y="7188120"/>
            <a:ext cx="11430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7188120"/>
            <a:ext cx="11430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165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7873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519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165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87320" y="7188120"/>
            <a:ext cx="11430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9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165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7873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519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165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787320" y="7188120"/>
            <a:ext cx="11430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19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165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873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519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165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87320" y="7188120"/>
            <a:ext cx="11430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87320" y="8850600"/>
            <a:ext cx="1143000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4160" y="8445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8732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4160" y="8850600"/>
            <a:ext cx="55774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9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16520" y="8445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873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519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16520" y="8850600"/>
            <a:ext cx="3680280" cy="3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87320" y="7167600"/>
            <a:ext cx="11430000" cy="129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7188120"/>
            <a:ext cx="114300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ヒラギノ明朝 Pro W3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ヒラギノ明朝 Pro W3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ヒラギノ明朝 Pro W3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ヒラギノ明朝 Pro W3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ヒラギノ明朝 Pro W3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ヒラギノ明朝 Pro W3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ヒラギノ明朝 Pro W3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ヒラギノ明朝 Pro W3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ヒラギノ明朝 Pro W3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ヒラギノ明朝 Pro W3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ヒラギノ明朝 Pro W3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ヒラギノ明朝 Pro W3"/>
              </a:rPr>
              <a:t>Click to edit the outline text format</a:t>
            </a:r>
            <a:endParaRPr b="0" lang="en-US" sz="5600" spc="-1" strike="noStrike">
              <a:solidFill>
                <a:srgbClr val="4b4b4b"/>
              </a:solidFill>
              <a:latin typeface="ヒラギノ明朝 Pro W3"/>
            </a:endParaRPr>
          </a:p>
          <a:p>
            <a:pPr lvl="1" algn="ctr">
              <a:buClr>
                <a:srgbClr val="4b4b4b"/>
              </a:buClr>
              <a:buFont typeface="ヒラギノ明朝 Pro W3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ヒラギノ明朝 Pro W3"/>
              </a:rPr>
              <a:t>Second Outline Level</a:t>
            </a:r>
            <a:endParaRPr b="0" lang="en-US" sz="5600" spc="-1" strike="noStrike">
              <a:solidFill>
                <a:srgbClr val="4b4b4b"/>
              </a:solidFill>
              <a:latin typeface="ヒラギノ明朝 Pro W3"/>
            </a:endParaRPr>
          </a:p>
          <a:p>
            <a:pPr lvl="2" algn="ctr">
              <a:buClr>
                <a:srgbClr val="4b4b4b"/>
              </a:buClr>
              <a:buFont typeface="ヒラギノ明朝 Pro W3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ヒラギノ明朝 Pro W3"/>
              </a:rPr>
              <a:t>Third Outline Level</a:t>
            </a:r>
            <a:endParaRPr b="0" lang="en-US" sz="5600" spc="-1" strike="noStrike">
              <a:solidFill>
                <a:srgbClr val="4b4b4b"/>
              </a:solidFill>
              <a:latin typeface="ヒラギノ明朝 Pro W3"/>
            </a:endParaRPr>
          </a:p>
          <a:p>
            <a:pPr lvl="3" algn="ctr">
              <a:buClr>
                <a:srgbClr val="4b4b4b"/>
              </a:buClr>
              <a:buFont typeface="ヒラギノ明朝 Pro W3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ヒラギノ明朝 Pro W3"/>
              </a:rPr>
              <a:t>Fourth Outline Level</a:t>
            </a:r>
            <a:endParaRPr b="0" lang="en-US" sz="5600" spc="-1" strike="noStrike">
              <a:solidFill>
                <a:srgbClr val="4b4b4b"/>
              </a:solidFill>
              <a:latin typeface="ヒラギノ明朝 Pro W3"/>
            </a:endParaRPr>
          </a:p>
          <a:p>
            <a:pPr lvl="4" algn="ctr">
              <a:buClr>
                <a:srgbClr val="4b4b4b"/>
              </a:buClr>
              <a:buFont typeface="ヒラギノ明朝 Pro W3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ヒラギノ明朝 Pro W3"/>
              </a:rPr>
              <a:t>Fifth Outline Level</a:t>
            </a:r>
            <a:endParaRPr b="0" lang="en-US" sz="5600" spc="-1" strike="noStrike">
              <a:solidFill>
                <a:srgbClr val="4b4b4b"/>
              </a:solidFill>
              <a:latin typeface="ヒラギノ明朝 Pro W3"/>
            </a:endParaRPr>
          </a:p>
          <a:p>
            <a:pPr lvl="5" algn="ctr">
              <a:buClr>
                <a:srgbClr val="595650"/>
              </a:buClr>
              <a:buFont typeface="ヒラギノ明朝 Pro W3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ヒラギノ明朝 Pro W3"/>
              </a:rPr>
              <a:t>Sixth Outline Level</a:t>
            </a:r>
            <a:endParaRPr b="0" lang="en-US" sz="5600" spc="-1" strike="noStrike">
              <a:solidFill>
                <a:srgbClr val="4b4b4b"/>
              </a:solidFill>
              <a:latin typeface="ヒラギノ明朝 Pro W3"/>
            </a:endParaRPr>
          </a:p>
          <a:p>
            <a:pPr lvl="6" algn="ctr">
              <a:buClr>
                <a:srgbClr val="595650"/>
              </a:buClr>
              <a:buFont typeface="ヒラギノ明朝 Pro W3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ヒラギノ明朝 Pro W3"/>
              </a:rPr>
              <a:t>Seventh Outline Level</a:t>
            </a:r>
            <a:endParaRPr b="0" lang="en-US" sz="5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ヒラギノ明朝 Pro W3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ヒラギノ明朝 Pro W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ヒラギノ明朝 Pro W3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ヒラギノ明朝 Pro W3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ヒラギノ明朝 Pro W3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ヒラギノ明朝 Pro W3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6960" y="1981080"/>
            <a:ext cx="527076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ヒラギノ明朝 Pro W3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86960" y="5308560"/>
            <a:ext cx="5270760" cy="246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ヒラギノ明朝 Pro W3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ヒラギノ明朝 Pro W3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ヒラギノ明朝 Pro W3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ヒラギノ明朝 Pro W3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ヒラギノ明朝 Pro W3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ヒラギノ明朝 Pro W3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ヒラギノ明朝 Pro W3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ヒラギノ明朝 Pro W3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ヒラギノ明朝 Pro W3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ヒラギノ明朝 Pro W3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46920" y="2768400"/>
            <a:ext cx="5270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87320" y="1257480"/>
            <a:ext cx="11430000" cy="723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1" marL="965160" indent="-571320">
              <a:spcBef>
                <a:spcPts val="42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2" marL="1409760" indent="-571680">
              <a:spcBef>
                <a:spcPts val="42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3" marL="1854360" indent="-571680">
              <a:spcBef>
                <a:spcPts val="42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4" marL="2298600" indent="-571320">
              <a:spcBef>
                <a:spcPts val="4201"/>
              </a:spcBef>
              <a:buClr>
                <a:srgbClr val="4b4b4b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5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lvl="6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ヒラギノ明朝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216000"/>
            <a:ext cx="13004640" cy="93088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4419720" y="2959200"/>
            <a:ext cx="876240" cy="5461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ヒラギノ明朝 Pro W3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2235240" y="711360"/>
            <a:ext cx="8534520" cy="65023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87320" y="7188120"/>
            <a:ext cx="114300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ヒラギノ明朝 Pro W3"/>
              </a:rPr>
              <a:t>The First</a:t>
            </a: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ATHIC2006, Seoul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84280" y="990360"/>
            <a:ext cx="11430000" cy="162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ヒラギノ明朝 Pro W3"/>
              </a:rPr>
              <a:t>Thanks to JunGyu YI</a:t>
            </a: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87320" y="80010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Mysterious Triangle ; China - Korea - Japan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901800" y="3657600"/>
            <a:ext cx="11188440" cy="31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87320" y="977760"/>
            <a:ext cx="114300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ヒラギノ明朝 Pro W3"/>
              </a:rPr>
              <a:t>Yet Another Triangle</a:t>
            </a: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591240" y="3631680"/>
            <a:ext cx="4076640" cy="425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6"/>
                <a:ea typeface="ヒラギノ明朝 Pro W6"/>
              </a:rPr>
              <a:t>United State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6"/>
                <a:ea typeface="ヒラギノ明朝 Pro W6"/>
              </a:rPr>
              <a:t>Europe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6"/>
                <a:ea typeface="ヒラギノ明朝 Pro W6"/>
              </a:rPr>
              <a:t>Asia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0"/>
            <a:ext cx="6590880" cy="7073640"/>
            <a:chOff x="0" y="0"/>
            <a:chExt cx="6590880" cy="7073640"/>
          </a:xfrm>
        </p:grpSpPr>
        <p:pic>
          <p:nvPicPr>
            <p:cNvPr id="46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368960" cy="42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55560" y="5218920"/>
              <a:ext cx="1435320" cy="1714680"/>
            </a:xfrm>
            <a:prstGeom prst="rect">
              <a:avLst/>
            </a:prstGeom>
            <a:solidFill>
              <a:srgbClr val="c2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650"/>
                </a:solidFill>
                <a:latin typeface="ヒラギノ明朝 Pro W3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99880" y="5803200"/>
              <a:ext cx="1270080" cy="1270440"/>
            </a:xfrm>
            <a:prstGeom prst="rect">
              <a:avLst/>
            </a:prstGeom>
            <a:solidFill>
              <a:srgbClr val="c2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650"/>
                </a:solidFill>
                <a:latin typeface="ヒラギノ明朝 Pro W3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316080" y="8572680"/>
            <a:ext cx="12357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ヒラギノ明朝 Pro W3"/>
                <a:ea typeface="ヒラギノ明朝 Pro W3"/>
              </a:rPr>
              <a:t>The Asian Triangle should be much more stronger.</a:t>
            </a:r>
            <a:endParaRPr b="0" lang="en-US" sz="3600" spc="-1" strike="noStrike">
              <a:solidFill>
                <a:srgbClr val="595650"/>
              </a:solidFill>
              <a:latin typeface="ヒラギノ明朝 Pro W3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87320" y="1270080"/>
            <a:ext cx="11430000" cy="125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ヒラギノ明朝 Pro W3"/>
              </a:rPr>
              <a:t>~90 participants</a:t>
            </a: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87320" y="6718320"/>
            <a:ext cx="1143000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More people than before,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More young people,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More star players of this field !!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609480" y="2832120"/>
            <a:ext cx="117730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7480" y="-216360"/>
            <a:ext cx="126493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ヒラギノ明朝 Pro W3"/>
              </a:rPr>
              <a:t>Yes, we are strong </a:t>
            </a:r>
            <a:endParaRPr b="0" lang="en-US" sz="7800" spc="-1" strike="noStrike">
              <a:solidFill>
                <a:srgbClr val="1f5b5a"/>
              </a:solidFill>
              <a:latin typeface="ヒラギノ明朝 Pro W3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0" y="0"/>
            <a:ext cx="6590880" cy="7073640"/>
            <a:chOff x="0" y="0"/>
            <a:chExt cx="6590880" cy="7073640"/>
          </a:xfrm>
        </p:grpSpPr>
        <p:pic>
          <p:nvPicPr>
            <p:cNvPr id="47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368960" cy="42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5155560" y="5218920"/>
              <a:ext cx="1435320" cy="1714680"/>
            </a:xfrm>
            <a:prstGeom prst="rect">
              <a:avLst/>
            </a:prstGeom>
            <a:solidFill>
              <a:srgbClr val="c2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650"/>
                </a:solidFill>
                <a:latin typeface="ヒラギノ明朝 Pro W3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99880" y="5803200"/>
              <a:ext cx="1270080" cy="1270440"/>
            </a:xfrm>
            <a:prstGeom prst="rect">
              <a:avLst/>
            </a:prstGeom>
            <a:solidFill>
              <a:srgbClr val="c2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650"/>
                </a:solidFill>
                <a:latin typeface="ヒラギノ明朝 Pro W3"/>
              </a:endParaRPr>
            </a:p>
          </p:txBody>
        </p:sp>
      </p:grp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679800" y="3543120"/>
            <a:ext cx="6566040" cy="405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We can be much stronger with a phase transition 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from 3 communities 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ヒラギノ明朝 Pro W3"/>
              </a:rPr>
              <a:t>to Asian Community!</a:t>
            </a:r>
            <a:endParaRPr b="0" lang="en-US" sz="3600" spc="-1" strike="noStrike">
              <a:solidFill>
                <a:srgbClr val="4b4b4b"/>
              </a:solidFill>
              <a:latin typeface="ヒラギノ明朝 Pro W3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