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2.wmf" ContentType="image/x-wmf"/>
  <Override PartName="/ppt/media/image19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4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9.png" ContentType="image/png"/>
  <Override PartName="/ppt/media/image39.png" ContentType="image/png"/>
  <Override PartName="/ppt/media/image50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778-817A-4010-9C83-DE00C26B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8F0-842E-459B-BD5F-CF0B272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81A-AB55-4547-8F07-CDE1B357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142-0F40-4092-92AE-3BD76A4B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953E-6C68-43F5-BC82-989FEAF6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9CF1-40E4-4ABE-A926-2594F397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2DF9-F3C7-4BC1-9301-BBA4404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2601-A5B8-4FFB-ACE3-BD33BA5D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48A0-6FBA-4A86-A6FA-DCB6D3D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770-3C33-4E74-B124-2C61603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265-9EDC-41EA-A847-D91D24A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49E-0EC7-465C-A28A-1F13611D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1FD9-568C-4891-AF9C-BCEA53BA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3B7-E956-4D08-8EB8-303E4B9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3794-EE15-4EC5-A795-384B96E8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2A93-80F5-4146-AA51-63B033F8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740-EE51-4F68-A11B-1E561C24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DE1-6526-4BC2-BF22-F3AE12D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12B-D0DF-454B-ACB0-3FB01601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3CF-0566-464D-92F2-6526374F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ECE-D698-40C5-9BE8-A211856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97C-4957-4F1B-A58B-86FD4B6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F0B-2151-4348-A7D0-DC917454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9A7-708F-4276-AA92-2555A1C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5440" cy="685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9B4F-E90D-43A5-A233-0A3B54D43515}" type="slidenum"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2240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2240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2240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2240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2240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22405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2240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A86-A9EE-4449-80AD-44A46E9BE40C}" type="slidenum">
              <a:rPr b="0" lang="ja-JP" sz="1400" spc="-1" strike="noStrike">
                <a:solidFill>
                  <a:srgbClr val="62240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33720" y="3048120"/>
            <a:ext cx="5459400" cy="133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4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493640"/>
            <a:ext cx="810108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22405"/>
                </a:solidFill>
                <a:latin typeface="Arial"/>
              </a:rPr>
              <a:t>Hydrodynamic Modeling of</a:t>
            </a:r>
            <a:br>
              <a:rPr sz="4400"/>
            </a:br>
            <a:r>
              <a:rPr b="1" lang="en-US" sz="4400" spc="-1" strike="noStrike">
                <a:solidFill>
                  <a:srgbClr val="622405"/>
                </a:solidFill>
                <a:latin typeface="Arial"/>
              </a:rPr>
              <a:t>Heavy Ion Collisions</a:t>
            </a:r>
            <a:endParaRPr b="1" lang="en-US" sz="4400" spc="-1" strike="noStrike">
              <a:solidFill>
                <a:srgbClr val="6224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78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622405"/>
                </a:solidFill>
                <a:latin typeface="Arial"/>
              </a:rPr>
              <a:t>Tetsufumi Hirano</a:t>
            </a: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622405"/>
                </a:solidFill>
                <a:latin typeface="Arial"/>
              </a:rPr>
              <a:t>平野哲文</a:t>
            </a:r>
            <a:endParaRPr b="0" lang="en-US" sz="3200" spc="-1" strike="noStrike">
              <a:solidFill>
                <a:srgbClr val="62240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622405"/>
                </a:solidFill>
                <a:latin typeface="Arial"/>
              </a:rPr>
              <a:t>Department of Physics</a:t>
            </a:r>
            <a:endParaRPr b="0" lang="en-US" sz="2800" spc="-1" strike="noStrike">
              <a:solidFill>
                <a:srgbClr val="62240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622405"/>
                </a:solidFill>
                <a:latin typeface="Arial"/>
              </a:rPr>
              <a:t> </a:t>
            </a:r>
            <a:r>
              <a:rPr b="1" i="1" lang="ja-JP" sz="2800" spc="-1" strike="noStrike">
                <a:solidFill>
                  <a:srgbClr val="622405"/>
                </a:solidFill>
                <a:latin typeface="Arial"/>
              </a:rPr>
              <a:t>The University of Tokyo</a:t>
            </a:r>
            <a:endParaRPr b="0" lang="en-US" sz="2800" spc="-1" strike="noStrike">
              <a:solidFill>
                <a:srgbClr val="622405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01000" y="5137200"/>
            <a:ext cx="784080" cy="803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117360"/>
            <a:ext cx="8028000" cy="1008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e3d1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3d19"/>
                </a:solidFill>
                <a:latin typeface="Verdana"/>
              </a:rPr>
              <a:t>ATHIC2008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3d19"/>
                </a:solidFill>
                <a:latin typeface="Verdana"/>
              </a:rPr>
              <a:t>Tsukuba University, Tsukuba, Japan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3d19"/>
                </a:solidFill>
                <a:latin typeface="Verdana"/>
              </a:rPr>
              <a:t>October 13-15, 2008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0" name=""/>
          <p:cNvSpPr/>
          <p:nvPr/>
        </p:nvSpPr>
        <p:spPr>
          <a:xfrm>
            <a:off x="3312360" y="6161040"/>
            <a:ext cx="540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Hydrodynamics and Flow”,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T. Hirano, N. van der Kolk, A. Bilandzic, arXiv:0808.2684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92720" y="4064040"/>
            <a:ext cx="3351240" cy="2604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12164"/>
                </a:solidFill>
                <a:latin typeface="Arial"/>
              </a:rPr>
              <a:t>Differential v</a:t>
            </a:r>
            <a:r>
              <a:rPr b="1" lang="fr-FR" sz="4000" spc="-1" strike="noStrike" baseline="-25000">
                <a:solidFill>
                  <a:srgbClr val="212164"/>
                </a:solidFill>
                <a:latin typeface="Arial"/>
              </a:rPr>
              <a:t>2</a:t>
            </a:r>
            <a:r>
              <a:rPr b="1" lang="fr-FR" sz="4000" spc="-1" strike="noStrike">
                <a:solidFill>
                  <a:srgbClr val="212164"/>
                </a:solidFill>
                <a:latin typeface="Arial"/>
              </a:rPr>
              <a:t> in Au+Au and Cu+Cu Collision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038320"/>
            <a:ext cx="136872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038320"/>
            <a:ext cx="1368360" cy="1366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8" name=""/>
          <p:cNvSpPr/>
          <p:nvPr/>
        </p:nvSpPr>
        <p:spPr>
          <a:xfrm>
            <a:off x="1225440" y="2228760"/>
            <a:ext cx="36828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254320"/>
            <a:ext cx="71784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254320"/>
            <a:ext cx="717480" cy="718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2325600"/>
            <a:ext cx="50328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2" name=""/>
          <p:cNvSpPr/>
          <p:nvPr/>
        </p:nvSpPr>
        <p:spPr>
          <a:xfrm>
            <a:off x="802440" y="3665520"/>
            <a:ext cx="398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ame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par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different eccentricity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3" name=""/>
          <p:cNvSpPr/>
          <p:nvPr/>
        </p:nvSpPr>
        <p:spPr>
          <a:xfrm>
            <a:off x="1077120" y="16686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1674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5" name=""/>
          <p:cNvSpPr/>
          <p:nvPr/>
        </p:nvSpPr>
        <p:spPr>
          <a:xfrm>
            <a:off x="1189080" y="4486320"/>
            <a:ext cx="1368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6" name=""/>
          <p:cNvSpPr/>
          <p:nvPr/>
        </p:nvSpPr>
        <p:spPr>
          <a:xfrm>
            <a:off x="252360" y="4486320"/>
            <a:ext cx="1368360" cy="1366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7" name=""/>
          <p:cNvSpPr/>
          <p:nvPr/>
        </p:nvSpPr>
        <p:spPr>
          <a:xfrm>
            <a:off x="1227240" y="4676760"/>
            <a:ext cx="36828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8" name=""/>
          <p:cNvSpPr/>
          <p:nvPr/>
        </p:nvSpPr>
        <p:spPr>
          <a:xfrm>
            <a:off x="3567240" y="4869000"/>
            <a:ext cx="7174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4869000"/>
            <a:ext cx="717840" cy="71892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0" name=""/>
          <p:cNvSpPr/>
          <p:nvPr/>
        </p:nvSpPr>
        <p:spPr>
          <a:xfrm>
            <a:off x="3584520" y="4940280"/>
            <a:ext cx="2541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1" name=""/>
          <p:cNvSpPr/>
          <p:nvPr/>
        </p:nvSpPr>
        <p:spPr>
          <a:xfrm>
            <a:off x="637200" y="6113520"/>
            <a:ext cx="398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ame eccentricity, different 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2" name=""/>
          <p:cNvSpPr/>
          <p:nvPr/>
        </p:nvSpPr>
        <p:spPr>
          <a:xfrm>
            <a:off x="1078560" y="41162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3" name=""/>
          <p:cNvSpPr/>
          <p:nvPr/>
        </p:nvSpPr>
        <p:spPr>
          <a:xfrm>
            <a:off x="3435480" y="4122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51240" cy="260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85080" y="4581360"/>
            <a:ext cx="485640" cy="493920"/>
          </a:xfrm>
          <a:prstGeom prst="upDownArrow">
            <a:avLst>
              <a:gd name="adj1" fmla="val 50000"/>
              <a:gd name="adj2" fmla="val 202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284720" y="6237360"/>
            <a:ext cx="560160" cy="263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076720" y="6093000"/>
            <a:ext cx="3816360" cy="475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by M. Shimomur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0" y="1886040"/>
            <a:ext cx="4210200" cy="319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4000" y="1886040"/>
            <a:ext cx="4209840" cy="3198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54756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Mass Ordering for v</a:t>
            </a:r>
            <a:r>
              <a:rPr b="1" lang="en-US" sz="4400" spc="-1" strike="noStrike" baseline="-25000">
                <a:solidFill>
                  <a:srgbClr val="212164"/>
                </a:solidFill>
                <a:latin typeface="Arial"/>
                <a:ea typeface="ＭＳ Ｐゴシック"/>
              </a:rPr>
              <a:t>2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(p</a:t>
            </a:r>
            <a:r>
              <a:rPr b="1" lang="en-US" sz="4400" spc="-1" strike="noStrike" baseline="-25000">
                <a:solidFill>
                  <a:srgbClr val="212164"/>
                </a:solidFill>
                <a:latin typeface="Arial"/>
                <a:ea typeface="ＭＳ Ｐゴシック"/>
              </a:rPr>
              <a:t>T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560" y="51274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s dependence is o.k. from hydro+cascade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2" name=""/>
          <p:cNvSpPr/>
          <p:nvPr/>
        </p:nvSpPr>
        <p:spPr>
          <a:xfrm>
            <a:off x="3277800" y="3425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-30%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3808440"/>
            <a:ext cx="1368360" cy="557280"/>
          </a:xfrm>
          <a:prstGeom prst="rightArrow">
            <a:avLst>
              <a:gd name="adj1" fmla="val 50000"/>
              <a:gd name="adj2" fmla="val 61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4" name=""/>
          <p:cNvSpPr/>
          <p:nvPr/>
        </p:nvSpPr>
        <p:spPr>
          <a:xfrm>
            <a:off x="5756400" y="2854440"/>
            <a:ext cx="976320" cy="556920"/>
          </a:xfrm>
          <a:prstGeom prst="leftArrow">
            <a:avLst>
              <a:gd name="adj1" fmla="val 50000"/>
              <a:gd name="adj2" fmla="val 43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5" name=""/>
          <p:cNvSpPr/>
          <p:nvPr/>
        </p:nvSpPr>
        <p:spPr>
          <a:xfrm>
            <a:off x="4535640" y="4971960"/>
            <a:ext cx="45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s ordering comes fro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dronic rescattering effect. Interplay btw. radial and elliptic flows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6" name=""/>
          <p:cNvSpPr/>
          <p:nvPr/>
        </p:nvSpPr>
        <p:spPr>
          <a:xfrm>
            <a:off x="4503600" y="-27000"/>
            <a:ext cx="4377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Hirano et al., Phys.Rev.C77, 044909 (2008)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212164"/>
                </a:solidFill>
                <a:latin typeface="Arial"/>
              </a:rPr>
              <a:t>Phi-mesons as a Probe </a:t>
            </a:r>
            <a:br>
              <a:rPr sz="4000"/>
            </a:br>
            <a:r>
              <a:rPr b="1" lang="ja-JP" sz="4000" spc="-1" strike="noStrike">
                <a:solidFill>
                  <a:srgbClr val="212164"/>
                </a:solidFill>
                <a:latin typeface="Arial"/>
              </a:rPr>
              <a:t>at Hadronization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7035" t="11207" r="7806" b="15780"/>
          <a:stretch/>
        </p:blipFill>
        <p:spPr>
          <a:xfrm>
            <a:off x="684360" y="1989000"/>
            <a:ext cx="7704000" cy="4334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92720" y="4119480"/>
            <a:ext cx="215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278240"/>
            <a:ext cx="583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445140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istribution of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eeze-Out Ti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92360" y="1766880"/>
            <a:ext cx="5481720" cy="4254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293800" y="3500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=2.0f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5" name=""/>
          <p:cNvSpPr/>
          <p:nvPr/>
        </p:nvSpPr>
        <p:spPr>
          <a:xfrm>
            <a:off x="5903280" y="2637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 decay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6" name=""/>
          <p:cNvSpPr/>
          <p:nvPr/>
        </p:nvSpPr>
        <p:spPr>
          <a:xfrm>
            <a:off x="761760" y="5956200"/>
            <a:ext cx="77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kinetic freezeout for multistrange hadrons: van Hecke, Sorge, Xu(’98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 can serve a direct information at the hadronization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Violation of Mass Ordering </a:t>
            </a:r>
            <a:br>
              <a:rPr sz="4000"/>
            </a:b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212164"/>
                </a:solidFill>
                <a:latin typeface="Symbol"/>
                <a:ea typeface="Symbol"/>
              </a:rPr>
              <a:t></a:t>
            </a: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-meson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3468960" cy="2635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48360" y="2089080"/>
            <a:ext cx="3468600" cy="2635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592600" y="5229360"/>
            <a:ext cx="257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1 GeV/c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2655720"/>
            <a:ext cx="976320" cy="15652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2" name=""/>
          <p:cNvSpPr/>
          <p:nvPr/>
        </p:nvSpPr>
        <p:spPr>
          <a:xfrm>
            <a:off x="686880" y="16765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st after hadroniz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3" name=""/>
          <p:cNvSpPr/>
          <p:nvPr/>
        </p:nvSpPr>
        <p:spPr>
          <a:xfrm>
            <a:off x="6059520" y="1676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result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4" name=""/>
          <p:cNvSpPr/>
          <p:nvPr/>
        </p:nvSpPr>
        <p:spPr>
          <a:xfrm>
            <a:off x="1058040" y="4724280"/>
            <a:ext cx="268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 = T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w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169 MeV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651640" y="4797360"/>
            <a:ext cx="2514600" cy="533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55640" y="341964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=7.2fm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7" name=""/>
          <p:cNvSpPr/>
          <p:nvPr/>
        </p:nvSpPr>
        <p:spPr>
          <a:xfrm>
            <a:off x="7210080" y="341964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=7.2fm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6524640"/>
            <a:ext cx="73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veat: Published PHENIX data obtained in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~1GeV/c fo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ons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9" name=""/>
          <p:cNvSpPr/>
          <p:nvPr/>
        </p:nvSpPr>
        <p:spPr>
          <a:xfrm>
            <a:off x="1118160" y="5651640"/>
            <a:ext cx="68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olation of mass ordering for phi mesons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 signal of early decoupling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0" name=""/>
          <p:cNvSpPr/>
          <p:nvPr/>
        </p:nvSpPr>
        <p:spPr>
          <a:xfrm>
            <a:off x="4503600" y="-27000"/>
            <a:ext cx="4377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Hirano et al., Phys.Rev.C77, 044909 (2008)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Eccentricity Fluctua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844720" y="2446200"/>
            <a:ext cx="2819520" cy="1703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38160" y="431964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Interaction points of participants vary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event by event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Apparent reaction plane also varies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he effect is significant for smaller system such as Cu+Cu collision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843280" y="2565000"/>
            <a:ext cx="2808360" cy="1251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5" name=""/>
          <p:cNvSpPr/>
          <p:nvPr/>
        </p:nvSpPr>
        <p:spPr>
          <a:xfrm>
            <a:off x="2844720" y="331164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6" name=""/>
          <p:cNvSpPr/>
          <p:nvPr/>
        </p:nvSpPr>
        <p:spPr>
          <a:xfrm rot="20369400">
            <a:off x="3924360" y="2734920"/>
            <a:ext cx="504720" cy="100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7" name=""/>
          <p:cNvSpPr/>
          <p:nvPr/>
        </p:nvSpPr>
        <p:spPr>
          <a:xfrm>
            <a:off x="4782240" y="177336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Adopted from D.Hofman(PHOBOS),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talk at QM2006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8" name=""/>
          <p:cNvSpPr/>
          <p:nvPr/>
        </p:nvSpPr>
        <p:spPr>
          <a:xfrm>
            <a:off x="6319800" y="2637000"/>
            <a:ext cx="27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A sample even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from Monte Carlo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Glauber mode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9" name=""/>
          <p:cNvSpPr/>
          <p:nvPr/>
        </p:nvSpPr>
        <p:spPr>
          <a:xfrm>
            <a:off x="5710680" y="2290680"/>
            <a:ext cx="4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0" name=""/>
          <p:cNvSpPr/>
          <p:nvPr/>
        </p:nvSpPr>
        <p:spPr>
          <a:xfrm>
            <a:off x="5667480" y="311616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Initial Condition with an Effect of Eccentricity Fluctuation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55160" y="3830760"/>
            <a:ext cx="224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Rotate each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3" name=""/>
          <p:cNvSpPr/>
          <p:nvPr/>
        </p:nvSpPr>
        <p:spPr>
          <a:xfrm>
            <a:off x="318960" y="2060640"/>
            <a:ext cx="2003400" cy="124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hrow a di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o choose 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mi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4" name=""/>
          <p:cNvSpPr/>
          <p:nvPr/>
        </p:nvSpPr>
        <p:spPr>
          <a:xfrm>
            <a:off x="55404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5" name=""/>
          <p:cNvSpPr/>
          <p:nvPr/>
        </p:nvSpPr>
        <p:spPr>
          <a:xfrm>
            <a:off x="5540400" y="53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6" name=""/>
          <p:cNvSpPr/>
          <p:nvPr/>
        </p:nvSpPr>
        <p:spPr>
          <a:xfrm>
            <a:off x="5249520" y="31114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event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7" name=""/>
          <p:cNvSpPr/>
          <p:nvPr/>
        </p:nvSpPr>
        <p:spPr>
          <a:xfrm>
            <a:off x="5249520" y="584676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event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8" name=""/>
          <p:cNvSpPr/>
          <p:nvPr/>
        </p:nvSpPr>
        <p:spPr>
          <a:xfrm>
            <a:off x="4373640" y="37479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564000" y="2151000"/>
            <a:ext cx="1687320" cy="1422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564000" y="4886280"/>
            <a:ext cx="1687320" cy="1422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03080" y="4869000"/>
            <a:ext cx="1957680" cy="13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E.g.)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min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 0.0fm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= 3.3fm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in Au+Au collisions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t 0-5% centrality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877080" y="2133720"/>
            <a:ext cx="168732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6877080" y="4886280"/>
            <a:ext cx="1687320" cy="142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Effect of Eccentricity Fluctuation on v</a:t>
            </a:r>
            <a:r>
              <a:rPr b="1" lang="en-US" sz="4000" spc="-1" strike="noStrike" baseline="-25000">
                <a:solidFill>
                  <a:srgbClr val="212164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7240" y="4581360"/>
            <a:ext cx="629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w.rot) ~ 2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w.o.rot) at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~350 in AuAu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w.rot) ~ 4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w.o.rot) at 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~110 in CuCu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7" name=""/>
          <p:cNvSpPr/>
          <p:nvPr/>
        </p:nvSpPr>
        <p:spPr>
          <a:xfrm>
            <a:off x="1028880" y="59500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GC initial conditions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8" name=""/>
          <p:cNvSpPr/>
          <p:nvPr/>
        </p:nvSpPr>
        <p:spPr>
          <a:xfrm>
            <a:off x="1099440" y="544500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ificant effects of fluctuation!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649680" cy="2838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3649680" cy="2838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524560" y="6237360"/>
            <a:ext cx="560160" cy="263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300720" y="6093000"/>
            <a:ext cx="2592360" cy="475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by Y. Nar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3" name=""/>
          <p:cNvSpPr/>
          <p:nvPr/>
        </p:nvSpPr>
        <p:spPr>
          <a:xfrm>
            <a:off x="5084280" y="-6480"/>
            <a:ext cx="3923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 Hirano and Y. Nara, work in progress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urce Imag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28640" y="1484280"/>
            <a:ext cx="1992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ed quantities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air Co-Moving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(PCMS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5359320"/>
            <a:ext cx="72864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Imaging: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rse problem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a kern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more Gaussian parameterization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7" name=""/>
          <p:cNvSpPr/>
          <p:nvPr/>
        </p:nvSpPr>
        <p:spPr>
          <a:xfrm>
            <a:off x="829800" y="167652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onin-Pratt eq. (Koonin(’77),Pratt(’84)):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8" name=""/>
          <p:cNvSpPr/>
          <p:nvPr/>
        </p:nvSpPr>
        <p:spPr>
          <a:xfrm>
            <a:off x="783360" y="304308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function and normalized emission rate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9" name=""/>
          <p:cNvSpPr/>
          <p:nvPr/>
        </p:nvSpPr>
        <p:spPr>
          <a:xfrm>
            <a:off x="5296320" y="543888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rown&amp;Danielewicz (’97-)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95440" y="3470400"/>
            <a:ext cx="6461280" cy="1903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187280" y="2179800"/>
            <a:ext cx="569628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38960" cy="3019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56653" t="63425" r="15783" b="10635"/>
          <a:stretch/>
        </p:blipFill>
        <p:spPr>
          <a:xfrm>
            <a:off x="2413080" y="2774880"/>
            <a:ext cx="1079280" cy="1584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Distribution of the Last Interaction Point from Hydro + Cascade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rcRect l="56515" t="11217" r="16362" b="55194"/>
          <a:stretch/>
        </p:blipFill>
        <p:spPr>
          <a:xfrm>
            <a:off x="5611680" y="2657520"/>
            <a:ext cx="1081080" cy="1079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553400" y="609300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ＭＳ Ｐゴシック"/>
              </a:rPr>
              <a:t>Blink: Ideal Hydro, no resonance decay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ＭＳ Ｐゴシック"/>
              </a:rPr>
              <a:t>Kolb and Heinz (2003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7" name=""/>
          <p:cNvSpPr/>
          <p:nvPr/>
        </p:nvSpPr>
        <p:spPr>
          <a:xfrm>
            <a:off x="1868760" y="20955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-t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8" name=""/>
          <p:cNvSpPr/>
          <p:nvPr/>
        </p:nvSpPr>
        <p:spPr>
          <a:xfrm>
            <a:off x="4964400" y="2023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-y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9" name=""/>
          <p:cNvSpPr/>
          <p:nvPr/>
        </p:nvSpPr>
        <p:spPr>
          <a:xfrm>
            <a:off x="1330560" y="4653000"/>
            <a:ext cx="73069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0.5 GeV/c for pion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tail 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ay? elastic scattering?)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ve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-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rrelation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Dynamical Modeling with Hydrodynamic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77336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Initial condi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thermalization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3" name=""/>
          <p:cNvSpPr/>
          <p:nvPr/>
        </p:nvSpPr>
        <p:spPr>
          <a:xfrm>
            <a:off x="2639160" y="3116160"/>
            <a:ext cx="36068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ydrodynamic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olution of QGP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633760"/>
            <a:ext cx="574920" cy="4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84800" y="2825640"/>
            <a:ext cx="2872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6" name=""/>
          <p:cNvSpPr/>
          <p:nvPr/>
        </p:nvSpPr>
        <p:spPr>
          <a:xfrm>
            <a:off x="777240" y="4724280"/>
            <a:ext cx="399816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t quenching/Di-je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vy quark diffus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/psi suppress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radi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266560" y="4221000"/>
            <a:ext cx="576360" cy="50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"/>
          <p:cNvSpPr/>
          <p:nvPr/>
        </p:nvSpPr>
        <p:spPr>
          <a:xfrm>
            <a:off x="511560" y="393372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ide QGP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205160"/>
            <a:ext cx="107928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0" name=""/>
          <p:cNvSpPr/>
          <p:nvPr/>
        </p:nvSpPr>
        <p:spPr>
          <a:xfrm>
            <a:off x="6114960" y="4581360"/>
            <a:ext cx="2567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etic evolu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1" name=""/>
          <p:cNvSpPr/>
          <p:nvPr/>
        </p:nvSpPr>
        <p:spPr>
          <a:xfrm>
            <a:off x="6545160" y="1992240"/>
            <a:ext cx="23464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alescen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2" name=""/>
          <p:cNvSpPr/>
          <p:nvPr/>
        </p:nvSpPr>
        <p:spPr>
          <a:xfrm>
            <a:off x="6100920" y="5734080"/>
            <a:ext cx="262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Hadronic spectr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Collective flow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3" name=""/>
          <p:cNvSpPr/>
          <p:nvPr/>
        </p:nvSpPr>
        <p:spPr>
          <a:xfrm>
            <a:off x="7451640" y="5084640"/>
            <a:ext cx="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4" name=""/>
          <p:cNvSpPr/>
          <p:nvPr/>
        </p:nvSpPr>
        <p:spPr>
          <a:xfrm>
            <a:off x="6543720" y="2822400"/>
            <a:ext cx="236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ace of QGP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1D (Angle-averaged) Source Function from Hydro + Cascade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68360" y="2136600"/>
            <a:ext cx="4254480" cy="3308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284720" y="2136600"/>
            <a:ext cx="4254480" cy="3308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584600" y="2189160"/>
            <a:ext cx="352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48 &lt; K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0.6 GeV/c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4" name=""/>
          <p:cNvSpPr/>
          <p:nvPr/>
        </p:nvSpPr>
        <p:spPr>
          <a:xfrm>
            <a:off x="814320" y="2189160"/>
            <a:ext cx="352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2 &lt; K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0.36 GeV/c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5" name=""/>
          <p:cNvSpPr/>
          <p:nvPr/>
        </p:nvSpPr>
        <p:spPr>
          <a:xfrm>
            <a:off x="1409760" y="5410080"/>
            <a:ext cx="6473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er than PHENIX dat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most no 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pendence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 dat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effects of hadronic rescattering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6" name=""/>
          <p:cNvSpPr/>
          <p:nvPr/>
        </p:nvSpPr>
        <p:spPr>
          <a:xfrm>
            <a:off x="7463880" y="1700280"/>
            <a:ext cx="107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967040" y="1700280"/>
            <a:ext cx="5126040" cy="541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115080" y="6524640"/>
            <a:ext cx="59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NIX, PRL98,132301(2007); arXiv:0712.4372[nucl-ex]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9" name=""/>
          <p:cNvSpPr/>
          <p:nvPr/>
        </p:nvSpPr>
        <p:spPr>
          <a:xfrm>
            <a:off x="4979880" y="-6480"/>
            <a:ext cx="40287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 Hirano and U. Heinz, work in progress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ummary So Fa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 hybrid approach (QGP fluid + hadronic cascade) initialized by Glauber model works reasonably well at RH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arting point to study finite temperature QCD medium in H.I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re detailed comparison with data is mandatory. (EoS, CGC initial conditions, viscosity, eccentricity fluctuation, source imaging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948360" y="2637000"/>
            <a:ext cx="1727280" cy="2881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Application of Hydro Result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20" y="2637000"/>
            <a:ext cx="1727280" cy="2881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2997000"/>
            <a:ext cx="1081080" cy="1439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6" name=""/>
          <p:cNvSpPr/>
          <p:nvPr/>
        </p:nvSpPr>
        <p:spPr>
          <a:xfrm>
            <a:off x="7560" y="1593720"/>
            <a:ext cx="33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et quenching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/psi suppress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avy quark diffus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7" name=""/>
          <p:cNvSpPr/>
          <p:nvPr/>
        </p:nvSpPr>
        <p:spPr>
          <a:xfrm>
            <a:off x="3780000" y="2637000"/>
            <a:ext cx="1726920" cy="2881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292720" y="292428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364000" y="3068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0" name=""/>
          <p:cNvSpPr/>
          <p:nvPr/>
        </p:nvSpPr>
        <p:spPr>
          <a:xfrm rot="19086000">
            <a:off x="7451640" y="3212640"/>
            <a:ext cx="1584360" cy="289080"/>
          </a:xfrm>
          <a:custGeom>
            <a:avLst/>
            <a:gdLst/>
            <a:ahLst/>
            <a:rect l="l" t="t" r="r" b="b"/>
            <a:pathLst>
              <a:path w="733" h="253">
                <a:moveTo>
                  <a:pt x="0" y="152"/>
                </a:moveTo>
                <a:cubicBezTo>
                  <a:pt x="26" y="76"/>
                  <a:pt x="60" y="0"/>
                  <a:pt x="91" y="16"/>
                </a:cubicBezTo>
                <a:cubicBezTo>
                  <a:pt x="122" y="32"/>
                  <a:pt x="148" y="246"/>
                  <a:pt x="185" y="248"/>
                </a:cubicBezTo>
                <a:cubicBezTo>
                  <a:pt x="222" y="250"/>
                  <a:pt x="274" y="29"/>
                  <a:pt x="313" y="28"/>
                </a:cubicBezTo>
                <a:cubicBezTo>
                  <a:pt x="352" y="27"/>
                  <a:pt x="380" y="244"/>
                  <a:pt x="417" y="244"/>
                </a:cubicBezTo>
                <a:cubicBezTo>
                  <a:pt x="454" y="244"/>
                  <a:pt x="502" y="29"/>
                  <a:pt x="537" y="28"/>
                </a:cubicBezTo>
                <a:cubicBezTo>
                  <a:pt x="572" y="27"/>
                  <a:pt x="596" y="219"/>
                  <a:pt x="629" y="236"/>
                </a:cubicBezTo>
                <a:cubicBezTo>
                  <a:pt x="662" y="253"/>
                  <a:pt x="711" y="150"/>
                  <a:pt x="733" y="1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1" name=""/>
          <p:cNvSpPr/>
          <p:nvPr/>
        </p:nvSpPr>
        <p:spPr>
          <a:xfrm>
            <a:off x="5577120" y="27241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son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2" name=""/>
          <p:cNvSpPr/>
          <p:nvPr/>
        </p:nvSpPr>
        <p:spPr>
          <a:xfrm>
            <a:off x="3539880" y="174312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ombin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alescen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3" name=""/>
          <p:cNvSpPr/>
          <p:nvPr/>
        </p:nvSpPr>
        <p:spPr>
          <a:xfrm>
            <a:off x="7451640" y="3716280"/>
            <a:ext cx="4334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4" name=""/>
          <p:cNvSpPr/>
          <p:nvPr/>
        </p:nvSpPr>
        <p:spPr>
          <a:xfrm>
            <a:off x="6179760" y="1268280"/>
            <a:ext cx="27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photon/dilepton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5" name=""/>
          <p:cNvSpPr/>
          <p:nvPr/>
        </p:nvSpPr>
        <p:spPr>
          <a:xfrm>
            <a:off x="5364000" y="4797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6" name=""/>
          <p:cNvSpPr/>
          <p:nvPr/>
        </p:nvSpPr>
        <p:spPr>
          <a:xfrm>
            <a:off x="5348160" y="49244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5013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8" name=""/>
          <p:cNvSpPr/>
          <p:nvPr/>
        </p:nvSpPr>
        <p:spPr>
          <a:xfrm rot="15891000">
            <a:off x="1800000" y="3249360"/>
            <a:ext cx="649440" cy="287280"/>
          </a:xfrm>
          <a:custGeom>
            <a:avLst/>
            <a:gdLst/>
            <a:ahLst/>
            <a:rect l="l" t="t" r="r" b="b"/>
            <a:pathLst>
              <a:path w="733" h="253">
                <a:moveTo>
                  <a:pt x="0" y="152"/>
                </a:moveTo>
                <a:cubicBezTo>
                  <a:pt x="26" y="76"/>
                  <a:pt x="60" y="0"/>
                  <a:pt x="91" y="16"/>
                </a:cubicBezTo>
                <a:cubicBezTo>
                  <a:pt x="122" y="32"/>
                  <a:pt x="148" y="246"/>
                  <a:pt x="185" y="248"/>
                </a:cubicBezTo>
                <a:cubicBezTo>
                  <a:pt x="222" y="250"/>
                  <a:pt x="274" y="29"/>
                  <a:pt x="313" y="28"/>
                </a:cubicBezTo>
                <a:cubicBezTo>
                  <a:pt x="352" y="27"/>
                  <a:pt x="380" y="244"/>
                  <a:pt x="417" y="244"/>
                </a:cubicBezTo>
                <a:cubicBezTo>
                  <a:pt x="454" y="244"/>
                  <a:pt x="502" y="29"/>
                  <a:pt x="537" y="28"/>
                </a:cubicBezTo>
                <a:cubicBezTo>
                  <a:pt x="572" y="27"/>
                  <a:pt x="596" y="219"/>
                  <a:pt x="629" y="236"/>
                </a:cubicBezTo>
                <a:cubicBezTo>
                  <a:pt x="662" y="253"/>
                  <a:pt x="711" y="150"/>
                  <a:pt x="733" y="1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9" name=""/>
          <p:cNvSpPr/>
          <p:nvPr/>
        </p:nvSpPr>
        <p:spPr>
          <a:xfrm rot="9528000">
            <a:off x="1763280" y="4005360"/>
            <a:ext cx="649440" cy="287280"/>
          </a:xfrm>
          <a:custGeom>
            <a:avLst/>
            <a:gdLst/>
            <a:ahLst/>
            <a:rect l="l" t="t" r="r" b="b"/>
            <a:pathLst>
              <a:path w="733" h="253">
                <a:moveTo>
                  <a:pt x="0" y="152"/>
                </a:moveTo>
                <a:cubicBezTo>
                  <a:pt x="26" y="76"/>
                  <a:pt x="60" y="0"/>
                  <a:pt x="91" y="16"/>
                </a:cubicBezTo>
                <a:cubicBezTo>
                  <a:pt x="122" y="32"/>
                  <a:pt x="148" y="246"/>
                  <a:pt x="185" y="248"/>
                </a:cubicBezTo>
                <a:cubicBezTo>
                  <a:pt x="222" y="250"/>
                  <a:pt x="274" y="29"/>
                  <a:pt x="313" y="28"/>
                </a:cubicBezTo>
                <a:cubicBezTo>
                  <a:pt x="352" y="27"/>
                  <a:pt x="380" y="244"/>
                  <a:pt x="417" y="244"/>
                </a:cubicBezTo>
                <a:cubicBezTo>
                  <a:pt x="454" y="244"/>
                  <a:pt x="502" y="29"/>
                  <a:pt x="537" y="28"/>
                </a:cubicBezTo>
                <a:cubicBezTo>
                  <a:pt x="572" y="27"/>
                  <a:pt x="596" y="219"/>
                  <a:pt x="629" y="236"/>
                </a:cubicBezTo>
                <a:cubicBezTo>
                  <a:pt x="662" y="253"/>
                  <a:pt x="711" y="150"/>
                  <a:pt x="733" y="1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0" name=""/>
          <p:cNvSpPr/>
          <p:nvPr/>
        </p:nvSpPr>
        <p:spPr>
          <a:xfrm>
            <a:off x="631440" y="5724360"/>
            <a:ext cx="19868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ong a path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1" name=""/>
          <p:cNvSpPr/>
          <p:nvPr/>
        </p:nvSpPr>
        <p:spPr>
          <a:xfrm>
            <a:off x="3619800" y="5726160"/>
            <a:ext cx="19868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 surfa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2" name=""/>
          <p:cNvSpPr/>
          <p:nvPr/>
        </p:nvSpPr>
        <p:spPr>
          <a:xfrm>
            <a:off x="6661800" y="5726160"/>
            <a:ext cx="23112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ide mediu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3" name=""/>
          <p:cNvSpPr/>
          <p:nvPr/>
        </p:nvSpPr>
        <p:spPr>
          <a:xfrm>
            <a:off x="5667480" y="49291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ryon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4724280"/>
            <a:ext cx="3589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835280" y="4941360"/>
            <a:ext cx="360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5013360"/>
            <a:ext cx="72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7" name=""/>
          <p:cNvSpPr/>
          <p:nvPr/>
        </p:nvSpPr>
        <p:spPr>
          <a:xfrm>
            <a:off x="1001880" y="4556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/psi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8" name=""/>
          <p:cNvSpPr/>
          <p:nvPr/>
        </p:nvSpPr>
        <p:spPr>
          <a:xfrm>
            <a:off x="2200680" y="47721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9" name=""/>
          <p:cNvSpPr/>
          <p:nvPr/>
        </p:nvSpPr>
        <p:spPr>
          <a:xfrm>
            <a:off x="1421640" y="52038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 bar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503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J/psi Suppression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227640" y="2050920"/>
          <a:ext cx="2556000" cy="20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050920"/>
                    <a:ext cx="2556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84360" y="5516640"/>
            <a:ext cx="4679640" cy="94644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.Asakawa and T.Hatsuda, PRL. 92, 012001 (2004)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Jakovac  et al. PRD 75, 014506 (2007)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Aarts et al. arXiv:0705.2198 [hep-lat]. (Full QCD)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e also T.Umeda,PRD75,094502(2007)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700280"/>
            <a:ext cx="655308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rkonium suppression in QGP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r Debye Screening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.Matsui &amp; H. Satz PLB178 416 (1986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ression depends on temperature (density) and radius of QQbar system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/ps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1.6T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2.0T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~ 1.1T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serve as the thermometer in the QGP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72960" y="1728720"/>
            <a:ext cx="4181400" cy="3005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358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Results from Hydro+J/psi Model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8072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fit @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J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2.00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1.34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1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56920" y="3672000"/>
            <a:ext cx="184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r: uncorrelated sys.</a:t>
            </a:r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racket: correlated sys.</a:t>
            </a:r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9" name=""/>
          <p:cNvSpPr/>
          <p:nvPr/>
        </p:nvSpPr>
        <p:spPr>
          <a:xfrm>
            <a:off x="828720" y="4762440"/>
            <a:ext cx="8064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set of J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suppression at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~ 160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Highest T at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~160 reaches to 2.0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J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 be determined in a narrow region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149800" y="1728720"/>
            <a:ext cx="3814920" cy="2743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401800" y="417024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our map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2" name=""/>
          <p:cNvSpPr/>
          <p:nvPr/>
        </p:nvSpPr>
        <p:spPr>
          <a:xfrm>
            <a:off x="7318440" y="2232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3" name=""/>
          <p:cNvSpPr/>
          <p:nvPr/>
        </p:nvSpPr>
        <p:spPr>
          <a:xfrm>
            <a:off x="7858440" y="2232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4" name=""/>
          <p:cNvSpPr/>
          <p:nvPr/>
        </p:nvSpPr>
        <p:spPr>
          <a:xfrm>
            <a:off x="4833000" y="-27000"/>
            <a:ext cx="40258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 Gunji et al. Phys. Rev. C 76:051901 (R), 2007;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.Phys.G: Nucl.Part.Phys. 35, 104137 (2008).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524560" y="6237360"/>
            <a:ext cx="560160" cy="263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300720" y="6093000"/>
            <a:ext cx="2592360" cy="475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alk by T. Gunji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avy Quark Diffu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26920" y="2403360"/>
            <a:ext cx="3889440" cy="1096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98840" y="178452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Relativistic Langevin Eq. in local rest fram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0" name=""/>
          <p:cNvSpPr/>
          <p:nvPr/>
        </p:nvSpPr>
        <p:spPr>
          <a:xfrm>
            <a:off x="5152680" y="249408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: Drag coefficien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: Gaussian white noiz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3789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henomenological parametrization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547640" y="4292640"/>
            <a:ext cx="1511640" cy="874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283760" y="5443560"/>
            <a:ext cx="67845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LOpQCD(PYTHIA)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Langevin sim. in QGP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(Indep.) fragmentation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Semi leptonic Decay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4" name=""/>
          <p:cNvSpPr/>
          <p:nvPr/>
        </p:nvSpPr>
        <p:spPr>
          <a:xfrm>
            <a:off x="3977280" y="4375080"/>
            <a:ext cx="47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: temperature from hydro sim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M: Mass of 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quark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5" name=""/>
          <p:cNvSpPr/>
          <p:nvPr/>
        </p:nvSpPr>
        <p:spPr>
          <a:xfrm>
            <a:off x="4042440" y="-27000"/>
            <a:ext cx="4865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Y.Akamatsu, T.Hatsuda,T.Hirano,arXiv:0809.1499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212164"/>
                </a:solidFill>
                <a:latin typeface="Arial"/>
              </a:rPr>
              <a:t>Results from Langevin Simulations on 3D QGP Hydro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15111" t="0" r="47729" b="53646"/>
          <a:stretch/>
        </p:blipFill>
        <p:spPr>
          <a:xfrm>
            <a:off x="395280" y="1844640"/>
            <a:ext cx="3529080" cy="2736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176480" y="4797360"/>
            <a:ext cx="224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~1-3 from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rcRect l="6914" t="54268" r="55318" b="0"/>
          <a:stretch/>
        </p:blipFill>
        <p:spPr>
          <a:xfrm>
            <a:off x="5221440" y="1916280"/>
            <a:ext cx="3454200" cy="2593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067280" y="2637000"/>
            <a:ext cx="97632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1" name=""/>
          <p:cNvSpPr/>
          <p:nvPr/>
        </p:nvSpPr>
        <p:spPr>
          <a:xfrm>
            <a:off x="4966920" y="4724280"/>
            <a:ext cx="35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Heavy quarks are no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completely thermalized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2" name=""/>
          <p:cNvSpPr/>
          <p:nvPr/>
        </p:nvSpPr>
        <p:spPr>
          <a:xfrm>
            <a:off x="4042440" y="-27000"/>
            <a:ext cx="4865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Y.Akamatsu, T.Hatsuda,T.Hirano,arXiv:0809.1499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109520" y="5291280"/>
            <a:ext cx="1511280" cy="8744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732720" y="28544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500720" y="6237360"/>
            <a:ext cx="560160" cy="263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508720" y="6093000"/>
            <a:ext cx="3384360" cy="475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Talk by Y. Akamatsu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948360" y="2637000"/>
            <a:ext cx="1727280" cy="2881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Application of Hydro Result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8720" y="2637000"/>
            <a:ext cx="1727280" cy="2881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619280" y="2997000"/>
            <a:ext cx="1081080" cy="1439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1" name=""/>
          <p:cNvSpPr/>
          <p:nvPr/>
        </p:nvSpPr>
        <p:spPr>
          <a:xfrm>
            <a:off x="7560" y="1341360"/>
            <a:ext cx="33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et quenching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/psi suppress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avy quark diffus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2" name=""/>
          <p:cNvSpPr/>
          <p:nvPr/>
        </p:nvSpPr>
        <p:spPr>
          <a:xfrm>
            <a:off x="3780000" y="2637000"/>
            <a:ext cx="1726920" cy="2881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292720" y="292428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364000" y="3068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5" name=""/>
          <p:cNvSpPr/>
          <p:nvPr/>
        </p:nvSpPr>
        <p:spPr>
          <a:xfrm rot="19086000">
            <a:off x="7451640" y="3212640"/>
            <a:ext cx="1584360" cy="289080"/>
          </a:xfrm>
          <a:custGeom>
            <a:avLst/>
            <a:gdLst/>
            <a:ahLst/>
            <a:rect l="l" t="t" r="r" b="b"/>
            <a:pathLst>
              <a:path w="733" h="253">
                <a:moveTo>
                  <a:pt x="0" y="152"/>
                </a:moveTo>
                <a:cubicBezTo>
                  <a:pt x="26" y="76"/>
                  <a:pt x="60" y="0"/>
                  <a:pt x="91" y="16"/>
                </a:cubicBezTo>
                <a:cubicBezTo>
                  <a:pt x="122" y="32"/>
                  <a:pt x="148" y="246"/>
                  <a:pt x="185" y="248"/>
                </a:cubicBezTo>
                <a:cubicBezTo>
                  <a:pt x="222" y="250"/>
                  <a:pt x="274" y="29"/>
                  <a:pt x="313" y="28"/>
                </a:cubicBezTo>
                <a:cubicBezTo>
                  <a:pt x="352" y="27"/>
                  <a:pt x="380" y="244"/>
                  <a:pt x="417" y="244"/>
                </a:cubicBezTo>
                <a:cubicBezTo>
                  <a:pt x="454" y="244"/>
                  <a:pt x="502" y="29"/>
                  <a:pt x="537" y="28"/>
                </a:cubicBezTo>
                <a:cubicBezTo>
                  <a:pt x="572" y="27"/>
                  <a:pt x="596" y="219"/>
                  <a:pt x="629" y="236"/>
                </a:cubicBezTo>
                <a:cubicBezTo>
                  <a:pt x="662" y="253"/>
                  <a:pt x="711" y="150"/>
                  <a:pt x="733" y="1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6" name=""/>
          <p:cNvSpPr/>
          <p:nvPr/>
        </p:nvSpPr>
        <p:spPr>
          <a:xfrm>
            <a:off x="5577120" y="27241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son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7" name=""/>
          <p:cNvSpPr/>
          <p:nvPr/>
        </p:nvSpPr>
        <p:spPr>
          <a:xfrm>
            <a:off x="3441600" y="162072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ombin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alescen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8" name=""/>
          <p:cNvSpPr/>
          <p:nvPr/>
        </p:nvSpPr>
        <p:spPr>
          <a:xfrm>
            <a:off x="7451640" y="3716280"/>
            <a:ext cx="4334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9" name=""/>
          <p:cNvSpPr/>
          <p:nvPr/>
        </p:nvSpPr>
        <p:spPr>
          <a:xfrm>
            <a:off x="6473160" y="1333440"/>
            <a:ext cx="27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photon/dilepton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0" name=""/>
          <p:cNvSpPr/>
          <p:nvPr/>
        </p:nvSpPr>
        <p:spPr>
          <a:xfrm>
            <a:off x="5364000" y="4797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1" name=""/>
          <p:cNvSpPr/>
          <p:nvPr/>
        </p:nvSpPr>
        <p:spPr>
          <a:xfrm>
            <a:off x="5348160" y="49244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5013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3" name=""/>
          <p:cNvSpPr/>
          <p:nvPr/>
        </p:nvSpPr>
        <p:spPr>
          <a:xfrm rot="15891000">
            <a:off x="1800000" y="3249360"/>
            <a:ext cx="649440" cy="287280"/>
          </a:xfrm>
          <a:custGeom>
            <a:avLst/>
            <a:gdLst/>
            <a:ahLst/>
            <a:rect l="l" t="t" r="r" b="b"/>
            <a:pathLst>
              <a:path w="733" h="253">
                <a:moveTo>
                  <a:pt x="0" y="152"/>
                </a:moveTo>
                <a:cubicBezTo>
                  <a:pt x="26" y="76"/>
                  <a:pt x="60" y="0"/>
                  <a:pt x="91" y="16"/>
                </a:cubicBezTo>
                <a:cubicBezTo>
                  <a:pt x="122" y="32"/>
                  <a:pt x="148" y="246"/>
                  <a:pt x="185" y="248"/>
                </a:cubicBezTo>
                <a:cubicBezTo>
                  <a:pt x="222" y="250"/>
                  <a:pt x="274" y="29"/>
                  <a:pt x="313" y="28"/>
                </a:cubicBezTo>
                <a:cubicBezTo>
                  <a:pt x="352" y="27"/>
                  <a:pt x="380" y="244"/>
                  <a:pt x="417" y="244"/>
                </a:cubicBezTo>
                <a:cubicBezTo>
                  <a:pt x="454" y="244"/>
                  <a:pt x="502" y="29"/>
                  <a:pt x="537" y="28"/>
                </a:cubicBezTo>
                <a:cubicBezTo>
                  <a:pt x="572" y="27"/>
                  <a:pt x="596" y="219"/>
                  <a:pt x="629" y="236"/>
                </a:cubicBezTo>
                <a:cubicBezTo>
                  <a:pt x="662" y="253"/>
                  <a:pt x="711" y="150"/>
                  <a:pt x="733" y="1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4" name=""/>
          <p:cNvSpPr/>
          <p:nvPr/>
        </p:nvSpPr>
        <p:spPr>
          <a:xfrm rot="9528000">
            <a:off x="1763280" y="4005360"/>
            <a:ext cx="649440" cy="287280"/>
          </a:xfrm>
          <a:custGeom>
            <a:avLst/>
            <a:gdLst/>
            <a:ahLst/>
            <a:rect l="l" t="t" r="r" b="b"/>
            <a:pathLst>
              <a:path w="733" h="253">
                <a:moveTo>
                  <a:pt x="0" y="152"/>
                </a:moveTo>
                <a:cubicBezTo>
                  <a:pt x="26" y="76"/>
                  <a:pt x="60" y="0"/>
                  <a:pt x="91" y="16"/>
                </a:cubicBezTo>
                <a:cubicBezTo>
                  <a:pt x="122" y="32"/>
                  <a:pt x="148" y="246"/>
                  <a:pt x="185" y="248"/>
                </a:cubicBezTo>
                <a:cubicBezTo>
                  <a:pt x="222" y="250"/>
                  <a:pt x="274" y="29"/>
                  <a:pt x="313" y="28"/>
                </a:cubicBezTo>
                <a:cubicBezTo>
                  <a:pt x="352" y="27"/>
                  <a:pt x="380" y="244"/>
                  <a:pt x="417" y="244"/>
                </a:cubicBezTo>
                <a:cubicBezTo>
                  <a:pt x="454" y="244"/>
                  <a:pt x="502" y="29"/>
                  <a:pt x="537" y="28"/>
                </a:cubicBezTo>
                <a:cubicBezTo>
                  <a:pt x="572" y="27"/>
                  <a:pt x="596" y="219"/>
                  <a:pt x="629" y="236"/>
                </a:cubicBezTo>
                <a:cubicBezTo>
                  <a:pt x="662" y="253"/>
                  <a:pt x="711" y="150"/>
                  <a:pt x="733" y="1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5" name=""/>
          <p:cNvSpPr/>
          <p:nvPr/>
        </p:nvSpPr>
        <p:spPr>
          <a:xfrm>
            <a:off x="631440" y="5724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ong a path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6" name=""/>
          <p:cNvSpPr/>
          <p:nvPr/>
        </p:nvSpPr>
        <p:spPr>
          <a:xfrm>
            <a:off x="3619800" y="57261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 surfa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7" name=""/>
          <p:cNvSpPr/>
          <p:nvPr/>
        </p:nvSpPr>
        <p:spPr>
          <a:xfrm>
            <a:off x="6661800" y="5726160"/>
            <a:ext cx="23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ide mediu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8" name=""/>
          <p:cNvSpPr/>
          <p:nvPr/>
        </p:nvSpPr>
        <p:spPr>
          <a:xfrm>
            <a:off x="5667480" y="49291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ryon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4724280"/>
            <a:ext cx="3589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835280" y="4941360"/>
            <a:ext cx="360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5013360"/>
            <a:ext cx="72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2" name=""/>
          <p:cNvSpPr/>
          <p:nvPr/>
        </p:nvSpPr>
        <p:spPr>
          <a:xfrm>
            <a:off x="1001880" y="4556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/psi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3" name=""/>
          <p:cNvSpPr/>
          <p:nvPr/>
        </p:nvSpPr>
        <p:spPr>
          <a:xfrm>
            <a:off x="2200680" y="47721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4" name=""/>
          <p:cNvSpPr/>
          <p:nvPr/>
        </p:nvSpPr>
        <p:spPr>
          <a:xfrm>
            <a:off x="1421640" y="52038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 bar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Direct and Thermal Photon Emission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8489" t="7033" r="50010" b="8296"/>
          <a:stretch/>
        </p:blipFill>
        <p:spPr>
          <a:xfrm>
            <a:off x="539640" y="1771560"/>
            <a:ext cx="3888000" cy="4681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113440" y="1773360"/>
            <a:ext cx="318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Photons from: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+pQCD L.O.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+fragmentation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+jet conversion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8" name=""/>
          <p:cNvSpPr/>
          <p:nvPr/>
        </p:nvSpPr>
        <p:spPr>
          <a:xfrm>
            <a:off x="5123880" y="4365720"/>
            <a:ext cx="35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 is importan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stimation of energy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 as well as therma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n radiation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9" name=""/>
          <p:cNvSpPr/>
          <p:nvPr/>
        </p:nvSpPr>
        <p:spPr>
          <a:xfrm>
            <a:off x="2340000" y="0"/>
            <a:ext cx="6804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F.-M.Liu, T.Hirano, K.Werner, Y.Zhu, arXiv:0807.4771[hep-ph]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235480" y="6237360"/>
            <a:ext cx="560520" cy="2635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012000" y="6093000"/>
            <a:ext cx="2881080" cy="475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by F.M. Liu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urrent status of dynamical modeling in relativistic heavy ion coll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lauber I.C. + QGP fluid + hadro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/psi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eavy quark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rect photon e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owards establish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Observational QGP physic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QGP fluid + hadronic cascade</a:t>
            </a:r>
            <a:br>
              <a:rPr sz="3600"/>
            </a:b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in full 3D space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120" y="4929120"/>
            <a:ext cx="400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7" name=""/>
          <p:cNvSpPr/>
          <p:nvPr/>
        </p:nvSpPr>
        <p:spPr>
          <a:xfrm>
            <a:off x="2347920" y="2700360"/>
            <a:ext cx="2644920" cy="2655720"/>
          </a:xfrm>
          <a:custGeom>
            <a:avLst/>
            <a:gdLst/>
            <a:ahLst/>
            <a:rect l="l" t="t" r="r" b="b"/>
            <a:pathLst>
              <a:path w="2148" h="2160">
                <a:moveTo>
                  <a:pt x="0" y="2160"/>
                </a:moveTo>
                <a:lnTo>
                  <a:pt x="214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2700360"/>
            <a:ext cx="2675160" cy="2655720"/>
          </a:xfrm>
          <a:custGeom>
            <a:avLst/>
            <a:gdLst/>
            <a:ahLst/>
            <a:rect l="l" t="t" r="r" b="b"/>
            <a:pathLst>
              <a:path w="2164" h="2157">
                <a:moveTo>
                  <a:pt x="2164" y="2157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9" name=""/>
          <p:cNvSpPr/>
          <p:nvPr/>
        </p:nvSpPr>
        <p:spPr>
          <a:xfrm>
            <a:off x="977760" y="2532240"/>
            <a:ext cx="3651480" cy="1992240"/>
          </a:xfrm>
          <a:custGeom>
            <a:avLst/>
            <a:gdLst/>
            <a:ahLst/>
            <a:rect l="l" t="t" r="r" b="b"/>
            <a:pathLst>
              <a:path w="3286" h="1793">
                <a:moveTo>
                  <a:pt x="90" y="458"/>
                </a:moveTo>
                <a:cubicBezTo>
                  <a:pt x="193" y="614"/>
                  <a:pt x="462" y="931"/>
                  <a:pt x="650" y="1126"/>
                </a:cubicBezTo>
                <a:lnTo>
                  <a:pt x="1221" y="1629"/>
                </a:lnTo>
                <a:cubicBezTo>
                  <a:pt x="1346" y="1733"/>
                  <a:pt x="1338" y="1725"/>
                  <a:pt x="1401" y="1752"/>
                </a:cubicBezTo>
                <a:cubicBezTo>
                  <a:pt x="1464" y="1779"/>
                  <a:pt x="1536" y="1793"/>
                  <a:pt x="1601" y="1793"/>
                </a:cubicBezTo>
                <a:cubicBezTo>
                  <a:pt x="1666" y="1793"/>
                  <a:pt x="1729" y="1780"/>
                  <a:pt x="1793" y="1752"/>
                </a:cubicBezTo>
                <a:cubicBezTo>
                  <a:pt x="1857" y="1724"/>
                  <a:pt x="1863" y="1726"/>
                  <a:pt x="1985" y="1626"/>
                </a:cubicBezTo>
                <a:lnTo>
                  <a:pt x="2528" y="1151"/>
                </a:lnTo>
                <a:cubicBezTo>
                  <a:pt x="2725" y="947"/>
                  <a:pt x="3052" y="564"/>
                  <a:pt x="3169" y="399"/>
                </a:cubicBezTo>
                <a:cubicBezTo>
                  <a:pt x="3286" y="234"/>
                  <a:pt x="3263" y="222"/>
                  <a:pt x="3228" y="161"/>
                </a:cubicBezTo>
                <a:cubicBezTo>
                  <a:pt x="3193" y="100"/>
                  <a:pt x="3104" y="6"/>
                  <a:pt x="2960" y="31"/>
                </a:cubicBezTo>
                <a:cubicBezTo>
                  <a:pt x="2816" y="56"/>
                  <a:pt x="2591" y="228"/>
                  <a:pt x="2364" y="309"/>
                </a:cubicBezTo>
                <a:cubicBezTo>
                  <a:pt x="2137" y="390"/>
                  <a:pt x="1841" y="516"/>
                  <a:pt x="1600" y="518"/>
                </a:cubicBezTo>
                <a:cubicBezTo>
                  <a:pt x="1359" y="520"/>
                  <a:pt x="1135" y="402"/>
                  <a:pt x="915" y="319"/>
                </a:cubicBezTo>
                <a:cubicBezTo>
                  <a:pt x="695" y="236"/>
                  <a:pt x="426" y="42"/>
                  <a:pt x="279" y="21"/>
                </a:cubicBezTo>
                <a:cubicBezTo>
                  <a:pt x="132" y="0"/>
                  <a:pt x="62" y="117"/>
                  <a:pt x="31" y="190"/>
                </a:cubicBezTo>
                <a:cubicBezTo>
                  <a:pt x="0" y="263"/>
                  <a:pt x="78" y="402"/>
                  <a:pt x="90" y="458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"/>
          <p:cNvSpPr/>
          <p:nvPr/>
        </p:nvSpPr>
        <p:spPr>
          <a:xfrm>
            <a:off x="292284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"/>
          <p:cNvSpPr/>
          <p:nvPr/>
        </p:nvSpPr>
        <p:spPr>
          <a:xfrm rot="2703600">
            <a:off x="2185560" y="5010120"/>
            <a:ext cx="341280" cy="633600"/>
          </a:xfrm>
          <a:prstGeom prst="upArrow">
            <a:avLst>
              <a:gd name="adj1" fmla="val 50000"/>
              <a:gd name="adj2" fmla="val 46414"/>
            </a:avLst>
          </a:prstGeom>
          <a:gradFill rotWithShape="0">
            <a:gsLst>
              <a:gs pos="0">
                <a:srgbClr val="ffcc00"/>
              </a:gs>
              <a:gs pos="100000">
                <a:srgbClr val="feeca8"/>
              </a:gs>
            </a:gsLst>
            <a:lin ang="53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2" name=""/>
          <p:cNvSpPr/>
          <p:nvPr/>
        </p:nvSpPr>
        <p:spPr>
          <a:xfrm rot="18900000">
            <a:off x="3002040" y="5056200"/>
            <a:ext cx="341280" cy="561960"/>
          </a:xfrm>
          <a:prstGeom prst="upArrow">
            <a:avLst>
              <a:gd name="adj1" fmla="val 50000"/>
              <a:gd name="adj2" fmla="val 41166"/>
            </a:avLst>
          </a:prstGeom>
          <a:gradFill rotWithShape="0">
            <a:gsLst>
              <a:gs pos="0">
                <a:srgbClr val="feeca8"/>
              </a:gs>
              <a:gs pos="100000">
                <a:srgbClr val="ffcc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3" name=""/>
          <p:cNvSpPr/>
          <p:nvPr/>
        </p:nvSpPr>
        <p:spPr>
          <a:xfrm>
            <a:off x="3171240" y="45277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ision axi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2169000" y="195732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" name=""/>
          <p:cNvSpPr/>
          <p:nvPr/>
        </p:nvSpPr>
        <p:spPr>
          <a:xfrm>
            <a:off x="1817640" y="2593800"/>
            <a:ext cx="108000" cy="1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6" name=""/>
          <p:cNvSpPr/>
          <p:nvPr/>
        </p:nvSpPr>
        <p:spPr>
          <a:xfrm>
            <a:off x="2583000" y="2608200"/>
            <a:ext cx="106200" cy="1065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7" name=""/>
          <p:cNvSpPr/>
          <p:nvPr/>
        </p:nvSpPr>
        <p:spPr>
          <a:xfrm>
            <a:off x="2637000" y="2874960"/>
            <a:ext cx="106200" cy="106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8" name=""/>
          <p:cNvSpPr/>
          <p:nvPr/>
        </p:nvSpPr>
        <p:spPr>
          <a:xfrm>
            <a:off x="2422440" y="2795760"/>
            <a:ext cx="10656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" name=""/>
          <p:cNvSpPr/>
          <p:nvPr/>
        </p:nvSpPr>
        <p:spPr>
          <a:xfrm>
            <a:off x="2976480" y="2846520"/>
            <a:ext cx="1080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0" name=""/>
          <p:cNvSpPr/>
          <p:nvPr/>
        </p:nvSpPr>
        <p:spPr>
          <a:xfrm>
            <a:off x="2795760" y="2608200"/>
            <a:ext cx="106200" cy="106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1" name=""/>
          <p:cNvSpPr/>
          <p:nvPr/>
        </p:nvSpPr>
        <p:spPr>
          <a:xfrm>
            <a:off x="2019240" y="2593800"/>
            <a:ext cx="106560" cy="106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2" name=""/>
          <p:cNvSpPr/>
          <p:nvPr/>
        </p:nvSpPr>
        <p:spPr>
          <a:xfrm>
            <a:off x="2320920" y="2543040"/>
            <a:ext cx="108000" cy="10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3" name=""/>
          <p:cNvSpPr/>
          <p:nvPr/>
        </p:nvSpPr>
        <p:spPr>
          <a:xfrm>
            <a:off x="2170080" y="2795760"/>
            <a:ext cx="106560" cy="106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4" name=""/>
          <p:cNvSpPr/>
          <p:nvPr/>
        </p:nvSpPr>
        <p:spPr>
          <a:xfrm>
            <a:off x="3228840" y="2644920"/>
            <a:ext cx="10656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"/>
          <p:cNvSpPr/>
          <p:nvPr/>
        </p:nvSpPr>
        <p:spPr>
          <a:xfrm>
            <a:off x="3279600" y="2846520"/>
            <a:ext cx="106560" cy="106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6" name=""/>
          <p:cNvSpPr/>
          <p:nvPr/>
        </p:nvSpPr>
        <p:spPr>
          <a:xfrm>
            <a:off x="3532320" y="2593800"/>
            <a:ext cx="106200" cy="10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7" name=""/>
          <p:cNvSpPr/>
          <p:nvPr/>
        </p:nvSpPr>
        <p:spPr>
          <a:xfrm>
            <a:off x="3430440" y="2739960"/>
            <a:ext cx="106560" cy="106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8" name=""/>
          <p:cNvSpPr/>
          <p:nvPr/>
        </p:nvSpPr>
        <p:spPr>
          <a:xfrm>
            <a:off x="3027240" y="2492280"/>
            <a:ext cx="10656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9" name=""/>
          <p:cNvSpPr/>
          <p:nvPr/>
        </p:nvSpPr>
        <p:spPr>
          <a:xfrm>
            <a:off x="1515960" y="2443320"/>
            <a:ext cx="10656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0" name=""/>
          <p:cNvSpPr/>
          <p:nvPr/>
        </p:nvSpPr>
        <p:spPr>
          <a:xfrm>
            <a:off x="2870280" y="2341440"/>
            <a:ext cx="106200" cy="106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1" name=""/>
          <p:cNvSpPr/>
          <p:nvPr/>
        </p:nvSpPr>
        <p:spPr>
          <a:xfrm>
            <a:off x="1766880" y="2392200"/>
            <a:ext cx="106200" cy="106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2" name=""/>
          <p:cNvSpPr/>
          <p:nvPr/>
        </p:nvSpPr>
        <p:spPr>
          <a:xfrm>
            <a:off x="2165400" y="2436840"/>
            <a:ext cx="106200" cy="106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3" name=""/>
          <p:cNvSpPr/>
          <p:nvPr/>
        </p:nvSpPr>
        <p:spPr>
          <a:xfrm>
            <a:off x="3279600" y="2386080"/>
            <a:ext cx="10656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4" name=""/>
          <p:cNvSpPr/>
          <p:nvPr/>
        </p:nvSpPr>
        <p:spPr>
          <a:xfrm>
            <a:off x="3828960" y="2543040"/>
            <a:ext cx="106560" cy="106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5" name=""/>
          <p:cNvSpPr/>
          <p:nvPr/>
        </p:nvSpPr>
        <p:spPr>
          <a:xfrm>
            <a:off x="3576600" y="2392200"/>
            <a:ext cx="106560" cy="106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762280" y="2262240"/>
            <a:ext cx="0" cy="30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7" name=""/>
          <p:cNvSpPr/>
          <p:nvPr/>
        </p:nvSpPr>
        <p:spPr>
          <a:xfrm>
            <a:off x="2565360" y="4722840"/>
            <a:ext cx="352440" cy="403200"/>
          </a:xfrm>
          <a:prstGeom prst="irregularSeal1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8" name=""/>
          <p:cNvSpPr/>
          <p:nvPr/>
        </p:nvSpPr>
        <p:spPr>
          <a:xfrm>
            <a:off x="1717560" y="5567400"/>
            <a:ext cx="452520" cy="453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9" name=""/>
          <p:cNvSpPr/>
          <p:nvPr/>
        </p:nvSpPr>
        <p:spPr>
          <a:xfrm>
            <a:off x="3330720" y="5567400"/>
            <a:ext cx="453960" cy="453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0" name=""/>
          <p:cNvSpPr/>
          <p:nvPr/>
        </p:nvSpPr>
        <p:spPr>
          <a:xfrm>
            <a:off x="1989000" y="33336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GP fluid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1" name=""/>
          <p:cNvSpPr/>
          <p:nvPr/>
        </p:nvSpPr>
        <p:spPr>
          <a:xfrm>
            <a:off x="3406680" y="2114640"/>
            <a:ext cx="563760" cy="158760"/>
          </a:xfrm>
          <a:custGeom>
            <a:avLst/>
            <a:gdLst/>
            <a:ahLst/>
            <a:rect l="l" t="t" r="r" b="b"/>
            <a:pathLst>
              <a:path w="355" h="100">
                <a:moveTo>
                  <a:pt x="355" y="2"/>
                </a:moveTo>
                <a:lnTo>
                  <a:pt x="200" y="0"/>
                </a:lnTo>
                <a:lnTo>
                  <a:pt x="0" y="10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2" name=""/>
          <p:cNvSpPr/>
          <p:nvPr/>
        </p:nvSpPr>
        <p:spPr>
          <a:xfrm>
            <a:off x="5202000" y="1774800"/>
            <a:ext cx="436140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Initial condition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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=0.6fm)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lauber model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GC model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QGP flu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D ideal hydrodynamics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170 MeV)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sless free u,d,s+g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s + bag const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Hadron phas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th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100MeV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dronic cascade (JAM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w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169 MeV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3" name=""/>
          <p:cNvSpPr/>
          <p:nvPr/>
        </p:nvSpPr>
        <p:spPr>
          <a:xfrm>
            <a:off x="3149280" y="18684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dron ga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4" name=""/>
          <p:cNvSpPr/>
          <p:nvPr/>
        </p:nvSpPr>
        <p:spPr>
          <a:xfrm>
            <a:off x="281520" y="6021360"/>
            <a:ext cx="85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brid approaches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D) Bass, Dumitru (2D) Teaney, Lauret, Shuryak (3D) Nonaka, Bass, Hirano et al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References and Collaborators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758960"/>
            <a:ext cx="88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Hydro+Cascade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T.Hirano, U.W.Heinz, D.Khaezeev, R.Lacey, Y.Nara, Phys.Lett.B636, 299 (2006); J.Phys.G34, S879 (2007); Phys. Rev. C77, 044909 (2008)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Elliptic flow scaling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M.Shimomura, S.Esumi, T.Hirano, Y.Nara, work in progress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Eccentricity fluctuation effects on v2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T.Hirano, Y.Nara, work in progress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Source function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T.Hirano and U.Heinz, work in progress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J/psi suppress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T.Gunji, H.Hamagaki, T.Hatsuda, T.Hirano, Phys.Rev.C76, 051901 (2007)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Heavy quark diffusion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Y.Akamatsu, T.Hatsuda, T.Hirano, arXiv:0809.1499 [hep-ph]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Photon product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F.-M.Liu, T.Hirano, K.Werner, Y.Zhu, arXiv:0807.4771 [hep-ph]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y they shift oppositely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84720" y="2421000"/>
            <a:ext cx="1295640" cy="2448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8" name=""/>
          <p:cNvSpPr/>
          <p:nvPr/>
        </p:nvSpPr>
        <p:spPr>
          <a:xfrm>
            <a:off x="7020000" y="3087720"/>
            <a:ext cx="976320" cy="106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9" name=""/>
          <p:cNvSpPr/>
          <p:nvPr/>
        </p:nvSpPr>
        <p:spPr>
          <a:xfrm rot="10800000">
            <a:off x="5435640" y="3068640"/>
            <a:ext cx="976320" cy="106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2133720"/>
            <a:ext cx="485640" cy="615960"/>
          </a:xfrm>
          <a:prstGeom prst="up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1" name=""/>
          <p:cNvSpPr/>
          <p:nvPr/>
        </p:nvSpPr>
        <p:spPr>
          <a:xfrm rot="10800000">
            <a:off x="6476760" y="4508280"/>
            <a:ext cx="485640" cy="649080"/>
          </a:xfrm>
          <a:prstGeom prst="upArrow">
            <a:avLst>
              <a:gd name="adj1" fmla="val 50000"/>
              <a:gd name="adj2" fmla="val 33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2" name=""/>
          <p:cNvSpPr/>
          <p:nvPr/>
        </p:nvSpPr>
        <p:spPr>
          <a:xfrm>
            <a:off x="6064200" y="16765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n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3" name=""/>
          <p:cNvSpPr/>
          <p:nvPr/>
        </p:nvSpPr>
        <p:spPr>
          <a:xfrm>
            <a:off x="1777320" y="1676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on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406520" y="2373480"/>
            <a:ext cx="0" cy="21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5" name=""/>
          <p:cNvSpPr/>
          <p:nvPr/>
        </p:nvSpPr>
        <p:spPr>
          <a:xfrm>
            <a:off x="3854520" y="4605480"/>
            <a:ext cx="47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720000" y="2320560"/>
            <a:ext cx="79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406520" y="2949480"/>
            <a:ext cx="2519280" cy="1619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991440" y="34246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9" name=""/>
          <p:cNvSpPr/>
          <p:nvPr/>
        </p:nvSpPr>
        <p:spPr>
          <a:xfrm>
            <a:off x="2474640" y="4494240"/>
            <a:ext cx="81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917800" y="36320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1" name=""/>
          <p:cNvSpPr/>
          <p:nvPr/>
        </p:nvSpPr>
        <p:spPr>
          <a:xfrm>
            <a:off x="1406520" y="363204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2" name=""/>
          <p:cNvSpPr/>
          <p:nvPr/>
        </p:nvSpPr>
        <p:spPr>
          <a:xfrm>
            <a:off x="1390680" y="458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452680" y="328140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405080" y="3273480"/>
            <a:ext cx="10080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405080" y="2841480"/>
            <a:ext cx="1368360" cy="172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26920" y="5157720"/>
            <a:ext cx="3600720" cy="399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67800" y="558468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st decrease with proper time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8" name=""/>
          <p:cNvSpPr/>
          <p:nvPr/>
        </p:nvSpPr>
        <p:spPr>
          <a:xfrm>
            <a:off x="5003640" y="5415120"/>
            <a:ext cx="376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for protons can be negative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n in positive elliptic flow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9" name=""/>
          <p:cNvSpPr/>
          <p:nvPr/>
        </p:nvSpPr>
        <p:spPr>
          <a:xfrm>
            <a:off x="770040" y="6161040"/>
            <a:ext cx="39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 and M.Gyulassy, NPA769,71(06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30" name=""/>
          <p:cNvSpPr/>
          <p:nvPr/>
        </p:nvSpPr>
        <p:spPr>
          <a:xfrm>
            <a:off x="4957200" y="616572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.Huovinen et al.,PLB503,58(01)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1876320" y="2349360"/>
            <a:ext cx="2982960" cy="4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46 L -0.05469 -0.00046 E">
                                      <p:cBhvr>
                                        <p:cTn id="102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00174 -0.06042 E">
                                      <p:cBhvr>
                                        <p:cTn id="110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Inputs to Hydro: Multiplicity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76560" y="5064120"/>
            <a:ext cx="4054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Glauber mode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par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r>
              <a:rPr b="0" i="1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coll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85%:15%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 CGC mode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tching I.C. via e(x,y,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7" name=""/>
          <p:cNvSpPr/>
          <p:nvPr/>
        </p:nvSpPr>
        <p:spPr>
          <a:xfrm>
            <a:off x="786600" y="16765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ntrality dependen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8" name=""/>
          <p:cNvSpPr/>
          <p:nvPr/>
        </p:nvSpPr>
        <p:spPr>
          <a:xfrm>
            <a:off x="5388840" y="167652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pidity dependenc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0280" y="2062080"/>
            <a:ext cx="3970440" cy="3022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03920" y="2087640"/>
            <a:ext cx="3944880" cy="2997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65120" y="5969160"/>
            <a:ext cx="30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harzeev, Levin, and Nardi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lemented in hydro 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y TH and Nara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p</a:t>
            </a:r>
            <a:r>
              <a:rPr b="1" lang="ja-JP" sz="4000" spc="-1" strike="noStrike" baseline="-25000">
                <a:solidFill>
                  <a:srgbClr val="212164"/>
                </a:solidFill>
                <a:latin typeface="Arial"/>
                <a:ea typeface="ＭＳ Ｐゴシック"/>
              </a:rPr>
              <a:t>T</a:t>
            </a:r>
            <a:r>
              <a:rPr b="1" lang="ja-JP" sz="40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 Spectra</a:t>
            </a:r>
            <a:r>
              <a:rPr b="1" lang="ja-JP" sz="3600" spc="-1" strike="noStrike">
                <a:solidFill>
                  <a:srgbClr val="212164"/>
                </a:solidFill>
                <a:latin typeface="Arial"/>
                <a:ea typeface="ＭＳ Ｐゴシック"/>
              </a:rPr>
              <a:t> for PID hadron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2360" y="5516640"/>
            <a:ext cx="7567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hybrid model works well up to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~1.5GeV/c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her components (reco/frag) would appear above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3680" y="2033640"/>
            <a:ext cx="2865600" cy="3251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187800" y="2033640"/>
            <a:ext cx="2865240" cy="3251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170760" y="2033640"/>
            <a:ext cx="2865240" cy="3251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03600" y="-27000"/>
            <a:ext cx="4377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Hirano et al., Phys.Rev.C77, 044909 (2008)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48800"/>
            <a:ext cx="8435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Importance of Hadronic “Corona”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987800" cy="3795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2205000"/>
            <a:ext cx="34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oltzmann Eq. for hadrons instead of hydrodynamic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cluding effective viscosity through finite mean free path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1" name=""/>
          <p:cNvSpPr/>
          <p:nvPr/>
        </p:nvSpPr>
        <p:spPr>
          <a:xfrm>
            <a:off x="3412800" y="2583000"/>
            <a:ext cx="118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GP only    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2" name=""/>
          <p:cNvSpPr/>
          <p:nvPr/>
        </p:nvSpPr>
        <p:spPr>
          <a:xfrm>
            <a:off x="3402000" y="2327400"/>
            <a:ext cx="177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GP+hadron fluids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3" name=""/>
          <p:cNvSpPr/>
          <p:nvPr/>
        </p:nvSpPr>
        <p:spPr>
          <a:xfrm>
            <a:off x="3340440" y="2082960"/>
            <a:ext cx="202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GP fluid+hadron gas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4" name=""/>
          <p:cNvSpPr/>
          <p:nvPr/>
        </p:nvSpPr>
        <p:spPr>
          <a:xfrm>
            <a:off x="4795920" y="-27000"/>
            <a:ext cx="411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Hirano et al., Phys.Lett.B636, 299 (2006)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1880" y="1711440"/>
            <a:ext cx="3965760" cy="3012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569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Differential v</a:t>
            </a:r>
            <a:r>
              <a:rPr b="1" lang="en-US" sz="3600" spc="-1" strike="noStrike" baseline="-25000">
                <a:solidFill>
                  <a:srgbClr val="212164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 &amp; Centrality Dependence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9000" y="486900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s dependence is o.k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e: First result was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ained by Teaney et al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8" name=""/>
          <p:cNvSpPr/>
          <p:nvPr/>
        </p:nvSpPr>
        <p:spPr>
          <a:xfrm>
            <a:off x="3271680" y="32958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-30%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9760" y="1708200"/>
            <a:ext cx="3965760" cy="301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16360" y="4684680"/>
            <a:ext cx="42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ntrality dependence is ok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rge reduction from pure hydro in small multiplicity event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1" name=""/>
          <p:cNvSpPr/>
          <p:nvPr/>
        </p:nvSpPr>
        <p:spPr>
          <a:xfrm>
            <a:off x="4713120" y="-27000"/>
            <a:ext cx="41720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.Hirano et al., Phys.Lett.B636, 299 (2006);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ys.Rev.C77, 044909 (2008)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Centrality Dependence of Differential v</a:t>
            </a:r>
            <a:r>
              <a:rPr b="1" lang="en-US" sz="4000" spc="-1" strike="noStrike" baseline="-25000">
                <a:solidFill>
                  <a:srgbClr val="212164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21216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771720" cy="3543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772080" cy="3543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985120" y="544500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ions, AuAu 200 GeV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6" name=""/>
          <p:cNvSpPr/>
          <p:nvPr/>
        </p:nvSpPr>
        <p:spPr>
          <a:xfrm>
            <a:off x="6537240" y="43750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ENIX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7" name=""/>
          <p:cNvSpPr/>
          <p:nvPr/>
        </p:nvSpPr>
        <p:spPr>
          <a:xfrm>
            <a:off x="2597040" y="43657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ENIX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Hybrid Model at Work </a:t>
            </a:r>
            <a:br>
              <a:rPr sz="3600"/>
            </a:b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at sqrt(s</a:t>
            </a:r>
            <a:r>
              <a:rPr b="1" lang="ja-JP" sz="3600" spc="-1" strike="noStrike" baseline="-25000">
                <a:solidFill>
                  <a:srgbClr val="212164"/>
                </a:solidFill>
                <a:latin typeface="Arial"/>
              </a:rPr>
              <a:t>NN</a:t>
            </a:r>
            <a:r>
              <a:rPr b="1" lang="ja-JP" sz="3600" spc="-1" strike="noStrike">
                <a:solidFill>
                  <a:srgbClr val="212164"/>
                </a:solidFill>
                <a:latin typeface="Arial"/>
              </a:rPr>
              <a:t>)=62.4 GeV 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28240" y="54450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ions, AuAu 62.4 GeV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772080" cy="3543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908320" y="43750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ENIX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3" name=""/>
          <p:cNvSpPr/>
          <p:nvPr/>
        </p:nvSpPr>
        <p:spPr>
          <a:xfrm>
            <a:off x="2020680" y="43657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ENIX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05:40:45Z</dcterms:created>
  <dc:creator>平野哲文</dc:creator>
  <dc:description/>
  <cp:keywords/>
  <dc:language>en-US</dc:language>
  <cp:lastModifiedBy>平野哲文</cp:lastModifiedBy>
  <dcterms:modified xsi:type="dcterms:W3CDTF">2008-10-13T12:59:20Z</dcterms:modified>
  <cp:revision>337</cp:revision>
  <dc:subject/>
  <dc:title>Hydrodynamics and 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182441041</vt:lpwstr>
  </property>
</Properties>
</file>