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D905-B90A-411D-98D9-11068391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3083-E911-4306-BB99-BE978877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DEA1-F571-4959-BBCB-8DCB7F77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2B2D-8FCC-41ED-BB82-2C005337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72F9-08AA-41EB-940C-45121266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A039-73D7-4469-80D0-7E727B07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6B7A-E51C-4378-B523-C63359BC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76F3-0716-433E-9E17-EECFB75F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77DA-671B-436C-AF68-227A172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29C6-2D82-41DA-BC3D-21C577D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C33B-15F9-4A88-97F2-E9D7578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6B43-4E95-4303-B086-01A45392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9D6E-FFAE-4799-A42E-C2B62BD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6DC6-5158-49C8-ADDB-9594380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9F01-9BFB-4FC5-B70A-22E861BF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B7C3-CA25-4D92-9144-FAD289DD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B0A4-B28A-4465-A620-EFEE6BF4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CCC0-9022-42FC-A8FC-2A48FC05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4C5E-03A7-439F-9578-198E6A8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5B90-AACC-4C78-B448-2EC6858B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3A96-5AFF-471A-B3CA-3C00C52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92E2-D7B2-4D4C-B038-626DDC5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D7AD-57A8-4F1A-B5E2-17438F22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0F32-9EA7-498C-8AFF-B7FF1D2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017D-BE1B-49D1-AD79-5CEDD6B1C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17CA-84E8-4F6D-AB53-550A36F17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Arial"/>
              </a:rPr>
              <a:t>High energy collisions in Ad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859280" y="4437000"/>
            <a:ext cx="374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Yoshitaka Hat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U. Tsukub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6440" y="623736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sian triangle heavy-ion conference 2008/10/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41988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mall-     resu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75320" y="2460600"/>
            <a:ext cx="33116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6600" y="5987880"/>
            <a:ext cx="324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91440" y="2343240"/>
            <a:ext cx="0" cy="350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67600" y="234324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34240" y="2228760"/>
            <a:ext cx="2590560" cy="4572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34240" y="5772240"/>
            <a:ext cx="259056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91440" y="3105000"/>
            <a:ext cx="1676160" cy="17784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91440" y="3790800"/>
            <a:ext cx="1676160" cy="17784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91440" y="4476600"/>
            <a:ext cx="1676160" cy="17784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91440" y="5162400"/>
            <a:ext cx="1676160" cy="17784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5160" y="155736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inary perturbation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24000" y="1989000"/>
                <a:ext cx="4275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/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1920" y="292752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small-      such 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79280" y="3533760"/>
                <a:ext cx="34196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/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4118040"/>
                <a:ext cx="4105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8920" y="4724280"/>
                <a:ext cx="432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5405400"/>
                <a:ext cx="23050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332000" y="3389400"/>
            <a:ext cx="1730160" cy="2735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40000" y="692280"/>
                <a:ext cx="511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238400" y="2978280"/>
                <a:ext cx="31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627280" y="2924280"/>
                <a:ext cx="1438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19280" y="1892160"/>
                <a:ext cx="54738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c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15960" y="476280"/>
            <a:ext cx="46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he BKFL Pome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348000" y="5977080"/>
                <a:ext cx="1511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17600" y="31291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recisely, solv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strap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38360" y="2984400"/>
                <a:ext cx="35719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⊗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26560" y="602136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igenvalue of      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84360" y="601812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 rot="5400000">
            <a:off x="7405920" y="4696560"/>
            <a:ext cx="1873440" cy="19836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55000" y="4698000"/>
            <a:ext cx="1873440" cy="19836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39880" y="4713480"/>
            <a:ext cx="1584360" cy="16812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3503160" y="4740480"/>
            <a:ext cx="1584360" cy="16812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304920" y="4622040"/>
            <a:ext cx="1809720" cy="19188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205280" y="4650480"/>
            <a:ext cx="1873440" cy="19872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5300640"/>
            <a:ext cx="1150920" cy="144360"/>
          </a:xfrm>
          <a:custGeom>
            <a:avLst/>
            <a:gdLst/>
            <a:ahLst/>
            <a:rect l="l" t="t" r="r" b="b"/>
            <a:pathLst>
              <a:path w="2320" h="246">
                <a:moveTo>
                  <a:pt x="0" y="3"/>
                </a:moveTo>
                <a:cubicBezTo>
                  <a:pt x="31" y="16"/>
                  <a:pt x="151" y="54"/>
                  <a:pt x="186" y="84"/>
                </a:cubicBezTo>
                <a:cubicBezTo>
                  <a:pt x="221" y="114"/>
                  <a:pt x="220" y="160"/>
                  <a:pt x="210" y="186"/>
                </a:cubicBezTo>
                <a:cubicBezTo>
                  <a:pt x="200" y="212"/>
                  <a:pt x="153" y="242"/>
                  <a:pt x="126" y="243"/>
                </a:cubicBezTo>
                <a:cubicBezTo>
                  <a:pt x="99" y="244"/>
                  <a:pt x="57" y="218"/>
                  <a:pt x="48" y="192"/>
                </a:cubicBezTo>
                <a:cubicBezTo>
                  <a:pt x="39" y="166"/>
                  <a:pt x="29" y="116"/>
                  <a:pt x="69" y="84"/>
                </a:cubicBezTo>
                <a:cubicBezTo>
                  <a:pt x="109" y="52"/>
                  <a:pt x="218" y="3"/>
                  <a:pt x="288" y="3"/>
                </a:cubicBezTo>
                <a:cubicBezTo>
                  <a:pt x="358" y="3"/>
                  <a:pt x="455" y="49"/>
                  <a:pt x="492" y="81"/>
                </a:cubicBezTo>
                <a:cubicBezTo>
                  <a:pt x="529" y="113"/>
                  <a:pt x="520" y="168"/>
                  <a:pt x="510" y="195"/>
                </a:cubicBezTo>
                <a:cubicBezTo>
                  <a:pt x="500" y="222"/>
                  <a:pt x="459" y="243"/>
                  <a:pt x="432" y="243"/>
                </a:cubicBezTo>
                <a:cubicBezTo>
                  <a:pt x="405" y="243"/>
                  <a:pt x="357" y="222"/>
                  <a:pt x="345" y="195"/>
                </a:cubicBezTo>
                <a:cubicBezTo>
                  <a:pt x="333" y="168"/>
                  <a:pt x="321" y="113"/>
                  <a:pt x="360" y="81"/>
                </a:cubicBezTo>
                <a:cubicBezTo>
                  <a:pt x="399" y="49"/>
                  <a:pt x="504" y="3"/>
                  <a:pt x="576" y="3"/>
                </a:cubicBezTo>
                <a:cubicBezTo>
                  <a:pt x="648" y="3"/>
                  <a:pt x="752" y="50"/>
                  <a:pt x="792" y="81"/>
                </a:cubicBezTo>
                <a:cubicBezTo>
                  <a:pt x="832" y="112"/>
                  <a:pt x="826" y="162"/>
                  <a:pt x="816" y="189"/>
                </a:cubicBezTo>
                <a:cubicBezTo>
                  <a:pt x="806" y="216"/>
                  <a:pt x="760" y="244"/>
                  <a:pt x="732" y="243"/>
                </a:cubicBezTo>
                <a:cubicBezTo>
                  <a:pt x="704" y="242"/>
                  <a:pt x="659" y="213"/>
                  <a:pt x="648" y="186"/>
                </a:cubicBezTo>
                <a:cubicBezTo>
                  <a:pt x="637" y="159"/>
                  <a:pt x="627" y="108"/>
                  <a:pt x="666" y="78"/>
                </a:cubicBezTo>
                <a:cubicBezTo>
                  <a:pt x="705" y="48"/>
                  <a:pt x="808" y="6"/>
                  <a:pt x="879" y="6"/>
                </a:cubicBezTo>
                <a:cubicBezTo>
                  <a:pt x="950" y="6"/>
                  <a:pt x="1055" y="48"/>
                  <a:pt x="1095" y="78"/>
                </a:cubicBezTo>
                <a:cubicBezTo>
                  <a:pt x="1135" y="108"/>
                  <a:pt x="1131" y="162"/>
                  <a:pt x="1122" y="189"/>
                </a:cubicBezTo>
                <a:cubicBezTo>
                  <a:pt x="1113" y="216"/>
                  <a:pt x="1066" y="240"/>
                  <a:pt x="1038" y="240"/>
                </a:cubicBezTo>
                <a:cubicBezTo>
                  <a:pt x="1010" y="240"/>
                  <a:pt x="963" y="218"/>
                  <a:pt x="951" y="192"/>
                </a:cubicBezTo>
                <a:cubicBezTo>
                  <a:pt x="939" y="166"/>
                  <a:pt x="927" y="115"/>
                  <a:pt x="966" y="84"/>
                </a:cubicBezTo>
                <a:cubicBezTo>
                  <a:pt x="1005" y="53"/>
                  <a:pt x="1113" y="6"/>
                  <a:pt x="1185" y="6"/>
                </a:cubicBezTo>
                <a:cubicBezTo>
                  <a:pt x="1257" y="6"/>
                  <a:pt x="1361" y="50"/>
                  <a:pt x="1398" y="81"/>
                </a:cubicBezTo>
                <a:cubicBezTo>
                  <a:pt x="1435" y="112"/>
                  <a:pt x="1418" y="163"/>
                  <a:pt x="1407" y="189"/>
                </a:cubicBezTo>
                <a:cubicBezTo>
                  <a:pt x="1396" y="215"/>
                  <a:pt x="1356" y="237"/>
                  <a:pt x="1329" y="237"/>
                </a:cubicBezTo>
                <a:cubicBezTo>
                  <a:pt x="1302" y="237"/>
                  <a:pt x="1255" y="214"/>
                  <a:pt x="1242" y="189"/>
                </a:cubicBezTo>
                <a:cubicBezTo>
                  <a:pt x="1229" y="164"/>
                  <a:pt x="1214" y="115"/>
                  <a:pt x="1251" y="84"/>
                </a:cubicBezTo>
                <a:cubicBezTo>
                  <a:pt x="1288" y="53"/>
                  <a:pt x="1394" y="3"/>
                  <a:pt x="1467" y="3"/>
                </a:cubicBezTo>
                <a:cubicBezTo>
                  <a:pt x="1540" y="3"/>
                  <a:pt x="1652" y="53"/>
                  <a:pt x="1692" y="84"/>
                </a:cubicBezTo>
                <a:cubicBezTo>
                  <a:pt x="1732" y="115"/>
                  <a:pt x="1719" y="163"/>
                  <a:pt x="1707" y="189"/>
                </a:cubicBezTo>
                <a:cubicBezTo>
                  <a:pt x="1695" y="215"/>
                  <a:pt x="1649" y="240"/>
                  <a:pt x="1620" y="240"/>
                </a:cubicBezTo>
                <a:cubicBezTo>
                  <a:pt x="1591" y="240"/>
                  <a:pt x="1544" y="212"/>
                  <a:pt x="1533" y="186"/>
                </a:cubicBezTo>
                <a:cubicBezTo>
                  <a:pt x="1522" y="160"/>
                  <a:pt x="1515" y="112"/>
                  <a:pt x="1554" y="81"/>
                </a:cubicBezTo>
                <a:cubicBezTo>
                  <a:pt x="1593" y="50"/>
                  <a:pt x="1694" y="2"/>
                  <a:pt x="1767" y="3"/>
                </a:cubicBezTo>
                <a:cubicBezTo>
                  <a:pt x="1840" y="4"/>
                  <a:pt x="1954" y="55"/>
                  <a:pt x="1995" y="87"/>
                </a:cubicBezTo>
                <a:cubicBezTo>
                  <a:pt x="2036" y="119"/>
                  <a:pt x="2025" y="168"/>
                  <a:pt x="2013" y="195"/>
                </a:cubicBezTo>
                <a:cubicBezTo>
                  <a:pt x="2001" y="222"/>
                  <a:pt x="1955" y="246"/>
                  <a:pt x="1926" y="246"/>
                </a:cubicBezTo>
                <a:cubicBezTo>
                  <a:pt x="1897" y="246"/>
                  <a:pt x="1848" y="222"/>
                  <a:pt x="1836" y="195"/>
                </a:cubicBezTo>
                <a:cubicBezTo>
                  <a:pt x="1824" y="168"/>
                  <a:pt x="1813" y="116"/>
                  <a:pt x="1851" y="84"/>
                </a:cubicBezTo>
                <a:cubicBezTo>
                  <a:pt x="1889" y="52"/>
                  <a:pt x="1996" y="0"/>
                  <a:pt x="2067" y="0"/>
                </a:cubicBezTo>
                <a:cubicBezTo>
                  <a:pt x="2138" y="0"/>
                  <a:pt x="2240" y="50"/>
                  <a:pt x="2280" y="81"/>
                </a:cubicBezTo>
                <a:cubicBezTo>
                  <a:pt x="2320" y="112"/>
                  <a:pt x="2319" y="162"/>
                  <a:pt x="2307" y="189"/>
                </a:cubicBezTo>
                <a:cubicBezTo>
                  <a:pt x="2295" y="216"/>
                  <a:pt x="2241" y="240"/>
                  <a:pt x="2211" y="240"/>
                </a:cubicBezTo>
                <a:cubicBezTo>
                  <a:pt x="2181" y="240"/>
                  <a:pt x="2139" y="218"/>
                  <a:pt x="2127" y="192"/>
                </a:cubicBezTo>
                <a:cubicBezTo>
                  <a:pt x="2115" y="166"/>
                  <a:pt x="2110" y="113"/>
                  <a:pt x="2142" y="81"/>
                </a:cubicBezTo>
                <a:cubicBezTo>
                  <a:pt x="2174" y="49"/>
                  <a:pt x="2282" y="17"/>
                  <a:pt x="231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4262400"/>
            <a:ext cx="1512720" cy="938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47640" y="4437000"/>
                <a:ext cx="422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972520" y="4535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20000" y="4076640"/>
            <a:ext cx="1512720" cy="936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84640" y="4417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615080" y="4281480"/>
                <a:ext cx="444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7550280" y="514368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596360" y="5156280"/>
                <a:ext cx="433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732720" y="5156280"/>
                <a:ext cx="320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8459640" y="5156280"/>
                <a:ext cx="320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1760" y="1484280"/>
            <a:ext cx="60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ladder diagrams sum up to a Pomeron—like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on 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4319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952800" y="2046240"/>
                <a:ext cx="37292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⊗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603600" y="3844800"/>
                <a:ext cx="4600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566160" y="1484280"/>
            <a:ext cx="32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interaction (BK-JIMW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08720" y="4508640"/>
            <a:ext cx="863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86960" y="5013360"/>
            <a:ext cx="48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apid growth of the gluon number tam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ading to a Bose condensate of glu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Color Glass Condens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87560" y="4745160"/>
            <a:ext cx="3585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3894120"/>
            <a:ext cx="2286000" cy="23623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01880" y="4122720"/>
            <a:ext cx="76176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579920"/>
            <a:ext cx="9144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3280" y="5037120"/>
            <a:ext cx="83808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6280" y="5113440"/>
            <a:ext cx="76176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30480" y="4960800"/>
            <a:ext cx="7617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87680" y="5418000"/>
            <a:ext cx="76176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16280" y="4656240"/>
            <a:ext cx="609480" cy="6858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87680" y="4122720"/>
            <a:ext cx="68580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6960" y="3825720"/>
            <a:ext cx="685800" cy="6858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77840" y="5494320"/>
            <a:ext cx="762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2538360"/>
            <a:ext cx="35892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1555920"/>
            <a:ext cx="2303640" cy="2217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58920" y="2347920"/>
            <a:ext cx="503280" cy="479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3068640"/>
            <a:ext cx="648000" cy="62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2708280"/>
            <a:ext cx="6886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4000" y="2563920"/>
            <a:ext cx="609840" cy="6858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1771560"/>
            <a:ext cx="6858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1844640"/>
            <a:ext cx="685800" cy="6858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292640"/>
            <a:ext cx="7621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`Phase diagram’ of QC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5160" y="3422520"/>
            <a:ext cx="1219320" cy="10670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40080" y="349884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16400" y="3803760"/>
            <a:ext cx="30456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11480" y="395604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410832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73600" y="4032360"/>
            <a:ext cx="30456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73600" y="365112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97080" y="6165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380360" y="5589720"/>
                <a:ext cx="7430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111480" y="5099040"/>
            <a:ext cx="1143000" cy="10288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16400" y="5175360"/>
            <a:ext cx="3045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73600" y="532764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360" y="570852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31000" y="5022720"/>
            <a:ext cx="1218960" cy="1105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88200" y="51753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40480" y="593712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9600" y="53276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88200" y="5403960"/>
            <a:ext cx="152280" cy="152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88200" y="578484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16800" y="5708520"/>
            <a:ext cx="152280" cy="15264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9080" y="532764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21360" y="5479920"/>
            <a:ext cx="152640" cy="15264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197080" y="1593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378240" y="641160"/>
            <a:ext cx="2209680" cy="3962160"/>
          </a:xfrm>
          <a:prstGeom prst="rtTriangl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81160" y="1630440"/>
            <a:ext cx="1219320" cy="12189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3800" y="1909800"/>
            <a:ext cx="304560" cy="27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95560" y="1986120"/>
            <a:ext cx="304920" cy="344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81160" y="2214720"/>
            <a:ext cx="381240" cy="355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86080" y="1757520"/>
            <a:ext cx="304920" cy="279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4680" y="2062080"/>
            <a:ext cx="380880" cy="35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66960" y="2290680"/>
            <a:ext cx="381240" cy="35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9760" y="2290680"/>
            <a:ext cx="381240" cy="35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66960" y="1681200"/>
            <a:ext cx="381240" cy="355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62400" y="2138400"/>
            <a:ext cx="304560" cy="268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62400" y="2519280"/>
            <a:ext cx="304560" cy="26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91000" y="2443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24360" y="1571760"/>
                <a:ext cx="28083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422360" y="1484280"/>
                <a:ext cx="547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4150080" y="154620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189864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502000" y="1517760"/>
            <a:ext cx="3962160" cy="2209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81560" y="2889360"/>
            <a:ext cx="279360" cy="457200"/>
          </a:xfrm>
          <a:prstGeom prst="upArrow">
            <a:avLst>
              <a:gd name="adj1" fmla="val 50000"/>
              <a:gd name="adj2" fmla="val 40915"/>
            </a:avLst>
          </a:prstGeom>
          <a:solidFill>
            <a:srgbClr val="ff99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4565520"/>
            <a:ext cx="279720" cy="457200"/>
          </a:xfrm>
          <a:prstGeom prst="upArrow">
            <a:avLst>
              <a:gd name="adj1" fmla="val 50000"/>
              <a:gd name="adj2" fmla="val 40862"/>
            </a:avLst>
          </a:prstGeom>
          <a:solidFill>
            <a:srgbClr val="ff99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4940280" y="5175360"/>
            <a:ext cx="279360" cy="736560"/>
          </a:xfrm>
          <a:prstGeom prst="upArrow">
            <a:avLst>
              <a:gd name="adj1" fmla="val 50000"/>
              <a:gd name="adj2" fmla="val 65915"/>
            </a:avLst>
          </a:prstGeom>
          <a:solidFill>
            <a:srgbClr val="ff99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2775240" y="4673160"/>
            <a:ext cx="704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BFK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2440" y="5732640"/>
            <a:ext cx="86508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G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progress on satu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440" y="2637000"/>
            <a:ext cx="67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of of factorization for inclusive gluon production in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64720" y="3068640"/>
            <a:ext cx="27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Gelis, Lappi &amp; Venugopa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0960" y="3500280"/>
            <a:ext cx="502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wo gluon production and correlation in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duction in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duction in pA and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volution of glasma flux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aturation in Mueller-Navelet 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96360" y="364500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ukushima &amp; Hida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68360" y="4076640"/>
                <a:ext cx="34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3278160" y="414972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Fillion-Gourdean &amp; Je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7440" y="5373720"/>
            <a:ext cx="22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Fujii &amp; Itakura; Iwaza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9160" y="1341360"/>
            <a:ext cx="536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NLO BK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coupling effects for gluon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65120" y="141300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Balitsky &amp; Chiril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68360" y="4753080"/>
                <a:ext cx="574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501800" y="4724280"/>
            <a:ext cx="25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Kharzeev, Levin &amp; Tuch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720" y="5950080"/>
            <a:ext cx="36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Iancu, Kugeratski &amp; Triantafyllopou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25800" y="1989000"/>
            <a:ext cx="21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Kovchegov &amp; Weige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on correlation in impact paramet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68360" y="1916280"/>
                <a:ext cx="3629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25080" y="170028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K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0840" y="3213000"/>
            <a:ext cx="80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an field approxi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OK for a large nucle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 small target (e.g., a prot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801960" y="3139920"/>
                <a:ext cx="16700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e>
                    </m:d>
                    <m:r>
                      <m:t xml:space="preserve">→</m:t>
                    </m:r>
                    <m:s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40000" y="4508640"/>
                <a:ext cx="43927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1179720" y="5589720"/>
            <a:ext cx="635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zation violated due to the power-law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mpact parameter space from BF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6520" y="1341360"/>
            <a:ext cx="201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YH &amp; Mueller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Avsar &amp; YH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=4 Super Yang-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964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‘t Hooft coupl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esn’t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lobal SU(4) R-symm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hoose a U(1) sub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d gaug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556000" y="3429000"/>
                <a:ext cx="1079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468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492360" y="2852640"/>
                <a:ext cx="1440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983120" y="2565360"/>
            <a:ext cx="3737160" cy="4273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445000" y="4581360"/>
            <a:ext cx="324036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89800" y="393372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=4 S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231800">
            <a:off x="7453440" y="5084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Q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IIB super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nsistent superstring theory in D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upergravity sector admits the black 3-brane solution which is asympto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 rot="5400000">
            <a:off x="3672720" y="3393360"/>
            <a:ext cx="288720" cy="3240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3"/>
                </a:lnTo>
                <a:cubicBezTo>
                  <a:pt x="10800" y="10163"/>
                  <a:pt x="5400" y="11063"/>
                  <a:pt x="0" y="11063"/>
                </a:cubicBezTo>
                <a:cubicBezTo>
                  <a:pt x="5400" y="11063"/>
                  <a:pt x="10800" y="11963"/>
                  <a:pt x="10800" y="128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6320" y="44355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r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 rot="5400000">
            <a:off x="6936480" y="4590720"/>
            <a:ext cx="360360" cy="914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3"/>
                </a:lnTo>
                <a:cubicBezTo>
                  <a:pt x="10800" y="10163"/>
                  <a:pt x="5400" y="11063"/>
                  <a:pt x="0" y="11063"/>
                </a:cubicBezTo>
                <a:cubicBezTo>
                  <a:pt x="5400" y="11063"/>
                  <a:pt x="10800" y="11963"/>
                  <a:pt x="10800" y="128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948360" y="4365720"/>
                <a:ext cx="395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5304600" y="44355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5400000">
            <a:off x="5849640" y="4743360"/>
            <a:ext cx="216000" cy="609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3"/>
                </a:lnTo>
                <a:cubicBezTo>
                  <a:pt x="10800" y="10163"/>
                  <a:pt x="5400" y="11063"/>
                  <a:pt x="0" y="11063"/>
                </a:cubicBezTo>
                <a:cubicBezTo>
                  <a:pt x="5400" y="11063"/>
                  <a:pt x="10800" y="11963"/>
                  <a:pt x="10800" y="128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708360" y="3573360"/>
                <a:ext cx="1673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35280" y="3573360"/>
            <a:ext cx="182880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826920" y="5084640"/>
                <a:ext cx="67694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36880" y="48690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anomalous) dimension                   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`t Hooft parameter                             curvature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colors                              string coupl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rrespo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89504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ake the limits                            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=4 SYM at strong coupling is dual to weak coupling type IIB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ctrums of the two theories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443640" y="1916280"/>
                <a:ext cx="17287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132000" y="1895400"/>
                <a:ext cx="2519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3984480" y="5097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35240" y="112536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  <a:ea typeface="Arial"/>
              </a:rPr>
              <a:t>Maldacena (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7451640" y="5192640"/>
                <a:ext cx="1008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/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914560" y="5227560"/>
                <a:ext cx="3589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841480" y="5630760"/>
                <a:ext cx="685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8531280" y="5576760"/>
                <a:ext cx="40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984480" y="547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84480" y="585936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38360" y="4179960"/>
            <a:ext cx="838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43640" y="4200480"/>
            <a:ext cx="863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995640" y="2841480"/>
                <a:ext cx="1463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ne would expect at strong coupl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apid fragmentation. Most interesting physics is at small-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tring S-matrix dominated by J=2 singula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meron    graviton in 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re are no jets. Final states look spher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2720" y="3645000"/>
                <a:ext cx="244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λ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052720" y="3141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796000" y="3760920"/>
                <a:ext cx="2270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FK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222160" y="37879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85080" y="208440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olchinski &amp; Strassler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19200" y="4245120"/>
            <a:ext cx="38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Kotikov et al. (2005); Brower et al (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11560" y="5157720"/>
            <a:ext cx="72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Hofman &amp; Maldacena (2008); YH, Iancu &amp; Mueller (2008)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; YH &amp; Matsuo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6868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luon saturation in Q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 and e+e- annihilation in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ets at strong cou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et decay at finite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97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Shock wave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00080" y="3683160"/>
            <a:ext cx="5003640" cy="298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588000" y="5300640"/>
                <a:ext cx="719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5145480" y="45086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acteristic size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vefunction localized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451640" y="4508640"/>
                <a:ext cx="3002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159080" y="1417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37160" y="198900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adron’ 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closed string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utoff 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032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5000" y="1268280"/>
            <a:ext cx="65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Weak coupling                           Strong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-4320" y="1989000"/>
            <a:ext cx="461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rge nucleus (C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andom color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-abelian Weiszacker-William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boosted color-Coulomb fi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95120" y="2919240"/>
            <a:ext cx="37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avitational shock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boosted Schwartzschild met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51440" y="6165720"/>
            <a:ext cx="38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figure from Gubser, Pufu &amp; Yarom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237080" y="519444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ilaton loc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630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 at strong cou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6960" y="2781360"/>
            <a:ext cx="6172200" cy="990720"/>
          </a:xfrm>
          <a:prstGeom prst="parallelogram">
            <a:avLst>
              <a:gd name="adj" fmla="val 15575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20" y="1628640"/>
            <a:ext cx="58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R-charge current excites metric fluctuations in the bul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which then scatters off a dil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23200">
            <a:off x="1147680" y="2781360"/>
            <a:ext cx="1347840" cy="20160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9126000">
            <a:off x="4581000" y="2852280"/>
            <a:ext cx="1452600" cy="21600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46280" y="4108320"/>
            <a:ext cx="1905120" cy="1752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27520" y="4336920"/>
            <a:ext cx="304560" cy="3049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41920" y="4413240"/>
            <a:ext cx="304560" cy="3049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955680" y="3213000"/>
            <a:ext cx="647640" cy="1379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74880" y="5175360"/>
            <a:ext cx="304920" cy="3045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1920" y="5175360"/>
            <a:ext cx="304560" cy="3045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84520" y="5327280"/>
            <a:ext cx="114300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94200" y="5327640"/>
            <a:ext cx="144792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579680" y="3933720"/>
                <a:ext cx="1168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74680" y="5251320"/>
                <a:ext cx="513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371680" y="3284640"/>
            <a:ext cx="698400" cy="12286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835680" y="2781360"/>
            <a:ext cx="0" cy="352728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888240" y="2133720"/>
                <a:ext cx="409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7628040" y="5445000"/>
                <a:ext cx="1009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1147680" y="61657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Cut off the space at                 (mimic confin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1680" y="616572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434960" y="2276640"/>
                <a:ext cx="1297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6156720" y="1197000"/>
            <a:ext cx="278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  <a:ea typeface="Arial"/>
              </a:rPr>
              <a:t>Polchinski &amp; Strassler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901920" y="3000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349400" y="2832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We a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23400" y="363528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oton loc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886080" y="3930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908400" y="537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628040" y="3933720"/>
                <a:ext cx="9572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308400" y="6146640"/>
                <a:ext cx="946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583400" y="3068640"/>
                <a:ext cx="9716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2371680" y="2997360"/>
            <a:ext cx="2232000" cy="50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90960" y="2925720"/>
            <a:ext cx="863640" cy="720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24400" y="2492280"/>
            <a:ext cx="0" cy="359892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S-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8588520" cy="161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 flipV="1">
            <a:off x="1459080" y="2061720"/>
            <a:ext cx="7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755440" y="2061720"/>
            <a:ext cx="7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09280" y="263700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dilaton       gauge bo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vertex op.      vertex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7219440" y="2925720"/>
            <a:ext cx="71640" cy="503280"/>
          </a:xfrm>
          <a:prstGeom prst="line">
            <a:avLst/>
          </a:prstGeom>
          <a:ln w="158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79400" y="3502080"/>
            <a:ext cx="32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sert t-channel string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dual to twist-2 oper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283440" y="4294080"/>
                <a:ext cx="1873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193680" y="3500280"/>
            <a:ext cx="1905120" cy="1752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2600" y="3718080"/>
            <a:ext cx="304560" cy="3045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88960" y="3805200"/>
            <a:ext cx="304920" cy="3049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2280" y="4567320"/>
            <a:ext cx="304920" cy="3045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17680" y="4653000"/>
            <a:ext cx="304920" cy="3049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75120" y="4363920"/>
            <a:ext cx="1944720" cy="793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132000" y="5516640"/>
            <a:ext cx="1944720" cy="71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62400" y="4508640"/>
            <a:ext cx="304560" cy="3045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14760" y="4508640"/>
            <a:ext cx="304920" cy="3045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38760" y="4795920"/>
            <a:ext cx="304560" cy="304560"/>
          </a:xfrm>
          <a:prstGeom prst="flowChartSummingJunct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38760" y="5559480"/>
            <a:ext cx="304560" cy="304920"/>
          </a:xfrm>
          <a:prstGeom prst="flowChartSummingJunct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19640" y="5803920"/>
            <a:ext cx="304560" cy="3049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43560" y="5803920"/>
            <a:ext cx="304560" cy="3049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095720" y="493992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994040" y="4724280"/>
                <a:ext cx="11602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5757840" y="5157720"/>
            <a:ext cx="29178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dS vers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graviton Regge traj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8209080" cy="5541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se diagram at strong cou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539640" y="1268280"/>
                <a:ext cx="1368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6015240" y="1125360"/>
            <a:ext cx="26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YH, Iancu &amp; Mueller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DIS vs. e+e- annihi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092320" y="1403280"/>
            <a:ext cx="10494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12760" y="1938240"/>
            <a:ext cx="99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2845800">
            <a:off x="1896480" y="2287800"/>
            <a:ext cx="1042920" cy="15552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63640" y="2133720"/>
                <a:ext cx="41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828720" y="3284640"/>
                <a:ext cx="422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655560" y="165888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3080" y="1844640"/>
                <a:ext cx="1601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 flipV="1">
            <a:off x="2413080" y="278136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084720" y="3357360"/>
            <a:ext cx="64800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18320" y="3357720"/>
            <a:ext cx="792000" cy="718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724360" y="357336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148360" y="2637000"/>
                <a:ext cx="14317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 rot="5276400">
            <a:off x="6217200" y="2792880"/>
            <a:ext cx="1043280" cy="15552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7380360" y="3502080"/>
                <a:ext cx="422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rot="18952800">
            <a:off x="6876720" y="1628280"/>
            <a:ext cx="936720" cy="308160"/>
          </a:xfrm>
          <a:prstGeom prst="rightArrow">
            <a:avLst>
              <a:gd name="adj1" fmla="val 50000"/>
              <a:gd name="adj2" fmla="val 759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19480" y="580536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Arial"/>
              </a:rPr>
              <a:t>Bjorken variable                             Feynma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7813800" y="1197000"/>
                <a:ext cx="422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270036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473880" y="2060640"/>
            <a:ext cx="288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61160" y="2060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5658200">
            <a:off x="6466320" y="1462680"/>
            <a:ext cx="976320" cy="444240"/>
          </a:xfrm>
          <a:prstGeom prst="rightArrow">
            <a:avLst>
              <a:gd name="adj1" fmla="val 50000"/>
              <a:gd name="adj2" fmla="val 5494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13080" y="3357720"/>
            <a:ext cx="976320" cy="371160"/>
          </a:xfrm>
          <a:prstGeom prst="rightArrow">
            <a:avLst>
              <a:gd name="adj1" fmla="val 50000"/>
              <a:gd name="adj2" fmla="val 6576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117960" y="5675400"/>
                <a:ext cx="1011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486560" y="5751360"/>
                <a:ext cx="9352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 rot="13793400">
            <a:off x="5694840" y="15134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76360" y="335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5876600">
            <a:off x="4201200" y="3152880"/>
            <a:ext cx="733320" cy="1430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50200 h 1430640"/>
              <a:gd name="textAreaBottom" fmla="*/ 1037160 h 143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05840" y="479736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Arial"/>
              </a:rPr>
              <a:t>Parton distribution function                 Fragmentati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692360" y="5157720"/>
                <a:ext cx="1303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6156360" y="5124600"/>
                <a:ext cx="1297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 flipV="1">
            <a:off x="2197080" y="3755880"/>
            <a:ext cx="142920" cy="9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164360" y="2205000"/>
            <a:ext cx="792360" cy="2592360"/>
          </a:xfrm>
          <a:custGeom>
            <a:avLst/>
            <a:gdLst/>
            <a:ahLst/>
            <a:rect l="l" t="t" r="r" b="b"/>
            <a:pathLst>
              <a:path w="499" h="1633">
                <a:moveTo>
                  <a:pt x="318" y="1633"/>
                </a:moveTo>
                <a:cubicBezTo>
                  <a:pt x="371" y="1538"/>
                  <a:pt x="424" y="1443"/>
                  <a:pt x="454" y="1315"/>
                </a:cubicBezTo>
                <a:cubicBezTo>
                  <a:pt x="484" y="1187"/>
                  <a:pt x="499" y="990"/>
                  <a:pt x="499" y="862"/>
                </a:cubicBezTo>
                <a:cubicBezTo>
                  <a:pt x="499" y="734"/>
                  <a:pt x="484" y="650"/>
                  <a:pt x="454" y="544"/>
                </a:cubicBezTo>
                <a:cubicBezTo>
                  <a:pt x="424" y="438"/>
                  <a:pt x="394" y="318"/>
                  <a:pt x="318" y="227"/>
                </a:cubicBezTo>
                <a:cubicBezTo>
                  <a:pt x="242" y="136"/>
                  <a:pt x="121" y="6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52720" y="3213000"/>
            <a:ext cx="647640" cy="64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32720" y="1701720"/>
            <a:ext cx="647640" cy="64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38120" y="4221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ciprocity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411280" y="1700280"/>
                <a:ext cx="5472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303840" y="17002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DGRAP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2735280" cy="9572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756680" y="3716280"/>
            <a:ext cx="38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Verdana"/>
                <a:ea typeface="Arial"/>
              </a:rPr>
              <a:t>Dokshitzer, Marchesini &amp; Salam (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0360" y="2781360"/>
            <a:ext cx="67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two anomalous dimensions derive from a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52293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Verdana"/>
                <a:ea typeface="Arial"/>
              </a:rPr>
              <a:t>Basso &amp; Korchemsky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65120" y="522936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Arial"/>
              </a:rPr>
              <a:t>Application to AdS/C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6120" y="5877000"/>
            <a:ext cx="71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ssume this is valid at strong coupling and see where it lead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91600" y="472428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trivial check up to three loops (!) in Q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15960" y="472428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Mitov, Moch &amp; Vogt (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verage multiplicity at strong coupl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611280" y="1557360"/>
                <a:ext cx="29350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λ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3778200" y="198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148360" y="1484280"/>
                <a:ext cx="2828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λ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405080" y="3139920"/>
                <a:ext cx="47512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/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/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λ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598320" y="484020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.f. in perturbation theo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852720" y="4403880"/>
                <a:ext cx="20876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3750120" y="15573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2720" y="541512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" y="541512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.f. heuristic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3781440" y="5343480"/>
                <a:ext cx="1440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5934240" y="5445000"/>
            <a:ext cx="27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Verdana"/>
                <a:ea typeface="Arial"/>
              </a:rPr>
              <a:t>YH, Iancu &amp; Mueller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64680" y="3284640"/>
            <a:ext cx="201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YH &amp; Matsuo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73400" y="2421000"/>
            <a:ext cx="77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spacelike anomalous dimension                    timelike anomalous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39560" y="114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ts at strong coup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4560" y="2176560"/>
            <a:ext cx="69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Arial"/>
              </a:rPr>
              <a:t>The inclusive distribution is peaked at the kinematic lower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068720" y="28018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68720" y="45306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41800" y="3017880"/>
            <a:ext cx="647640" cy="145260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7"/>
                </a:moveTo>
                <a:cubicBezTo>
                  <a:pt x="26" y="3"/>
                  <a:pt x="53" y="0"/>
                  <a:pt x="91" y="7"/>
                </a:cubicBezTo>
                <a:cubicBezTo>
                  <a:pt x="129" y="14"/>
                  <a:pt x="182" y="22"/>
                  <a:pt x="227" y="52"/>
                </a:cubicBezTo>
                <a:cubicBezTo>
                  <a:pt x="272" y="82"/>
                  <a:pt x="318" y="97"/>
                  <a:pt x="363" y="188"/>
                </a:cubicBezTo>
                <a:cubicBezTo>
                  <a:pt x="408" y="279"/>
                  <a:pt x="461" y="483"/>
                  <a:pt x="499" y="597"/>
                </a:cubicBezTo>
                <a:cubicBezTo>
                  <a:pt x="537" y="711"/>
                  <a:pt x="537" y="808"/>
                  <a:pt x="590" y="869"/>
                </a:cubicBezTo>
                <a:cubicBezTo>
                  <a:pt x="643" y="930"/>
                  <a:pt x="729" y="945"/>
                  <a:pt x="81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661080" y="4405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8440" y="457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213080" y="4602240"/>
                <a:ext cx="511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/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7308720" y="4292640"/>
                <a:ext cx="1366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/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1189080" y="2800440"/>
                <a:ext cx="2592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 flipV="1">
            <a:off x="2629080" y="352116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3040" y="409572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ly decaying fun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900000" y="4384800"/>
                <a:ext cx="9730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Λ</m:t>
                    </m:r>
                    <m:r>
                      <m:t xml:space="preserve">/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804960" y="1295280"/>
                <a:ext cx="1382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342880" y="14526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the supergravity lim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932360" y="1413000"/>
                <a:ext cx="10238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399240" y="5300640"/>
            <a:ext cx="51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ing is so fast. Nothing remains at large-x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3840" y="5661000"/>
            <a:ext cx="64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ll the                particles have the minimal four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There are no je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at strong coupling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292400" y="5638680"/>
                <a:ext cx="1152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Q</m:t>
                    </m:r>
                    <m:r>
                      <m:t xml:space="preserve">/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7596360" y="5589720"/>
                <a:ext cx="1008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p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rmal hadron production from gauge/string dua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　　                                      　       </a:t>
            </a: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Y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3333ff"/>
                </a:solidFill>
                <a:latin typeface="Arial"/>
              </a:rPr>
              <a:t>&amp; Matsuo 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2280" y="1700280"/>
            <a:ext cx="67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element between a photon and                 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5041800" cy="144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684360" y="4365720"/>
                <a:ext cx="2496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71920" y="4381560"/>
                <a:ext cx="15112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Q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3141720" y="4367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92560" y="3065400"/>
            <a:ext cx="1311480" cy="13824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7321680" y="216504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680240" y="252360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80240" y="338940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53320" y="3098880"/>
            <a:ext cx="1150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331040" y="35164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232240" y="28843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448240" y="23083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6394320" y="2652840"/>
            <a:ext cx="1368720" cy="9349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6960" y="5300640"/>
            <a:ext cx="45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saddle point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tegr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5724360" y="5084640"/>
            <a:ext cx="3095640" cy="81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4643280" y="164448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788000" y="5373720"/>
            <a:ext cx="718920" cy="288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Finite temperature AdS/C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95280" y="3645000"/>
            <a:ext cx="5759280" cy="936360"/>
          </a:xfrm>
          <a:prstGeom prst="parallelogram">
            <a:avLst>
              <a:gd name="adj" fmla="val 1537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16080" y="1773360"/>
            <a:ext cx="41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hwartzschild 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66560" y="39337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19640" y="4508640"/>
            <a:ext cx="370836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king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auge theory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46880" y="126828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Witten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116000" y="2421000"/>
                <a:ext cx="6912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/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/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6551640" y="3284640"/>
                <a:ext cx="1368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π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5661000"/>
            <a:ext cx="4824720" cy="504720"/>
          </a:xfrm>
          <a:prstGeom prst="parallelogram">
            <a:avLst>
              <a:gd name="adj" fmla="val 23898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14160" y="57355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Jet quenching at R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608360" cy="298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808360" cy="280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82920" y="3483000"/>
            <a:ext cx="4861080" cy="337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600" y="5013360"/>
            <a:ext cx="3529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 the strong suppression enti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f perturbative origi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7320" y="15429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the 5D Maxwell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background of Schwarzschild AdS_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93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tion of jets in a N=4 plas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96800" y="1989000"/>
                <a:ext cx="180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1273320" y="3327480"/>
            <a:ext cx="6048360" cy="1295280"/>
          </a:xfrm>
          <a:prstGeom prst="parallelogram">
            <a:avLst>
              <a:gd name="adj" fmla="val 116738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60600" y="3830760"/>
            <a:ext cx="1779480" cy="14292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3635280" y="4797360"/>
                <a:ext cx="1309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 flipV="1" rot="3770400">
            <a:off x="3368520" y="3951720"/>
            <a:ext cx="1800360" cy="1095480"/>
          </a:xfrm>
          <a:custGeom>
            <a:avLst/>
            <a:gdLst/>
            <a:ahLst/>
            <a:rect l="l" t="t" r="r" b="b"/>
            <a:pathLst>
              <a:path w="1452" h="1134">
                <a:moveTo>
                  <a:pt x="0" y="0"/>
                </a:moveTo>
                <a:cubicBezTo>
                  <a:pt x="46" y="110"/>
                  <a:pt x="92" y="220"/>
                  <a:pt x="137" y="318"/>
                </a:cubicBezTo>
                <a:cubicBezTo>
                  <a:pt x="182" y="416"/>
                  <a:pt x="213" y="507"/>
                  <a:pt x="273" y="590"/>
                </a:cubicBezTo>
                <a:cubicBezTo>
                  <a:pt x="333" y="673"/>
                  <a:pt x="371" y="741"/>
                  <a:pt x="499" y="817"/>
                </a:cubicBezTo>
                <a:cubicBezTo>
                  <a:pt x="627" y="893"/>
                  <a:pt x="885" y="991"/>
                  <a:pt x="1044" y="1044"/>
                </a:cubicBezTo>
                <a:cubicBezTo>
                  <a:pt x="1203" y="1097"/>
                  <a:pt x="1327" y="1115"/>
                  <a:pt x="1452" y="1134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49320" y="5632560"/>
            <a:ext cx="4248360" cy="647640"/>
          </a:xfrm>
          <a:prstGeom prst="parallelogram">
            <a:avLst>
              <a:gd name="adj" fmla="val 1639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78760" y="3832200"/>
                <a:ext cx="934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107120" y="5748480"/>
                <a:ext cx="1295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π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3220920" y="57754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375000" y="3427560"/>
            <a:ext cx="136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32160" y="394668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908520" y="388764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413240" y="4103280"/>
            <a:ext cx="1295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022640" y="3686040"/>
            <a:ext cx="1152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4614840" y="35571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692520" y="35132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989600" y="396072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599000" y="371628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873520" y="1960560"/>
                <a:ext cx="3549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-dependent Sch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öding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2692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26920" y="537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34656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067280" y="5191200"/>
                <a:ext cx="27612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22200" y="3355920"/>
                <a:ext cx="3240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611280" y="3860640"/>
            <a:ext cx="431640" cy="1463760"/>
          </a:xfrm>
          <a:custGeom>
            <a:avLst/>
            <a:gdLst/>
            <a:ahLst/>
            <a:rect l="l" t="t" r="r" b="b"/>
            <a:pathLst>
              <a:path w="590" h="922">
                <a:moveTo>
                  <a:pt x="0" y="922"/>
                </a:moveTo>
                <a:cubicBezTo>
                  <a:pt x="53" y="877"/>
                  <a:pt x="106" y="832"/>
                  <a:pt x="136" y="741"/>
                </a:cubicBezTo>
                <a:cubicBezTo>
                  <a:pt x="166" y="650"/>
                  <a:pt x="166" y="491"/>
                  <a:pt x="181" y="378"/>
                </a:cubicBezTo>
                <a:cubicBezTo>
                  <a:pt x="196" y="265"/>
                  <a:pt x="204" y="120"/>
                  <a:pt x="227" y="60"/>
                </a:cubicBezTo>
                <a:cubicBezTo>
                  <a:pt x="250" y="0"/>
                  <a:pt x="294" y="7"/>
                  <a:pt x="317" y="15"/>
                </a:cubicBezTo>
                <a:cubicBezTo>
                  <a:pt x="340" y="23"/>
                  <a:pt x="348" y="30"/>
                  <a:pt x="363" y="106"/>
                </a:cubicBezTo>
                <a:cubicBezTo>
                  <a:pt x="378" y="182"/>
                  <a:pt x="393" y="356"/>
                  <a:pt x="408" y="469"/>
                </a:cubicBezTo>
                <a:cubicBezTo>
                  <a:pt x="423" y="582"/>
                  <a:pt x="424" y="710"/>
                  <a:pt x="454" y="786"/>
                </a:cubicBezTo>
                <a:cubicBezTo>
                  <a:pt x="484" y="862"/>
                  <a:pt x="537" y="892"/>
                  <a:pt x="590" y="9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22840" y="4221000"/>
            <a:ext cx="368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 available only piece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characteristic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0920" y="38606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2920" y="47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42920" y="494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042920" y="5095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45800" y="5805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5292720" y="5157720"/>
                <a:ext cx="1528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ω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2200" y="5516640"/>
            <a:ext cx="111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nkow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23600" y="5661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asma saturation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556000" y="2349360"/>
                <a:ext cx="36874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508720" y="2422440"/>
            <a:ext cx="431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480" y="1844640"/>
            <a:ext cx="86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udy time-evolution, add a weak t-dependence and keep only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-deri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88320" y="1413000"/>
            <a:ext cx="26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YH, Iancu &amp; Mueller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195640" y="3213000"/>
                <a:ext cx="44244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ω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z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3201840" y="5335560"/>
                <a:ext cx="358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(naive) Gauge theory interpre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516720" y="198864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6804000" y="2997360"/>
                <a:ext cx="501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4356000" y="3213000"/>
                <a:ext cx="1281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2629080" y="2779560"/>
            <a:ext cx="1476360" cy="1667160"/>
          </a:xfrm>
          <a:custGeom>
            <a:avLst/>
            <a:gdLst/>
            <a:ahLst/>
            <a:rect l="l" t="t" r="r" b="b"/>
            <a:pathLst>
              <a:path w="930" h="1050">
                <a:moveTo>
                  <a:pt x="23" y="590"/>
                </a:moveTo>
                <a:cubicBezTo>
                  <a:pt x="11" y="582"/>
                  <a:pt x="0" y="574"/>
                  <a:pt x="23" y="544"/>
                </a:cubicBezTo>
                <a:cubicBezTo>
                  <a:pt x="46" y="514"/>
                  <a:pt x="129" y="378"/>
                  <a:pt x="159" y="408"/>
                </a:cubicBezTo>
                <a:cubicBezTo>
                  <a:pt x="189" y="438"/>
                  <a:pt x="181" y="749"/>
                  <a:pt x="204" y="726"/>
                </a:cubicBezTo>
                <a:cubicBezTo>
                  <a:pt x="227" y="703"/>
                  <a:pt x="265" y="249"/>
                  <a:pt x="295" y="272"/>
                </a:cubicBezTo>
                <a:cubicBezTo>
                  <a:pt x="325" y="295"/>
                  <a:pt x="348" y="885"/>
                  <a:pt x="386" y="862"/>
                </a:cubicBezTo>
                <a:cubicBezTo>
                  <a:pt x="424" y="839"/>
                  <a:pt x="477" y="121"/>
                  <a:pt x="522" y="136"/>
                </a:cubicBezTo>
                <a:cubicBezTo>
                  <a:pt x="567" y="151"/>
                  <a:pt x="620" y="967"/>
                  <a:pt x="658" y="952"/>
                </a:cubicBezTo>
                <a:cubicBezTo>
                  <a:pt x="696" y="937"/>
                  <a:pt x="719" y="30"/>
                  <a:pt x="749" y="45"/>
                </a:cubicBezTo>
                <a:cubicBezTo>
                  <a:pt x="779" y="60"/>
                  <a:pt x="809" y="1050"/>
                  <a:pt x="839" y="1043"/>
                </a:cubicBezTo>
                <a:cubicBezTo>
                  <a:pt x="869" y="1036"/>
                  <a:pt x="915" y="174"/>
                  <a:pt x="9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00000" y="3571920"/>
            <a:ext cx="1779840" cy="19512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924360" y="198864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771640" y="2708280"/>
            <a:ext cx="1368720" cy="790560"/>
          </a:xfrm>
          <a:custGeom>
            <a:avLst/>
            <a:gdLst/>
            <a:ahLst/>
            <a:rect l="l" t="t" r="r" b="b"/>
            <a:pathLst>
              <a:path w="862" h="498">
                <a:moveTo>
                  <a:pt x="0" y="498"/>
                </a:moveTo>
                <a:cubicBezTo>
                  <a:pt x="0" y="494"/>
                  <a:pt x="1" y="491"/>
                  <a:pt x="46" y="453"/>
                </a:cubicBezTo>
                <a:cubicBezTo>
                  <a:pt x="91" y="415"/>
                  <a:pt x="175" y="333"/>
                  <a:pt x="273" y="272"/>
                </a:cubicBezTo>
                <a:cubicBezTo>
                  <a:pt x="371" y="211"/>
                  <a:pt x="537" y="135"/>
                  <a:pt x="635" y="90"/>
                </a:cubicBezTo>
                <a:cubicBezTo>
                  <a:pt x="733" y="45"/>
                  <a:pt x="797" y="22"/>
                  <a:pt x="86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700360" y="3715560"/>
            <a:ext cx="1368360" cy="792360"/>
          </a:xfrm>
          <a:custGeom>
            <a:avLst/>
            <a:gdLst/>
            <a:ahLst/>
            <a:rect l="l" t="t" r="r" b="b"/>
            <a:pathLst>
              <a:path w="862" h="498">
                <a:moveTo>
                  <a:pt x="0" y="498"/>
                </a:moveTo>
                <a:cubicBezTo>
                  <a:pt x="0" y="494"/>
                  <a:pt x="1" y="491"/>
                  <a:pt x="46" y="453"/>
                </a:cubicBezTo>
                <a:cubicBezTo>
                  <a:pt x="91" y="415"/>
                  <a:pt x="175" y="333"/>
                  <a:pt x="273" y="272"/>
                </a:cubicBezTo>
                <a:cubicBezTo>
                  <a:pt x="371" y="211"/>
                  <a:pt x="537" y="135"/>
                  <a:pt x="635" y="90"/>
                </a:cubicBezTo>
                <a:cubicBezTo>
                  <a:pt x="733" y="45"/>
                  <a:pt x="797" y="22"/>
                  <a:pt x="86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24360" y="4479840"/>
            <a:ext cx="23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3492360" y="29955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3492360" y="3427560"/>
                <a:ext cx="295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4282920" y="278136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21840" y="59245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ear into the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627280" y="4292640"/>
                <a:ext cx="9525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1332000" y="2349360"/>
                <a:ext cx="11412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↔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3851280" y="5157720"/>
            <a:ext cx="360360" cy="615960"/>
          </a:xfrm>
          <a:prstGeom prst="upArrow">
            <a:avLst>
              <a:gd name="adj1" fmla="val 50000"/>
              <a:gd name="adj2" fmla="val 4273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23680" y="595008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reakup into a “      p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441680" y="5978520"/>
                <a:ext cx="432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319320" y="1844640"/>
            <a:ext cx="29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the correspo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72360" y="5157720"/>
            <a:ext cx="360360" cy="615960"/>
          </a:xfrm>
          <a:prstGeom prst="upArrow">
            <a:avLst>
              <a:gd name="adj1" fmla="val 50000"/>
              <a:gd name="adj2" fmla="val 4273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003640" y="4941720"/>
                <a:ext cx="9525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74240" y="1482840"/>
            <a:ext cx="68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ale                                        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on screening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to other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403280" y="1281240"/>
                <a:ext cx="2313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5141880" y="1943280"/>
            <a:ext cx="30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cc"/>
                </a:solidFill>
                <a:latin typeface="Arial"/>
              </a:rPr>
              <a:t>Liu, Rajagopal &amp; Wiedemann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5040" y="263520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P solution after the breakup featur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iling string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487520" y="3056040"/>
                <a:ext cx="321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508720" y="306720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cc"/>
                </a:solidFill>
                <a:latin typeface="Arial"/>
              </a:rPr>
              <a:t>Herzog, et al, Gubser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4822920" y="3716280"/>
            <a:ext cx="4321080" cy="256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1547640" y="4290840"/>
                <a:ext cx="1594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∝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184320" y="3859200"/>
            <a:ext cx="48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reach the horizon (penetration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3800" y="52275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. damping time of a glu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203640" y="5170320"/>
                <a:ext cx="9475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2260080" y="5659560"/>
            <a:ext cx="25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cc"/>
                </a:solidFill>
                <a:latin typeface="Arial"/>
              </a:rPr>
              <a:t>Gubser, Gulotta &amp; Pufu (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4160" y="609120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f. weak coupling result (BDM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3924360" y="6033960"/>
                <a:ext cx="9475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42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anching picture at strong cou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408560" cy="4249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4288680" y="14130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ergy and virt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f partons in the n-th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288320" y="306864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strong coupling, branching is as f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llowed by the uncertainty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948360" y="2131920"/>
                <a:ext cx="981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148360" y="2131920"/>
                <a:ext cx="981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88000" y="3789360"/>
                <a:ext cx="1479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321840" y="1339920"/>
            <a:ext cx="30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inal state cannot be j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pair of part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80000" y="4508640"/>
                <a:ext cx="1128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948000" y="400536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vacu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medi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058280" y="5516640"/>
            <a:ext cx="49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ajectory of the part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veloping curve of the parton sh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42920" y="2276640"/>
            <a:ext cx="2772000" cy="3527280"/>
          </a:xfrm>
          <a:custGeom>
            <a:avLst/>
            <a:gdLst/>
            <a:ahLst/>
            <a:rect l="l" t="t" r="r" b="b"/>
            <a:pathLst>
              <a:path w="1746" h="2222">
                <a:moveTo>
                  <a:pt x="1746" y="0"/>
                </a:moveTo>
                <a:cubicBezTo>
                  <a:pt x="1451" y="30"/>
                  <a:pt x="1157" y="61"/>
                  <a:pt x="930" y="136"/>
                </a:cubicBezTo>
                <a:cubicBezTo>
                  <a:pt x="703" y="211"/>
                  <a:pt x="530" y="332"/>
                  <a:pt x="386" y="453"/>
                </a:cubicBezTo>
                <a:cubicBezTo>
                  <a:pt x="242" y="574"/>
                  <a:pt x="113" y="702"/>
                  <a:pt x="68" y="861"/>
                </a:cubicBezTo>
                <a:cubicBezTo>
                  <a:pt x="23" y="1020"/>
                  <a:pt x="0" y="1225"/>
                  <a:pt x="113" y="1406"/>
                </a:cubicBezTo>
                <a:cubicBezTo>
                  <a:pt x="226" y="1587"/>
                  <a:pt x="484" y="1814"/>
                  <a:pt x="749" y="1950"/>
                </a:cubicBezTo>
                <a:cubicBezTo>
                  <a:pt x="1014" y="2086"/>
                  <a:pt x="1357" y="2154"/>
                  <a:pt x="1701" y="2222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85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arious aspects of high energy scattering at strong coupling—including some details of the final state—are accessible from gauge/string duality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oing to phenomenology, it is important to think when AdS-based approaches may be a good starting point and when it is not.  </a:t>
            </a:r>
            <a:r>
              <a:rPr b="0" lang="ja-JP" sz="1800" spc="-1" strike="noStrike">
                <a:solidFill>
                  <a:srgbClr val="0000cc"/>
                </a:solidFill>
                <a:latin typeface="Arial"/>
              </a:rPr>
              <a:t>e.g., Mueller 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f the initial hard scattering were described by a strongly coupled theory, there would be no jets to begin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p or AA collisions not fully explor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Sin, Shuryak &amp; Zahed (2005); Albacete, Kovchegov &amp; Taliotis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021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ote: The data are also consistent with the log behavi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soft Pom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03880" y="1757520"/>
                <a:ext cx="546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29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1700280"/>
                <a:ext cx="1143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48360" y="5950080"/>
                <a:ext cx="9590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6083280" y="30258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0418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0000" y="3165120"/>
            <a:ext cx="2303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45080" y="441468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1.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64240" y="2940120"/>
                <a:ext cx="268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531280" y="4797360"/>
                <a:ext cx="453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729760" y="3889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3280" y="4033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0482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516720" y="5094360"/>
                <a:ext cx="1365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</m:sub>
                      <m:sup>
                        <m:r>
                          <m:t xml:space="preserve">G</m:t>
                        </m:r>
                      </m:sup>
                    </m:sSubSup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604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Thermal hadr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0120" y="1484280"/>
            <a:ext cx="45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particle yields are well describ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71640" y="2205000"/>
                <a:ext cx="2950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507920" y="501336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model works in e+e- annihil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adron collisions, and heavy-i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4021200" cy="375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4427640" cy="30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0" y="573408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cc"/>
                </a:solidFill>
                <a:latin typeface="Arial"/>
              </a:rPr>
              <a:t>Becattini; Chliapnikov; Braun-Munzinger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8460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There are many phenomena at collider experiment which defy weak coupling approach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Study N=4 SYM as a toy model of QCD. (Interesting in its own righ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One can solve strong coupling problems using AdS/CF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Think how it may (or may not?) be related to QCD lat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Possible applications to jet quenching at RHIC and LH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S明朝E"/>
              </a:rPr>
              <a:t>Lots of works on DIS. e+e- annihilation is a cross channel of DIS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1440" y="1628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=4 SY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9840" y="429264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study je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930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ge limit of Q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38280" y="3940200"/>
                <a:ext cx="492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867280" y="3102120"/>
                <a:ext cx="49068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3600" y="4925880"/>
                <a:ext cx="427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rad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657600" y="2743200"/>
            <a:ext cx="1828800" cy="19051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209680"/>
            <a:ext cx="457200" cy="19051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3124080"/>
            <a:ext cx="457200" cy="18288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514600"/>
            <a:ext cx="1280880" cy="533520"/>
          </a:xfrm>
          <a:custGeom>
            <a:avLst/>
            <a:gdLst>
              <a:gd name="textAreaLeft" fmla="*/ 200160 w 1280880"/>
              <a:gd name="textAreaRight" fmla="*/ 1121040 w 12808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276720"/>
            <a:ext cx="1295280" cy="5331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5409720" y="4190760"/>
            <a:ext cx="1295640" cy="5331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5409720" y="3429000"/>
            <a:ext cx="1295640" cy="53352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8988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493560" y="1557360"/>
            <a:ext cx="102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One of the most challenging problems of QCD is the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Arial"/>
              </a:rPr>
              <a:t> high energ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li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47160" y="5938920"/>
            <a:ext cx="54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Can we compute the total cross sec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What are the properties of the final state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ep inelastic 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14480" y="1690560"/>
            <a:ext cx="1081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36720" y="2225520"/>
            <a:ext cx="10206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356800">
            <a:off x="1784520" y="2522160"/>
            <a:ext cx="1064880" cy="155520"/>
          </a:xfrm>
          <a:custGeom>
            <a:avLst/>
            <a:gdLst/>
            <a:ahLst/>
            <a:rect l="l" t="t" r="r" b="b"/>
            <a:pathLst>
              <a:path w="1128" h="167">
                <a:moveTo>
                  <a:pt x="0" y="0"/>
                </a:moveTo>
                <a:cubicBezTo>
                  <a:pt x="15" y="28"/>
                  <a:pt x="54" y="167"/>
                  <a:pt x="88" y="167"/>
                </a:cubicBezTo>
                <a:cubicBezTo>
                  <a:pt x="121" y="167"/>
                  <a:pt x="165" y="0"/>
                  <a:pt x="201" y="0"/>
                </a:cubicBezTo>
                <a:cubicBezTo>
                  <a:pt x="236" y="0"/>
                  <a:pt x="267" y="167"/>
                  <a:pt x="301" y="167"/>
                </a:cubicBezTo>
                <a:cubicBezTo>
                  <a:pt x="334" y="167"/>
                  <a:pt x="366" y="0"/>
                  <a:pt x="401" y="0"/>
                </a:cubicBezTo>
                <a:cubicBezTo>
                  <a:pt x="436" y="0"/>
                  <a:pt x="475" y="167"/>
                  <a:pt x="510" y="167"/>
                </a:cubicBezTo>
                <a:cubicBezTo>
                  <a:pt x="545" y="167"/>
                  <a:pt x="577" y="2"/>
                  <a:pt x="612" y="2"/>
                </a:cubicBezTo>
                <a:cubicBezTo>
                  <a:pt x="648" y="2"/>
                  <a:pt x="687" y="165"/>
                  <a:pt x="723" y="165"/>
                </a:cubicBezTo>
                <a:cubicBezTo>
                  <a:pt x="759" y="165"/>
                  <a:pt x="792" y="2"/>
                  <a:pt x="825" y="2"/>
                </a:cubicBezTo>
                <a:cubicBezTo>
                  <a:pt x="859" y="2"/>
                  <a:pt x="893" y="163"/>
                  <a:pt x="926" y="163"/>
                </a:cubicBezTo>
                <a:cubicBezTo>
                  <a:pt x="958" y="162"/>
                  <a:pt x="988" y="0"/>
                  <a:pt x="1022" y="0"/>
                </a:cubicBezTo>
                <a:cubicBezTo>
                  <a:pt x="1055" y="0"/>
                  <a:pt x="1110" y="137"/>
                  <a:pt x="1128" y="165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25600" y="2022480"/>
                <a:ext cx="426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33600" y="3013200"/>
            <a:ext cx="141444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1480" y="2822400"/>
            <a:ext cx="1006560" cy="597240"/>
          </a:xfrm>
          <a:prstGeom prst="rightArrow">
            <a:avLst>
              <a:gd name="adj1" fmla="val 50000"/>
              <a:gd name="adj2" fmla="val 4213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58760" y="2895480"/>
                <a:ext cx="43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19680" y="2860560"/>
                <a:ext cx="6285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309760" y="2708280"/>
            <a:ext cx="943200" cy="9144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6800" y="1946160"/>
                <a:ext cx="435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 rot="18462600">
            <a:off x="1472400" y="1987920"/>
            <a:ext cx="792720" cy="70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04880" y="1484280"/>
                <a:ext cx="425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68360" y="3789360"/>
                <a:ext cx="48247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210360" y="2984400"/>
                <a:ext cx="371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500920" y="55753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igh energy = smal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724360" y="5575320"/>
                <a:ext cx="1224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316760" y="177156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wo independent kinematic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272360" y="2376360"/>
                <a:ext cx="1871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69800" y="2421000"/>
            <a:ext cx="22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hoton virt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jork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28320" y="5013360"/>
            <a:ext cx="68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hysical meaning : momentum fraction of the constituents (`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parto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luons at HE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579920" cy="4249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4320" y="443700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luon distribution 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fast at small-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95280" y="2637000"/>
                <a:ext cx="1454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908000" y="3284640"/>
                <a:ext cx="1381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908000" y="2637000"/>
                <a:ext cx="22734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19:44Z</dcterms:created>
  <dc:creator>Yoshitaka</dc:creator>
  <dc:description/>
  <dc:language>en-US</dc:language>
  <cp:lastModifiedBy>Yoshitaka</cp:lastModifiedBy>
  <dcterms:modified xsi:type="dcterms:W3CDTF">2008-10-13T04:58:24Z</dcterms:modified>
  <cp:revision>24</cp:revision>
  <dc:subject/>
  <dc:title>High energy collisions in AdS</dc:title>
</cp:coreProperties>
</file>