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7.png"/><Relationship Id="rId10" Type="http://schemas.openxmlformats.org/officeDocument/2006/relationships/image" Target="../media/image69.png"/><Relationship Id="rId1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50400"/>
            <a:ext cx="1046484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1ee"/>
                </a:solidFill>
                <a:latin typeface="Chalkboard"/>
              </a:rPr>
              <a:t>QGP and Hadrons in Dense medium:</a:t>
            </a:r>
            <a:br>
              <a:rPr sz="4800"/>
            </a:b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  <a:ea typeface="ヒラギノ角ゴ ProN W3"/>
              </a:rPr>
              <a:t>	</a:t>
            </a:r>
            <a:r>
              <a:rPr b="0" lang="en-US" sz="4800" spc="-1" strike="noStrike">
                <a:solidFill>
                  <a:srgbClr val="fff1ee"/>
                </a:solidFill>
                <a:latin typeface="Chalkboard"/>
              </a:rPr>
              <a:t>   a holographic view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"/>
          <p:cNvSpPr/>
          <p:nvPr/>
        </p:nvSpPr>
        <p:spPr>
          <a:xfrm>
            <a:off x="1270080" y="3606840"/>
            <a:ext cx="104648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c0d"/>
                </a:solidFill>
                <a:latin typeface="Chalkboard"/>
                <a:ea typeface="Lucida Grande"/>
              </a:rPr>
              <a:t>@ 2nd ATHIC 2008. 10.13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0d"/>
                </a:solidFill>
                <a:latin typeface="Chalkboard"/>
                <a:ea typeface="Chalkboard"/>
              </a:rPr>
              <a:t>based on works with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ffef"/>
                </a:solidFill>
                <a:latin typeface="Chalkboard"/>
                <a:ea typeface="Chalkboard"/>
              </a:rPr>
              <a:t>X. Ge, Y. Matsuo,  F. Shu,  T. Tsukioka(APCTP),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archiv:0806.4460</a:t>
            </a:r>
            <a:br>
              <a:rPr sz="2400"/>
            </a:br>
            <a:r>
              <a:rPr b="0" lang="en-US" sz="2400" spc="-1" strike="noStrike">
                <a:solidFill>
                  <a:srgbClr val="0fffef"/>
                </a:solidFill>
                <a:latin typeface="Chalkboard"/>
                <a:ea typeface="Chalkboard"/>
              </a:rPr>
              <a:t>J. Hur, K.Kim (KIAS),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archiv:0809.4541</a:t>
            </a:r>
            <a:br>
              <a:rPr sz="2400"/>
            </a:br>
            <a:r>
              <a:rPr b="0" lang="en-US" sz="2400" spc="-1" strike="noStrike">
                <a:solidFill>
                  <a:srgbClr val="0fffef"/>
                </a:solidFill>
                <a:latin typeface="Chalkboard"/>
                <a:ea typeface="Chalkboard"/>
              </a:rPr>
              <a:t>S. Seo (HYU),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 JHEP 0804:010,2008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"/>
          <p:cNvSpPr/>
          <p:nvPr/>
        </p:nvSpPr>
        <p:spPr>
          <a:xfrm>
            <a:off x="2541600" y="3886200"/>
            <a:ext cx="7912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711"/>
                </a:solidFill>
                <a:latin typeface="Chalkboard"/>
                <a:ea typeface="Chalkboard"/>
              </a:rPr>
              <a:t>Sang-Jin Sin (Hanyang U.)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lassification of mode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(2) classification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e consider vector and scalar typ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1739880" y="2629080"/>
            <a:ext cx="9512280" cy="25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Vector type pert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946240"/>
            <a:ext cx="1111248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1000"/>
          </a:bodyPr>
          <a:p>
            <a:pPr marL="454680" indent="-22176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ef. new variable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54680" indent="-22176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q. of Mo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546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546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54680" indent="-22176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mark: q=0-&gt; A-h decouples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3924360" y="2108160"/>
            <a:ext cx="6883200" cy="6984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5765760" y="3568680"/>
            <a:ext cx="4813200" cy="5079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5764320" y="4025880"/>
            <a:ext cx="4822560" cy="5461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5765760" y="4495680"/>
            <a:ext cx="4826160" cy="4701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171880" y="3581280"/>
            <a:ext cx="1574640" cy="432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2171880" y="4051440"/>
            <a:ext cx="3288960" cy="647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5295960" y="5689440"/>
            <a:ext cx="5753160" cy="27054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1663560" y="6781680"/>
            <a:ext cx="35686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Master equation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milarly tensor type has simple eq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2768760" y="2705040"/>
            <a:ext cx="7175520" cy="8762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2806560" y="4305240"/>
            <a:ext cx="5283360" cy="8636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8166240" y="3683160"/>
            <a:ext cx="4597200" cy="685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2679840" y="6464160"/>
            <a:ext cx="6946920" cy="762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8"/>
          <a:stretch/>
        </p:blipFill>
        <p:spPr>
          <a:xfrm>
            <a:off x="2679840" y="7162920"/>
            <a:ext cx="6945120" cy="11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Diffusion pole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4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74080" indent="-425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falling BC at horiz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74080" indent="-425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rturbative solution near boundary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25680" y="2971800"/>
            <a:ext cx="6616800" cy="9018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2489040" y="4749840"/>
            <a:ext cx="2895840" cy="482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5702400" y="4673520"/>
            <a:ext cx="1600200" cy="622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>
            <a:off x="2438280" y="6273720"/>
            <a:ext cx="6324840" cy="571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3274920" y="6845400"/>
            <a:ext cx="66960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On-shell action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thers are similar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1486080" y="2451240"/>
            <a:ext cx="10020240" cy="24256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2108160" y="5334120"/>
            <a:ext cx="98553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orrelation function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iffusion constant: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2374920" y="2386080"/>
            <a:ext cx="7010280" cy="46292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553080" y="7480440"/>
            <a:ext cx="17398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diffusion const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1244520" y="2730600"/>
            <a:ext cx="10807920" cy="61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shear Viscosity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ubo formula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reen function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r tensor pert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hear viscosity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5587920" y="3073320"/>
            <a:ext cx="3873600" cy="10684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5753160" y="5207040"/>
            <a:ext cx="5308560" cy="1219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5435640" y="7505640"/>
            <a:ext cx="6248520" cy="11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ransport coefficients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740160" indent="-36072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rmal conductivity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016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40160" indent="-36072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nsistency: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410080" y="5092560"/>
            <a:ext cx="1473480" cy="7747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5460840" y="627372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6807240" y="2997360"/>
            <a:ext cx="4406760" cy="927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>
            <a:off x="7467480" y="3898800"/>
            <a:ext cx="15876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viscosity 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003320" y="2743200"/>
            <a:ext cx="1099836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46040" y="291600"/>
            <a:ext cx="957600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Introduction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349360" y="2742840"/>
            <a:ext cx="9576000" cy="631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tring theory began as a hadron theor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fter 40 yea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tring theory is back to Str. Int. with the idea of gague/gravity duality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n we do something for QCD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=4 SYM has difference as much as similarity: SUSY, extra deg. of freedo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ppeal to universality-&gt; hydro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ermal conductivity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06360" y="2730600"/>
            <a:ext cx="105793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0280" y="329760"/>
            <a:ext cx="10756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harged black hole &amp; baryon density: 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rchiv:0707.2919, SJ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3098880"/>
            <a:ext cx="10464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nsider a D-brane that fills the whole space. then the response of the metric to the charge is the same whether it is R-charge or baryon charge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ique minimal coupling between Maxwell &amp; Einstein fields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refore we can interpret the the charge of the RN black hole as the baryon charge densit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ydrodynamics II: </a:t>
            </a:r>
            <a:br>
              <a:rPr sz="72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rchiv:0809.4521,   Hur+Kim+SJ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instein eq. in the bulk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&lt;-&gt; Fluid dynamics in the boundary.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s  method yields: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209680" y="5753160"/>
            <a:ext cx="1064268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Consistency bet. I and II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rom the Hydro I ( Kubo formula)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e can show that this is the same as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2311560" y="4176720"/>
            <a:ext cx="6387840" cy="1068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2489040" y="6566040"/>
            <a:ext cx="252252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Wiedermann-Franz law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6159600"/>
            <a:ext cx="1046484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83080" indent="-4302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s indicates the </a:t>
            </a:r>
            <a:r>
              <a:rPr b="0" lang="en-US" sz="3600" spc="-1" strike="noStrike">
                <a:solidFill>
                  <a:srgbClr val="fff62a"/>
                </a:solidFill>
                <a:latin typeface="Chalkboard"/>
              </a:rPr>
              <a:t>Metallic property of sQG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n we measure the conductivity of sQGP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466040" y="4470480"/>
            <a:ext cx="4165560" cy="7999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4940280" y="2565360"/>
            <a:ext cx="256716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Medium dependence of conductivitie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924360" y="4381560"/>
            <a:ext cx="6199200" cy="4508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1447920" y="2768760"/>
            <a:ext cx="66135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So far, QGP regi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what about hadrons?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2933640" y="3060720"/>
            <a:ext cx="60260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Baryon mass in finite density: 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JHEP0804:010,2008, Seo +SJ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807560" cy="577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8440" indent="-4086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general, interested in fininte density and temperature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38440" indent="-4086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r QGP, black hole background and T is easy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tring provide baryon charg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38440" indent="-4086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confining regime, temperature dependence is hard to encode due to large N nature of ads/cft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38440" indent="-40860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t T=0 with non-zero density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Hologaphic view of baryon density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4d field theory: chemical potential is a </a:t>
            </a:r>
            <a:r>
              <a:rPr b="0" lang="en-US" sz="3600" spc="-1" strike="noStrike">
                <a:solidFill>
                  <a:srgbClr val="fffe5b"/>
                </a:solidFill>
                <a:latin typeface="Chalkboard"/>
              </a:rPr>
              <a:t>constant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gauge potential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holographic view: 5d electric potential, phi, is a created by the charge, which is the string end points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oose the value at the horizon to be 0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hi at boundary is the chemical p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2031840" y="5092560"/>
            <a:ext cx="9499680" cy="387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723960" y="-152640"/>
            <a:ext cx="1104912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Baryon is a compact brane connected to flavor branes by N_c strings : fig. 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trings are energy costly -&gt; D branes deform to reduce the string length 0: fig. 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rce balancing condition gives connection condi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7760" y="151920"/>
            <a:ext cx="1059192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Universality and  AdS/QCD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57040" y="2755800"/>
            <a:ext cx="9575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igh temperature phas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-&gt; Broken SUSY -&gt; Share more with QC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quantity in Hydrodynamics -&gt;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Low frequency and Long wave length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s far as dual gravity is valid-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rhaps, ads/qcd in medium is more relevant to qcd than in vacuum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9715680" y="6197760"/>
            <a:ext cx="208260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348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Baryon mass in medium:</a:t>
            </a:r>
            <a:br>
              <a:rPr sz="64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t falls but not in small current quark mas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1104840" y="3759120"/>
            <a:ext cx="5524560" cy="37483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010280" y="3797280"/>
            <a:ext cx="5118120" cy="37116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098880" y="8001000"/>
            <a:ext cx="698400" cy="3808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8737560" y="8026560"/>
            <a:ext cx="1066680" cy="3175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6"/>
          <a:stretch/>
        </p:blipFill>
        <p:spPr>
          <a:xfrm>
            <a:off x="2717640" y="5321160"/>
            <a:ext cx="774720" cy="292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"/>
          <a:stretch/>
        </p:blipFill>
        <p:spPr>
          <a:xfrm>
            <a:off x="2184480" y="6184800"/>
            <a:ext cx="673200" cy="304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8"/>
          <a:stretch/>
        </p:blipFill>
        <p:spPr>
          <a:xfrm>
            <a:off x="2209680" y="5689440"/>
            <a:ext cx="635040" cy="2415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9"/>
          <a:stretch/>
        </p:blipFill>
        <p:spPr>
          <a:xfrm>
            <a:off x="9804240" y="8026560"/>
            <a:ext cx="729000" cy="3301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0"/>
          <a:stretch/>
        </p:blipFill>
        <p:spPr>
          <a:xfrm>
            <a:off x="7886880" y="5194440"/>
            <a:ext cx="3593880" cy="25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nclus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reen functions and Transport coefficients calculated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QGP may have a another surprising property: Metallic conductivity!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ryon mass falls in medium, perhap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ravity dual of gauge theory may become a powerful tool for the heavy ion collision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la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ydrodynamics I: Green function and Kubo formula [archiv:0806.4460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ydrodynamics II: Metallic QG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[archiv:0809.4541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ryons in finite chemical potentia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[JHEP 0804:010,2008]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340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Hydrodynamics I:</a:t>
            </a:r>
            <a:br>
              <a:rPr sz="64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         Transport coefficients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X. Ge, Y. Matsuo,  F. Shu,  T. Tsukioka(APCTP), archiv:0806.4460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nite temperature (and density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&lt;-&gt; (charged) black ho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Linear Response theory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nsport coefficients &lt;- Kubo formul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&lt;- zero frequency limit of G_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   &lt;- ads/cft boundary action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AdS R-N black hole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264132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lution to the eq. of 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371600" y="2476440"/>
            <a:ext cx="10337760" cy="1079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3606840" y="3848040"/>
            <a:ext cx="1447920" cy="927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6578640" y="3873600"/>
            <a:ext cx="1727280" cy="8762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3174840" y="5829480"/>
            <a:ext cx="6654960" cy="29844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9893160" y="3835440"/>
            <a:ext cx="17910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ermodynamic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emperature, entropy, energ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ssure, charge density and chemical po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3390840" y="4368960"/>
            <a:ext cx="6210360" cy="1015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3378240" y="5854680"/>
            <a:ext cx="3759120" cy="14986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7835760" y="5753160"/>
            <a:ext cx="157500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erturbations around RN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rturbed Eintein eq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4584600" y="2125800"/>
            <a:ext cx="3429000" cy="1411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235240" y="4521240"/>
            <a:ext cx="6972120" cy="939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4038480" y="5587920"/>
            <a:ext cx="7952040" cy="13971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4025880" y="6985080"/>
            <a:ext cx="796284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44600" y="139680"/>
            <a:ext cx="11430000" cy="840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rturbed Maxwell eq.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auge choice and Fourier mode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1994040" y="1409760"/>
            <a:ext cx="8318520" cy="2260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2070000" y="5626080"/>
            <a:ext cx="4318200" cy="6606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2095560" y="7454880"/>
            <a:ext cx="8800920" cy="5461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6794640" y="5105520"/>
            <a:ext cx="50036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