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88AA4-3B00-4B6A-9DA5-3DC2FF064B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4334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52360"/>
            <a:ext cx="8382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3D353-7A31-4020-A117-EEE849CB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4334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5236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5236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D48BE-9D74-4DC0-9420-02B6180F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4334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06632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06632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5236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5236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5236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A4CCA-259F-4DC5-817E-EBC13D4265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2E082-A120-4AAD-9F54-6E6A85B7B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334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08387-AD2B-45FF-A6E3-16597502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334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70740-2FDA-4345-ABAA-D3545D53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334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D9C86-316E-4510-A7A8-6A477C87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4334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B34EC-7681-4B21-85D0-D035857F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80880" y="457200"/>
            <a:ext cx="78487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67878-831D-4027-B65A-4516F6F2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334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5236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3B2ED-ED06-4EBA-ABC0-C53F55CF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334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99421-E26D-40B2-A58A-93DD5104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334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5236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3B18E-C202-42E4-8C14-7A41650B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4334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52360"/>
            <a:ext cx="8382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DBA6F-98C6-405E-B5C5-AFAB40A8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4334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52360"/>
            <a:ext cx="8382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C4636-EBAD-497C-AE1A-A652D2DE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334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5236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5236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B36EA-37D5-4ECF-8726-E37910C38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334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06632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06632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5236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5236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5236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78642-F65B-426F-A2FE-5FA699468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334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82E39-F6CC-4643-B74B-2CC3E40D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334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227E5-B16B-46CD-8986-760BD92A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4334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5B777-D7A9-4B82-BE74-E7EDBCD49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457200"/>
            <a:ext cx="78487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2D361-1794-48F0-A70A-BE842CAFE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4334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5236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063A4-9D6E-4A85-9393-F7A0B096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4334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5236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CD54E-17BC-4155-B5D9-92480F7D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334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52360"/>
            <a:ext cx="8382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E7337-0753-4D5A-8A6E-B8C351CD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0" y="6578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38880" y="6591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5CEC-86C1-479F-AFEF-243D69324F71}" type="slidenum">
              <a:rPr b="0" lang="ja-JP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380880" y="4572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"/>
          <p:cNvSpPr/>
          <p:nvPr/>
        </p:nvSpPr>
        <p:spPr>
          <a:xfrm>
            <a:off x="4680" y="0"/>
            <a:ext cx="9140760" cy="38088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14511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nji Morita, Yonsei Univer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380880" y="106632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lbo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lbo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lbo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lbo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lbo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lbo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lbo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5" name=""/>
          <p:cNvSpPr/>
          <p:nvPr/>
        </p:nvSpPr>
        <p:spPr>
          <a:xfrm>
            <a:off x="6945480" y="0"/>
            <a:ext cx="21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THIC2008, Tsuku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80880"/>
            <a:ext cx="9144000" cy="76320"/>
          </a:xfrm>
          <a:prstGeom prst="rect">
            <a:avLst/>
          </a:prstGeom>
          <a:gradFill rotWithShape="0">
            <a:gsLst>
              <a:gs pos="0">
                <a:srgbClr val="467517"/>
              </a:gs>
              <a:gs pos="100000">
                <a:srgbClr val="99ff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219320" y="6667560"/>
            <a:ext cx="7924680" cy="0"/>
          </a:xfrm>
          <a:prstGeom prst="line">
            <a:avLst/>
          </a:prstGeom>
          <a:ln w="28440">
            <a:solidFill>
              <a:srgbClr val="66ff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9480" y="6629400"/>
            <a:ext cx="853452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2133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914400" y="655308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240000" y="6553080"/>
            <a:ext cx="266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6477120" y="655308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7B3C-9215-4E7D-9374-CFCEBEA21CDC}" type="slidenum"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80" y="0"/>
            <a:ext cx="9140760" cy="76212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14511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88600" y="0"/>
            <a:ext cx="225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THIC 2008, Tsuku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762120"/>
            <a:ext cx="9144000" cy="75960"/>
          </a:xfrm>
          <a:prstGeom prst="rect">
            <a:avLst/>
          </a:prstGeom>
          <a:gradFill rotWithShape="0">
            <a:gsLst>
              <a:gs pos="0">
                <a:srgbClr val="467517"/>
              </a:gs>
              <a:gs pos="100000">
                <a:srgbClr val="99ff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120" y="58680"/>
            <a:ext cx="31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nji Morita, Yonsei Univer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lbo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lvl="1" marL="457200" algn="ctr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 algn="ctr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reamregular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reamregular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3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1.png"/><Relationship Id="rId9" Type="http://schemas.openxmlformats.org/officeDocument/2006/relationships/image" Target="../media/image4.png"/><Relationship Id="rId10" Type="http://schemas.openxmlformats.org/officeDocument/2006/relationships/image" Target="../media/image1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Charmonium dissociation temperatures from QCD sum rules</a:t>
            </a:r>
            <a:r>
              <a:rPr b="1" lang="ja-JP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9280" y="2491920"/>
            <a:ext cx="7921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  <a:ea typeface="GungsuhChe"/>
              </a:rPr>
              <a:t>Kenji Morita</a:t>
            </a: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ngsuhChe"/>
              </a:rPr>
              <a:t>Institute of Physics and Applied Physics, </a:t>
            </a:r>
            <a:endParaRPr b="0" lang="en-US" sz="2400" spc="-1" strike="noStrike">
              <a:solidFill>
                <a:srgbClr val="000000"/>
              </a:solidFill>
              <a:latin typeface="Celbobol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ngsuhChe"/>
              </a:rPr>
              <a:t>Yonsei University</a:t>
            </a:r>
            <a:endParaRPr b="0" lang="en-US" sz="2400" spc="-1" strike="noStrike">
              <a:solidFill>
                <a:srgbClr val="000000"/>
              </a:solidFill>
              <a:latin typeface="Celbobol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lbobol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ngsuhChe"/>
              </a:rPr>
              <a:t>in Collaboration with</a:t>
            </a:r>
            <a:endParaRPr b="0" lang="en-US" sz="2400" spc="-1" strike="noStrike">
              <a:solidFill>
                <a:srgbClr val="000000"/>
              </a:solidFill>
              <a:latin typeface="Celbobol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ngsuhCh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ngsuhChe"/>
              </a:rPr>
              <a:t>Su Houng Lee</a:t>
            </a:r>
            <a:endParaRPr b="0" lang="en-US" sz="2400" spc="-1" strike="noStrike">
              <a:solidFill>
                <a:srgbClr val="000000"/>
              </a:solidFill>
              <a:latin typeface="Celbobol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ream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lbobold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24720" y="1916280"/>
            <a:ext cx="1282680" cy="1660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Borel Window : validating QCDSR</a:t>
            </a:r>
            <a:endParaRPr b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lbobold"/>
              </a:rPr>
              <a:t>Borel Window : </a:t>
            </a:r>
            <a:r>
              <a:rPr b="1" lang="en-US" sz="2800" spc="-1" strike="noStrike">
                <a:solidFill>
                  <a:srgbClr val="000000"/>
                </a:solidFill>
                <a:latin typeface="cmmi12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mr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lbobold"/>
              </a:rPr>
              <a:t> range such that...</a:t>
            </a: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lvl="1" marL="743040" indent="-285840"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Criterion 1 – OPE convergence in the Window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143000" indent="-228600"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reamregular"/>
              </a:rPr>
              <a:t>Power correction is small enough</a:t>
            </a:r>
            <a:endParaRPr b="0" lang="en-US" sz="2000" spc="-1" strike="noStrike">
              <a:solidFill>
                <a:srgbClr val="000000"/>
              </a:solidFill>
              <a:latin typeface="Creamregular"/>
            </a:endParaRPr>
          </a:p>
          <a:p>
            <a:pPr lvl="2" marL="1143000" indent="0">
              <a:spcBef>
                <a:spcPts val="12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reamregular"/>
            </a:endParaRPr>
          </a:p>
          <a:p>
            <a:pPr lvl="2" marL="1143000" indent="0">
              <a:spcBef>
                <a:spcPts val="12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reamregular"/>
            </a:endParaRPr>
          </a:p>
          <a:p>
            <a:pPr lvl="1" marL="743040" indent="-285840"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Criterion 2 – Pole should dominate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Criterion 3 – Mass should not depend on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, or must have local mininum/maximum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1547640" y="2637000"/>
            <a:ext cx="5181840" cy="6858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932360" y="2276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56360" y="2276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80360" y="2421000"/>
            <a:ext cx="1295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mmi12"/>
              </a:rPr>
              <a:t>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mr10"/>
              </a:rPr>
              <a:t>2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mr10"/>
              </a:rPr>
              <a:t>m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93080" y="3716280"/>
            <a:ext cx="18349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mmi12"/>
              </a:rPr>
              <a:t>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mr10"/>
              </a:rPr>
              <a:t>2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mr10"/>
              </a:rPr>
              <a:t>ma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1908000" y="4076640"/>
            <a:ext cx="2286000" cy="7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2C12B-8399-404F-8DAB-71D647F2A35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13/2008</a:t>
            </a: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Pole only case</a:t>
            </a:r>
            <a:endParaRPr b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489800" cy="4518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lbobold"/>
              </a:rPr>
              <a:t>No stability?</a:t>
            </a: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160" name=""/>
          <p:cNvSpPr/>
          <p:nvPr/>
        </p:nvSpPr>
        <p:spPr>
          <a:xfrm>
            <a:off x="1476360" y="2781360"/>
            <a:ext cx="504720" cy="504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27640" y="2924280"/>
            <a:ext cx="504720" cy="504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19280" y="4869000"/>
            <a:ext cx="504720" cy="504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00720" y="4797360"/>
            <a:ext cx="504720" cy="504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88800" y="979560"/>
            <a:ext cx="8320320" cy="3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B7FD8-7C7C-42F8-90C1-EA642DD7EB9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13/2008</a:t>
            </a:r>
          </a:p>
        </p:txBody>
      </p:sp>
    </p:spTree>
  </p:cSld>
  <p:transition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" dur="5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Incorporating continuum &amp; width</a:t>
            </a:r>
            <a:endParaRPr b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lbobold"/>
              </a:rPr>
              <a:t>No stable curve at 1.2</a:t>
            </a:r>
            <a:r>
              <a:rPr b="1" lang="en-US" sz="2800" spc="-1" strike="noStrike">
                <a:solidFill>
                  <a:srgbClr val="000000"/>
                </a:solidFill>
                <a:latin typeface="cmmi12"/>
              </a:rPr>
              <a:t>T</a:t>
            </a:r>
            <a:r>
              <a:rPr b="1" lang="en-US" sz="2800" spc="-1" strike="noStrike" baseline="-14000">
                <a:solidFill>
                  <a:srgbClr val="000000"/>
                </a:solidFill>
                <a:latin typeface="cmmi12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elbobold"/>
              </a:rPr>
              <a:t> without </a:t>
            </a:r>
            <a:r>
              <a:rPr b="0" lang="en-US" sz="2800" spc="-1" strike="noStrike">
                <a:solidFill>
                  <a:srgbClr val="ff99cc"/>
                </a:solidFill>
                <a:latin typeface="Celbobold"/>
              </a:rPr>
              <a:t>continuum</a:t>
            </a:r>
            <a:r>
              <a:rPr b="0" lang="en-US" sz="2800" spc="-1" strike="noStrike">
                <a:solidFill>
                  <a:srgbClr val="000000"/>
                </a:solidFill>
                <a:latin typeface="Celbobold"/>
              </a:rPr>
              <a:t> and </a:t>
            </a:r>
            <a:r>
              <a:rPr b="0" lang="en-US" sz="2800" spc="-1" strike="noStrike">
                <a:solidFill>
                  <a:srgbClr val="333399"/>
                </a:solidFill>
                <a:latin typeface="Celbobold"/>
              </a:rPr>
              <a:t>width</a:t>
            </a: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elbobold"/>
              </a:rPr>
              <a:t>Possible to obtain stable mass!</a:t>
            </a: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187280" y="1628640"/>
            <a:ext cx="6409080" cy="4486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68" name=""/>
          <p:cNvSpPr/>
          <p:nvPr/>
        </p:nvSpPr>
        <p:spPr>
          <a:xfrm flipV="1">
            <a:off x="3419640" y="2852640"/>
            <a:ext cx="0" cy="720720"/>
          </a:xfrm>
          <a:prstGeom prst="line">
            <a:avLst/>
          </a:prstGeom>
          <a:ln w="507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356000" y="3213000"/>
            <a:ext cx="503280" cy="1079640"/>
          </a:xfrm>
          <a:prstGeom prst="line">
            <a:avLst/>
          </a:prstGeom>
          <a:ln w="3168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63F91-3BF5-4B66-A041-652EB2F961C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13/2008</a:t>
            </a: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How to choose the best solution?</a:t>
            </a:r>
            <a:endParaRPr b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lbobold"/>
              </a:rPr>
              <a:t>Evaluation of flatness</a:t>
            </a: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1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Find </a:t>
            </a:r>
            <a:r>
              <a:rPr b="0" lang="en-US" sz="2800" spc="-1" strike="noStrike">
                <a:solidFill>
                  <a:srgbClr val="000000"/>
                </a:solidFill>
                <a:latin typeface="cmmi12"/>
              </a:rPr>
              <a:t> s</a:t>
            </a:r>
            <a:r>
              <a:rPr b="0" lang="en-US" sz="2800" spc="-1" strike="noStrike" baseline="-14000">
                <a:solidFill>
                  <a:srgbClr val="000000"/>
                </a:solidFill>
                <a:latin typeface="cmr10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elbobold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Celbo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giving the minimum</a:t>
            </a: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15360" indent="-3153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lbobold"/>
              </a:rPr>
              <a:t>Caveats</a:t>
            </a: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lvl="1" marL="683280" indent="-2628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Solution is not unique!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051560" indent="-2102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reamregular"/>
              </a:rPr>
              <a:t>Many combination can give similarly flat curve!</a:t>
            </a:r>
            <a:endParaRPr b="0" lang="en-US" sz="2000" spc="-1" strike="noStrike">
              <a:solidFill>
                <a:srgbClr val="000000"/>
              </a:solidFill>
              <a:latin typeface="Creamregular"/>
            </a:endParaRPr>
          </a:p>
          <a:p>
            <a:pPr lvl="2" marL="1051560" indent="-21024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reamregular"/>
              </a:rPr>
              <a:t>Need to fix either </a:t>
            </a:r>
            <a:r>
              <a:rPr b="0" lang="en-US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</a:t>
            </a:r>
            <a:r>
              <a:rPr b="0" lang="en-US" sz="2000" spc="-1" strike="noStrike">
                <a:solidFill>
                  <a:srgbClr val="000000"/>
                </a:solidFill>
                <a:latin typeface="Creamregular"/>
              </a:rPr>
              <a:t>or </a:t>
            </a:r>
            <a:r>
              <a:rPr b="0" lang="en-US" sz="2000" spc="-1" strike="noStrike">
                <a:solidFill>
                  <a:srgbClr val="000000"/>
                </a:solidFill>
                <a:latin typeface="cmmi12"/>
              </a:rPr>
              <a:t>s</a:t>
            </a:r>
            <a:r>
              <a:rPr b="0" lang="en-US" sz="2000" spc="-1" strike="noStrike" baseline="-14000">
                <a:solidFill>
                  <a:srgbClr val="000000"/>
                </a:solidFill>
                <a:latin typeface="cmr10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reamregular"/>
            </a:endParaRPr>
          </a:p>
          <a:p>
            <a:pPr lvl="1" marL="683280" indent="-2628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Changing </a:t>
            </a:r>
            <a:r>
              <a:rPr b="0" lang="en-US" sz="2400" spc="-1" strike="noStrike">
                <a:solidFill>
                  <a:srgbClr val="000000"/>
                </a:solidFill>
                <a:latin typeface="cmmi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mmi12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mr10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cmmi12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mr10"/>
              </a:rPr>
              <a:t>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mr10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 changes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lbobold"/>
              </a:rPr>
              <a:t>We need to give </a:t>
            </a:r>
            <a:r>
              <a:rPr b="1" lang="en-US" sz="2800" spc="-1" strike="noStrike">
                <a:solidFill>
                  <a:srgbClr val="000000"/>
                </a:solidFill>
                <a:latin typeface="cmmi12"/>
              </a:rPr>
              <a:t>s</a:t>
            </a:r>
            <a:r>
              <a:rPr b="1" lang="en-US" sz="2800" spc="-1" strike="noStrike" baseline="-14000">
                <a:solidFill>
                  <a:srgbClr val="000000"/>
                </a:solidFill>
                <a:latin typeface="cmr10"/>
              </a:rPr>
              <a:t>0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mr10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mr10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mmi12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cmr10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sp>
        <p:nvSpPr>
          <p:cNvPr id="172" name=""/>
          <p:cNvSpPr/>
          <p:nvPr/>
        </p:nvSpPr>
        <p:spPr>
          <a:xfrm>
            <a:off x="3851280" y="5516640"/>
            <a:ext cx="43164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00360" y="2565360"/>
            <a:ext cx="431640" cy="7192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7"/>
          <a:stretch/>
        </p:blipFill>
        <p:spPr>
          <a:xfrm>
            <a:off x="933480" y="1557360"/>
            <a:ext cx="6985080" cy="88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00741-90C4-4BAB-870E-056D23EF91F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13/2008</a:t>
            </a:r>
          </a:p>
        </p:txBody>
      </p:sp>
    </p:spTree>
  </p:cSld>
  <p:transition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Result : </a:t>
            </a:r>
            <a:r>
              <a:rPr b="1" lang="en-US" sz="3200" spc="-1" strike="noStrike">
                <a:solidFill>
                  <a:srgbClr val="000000"/>
                </a:solidFill>
                <a:latin typeface="cmmi12"/>
              </a:rPr>
              <a:t>J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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for linearly decreasing </a:t>
            </a:r>
            <a:r>
              <a:rPr b="1" lang="en-US" sz="3200" spc="-1" strike="noStrike">
                <a:solidFill>
                  <a:srgbClr val="000000"/>
                </a:solidFill>
                <a:latin typeface="cmmi12"/>
              </a:rPr>
              <a:t>s</a:t>
            </a:r>
            <a:r>
              <a:rPr b="1" lang="en-US" sz="3200" spc="-1" strike="noStrike" baseline="-14000">
                <a:solidFill>
                  <a:srgbClr val="000000"/>
                </a:solidFill>
                <a:latin typeface="cmr10"/>
              </a:rPr>
              <a:t>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mr10"/>
              </a:rPr>
              <a:t>1/2</a:t>
            </a:r>
            <a:endParaRPr b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7888320" cy="4952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7888320" cy="49528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572000" y="1413000"/>
            <a:ext cx="0" cy="3960720"/>
          </a:xfrm>
          <a:prstGeom prst="line">
            <a:avLst/>
          </a:prstGeom>
          <a:ln w="3168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B16C5-8982-4FCF-AD84-C564ADEC30DE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13/2008</a:t>
            </a:r>
          </a:p>
        </p:txBody>
      </p:sp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Result : </a:t>
            </a:r>
            <a:r>
              <a:rPr b="1" lang="en-US" sz="32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</a:t>
            </a:r>
            <a:r>
              <a:rPr b="1" lang="en-US" sz="3200" spc="-1" strike="noStrike" baseline="-14000">
                <a:solidFill>
                  <a:srgbClr val="000000"/>
                </a:solidFill>
                <a:latin typeface="cmmi12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for linearly decreasing </a:t>
            </a:r>
            <a:r>
              <a:rPr b="1" lang="en-US" sz="3200" spc="-1" strike="noStrike">
                <a:solidFill>
                  <a:srgbClr val="000000"/>
                </a:solidFill>
                <a:latin typeface="cmmi12"/>
              </a:rPr>
              <a:t>s</a:t>
            </a:r>
            <a:r>
              <a:rPr b="1" lang="en-US" sz="3200" spc="-1" strike="noStrike" baseline="-14000">
                <a:solidFill>
                  <a:srgbClr val="000000"/>
                </a:solidFill>
                <a:latin typeface="cmr10"/>
              </a:rPr>
              <a:t>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mr10"/>
              </a:rPr>
              <a:t>1/2</a:t>
            </a:r>
            <a:endParaRPr b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888320" cy="4953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7888320" cy="49532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788000" y="1413000"/>
            <a:ext cx="0" cy="3960720"/>
          </a:xfrm>
          <a:prstGeom prst="line">
            <a:avLst/>
          </a:prstGeom>
          <a:ln w="3168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648A8-0300-443D-B1C3-F358B7324FC2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13/2008</a:t>
            </a:r>
          </a:p>
        </p:txBody>
      </p:sp>
    </p:spTree>
  </p:cSld>
  <p:transition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Result : </a:t>
            </a:r>
            <a:r>
              <a:rPr b="1" lang="en-US" sz="32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</a:t>
            </a:r>
            <a:r>
              <a:rPr b="1" lang="en-US" sz="3200" spc="-1" strike="noStrike" baseline="-14000">
                <a:solidFill>
                  <a:srgbClr val="000000"/>
                </a:solidFill>
                <a:latin typeface="cmmi12"/>
              </a:rPr>
              <a:t>c</a:t>
            </a:r>
            <a:r>
              <a:rPr b="1" lang="en-US" sz="3200" spc="-1" strike="noStrike" baseline="-14000">
                <a:solidFill>
                  <a:srgbClr val="000000"/>
                </a:solidFill>
                <a:latin typeface="cmr10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for linearly decreasing </a:t>
            </a:r>
            <a:r>
              <a:rPr b="1" lang="en-US" sz="3200" spc="-1" strike="noStrike">
                <a:solidFill>
                  <a:srgbClr val="000000"/>
                </a:solidFill>
                <a:latin typeface="cmmi12"/>
              </a:rPr>
              <a:t>s</a:t>
            </a:r>
            <a:r>
              <a:rPr b="1" lang="en-US" sz="3200" spc="-1" strike="noStrike" baseline="-14000">
                <a:solidFill>
                  <a:srgbClr val="000000"/>
                </a:solidFill>
                <a:latin typeface="cmr10"/>
              </a:rPr>
              <a:t>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mr10"/>
              </a:rPr>
              <a:t>1/2</a:t>
            </a:r>
            <a:endParaRPr b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888320" cy="4953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84360" y="1268280"/>
            <a:ext cx="7888320" cy="49532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940360" y="1484280"/>
            <a:ext cx="0" cy="3960720"/>
          </a:xfrm>
          <a:prstGeom prst="line">
            <a:avLst/>
          </a:prstGeom>
          <a:ln w="3168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72C53-7083-47EF-AADB-18AC42A3ABA4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13/2008</a:t>
            </a:r>
          </a:p>
        </p:txBody>
      </p:sp>
    </p:spTree>
  </p:cSld>
  <p:transition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Result : </a:t>
            </a:r>
            <a:r>
              <a:rPr b="1" lang="en-US" sz="32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</a:t>
            </a:r>
            <a:r>
              <a:rPr b="1" lang="en-US" sz="3200" spc="-1" strike="noStrike" baseline="-14000">
                <a:solidFill>
                  <a:srgbClr val="000000"/>
                </a:solidFill>
                <a:latin typeface="cmmi12"/>
              </a:rPr>
              <a:t>c</a:t>
            </a:r>
            <a:r>
              <a:rPr b="1" lang="en-US" sz="3200" spc="-1" strike="noStrike" baseline="-14000">
                <a:solidFill>
                  <a:srgbClr val="000000"/>
                </a:solidFill>
                <a:latin typeface="cmr10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for linearly decreasing </a:t>
            </a:r>
            <a:r>
              <a:rPr b="1" lang="en-US" sz="3200" spc="-1" strike="noStrike">
                <a:solidFill>
                  <a:srgbClr val="000000"/>
                </a:solidFill>
                <a:latin typeface="cmmi12"/>
              </a:rPr>
              <a:t>s</a:t>
            </a:r>
            <a:r>
              <a:rPr b="1" lang="en-US" sz="3200" spc="-1" strike="noStrike" baseline="-14000">
                <a:solidFill>
                  <a:srgbClr val="000000"/>
                </a:solidFill>
                <a:latin typeface="cmr10"/>
              </a:rPr>
              <a:t>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mr10"/>
              </a:rPr>
              <a:t>1/2</a:t>
            </a:r>
            <a:endParaRPr b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888320" cy="4953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84360" y="1268280"/>
            <a:ext cx="7888320" cy="49532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716360" y="1413000"/>
            <a:ext cx="0" cy="3960720"/>
          </a:xfrm>
          <a:prstGeom prst="line">
            <a:avLst/>
          </a:prstGeom>
          <a:ln w="3168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07D72-C860-453B-B9E8-C84BFEEAA1B1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13/2008</a:t>
            </a:r>
          </a:p>
        </p:txBody>
      </p:sp>
    </p:spTree>
  </p:cSld>
  <p:transition>
    <p:random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Summary and Discussion</a:t>
            </a:r>
            <a:endParaRPr b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lbobold"/>
              </a:rPr>
              <a:t>Extension to higher temperature using Borel sum sule</a:t>
            </a: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25800" indent="-32580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lbobold"/>
              </a:rPr>
              <a:t>Incorporating both continuum and width can remedy the breakdown in previous calculation</a:t>
            </a: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mmi12"/>
              </a:rPr>
              <a:t>T</a:t>
            </a:r>
            <a:r>
              <a:rPr b="0" lang="en-US" sz="2800" spc="-1" strike="noStrike" baseline="-14000">
                <a:solidFill>
                  <a:srgbClr val="333399"/>
                </a:solidFill>
                <a:latin typeface="cmr10"/>
              </a:rPr>
              <a:t>dis</a:t>
            </a:r>
            <a:r>
              <a:rPr b="0" lang="en-US" sz="2800" spc="-1" strike="noStrike">
                <a:solidFill>
                  <a:srgbClr val="333399"/>
                </a:solidFill>
                <a:latin typeface="Mathematica1"/>
                <a:ea typeface="Mathematica1"/>
              </a:rPr>
              <a:t></a:t>
            </a:r>
            <a:r>
              <a:rPr b="0" lang="en-US" sz="2800" spc="-1" strike="noStrike">
                <a:solidFill>
                  <a:srgbClr val="333399"/>
                </a:solidFill>
                <a:latin typeface="Celbobold"/>
              </a:rPr>
              <a:t>: 1.3-1.35Tc for S-wave, 1.1-1.15Tc for P-wave</a:t>
            </a: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25800" indent="-32580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elbobold"/>
              </a:rPr>
              <a:t>Not conclusive</a:t>
            </a: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lvl="1" marL="705600" indent="-2714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Franklin Gothic Medium"/>
              </a:rPr>
              <a:t>Not the best solution, but stability holds even at higher temperatures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085760" indent="-2170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reamregular"/>
              </a:rPr>
              <a:t>S-wave : 1.6Tc ,</a:t>
            </a:r>
            <a:r>
              <a:rPr b="0" lang="ja-JP" sz="2000" spc="-1" strike="noStrike">
                <a:solidFill>
                  <a:srgbClr val="ff0000"/>
                </a:solidFill>
                <a:latin typeface="Creamregular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Mathematica1"/>
                <a:ea typeface="Mathematica1"/>
              </a:rPr>
              <a:t></a:t>
            </a:r>
            <a:r>
              <a:rPr b="0" lang="en-US" sz="2000" spc="-1" strike="noStrike">
                <a:solidFill>
                  <a:srgbClr val="ff0000"/>
                </a:solidFill>
                <a:latin typeface="Creamregular"/>
              </a:rPr>
              <a:t> &gt; 300MeV</a:t>
            </a:r>
            <a:endParaRPr b="0" lang="en-US" sz="2000" spc="-1" strike="noStrike">
              <a:solidFill>
                <a:srgbClr val="000000"/>
              </a:solidFill>
              <a:latin typeface="Creamregular"/>
            </a:endParaRPr>
          </a:p>
          <a:p>
            <a:pPr lvl="2" marL="1085760" indent="-2170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reamregular"/>
              </a:rPr>
              <a:t>P-wave : Borel window closes – Melting into continuum?</a:t>
            </a:r>
            <a:endParaRPr b="0" lang="en-US" sz="2000" spc="-1" strike="noStrike">
              <a:solidFill>
                <a:srgbClr val="000000"/>
              </a:solidFill>
              <a:latin typeface="Creamregular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Mathematica1"/>
                <a:ea typeface="Mathematica1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Difference between </a:t>
            </a:r>
            <a:r>
              <a:rPr b="0" lang="en-US" sz="2400" spc="-1" strike="noStrike">
                <a:solidFill>
                  <a:srgbClr val="000000"/>
                </a:solidFill>
                <a:latin typeface="cmmi12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</a:t>
            </a:r>
            <a:r>
              <a:rPr b="0" lang="en-US" sz="2400" spc="-1" strike="noStrike" baseline="-14000">
                <a:solidFill>
                  <a:srgbClr val="000000"/>
                </a:solidFill>
                <a:latin typeface="cmmi12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 as well as </a:t>
            </a:r>
            <a:r>
              <a:rPr b="0" lang="en-US" sz="24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</a:t>
            </a:r>
            <a:r>
              <a:rPr b="0" lang="en-US" sz="2400" spc="-1" strike="noStrike" baseline="-14000">
                <a:solidFill>
                  <a:srgbClr val="000000"/>
                </a:solidFill>
                <a:latin typeface="cmr10"/>
              </a:rPr>
              <a:t>c0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</a:t>
            </a:r>
            <a:r>
              <a:rPr b="0" lang="en-US" sz="2400" spc="-1" strike="noStrike" baseline="-14000">
                <a:solidFill>
                  <a:srgbClr val="000000"/>
                </a:solidFill>
                <a:latin typeface="cmr10"/>
              </a:rPr>
              <a:t>c1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05600" indent="-27144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How to specify the </a:t>
            </a:r>
            <a:r>
              <a:rPr b="0" lang="en-US" sz="2400" spc="-1" strike="noStrike">
                <a:solidFill>
                  <a:srgbClr val="000000"/>
                </a:solidFill>
                <a:latin typeface="cmmi12"/>
              </a:rPr>
              <a:t>s</a:t>
            </a:r>
            <a:r>
              <a:rPr b="0" lang="en-US" sz="2400" spc="-1" strike="noStrike" baseline="-14000">
                <a:solidFill>
                  <a:srgbClr val="000000"/>
                </a:solidFill>
                <a:latin typeface="cmr10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mmi12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84C7F-BA15-4F48-8382-BCF734E882B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13/2008</a:t>
            </a: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971640" y="1989000"/>
            <a:ext cx="77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elbobold"/>
              </a:rPr>
              <a:t>Backup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7576F-8A63-4264-999C-86B4DB5C8F12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13/2008</a:t>
            </a: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Celbo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lbobold"/>
              </a:rPr>
              <a:t>Introduction : Charmonium in QGP</a:t>
            </a: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lvl="1" marL="914400" indent="-457200">
              <a:spcBef>
                <a:spcPts val="601"/>
              </a:spcBef>
              <a:buClr>
                <a:srgbClr val="3399ff"/>
              </a:buClr>
              <a:buFont typeface="Franklin Gothic Medium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Lattice QCD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914400" indent="-457200">
              <a:spcBef>
                <a:spcPts val="601"/>
              </a:spcBef>
              <a:buClr>
                <a:srgbClr val="3399ff"/>
              </a:buClr>
              <a:buFont typeface="Franklin Gothic Medium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Other approaches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Celbo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lbobold"/>
              </a:rPr>
              <a:t>QCD sum rules</a:t>
            </a: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lvl="1" marL="914400" indent="-457200">
              <a:spcBef>
                <a:spcPts val="601"/>
              </a:spcBef>
              <a:buClr>
                <a:srgbClr val="3399ff"/>
              </a:buClr>
              <a:buFont typeface="Franklin Gothic Medium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Foundation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914400" indent="-457200">
              <a:spcBef>
                <a:spcPts val="601"/>
              </a:spcBef>
              <a:buClr>
                <a:srgbClr val="3399ff"/>
              </a:buClr>
              <a:buFont typeface="Franklin Gothic Medium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Borel transformation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914400" indent="-457200">
              <a:spcBef>
                <a:spcPts val="601"/>
              </a:spcBef>
              <a:buClr>
                <a:srgbClr val="3399ff"/>
              </a:buClr>
              <a:buFont typeface="Franklin Gothic Medium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How to extract physics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Celbo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lbobold"/>
              </a:rPr>
              <a:t>Some preliminary results</a:t>
            </a: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lvl="1" marL="914400" indent="-457200">
              <a:spcBef>
                <a:spcPts val="601"/>
              </a:spcBef>
              <a:buClr>
                <a:srgbClr val="3399ff"/>
              </a:buClr>
              <a:buFont typeface="Franklin Gothic Medium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Stability above </a:t>
            </a:r>
            <a:r>
              <a:rPr b="1" lang="en-US" sz="2400" spc="-1" strike="noStrike">
                <a:solidFill>
                  <a:srgbClr val="000000"/>
                </a:solidFill>
                <a:latin typeface="cmmi12"/>
              </a:rPr>
              <a:t>T</a:t>
            </a:r>
            <a:r>
              <a:rPr b="1" lang="en-US" sz="2400" spc="-1" strike="noStrike" baseline="-14000">
                <a:solidFill>
                  <a:srgbClr val="000000"/>
                </a:solidFill>
                <a:latin typeface="cmmi12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914400" indent="-457200">
              <a:spcBef>
                <a:spcPts val="601"/>
              </a:spcBef>
              <a:buClr>
                <a:srgbClr val="3399ff"/>
              </a:buClr>
              <a:buFont typeface="Franklin Gothic Medium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Dissociation temperatures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914400" indent="-457200">
              <a:spcBef>
                <a:spcPts val="601"/>
              </a:spcBef>
              <a:buClr>
                <a:srgbClr val="3399ff"/>
              </a:buClr>
              <a:buFont typeface="Franklin Gothic Medium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D1653-0094-4B0A-8A5E-2B622C50667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13/2008</a:t>
            </a: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Behavior of mass as a function of </a:t>
            </a:r>
            <a:r>
              <a:rPr b="1" lang="en-US" sz="3200" spc="-1" strike="noStrike">
                <a:solidFill>
                  <a:srgbClr val="000000"/>
                </a:solidFill>
                <a:latin typeface="cmmi12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mr10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lbobold"/>
              </a:rPr>
              <a:t>Ideally, </a:t>
            </a:r>
            <a:r>
              <a:rPr b="1" lang="en-US" sz="2800" spc="-1" strike="noStrike">
                <a:solidFill>
                  <a:srgbClr val="000000"/>
                </a:solidFill>
                <a:latin typeface="cmmi12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elbobold"/>
              </a:rPr>
              <a:t> should not depend on </a:t>
            </a:r>
            <a:r>
              <a:rPr b="1" lang="en-US" sz="2800" spc="-1" strike="noStrike">
                <a:solidFill>
                  <a:srgbClr val="000000"/>
                </a:solidFill>
                <a:latin typeface="cmmi12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mr10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lbobold"/>
              </a:rPr>
              <a:t>ex</a:t>
            </a:r>
            <a:r>
              <a:rPr b="0" lang="ja-JP" sz="2800" spc="-1" strike="noStrike">
                <a:solidFill>
                  <a:srgbClr val="000000"/>
                </a:solidFill>
                <a:latin typeface="cmmi12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cmmi12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mr10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</a:t>
            </a:r>
            <a:r>
              <a:rPr b="0" lang="en-US" sz="2800" spc="-1" strike="noStrike">
                <a:solidFill>
                  <a:srgbClr val="000000"/>
                </a:solidFill>
                <a:latin typeface="Celbobold"/>
              </a:rPr>
              <a:t> w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Celbobold"/>
              </a:rPr>
              <a:t>o continuum</a:t>
            </a:r>
            <a:r>
              <a:rPr b="0" lang="ja-JP" sz="2800" spc="-1" strike="noStrike">
                <a:solidFill>
                  <a:srgbClr val="000000"/>
                </a:solidFill>
                <a:latin typeface="cmmi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1258920" y="2097000"/>
            <a:ext cx="6192720" cy="4334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97" name=""/>
          <p:cNvSpPr/>
          <p:nvPr/>
        </p:nvSpPr>
        <p:spPr>
          <a:xfrm>
            <a:off x="2195640" y="1773360"/>
            <a:ext cx="1008000" cy="2592360"/>
          </a:xfrm>
          <a:prstGeom prst="ellipse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203640" y="1844640"/>
            <a:ext cx="2089080" cy="719280"/>
          </a:xfrm>
          <a:prstGeom prst="line">
            <a:avLst/>
          </a:prstGeom>
          <a:ln w="22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92720" y="1557360"/>
            <a:ext cx="36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Franklin Gothic Medium"/>
              </a:rPr>
              <a:t>Power correction</a:t>
            </a: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 dom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27640" y="2565360"/>
            <a:ext cx="2232000" cy="2016000"/>
          </a:xfrm>
          <a:prstGeom prst="ellipse">
            <a:avLst/>
          </a:prstGeom>
          <a:noFill/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84720" y="465300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Franklin Gothic Medium"/>
              </a:rPr>
              <a:t>Continuum</a:t>
            </a: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 dom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03640" y="4149720"/>
            <a:ext cx="504720" cy="360360"/>
          </a:xfrm>
          <a:prstGeom prst="rect">
            <a:avLst/>
          </a:prstGeom>
          <a:solidFill>
            <a:srgbClr val="ffcc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95640" y="450864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Franklin Gothic Medium"/>
              </a:rPr>
              <a:t>Best approxim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2034D-11F9-4C51-A341-3E80C7385A9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13/2008</a:t>
            </a:r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Effect of Continuum</a:t>
            </a:r>
            <a:endParaRPr b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lbobold"/>
              </a:rPr>
              <a:t>Reducing high energy part</a:t>
            </a: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Become flat at some </a:t>
            </a:r>
            <a:r>
              <a:rPr b="0" lang="en-US" sz="2400" spc="-1" strike="noStrike">
                <a:solidFill>
                  <a:srgbClr val="000000"/>
                </a:solidFill>
                <a:latin typeface="cmmi12"/>
              </a:rPr>
              <a:t>s</a:t>
            </a:r>
            <a:r>
              <a:rPr b="0" lang="en-US" sz="2400" spc="-1" strike="noStrike" baseline="-14000">
                <a:solidFill>
                  <a:srgbClr val="000000"/>
                </a:solidFill>
                <a:latin typeface="cmr10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187280" y="1628640"/>
            <a:ext cx="6050160" cy="4233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07" name=""/>
          <p:cNvSpPr/>
          <p:nvPr/>
        </p:nvSpPr>
        <p:spPr>
          <a:xfrm>
            <a:off x="5148360" y="2421000"/>
            <a:ext cx="288720" cy="2232000"/>
          </a:xfrm>
          <a:custGeom>
            <a:avLst/>
            <a:gdLst/>
            <a:ahLst/>
            <a:rect l="l" t="t" r="r" b="b"/>
            <a:pathLst>
              <a:path w="182" h="1406">
                <a:moveTo>
                  <a:pt x="0" y="0"/>
                </a:moveTo>
                <a:cubicBezTo>
                  <a:pt x="53" y="268"/>
                  <a:pt x="106" y="537"/>
                  <a:pt x="136" y="771"/>
                </a:cubicBezTo>
                <a:cubicBezTo>
                  <a:pt x="166" y="1005"/>
                  <a:pt x="174" y="1205"/>
                  <a:pt x="182" y="1406"/>
                </a:cubicBezTo>
              </a:path>
            </a:pathLst>
          </a:custGeom>
          <a:noFill/>
          <a:ln w="57240">
            <a:solidFill>
              <a:srgbClr val="3333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4B7D8-6D16-4CC4-9A0A-762596F1CBA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13/2008</a:t>
            </a: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Effect of Width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(see Lee, Morita, Nielsen, 0808.3168)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12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lbobold"/>
              </a:rPr>
              <a:t>Change of RHS with varying </a:t>
            </a:r>
            <a:r>
              <a:rPr b="0" lang="en-US" sz="28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</a:t>
            </a: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lvl="1" marL="743040" indent="-285840" algn="r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Rise at small </a:t>
            </a:r>
            <a:r>
              <a:rPr b="0" lang="en-US" sz="2400" spc="-1" strike="noStrike">
                <a:solidFill>
                  <a:srgbClr val="000000"/>
                </a:solidFill>
                <a:latin typeface="cmmi12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mr10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539640" y="1557360"/>
            <a:ext cx="7594560" cy="965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539640" y="2565360"/>
            <a:ext cx="5040360" cy="35258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FEE3A-1F8D-494D-9C30-D006DCD2C87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13/2008</a:t>
            </a: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Borel curve at </a:t>
            </a:r>
            <a:r>
              <a:rPr b="1" lang="en-US" sz="3200" spc="-1" strike="noStrike">
                <a:solidFill>
                  <a:srgbClr val="000000"/>
                </a:solidFill>
                <a:latin typeface="cmr10"/>
              </a:rPr>
              <a:t>1.5</a:t>
            </a:r>
            <a:r>
              <a:rPr b="1" lang="en-US" sz="3200" spc="-1" strike="noStrike">
                <a:solidFill>
                  <a:srgbClr val="000000"/>
                </a:solidFill>
                <a:latin typeface="cmmi12"/>
              </a:rPr>
              <a:t>T</a:t>
            </a:r>
            <a:r>
              <a:rPr b="1" lang="en-US" sz="3200" spc="-1" strike="noStrike" baseline="-14000">
                <a:solidFill>
                  <a:srgbClr val="000000"/>
                </a:solidFill>
                <a:latin typeface="cmmi12"/>
              </a:rPr>
              <a:t>c</a:t>
            </a:r>
            <a:endParaRPr b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077240" cy="4953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56F0C-C297-475C-9890-1F35B6B61DD1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13/2008</a:t>
            </a: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Mass-width relation </a:t>
            </a:r>
            <a:r>
              <a:rPr b="1" lang="en-US" sz="3200" spc="-1" strike="noStrike">
                <a:solidFill>
                  <a:srgbClr val="000000"/>
                </a:solidFill>
                <a:latin typeface="cmmi12"/>
              </a:rPr>
              <a:t>J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</a:t>
            </a:r>
            <a:endParaRPr b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0772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CFED9-DA2F-4F90-9B61-8D7D14FDBEC9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13/2008</a:t>
            </a: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Mass-width relation </a:t>
            </a:r>
            <a:r>
              <a:rPr b="1" lang="en-US" sz="32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</a:t>
            </a:r>
            <a:r>
              <a:rPr b="1" lang="en-US" sz="3200" spc="-1" strike="noStrike" baseline="-14000">
                <a:solidFill>
                  <a:srgbClr val="000000"/>
                </a:solidFill>
                <a:latin typeface="cmmi12"/>
              </a:rPr>
              <a:t>c</a:t>
            </a:r>
            <a:endParaRPr b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lbobold"/>
              </a:rPr>
              <a:t>May survive at high T if s</a:t>
            </a:r>
            <a:r>
              <a:rPr b="0" lang="en-US" sz="2800" spc="-1" strike="noStrike" baseline="-14000">
                <a:solidFill>
                  <a:srgbClr val="000000"/>
                </a:solidFill>
                <a:latin typeface="Celbobold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elbobold"/>
              </a:rPr>
              <a:t> increases?</a:t>
            </a: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077240" cy="49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1BD36-2E8E-4104-B273-FDDC876B021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13/2008</a:t>
            </a: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Charmonium in QGP : lattice QCD</a:t>
            </a:r>
            <a:endParaRPr b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13680" indent="-136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lbobold"/>
              </a:rPr>
              <a:t>Survival in the deconfined phase?</a:t>
            </a: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lvl="1" marL="29520" indent="-1116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Spectral function from MEM : </a:t>
            </a:r>
            <a:r>
              <a:rPr b="1" lang="en-US" sz="2400" spc="-1" strike="noStrike">
                <a:solidFill>
                  <a:srgbClr val="000000"/>
                </a:solidFill>
                <a:latin typeface="cmmi12"/>
              </a:rPr>
              <a:t>T</a:t>
            </a:r>
            <a:r>
              <a:rPr b="1" lang="en-US" sz="2400" spc="-1" strike="noStrike" baseline="-14000">
                <a:solidFill>
                  <a:srgbClr val="000000"/>
                </a:solidFill>
                <a:latin typeface="cmr10"/>
              </a:rPr>
              <a:t>dis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 ~ 1.5-2 </a:t>
            </a:r>
            <a:r>
              <a:rPr b="1" lang="en-US" sz="2400" spc="-1" strike="noStrike">
                <a:solidFill>
                  <a:srgbClr val="000000"/>
                </a:solidFill>
                <a:latin typeface="cmmi12"/>
              </a:rPr>
              <a:t>T</a:t>
            </a:r>
            <a:r>
              <a:rPr b="1" lang="en-US" sz="2400" spc="-1" strike="noStrike" baseline="-14000">
                <a:solidFill>
                  <a:srgbClr val="000000"/>
                </a:solidFill>
                <a:latin typeface="cmmi12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 for S-wave 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4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(Asakawa-Hatsuda, Datta et al., Umeda et al., Aarts et al, ...)</a:t>
            </a:r>
            <a:endParaRPr b="0" lang="en-US" sz="1800" spc="-1" strike="noStrike">
              <a:solidFill>
                <a:srgbClr val="000000"/>
              </a:solidFill>
              <a:latin typeface="Creamregular"/>
            </a:endParaRPr>
          </a:p>
          <a:p>
            <a:pPr lvl="2" marL="4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reamregular"/>
            </a:endParaRPr>
          </a:p>
          <a:p>
            <a:pPr lvl="2" marL="45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reamregular"/>
            </a:endParaRPr>
          </a:p>
          <a:p>
            <a:pPr lvl="2" marL="45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reamregular"/>
            </a:endParaRPr>
          </a:p>
          <a:p>
            <a:pPr lvl="2" marL="45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reamregular"/>
            </a:endParaRPr>
          </a:p>
          <a:p>
            <a:pPr lvl="2" marL="45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reamregular"/>
            </a:endParaRPr>
          </a:p>
          <a:p>
            <a:pPr lvl="2" marL="45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reamregular"/>
            </a:endParaRPr>
          </a:p>
          <a:p>
            <a:pPr lvl="2" marL="45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reamregular"/>
            </a:endParaRPr>
          </a:p>
          <a:p>
            <a:pPr lvl="2" marL="45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reamregular"/>
            </a:endParaRPr>
          </a:p>
          <a:p>
            <a:pPr lvl="2" marL="45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reamregular"/>
            </a:endParaRPr>
          </a:p>
          <a:p>
            <a:pPr lvl="1" marL="29520" indent="-1116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BS amplitude : unchanged above </a:t>
            </a:r>
            <a:r>
              <a:rPr b="1" lang="en-US" sz="2400" spc="-1" strike="noStrike">
                <a:solidFill>
                  <a:srgbClr val="000000"/>
                </a:solidFill>
                <a:latin typeface="cmmi12"/>
              </a:rPr>
              <a:t>T</a:t>
            </a:r>
            <a:r>
              <a:rPr b="1" lang="en-US" sz="2400" spc="-1" strike="noStrike" baseline="-14000">
                <a:solidFill>
                  <a:srgbClr val="000000"/>
                </a:solidFill>
                <a:latin typeface="cmmi12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45720" indent="-900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reamregular"/>
              </a:rPr>
              <a:t>Even P-wave can survive?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(Umeda et al.)</a:t>
            </a:r>
            <a:endParaRPr b="0" lang="en-US" sz="2000" spc="-1" strike="noStrike">
              <a:solidFill>
                <a:srgbClr val="000000"/>
              </a:solidFill>
              <a:latin typeface="Creamregular"/>
            </a:endParaRPr>
          </a:p>
        </p:txBody>
      </p:sp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539640" y="2565360"/>
            <a:ext cx="2260800" cy="2773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3059280" y="2637000"/>
            <a:ext cx="2808000" cy="2097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99" name=""/>
          <p:cNvSpPr/>
          <p:nvPr/>
        </p:nvSpPr>
        <p:spPr>
          <a:xfrm>
            <a:off x="900000" y="4221000"/>
            <a:ext cx="1008000" cy="6426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fe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Medium"/>
                <a:ea typeface="メイリオ"/>
              </a:rPr>
              <a:t>que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76720" y="3500280"/>
            <a:ext cx="574920" cy="6426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fe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Medium"/>
                <a:ea typeface="メイリオ"/>
              </a:rPr>
              <a:t>F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7964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8000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6084720" y="2708280"/>
            <a:ext cx="2880000" cy="23115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04" name=""/>
          <p:cNvSpPr/>
          <p:nvPr/>
        </p:nvSpPr>
        <p:spPr>
          <a:xfrm flipV="1">
            <a:off x="6300720" y="5229360"/>
            <a:ext cx="287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97BEC-E04D-45AC-A63D-D8F1526E606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13/2008</a:t>
            </a: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223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Charmonium in QGP : Other approaches</a:t>
            </a:r>
            <a:endParaRPr b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lbobold"/>
              </a:rPr>
              <a:t>Potential models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(Wong, Alberico et al., Mocsy et al.)</a:t>
            </a:r>
            <a:endParaRPr b="0" lang="en-US" sz="1800" spc="-1" strike="noStrike">
              <a:solidFill>
                <a:srgbClr val="000000"/>
              </a:solidFill>
              <a:latin typeface="Celbobold"/>
            </a:endParaRPr>
          </a:p>
          <a:p>
            <a:pPr lvl="1" marL="727920" indent="-280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Traditional/Intuitive method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119960" indent="-223920">
              <a:spcBef>
                <a:spcPts val="451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reamregular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reamregular"/>
              </a:rPr>
              <a:t>Decrease of string tension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(Hashimoto et al., ’86)</a:t>
            </a:r>
            <a:endParaRPr b="0" lang="en-US" sz="1800" spc="-1" strike="noStrike">
              <a:solidFill>
                <a:srgbClr val="000000"/>
              </a:solidFill>
              <a:latin typeface="Creamregular"/>
            </a:endParaRPr>
          </a:p>
          <a:p>
            <a:pPr lvl="2" marL="1119960" indent="-223920">
              <a:spcBef>
                <a:spcPts val="451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reamregular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reamregular"/>
              </a:rPr>
              <a:t>Debye screening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(Matsui-Satz ’86)</a:t>
            </a:r>
            <a:endParaRPr b="0" lang="en-US" sz="1800" spc="-1" strike="noStrike">
              <a:solidFill>
                <a:srgbClr val="000000"/>
              </a:solidFill>
              <a:latin typeface="Creamregular"/>
            </a:endParaRPr>
          </a:p>
          <a:p>
            <a:pPr lvl="1" marL="727920" indent="-280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Ambiguity in the choice of lattice-based potential for Schrödinger Eq.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119960" indent="-22392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reamregular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mmi12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reamregular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mmi12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Creamregular"/>
              </a:rPr>
              <a:t> or...</a:t>
            </a:r>
            <a:endParaRPr b="0" lang="en-US" sz="2000" spc="-1" strike="noStrike">
              <a:solidFill>
                <a:srgbClr val="000000"/>
              </a:solidFill>
              <a:latin typeface="Creamregular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mmi12"/>
              </a:rPr>
              <a:t>G </a:t>
            </a:r>
            <a:r>
              <a:rPr b="1" lang="en-US" sz="2400" spc="-1" strike="noStrike">
                <a:solidFill>
                  <a:srgbClr val="000000"/>
                </a:solidFill>
                <a:latin typeface="cmr10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</a:t>
            </a:r>
            <a:r>
              <a:rPr b="1" lang="en-US" sz="2400" spc="-1" strike="noStrike">
                <a:solidFill>
                  <a:srgbClr val="000000"/>
                </a:solidFill>
                <a:latin typeface="cmr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 agrees with lattice, but melting just above </a:t>
            </a:r>
            <a:r>
              <a:rPr b="1" lang="en-US" sz="2400" spc="-1" strike="noStrike">
                <a:solidFill>
                  <a:srgbClr val="000000"/>
                </a:solidFill>
                <a:latin typeface="cmmi12"/>
              </a:rPr>
              <a:t>T</a:t>
            </a:r>
            <a:r>
              <a:rPr b="1" lang="en-US" sz="2400" spc="-1" strike="noStrike" baseline="-14000">
                <a:solidFill>
                  <a:srgbClr val="000000"/>
                </a:solidFill>
                <a:latin typeface="cmmi12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(Mocsy et al)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  <a:p>
            <a:pPr marL="335880" indent="-335880">
              <a:spcBef>
                <a:spcPts val="451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lbobold"/>
              </a:rPr>
              <a:t>T-matrix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(Rapp et al.)</a:t>
            </a:r>
            <a:endParaRPr b="0" lang="en-US" sz="1800" spc="-1" strike="noStrike">
              <a:solidFill>
                <a:srgbClr val="000000"/>
              </a:solidFill>
              <a:latin typeface="Celbobold"/>
            </a:endParaRPr>
          </a:p>
          <a:p>
            <a:pPr lvl="1" marL="727920" indent="-2800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Based on the lattice-based potential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335880" indent="-335880">
              <a:spcBef>
                <a:spcPts val="451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lbobold"/>
              </a:rPr>
              <a:t>NRQCD at finite </a:t>
            </a:r>
            <a:r>
              <a:rPr b="1" lang="en-US" sz="2800" spc="-1" strike="noStrike">
                <a:solidFill>
                  <a:srgbClr val="000000"/>
                </a:solidFill>
                <a:latin typeface="cmmi12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elbo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(Brambilla et al)</a:t>
            </a:r>
            <a:endParaRPr b="0" lang="en-US" sz="1800" spc="-1" strike="noStrike">
              <a:solidFill>
                <a:srgbClr val="000000"/>
              </a:solidFill>
              <a:latin typeface="Celbobold"/>
            </a:endParaRPr>
          </a:p>
          <a:p>
            <a:pPr lvl="1" marL="727920" indent="-280080"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No quantitave results yet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32CED-301D-4DC3-A5E5-BD33486CCBB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13/2008</a:t>
            </a: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Charmonium in QGP : </a:t>
            </a:r>
            <a:r>
              <a:rPr b="1" lang="en-US" sz="3200" spc="-1" strike="noStrike">
                <a:solidFill>
                  <a:srgbClr val="3333ff"/>
                </a:solidFill>
                <a:latin typeface="Constantia"/>
              </a:rPr>
              <a:t>Our approach</a:t>
            </a:r>
            <a:endParaRPr b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lbobold"/>
              </a:rPr>
              <a:t>QCD sum rules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(Shifman et al., ’79)</a:t>
            </a:r>
            <a:endParaRPr b="0" lang="en-US" sz="1800" spc="-1" strike="noStrike">
              <a:solidFill>
                <a:srgbClr val="000000"/>
              </a:solidFill>
              <a:latin typeface="Celbobold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Traditional method for bound states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perturbative QCD + condensates + quark-hadron duality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Franklin Gothic Medium"/>
              </a:rPr>
              <a:t>Temperature dependence of condensates from lattice QCD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51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lbobold"/>
              </a:rPr>
              <a:t>Summary of previous works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(PRL100,PRC77,0808.1153)</a:t>
            </a:r>
            <a:endParaRPr b="0" lang="en-US" sz="1800" spc="-1" strike="noStrike">
              <a:solidFill>
                <a:srgbClr val="000000"/>
              </a:solidFill>
              <a:latin typeface="Celbobold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For pure gluonic matter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Gluon condensates suddenly decrease across </a:t>
            </a:r>
            <a:r>
              <a:rPr b="1" lang="en-US" sz="2400" spc="-1" strike="noStrike">
                <a:solidFill>
                  <a:srgbClr val="000000"/>
                </a:solidFill>
                <a:latin typeface="cmmi12"/>
              </a:rPr>
              <a:t>T</a:t>
            </a:r>
            <a:r>
              <a:rPr b="1" lang="en-US" sz="2400" spc="-1" strike="noStrike" baseline="-14000">
                <a:solidFill>
                  <a:srgbClr val="000000"/>
                </a:solidFill>
                <a:latin typeface="cmmi12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Mass and/or width suddenly decreases/increases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Larger mass shift for P-wave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Franklin Gothic Medium"/>
              </a:rPr>
              <a:t>Applicability : up to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mmi12"/>
              </a:rPr>
              <a:t>T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Franklin Gothic Medium"/>
              </a:rPr>
              <a:t>~1.05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mmi12"/>
              </a:rPr>
              <a:t>T</a:t>
            </a:r>
            <a:r>
              <a:rPr b="1" lang="en-US" sz="2400" spc="-1" strike="noStrike" u="sng" baseline="-14000">
                <a:solidFill>
                  <a:srgbClr val="ff0000"/>
                </a:solidFill>
                <a:uFillTx/>
                <a:latin typeface="cmmi12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1"/>
          <a:stretch/>
        </p:blipFill>
        <p:spPr>
          <a:xfrm>
            <a:off x="179280" y="907920"/>
            <a:ext cx="3384720" cy="2368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10" name="" descr=""/>
          <p:cNvPicPr/>
          <p:nvPr/>
        </p:nvPicPr>
        <p:blipFill>
          <a:blip r:embed="rId12"/>
          <a:stretch/>
        </p:blipFill>
        <p:spPr>
          <a:xfrm>
            <a:off x="3851280" y="907920"/>
            <a:ext cx="3456000" cy="24195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11" name="" descr=""/>
          <p:cNvPicPr/>
          <p:nvPr/>
        </p:nvPicPr>
        <p:blipFill>
          <a:blip r:embed="rId13"/>
          <a:stretch/>
        </p:blipFill>
        <p:spPr>
          <a:xfrm>
            <a:off x="5076720" y="3716280"/>
            <a:ext cx="3598920" cy="25178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F01EB-1481-4384-A402-C900A796FCB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13/2008</a:t>
            </a: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QCD Sum Rules at Finite Temperature</a:t>
            </a:r>
            <a:endParaRPr b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lbobold"/>
              </a:rPr>
              <a:t>Start with current-current correlation function</a:t>
            </a: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lbobold"/>
              </a:rPr>
              <a:t>Take spacelike momentum : </a:t>
            </a:r>
            <a:r>
              <a:rPr b="0" lang="en-US" sz="2800" spc="-1" strike="noStrike">
                <a:solidFill>
                  <a:srgbClr val="000000"/>
                </a:solidFill>
                <a:latin typeface="cmmi12"/>
              </a:rPr>
              <a:t>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mr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mr10"/>
              </a:rPr>
              <a:t> = -</a:t>
            </a:r>
            <a:r>
              <a:rPr b="0" lang="en-US" sz="2800" spc="-1" strike="noStrike">
                <a:solidFill>
                  <a:srgbClr val="000000"/>
                </a:solidFill>
                <a:latin typeface="cmmi12"/>
              </a:rPr>
              <a:t>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mr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mr10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athematica1"/>
                <a:ea typeface="Mathematica1"/>
              </a:rPr>
              <a:t></a:t>
            </a:r>
            <a:r>
              <a:rPr b="0" lang="en-US" sz="2800" spc="-1" strike="noStrike">
                <a:solidFill>
                  <a:srgbClr val="000000"/>
                </a:solidFill>
                <a:latin typeface="cmr10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lvl="1"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OPE and truncation valid for</a:t>
            </a:r>
            <a:r>
              <a:rPr b="0" lang="ja-JP" sz="2400" spc="-1" strike="noStrike">
                <a:solidFill>
                  <a:srgbClr val="000000"/>
                </a:solidFill>
                <a:latin typeface="cmr10"/>
              </a:rPr>
              <a:t>：</a:t>
            </a:r>
            <a:r>
              <a:rPr b="0" lang="ja-JP" sz="24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mr10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mmi12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mr10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Mathematica1"/>
                <a:ea typeface="Mathematica1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cmmi12"/>
              </a:rPr>
              <a:t>Q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athematica1"/>
                <a:ea typeface="Mathematica1"/>
              </a:rPr>
              <a:t>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</a:t>
            </a:r>
            <a:r>
              <a:rPr b="0" lang="en-US" sz="2400" spc="-1" strike="noStrike" baseline="30000">
                <a:solidFill>
                  <a:srgbClr val="000000"/>
                </a:solidFill>
                <a:latin typeface="Mathematica1"/>
                <a:ea typeface="Mathematica1"/>
              </a:rPr>
              <a:t>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Franklin Gothic Medium"/>
              </a:rPr>
              <a:t>QCD, </a:t>
            </a:r>
            <a:r>
              <a:rPr b="1" lang="en-US" sz="2400" spc="-1" strike="noStrike">
                <a:solidFill>
                  <a:srgbClr val="000000"/>
                </a:solidFill>
                <a:latin typeface="cmmi12"/>
              </a:rPr>
              <a:t>T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mr10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lbobold"/>
              </a:rPr>
              <a:t>Both heat bath and meson at rest:</a:t>
            </a:r>
            <a:r>
              <a:rPr b="0" lang="en-US" sz="2800" spc="-1" strike="noStrike">
                <a:solidFill>
                  <a:srgbClr val="000000"/>
                </a:solidFill>
                <a:latin typeface="cmr10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2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cmr10"/>
              </a:rPr>
              <a:t> = (</a:t>
            </a:r>
            <a:r>
              <a:rPr b="0" lang="en-US" sz="28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</a:t>
            </a:r>
            <a:r>
              <a:rPr b="0" lang="en-US" sz="2800" spc="-1" strike="noStrike">
                <a:solidFill>
                  <a:srgbClr val="000000"/>
                </a:solidFill>
                <a:latin typeface="cmr10"/>
              </a:rPr>
              <a:t>0)</a:t>
            </a: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lbobold"/>
              </a:rPr>
              <a:t>Dispersion relation </a:t>
            </a:r>
            <a:r>
              <a:rPr b="0" lang="en-US" sz="2800" spc="-1" strike="noStrike">
                <a:solidFill>
                  <a:srgbClr val="000000"/>
                </a:solidFill>
                <a:latin typeface="cmr10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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mr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mr10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cmr10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lvl="1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1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2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reamregular"/>
              </a:rPr>
              <a:t>OPE side : in terms of QCD</a:t>
            </a:r>
            <a:endParaRPr b="0" lang="en-US" sz="2000" spc="-1" strike="noStrike">
              <a:solidFill>
                <a:srgbClr val="000000"/>
              </a:solidFill>
              <a:latin typeface="Creamregular"/>
            </a:endParaRPr>
          </a:p>
          <a:p>
            <a:pPr lvl="2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reamregular"/>
              </a:rPr>
              <a:t>Temperature through condensates</a:t>
            </a:r>
            <a:endParaRPr b="0" lang="en-US" sz="2000" spc="-1" strike="noStrike">
              <a:solidFill>
                <a:srgbClr val="000000"/>
              </a:solidFill>
              <a:latin typeface="Creamregular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1619280" y="4724280"/>
            <a:ext cx="3378240" cy="736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979640" y="5516640"/>
            <a:ext cx="288720" cy="2872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5218920" y="4869720"/>
            <a:ext cx="288720" cy="2872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96000" y="4437000"/>
            <a:ext cx="352908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reamregular"/>
                <a:ea typeface="GungsuhChe"/>
              </a:rPr>
              <a:t>Phenomenological side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reamregular"/>
                <a:ea typeface="GungsuhChe"/>
              </a:rPr>
              <a:t>Hadron spectral d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20131200">
            <a:off x="4716360" y="5516280"/>
            <a:ext cx="1297080" cy="360360"/>
          </a:xfrm>
          <a:prstGeom prst="leftRightArrow">
            <a:avLst>
              <a:gd name="adj1" fmla="val 50000"/>
              <a:gd name="adj2" fmla="val 71655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68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19640" y="5950080"/>
            <a:ext cx="3384720" cy="50328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elboregular"/>
                <a:ea typeface="HG丸ｺﾞｼｯｸM-PRO"/>
              </a:rPr>
              <a:t>Matching → Hadron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900000" y="1628640"/>
            <a:ext cx="4469040" cy="687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5651640" y="1628640"/>
            <a:ext cx="3313080" cy="601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622920" y="90792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メイリオ"/>
              </a:rPr>
              <a:t>(Hatsuda-Koike-Lee ’9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63736-B20A-4B16-A168-336FE4A3277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13/2008</a:t>
            </a: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Borel transformation</a:t>
            </a:r>
            <a:endParaRPr b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lbobold"/>
              </a:rPr>
              <a:t>Definition </a:t>
            </a:r>
            <a:r>
              <a:rPr b="1" lang="en-US" sz="2800" spc="-1" strike="noStrike">
                <a:solidFill>
                  <a:srgbClr val="000000"/>
                </a:solidFill>
                <a:latin typeface="cmr10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mmi12"/>
              </a:rPr>
              <a:t>Q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mr10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mr10"/>
              </a:rPr>
              <a:t>=-</a:t>
            </a:r>
            <a:r>
              <a:rPr b="1" lang="en-US" sz="28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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mr10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mr10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lbobold"/>
              </a:rPr>
              <a:t>Physical meanings</a:t>
            </a: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Validating perturbation by large </a:t>
            </a:r>
            <a:r>
              <a:rPr b="1" lang="en-US" sz="2400" spc="-1" strike="noStrike">
                <a:solidFill>
                  <a:srgbClr val="000000"/>
                </a:solidFill>
                <a:latin typeface="cmmi12"/>
              </a:rPr>
              <a:t>Q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mr10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 as well as “feeling” resonance at large </a:t>
            </a:r>
            <a:r>
              <a:rPr b="1" lang="en-US" sz="2400" spc="-1" strike="noStrike">
                <a:solidFill>
                  <a:srgbClr val="000000"/>
                </a:solidFill>
                <a:latin typeface="cmmi12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Exponential suppression of high-energy part of </a:t>
            </a:r>
            <a:r>
              <a:rPr b="0" lang="en-US" sz="24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cmr10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mmi12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mr10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900000" y="1557360"/>
            <a:ext cx="5256360" cy="1585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643280" y="2708280"/>
            <a:ext cx="289080" cy="216000"/>
          </a:xfrm>
          <a:prstGeom prst="leftArrow">
            <a:avLst>
              <a:gd name="adj1" fmla="val 50000"/>
              <a:gd name="adj2" fmla="val 334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48360" y="2565360"/>
            <a:ext cx="28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メイリオ"/>
              </a:rPr>
              <a:t>Dispersion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4941720"/>
            <a:ext cx="2697480" cy="1471680"/>
          </a:xfrm>
          <a:custGeom>
            <a:avLst/>
            <a:gdLst/>
            <a:ahLst/>
            <a:rect l="l" t="t" r="r" b="b"/>
            <a:pathLst>
              <a:path w="1906" h="1187">
                <a:moveTo>
                  <a:pt x="0" y="1103"/>
                </a:moveTo>
                <a:cubicBezTo>
                  <a:pt x="8" y="566"/>
                  <a:pt x="16" y="30"/>
                  <a:pt x="46" y="15"/>
                </a:cubicBezTo>
                <a:cubicBezTo>
                  <a:pt x="76" y="0"/>
                  <a:pt x="84" y="839"/>
                  <a:pt x="182" y="1013"/>
                </a:cubicBezTo>
                <a:cubicBezTo>
                  <a:pt x="280" y="1187"/>
                  <a:pt x="500" y="1134"/>
                  <a:pt x="636" y="1058"/>
                </a:cubicBezTo>
                <a:cubicBezTo>
                  <a:pt x="772" y="982"/>
                  <a:pt x="855" y="687"/>
                  <a:pt x="998" y="559"/>
                </a:cubicBezTo>
                <a:cubicBezTo>
                  <a:pt x="1141" y="431"/>
                  <a:pt x="1346" y="332"/>
                  <a:pt x="1497" y="287"/>
                </a:cubicBezTo>
                <a:cubicBezTo>
                  <a:pt x="1648" y="242"/>
                  <a:pt x="1777" y="264"/>
                  <a:pt x="1906" y="287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3564000" y="5516640"/>
            <a:ext cx="2065320" cy="496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753160" y="4941720"/>
            <a:ext cx="3027240" cy="1471680"/>
          </a:xfrm>
          <a:custGeom>
            <a:avLst/>
            <a:gdLst/>
            <a:ahLst/>
            <a:rect l="l" t="t" r="r" b="b"/>
            <a:pathLst>
              <a:path w="1907" h="927">
                <a:moveTo>
                  <a:pt x="0" y="841"/>
                </a:moveTo>
                <a:cubicBezTo>
                  <a:pt x="32" y="821"/>
                  <a:pt x="148" y="856"/>
                  <a:pt x="190" y="718"/>
                </a:cubicBezTo>
                <a:cubicBezTo>
                  <a:pt x="232" y="580"/>
                  <a:pt x="220" y="0"/>
                  <a:pt x="250" y="12"/>
                </a:cubicBezTo>
                <a:cubicBezTo>
                  <a:pt x="280" y="24"/>
                  <a:pt x="284" y="655"/>
                  <a:pt x="371" y="791"/>
                </a:cubicBezTo>
                <a:cubicBezTo>
                  <a:pt x="459" y="927"/>
                  <a:pt x="653" y="831"/>
                  <a:pt x="776" y="826"/>
                </a:cubicBezTo>
                <a:cubicBezTo>
                  <a:pt x="899" y="821"/>
                  <a:pt x="979" y="769"/>
                  <a:pt x="1107" y="762"/>
                </a:cubicBezTo>
                <a:cubicBezTo>
                  <a:pt x="1235" y="755"/>
                  <a:pt x="1410" y="777"/>
                  <a:pt x="1543" y="785"/>
                </a:cubicBezTo>
                <a:cubicBezTo>
                  <a:pt x="1676" y="793"/>
                  <a:pt x="1831" y="807"/>
                  <a:pt x="1907" y="813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94B4F-254B-4ACC-979B-DF107AB3628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13/2008</a:t>
            </a: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OPE side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(Bertlmann, ’82)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lbobold"/>
              </a:rPr>
              <a:t>Borel-transformed correlation function</a:t>
            </a: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reamregular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reamregular"/>
              </a:rPr>
              <a:t>Bare loop     radiative correction   gluon condensates</a:t>
            </a:r>
            <a:endParaRPr b="0" lang="en-US" sz="2000" spc="-1" strike="noStrike">
              <a:solidFill>
                <a:srgbClr val="000000"/>
              </a:solidFill>
              <a:latin typeface="Creamregular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8425080" cy="3985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084720" y="2492280"/>
            <a:ext cx="1295640" cy="484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596360" y="2492280"/>
            <a:ext cx="1296720" cy="507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516720" y="1484280"/>
            <a:ext cx="2449440" cy="647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164360" y="1052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mmi12"/>
                <a:ea typeface="メイリオ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メイリオ"/>
              </a:rPr>
              <a:t>-</a:t>
            </a:r>
            <a:r>
              <a:rPr b="0" lang="en-US" sz="2400" spc="-1" strike="noStrike">
                <a:solidFill>
                  <a:srgbClr val="ff0000"/>
                </a:solidFill>
                <a:latin typeface="Franklin Gothic Medium"/>
                <a:ea typeface="メイリオ"/>
              </a:rPr>
              <a:t>d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4643280" y="3141720"/>
            <a:ext cx="4356360" cy="3051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826920" y="2492280"/>
            <a:ext cx="3281400" cy="3961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AAFE5-E358-42C1-A3F5-E8254A9ACEB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13/2008</a:t>
            </a: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How to extract physics</a:t>
            </a:r>
            <a:endParaRPr b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07560"/>
            <a:ext cx="83822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lbobold"/>
              </a:rPr>
              <a:t>Modeling phen. side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mmi12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r10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elbobold"/>
              </a:rPr>
              <a:t> : threshold</a:t>
            </a: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lbobold"/>
              </a:rPr>
              <a:t>Moving continuum part to OPE side</a:t>
            </a: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lbobold"/>
              </a:rPr>
              <a:t>Taking ratio after derivative</a:t>
            </a:r>
            <a:endParaRPr b="0" lang="en-US" sz="2800" spc="-1" strike="noStrike">
              <a:solidFill>
                <a:srgbClr val="000000"/>
              </a:solidFill>
              <a:latin typeface="Celbobold"/>
            </a:endParaRPr>
          </a:p>
          <a:p>
            <a:pPr lvl="1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1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1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1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Fixing </a:t>
            </a:r>
            <a:r>
              <a:rPr b="1" lang="en-US" sz="2400" spc="-1" strike="noStrike">
                <a:solidFill>
                  <a:srgbClr val="000000"/>
                </a:solidFill>
                <a:latin typeface="cmmi12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mr10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</a:t>
            </a: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mmi12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mr10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, solve the equation for </a:t>
            </a:r>
            <a:r>
              <a:rPr b="1" lang="en-US" sz="2400" spc="-1" strike="noStrike">
                <a:solidFill>
                  <a:srgbClr val="000000"/>
                </a:solidFill>
                <a:latin typeface="cmmi12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755640" y="2637000"/>
            <a:ext cx="3166920" cy="8874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140360" y="2565360"/>
            <a:ext cx="1871640" cy="792360"/>
          </a:xfrm>
          <a:custGeom>
            <a:avLst/>
            <a:gdLst/>
            <a:ahLst/>
            <a:rect l="l" t="t" r="r" b="b"/>
            <a:pathLst>
              <a:path w="1906" h="1187">
                <a:moveTo>
                  <a:pt x="0" y="1103"/>
                </a:moveTo>
                <a:cubicBezTo>
                  <a:pt x="8" y="566"/>
                  <a:pt x="16" y="30"/>
                  <a:pt x="46" y="15"/>
                </a:cubicBezTo>
                <a:cubicBezTo>
                  <a:pt x="76" y="0"/>
                  <a:pt x="84" y="839"/>
                  <a:pt x="182" y="1013"/>
                </a:cubicBezTo>
                <a:cubicBezTo>
                  <a:pt x="280" y="1187"/>
                  <a:pt x="500" y="1134"/>
                  <a:pt x="636" y="1058"/>
                </a:cubicBezTo>
                <a:cubicBezTo>
                  <a:pt x="772" y="982"/>
                  <a:pt x="855" y="687"/>
                  <a:pt x="998" y="559"/>
                </a:cubicBezTo>
                <a:cubicBezTo>
                  <a:pt x="1141" y="431"/>
                  <a:pt x="1346" y="332"/>
                  <a:pt x="1497" y="287"/>
                </a:cubicBezTo>
                <a:cubicBezTo>
                  <a:pt x="1648" y="242"/>
                  <a:pt x="1777" y="264"/>
                  <a:pt x="1906" y="287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3280" y="2637000"/>
            <a:ext cx="1584360" cy="792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99">
                  <a:alpha val="22352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98440" y="3319560"/>
            <a:ext cx="3994200" cy="761760"/>
          </a:xfrm>
          <a:custGeom>
            <a:avLst/>
            <a:gdLst/>
            <a:ahLst/>
            <a:rect l="l" t="t" r="r" b="b"/>
            <a:pathLst>
              <a:path w="2516" h="480">
                <a:moveTo>
                  <a:pt x="2516" y="297"/>
                </a:moveTo>
                <a:cubicBezTo>
                  <a:pt x="2298" y="319"/>
                  <a:pt x="1627" y="480"/>
                  <a:pt x="1208" y="431"/>
                </a:cubicBezTo>
                <a:cubicBezTo>
                  <a:pt x="789" y="382"/>
                  <a:pt x="252" y="9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3851280" y="3429000"/>
            <a:ext cx="2160720" cy="325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755640" y="4581360"/>
            <a:ext cx="7921800" cy="1292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1042920" y="1413000"/>
            <a:ext cx="5761080" cy="66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80E98-D488-4897-BD36-3A398C1DCEC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13/2008</a:t>
            </a: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enji MORITA</cp:lastModifiedBy>
  <dcterms:modified xsi:type="dcterms:W3CDTF">2008-10-13T09:08:27Z</dcterms:modified>
  <cp:revision>36</cp:revision>
  <dc:subject/>
  <dc:title>PowerPoint Presentation</dc:title>
</cp:coreProperties>
</file>