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5.wmf" ContentType="image/x-wmf"/>
  <Override PartName="/ppt/media/image50.wmf" ContentType="image/x-wmf"/>
  <Override PartName="/ppt/media/image52.wmf" ContentType="image/x-wmf"/>
  <Override PartName="/ppt/media/image25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27.wmf" ContentType="image/x-wmf"/>
  <Override PartName="/ppt/media/image3.png" ContentType="image/png"/>
  <Override PartName="/ppt/media/image32.wmf" ContentType="image/x-wmf"/>
  <Override PartName="/ppt/media/image14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56.png" ContentType="image/png"/>
  <Override PartName="/ppt/media/image17.wmf" ContentType="image/x-wmf"/>
  <Override PartName="/ppt/media/image54.png" ContentType="image/png"/>
  <Override PartName="/ppt/media/image15.wmf" ContentType="image/x-wmf"/>
  <Override PartName="/ppt/media/image62.wmf" ContentType="image/x-wmf"/>
  <Override PartName="/ppt/media/image26.wmf" ContentType="image/x-wmf"/>
  <Override PartName="/ppt/media/image28.wmf" ContentType="image/x-wmf"/>
  <Override PartName="/ppt/media/image23.png" ContentType="image/png"/>
  <Override PartName="/ppt/media/image58.wmf" ContentType="image/x-wmf"/>
  <Override PartName="/ppt/media/image21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18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1.png" ContentType="image/png"/>
  <Override PartName="/ppt/media/image51.wmf" ContentType="image/x-wmf"/>
  <Override PartName="/ppt/media/image19.wmf" ContentType="image/x-wmf"/>
  <Override PartName="/ppt/media/image7.wmf" ContentType="image/x-wmf"/>
  <Override PartName="/ppt/media/image4.wmf" ContentType="image/x-wmf"/>
  <Override PartName="/ppt/media/image16.wmf" ContentType="image/x-wmf"/>
  <Override PartName="/ppt/media/image60.wmf" ContentType="image/x-wmf"/>
  <Override PartName="/ppt/media/image38.png" ContentType="image/png"/>
  <Override PartName="/ppt/media/image41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39.wmf" ContentType="image/x-wmf"/>
  <Override PartName="/ppt/media/image30.wmf" ContentType="image/x-wmf"/>
  <Override PartName="/ppt/media/image33.wmf" ContentType="image/x-wmf"/>
  <Override PartName="/ppt/media/image34.png" ContentType="image/png"/>
  <Override PartName="/ppt/media/image36.wmf" ContentType="image/x-wmf"/>
  <Override PartName="/ppt/media/image37.png" ContentType="image/png"/>
  <Override PartName="/ppt/media/image40.png" ContentType="image/png"/>
  <Override PartName="/ppt/media/image8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jpeg" ContentType="image/jpeg"/>
  <Override PartName="/ppt/media/image4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397-5372-400E-AAF7-F85692C0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53C-0971-469B-89AC-63DC29E9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F6E-476C-4F67-A83F-FDA74821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996-4233-4F74-90D6-39A14385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9168-F818-4BC0-ABC6-6A95796D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798F-19D6-4C5D-93C6-43959A3C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EB95-F488-485F-A1E9-8A21F931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23A6-3203-4D4B-9021-AEF2D612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25B1-4CB3-4827-9DF2-B05A065E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8280" y="-131760"/>
            <a:ext cx="5027760" cy="49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01E8-7A93-41F6-B231-2171023A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3847-F24E-4BBE-A832-17DE3A54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41A-7E55-4819-81CB-4747033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C47B-E9AD-4898-91F5-2405EF45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A73A-97B3-44A4-8162-F00A48F5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C26A-740E-4483-A1B0-DF0E1CE1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FF89-EAB1-4A0C-8FC7-608C6393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F5C5-8414-4756-A006-DA72CE0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073C-5B6F-4335-B612-E7864891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0849-6015-4915-B18C-52AFF24C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23BE-D187-41C3-820B-AA5A4D34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A968-539E-41F4-8135-A9FEF820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9E12-E9EB-488B-BD33-A71639A4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7E4-DD04-4833-A46C-122C0AE8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8280" y="-131760"/>
            <a:ext cx="5027760" cy="49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BD3E-76BF-47BD-BA30-8D486FF4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EECE-B8C1-417F-87BB-5F48DA0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B359-3DA5-4776-874E-039E26C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5128-91FB-44BE-BCD0-4D650E16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B20D-0D88-4241-9FA5-A2B522CF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8D31-AAEB-4E4F-819A-6464E3D1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9DE8-2D56-43E1-A98D-1B2587F6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F28-D3A7-4206-BF71-4FB03847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2EC-2A2D-4E9D-8AD0-6748D0F3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8280" y="-131760"/>
            <a:ext cx="5027760" cy="49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3EB-3AE2-4994-9EAE-D6E7FF0B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3CF-3F88-4139-B3F5-638D1E31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1F9-309D-4317-8220-98CB13F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9D3-40FD-4399-B78A-F9227E9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3882-9A41-4426-B9CA-C8E9F65F5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2A58-6D00-47D6-A426-6561DDB0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280" y="-131760"/>
            <a:ext cx="50277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2713-DCC4-4EA8-84C0-47BCC0998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7.wmf"/><Relationship Id="rId20" Type="http://schemas.openxmlformats.org/officeDocument/2006/relationships/image" Target="../media/image48.jpeg"/><Relationship Id="rId2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9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0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61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62.wmf"/><Relationship Id="rId16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2440080" y="3505320"/>
            <a:ext cx="4230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sakiyo Kitaza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aka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2640" y="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IC2008, Tsukuba, Oct. 14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"/>
          <p:cNvSpPr/>
          <p:nvPr/>
        </p:nvSpPr>
        <p:spPr>
          <a:xfrm flipH="1">
            <a:off x="-360" y="380880"/>
            <a:ext cx="472428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-1440" y="1325520"/>
            <a:ext cx="90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ngly coupled”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Quark Ma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83240" y="955800"/>
            <a:ext cx="532260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or Superconductiv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Polarized Fermi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920" y="112680"/>
            <a:ext cx="48085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Superconductiv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3978360"/>
            <a:ext cx="5832360" cy="1297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979640" y="4205160"/>
          <a:ext cx="2811600" cy="7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205160"/>
                    <a:ext cx="2811600" cy="7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260360" y="4349880"/>
            <a:ext cx="647640" cy="288720"/>
          </a:xfrm>
          <a:prstGeom prst="rightArrow">
            <a:avLst>
              <a:gd name="adj1" fmla="val 49556"/>
              <a:gd name="adj2" fmla="val 80036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9000" y="3738600"/>
            <a:ext cx="420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ing in scalar (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88600" y="4878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,flav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i-sym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618000" y="4699080"/>
            <a:ext cx="180720" cy="210960"/>
          </a:xfrm>
          <a:prstGeom prst="downArrow">
            <a:avLst>
              <a:gd name="adj1" fmla="val 50000"/>
              <a:gd name="adj2" fmla="val 29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086360" y="4699080"/>
            <a:ext cx="180720" cy="210960"/>
          </a:xfrm>
          <a:prstGeom prst="downArrow">
            <a:avLst>
              <a:gd name="adj1" fmla="val 50000"/>
              <a:gd name="adj2" fmla="val 29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52360" y="5699160"/>
            <a:ext cx="8496000" cy="1114560"/>
            <a:chOff x="252360" y="5699160"/>
            <a:chExt cx="8496000" cy="1114560"/>
          </a:xfrm>
        </p:grpSpPr>
        <p:sp>
          <p:nvSpPr>
            <p:cNvPr id="302" name=""/>
            <p:cNvSpPr/>
            <p:nvPr/>
          </p:nvSpPr>
          <p:spPr>
            <a:xfrm>
              <a:off x="1068840" y="6461280"/>
              <a:ext cx="7440120" cy="236520"/>
            </a:xfrm>
            <a:custGeom>
              <a:avLst/>
              <a:gdLst/>
              <a:ahLst/>
              <a:rect l="l" t="t" r="r" b="b"/>
              <a:pathLst>
                <a:path w="2064" h="273">
                  <a:moveTo>
                    <a:pt x="634" y="20"/>
                  </a:moveTo>
                  <a:cubicBezTo>
                    <a:pt x="762" y="19"/>
                    <a:pt x="1167" y="9"/>
                    <a:pt x="1405" y="6"/>
                  </a:cubicBezTo>
                  <a:lnTo>
                    <a:pt x="2064" y="0"/>
                  </a:lnTo>
                  <a:lnTo>
                    <a:pt x="2064" y="270"/>
                  </a:lnTo>
                  <a:lnTo>
                    <a:pt x="34" y="273"/>
                  </a:lnTo>
                  <a:lnTo>
                    <a:pt x="0" y="43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e4e4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1920" y="5987880"/>
              <a:ext cx="1037520" cy="708120"/>
            </a:xfrm>
            <a:custGeom>
              <a:avLst/>
              <a:gdLst/>
              <a:ahLst/>
              <a:rect l="l" t="t" r="r" b="b"/>
              <a:pathLst>
                <a:path w="862" h="768">
                  <a:moveTo>
                    <a:pt x="255" y="12"/>
                  </a:moveTo>
                  <a:cubicBezTo>
                    <a:pt x="295" y="25"/>
                    <a:pt x="419" y="50"/>
                    <a:pt x="495" y="90"/>
                  </a:cubicBezTo>
                  <a:cubicBezTo>
                    <a:pt x="571" y="130"/>
                    <a:pt x="651" y="180"/>
                    <a:pt x="709" y="250"/>
                  </a:cubicBezTo>
                  <a:cubicBezTo>
                    <a:pt x="767" y="320"/>
                    <a:pt x="819" y="423"/>
                    <a:pt x="844" y="509"/>
                  </a:cubicBezTo>
                  <a:lnTo>
                    <a:pt x="862" y="768"/>
                  </a:lnTo>
                  <a:lnTo>
                    <a:pt x="0" y="767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2360" y="6696000"/>
              <a:ext cx="8496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31920" y="5699160"/>
              <a:ext cx="0" cy="111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0" y="5514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07320" y="6416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72320" y="1268280"/>
            <a:ext cx="41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channe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gluon exchange inte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74120" y="83664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k (fermion)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44440" y="261144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 instability at sufficiently l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51360" y="1052640"/>
            <a:ext cx="144360" cy="14436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51360" y="1484280"/>
            <a:ext cx="144360" cy="14436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91000" y="98100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3520" y="2708280"/>
            <a:ext cx="361800" cy="289080"/>
          </a:xfrm>
          <a:prstGeom prst="rightArrow">
            <a:avLst>
              <a:gd name="adj1" fmla="val 49556"/>
              <a:gd name="adj2" fmla="val 44656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68400" y="2023920"/>
            <a:ext cx="291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[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$ＪＳ明朝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×[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$ＪＳ明朝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$ＪＳ明朝"/>
              </a:rPr>
              <a:t>[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$ＪＳ明朝"/>
              </a:rPr>
              <a:t>３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$ＪＳ明朝"/>
              </a:rPr>
              <a:t>]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$ＪＳ明朝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[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$ＪＳ明朝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920" y="21114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9800" y="83664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xtremely dense mat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694560" y="3657600"/>
            <a:ext cx="2261160" cy="2241360"/>
            <a:chOff x="6694560" y="3657600"/>
            <a:chExt cx="2261160" cy="2241360"/>
          </a:xfrm>
        </p:grpSpPr>
        <p:graphicFrame>
          <p:nvGraphicFramePr>
            <p:cNvPr id="319" name=""/>
            <p:cNvGraphicFramePr/>
            <p:nvPr/>
          </p:nvGraphicFramePr>
          <p:xfrm>
            <a:off x="6694560" y="4027320"/>
            <a:ext cx="1020600" cy="97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4560" y="4027320"/>
                      <a:ext cx="1020600" cy="97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"/>
            <p:cNvSpPr/>
            <p:nvPr/>
          </p:nvSpPr>
          <p:spPr>
            <a:xfrm>
              <a:off x="6877080" y="4186080"/>
              <a:ext cx="64908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859880" y="4025880"/>
              <a:ext cx="1008000" cy="965160"/>
              <a:chOff x="7859880" y="4025880"/>
              <a:chExt cx="1008000" cy="965160"/>
            </a:xfrm>
          </p:grpSpPr>
          <p:graphicFrame>
            <p:nvGraphicFramePr>
              <p:cNvPr id="323" name=""/>
              <p:cNvGraphicFramePr/>
              <p:nvPr/>
            </p:nvGraphicFramePr>
            <p:xfrm>
              <a:off x="7859880" y="4025880"/>
              <a:ext cx="1008000" cy="965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859880" y="4025880"/>
                        <a:ext cx="1008000" cy="96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5" name=""/>
              <p:cNvSpPr/>
              <p:nvPr/>
            </p:nvSpPr>
            <p:spPr>
              <a:xfrm>
                <a:off x="8039160" y="418608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fefe">
                      <a:alpha val="1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270920" y="4922640"/>
              <a:ext cx="1020600" cy="976320"/>
              <a:chOff x="7270920" y="4922640"/>
              <a:chExt cx="1020600" cy="976320"/>
            </a:xfrm>
          </p:grpSpPr>
          <p:graphicFrame>
            <p:nvGraphicFramePr>
              <p:cNvPr id="327" name=""/>
              <p:cNvGraphicFramePr/>
              <p:nvPr/>
            </p:nvGraphicFramePr>
            <p:xfrm>
              <a:off x="7270920" y="4922640"/>
              <a:ext cx="1020600" cy="976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28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270920" y="4922640"/>
                        <a:ext cx="1020600" cy="976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9" name=""/>
              <p:cNvSpPr/>
              <p:nvPr/>
            </p:nvSpPr>
            <p:spPr>
              <a:xfrm>
                <a:off x="7444080" y="5087880"/>
                <a:ext cx="64908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fefe">
                      <a:alpha val="1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983280" y="4674960"/>
              <a:ext cx="503280" cy="792360"/>
            </a:xfrm>
            <a:custGeom>
              <a:avLst/>
              <a:gdLst/>
              <a:ahLst/>
              <a:rect l="l" t="t" r="r" b="b"/>
              <a:pathLst>
                <a:path w="317" h="499">
                  <a:moveTo>
                    <a:pt x="0" y="0"/>
                  </a:moveTo>
                  <a:cubicBezTo>
                    <a:pt x="9" y="49"/>
                    <a:pt x="0" y="212"/>
                    <a:pt x="53" y="295"/>
                  </a:cubicBezTo>
                  <a:cubicBezTo>
                    <a:pt x="106" y="378"/>
                    <a:pt x="262" y="457"/>
                    <a:pt x="317" y="499"/>
                  </a:cubicBezTo>
                </a:path>
              </a:pathLst>
            </a:custGeom>
            <a:noFill/>
            <a:ln w="50760">
              <a:solidFill>
                <a:srgbClr val="969696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64360" y="4746600"/>
              <a:ext cx="503280" cy="720720"/>
            </a:xfrm>
            <a:custGeom>
              <a:avLst/>
              <a:gdLst/>
              <a:ahLst/>
              <a:rect l="l" t="t" r="r" b="b"/>
              <a:pathLst>
                <a:path w="317" h="454">
                  <a:moveTo>
                    <a:pt x="317" y="0"/>
                  </a:moveTo>
                  <a:cubicBezTo>
                    <a:pt x="304" y="49"/>
                    <a:pt x="293" y="218"/>
                    <a:pt x="240" y="294"/>
                  </a:cubicBezTo>
                  <a:cubicBezTo>
                    <a:pt x="187" y="370"/>
                    <a:pt x="50" y="421"/>
                    <a:pt x="0" y="454"/>
                  </a:cubicBezTo>
                </a:path>
              </a:pathLst>
            </a:custGeom>
            <a:noFill/>
            <a:ln w="50760">
              <a:solidFill>
                <a:srgbClr val="969696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15280" y="4746600"/>
              <a:ext cx="287280" cy="431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7918560" y="4746240"/>
              <a:ext cx="288720" cy="431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70920" y="4147920"/>
              <a:ext cx="1008000" cy="96840"/>
            </a:xfrm>
            <a:custGeom>
              <a:avLst/>
              <a:gdLst/>
              <a:ahLst/>
              <a:rect l="l" t="t" r="r" b="b"/>
              <a:pathLst>
                <a:path w="635" h="61">
                  <a:moveTo>
                    <a:pt x="0" y="60"/>
                  </a:moveTo>
                  <a:cubicBezTo>
                    <a:pt x="54" y="50"/>
                    <a:pt x="216" y="0"/>
                    <a:pt x="322" y="0"/>
                  </a:cubicBezTo>
                  <a:cubicBezTo>
                    <a:pt x="428" y="0"/>
                    <a:pt x="570" y="48"/>
                    <a:pt x="635" y="61"/>
                  </a:cubicBezTo>
                </a:path>
              </a:pathLst>
            </a:custGeom>
            <a:noFill/>
            <a:ln w="50760">
              <a:solidFill>
                <a:srgbClr val="969696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00960" y="4520880"/>
              <a:ext cx="5763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99880" y="3657600"/>
              <a:ext cx="54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28760" y="5025960"/>
              <a:ext cx="5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32280" y="5025960"/>
              <a:ext cx="5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1908000" y="1268280"/>
          <a:ext cx="1162080" cy="40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1268280"/>
                    <a:ext cx="11620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8215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hases of Color Superconductiv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64000" y="2276640"/>
            <a:ext cx="2261160" cy="2241360"/>
            <a:chOff x="5364000" y="2276640"/>
            <a:chExt cx="2261160" cy="2241360"/>
          </a:xfrm>
        </p:grpSpPr>
        <p:graphicFrame>
          <p:nvGraphicFramePr>
            <p:cNvPr id="343" name=""/>
            <p:cNvGraphicFramePr/>
            <p:nvPr/>
          </p:nvGraphicFramePr>
          <p:xfrm>
            <a:off x="5364000" y="2646360"/>
            <a:ext cx="1020600" cy="97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4000" y="2646360"/>
                      <a:ext cx="1020600" cy="97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5546520" y="2805120"/>
              <a:ext cx="64908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6529320" y="2644920"/>
              <a:ext cx="1008000" cy="965160"/>
              <a:chOff x="6529320" y="2644920"/>
              <a:chExt cx="1008000" cy="96516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6529320" y="2644920"/>
              <a:ext cx="1008000" cy="965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529320" y="2644920"/>
                        <a:ext cx="1008000" cy="96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6708600" y="280512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fefe">
                      <a:alpha val="1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940360" y="3541680"/>
              <a:ext cx="1020600" cy="976320"/>
              <a:chOff x="5940360" y="3541680"/>
              <a:chExt cx="1020600" cy="976320"/>
            </a:xfrm>
          </p:grpSpPr>
          <p:graphicFrame>
            <p:nvGraphicFramePr>
              <p:cNvPr id="351" name=""/>
              <p:cNvGraphicFramePr/>
              <p:nvPr/>
            </p:nvGraphicFramePr>
            <p:xfrm>
              <a:off x="5940360" y="3541680"/>
              <a:ext cx="1020600" cy="976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5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940360" y="3541680"/>
                        <a:ext cx="1020600" cy="976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3" name=""/>
              <p:cNvSpPr/>
              <p:nvPr/>
            </p:nvSpPr>
            <p:spPr>
              <a:xfrm>
                <a:off x="6113520" y="3706920"/>
                <a:ext cx="64908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fefe">
                      <a:alpha val="1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652720" y="3294000"/>
              <a:ext cx="503280" cy="792360"/>
            </a:xfrm>
            <a:custGeom>
              <a:avLst/>
              <a:gdLst/>
              <a:ahLst/>
              <a:rect l="l" t="t" r="r" b="b"/>
              <a:pathLst>
                <a:path w="317" h="499">
                  <a:moveTo>
                    <a:pt x="0" y="0"/>
                  </a:moveTo>
                  <a:cubicBezTo>
                    <a:pt x="9" y="49"/>
                    <a:pt x="0" y="212"/>
                    <a:pt x="53" y="295"/>
                  </a:cubicBezTo>
                  <a:cubicBezTo>
                    <a:pt x="106" y="378"/>
                    <a:pt x="262" y="457"/>
                    <a:pt x="317" y="499"/>
                  </a:cubicBezTo>
                </a:path>
              </a:pathLst>
            </a:custGeom>
            <a:noFill/>
            <a:ln w="50760">
              <a:solidFill>
                <a:srgbClr val="969696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33800" y="3365640"/>
              <a:ext cx="503280" cy="720720"/>
            </a:xfrm>
            <a:custGeom>
              <a:avLst/>
              <a:gdLst/>
              <a:ahLst/>
              <a:rect l="l" t="t" r="r" b="b"/>
              <a:pathLst>
                <a:path w="317" h="454">
                  <a:moveTo>
                    <a:pt x="317" y="0"/>
                  </a:moveTo>
                  <a:cubicBezTo>
                    <a:pt x="304" y="49"/>
                    <a:pt x="293" y="218"/>
                    <a:pt x="240" y="294"/>
                  </a:cubicBezTo>
                  <a:cubicBezTo>
                    <a:pt x="187" y="370"/>
                    <a:pt x="50" y="421"/>
                    <a:pt x="0" y="454"/>
                  </a:cubicBezTo>
                </a:path>
              </a:pathLst>
            </a:custGeom>
            <a:noFill/>
            <a:ln w="50760">
              <a:solidFill>
                <a:srgbClr val="969696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84720" y="3365640"/>
              <a:ext cx="287280" cy="431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588000" y="3365280"/>
              <a:ext cx="288720" cy="431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40360" y="2766960"/>
              <a:ext cx="1008000" cy="96840"/>
            </a:xfrm>
            <a:custGeom>
              <a:avLst/>
              <a:gdLst/>
              <a:ahLst/>
              <a:rect l="l" t="t" r="r" b="b"/>
              <a:pathLst>
                <a:path w="635" h="61">
                  <a:moveTo>
                    <a:pt x="0" y="60"/>
                  </a:moveTo>
                  <a:cubicBezTo>
                    <a:pt x="54" y="50"/>
                    <a:pt x="216" y="0"/>
                    <a:pt x="322" y="0"/>
                  </a:cubicBezTo>
                  <a:cubicBezTo>
                    <a:pt x="428" y="0"/>
                    <a:pt x="570" y="48"/>
                    <a:pt x="635" y="61"/>
                  </a:cubicBezTo>
                </a:path>
              </a:pathLst>
            </a:custGeom>
            <a:noFill/>
            <a:ln w="50760">
              <a:solidFill>
                <a:srgbClr val="969696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70400" y="3139920"/>
              <a:ext cx="5763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69320" y="2276640"/>
              <a:ext cx="54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98200" y="3645000"/>
              <a:ext cx="5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01720" y="3645000"/>
              <a:ext cx="5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3" name=""/>
          <p:cNvGraphicFramePr/>
          <p:nvPr/>
        </p:nvGraphicFramePr>
        <p:xfrm>
          <a:off x="1360440" y="2719440"/>
          <a:ext cx="1020960" cy="97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60440" y="2719440"/>
                    <a:ext cx="10209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542960" y="2878200"/>
            <a:ext cx="64944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efe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525760" y="2717640"/>
            <a:ext cx="1008000" cy="965160"/>
            <a:chOff x="2525760" y="2717640"/>
            <a:chExt cx="1008000" cy="965160"/>
          </a:xfrm>
        </p:grpSpPr>
        <p:graphicFrame>
          <p:nvGraphicFramePr>
            <p:cNvPr id="367" name=""/>
            <p:cNvGraphicFramePr/>
            <p:nvPr/>
          </p:nvGraphicFramePr>
          <p:xfrm>
            <a:off x="2525760" y="2717640"/>
            <a:ext cx="1008000" cy="96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25760" y="2717640"/>
                      <a:ext cx="100800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705040" y="287784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224080" y="3933720"/>
            <a:ext cx="504720" cy="503280"/>
            <a:chOff x="2224080" y="3933720"/>
            <a:chExt cx="504720" cy="503280"/>
          </a:xfrm>
        </p:grpSpPr>
        <p:graphicFrame>
          <p:nvGraphicFramePr>
            <p:cNvPr id="371" name=""/>
            <p:cNvGraphicFramePr/>
            <p:nvPr/>
          </p:nvGraphicFramePr>
          <p:xfrm>
            <a:off x="2224080" y="3933720"/>
            <a:ext cx="504720" cy="50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24080" y="3933720"/>
                      <a:ext cx="50472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"/>
            <p:cNvSpPr/>
            <p:nvPr/>
          </p:nvSpPr>
          <p:spPr>
            <a:xfrm>
              <a:off x="2309400" y="4018680"/>
              <a:ext cx="320760" cy="3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649520" y="3367080"/>
            <a:ext cx="503280" cy="792000"/>
          </a:xfrm>
          <a:custGeom>
            <a:avLst/>
            <a:gdLst/>
            <a:ahLst/>
            <a:rect l="l" t="t" r="r" b="b"/>
            <a:pathLst>
              <a:path w="317" h="499">
                <a:moveTo>
                  <a:pt x="0" y="0"/>
                </a:moveTo>
                <a:cubicBezTo>
                  <a:pt x="9" y="49"/>
                  <a:pt x="0" y="212"/>
                  <a:pt x="53" y="295"/>
                </a:cubicBezTo>
                <a:cubicBezTo>
                  <a:pt x="106" y="378"/>
                  <a:pt x="262" y="457"/>
                  <a:pt x="317" y="499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30600" y="3438360"/>
            <a:ext cx="503280" cy="720720"/>
          </a:xfrm>
          <a:custGeom>
            <a:avLst/>
            <a:gdLst/>
            <a:ahLst/>
            <a:rect l="l" t="t" r="r" b="b"/>
            <a:pathLst>
              <a:path w="317" h="454">
                <a:moveTo>
                  <a:pt x="317" y="0"/>
                </a:moveTo>
                <a:cubicBezTo>
                  <a:pt x="304" y="49"/>
                  <a:pt x="293" y="218"/>
                  <a:pt x="240" y="294"/>
                </a:cubicBezTo>
                <a:cubicBezTo>
                  <a:pt x="187" y="370"/>
                  <a:pt x="50" y="421"/>
                  <a:pt x="0" y="454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81160" y="3438360"/>
            <a:ext cx="287280" cy="43200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584440" y="3438360"/>
            <a:ext cx="289080" cy="43200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36800" y="2840040"/>
            <a:ext cx="1008000" cy="96840"/>
          </a:xfrm>
          <a:custGeom>
            <a:avLst/>
            <a:gdLst/>
            <a:ahLst/>
            <a:rect l="l" t="t" r="r" b="b"/>
            <a:pathLst>
              <a:path w="635" h="61">
                <a:moveTo>
                  <a:pt x="0" y="60"/>
                </a:moveTo>
                <a:cubicBezTo>
                  <a:pt x="54" y="50"/>
                  <a:pt x="216" y="0"/>
                  <a:pt x="322" y="0"/>
                </a:cubicBezTo>
                <a:cubicBezTo>
                  <a:pt x="428" y="0"/>
                  <a:pt x="570" y="48"/>
                  <a:pt x="635" y="61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66840" y="3213000"/>
            <a:ext cx="576360" cy="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65760" y="234936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94640" y="37180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98160" y="37180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75640" y="465768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-Flavor Locking (CF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9840" y="465768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flavor SuperCondoctor (2S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353880" y="5218200"/>
          <a:ext cx="3497400" cy="77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3880" y="5218200"/>
                    <a:ext cx="34974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148360" y="5234040"/>
          <a:ext cx="3240000" cy="797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234040"/>
                    <a:ext cx="32400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6589080" y="6102360"/>
            <a:ext cx="2404080" cy="703800"/>
          </a:xfrm>
          <a:prstGeom prst="wedgeRectCallout">
            <a:avLst>
              <a:gd name="adj1" fmla="val 7583"/>
              <a:gd name="adj2" fmla="val -94833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ogy with B-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uper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32080" y="3860640"/>
            <a:ext cx="360360" cy="360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432080" y="3860640"/>
            <a:ext cx="358560" cy="360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87720" y="3789360"/>
            <a:ext cx="360360" cy="360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087360" y="3789360"/>
            <a:ext cx="358920" cy="360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9080" y="836640"/>
            <a:ext cx="8495640" cy="1114560"/>
            <a:chOff x="289080" y="836640"/>
            <a:chExt cx="8495640" cy="1114560"/>
          </a:xfrm>
        </p:grpSpPr>
        <p:sp>
          <p:nvSpPr>
            <p:cNvPr id="395" name=""/>
            <p:cNvSpPr/>
            <p:nvPr/>
          </p:nvSpPr>
          <p:spPr>
            <a:xfrm>
              <a:off x="1105200" y="1598760"/>
              <a:ext cx="7439760" cy="236520"/>
            </a:xfrm>
            <a:custGeom>
              <a:avLst/>
              <a:gdLst/>
              <a:ahLst/>
              <a:rect l="l" t="t" r="r" b="b"/>
              <a:pathLst>
                <a:path w="2064" h="273">
                  <a:moveTo>
                    <a:pt x="634" y="20"/>
                  </a:moveTo>
                  <a:cubicBezTo>
                    <a:pt x="762" y="19"/>
                    <a:pt x="1167" y="9"/>
                    <a:pt x="1405" y="6"/>
                  </a:cubicBezTo>
                  <a:lnTo>
                    <a:pt x="2064" y="0"/>
                  </a:lnTo>
                  <a:lnTo>
                    <a:pt x="2064" y="270"/>
                  </a:lnTo>
                  <a:lnTo>
                    <a:pt x="34" y="273"/>
                  </a:lnTo>
                  <a:lnTo>
                    <a:pt x="0" y="43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e4e4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8640" y="1125360"/>
              <a:ext cx="1037520" cy="708120"/>
            </a:xfrm>
            <a:custGeom>
              <a:avLst/>
              <a:gdLst/>
              <a:ahLst/>
              <a:rect l="l" t="t" r="r" b="b"/>
              <a:pathLst>
                <a:path w="862" h="768">
                  <a:moveTo>
                    <a:pt x="255" y="12"/>
                  </a:moveTo>
                  <a:cubicBezTo>
                    <a:pt x="295" y="25"/>
                    <a:pt x="419" y="50"/>
                    <a:pt x="495" y="90"/>
                  </a:cubicBezTo>
                  <a:cubicBezTo>
                    <a:pt x="571" y="130"/>
                    <a:pt x="651" y="180"/>
                    <a:pt x="709" y="250"/>
                  </a:cubicBezTo>
                  <a:cubicBezTo>
                    <a:pt x="767" y="320"/>
                    <a:pt x="819" y="423"/>
                    <a:pt x="844" y="509"/>
                  </a:cubicBezTo>
                  <a:lnTo>
                    <a:pt x="862" y="768"/>
                  </a:lnTo>
                  <a:lnTo>
                    <a:pt x="0" y="767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9080" y="1833480"/>
              <a:ext cx="8495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368640" y="836640"/>
              <a:ext cx="0" cy="111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6360" y="868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744040" y="155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1989000"/>
            <a:ext cx="1224000" cy="503280"/>
          </a:xfrm>
          <a:prstGeom prst="wedgeRectCallout">
            <a:avLst>
              <a:gd name="adj1" fmla="val 9532"/>
              <a:gd name="adj2" fmla="val -110884"/>
            </a:avLst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04000" y="1989000"/>
            <a:ext cx="1584360" cy="505080"/>
          </a:xfrm>
          <a:prstGeom prst="wedgeRectCallout">
            <a:avLst>
              <a:gd name="adj1" fmla="val 32365"/>
              <a:gd name="adj2" fmla="val -110689"/>
            </a:avLst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61240" y="2062080"/>
          <a:ext cx="1400040" cy="44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61240" y="2062080"/>
                    <a:ext cx="1400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900000" y="2060640"/>
          <a:ext cx="1209960" cy="41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00000" y="2060640"/>
                    <a:ext cx="12099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6589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al Change of Cooper Pai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4160" y="1164960"/>
            <a:ext cx="8495640" cy="1114200"/>
            <a:chOff x="254160" y="1164960"/>
            <a:chExt cx="8495640" cy="1114200"/>
          </a:xfrm>
        </p:grpSpPr>
        <p:sp>
          <p:nvSpPr>
            <p:cNvPr id="409" name=""/>
            <p:cNvSpPr/>
            <p:nvPr/>
          </p:nvSpPr>
          <p:spPr>
            <a:xfrm>
              <a:off x="1070280" y="1927080"/>
              <a:ext cx="7439760" cy="236160"/>
            </a:xfrm>
            <a:custGeom>
              <a:avLst/>
              <a:gdLst/>
              <a:ahLst/>
              <a:rect l="l" t="t" r="r" b="b"/>
              <a:pathLst>
                <a:path w="2064" h="273">
                  <a:moveTo>
                    <a:pt x="634" y="20"/>
                  </a:moveTo>
                  <a:cubicBezTo>
                    <a:pt x="762" y="19"/>
                    <a:pt x="1167" y="9"/>
                    <a:pt x="1405" y="6"/>
                  </a:cubicBezTo>
                  <a:lnTo>
                    <a:pt x="2064" y="0"/>
                  </a:lnTo>
                  <a:lnTo>
                    <a:pt x="2064" y="270"/>
                  </a:lnTo>
                  <a:lnTo>
                    <a:pt x="34" y="273"/>
                  </a:lnTo>
                  <a:lnTo>
                    <a:pt x="0" y="43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e4e4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3720" y="1453680"/>
              <a:ext cx="1037520" cy="707760"/>
            </a:xfrm>
            <a:custGeom>
              <a:avLst/>
              <a:gdLst/>
              <a:ahLst/>
              <a:rect l="l" t="t" r="r" b="b"/>
              <a:pathLst>
                <a:path w="862" h="768">
                  <a:moveTo>
                    <a:pt x="255" y="12"/>
                  </a:moveTo>
                  <a:cubicBezTo>
                    <a:pt x="295" y="25"/>
                    <a:pt x="419" y="50"/>
                    <a:pt x="495" y="90"/>
                  </a:cubicBezTo>
                  <a:cubicBezTo>
                    <a:pt x="571" y="130"/>
                    <a:pt x="651" y="180"/>
                    <a:pt x="709" y="250"/>
                  </a:cubicBezTo>
                  <a:cubicBezTo>
                    <a:pt x="767" y="320"/>
                    <a:pt x="819" y="423"/>
                    <a:pt x="844" y="509"/>
                  </a:cubicBezTo>
                  <a:lnTo>
                    <a:pt x="862" y="768"/>
                  </a:lnTo>
                  <a:lnTo>
                    <a:pt x="0" y="767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4160" y="2161800"/>
              <a:ext cx="8495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33720" y="1164960"/>
              <a:ext cx="0" cy="111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440" y="981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709120" y="1882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70760" y="6171840"/>
            <a:ext cx="29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suzaki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ki, Hatsuda, Itakura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089840" y="2268360"/>
            <a:ext cx="1368360" cy="1226160"/>
            <a:chOff x="7089840" y="2268360"/>
            <a:chExt cx="1368360" cy="1226160"/>
          </a:xfrm>
        </p:grpSpPr>
        <p:sp>
          <p:nvSpPr>
            <p:cNvPr id="417" name=""/>
            <p:cNvSpPr/>
            <p:nvPr/>
          </p:nvSpPr>
          <p:spPr>
            <a:xfrm>
              <a:off x="7089840" y="2278080"/>
              <a:ext cx="1368360" cy="1152360"/>
            </a:xfrm>
            <a:prstGeom prst="wedgeRoundRectCallout">
              <a:avLst>
                <a:gd name="adj1" fmla="val 40717"/>
                <a:gd name="adj2" fmla="val -70662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5640" y="2637000"/>
              <a:ext cx="14400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67280" y="256536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51640" y="2852640"/>
              <a:ext cx="14400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67280" y="306864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83280" y="328464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96000" y="2709720"/>
              <a:ext cx="14400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78560" y="3070080"/>
              <a:ext cx="14400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83280" y="2565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51640" y="2421000"/>
              <a:ext cx="14400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70560" y="307008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67280" y="234936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38920" y="285444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4920" y="278136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06920" y="2709720"/>
              <a:ext cx="1425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96000" y="314172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28000" y="2925720"/>
              <a:ext cx="1422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4920" y="3213000"/>
              <a:ext cx="1425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398400">
              <a:off x="7054560" y="2673000"/>
              <a:ext cx="1081080" cy="14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3307200">
              <a:off x="7198560" y="2746080"/>
              <a:ext cx="10810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666600">
              <a:off x="7234200" y="2781360"/>
              <a:ext cx="108072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1600">
              <a:off x="7162560" y="2925720"/>
              <a:ext cx="108072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604000">
              <a:off x="7053120" y="2674080"/>
              <a:ext cx="8654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26200" y="2494080"/>
              <a:ext cx="14400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7840" y="2422440"/>
              <a:ext cx="1422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604000">
              <a:off x="7629840" y="2674440"/>
              <a:ext cx="865440" cy="21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70800">
              <a:off x="7449840" y="3070080"/>
              <a:ext cx="86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596960" y="2276640"/>
            <a:ext cx="1371600" cy="1152360"/>
            <a:chOff x="1596960" y="2276640"/>
            <a:chExt cx="1371600" cy="1152360"/>
          </a:xfrm>
        </p:grpSpPr>
        <p:sp>
          <p:nvSpPr>
            <p:cNvPr id="445" name=""/>
            <p:cNvSpPr/>
            <p:nvPr/>
          </p:nvSpPr>
          <p:spPr>
            <a:xfrm>
              <a:off x="1600200" y="2276640"/>
              <a:ext cx="1368360" cy="1152360"/>
            </a:xfrm>
            <a:prstGeom prst="wedgeRoundRectCallout">
              <a:avLst>
                <a:gd name="adj1" fmla="val -51509"/>
                <a:gd name="adj2" fmla="val -67629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87480" y="29638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58880" y="253044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30520" y="24591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732800">
              <a:off x="1614960" y="2476800"/>
              <a:ext cx="30456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2508480" y="2421720"/>
              <a:ext cx="357840" cy="304200"/>
              <a:chOff x="2508480" y="2421720"/>
              <a:chExt cx="357840" cy="304200"/>
            </a:xfrm>
          </p:grpSpPr>
          <p:sp>
            <p:nvSpPr>
              <p:cNvPr id="451" name=""/>
              <p:cNvSpPr/>
              <p:nvPr/>
            </p:nvSpPr>
            <p:spPr>
              <a:xfrm rot="4585200">
                <a:off x="2665080" y="2525040"/>
                <a:ext cx="1425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4585200">
                <a:off x="2578320" y="2472840"/>
                <a:ext cx="144360" cy="1447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2318000">
                <a:off x="2534760" y="2477520"/>
                <a:ext cx="304920" cy="192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1816200" y="303516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732800">
              <a:off x="1771920" y="2981880"/>
              <a:ext cx="30492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79840" y="29955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51120" y="29242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732800">
              <a:off x="2635560" y="2942280"/>
              <a:ext cx="30492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68640" y="3066120"/>
              <a:ext cx="317520" cy="360000"/>
              <a:chOff x="2168640" y="3066120"/>
              <a:chExt cx="317520" cy="360000"/>
            </a:xfrm>
          </p:grpSpPr>
          <p:sp>
            <p:nvSpPr>
              <p:cNvPr id="460" name=""/>
              <p:cNvSpPr/>
              <p:nvPr/>
            </p:nvSpPr>
            <p:spPr>
              <a:xfrm rot="17497200">
                <a:off x="2229480" y="3126240"/>
                <a:ext cx="14292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7497200">
                <a:off x="2269080" y="3218040"/>
                <a:ext cx="144360" cy="144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3630000">
                <a:off x="2174760" y="3150000"/>
                <a:ext cx="304920" cy="192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168640" y="2635920"/>
              <a:ext cx="317520" cy="360000"/>
              <a:chOff x="2168640" y="2635920"/>
              <a:chExt cx="317520" cy="360000"/>
            </a:xfrm>
          </p:grpSpPr>
          <p:sp>
            <p:nvSpPr>
              <p:cNvPr id="464" name=""/>
              <p:cNvSpPr/>
              <p:nvPr/>
            </p:nvSpPr>
            <p:spPr>
              <a:xfrm rot="17497200">
                <a:off x="2229480" y="2696040"/>
                <a:ext cx="14292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7497200">
                <a:off x="2269080" y="2787840"/>
                <a:ext cx="144360" cy="144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3630000">
                <a:off x="2174760" y="2719800"/>
                <a:ext cx="304920" cy="192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076840" y="2305800"/>
              <a:ext cx="357840" cy="304200"/>
              <a:chOff x="2076840" y="2305800"/>
              <a:chExt cx="357840" cy="304200"/>
            </a:xfrm>
          </p:grpSpPr>
          <p:sp>
            <p:nvSpPr>
              <p:cNvPr id="468" name=""/>
              <p:cNvSpPr/>
              <p:nvPr/>
            </p:nvSpPr>
            <p:spPr>
              <a:xfrm rot="4585200">
                <a:off x="2233440" y="2409120"/>
                <a:ext cx="1425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4585200">
                <a:off x="2146680" y="2356920"/>
                <a:ext cx="144360" cy="1447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2318000">
                <a:off x="2103120" y="2361600"/>
                <a:ext cx="304920" cy="192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2057400" y="2438280"/>
            <a:ext cx="5029200" cy="4216680"/>
            <a:chOff x="2057400" y="2438280"/>
            <a:chExt cx="5029200" cy="4216680"/>
          </a:xfrm>
        </p:grpSpPr>
        <p:pic>
          <p:nvPicPr>
            <p:cNvPr id="472" name="" descr=""/>
            <p:cNvPicPr/>
            <p:nvPr/>
          </p:nvPicPr>
          <p:blipFill>
            <a:blip r:embed="rId1"/>
            <a:srcRect l="0" t="5681" r="0" b="0"/>
            <a:stretch/>
          </p:blipFill>
          <p:spPr>
            <a:xfrm>
              <a:off x="3125880" y="2438280"/>
              <a:ext cx="3960720" cy="31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783320" y="5334120"/>
              <a:ext cx="118656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Me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2773800" y="3560400"/>
              <a:ext cx="874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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57920" y="5816520"/>
              <a:ext cx="29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herence 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interquark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5791320"/>
              <a:ext cx="3384720" cy="863640"/>
            </a:xfrm>
            <a:prstGeom prst="octagon">
              <a:avLst>
                <a:gd name="adj" fmla="val 13972"/>
              </a:avLst>
            </a:prstGeom>
            <a:noFill/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200400" y="4419720"/>
              <a:ext cx="0" cy="1371600"/>
            </a:xfrm>
            <a:prstGeom prst="line">
              <a:avLst/>
            </a:prstGeom>
            <a:ln w="255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523880" y="838080"/>
            <a:ext cx="1873440" cy="946440"/>
          </a:xfrm>
          <a:prstGeom prst="wedgeRoundRectCallout">
            <a:avLst>
              <a:gd name="adj1" fmla="val -45930"/>
              <a:gd name="adj2" fmla="val 68120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17120" y="884160"/>
            <a:ext cx="17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87600" y="1244520"/>
            <a:ext cx="169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 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~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11000" y="1295280"/>
            <a:ext cx="181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 0.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85800" y="99072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lectric 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8600" y="1066680"/>
            <a:ext cx="719280" cy="362160"/>
          </a:xfrm>
          <a:prstGeom prst="leftRightArrow">
            <a:avLst>
              <a:gd name="adj1" fmla="val 55259"/>
              <a:gd name="adj2" fmla="val 53486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8034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Superconductivity in Compact Sta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448320" y="1135080"/>
          <a:ext cx="102096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8320" y="1135080"/>
                    <a:ext cx="10209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6630840" y="1293840"/>
            <a:ext cx="64944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efe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7613640" y="1133640"/>
            <a:ext cx="1008000" cy="965160"/>
            <a:chOff x="7613640" y="1133640"/>
            <a:chExt cx="1008000" cy="965160"/>
          </a:xfrm>
        </p:grpSpPr>
        <p:graphicFrame>
          <p:nvGraphicFramePr>
            <p:cNvPr id="489" name=""/>
            <p:cNvGraphicFramePr/>
            <p:nvPr/>
          </p:nvGraphicFramePr>
          <p:xfrm>
            <a:off x="7613640" y="1133640"/>
            <a:ext cx="1008000" cy="965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13640" y="1133640"/>
                      <a:ext cx="100800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1" name=""/>
            <p:cNvSpPr/>
            <p:nvPr/>
          </p:nvSpPr>
          <p:spPr>
            <a:xfrm>
              <a:off x="7792920" y="129384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024680" y="2030400"/>
            <a:ext cx="1020600" cy="976320"/>
            <a:chOff x="7024680" y="2030400"/>
            <a:chExt cx="1020600" cy="976320"/>
          </a:xfrm>
        </p:grpSpPr>
        <p:graphicFrame>
          <p:nvGraphicFramePr>
            <p:cNvPr id="493" name=""/>
            <p:cNvGraphicFramePr/>
            <p:nvPr/>
          </p:nvGraphicFramePr>
          <p:xfrm>
            <a:off x="7024680" y="2030400"/>
            <a:ext cx="1020600" cy="97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24680" y="2030400"/>
                      <a:ext cx="1020600" cy="97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7197840" y="2195640"/>
              <a:ext cx="64908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737400" y="1782720"/>
            <a:ext cx="503280" cy="792360"/>
          </a:xfrm>
          <a:custGeom>
            <a:avLst/>
            <a:gdLst/>
            <a:ahLst/>
            <a:rect l="l" t="t" r="r" b="b"/>
            <a:pathLst>
              <a:path w="317" h="499">
                <a:moveTo>
                  <a:pt x="0" y="0"/>
                </a:moveTo>
                <a:cubicBezTo>
                  <a:pt x="9" y="49"/>
                  <a:pt x="0" y="212"/>
                  <a:pt x="53" y="295"/>
                </a:cubicBezTo>
                <a:cubicBezTo>
                  <a:pt x="106" y="378"/>
                  <a:pt x="262" y="457"/>
                  <a:pt x="317" y="499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18480" y="1854360"/>
            <a:ext cx="503280" cy="720720"/>
          </a:xfrm>
          <a:custGeom>
            <a:avLst/>
            <a:gdLst/>
            <a:ahLst/>
            <a:rect l="l" t="t" r="r" b="b"/>
            <a:pathLst>
              <a:path w="317" h="454">
                <a:moveTo>
                  <a:pt x="317" y="0"/>
                </a:moveTo>
                <a:cubicBezTo>
                  <a:pt x="304" y="49"/>
                  <a:pt x="293" y="218"/>
                  <a:pt x="240" y="294"/>
                </a:cubicBezTo>
                <a:cubicBezTo>
                  <a:pt x="187" y="370"/>
                  <a:pt x="50" y="421"/>
                  <a:pt x="0" y="454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9040" y="1854360"/>
            <a:ext cx="287280" cy="43164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672320" y="1854000"/>
            <a:ext cx="289080" cy="43164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024680" y="1255680"/>
            <a:ext cx="1008000" cy="96840"/>
          </a:xfrm>
          <a:custGeom>
            <a:avLst/>
            <a:gdLst/>
            <a:ahLst/>
            <a:rect l="l" t="t" r="r" b="b"/>
            <a:pathLst>
              <a:path w="635" h="61">
                <a:moveTo>
                  <a:pt x="0" y="60"/>
                </a:moveTo>
                <a:cubicBezTo>
                  <a:pt x="54" y="50"/>
                  <a:pt x="216" y="0"/>
                  <a:pt x="322" y="0"/>
                </a:cubicBezTo>
                <a:cubicBezTo>
                  <a:pt x="428" y="0"/>
                  <a:pt x="570" y="48"/>
                  <a:pt x="635" y="61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54720" y="1628640"/>
            <a:ext cx="576360" cy="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52360" y="5699160"/>
            <a:ext cx="8496000" cy="1114560"/>
            <a:chOff x="252360" y="5699160"/>
            <a:chExt cx="8496000" cy="1114560"/>
          </a:xfrm>
        </p:grpSpPr>
        <p:sp>
          <p:nvSpPr>
            <p:cNvPr id="503" name=""/>
            <p:cNvSpPr/>
            <p:nvPr/>
          </p:nvSpPr>
          <p:spPr>
            <a:xfrm>
              <a:off x="1068840" y="6461280"/>
              <a:ext cx="7440120" cy="236520"/>
            </a:xfrm>
            <a:custGeom>
              <a:avLst/>
              <a:gdLst/>
              <a:ahLst/>
              <a:rect l="l" t="t" r="r" b="b"/>
              <a:pathLst>
                <a:path w="2064" h="273">
                  <a:moveTo>
                    <a:pt x="634" y="20"/>
                  </a:moveTo>
                  <a:cubicBezTo>
                    <a:pt x="762" y="19"/>
                    <a:pt x="1167" y="9"/>
                    <a:pt x="1405" y="6"/>
                  </a:cubicBezTo>
                  <a:lnTo>
                    <a:pt x="2064" y="0"/>
                  </a:lnTo>
                  <a:lnTo>
                    <a:pt x="2064" y="270"/>
                  </a:lnTo>
                  <a:lnTo>
                    <a:pt x="34" y="273"/>
                  </a:lnTo>
                  <a:lnTo>
                    <a:pt x="0" y="43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e4e4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1920" y="5987880"/>
              <a:ext cx="1037520" cy="708120"/>
            </a:xfrm>
            <a:custGeom>
              <a:avLst/>
              <a:gdLst/>
              <a:ahLst/>
              <a:rect l="l" t="t" r="r" b="b"/>
              <a:pathLst>
                <a:path w="862" h="768">
                  <a:moveTo>
                    <a:pt x="255" y="12"/>
                  </a:moveTo>
                  <a:cubicBezTo>
                    <a:pt x="295" y="25"/>
                    <a:pt x="419" y="50"/>
                    <a:pt x="495" y="90"/>
                  </a:cubicBezTo>
                  <a:cubicBezTo>
                    <a:pt x="571" y="130"/>
                    <a:pt x="651" y="180"/>
                    <a:pt x="709" y="250"/>
                  </a:cubicBezTo>
                  <a:cubicBezTo>
                    <a:pt x="767" y="320"/>
                    <a:pt x="819" y="423"/>
                    <a:pt x="844" y="509"/>
                  </a:cubicBezTo>
                  <a:lnTo>
                    <a:pt x="862" y="768"/>
                  </a:lnTo>
                  <a:lnTo>
                    <a:pt x="0" y="767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2360" y="6696000"/>
              <a:ext cx="8496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1920" y="5699160"/>
              <a:ext cx="0" cy="111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76040" y="4724280"/>
            <a:ext cx="4672440" cy="825480"/>
          </a:xfrm>
          <a:prstGeom prst="wedgeRectCallout">
            <a:avLst>
              <a:gd name="adj1" fmla="val -13476"/>
              <a:gd name="adj2" fmla="val 170745"/>
            </a:avLst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strong coup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mismatched Fermi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58440" y="4724280"/>
            <a:ext cx="3758040" cy="825480"/>
          </a:xfrm>
          <a:prstGeom prst="wedgeRectCallout">
            <a:avLst>
              <a:gd name="adj1" fmla="val 4768"/>
              <a:gd name="adj2" fmla="val 174759"/>
            </a:avLst>
          </a:prstGeom>
          <a:solidFill>
            <a:srgbClr val="ffffff"/>
          </a:soli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weak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common Fermi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53640" y="7650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82880" y="213372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186040" y="213372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9160" y="1295280"/>
            <a:ext cx="409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strange quark m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8720" y="1746360"/>
            <a:ext cx="50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ity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quilibrium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0280" y="312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atch of den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1532520" y="2581920"/>
            <a:ext cx="576360" cy="288720"/>
          </a:xfrm>
          <a:prstGeom prst="rightArrow">
            <a:avLst>
              <a:gd name="adj1" fmla="val 49556"/>
              <a:gd name="adj2" fmla="val 71227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5514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707320" y="6416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657840" y="3259080"/>
          <a:ext cx="172404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7840" y="3259080"/>
                    <a:ext cx="17240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49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48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8215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hases of Color Superconductiv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6692760" y="1206360"/>
          <a:ext cx="102096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2760" y="1206360"/>
                    <a:ext cx="10209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6875640" y="1365120"/>
            <a:ext cx="6490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efe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738920" y="1077840"/>
            <a:ext cx="1296720" cy="1223640"/>
            <a:chOff x="7738920" y="1077840"/>
            <a:chExt cx="1296720" cy="1223640"/>
          </a:xfrm>
        </p:grpSpPr>
        <p:graphicFrame>
          <p:nvGraphicFramePr>
            <p:cNvPr id="525" name=""/>
            <p:cNvGraphicFramePr/>
            <p:nvPr/>
          </p:nvGraphicFramePr>
          <p:xfrm>
            <a:off x="7738920" y="1077840"/>
            <a:ext cx="1296720" cy="122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38920" y="1077840"/>
                      <a:ext cx="1296720" cy="12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7" name=""/>
            <p:cNvSpPr/>
            <p:nvPr/>
          </p:nvSpPr>
          <p:spPr>
            <a:xfrm>
              <a:off x="7969320" y="1281240"/>
              <a:ext cx="833040" cy="82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7451640" y="2301840"/>
            <a:ext cx="647640" cy="574560"/>
            <a:chOff x="7451640" y="2301840"/>
            <a:chExt cx="647640" cy="574560"/>
          </a:xfrm>
        </p:grpSpPr>
        <p:graphicFrame>
          <p:nvGraphicFramePr>
            <p:cNvPr id="529" name=""/>
            <p:cNvGraphicFramePr/>
            <p:nvPr/>
          </p:nvGraphicFramePr>
          <p:xfrm>
            <a:off x="7451640" y="2301840"/>
            <a:ext cx="647640" cy="57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51640" y="2301840"/>
                      <a:ext cx="6476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1" name=""/>
            <p:cNvSpPr/>
            <p:nvPr/>
          </p:nvSpPr>
          <p:spPr>
            <a:xfrm>
              <a:off x="7561080" y="2398680"/>
              <a:ext cx="41184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981840" y="1854360"/>
            <a:ext cx="503280" cy="792000"/>
          </a:xfrm>
          <a:custGeom>
            <a:avLst/>
            <a:gdLst/>
            <a:ahLst/>
            <a:rect l="l" t="t" r="r" b="b"/>
            <a:pathLst>
              <a:path w="317" h="499">
                <a:moveTo>
                  <a:pt x="0" y="0"/>
                </a:moveTo>
                <a:cubicBezTo>
                  <a:pt x="9" y="49"/>
                  <a:pt x="0" y="212"/>
                  <a:pt x="53" y="295"/>
                </a:cubicBezTo>
                <a:cubicBezTo>
                  <a:pt x="106" y="378"/>
                  <a:pt x="262" y="457"/>
                  <a:pt x="317" y="499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62920" y="1925640"/>
            <a:ext cx="503280" cy="720720"/>
          </a:xfrm>
          <a:custGeom>
            <a:avLst/>
            <a:gdLst/>
            <a:ahLst/>
            <a:rect l="l" t="t" r="r" b="b"/>
            <a:pathLst>
              <a:path w="317" h="454">
                <a:moveTo>
                  <a:pt x="317" y="0"/>
                </a:moveTo>
                <a:cubicBezTo>
                  <a:pt x="304" y="49"/>
                  <a:pt x="293" y="218"/>
                  <a:pt x="240" y="294"/>
                </a:cubicBezTo>
                <a:cubicBezTo>
                  <a:pt x="187" y="370"/>
                  <a:pt x="50" y="421"/>
                  <a:pt x="0" y="454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13480" y="1925640"/>
            <a:ext cx="287640" cy="43164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916760" y="1925280"/>
            <a:ext cx="289080" cy="43164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69120" y="1327320"/>
            <a:ext cx="1008000" cy="96840"/>
          </a:xfrm>
          <a:custGeom>
            <a:avLst/>
            <a:gdLst/>
            <a:ahLst/>
            <a:rect l="l" t="t" r="r" b="b"/>
            <a:pathLst>
              <a:path w="635" h="61">
                <a:moveTo>
                  <a:pt x="0" y="60"/>
                </a:moveTo>
                <a:cubicBezTo>
                  <a:pt x="54" y="50"/>
                  <a:pt x="216" y="0"/>
                  <a:pt x="322" y="0"/>
                </a:cubicBezTo>
                <a:cubicBezTo>
                  <a:pt x="428" y="0"/>
                  <a:pt x="570" y="48"/>
                  <a:pt x="635" y="61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99520" y="1700280"/>
            <a:ext cx="576000" cy="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98080" y="83664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27320" y="220500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30480" y="220500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9600" y="1341360"/>
            <a:ext cx="53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=8 possibilities of distinct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900000" y="1798560"/>
          <a:ext cx="5256360" cy="911160"/>
        </p:xfrm>
        <a:graphic>
          <a:graphicData uri="http://schemas.openxmlformats.org/drawingml/2006/table">
            <a:tbl>
              <a:tblPr/>
              <a:tblGrid>
                <a:gridCol w="2664000"/>
                <a:gridCol w="792000"/>
                <a:gridCol w="18003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d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ford, et al. ‘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lin, Love ‘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908640" y="441972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chiral symmetry rest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3080" y="922320"/>
            <a:ext cx="38998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order parameter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900000" y="2878200"/>
          <a:ext cx="5543640" cy="911160"/>
        </p:xfrm>
        <a:graphic>
          <a:graphicData uri="http://schemas.openxmlformats.org/drawingml/2006/table">
            <a:tbl>
              <a:tblPr/>
              <a:tblGrid>
                <a:gridCol w="2665440"/>
                <a:gridCol w="790560"/>
                <a:gridCol w="208764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,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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ter, et al. ‘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,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d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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suura, et al., ‘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5717880" y="374004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.) Neumann, Buballa, Oertel ’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5202360"/>
            <a:ext cx="647640" cy="288720"/>
          </a:xfrm>
          <a:prstGeom prst="rightArrow">
            <a:avLst>
              <a:gd name="adj1" fmla="val 49556"/>
              <a:gd name="adj2" fmla="val 80036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83120" y="51055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hases at intermediate den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5591160"/>
            <a:ext cx="8496000" cy="1114560"/>
            <a:chOff x="250920" y="5591160"/>
            <a:chExt cx="8496000" cy="1114560"/>
          </a:xfrm>
        </p:grpSpPr>
        <p:sp>
          <p:nvSpPr>
            <p:cNvPr id="550" name=""/>
            <p:cNvSpPr/>
            <p:nvPr/>
          </p:nvSpPr>
          <p:spPr>
            <a:xfrm>
              <a:off x="1067400" y="6353280"/>
              <a:ext cx="7440120" cy="236520"/>
            </a:xfrm>
            <a:custGeom>
              <a:avLst/>
              <a:gdLst/>
              <a:ahLst/>
              <a:rect l="l" t="t" r="r" b="b"/>
              <a:pathLst>
                <a:path w="2064" h="273">
                  <a:moveTo>
                    <a:pt x="634" y="20"/>
                  </a:moveTo>
                  <a:cubicBezTo>
                    <a:pt x="762" y="19"/>
                    <a:pt x="1167" y="9"/>
                    <a:pt x="1405" y="6"/>
                  </a:cubicBezTo>
                  <a:lnTo>
                    <a:pt x="2064" y="0"/>
                  </a:lnTo>
                  <a:lnTo>
                    <a:pt x="2064" y="270"/>
                  </a:lnTo>
                  <a:lnTo>
                    <a:pt x="34" y="273"/>
                  </a:lnTo>
                  <a:lnTo>
                    <a:pt x="0" y="43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e4e4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0480" y="5879880"/>
              <a:ext cx="1037520" cy="708120"/>
            </a:xfrm>
            <a:custGeom>
              <a:avLst/>
              <a:gdLst/>
              <a:ahLst/>
              <a:rect l="l" t="t" r="r" b="b"/>
              <a:pathLst>
                <a:path w="862" h="768">
                  <a:moveTo>
                    <a:pt x="255" y="12"/>
                  </a:moveTo>
                  <a:cubicBezTo>
                    <a:pt x="295" y="25"/>
                    <a:pt x="419" y="50"/>
                    <a:pt x="495" y="90"/>
                  </a:cubicBezTo>
                  <a:cubicBezTo>
                    <a:pt x="571" y="130"/>
                    <a:pt x="651" y="180"/>
                    <a:pt x="709" y="250"/>
                  </a:cubicBezTo>
                  <a:cubicBezTo>
                    <a:pt x="767" y="320"/>
                    <a:pt x="819" y="423"/>
                    <a:pt x="844" y="509"/>
                  </a:cubicBezTo>
                  <a:lnTo>
                    <a:pt x="862" y="768"/>
                  </a:lnTo>
                  <a:lnTo>
                    <a:pt x="0" y="767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0920" y="6588000"/>
              <a:ext cx="8496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330480" y="5591160"/>
              <a:ext cx="0" cy="111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0" y="5516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707320" y="6418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55360" y="5624640"/>
            <a:ext cx="51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uki, Kunihiro, 2005; Rust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2005; Fukushima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655000" y="5624640"/>
            <a:ext cx="50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uki, Kunihiro, 2005; Rust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2005, Fukushima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8215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hases of Color Superconductiv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692760" y="1206360"/>
          <a:ext cx="102096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2760" y="1206360"/>
                    <a:ext cx="10209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875640" y="1365120"/>
            <a:ext cx="6490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efe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738920" y="1077840"/>
            <a:ext cx="1296720" cy="1223640"/>
            <a:chOff x="7738920" y="1077840"/>
            <a:chExt cx="1296720" cy="1223640"/>
          </a:xfrm>
        </p:grpSpPr>
        <p:graphicFrame>
          <p:nvGraphicFramePr>
            <p:cNvPr id="563" name=""/>
            <p:cNvGraphicFramePr/>
            <p:nvPr/>
          </p:nvGraphicFramePr>
          <p:xfrm>
            <a:off x="7738920" y="1077840"/>
            <a:ext cx="1296720" cy="122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38920" y="1077840"/>
                      <a:ext cx="1296720" cy="12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"/>
            <p:cNvSpPr/>
            <p:nvPr/>
          </p:nvSpPr>
          <p:spPr>
            <a:xfrm>
              <a:off x="7969320" y="1281240"/>
              <a:ext cx="833040" cy="82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451640" y="2301840"/>
            <a:ext cx="647640" cy="574560"/>
            <a:chOff x="7451640" y="2301840"/>
            <a:chExt cx="647640" cy="574560"/>
          </a:xfrm>
        </p:grpSpPr>
        <p:graphicFrame>
          <p:nvGraphicFramePr>
            <p:cNvPr id="567" name=""/>
            <p:cNvGraphicFramePr/>
            <p:nvPr/>
          </p:nvGraphicFramePr>
          <p:xfrm>
            <a:off x="7451640" y="2301840"/>
            <a:ext cx="647640" cy="57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51640" y="2301840"/>
                      <a:ext cx="6476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561080" y="2398680"/>
              <a:ext cx="41184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981840" y="1854360"/>
            <a:ext cx="503280" cy="792000"/>
          </a:xfrm>
          <a:custGeom>
            <a:avLst/>
            <a:gdLst/>
            <a:ahLst/>
            <a:rect l="l" t="t" r="r" b="b"/>
            <a:pathLst>
              <a:path w="317" h="499">
                <a:moveTo>
                  <a:pt x="0" y="0"/>
                </a:moveTo>
                <a:cubicBezTo>
                  <a:pt x="9" y="49"/>
                  <a:pt x="0" y="212"/>
                  <a:pt x="53" y="295"/>
                </a:cubicBezTo>
                <a:cubicBezTo>
                  <a:pt x="106" y="378"/>
                  <a:pt x="262" y="457"/>
                  <a:pt x="317" y="499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62920" y="1925640"/>
            <a:ext cx="503280" cy="720720"/>
          </a:xfrm>
          <a:custGeom>
            <a:avLst/>
            <a:gdLst/>
            <a:ahLst/>
            <a:rect l="l" t="t" r="r" b="b"/>
            <a:pathLst>
              <a:path w="317" h="454">
                <a:moveTo>
                  <a:pt x="317" y="0"/>
                </a:moveTo>
                <a:cubicBezTo>
                  <a:pt x="304" y="49"/>
                  <a:pt x="293" y="218"/>
                  <a:pt x="240" y="294"/>
                </a:cubicBezTo>
                <a:cubicBezTo>
                  <a:pt x="187" y="370"/>
                  <a:pt x="50" y="421"/>
                  <a:pt x="0" y="454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13480" y="1925640"/>
            <a:ext cx="287640" cy="43164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916760" y="1925280"/>
            <a:ext cx="289080" cy="43164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69120" y="1327320"/>
            <a:ext cx="1008000" cy="96840"/>
          </a:xfrm>
          <a:custGeom>
            <a:avLst/>
            <a:gdLst/>
            <a:ahLst/>
            <a:rect l="l" t="t" r="r" b="b"/>
            <a:pathLst>
              <a:path w="635" h="61">
                <a:moveTo>
                  <a:pt x="0" y="60"/>
                </a:moveTo>
                <a:cubicBezTo>
                  <a:pt x="54" y="50"/>
                  <a:pt x="216" y="0"/>
                  <a:pt x="322" y="0"/>
                </a:cubicBezTo>
                <a:cubicBezTo>
                  <a:pt x="428" y="0"/>
                  <a:pt x="570" y="48"/>
                  <a:pt x="635" y="61"/>
                </a:cubicBezTo>
              </a:path>
            </a:pathLst>
          </a:custGeom>
          <a:noFill/>
          <a:ln w="50760">
            <a:solidFill>
              <a:srgbClr val="969696"/>
            </a:solidFill>
            <a:round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99520" y="1700280"/>
            <a:ext cx="576000" cy="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498080" y="83664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727320" y="220500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30480" y="220500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9600" y="1341360"/>
            <a:ext cx="53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=8 possibilities of distinct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900000" y="1798560"/>
          <a:ext cx="5256360" cy="911160"/>
        </p:xfrm>
        <a:graphic>
          <a:graphicData uri="http://schemas.openxmlformats.org/drawingml/2006/table">
            <a:tbl>
              <a:tblPr/>
              <a:tblGrid>
                <a:gridCol w="2664000"/>
                <a:gridCol w="792000"/>
                <a:gridCol w="18003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ds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ford, et al. ‘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lin, Love ‘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908640" y="441972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chiral symmetry rest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3080" y="922320"/>
            <a:ext cx="38998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order parameter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900000" y="2878200"/>
          <a:ext cx="5543640" cy="911160"/>
        </p:xfrm>
        <a:graphic>
          <a:graphicData uri="http://schemas.openxmlformats.org/drawingml/2006/table">
            <a:tbl>
              <a:tblPr/>
              <a:tblGrid>
                <a:gridCol w="2665440"/>
                <a:gridCol w="790560"/>
                <a:gridCol w="208764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,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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ter, et al. ‘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u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,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d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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suura, et al., ‘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5717880" y="374004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.) Neumann, Buballa, Oertel ’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5202360"/>
            <a:ext cx="647640" cy="288720"/>
          </a:xfrm>
          <a:prstGeom prst="rightArrow">
            <a:avLst>
              <a:gd name="adj1" fmla="val 49556"/>
              <a:gd name="adj2" fmla="val 80036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83120" y="51055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hases at intermediate den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50920" y="5591160"/>
            <a:ext cx="8496000" cy="1114560"/>
            <a:chOff x="250920" y="5591160"/>
            <a:chExt cx="8496000" cy="1114560"/>
          </a:xfrm>
        </p:grpSpPr>
        <p:sp>
          <p:nvSpPr>
            <p:cNvPr id="588" name=""/>
            <p:cNvSpPr/>
            <p:nvPr/>
          </p:nvSpPr>
          <p:spPr>
            <a:xfrm>
              <a:off x="1067400" y="6353280"/>
              <a:ext cx="7440120" cy="236520"/>
            </a:xfrm>
            <a:custGeom>
              <a:avLst/>
              <a:gdLst/>
              <a:ahLst/>
              <a:rect l="l" t="t" r="r" b="b"/>
              <a:pathLst>
                <a:path w="2064" h="273">
                  <a:moveTo>
                    <a:pt x="634" y="20"/>
                  </a:moveTo>
                  <a:cubicBezTo>
                    <a:pt x="762" y="19"/>
                    <a:pt x="1167" y="9"/>
                    <a:pt x="1405" y="6"/>
                  </a:cubicBezTo>
                  <a:lnTo>
                    <a:pt x="2064" y="0"/>
                  </a:lnTo>
                  <a:lnTo>
                    <a:pt x="2064" y="270"/>
                  </a:lnTo>
                  <a:lnTo>
                    <a:pt x="34" y="273"/>
                  </a:lnTo>
                  <a:lnTo>
                    <a:pt x="0" y="43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e4e4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0480" y="5879880"/>
              <a:ext cx="1037520" cy="708120"/>
            </a:xfrm>
            <a:custGeom>
              <a:avLst/>
              <a:gdLst/>
              <a:ahLst/>
              <a:rect l="l" t="t" r="r" b="b"/>
              <a:pathLst>
                <a:path w="862" h="768">
                  <a:moveTo>
                    <a:pt x="255" y="12"/>
                  </a:moveTo>
                  <a:cubicBezTo>
                    <a:pt x="295" y="25"/>
                    <a:pt x="419" y="50"/>
                    <a:pt x="495" y="90"/>
                  </a:cubicBezTo>
                  <a:cubicBezTo>
                    <a:pt x="571" y="130"/>
                    <a:pt x="651" y="180"/>
                    <a:pt x="709" y="250"/>
                  </a:cubicBezTo>
                  <a:cubicBezTo>
                    <a:pt x="767" y="320"/>
                    <a:pt x="819" y="423"/>
                    <a:pt x="844" y="509"/>
                  </a:cubicBezTo>
                  <a:lnTo>
                    <a:pt x="862" y="768"/>
                  </a:lnTo>
                  <a:lnTo>
                    <a:pt x="0" y="767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0920" y="6588000"/>
              <a:ext cx="8496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30480" y="5591160"/>
              <a:ext cx="0" cy="111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5516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707320" y="6418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187280" y="3357720"/>
            <a:ext cx="6840720" cy="3456000"/>
            <a:chOff x="1187280" y="3357720"/>
            <a:chExt cx="6840720" cy="3456000"/>
          </a:xfrm>
        </p:grpSpPr>
        <p:sp>
          <p:nvSpPr>
            <p:cNvPr id="595" name=""/>
            <p:cNvSpPr/>
            <p:nvPr/>
          </p:nvSpPr>
          <p:spPr>
            <a:xfrm>
              <a:off x="1187280" y="6184800"/>
              <a:ext cx="863640" cy="50328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7"/>
            <a:stretch/>
          </p:blipFill>
          <p:spPr>
            <a:xfrm>
              <a:off x="3201840" y="3387600"/>
              <a:ext cx="4826160" cy="3426120"/>
            </a:xfrm>
            <a:prstGeom prst="rect">
              <a:avLst/>
            </a:prstGeom>
            <a:ln w="19080">
              <a:solidFill>
                <a:srgbClr val="000080"/>
              </a:solidFill>
              <a:miter/>
            </a:ln>
          </p:spPr>
        </p:pic>
        <p:sp>
          <p:nvSpPr>
            <p:cNvPr id="597" name=""/>
            <p:cNvSpPr/>
            <p:nvPr/>
          </p:nvSpPr>
          <p:spPr>
            <a:xfrm flipV="1">
              <a:off x="1187280" y="3357720"/>
              <a:ext cx="2016360" cy="28080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50920" y="6669000"/>
              <a:ext cx="1152720" cy="144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5435640" y="5229360"/>
            <a:ext cx="576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88000" y="4724280"/>
            <a:ext cx="505080" cy="217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04000" y="6021360"/>
            <a:ext cx="576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3522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ma Instabil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55640" y="1989000"/>
            <a:ext cx="2951280" cy="860400"/>
            <a:chOff x="755640" y="1989000"/>
            <a:chExt cx="2951280" cy="860400"/>
          </a:xfrm>
        </p:grpSpPr>
        <p:sp>
          <p:nvSpPr>
            <p:cNvPr id="604" name=""/>
            <p:cNvSpPr/>
            <p:nvPr/>
          </p:nvSpPr>
          <p:spPr>
            <a:xfrm flipV="1">
              <a:off x="755640" y="198900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5640" y="2849400"/>
              <a:ext cx="29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755640" y="2101680"/>
            <a:ext cx="2622600" cy="968400"/>
          </a:xfrm>
          <a:custGeom>
            <a:avLst/>
            <a:gdLst/>
            <a:ahLst/>
            <a:rect l="l" t="t" r="r" b="b"/>
            <a:pathLst>
              <a:path w="1652" h="610">
                <a:moveTo>
                  <a:pt x="0" y="471"/>
                </a:moveTo>
                <a:cubicBezTo>
                  <a:pt x="15" y="470"/>
                  <a:pt x="40" y="476"/>
                  <a:pt x="91" y="467"/>
                </a:cubicBezTo>
                <a:cubicBezTo>
                  <a:pt x="142" y="458"/>
                  <a:pt x="215" y="442"/>
                  <a:pt x="306" y="417"/>
                </a:cubicBezTo>
                <a:cubicBezTo>
                  <a:pt x="397" y="392"/>
                  <a:pt x="532" y="290"/>
                  <a:pt x="639" y="318"/>
                </a:cubicBezTo>
                <a:cubicBezTo>
                  <a:pt x="746" y="346"/>
                  <a:pt x="844" y="560"/>
                  <a:pt x="947" y="585"/>
                </a:cubicBezTo>
                <a:cubicBezTo>
                  <a:pt x="1050" y="610"/>
                  <a:pt x="1141" y="568"/>
                  <a:pt x="1258" y="471"/>
                </a:cubicBezTo>
                <a:cubicBezTo>
                  <a:pt x="1375" y="374"/>
                  <a:pt x="1507" y="186"/>
                  <a:pt x="165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706920" y="2781360"/>
          <a:ext cx="23004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6920" y="2781360"/>
                    <a:ext cx="2300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826920" y="1844640"/>
          <a:ext cx="59220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844640"/>
                    <a:ext cx="592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242280" y="81612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pless SC is re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effective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8000" y="981000"/>
            <a:ext cx="144360" cy="14436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0964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29257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47640" y="20383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p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42160" y="29973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427640" y="2133720"/>
            <a:ext cx="406440" cy="431640"/>
          </a:xfrm>
          <a:prstGeom prst="rightArrow">
            <a:avLst>
              <a:gd name="adj1" fmla="val 49556"/>
              <a:gd name="adj2" fmla="val 35681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88880" y="2081160"/>
            <a:ext cx="2428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rma in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84360" y="4292640"/>
            <a:ext cx="14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50864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5800" y="5805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360" y="5157720"/>
            <a:ext cx="136836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9560" y="42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3200" y="549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547640" y="5800680"/>
          <a:ext cx="250920" cy="29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5800680"/>
                    <a:ext cx="2509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684360" y="4437000"/>
            <a:ext cx="64764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92360" y="4437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132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2480" y="3594240"/>
            <a:ext cx="68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less state is unstable again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se sepa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928760" y="4581360"/>
            <a:ext cx="2815920" cy="1368720"/>
            <a:chOff x="4928760" y="4581360"/>
            <a:chExt cx="2815920" cy="1368720"/>
          </a:xfrm>
        </p:grpSpPr>
        <p:sp>
          <p:nvSpPr>
            <p:cNvPr id="632" name=""/>
            <p:cNvSpPr/>
            <p:nvPr/>
          </p:nvSpPr>
          <p:spPr>
            <a:xfrm>
              <a:off x="5076720" y="501336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08720" y="49417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92720" y="5229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08720" y="544500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24360" y="515772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37080" y="508644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19640" y="544680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24360" y="4941720"/>
              <a:ext cx="14472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2720" y="4797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03640" y="558972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08720" y="472608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80000" y="5230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96000" y="5157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8360" y="5086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37080" y="5518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69080" y="53020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96000" y="5589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03640" y="53020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27640" y="5589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15280" y="544680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12000" y="479736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72360" y="5013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86560" y="53020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88000" y="4870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83280" y="49417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56360" y="5157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26200" y="5373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8398400">
              <a:off x="4895640" y="5049000"/>
              <a:ext cx="108108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3307200">
              <a:off x="5040000" y="5122440"/>
              <a:ext cx="10810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666600">
              <a:off x="4932360" y="5157720"/>
              <a:ext cx="10810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481600">
              <a:off x="5003640" y="5302080"/>
              <a:ext cx="1081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5604000">
              <a:off x="4894920" y="5050440"/>
              <a:ext cx="86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661080" y="5013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93080" y="49417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77080" y="5229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93080" y="544500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08720" y="566100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21440" y="508644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804000" y="544680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08720" y="4941720"/>
              <a:ext cx="14472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77080" y="4797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96360" y="544680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93080" y="472608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164360" y="5230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80360" y="5157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32720" y="5086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21440" y="5518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53440" y="53020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80360" y="5589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83280" y="5373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9280" y="4797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8398400">
              <a:off x="6480000" y="5049000"/>
              <a:ext cx="108108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3307200">
              <a:off x="6624360" y="5122440"/>
              <a:ext cx="10810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666600">
              <a:off x="6659640" y="5157720"/>
              <a:ext cx="10810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481600">
              <a:off x="6588000" y="5302080"/>
              <a:ext cx="1081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604000">
              <a:off x="6479280" y="5050440"/>
              <a:ext cx="86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5604000">
              <a:off x="5110920" y="5266440"/>
              <a:ext cx="865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12000" y="4581360"/>
              <a:ext cx="0" cy="136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51640" y="487044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23280" y="47991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5604000">
              <a:off x="7055640" y="5050440"/>
              <a:ext cx="86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59640" y="4581360"/>
              <a:ext cx="0" cy="136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3924360" y="4940280"/>
            <a:ext cx="647640" cy="576360"/>
          </a:xfrm>
          <a:prstGeom prst="rightArrow">
            <a:avLst>
              <a:gd name="adj1" fmla="val 50000"/>
              <a:gd name="adj2" fmla="val 28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124000" y="4940280"/>
            <a:ext cx="71640" cy="792360"/>
            <a:chOff x="2124000" y="4940280"/>
            <a:chExt cx="71640" cy="792360"/>
          </a:xfrm>
        </p:grpSpPr>
        <p:sp>
          <p:nvSpPr>
            <p:cNvPr id="696" name=""/>
            <p:cNvSpPr/>
            <p:nvPr/>
          </p:nvSpPr>
          <p:spPr>
            <a:xfrm>
              <a:off x="2124000" y="4940280"/>
              <a:ext cx="7164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24000" y="566100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57480" y="5013360"/>
              <a:ext cx="0" cy="647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187280" y="4508640"/>
            <a:ext cx="71640" cy="792000"/>
            <a:chOff x="1187280" y="4508640"/>
            <a:chExt cx="71640" cy="792000"/>
          </a:xfrm>
        </p:grpSpPr>
        <p:sp>
          <p:nvSpPr>
            <p:cNvPr id="700" name=""/>
            <p:cNvSpPr/>
            <p:nvPr/>
          </p:nvSpPr>
          <p:spPr>
            <a:xfrm>
              <a:off x="1187280" y="450864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187280" y="5227560"/>
              <a:ext cx="7164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25440" y="4581360"/>
              <a:ext cx="0" cy="6480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332000" y="4437000"/>
            <a:ext cx="0" cy="180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050920" y="4437000"/>
            <a:ext cx="0" cy="180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68480" y="6156360"/>
            <a:ext cx="12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332000" y="6165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1520" y="3772080"/>
            <a:ext cx="144720" cy="14436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6249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rue Ground Stat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3400" y="3962520"/>
            <a:ext cx="360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onic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line C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-one super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C + Kaon cond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4495680" y="3552840"/>
            <a:ext cx="4648320" cy="322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300600" y="327672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s of true ground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320" y="1041480"/>
            <a:ext cx="144360" cy="14436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4280" y="853920"/>
            <a:ext cx="488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less phase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have imagi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l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issner mas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56400" y="17524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-magnetic in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96760" y="1828800"/>
            <a:ext cx="381240" cy="380880"/>
          </a:xfrm>
          <a:prstGeom prst="rightArrow">
            <a:avLst>
              <a:gd name="adj1" fmla="val 49556"/>
              <a:gd name="adj2" fmla="val 35714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96760" y="2268360"/>
            <a:ext cx="381240" cy="381240"/>
          </a:xfrm>
          <a:prstGeom prst="rightArrow">
            <a:avLst>
              <a:gd name="adj1" fmla="val 49556"/>
              <a:gd name="adj2" fmla="val 35681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57480" y="219240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more stabl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420440" y="12952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ang, Shovkovy,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0880" y="41148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4240" y="3436920"/>
            <a:ext cx="144360" cy="14436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75000" y="6353280"/>
            <a:ext cx="366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density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6521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over in Polarized Fermi g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138280" y="83664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o, Wu, Yip, cond-mat/05064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, Stephanov, cond-mat/05075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3960" y="2381400"/>
            <a:ext cx="718920" cy="520560"/>
          </a:xfrm>
          <a:prstGeom prst="leftRightArrow">
            <a:avLst>
              <a:gd name="adj1" fmla="val 55259"/>
              <a:gd name="adj2" fmla="val 37192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2200" y="5477040"/>
            <a:ext cx="64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w is the intermediate region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limits in the polarized Fermi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17520" y="40752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89160" y="41464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65040" y="1876320"/>
            <a:ext cx="3673440" cy="3024360"/>
          </a:xfrm>
          <a:prstGeom prst="octagon">
            <a:avLst>
              <a:gd name="adj" fmla="val 5565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920" y="20923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49680" y="2495520"/>
            <a:ext cx="27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of ferm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ound bo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3360" y="1589040"/>
            <a:ext cx="338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ong coupling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57160" y="364176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28800" y="35701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7732800">
            <a:off x="813600" y="3588480"/>
            <a:ext cx="304560" cy="1918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599120" y="4365720"/>
            <a:ext cx="317520" cy="360000"/>
            <a:chOff x="1599120" y="4365720"/>
            <a:chExt cx="317520" cy="360000"/>
          </a:xfrm>
        </p:grpSpPr>
        <p:sp>
          <p:nvSpPr>
            <p:cNvPr id="736" name=""/>
            <p:cNvSpPr/>
            <p:nvPr/>
          </p:nvSpPr>
          <p:spPr>
            <a:xfrm rot="17497200">
              <a:off x="1659960" y="44258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7497200">
              <a:off x="1699200" y="451764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3630000">
              <a:off x="1605240" y="4449600"/>
              <a:ext cx="30492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2084040" y="3533400"/>
            <a:ext cx="357480" cy="303840"/>
            <a:chOff x="2084040" y="3533400"/>
            <a:chExt cx="357480" cy="303840"/>
          </a:xfrm>
        </p:grpSpPr>
        <p:sp>
          <p:nvSpPr>
            <p:cNvPr id="740" name=""/>
            <p:cNvSpPr/>
            <p:nvPr/>
          </p:nvSpPr>
          <p:spPr>
            <a:xfrm rot="4585200">
              <a:off x="2240640" y="3636360"/>
              <a:ext cx="1425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4585200">
              <a:off x="2153520" y="35841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2318000">
              <a:off x="2110320" y="3588840"/>
              <a:ext cx="30456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017880" y="421812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7732800">
            <a:off x="2973600" y="4164480"/>
            <a:ext cx="304920" cy="1922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46240" y="414648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7732800">
            <a:off x="1101960" y="4093200"/>
            <a:ext cx="304920" cy="1922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85880" y="3570120"/>
            <a:ext cx="14472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57520" y="34988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7732800">
            <a:off x="2541960" y="3516840"/>
            <a:ext cx="304920" cy="1918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51200" y="410688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22480" y="40356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7732800">
            <a:off x="1907280" y="4053600"/>
            <a:ext cx="304560" cy="1918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30480" y="374796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82840" y="39639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90840" y="40370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670120" y="39639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54120" y="43243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78120" y="34606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27200" y="38926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19560" y="44686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74840" y="42530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66840" y="43959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721440" y="4178520"/>
            <a:ext cx="317520" cy="359640"/>
            <a:chOff x="721440" y="4178520"/>
            <a:chExt cx="317520" cy="359640"/>
          </a:xfrm>
        </p:grpSpPr>
        <p:sp>
          <p:nvSpPr>
            <p:cNvPr id="764" name=""/>
            <p:cNvSpPr/>
            <p:nvPr/>
          </p:nvSpPr>
          <p:spPr>
            <a:xfrm rot="17497200">
              <a:off x="781560" y="42390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7497200">
              <a:off x="821160" y="4330800"/>
              <a:ext cx="144360" cy="144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3630000">
              <a:off x="727560" y="4262040"/>
              <a:ext cx="30456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808720" y="3602160"/>
            <a:ext cx="317520" cy="360000"/>
            <a:chOff x="2808720" y="3602160"/>
            <a:chExt cx="317520" cy="360000"/>
          </a:xfrm>
        </p:grpSpPr>
        <p:sp>
          <p:nvSpPr>
            <p:cNvPr id="768" name=""/>
            <p:cNvSpPr/>
            <p:nvPr/>
          </p:nvSpPr>
          <p:spPr>
            <a:xfrm rot="17497200">
              <a:off x="2869560" y="36622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7497200">
              <a:off x="2908800" y="375408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3630000">
              <a:off x="2814840" y="3686040"/>
              <a:ext cx="30492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584720" y="3674160"/>
            <a:ext cx="317520" cy="359640"/>
            <a:chOff x="1584720" y="3674160"/>
            <a:chExt cx="317520" cy="359640"/>
          </a:xfrm>
        </p:grpSpPr>
        <p:sp>
          <p:nvSpPr>
            <p:cNvPr id="772" name=""/>
            <p:cNvSpPr/>
            <p:nvPr/>
          </p:nvSpPr>
          <p:spPr>
            <a:xfrm rot="17497200">
              <a:off x="1645200" y="373464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7497200">
              <a:off x="1684800" y="3826440"/>
              <a:ext cx="144360" cy="144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3630000">
              <a:off x="1590840" y="3757680"/>
              <a:ext cx="30456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348560" y="3417480"/>
            <a:ext cx="357480" cy="303840"/>
            <a:chOff x="1348560" y="3417480"/>
            <a:chExt cx="357480" cy="303840"/>
          </a:xfrm>
        </p:grpSpPr>
        <p:sp>
          <p:nvSpPr>
            <p:cNvPr id="776" name=""/>
            <p:cNvSpPr/>
            <p:nvPr/>
          </p:nvSpPr>
          <p:spPr>
            <a:xfrm rot="4585200">
              <a:off x="1505520" y="3520440"/>
              <a:ext cx="1425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4585200">
              <a:off x="1418400" y="346824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2318000">
              <a:off x="1374840" y="3472920"/>
              <a:ext cx="30456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3364560" y="3560040"/>
            <a:ext cx="357840" cy="304200"/>
            <a:chOff x="3364560" y="3560040"/>
            <a:chExt cx="357840" cy="304200"/>
          </a:xfrm>
        </p:grpSpPr>
        <p:sp>
          <p:nvSpPr>
            <p:cNvPr id="780" name=""/>
            <p:cNvSpPr/>
            <p:nvPr/>
          </p:nvSpPr>
          <p:spPr>
            <a:xfrm rot="4585200">
              <a:off x="3520800" y="366336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4585200">
              <a:off x="3434040" y="361116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2318000">
              <a:off x="3390840" y="3615840"/>
              <a:ext cx="304920" cy="19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5243400" y="1860480"/>
            <a:ext cx="3600720" cy="3079800"/>
          </a:xfrm>
          <a:prstGeom prst="octagon">
            <a:avLst>
              <a:gd name="adj" fmla="val 4014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31360" y="1557360"/>
            <a:ext cx="3248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k coupling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08640" y="206064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tially inhomoge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179040" y="2492280"/>
            <a:ext cx="23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64120" y="256392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49920" y="38592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181560" y="3787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965920" y="40752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181560" y="4290840"/>
            <a:ext cx="14472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397560" y="400356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10280" y="393228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92840" y="4292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397560" y="378792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65920" y="364320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76840" y="44355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181560" y="357192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53200" y="407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69200" y="400356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21200" y="393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110280" y="4363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541920" y="414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469200" y="44355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676840" y="414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900840" y="44355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188120" y="4292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684840" y="36432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045200" y="38592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259760" y="414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261200" y="37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56480" y="3787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829560" y="40035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99400" y="42195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8398400">
            <a:off x="5568840" y="3895560"/>
            <a:ext cx="1081080" cy="144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3307200">
            <a:off x="5713560" y="3968280"/>
            <a:ext cx="1081080" cy="144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666600">
            <a:off x="5605560" y="4003560"/>
            <a:ext cx="1081080" cy="144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20481600">
            <a:off x="5676480" y="4148280"/>
            <a:ext cx="1081080" cy="21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5604000">
            <a:off x="5568120" y="3896280"/>
            <a:ext cx="865080" cy="216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34280" y="38592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65920" y="3787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50280" y="40752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65920" y="4290840"/>
            <a:ext cx="14472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981920" y="45068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4640" y="393228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77200" y="4292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981920" y="378792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0280" y="364320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269200" y="429264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765920" y="357192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837560" y="407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053560" y="400356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405560" y="393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94640" y="4363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126280" y="414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053560" y="44355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756480" y="42195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972480" y="364320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8398400">
            <a:off x="7153200" y="3895560"/>
            <a:ext cx="1081080" cy="144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3307200">
            <a:off x="7297920" y="3968280"/>
            <a:ext cx="1081080" cy="144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666600">
            <a:off x="7332840" y="4003560"/>
            <a:ext cx="1081080" cy="144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20481600">
            <a:off x="7260840" y="4148280"/>
            <a:ext cx="1081080" cy="21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5604000">
            <a:off x="7152480" y="3896280"/>
            <a:ext cx="865080" cy="216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5604000">
            <a:off x="5783760" y="4112640"/>
            <a:ext cx="865080" cy="21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684840" y="34275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124840" y="371628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196120" y="3645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5604000">
            <a:off x="7728480" y="3896640"/>
            <a:ext cx="865080" cy="21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32840" y="34275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485200" y="3067200"/>
            <a:ext cx="216000" cy="792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3657600" y="2590920"/>
            <a:ext cx="8534160" cy="74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2fef2">
                  <a:alpha val="21176"/>
                </a:srgbClr>
              </a:gs>
              <a:gs pos="100000">
                <a:srgbClr val="ccffcc">
                  <a:alpha val="45098"/>
                </a:srgbClr>
              </a:gs>
            </a:gsLst>
            <a:lin ang="8100000"/>
          </a:gradFill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4786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of QC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59200" y="5699160"/>
            <a:ext cx="393480" cy="531720"/>
          </a:xfrm>
          <a:custGeom>
            <a:avLst/>
            <a:gdLst/>
            <a:ahLst/>
            <a:rect l="l" t="t" r="r" b="b"/>
            <a:pathLst>
              <a:path w="1834" h="2059">
                <a:moveTo>
                  <a:pt x="1834" y="2059"/>
                </a:moveTo>
                <a:cubicBezTo>
                  <a:pt x="1821" y="1988"/>
                  <a:pt x="1806" y="1787"/>
                  <a:pt x="1761" y="1635"/>
                </a:cubicBezTo>
                <a:cubicBezTo>
                  <a:pt x="1716" y="1483"/>
                  <a:pt x="1665" y="1305"/>
                  <a:pt x="1562" y="1145"/>
                </a:cubicBezTo>
                <a:cubicBezTo>
                  <a:pt x="1459" y="985"/>
                  <a:pt x="1305" y="822"/>
                  <a:pt x="1145" y="675"/>
                </a:cubicBezTo>
                <a:cubicBezTo>
                  <a:pt x="985" y="528"/>
                  <a:pt x="793" y="377"/>
                  <a:pt x="602" y="265"/>
                </a:cubicBezTo>
                <a:cubicBezTo>
                  <a:pt x="411" y="153"/>
                  <a:pt x="100" y="4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4978440"/>
            <a:ext cx="2879640" cy="1312920"/>
          </a:xfrm>
          <a:custGeom>
            <a:avLst/>
            <a:gdLst/>
            <a:ahLst/>
            <a:rect l="l" t="t" r="r" b="b"/>
            <a:pathLst>
              <a:path w="2009" h="827">
                <a:moveTo>
                  <a:pt x="94" y="827"/>
                </a:moveTo>
                <a:cubicBezTo>
                  <a:pt x="87" y="777"/>
                  <a:pt x="66" y="609"/>
                  <a:pt x="50" y="525"/>
                </a:cubicBezTo>
                <a:cubicBezTo>
                  <a:pt x="34" y="441"/>
                  <a:pt x="32" y="425"/>
                  <a:pt x="0" y="325"/>
                </a:cubicBezTo>
                <a:cubicBezTo>
                  <a:pt x="93" y="280"/>
                  <a:pt x="232" y="234"/>
                  <a:pt x="345" y="199"/>
                </a:cubicBezTo>
                <a:cubicBezTo>
                  <a:pt x="458" y="164"/>
                  <a:pt x="576" y="140"/>
                  <a:pt x="679" y="117"/>
                </a:cubicBezTo>
                <a:cubicBezTo>
                  <a:pt x="782" y="94"/>
                  <a:pt x="844" y="78"/>
                  <a:pt x="964" y="63"/>
                </a:cubicBezTo>
                <a:cubicBezTo>
                  <a:pt x="1084" y="49"/>
                  <a:pt x="1269" y="39"/>
                  <a:pt x="1400" y="31"/>
                </a:cubicBezTo>
                <a:cubicBezTo>
                  <a:pt x="1531" y="23"/>
                  <a:pt x="1647" y="7"/>
                  <a:pt x="1748" y="15"/>
                </a:cubicBezTo>
                <a:cubicBezTo>
                  <a:pt x="1849" y="23"/>
                  <a:pt x="1842" y="0"/>
                  <a:pt x="2009" y="81"/>
                </a:cubicBezTo>
                <a:cubicBezTo>
                  <a:pt x="2002" y="446"/>
                  <a:pt x="1996" y="812"/>
                  <a:pt x="1996" y="812"/>
                </a:cubicBezTo>
              </a:path>
            </a:pathLst>
          </a:cu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3366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897360"/>
            <a:ext cx="3333600" cy="2379600"/>
          </a:xfrm>
          <a:custGeom>
            <a:avLst/>
            <a:gdLst/>
            <a:ahLst/>
            <a:rect l="l" t="t" r="r" b="b"/>
            <a:pathLst>
              <a:path w="2100" h="1499">
                <a:moveTo>
                  <a:pt x="4" y="1491"/>
                </a:moveTo>
                <a:cubicBezTo>
                  <a:pt x="3" y="1244"/>
                  <a:pt x="0" y="359"/>
                  <a:pt x="0" y="9"/>
                </a:cubicBezTo>
                <a:cubicBezTo>
                  <a:pt x="115" y="17"/>
                  <a:pt x="316" y="0"/>
                  <a:pt x="434" y="13"/>
                </a:cubicBezTo>
                <a:cubicBezTo>
                  <a:pt x="552" y="23"/>
                  <a:pt x="589" y="33"/>
                  <a:pt x="710" y="67"/>
                </a:cubicBezTo>
                <a:cubicBezTo>
                  <a:pt x="832" y="101"/>
                  <a:pt x="996" y="123"/>
                  <a:pt x="1164" y="217"/>
                </a:cubicBezTo>
                <a:cubicBezTo>
                  <a:pt x="1332" y="311"/>
                  <a:pt x="1575" y="487"/>
                  <a:pt x="1719" y="630"/>
                </a:cubicBezTo>
                <a:cubicBezTo>
                  <a:pt x="1863" y="773"/>
                  <a:pt x="1964" y="933"/>
                  <a:pt x="2027" y="1078"/>
                </a:cubicBezTo>
                <a:cubicBezTo>
                  <a:pt x="2100" y="1386"/>
                  <a:pt x="2085" y="1411"/>
                  <a:pt x="2100" y="1499"/>
                </a:cubicBezTo>
              </a:path>
            </a:pathLst>
          </a:custGeom>
          <a:gradFill rotWithShape="0">
            <a:gsLst>
              <a:gs pos="0">
                <a:srgbClr val="750000">
                  <a:alpha val="0"/>
                </a:srgbClr>
              </a:gs>
              <a:gs pos="100000">
                <a:srgbClr val="ff0000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4113360"/>
            <a:ext cx="1886040" cy="2122200"/>
          </a:xfrm>
          <a:custGeom>
            <a:avLst/>
            <a:gdLst/>
            <a:ahLst/>
            <a:rect l="l" t="t" r="r" b="b"/>
            <a:pathLst>
              <a:path w="2049" h="2115">
                <a:moveTo>
                  <a:pt x="2049" y="2115"/>
                </a:moveTo>
                <a:cubicBezTo>
                  <a:pt x="2036" y="2044"/>
                  <a:pt x="2021" y="1843"/>
                  <a:pt x="1976" y="1691"/>
                </a:cubicBezTo>
                <a:cubicBezTo>
                  <a:pt x="1931" y="1539"/>
                  <a:pt x="1880" y="1361"/>
                  <a:pt x="1777" y="1201"/>
                </a:cubicBezTo>
                <a:cubicBezTo>
                  <a:pt x="1674" y="1041"/>
                  <a:pt x="1520" y="878"/>
                  <a:pt x="1360" y="731"/>
                </a:cubicBezTo>
                <a:cubicBezTo>
                  <a:pt x="1200" y="584"/>
                  <a:pt x="973" y="423"/>
                  <a:pt x="817" y="321"/>
                </a:cubicBezTo>
                <a:cubicBezTo>
                  <a:pt x="661" y="219"/>
                  <a:pt x="562" y="172"/>
                  <a:pt x="426" y="119"/>
                </a:cubicBezTo>
                <a:cubicBezTo>
                  <a:pt x="290" y="66"/>
                  <a:pt x="89" y="2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2755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11280" y="31050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986440"/>
            <a:ext cx="144360" cy="144360"/>
          </a:xfrm>
          <a:prstGeom prst="ellipse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016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04172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960" y="6186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978440"/>
            <a:ext cx="2663640" cy="503280"/>
          </a:xfrm>
          <a:custGeom>
            <a:avLst/>
            <a:gdLst/>
            <a:ahLst/>
            <a:rect l="l" t="t" r="r" b="b"/>
            <a:pathLst>
              <a:path w="1709" h="404">
                <a:moveTo>
                  <a:pt x="0" y="404"/>
                </a:moveTo>
                <a:cubicBezTo>
                  <a:pt x="60" y="379"/>
                  <a:pt x="230" y="302"/>
                  <a:pt x="363" y="255"/>
                </a:cubicBezTo>
                <a:cubicBezTo>
                  <a:pt x="496" y="208"/>
                  <a:pt x="658" y="157"/>
                  <a:pt x="800" y="123"/>
                </a:cubicBezTo>
                <a:cubicBezTo>
                  <a:pt x="942" y="89"/>
                  <a:pt x="1062" y="74"/>
                  <a:pt x="1213" y="54"/>
                </a:cubicBezTo>
                <a:cubicBezTo>
                  <a:pt x="1364" y="34"/>
                  <a:pt x="1606" y="11"/>
                  <a:pt x="1709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6960" y="50292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7880" y="54864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or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9480" y="1031760"/>
            <a:ext cx="5074920" cy="3235320"/>
            <a:chOff x="609480" y="1031760"/>
            <a:chExt cx="5074920" cy="3235320"/>
          </a:xfrm>
        </p:grpSpPr>
        <p:sp>
          <p:nvSpPr>
            <p:cNvPr id="143" name=""/>
            <p:cNvSpPr/>
            <p:nvPr/>
          </p:nvSpPr>
          <p:spPr>
            <a:xfrm>
              <a:off x="609480" y="2133720"/>
              <a:ext cx="1676520" cy="2133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09840" y="1031760"/>
              <a:ext cx="41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ongly coupled QGP @ RH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523880" y="1523880"/>
              <a:ext cx="152640" cy="1295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429000" y="2279520"/>
            <a:ext cx="5671800" cy="1835280"/>
            <a:chOff x="3429000" y="2279520"/>
            <a:chExt cx="5671800" cy="1835280"/>
          </a:xfrm>
        </p:grpSpPr>
        <p:sp>
          <p:nvSpPr>
            <p:cNvPr id="147" name=""/>
            <p:cNvSpPr/>
            <p:nvPr/>
          </p:nvSpPr>
          <p:spPr>
            <a:xfrm>
              <a:off x="4412520" y="2279520"/>
              <a:ext cx="468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8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ark matter at intermedia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wi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a strongly coupled system, to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429000" y="2666880"/>
              <a:ext cx="990720" cy="1447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267080" y="3581280"/>
            <a:ext cx="4345200" cy="2057400"/>
            <a:chOff x="4267080" y="3581280"/>
            <a:chExt cx="4345200" cy="2057400"/>
          </a:xfrm>
        </p:grpSpPr>
        <p:sp>
          <p:nvSpPr>
            <p:cNvPr id="150" name=""/>
            <p:cNvSpPr/>
            <p:nvPr/>
          </p:nvSpPr>
          <p:spPr>
            <a:xfrm>
              <a:off x="5769000" y="3581280"/>
              <a:ext cx="28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ongly coupled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or supercondu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ll be realiz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267080" y="4419720"/>
              <a:ext cx="1447920" cy="1218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78880" y="6095880"/>
            <a:ext cx="3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rcRect l="0" t="22738" r="0" b="0"/>
          <a:stretch/>
        </p:blipFill>
        <p:spPr>
          <a:xfrm>
            <a:off x="6324480" y="47520"/>
            <a:ext cx="2819520" cy="242568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3184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Effor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4957920" y="2313000"/>
            <a:ext cx="3957480" cy="431640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 rot="16200000">
            <a:off x="4462560" y="4023720"/>
            <a:ext cx="10173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/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251040" y="6400800"/>
            <a:ext cx="164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44560" y="36766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n, et al., Nat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689(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7000" y="2514600"/>
            <a:ext cx="40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 at uni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trappe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olarized SC at uni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0600" y="1031760"/>
            <a:ext cx="41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 Carlo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ormailzation group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3048120" y="4114800"/>
            <a:ext cx="1371600" cy="38088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6699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00720" y="4968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43720" y="496872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jun M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nyi 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50799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87200" y="955800"/>
            <a:ext cx="61182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CS-BEC Crossover of CS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Diquark Fluct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the Quark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99240" y="2819520"/>
            <a:ext cx="234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bo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zieres, Schmitt-R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920" y="3811680"/>
            <a:ext cx="7921440" cy="1220760"/>
          </a:xfrm>
          <a:custGeom>
            <a:avLst/>
            <a:gdLst/>
            <a:ahLst/>
            <a:rect l="l" t="t" r="r" b="b"/>
            <a:pathLst>
              <a:path w="4990" h="769">
                <a:moveTo>
                  <a:pt x="4924" y="761"/>
                </a:moveTo>
                <a:cubicBezTo>
                  <a:pt x="4919" y="733"/>
                  <a:pt x="4921" y="625"/>
                  <a:pt x="4891" y="594"/>
                </a:cubicBezTo>
                <a:cubicBezTo>
                  <a:pt x="4861" y="563"/>
                  <a:pt x="4990" y="583"/>
                  <a:pt x="4744" y="573"/>
                </a:cubicBezTo>
                <a:cubicBezTo>
                  <a:pt x="4498" y="563"/>
                  <a:pt x="3887" y="567"/>
                  <a:pt x="3415" y="536"/>
                </a:cubicBezTo>
                <a:cubicBezTo>
                  <a:pt x="2942" y="505"/>
                  <a:pt x="2354" y="455"/>
                  <a:pt x="1909" y="388"/>
                </a:cubicBezTo>
                <a:cubicBezTo>
                  <a:pt x="1465" y="321"/>
                  <a:pt x="1046" y="188"/>
                  <a:pt x="747" y="133"/>
                </a:cubicBezTo>
                <a:cubicBezTo>
                  <a:pt x="448" y="78"/>
                  <a:pt x="232" y="63"/>
                  <a:pt x="116" y="60"/>
                </a:cubicBezTo>
                <a:cubicBezTo>
                  <a:pt x="0" y="57"/>
                  <a:pt x="61" y="0"/>
                  <a:pt x="49" y="118"/>
                </a:cubicBezTo>
                <a:cubicBezTo>
                  <a:pt x="37" y="236"/>
                  <a:pt x="43" y="634"/>
                  <a:pt x="41" y="769"/>
                </a:cubicBezTo>
              </a:path>
            </a:pathLst>
          </a:custGeom>
          <a:gradFill rotWithShape="0">
            <a:gsLst>
              <a:gs pos="0">
                <a:srgbClr val="0000ff">
                  <a:alpha val="16078"/>
                </a:srgbClr>
              </a:gs>
              <a:gs pos="100000">
                <a:srgbClr val="0f0ffe">
                  <a:alpha val="4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5484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Phase Diagra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42920" y="5032440"/>
            <a:ext cx="8245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56100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" y="525780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68360" y="3881520"/>
            <a:ext cx="7848720" cy="846000"/>
          </a:xfrm>
          <a:custGeom>
            <a:avLst/>
            <a:gdLst/>
            <a:ahLst/>
            <a:rect l="l" t="t" r="r" b="b"/>
            <a:pathLst>
              <a:path w="4570" h="652">
                <a:moveTo>
                  <a:pt x="4399" y="644"/>
                </a:moveTo>
                <a:cubicBezTo>
                  <a:pt x="4484" y="648"/>
                  <a:pt x="4570" y="652"/>
                  <a:pt x="4359" y="644"/>
                </a:cubicBezTo>
                <a:cubicBezTo>
                  <a:pt x="4148" y="636"/>
                  <a:pt x="3567" y="636"/>
                  <a:pt x="3131" y="598"/>
                </a:cubicBezTo>
                <a:cubicBezTo>
                  <a:pt x="2694" y="560"/>
                  <a:pt x="2150" y="499"/>
                  <a:pt x="1739" y="417"/>
                </a:cubicBezTo>
                <a:cubicBezTo>
                  <a:pt x="1328" y="335"/>
                  <a:pt x="955" y="174"/>
                  <a:pt x="665" y="105"/>
                </a:cubicBezTo>
                <a:cubicBezTo>
                  <a:pt x="375" y="36"/>
                  <a:pt x="139" y="2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311240" y="46292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5320" y="46004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980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990720" y="2133720"/>
            <a:ext cx="2717640" cy="2322360"/>
          </a:xfrm>
          <a:custGeom>
            <a:avLst/>
            <a:gdLst/>
            <a:ahLst/>
            <a:rect l="l" t="t" r="r" b="b"/>
            <a:pathLst>
              <a:path w="1588" h="861">
                <a:moveTo>
                  <a:pt x="1588" y="861"/>
                </a:moveTo>
                <a:cubicBezTo>
                  <a:pt x="1511" y="825"/>
                  <a:pt x="1311" y="747"/>
                  <a:pt x="1125" y="645"/>
                </a:cubicBezTo>
                <a:cubicBezTo>
                  <a:pt x="939" y="543"/>
                  <a:pt x="658" y="353"/>
                  <a:pt x="471" y="246"/>
                </a:cubicBezTo>
                <a:cubicBezTo>
                  <a:pt x="284" y="139"/>
                  <a:pt x="98" y="51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456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0880" y="52578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~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778560" y="457524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lu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40" y="36640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61840" y="160020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456840" y="1752480"/>
            <a:ext cx="11160" cy="342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-2742840" y="2590920"/>
            <a:ext cx="640008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0000">
                  <a:alpha val="20000"/>
                </a:srgbClr>
              </a:gs>
              <a:gs pos="100000">
                <a:srgbClr val="fe1e1e">
                  <a:alpha val="60392"/>
                </a:srgbClr>
              </a:gs>
            </a:gsLst>
            <a:lin ang="81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2523240" y="4876920"/>
            <a:ext cx="3299040" cy="1815840"/>
            <a:chOff x="2523240" y="4876920"/>
            <a:chExt cx="3299040" cy="1815840"/>
          </a:xfrm>
        </p:grpSpPr>
        <p:sp>
          <p:nvSpPr>
            <p:cNvPr id="883" name=""/>
            <p:cNvSpPr/>
            <p:nvPr/>
          </p:nvSpPr>
          <p:spPr>
            <a:xfrm>
              <a:off x="2523240" y="5867280"/>
              <a:ext cx="3299040" cy="825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idden” because of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r by confin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666880" y="4876920"/>
              <a:ext cx="304920" cy="990360"/>
            </a:xfrm>
            <a:prstGeom prst="upArrow">
              <a:avLst>
                <a:gd name="adj1" fmla="val 50000"/>
                <a:gd name="adj2" fmla="val 81198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5410080" y="457200"/>
            <a:ext cx="3567240" cy="4191120"/>
            <a:chOff x="5410080" y="457200"/>
            <a:chExt cx="3567240" cy="4191120"/>
          </a:xfrm>
        </p:grpSpPr>
        <p:pic>
          <p:nvPicPr>
            <p:cNvPr id="886" name="" descr=""/>
            <p:cNvPicPr/>
            <p:nvPr/>
          </p:nvPicPr>
          <p:blipFill>
            <a:blip r:embed="rId1"/>
            <a:srcRect l="0" t="-7834" r="0" b="0"/>
            <a:stretch/>
          </p:blipFill>
          <p:spPr>
            <a:xfrm>
              <a:off x="5410080" y="457200"/>
              <a:ext cx="3567240" cy="4191120"/>
            </a:xfrm>
            <a:prstGeom prst="rect">
              <a:avLst/>
            </a:prstGeom>
            <a:ln w="19080">
              <a:solidFill>
                <a:srgbClr val="000080"/>
              </a:solidFill>
              <a:miter/>
            </a:ln>
          </p:spPr>
        </p:pic>
        <p:sp>
          <p:nvSpPr>
            <p:cNvPr id="887" name=""/>
            <p:cNvSpPr/>
            <p:nvPr/>
          </p:nvSpPr>
          <p:spPr>
            <a:xfrm>
              <a:off x="5576400" y="457200"/>
              <a:ext cx="33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huryak, PoS, CPOD2006:0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835640" y="1371600"/>
            <a:ext cx="2727720" cy="1130400"/>
          </a:xfrm>
          <a:prstGeom prst="wedgeRectCallout">
            <a:avLst>
              <a:gd name="adj1" fmla="val -64379"/>
              <a:gd name="adj2" fmla="val -8453"/>
            </a:avLst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oci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zero binding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uryak, Zahed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9240" y="2819520"/>
            <a:ext cx="234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bo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zieres, Schmitt-R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2920" y="3811680"/>
            <a:ext cx="7921440" cy="1220760"/>
          </a:xfrm>
          <a:custGeom>
            <a:avLst/>
            <a:gdLst/>
            <a:ahLst/>
            <a:rect l="l" t="t" r="r" b="b"/>
            <a:pathLst>
              <a:path w="4990" h="769">
                <a:moveTo>
                  <a:pt x="4924" y="761"/>
                </a:moveTo>
                <a:cubicBezTo>
                  <a:pt x="4919" y="733"/>
                  <a:pt x="4921" y="625"/>
                  <a:pt x="4891" y="594"/>
                </a:cubicBezTo>
                <a:cubicBezTo>
                  <a:pt x="4861" y="563"/>
                  <a:pt x="4990" y="583"/>
                  <a:pt x="4744" y="573"/>
                </a:cubicBezTo>
                <a:cubicBezTo>
                  <a:pt x="4498" y="563"/>
                  <a:pt x="3887" y="567"/>
                  <a:pt x="3415" y="536"/>
                </a:cubicBezTo>
                <a:cubicBezTo>
                  <a:pt x="2942" y="505"/>
                  <a:pt x="2354" y="455"/>
                  <a:pt x="1909" y="388"/>
                </a:cubicBezTo>
                <a:cubicBezTo>
                  <a:pt x="1465" y="321"/>
                  <a:pt x="1046" y="188"/>
                  <a:pt x="747" y="133"/>
                </a:cubicBezTo>
                <a:cubicBezTo>
                  <a:pt x="448" y="78"/>
                  <a:pt x="232" y="63"/>
                  <a:pt x="116" y="60"/>
                </a:cubicBezTo>
                <a:cubicBezTo>
                  <a:pt x="0" y="57"/>
                  <a:pt x="61" y="0"/>
                  <a:pt x="49" y="118"/>
                </a:cubicBezTo>
                <a:cubicBezTo>
                  <a:pt x="37" y="236"/>
                  <a:pt x="43" y="634"/>
                  <a:pt x="41" y="769"/>
                </a:cubicBezTo>
              </a:path>
            </a:pathLst>
          </a:custGeom>
          <a:gradFill rotWithShape="0">
            <a:gsLst>
              <a:gs pos="0">
                <a:srgbClr val="0000ff">
                  <a:alpha val="16078"/>
                </a:srgbClr>
              </a:gs>
              <a:gs pos="100000">
                <a:srgbClr val="0f0ffe">
                  <a:alpha val="4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5484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Phase Diagra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2920" y="5032440"/>
            <a:ext cx="8245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56100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74320" y="525780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68360" y="3881520"/>
            <a:ext cx="7848720" cy="846000"/>
          </a:xfrm>
          <a:custGeom>
            <a:avLst/>
            <a:gdLst/>
            <a:ahLst/>
            <a:rect l="l" t="t" r="r" b="b"/>
            <a:pathLst>
              <a:path w="4570" h="652">
                <a:moveTo>
                  <a:pt x="4399" y="644"/>
                </a:moveTo>
                <a:cubicBezTo>
                  <a:pt x="4484" y="648"/>
                  <a:pt x="4570" y="652"/>
                  <a:pt x="4359" y="644"/>
                </a:cubicBezTo>
                <a:cubicBezTo>
                  <a:pt x="4148" y="636"/>
                  <a:pt x="3567" y="636"/>
                  <a:pt x="3131" y="598"/>
                </a:cubicBezTo>
                <a:cubicBezTo>
                  <a:pt x="2694" y="560"/>
                  <a:pt x="2150" y="499"/>
                  <a:pt x="1739" y="417"/>
                </a:cubicBezTo>
                <a:cubicBezTo>
                  <a:pt x="1328" y="335"/>
                  <a:pt x="955" y="174"/>
                  <a:pt x="665" y="105"/>
                </a:cubicBezTo>
                <a:cubicBezTo>
                  <a:pt x="375" y="36"/>
                  <a:pt x="139" y="2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11240" y="46292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5320" y="46004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0980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990720" y="2133720"/>
            <a:ext cx="2717640" cy="2322360"/>
          </a:xfrm>
          <a:custGeom>
            <a:avLst/>
            <a:gdLst/>
            <a:ahLst/>
            <a:rect l="l" t="t" r="r" b="b"/>
            <a:pathLst>
              <a:path w="1588" h="861">
                <a:moveTo>
                  <a:pt x="1588" y="861"/>
                </a:moveTo>
                <a:cubicBezTo>
                  <a:pt x="1511" y="825"/>
                  <a:pt x="1311" y="747"/>
                  <a:pt x="1125" y="645"/>
                </a:cubicBezTo>
                <a:cubicBezTo>
                  <a:pt x="939" y="543"/>
                  <a:pt x="658" y="353"/>
                  <a:pt x="471" y="246"/>
                </a:cubicBezTo>
                <a:cubicBezTo>
                  <a:pt x="284" y="139"/>
                  <a:pt x="98" y="51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08360" y="4456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50880" y="52578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~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778560" y="457524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lu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40" y="36640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61840" y="160020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456840" y="1752480"/>
            <a:ext cx="11160" cy="342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-2742840" y="2590920"/>
            <a:ext cx="640008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0000">
                  <a:alpha val="20000"/>
                </a:srgbClr>
              </a:gs>
              <a:gs pos="100000">
                <a:srgbClr val="fe1e1e">
                  <a:alpha val="60392"/>
                </a:srgbClr>
              </a:gs>
            </a:gsLst>
            <a:lin ang="81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3547800" y="2698920"/>
            <a:ext cx="4687920" cy="1893960"/>
            <a:chOff x="3547800" y="2698920"/>
            <a:chExt cx="4687920" cy="1893960"/>
          </a:xfrm>
        </p:grpSpPr>
        <p:sp>
          <p:nvSpPr>
            <p:cNvPr id="908" name=""/>
            <p:cNvSpPr/>
            <p:nvPr/>
          </p:nvSpPr>
          <p:spPr>
            <a:xfrm>
              <a:off x="4240800" y="2698920"/>
              <a:ext cx="399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strong is the coup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fore the confinemen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it sufficient to realize BEC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762800">
              <a:off x="3733560" y="3733560"/>
              <a:ext cx="304560" cy="838080"/>
            </a:xfrm>
            <a:prstGeom prst="downArrow">
              <a:avLst>
                <a:gd name="adj1" fmla="val 50000"/>
                <a:gd name="adj2" fmla="val 68794"/>
              </a:avLst>
            </a:prstGeom>
            <a:solidFill>
              <a:srgbClr val="666699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986040" y="1600200"/>
            <a:ext cx="6745320" cy="1004400"/>
            <a:chOff x="986040" y="1600200"/>
            <a:chExt cx="6745320" cy="1004400"/>
          </a:xfrm>
        </p:grpSpPr>
        <p:sp>
          <p:nvSpPr>
            <p:cNvPr id="911" name=""/>
            <p:cNvSpPr/>
            <p:nvPr/>
          </p:nvSpPr>
          <p:spPr>
            <a:xfrm>
              <a:off x="1979280" y="1600200"/>
              <a:ext cx="57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e there bound diquarks in the QGP phas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3451200">
              <a:off x="1333080" y="1714680"/>
              <a:ext cx="304920" cy="990360"/>
            </a:xfrm>
            <a:prstGeom prst="downArrow">
              <a:avLst>
                <a:gd name="adj1" fmla="val 50000"/>
                <a:gd name="adj2" fmla="val 81198"/>
              </a:avLst>
            </a:prstGeom>
            <a:solidFill>
              <a:srgbClr val="666699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2523240" y="4876920"/>
            <a:ext cx="3299040" cy="1815840"/>
            <a:chOff x="2523240" y="4876920"/>
            <a:chExt cx="3299040" cy="1815840"/>
          </a:xfrm>
        </p:grpSpPr>
        <p:sp>
          <p:nvSpPr>
            <p:cNvPr id="914" name=""/>
            <p:cNvSpPr/>
            <p:nvPr/>
          </p:nvSpPr>
          <p:spPr>
            <a:xfrm>
              <a:off x="2523240" y="5867280"/>
              <a:ext cx="3299040" cy="825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idden” because of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r by confin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666880" y="4876920"/>
              <a:ext cx="304920" cy="990360"/>
            </a:xfrm>
            <a:prstGeom prst="upArrow">
              <a:avLst>
                <a:gd name="adj1" fmla="val 50000"/>
                <a:gd name="adj2" fmla="val 81198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7920" y="78120"/>
            <a:ext cx="58215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 of Diquarks abo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0" y="2405160"/>
            <a:ext cx="641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7497720" y="2125800"/>
            <a:ext cx="289080" cy="279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97720" y="2405160"/>
            <a:ext cx="289080" cy="296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7570080" y="2478240"/>
            <a:ext cx="144360" cy="144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7570080" y="2188440"/>
            <a:ext cx="144360" cy="144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842600" y="1828800"/>
            <a:ext cx="85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842600" y="2405160"/>
            <a:ext cx="85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2720" y="162864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eshold energy of diquark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5232240" y="1623960"/>
          <a:ext cx="194472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2240" y="1623960"/>
                    <a:ext cx="1944720" cy="471600"/>
                  </a:xfrm>
                  <a:prstGeom prst="rect">
                    <a:avLst/>
                  </a:prstGeom>
                  <a:ln w="1908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470160" y="995400"/>
            <a:ext cx="654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ole is 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ouless criter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9280" y="1052640"/>
            <a:ext cx="360360" cy="1157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949320" y="2286000"/>
            <a:ext cx="14889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22560" y="3568680"/>
            <a:ext cx="2133720" cy="763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16000" y="36399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022560" y="349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2478240" y="3144960"/>
          <a:ext cx="96192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8240" y="3144960"/>
                    <a:ext cx="961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5" name=""/>
          <p:cNvSpPr/>
          <p:nvPr/>
        </p:nvSpPr>
        <p:spPr>
          <a:xfrm>
            <a:off x="157320" y="3048120"/>
            <a:ext cx="80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gt;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403440" y="349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37120" y="37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066280" y="36370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320" y="4176720"/>
            <a:ext cx="80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022560" y="4581360"/>
            <a:ext cx="2133720" cy="763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16000" y="465948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22560" y="4505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36760" y="4505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1862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066280" y="46832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327480" y="356868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0440" y="4581360"/>
            <a:ext cx="15264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866920" y="3208320"/>
            <a:ext cx="246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ble di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937840" y="4361040"/>
            <a:ext cx="2725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diquark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508720" y="4465800"/>
            <a:ext cx="358560" cy="431640"/>
          </a:xfrm>
          <a:prstGeom prst="rightArrow">
            <a:avLst>
              <a:gd name="adj1" fmla="val 44491"/>
              <a:gd name="adj2" fmla="val 47060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08720" y="3424320"/>
            <a:ext cx="358560" cy="431640"/>
          </a:xfrm>
          <a:prstGeom prst="rightArrow">
            <a:avLst>
              <a:gd name="adj1" fmla="val 44491"/>
              <a:gd name="adj2" fmla="val 47060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4560" y="5486400"/>
            <a:ext cx="7727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riterion for BE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zieres, Schmitt-Rink ’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ally generated quark masses determine the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228000" y="2286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zieres, Schmitt-Rink, 19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shida, Abuki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406520" y="6461280"/>
            <a:ext cx="77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ermal mass is not responsible for the stability. Hidaka, MK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2505240" y="4138560"/>
          <a:ext cx="9619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5240" y="4138560"/>
                    <a:ext cx="961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3319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6572160" cy="459108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373680" y="5597640"/>
            <a:ext cx="72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erflu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cuum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BEC 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theless, bound diquarks exist in the phas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770640" y="15840"/>
            <a:ext cx="499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flavor NJ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 slightly strong coupl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682240" y="533412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, Rischke, Shovokovy,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1206360" y="1981080"/>
            <a:ext cx="3264120" cy="2940120"/>
            <a:chOff x="1206360" y="1981080"/>
            <a:chExt cx="3264120" cy="2940120"/>
          </a:xfrm>
        </p:grpSpPr>
        <p:sp>
          <p:nvSpPr>
            <p:cNvPr id="963" name=""/>
            <p:cNvSpPr/>
            <p:nvPr/>
          </p:nvSpPr>
          <p:spPr>
            <a:xfrm>
              <a:off x="1206360" y="1981080"/>
              <a:ext cx="3264120" cy="2940120"/>
            </a:xfrm>
            <a:custGeom>
              <a:avLst/>
              <a:gdLst/>
              <a:ahLst/>
              <a:rect l="l" t="t" r="r" b="b"/>
              <a:pathLst>
                <a:path w="2056" h="1852">
                  <a:moveTo>
                    <a:pt x="4" y="1852"/>
                  </a:moveTo>
                  <a:cubicBezTo>
                    <a:pt x="5" y="1544"/>
                    <a:pt x="0" y="332"/>
                    <a:pt x="8" y="0"/>
                  </a:cubicBezTo>
                  <a:cubicBezTo>
                    <a:pt x="268" y="56"/>
                    <a:pt x="436" y="112"/>
                    <a:pt x="636" y="208"/>
                  </a:cubicBezTo>
                  <a:cubicBezTo>
                    <a:pt x="836" y="304"/>
                    <a:pt x="1041" y="451"/>
                    <a:pt x="1208" y="576"/>
                  </a:cubicBezTo>
                  <a:cubicBezTo>
                    <a:pt x="1375" y="701"/>
                    <a:pt x="1501" y="825"/>
                    <a:pt x="1636" y="956"/>
                  </a:cubicBezTo>
                  <a:cubicBezTo>
                    <a:pt x="1771" y="1087"/>
                    <a:pt x="1950" y="1215"/>
                    <a:pt x="2020" y="1364"/>
                  </a:cubicBezTo>
                  <a:cubicBezTo>
                    <a:pt x="2044" y="1536"/>
                    <a:pt x="2049" y="1750"/>
                    <a:pt x="2056" y="1852"/>
                  </a:cubicBezTo>
                </a:path>
              </a:pathLst>
            </a:custGeom>
            <a:gradFill rotWithShape="0">
              <a:gsLst>
                <a:gs pos="0">
                  <a:srgbClr val="008000">
                    <a:alpha val="19215"/>
                  </a:srgbClr>
                </a:gs>
                <a:gs pos="100000">
                  <a:srgbClr val="0f870f">
                    <a:alpha val="46274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08600" y="3581280"/>
              <a:ext cx="2070360" cy="825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diqua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us, ds pai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7183080" y="1108080"/>
            <a:ext cx="1724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,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162920" y="380880"/>
            <a:ext cx="160020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6793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at Strong Coupl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6572160" cy="459108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360720" y="5730840"/>
            <a:ext cx="67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 manifests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diquarks would exist in the deconfined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259760" y="228600"/>
            <a:ext cx="148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01680" y="1295280"/>
            <a:ext cx="2745000" cy="3641760"/>
          </a:xfrm>
          <a:custGeom>
            <a:avLst/>
            <a:gdLst/>
            <a:ahLst/>
            <a:rect l="l" t="t" r="r" b="b"/>
            <a:pathLst>
              <a:path w="1729" h="2294">
                <a:moveTo>
                  <a:pt x="6" y="2284"/>
                </a:moveTo>
                <a:cubicBezTo>
                  <a:pt x="7" y="1904"/>
                  <a:pt x="0" y="492"/>
                  <a:pt x="10" y="0"/>
                </a:cubicBezTo>
                <a:cubicBezTo>
                  <a:pt x="280" y="15"/>
                  <a:pt x="334" y="50"/>
                  <a:pt x="486" y="106"/>
                </a:cubicBezTo>
                <a:cubicBezTo>
                  <a:pt x="638" y="162"/>
                  <a:pt x="781" y="242"/>
                  <a:pt x="922" y="336"/>
                </a:cubicBezTo>
                <a:cubicBezTo>
                  <a:pt x="1063" y="430"/>
                  <a:pt x="1208" y="541"/>
                  <a:pt x="1333" y="673"/>
                </a:cubicBezTo>
                <a:cubicBezTo>
                  <a:pt x="1458" y="805"/>
                  <a:pt x="1611" y="997"/>
                  <a:pt x="1670" y="1126"/>
                </a:cubicBezTo>
                <a:cubicBezTo>
                  <a:pt x="1729" y="1255"/>
                  <a:pt x="1684" y="1354"/>
                  <a:pt x="1687" y="1447"/>
                </a:cubicBezTo>
                <a:cubicBezTo>
                  <a:pt x="1690" y="1540"/>
                  <a:pt x="1687" y="1544"/>
                  <a:pt x="1687" y="1685"/>
                </a:cubicBezTo>
                <a:cubicBezTo>
                  <a:pt x="1707" y="1897"/>
                  <a:pt x="1687" y="2167"/>
                  <a:pt x="1687" y="2294"/>
                </a:cubicBezTo>
              </a:path>
            </a:pathLst>
          </a:custGeom>
          <a:gradFill rotWithShape="0">
            <a:gsLst>
              <a:gs pos="0">
                <a:srgbClr val="008000">
                  <a:alpha val="19215"/>
                </a:srgbClr>
              </a:gs>
              <a:gs pos="100000">
                <a:srgbClr val="0f870f">
                  <a:alpha val="46274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81480" y="4191120"/>
            <a:ext cx="772560" cy="459720"/>
          </a:xfrm>
          <a:prstGeom prst="wedgeRectCallout">
            <a:avLst>
              <a:gd name="adj1" fmla="val -85768"/>
              <a:gd name="adj2" fmla="val 52578"/>
            </a:avLst>
          </a:prstGeom>
          <a:solidFill>
            <a:srgbClr val="ffffff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682240" y="533412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, Rischke, Shovokovy,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238880" y="228600"/>
            <a:ext cx="152712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412920" y="3811680"/>
            <a:ext cx="7921440" cy="1220760"/>
          </a:xfrm>
          <a:custGeom>
            <a:avLst/>
            <a:gdLst/>
            <a:ahLst/>
            <a:rect l="l" t="t" r="r" b="b"/>
            <a:pathLst>
              <a:path w="4990" h="769">
                <a:moveTo>
                  <a:pt x="4924" y="761"/>
                </a:moveTo>
                <a:cubicBezTo>
                  <a:pt x="4919" y="733"/>
                  <a:pt x="4921" y="625"/>
                  <a:pt x="4891" y="594"/>
                </a:cubicBezTo>
                <a:cubicBezTo>
                  <a:pt x="4861" y="563"/>
                  <a:pt x="4990" y="583"/>
                  <a:pt x="4744" y="573"/>
                </a:cubicBezTo>
                <a:cubicBezTo>
                  <a:pt x="4498" y="563"/>
                  <a:pt x="3887" y="567"/>
                  <a:pt x="3415" y="536"/>
                </a:cubicBezTo>
                <a:cubicBezTo>
                  <a:pt x="2942" y="505"/>
                  <a:pt x="2354" y="455"/>
                  <a:pt x="1909" y="388"/>
                </a:cubicBezTo>
                <a:cubicBezTo>
                  <a:pt x="1465" y="321"/>
                  <a:pt x="1046" y="188"/>
                  <a:pt x="747" y="133"/>
                </a:cubicBezTo>
                <a:cubicBezTo>
                  <a:pt x="448" y="78"/>
                  <a:pt x="232" y="63"/>
                  <a:pt x="116" y="60"/>
                </a:cubicBezTo>
                <a:cubicBezTo>
                  <a:pt x="0" y="57"/>
                  <a:pt x="61" y="0"/>
                  <a:pt x="49" y="118"/>
                </a:cubicBezTo>
                <a:cubicBezTo>
                  <a:pt x="37" y="236"/>
                  <a:pt x="43" y="634"/>
                  <a:pt x="41" y="769"/>
                </a:cubicBezTo>
              </a:path>
            </a:pathLst>
          </a:custGeom>
          <a:gradFill rotWithShape="0">
            <a:gsLst>
              <a:gs pos="0">
                <a:srgbClr val="0000ff">
                  <a:alpha val="16078"/>
                </a:srgbClr>
              </a:gs>
              <a:gs pos="100000">
                <a:srgbClr val="0f0ffe">
                  <a:alpha val="4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5484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Phase Diagra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42920" y="5032440"/>
            <a:ext cx="8245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561000" y="511164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7640" y="52084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360" y="3881520"/>
            <a:ext cx="7848720" cy="846000"/>
          </a:xfrm>
          <a:custGeom>
            <a:avLst/>
            <a:gdLst/>
            <a:ahLst/>
            <a:rect l="l" t="t" r="r" b="b"/>
            <a:pathLst>
              <a:path w="4570" h="652">
                <a:moveTo>
                  <a:pt x="4399" y="644"/>
                </a:moveTo>
                <a:cubicBezTo>
                  <a:pt x="4484" y="648"/>
                  <a:pt x="4570" y="652"/>
                  <a:pt x="4359" y="644"/>
                </a:cubicBezTo>
                <a:cubicBezTo>
                  <a:pt x="4148" y="636"/>
                  <a:pt x="3567" y="636"/>
                  <a:pt x="3131" y="598"/>
                </a:cubicBezTo>
                <a:cubicBezTo>
                  <a:pt x="2694" y="560"/>
                  <a:pt x="2150" y="499"/>
                  <a:pt x="1739" y="417"/>
                </a:cubicBezTo>
                <a:cubicBezTo>
                  <a:pt x="1328" y="335"/>
                  <a:pt x="955" y="174"/>
                  <a:pt x="665" y="105"/>
                </a:cubicBezTo>
                <a:cubicBezTo>
                  <a:pt x="375" y="36"/>
                  <a:pt x="139" y="2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311240" y="46292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7600" y="46004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0980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990720" y="2133720"/>
            <a:ext cx="2717640" cy="2322360"/>
          </a:xfrm>
          <a:custGeom>
            <a:avLst/>
            <a:gdLst/>
            <a:ahLst/>
            <a:rect l="l" t="t" r="r" b="b"/>
            <a:pathLst>
              <a:path w="1588" h="861">
                <a:moveTo>
                  <a:pt x="1588" y="861"/>
                </a:moveTo>
                <a:cubicBezTo>
                  <a:pt x="1511" y="825"/>
                  <a:pt x="1311" y="747"/>
                  <a:pt x="1125" y="645"/>
                </a:cubicBezTo>
                <a:cubicBezTo>
                  <a:pt x="939" y="543"/>
                  <a:pt x="658" y="353"/>
                  <a:pt x="471" y="246"/>
                </a:cubicBezTo>
                <a:cubicBezTo>
                  <a:pt x="284" y="139"/>
                  <a:pt x="98" y="51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68360" y="297180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bo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708360" y="4456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52360" y="946080"/>
            <a:ext cx="34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phas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78560" y="457524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lu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040" y="36640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104480" y="182880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-2742840" y="2590920"/>
            <a:ext cx="640008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0000">
                  <a:alpha val="20000"/>
                </a:srgbClr>
              </a:gs>
              <a:gs pos="100000">
                <a:srgbClr val="fe1e1e">
                  <a:alpha val="60392"/>
                </a:srgbClr>
              </a:gs>
            </a:gsLst>
            <a:lin ang="81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456840" y="1752480"/>
            <a:ext cx="11160" cy="342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47920" y="3581280"/>
            <a:ext cx="26665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0"/>
                </a:moveTo>
                <a:arcTo wR="10800" hR="10800" stAng="-10752257" swAng="10752257"/>
                <a:lnTo>
                  <a:pt x="10800" y="10800"/>
                </a:lnTo>
                <a:close/>
              </a:path>
              <a:path fill="none" w="21600" h="21600">
                <a:moveTo>
                  <a:pt x="1" y="10650"/>
                </a:moveTo>
                <a:arcTo wR="10800" hR="10800" stAng="-10752257" swAng="10752257"/>
              </a:path>
            </a:pathLst>
          </a:custGeom>
          <a:solidFill>
            <a:srgbClr val="808080">
              <a:alpha val="50000"/>
            </a:srgbClr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599920" y="5832360"/>
            <a:ext cx="3751920" cy="825480"/>
          </a:xfrm>
          <a:prstGeom prst="wedgeRectCallout">
            <a:avLst>
              <a:gd name="adj1" fmla="val -17199"/>
              <a:gd name="adj2" fmla="val -157671"/>
            </a:avLst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den by mass dis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79600" y="5029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~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412920" y="3811680"/>
            <a:ext cx="7921440" cy="1220760"/>
          </a:xfrm>
          <a:custGeom>
            <a:avLst/>
            <a:gdLst/>
            <a:ahLst/>
            <a:rect l="l" t="t" r="r" b="b"/>
            <a:pathLst>
              <a:path w="4990" h="769">
                <a:moveTo>
                  <a:pt x="4924" y="761"/>
                </a:moveTo>
                <a:cubicBezTo>
                  <a:pt x="4919" y="733"/>
                  <a:pt x="4921" y="625"/>
                  <a:pt x="4891" y="594"/>
                </a:cubicBezTo>
                <a:cubicBezTo>
                  <a:pt x="4861" y="563"/>
                  <a:pt x="4990" y="583"/>
                  <a:pt x="4744" y="573"/>
                </a:cubicBezTo>
                <a:cubicBezTo>
                  <a:pt x="4498" y="563"/>
                  <a:pt x="3887" y="567"/>
                  <a:pt x="3415" y="536"/>
                </a:cubicBezTo>
                <a:cubicBezTo>
                  <a:pt x="2942" y="505"/>
                  <a:pt x="2354" y="455"/>
                  <a:pt x="1909" y="388"/>
                </a:cubicBezTo>
                <a:cubicBezTo>
                  <a:pt x="1465" y="321"/>
                  <a:pt x="1046" y="188"/>
                  <a:pt x="747" y="133"/>
                </a:cubicBezTo>
                <a:cubicBezTo>
                  <a:pt x="448" y="78"/>
                  <a:pt x="232" y="63"/>
                  <a:pt x="116" y="60"/>
                </a:cubicBezTo>
                <a:cubicBezTo>
                  <a:pt x="0" y="57"/>
                  <a:pt x="61" y="0"/>
                  <a:pt x="49" y="118"/>
                </a:cubicBezTo>
                <a:cubicBezTo>
                  <a:pt x="37" y="236"/>
                  <a:pt x="43" y="634"/>
                  <a:pt x="41" y="769"/>
                </a:cubicBezTo>
              </a:path>
            </a:pathLst>
          </a:custGeom>
          <a:gradFill rotWithShape="0">
            <a:gsLst>
              <a:gs pos="0">
                <a:srgbClr val="0000ff">
                  <a:alpha val="16078"/>
                </a:srgbClr>
              </a:gs>
              <a:gs pos="100000">
                <a:srgbClr val="0f0ffe">
                  <a:alpha val="4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5484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Phase Diagra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561000" y="511164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8360" y="3881520"/>
            <a:ext cx="7848720" cy="846000"/>
          </a:xfrm>
          <a:custGeom>
            <a:avLst/>
            <a:gdLst/>
            <a:ahLst/>
            <a:rect l="l" t="t" r="r" b="b"/>
            <a:pathLst>
              <a:path w="4570" h="652">
                <a:moveTo>
                  <a:pt x="4399" y="644"/>
                </a:moveTo>
                <a:cubicBezTo>
                  <a:pt x="4484" y="648"/>
                  <a:pt x="4570" y="652"/>
                  <a:pt x="4359" y="644"/>
                </a:cubicBezTo>
                <a:cubicBezTo>
                  <a:pt x="4148" y="636"/>
                  <a:pt x="3567" y="636"/>
                  <a:pt x="3131" y="598"/>
                </a:cubicBezTo>
                <a:cubicBezTo>
                  <a:pt x="2694" y="560"/>
                  <a:pt x="2150" y="499"/>
                  <a:pt x="1739" y="417"/>
                </a:cubicBezTo>
                <a:cubicBezTo>
                  <a:pt x="1328" y="335"/>
                  <a:pt x="955" y="174"/>
                  <a:pt x="665" y="105"/>
                </a:cubicBezTo>
                <a:cubicBezTo>
                  <a:pt x="375" y="36"/>
                  <a:pt x="139" y="2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311240" y="46292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87600" y="46004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0980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990720" y="2133720"/>
            <a:ext cx="2717640" cy="2322360"/>
          </a:xfrm>
          <a:custGeom>
            <a:avLst/>
            <a:gdLst/>
            <a:ahLst/>
            <a:rect l="l" t="t" r="r" b="b"/>
            <a:pathLst>
              <a:path w="1588" h="861">
                <a:moveTo>
                  <a:pt x="1588" y="861"/>
                </a:moveTo>
                <a:cubicBezTo>
                  <a:pt x="1511" y="825"/>
                  <a:pt x="1311" y="747"/>
                  <a:pt x="1125" y="645"/>
                </a:cubicBezTo>
                <a:cubicBezTo>
                  <a:pt x="939" y="543"/>
                  <a:pt x="658" y="353"/>
                  <a:pt x="471" y="246"/>
                </a:cubicBezTo>
                <a:cubicBezTo>
                  <a:pt x="284" y="139"/>
                  <a:pt x="98" y="51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8360" y="297180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bo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708360" y="4456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52360" y="946080"/>
            <a:ext cx="34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phas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778560" y="457524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lu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040" y="36640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104480" y="182880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-2742840" y="2590920"/>
            <a:ext cx="640008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0000">
                  <a:alpha val="20000"/>
                </a:srgbClr>
              </a:gs>
              <a:gs pos="100000">
                <a:srgbClr val="fe1e1e">
                  <a:alpha val="60392"/>
                </a:srgbClr>
              </a:gs>
            </a:gsLst>
            <a:lin ang="81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 flipV="1">
            <a:off x="456840" y="1752480"/>
            <a:ext cx="11160" cy="342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47920" y="3581280"/>
            <a:ext cx="26665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0"/>
                </a:moveTo>
                <a:arcTo wR="10800" hR="10800" stAng="-10752257" swAng="10752257"/>
                <a:lnTo>
                  <a:pt x="10800" y="10800"/>
                </a:lnTo>
                <a:close/>
              </a:path>
              <a:path fill="none" w="21600" h="21600">
                <a:moveTo>
                  <a:pt x="1" y="10650"/>
                </a:moveTo>
                <a:arcTo wR="10800" hR="10800" stAng="-10752257" swAng="10752257"/>
              </a:path>
            </a:pathLst>
          </a:custGeom>
          <a:solidFill>
            <a:srgbClr val="808080">
              <a:alpha val="50000"/>
            </a:srgbClr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33520" y="5029200"/>
            <a:ext cx="396216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2920" y="5032440"/>
            <a:ext cx="8245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7640" y="52084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279600" y="5029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~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44444E-006 L -0.08333 4.44444E-006 E">
                                      <p:cBhvr>
                                        <p:cTn id="12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00416 0.12778 E">
                                      <p:cBhvr>
                                        <p:cTn id="127" dur="2000" fill="hold"/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56386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8280" y="78120"/>
            <a:ext cx="71280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e of Diquark Propagator abo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208480" y="1941480"/>
            <a:ext cx="1905120" cy="745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648320" y="2016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208480" y="1835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02760" y="923760"/>
            <a:ext cx="87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42304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954800" y="923760"/>
            <a:ext cx="87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057400"/>
            <a:ext cx="1143000" cy="763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04920" y="21337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62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9480" y="1752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12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62720" y="194004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3352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3480" y="9144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9480" y="2133720"/>
            <a:ext cx="1752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362320" y="213372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0" y="0"/>
                </a:moveTo>
                <a:cubicBezTo>
                  <a:pt x="53" y="52"/>
                  <a:pt x="224" y="192"/>
                  <a:pt x="320" y="312"/>
                </a:cubicBezTo>
                <a:cubicBezTo>
                  <a:pt x="416" y="432"/>
                  <a:pt x="523" y="635"/>
                  <a:pt x="576" y="72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17760" y="16351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790280" y="155880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555440" y="9144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638680" y="2016000"/>
            <a:ext cx="99072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0" y="0"/>
                </a:moveTo>
                <a:cubicBezTo>
                  <a:pt x="45" y="60"/>
                  <a:pt x="176" y="240"/>
                  <a:pt x="272" y="360"/>
                </a:cubicBezTo>
                <a:cubicBezTo>
                  <a:pt x="368" y="480"/>
                  <a:pt x="513" y="645"/>
                  <a:pt x="576" y="72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002000" y="68943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, et al.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23280" y="1447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638680" y="20574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3124080"/>
            <a:ext cx="12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295280" y="1981080"/>
            <a:ext cx="228600" cy="152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295280" y="2133720"/>
            <a:ext cx="228600" cy="15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19520" y="2590920"/>
            <a:ext cx="381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819520" y="2590920"/>
            <a:ext cx="22860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172200" y="2666880"/>
            <a:ext cx="381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72200" y="2666880"/>
            <a:ext cx="22860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638680" y="25909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486040" y="259092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3036960" y="1447920"/>
          <a:ext cx="46836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6960" y="1447920"/>
                    <a:ext cx="468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3" name=""/>
          <p:cNvGraphicFramePr/>
          <p:nvPr/>
        </p:nvGraphicFramePr>
        <p:xfrm>
          <a:off x="7162920" y="1447920"/>
          <a:ext cx="46836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1447920"/>
                    <a:ext cx="468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3657600" y="2590920"/>
            <a:ext cx="8534160" cy="74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2fef2">
                  <a:alpha val="21176"/>
                </a:srgbClr>
              </a:gs>
              <a:gs pos="100000">
                <a:srgbClr val="ccffcc">
                  <a:alpha val="45098"/>
                </a:srgbClr>
              </a:gs>
            </a:gsLst>
            <a:lin ang="8100000"/>
          </a:gradFill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4786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of QC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9200" y="5699160"/>
            <a:ext cx="393480" cy="531720"/>
          </a:xfrm>
          <a:custGeom>
            <a:avLst/>
            <a:gdLst/>
            <a:ahLst/>
            <a:rect l="l" t="t" r="r" b="b"/>
            <a:pathLst>
              <a:path w="1834" h="2059">
                <a:moveTo>
                  <a:pt x="1834" y="2059"/>
                </a:moveTo>
                <a:cubicBezTo>
                  <a:pt x="1821" y="1988"/>
                  <a:pt x="1806" y="1787"/>
                  <a:pt x="1761" y="1635"/>
                </a:cubicBezTo>
                <a:cubicBezTo>
                  <a:pt x="1716" y="1483"/>
                  <a:pt x="1665" y="1305"/>
                  <a:pt x="1562" y="1145"/>
                </a:cubicBezTo>
                <a:cubicBezTo>
                  <a:pt x="1459" y="985"/>
                  <a:pt x="1305" y="822"/>
                  <a:pt x="1145" y="675"/>
                </a:cubicBezTo>
                <a:cubicBezTo>
                  <a:pt x="985" y="528"/>
                  <a:pt x="793" y="377"/>
                  <a:pt x="602" y="265"/>
                </a:cubicBezTo>
                <a:cubicBezTo>
                  <a:pt x="411" y="153"/>
                  <a:pt x="100" y="4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4978440"/>
            <a:ext cx="2879640" cy="1312920"/>
          </a:xfrm>
          <a:custGeom>
            <a:avLst/>
            <a:gdLst/>
            <a:ahLst/>
            <a:rect l="l" t="t" r="r" b="b"/>
            <a:pathLst>
              <a:path w="2009" h="827">
                <a:moveTo>
                  <a:pt x="94" y="827"/>
                </a:moveTo>
                <a:cubicBezTo>
                  <a:pt x="87" y="777"/>
                  <a:pt x="66" y="609"/>
                  <a:pt x="50" y="525"/>
                </a:cubicBezTo>
                <a:cubicBezTo>
                  <a:pt x="34" y="441"/>
                  <a:pt x="32" y="425"/>
                  <a:pt x="0" y="325"/>
                </a:cubicBezTo>
                <a:cubicBezTo>
                  <a:pt x="93" y="280"/>
                  <a:pt x="232" y="234"/>
                  <a:pt x="345" y="199"/>
                </a:cubicBezTo>
                <a:cubicBezTo>
                  <a:pt x="458" y="164"/>
                  <a:pt x="576" y="140"/>
                  <a:pt x="679" y="117"/>
                </a:cubicBezTo>
                <a:cubicBezTo>
                  <a:pt x="782" y="94"/>
                  <a:pt x="844" y="78"/>
                  <a:pt x="964" y="63"/>
                </a:cubicBezTo>
                <a:cubicBezTo>
                  <a:pt x="1084" y="49"/>
                  <a:pt x="1269" y="39"/>
                  <a:pt x="1400" y="31"/>
                </a:cubicBezTo>
                <a:cubicBezTo>
                  <a:pt x="1531" y="23"/>
                  <a:pt x="1647" y="7"/>
                  <a:pt x="1748" y="15"/>
                </a:cubicBezTo>
                <a:cubicBezTo>
                  <a:pt x="1849" y="23"/>
                  <a:pt x="1842" y="0"/>
                  <a:pt x="2009" y="81"/>
                </a:cubicBezTo>
                <a:cubicBezTo>
                  <a:pt x="2002" y="446"/>
                  <a:pt x="1996" y="812"/>
                  <a:pt x="1996" y="812"/>
                </a:cubicBezTo>
              </a:path>
            </a:pathLst>
          </a:cu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3366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897360"/>
            <a:ext cx="3333600" cy="2379600"/>
          </a:xfrm>
          <a:custGeom>
            <a:avLst/>
            <a:gdLst/>
            <a:ahLst/>
            <a:rect l="l" t="t" r="r" b="b"/>
            <a:pathLst>
              <a:path w="2100" h="1499">
                <a:moveTo>
                  <a:pt x="4" y="1491"/>
                </a:moveTo>
                <a:cubicBezTo>
                  <a:pt x="3" y="1244"/>
                  <a:pt x="0" y="359"/>
                  <a:pt x="0" y="9"/>
                </a:cubicBezTo>
                <a:cubicBezTo>
                  <a:pt x="115" y="17"/>
                  <a:pt x="316" y="0"/>
                  <a:pt x="434" y="13"/>
                </a:cubicBezTo>
                <a:cubicBezTo>
                  <a:pt x="552" y="23"/>
                  <a:pt x="589" y="33"/>
                  <a:pt x="710" y="67"/>
                </a:cubicBezTo>
                <a:cubicBezTo>
                  <a:pt x="832" y="101"/>
                  <a:pt x="996" y="123"/>
                  <a:pt x="1164" y="217"/>
                </a:cubicBezTo>
                <a:cubicBezTo>
                  <a:pt x="1332" y="311"/>
                  <a:pt x="1575" y="487"/>
                  <a:pt x="1719" y="630"/>
                </a:cubicBezTo>
                <a:cubicBezTo>
                  <a:pt x="1863" y="773"/>
                  <a:pt x="1964" y="933"/>
                  <a:pt x="2027" y="1078"/>
                </a:cubicBezTo>
                <a:cubicBezTo>
                  <a:pt x="2100" y="1386"/>
                  <a:pt x="2085" y="1411"/>
                  <a:pt x="2100" y="1499"/>
                </a:cubicBezTo>
              </a:path>
            </a:pathLst>
          </a:custGeom>
          <a:gradFill rotWithShape="0">
            <a:gsLst>
              <a:gs pos="0">
                <a:srgbClr val="750000">
                  <a:alpha val="0"/>
                </a:srgbClr>
              </a:gs>
              <a:gs pos="100000">
                <a:srgbClr val="ff0000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4113360"/>
            <a:ext cx="1886040" cy="2122200"/>
          </a:xfrm>
          <a:custGeom>
            <a:avLst/>
            <a:gdLst/>
            <a:ahLst/>
            <a:rect l="l" t="t" r="r" b="b"/>
            <a:pathLst>
              <a:path w="2049" h="2115">
                <a:moveTo>
                  <a:pt x="2049" y="2115"/>
                </a:moveTo>
                <a:cubicBezTo>
                  <a:pt x="2036" y="2044"/>
                  <a:pt x="2021" y="1843"/>
                  <a:pt x="1976" y="1691"/>
                </a:cubicBezTo>
                <a:cubicBezTo>
                  <a:pt x="1931" y="1539"/>
                  <a:pt x="1880" y="1361"/>
                  <a:pt x="1777" y="1201"/>
                </a:cubicBezTo>
                <a:cubicBezTo>
                  <a:pt x="1674" y="1041"/>
                  <a:pt x="1520" y="878"/>
                  <a:pt x="1360" y="731"/>
                </a:cubicBezTo>
                <a:cubicBezTo>
                  <a:pt x="1200" y="584"/>
                  <a:pt x="973" y="423"/>
                  <a:pt x="817" y="321"/>
                </a:cubicBezTo>
                <a:cubicBezTo>
                  <a:pt x="661" y="219"/>
                  <a:pt x="562" y="172"/>
                  <a:pt x="426" y="119"/>
                </a:cubicBezTo>
                <a:cubicBezTo>
                  <a:pt x="290" y="66"/>
                  <a:pt x="89" y="2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2755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11280" y="31050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986440"/>
            <a:ext cx="144360" cy="144360"/>
          </a:xfrm>
          <a:prstGeom prst="ellipse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16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404172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960" y="6186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4978440"/>
            <a:ext cx="2663640" cy="503280"/>
          </a:xfrm>
          <a:custGeom>
            <a:avLst/>
            <a:gdLst/>
            <a:ahLst/>
            <a:rect l="l" t="t" r="r" b="b"/>
            <a:pathLst>
              <a:path w="1709" h="404">
                <a:moveTo>
                  <a:pt x="0" y="404"/>
                </a:moveTo>
                <a:cubicBezTo>
                  <a:pt x="60" y="379"/>
                  <a:pt x="230" y="302"/>
                  <a:pt x="363" y="255"/>
                </a:cubicBezTo>
                <a:cubicBezTo>
                  <a:pt x="496" y="208"/>
                  <a:pt x="658" y="157"/>
                  <a:pt x="800" y="123"/>
                </a:cubicBezTo>
                <a:cubicBezTo>
                  <a:pt x="942" y="89"/>
                  <a:pt x="1062" y="74"/>
                  <a:pt x="1213" y="54"/>
                </a:cubicBezTo>
                <a:cubicBezTo>
                  <a:pt x="1364" y="34"/>
                  <a:pt x="1606" y="11"/>
                  <a:pt x="1709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6960" y="50292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7880" y="54864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or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09480" y="1031760"/>
            <a:ext cx="5074920" cy="3235320"/>
            <a:chOff x="609480" y="1031760"/>
            <a:chExt cx="5074920" cy="3235320"/>
          </a:xfrm>
        </p:grpSpPr>
        <p:sp>
          <p:nvSpPr>
            <p:cNvPr id="169" name=""/>
            <p:cNvSpPr/>
            <p:nvPr/>
          </p:nvSpPr>
          <p:spPr>
            <a:xfrm>
              <a:off x="609480" y="2133720"/>
              <a:ext cx="1676520" cy="2133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09840" y="1031760"/>
              <a:ext cx="41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ongly coupled QGP @ RH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523880" y="1523880"/>
              <a:ext cx="152640" cy="1295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429000" y="2279520"/>
            <a:ext cx="5407560" cy="1835280"/>
            <a:chOff x="3429000" y="2279520"/>
            <a:chExt cx="5407560" cy="1835280"/>
          </a:xfrm>
        </p:grpSpPr>
        <p:sp>
          <p:nvSpPr>
            <p:cNvPr id="173" name=""/>
            <p:cNvSpPr/>
            <p:nvPr/>
          </p:nvSpPr>
          <p:spPr>
            <a:xfrm>
              <a:off x="4416120" y="2279520"/>
              <a:ext cx="442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8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ark matter at modera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wi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a strongly coupled system, to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429000" y="2666880"/>
              <a:ext cx="990720" cy="1447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267080" y="3581280"/>
            <a:ext cx="4345200" cy="2057400"/>
            <a:chOff x="4267080" y="3581280"/>
            <a:chExt cx="4345200" cy="2057400"/>
          </a:xfrm>
        </p:grpSpPr>
        <p:sp>
          <p:nvSpPr>
            <p:cNvPr id="176" name=""/>
            <p:cNvSpPr/>
            <p:nvPr/>
          </p:nvSpPr>
          <p:spPr>
            <a:xfrm>
              <a:off x="5769000" y="3581280"/>
              <a:ext cx="28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ongly coupled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or supercondu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ll be realiz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267080" y="4419720"/>
              <a:ext cx="1447920" cy="1218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257800" y="457200"/>
            <a:ext cx="3567240" cy="4191120"/>
            <a:chOff x="5257800" y="457200"/>
            <a:chExt cx="3567240" cy="41911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0" t="-7834" r="0" b="0"/>
            <a:stretch/>
          </p:blipFill>
          <p:spPr>
            <a:xfrm>
              <a:off x="5257800" y="457200"/>
              <a:ext cx="3567240" cy="4191120"/>
            </a:xfrm>
            <a:prstGeom prst="rect">
              <a:avLst/>
            </a:prstGeom>
            <a:ln w="19080">
              <a:solidFill>
                <a:srgbClr val="000080"/>
              </a:solidFill>
              <a:miter/>
            </a:ln>
          </p:spPr>
        </p:pic>
        <p:sp>
          <p:nvSpPr>
            <p:cNvPr id="180" name=""/>
            <p:cNvSpPr/>
            <p:nvPr/>
          </p:nvSpPr>
          <p:spPr>
            <a:xfrm>
              <a:off x="5424120" y="457200"/>
              <a:ext cx="33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huryak, PoS, CPOD2006:0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878880" y="6095880"/>
            <a:ext cx="3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6386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208480" y="1941480"/>
            <a:ext cx="1905120" cy="745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48320" y="2016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08480" y="1835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2304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362320" y="2057400"/>
            <a:ext cx="1143000" cy="763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4920" y="21337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362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1752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112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562720" y="194004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2133720"/>
            <a:ext cx="1752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362320" y="213372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0" y="0"/>
                </a:moveTo>
                <a:cubicBezTo>
                  <a:pt x="53" y="52"/>
                  <a:pt x="224" y="192"/>
                  <a:pt x="320" y="312"/>
                </a:cubicBezTo>
                <a:cubicBezTo>
                  <a:pt x="416" y="432"/>
                  <a:pt x="523" y="635"/>
                  <a:pt x="576" y="72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17760" y="16351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790280" y="155880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638680" y="2016000"/>
            <a:ext cx="99072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0" y="0"/>
                </a:moveTo>
                <a:cubicBezTo>
                  <a:pt x="45" y="60"/>
                  <a:pt x="176" y="240"/>
                  <a:pt x="272" y="360"/>
                </a:cubicBezTo>
                <a:cubicBezTo>
                  <a:pt x="368" y="480"/>
                  <a:pt x="513" y="645"/>
                  <a:pt x="576" y="72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723280" y="1447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638680" y="20574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05520" y="3124080"/>
            <a:ext cx="12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295280" y="1981080"/>
            <a:ext cx="228600" cy="152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95280" y="2133720"/>
            <a:ext cx="228600" cy="15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19520" y="2590920"/>
            <a:ext cx="381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819520" y="2590920"/>
            <a:ext cx="22860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172200" y="2666880"/>
            <a:ext cx="381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172200" y="2666880"/>
            <a:ext cx="22860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638680" y="25909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5486040" y="259092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3036960" y="1447920"/>
          <a:ext cx="46836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6960" y="1447920"/>
                    <a:ext cx="468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5" name=""/>
          <p:cNvGraphicFramePr/>
          <p:nvPr/>
        </p:nvGraphicFramePr>
        <p:xfrm>
          <a:off x="7162920" y="1447920"/>
          <a:ext cx="46836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1447920"/>
                    <a:ext cx="468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8280" y="78120"/>
            <a:ext cx="71280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e of Diquark Propagator abo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602760" y="923760"/>
            <a:ext cx="87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54800" y="923760"/>
            <a:ext cx="87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3480" y="9144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55440" y="9144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048120" y="5410080"/>
            <a:ext cx="252360" cy="525600"/>
          </a:xfrm>
          <a:prstGeom prst="downArrow">
            <a:avLst>
              <a:gd name="adj1" fmla="val 50000"/>
              <a:gd name="adj2" fmla="val 62877"/>
            </a:avLst>
          </a:prstGeom>
          <a:gradFill rotWithShape="0">
            <a:gsLst>
              <a:gs pos="0">
                <a:srgbClr val="ff0000">
                  <a:alpha val="20000"/>
                </a:srgbClr>
              </a:gs>
              <a:gs pos="100000">
                <a:srgbClr val="f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117960" y="5897520"/>
            <a:ext cx="18864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5"/>
          <a:stretch/>
        </p:blipFill>
        <p:spPr>
          <a:xfrm>
            <a:off x="0" y="3646440"/>
            <a:ext cx="4724280" cy="3211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703680" y="5295960"/>
            <a:ext cx="252360" cy="525240"/>
          </a:xfrm>
          <a:prstGeom prst="downArrow">
            <a:avLst>
              <a:gd name="adj1" fmla="val 50000"/>
              <a:gd name="adj2" fmla="val 62834"/>
            </a:avLst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73520" y="5783400"/>
            <a:ext cx="18900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4800600" y="3002040"/>
          <a:ext cx="4032360" cy="381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002040"/>
                    <a:ext cx="4032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"/>
          <p:cNvGraphicFramePr/>
          <p:nvPr/>
        </p:nvGraphicFramePr>
        <p:xfrm>
          <a:off x="7873920" y="3763800"/>
          <a:ext cx="584280" cy="617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73920" y="3763800"/>
                    <a:ext cx="58428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"/>
          <p:cNvSpPr/>
          <p:nvPr/>
        </p:nvSpPr>
        <p:spPr>
          <a:xfrm flipH="1" flipV="1">
            <a:off x="5607000" y="4243320"/>
            <a:ext cx="533520" cy="1828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6597360" y="3786120"/>
            <a:ext cx="1168200" cy="198144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002000" y="68943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, et al.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4" name="Object 15"/>
          <p:cNvGraphicFramePr/>
          <p:nvPr/>
        </p:nvGraphicFramePr>
        <p:xfrm>
          <a:off x="8001000" y="2371680"/>
          <a:ext cx="1136520" cy="743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05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001000" y="2371680"/>
                    <a:ext cx="1136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"/>
          <p:cNvSpPr/>
          <p:nvPr/>
        </p:nvSpPr>
        <p:spPr>
          <a:xfrm flipH="1" flipV="1">
            <a:off x="6444720" y="3938760"/>
            <a:ext cx="1079640" cy="180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16200000">
            <a:off x="8020440" y="52005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, et al.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780560" y="3886200"/>
            <a:ext cx="2893680" cy="51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flavor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4222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gap in HTS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43520" y="955800"/>
            <a:ext cx="721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of the DoS around the Fermi surface abo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179280" y="2023920"/>
            <a:ext cx="3957840" cy="437688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3603600" y="40482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73040" y="16002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5770440" y="1871280"/>
            <a:ext cx="0" cy="2050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626080" y="3598920"/>
            <a:ext cx="216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5770440" y="1798200"/>
            <a:ext cx="1800360" cy="1800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6699240" y="2014560"/>
            <a:ext cx="7920" cy="164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6562800" y="3670200"/>
          <a:ext cx="279360" cy="2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62800" y="3670200"/>
                    <a:ext cx="2793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0" name=""/>
          <p:cNvSpPr/>
          <p:nvPr/>
        </p:nvSpPr>
        <p:spPr>
          <a:xfrm>
            <a:off x="5770440" y="2916360"/>
            <a:ext cx="928800" cy="682560"/>
          </a:xfrm>
          <a:custGeom>
            <a:avLst/>
            <a:gdLst/>
            <a:ahLst/>
            <a:rect l="l" t="t" r="r" b="b"/>
            <a:pathLst>
              <a:path w="585" h="430">
                <a:moveTo>
                  <a:pt x="0" y="430"/>
                </a:moveTo>
                <a:cubicBezTo>
                  <a:pt x="34" y="392"/>
                  <a:pt x="92" y="336"/>
                  <a:pt x="136" y="294"/>
                </a:cubicBezTo>
                <a:cubicBezTo>
                  <a:pt x="180" y="252"/>
                  <a:pt x="223" y="216"/>
                  <a:pt x="267" y="178"/>
                </a:cubicBezTo>
                <a:cubicBezTo>
                  <a:pt x="311" y="140"/>
                  <a:pt x="362" y="96"/>
                  <a:pt x="401" y="68"/>
                </a:cubicBezTo>
                <a:cubicBezTo>
                  <a:pt x="440" y="40"/>
                  <a:pt x="469" y="24"/>
                  <a:pt x="500" y="13"/>
                </a:cubicBezTo>
                <a:cubicBezTo>
                  <a:pt x="531" y="2"/>
                  <a:pt x="567" y="3"/>
                  <a:pt x="585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0800000">
            <a:off x="6713280" y="1717200"/>
            <a:ext cx="928440" cy="682920"/>
          </a:xfrm>
          <a:custGeom>
            <a:avLst/>
            <a:gdLst/>
            <a:ahLst/>
            <a:rect l="l" t="t" r="r" b="b"/>
            <a:pathLst>
              <a:path w="585" h="430">
                <a:moveTo>
                  <a:pt x="0" y="430"/>
                </a:moveTo>
                <a:cubicBezTo>
                  <a:pt x="34" y="392"/>
                  <a:pt x="92" y="336"/>
                  <a:pt x="136" y="294"/>
                </a:cubicBezTo>
                <a:cubicBezTo>
                  <a:pt x="180" y="252"/>
                  <a:pt x="223" y="216"/>
                  <a:pt x="267" y="178"/>
                </a:cubicBezTo>
                <a:cubicBezTo>
                  <a:pt x="311" y="140"/>
                  <a:pt x="362" y="96"/>
                  <a:pt x="401" y="68"/>
                </a:cubicBezTo>
                <a:cubicBezTo>
                  <a:pt x="440" y="40"/>
                  <a:pt x="469" y="24"/>
                  <a:pt x="500" y="13"/>
                </a:cubicBezTo>
                <a:cubicBezTo>
                  <a:pt x="531" y="2"/>
                  <a:pt x="567" y="3"/>
                  <a:pt x="585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5410080" y="1798560"/>
          <a:ext cx="279360" cy="23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798560"/>
                    <a:ext cx="2793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4" name=""/>
          <p:cNvGraphicFramePr/>
          <p:nvPr/>
        </p:nvGraphicFramePr>
        <p:xfrm>
          <a:off x="7593120" y="3660840"/>
          <a:ext cx="233280" cy="30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93120" y="3660840"/>
                    <a:ext cx="2332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6" name=""/>
          <p:cNvSpPr/>
          <p:nvPr/>
        </p:nvSpPr>
        <p:spPr>
          <a:xfrm flipV="1">
            <a:off x="5797440" y="47037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581800" y="607068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878520" y="59990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97440" y="4559400"/>
            <a:ext cx="868320" cy="1511280"/>
          </a:xfrm>
          <a:custGeom>
            <a:avLst/>
            <a:gdLst/>
            <a:ahLst/>
            <a:rect l="l" t="t" r="r" b="b"/>
            <a:pathLst>
              <a:path w="547" h="952">
                <a:moveTo>
                  <a:pt x="0" y="952"/>
                </a:moveTo>
                <a:cubicBezTo>
                  <a:pt x="39" y="949"/>
                  <a:pt x="167" y="948"/>
                  <a:pt x="236" y="932"/>
                </a:cubicBezTo>
                <a:cubicBezTo>
                  <a:pt x="305" y="916"/>
                  <a:pt x="373" y="892"/>
                  <a:pt x="414" y="859"/>
                </a:cubicBezTo>
                <a:cubicBezTo>
                  <a:pt x="455" y="826"/>
                  <a:pt x="463" y="795"/>
                  <a:pt x="482" y="736"/>
                </a:cubicBezTo>
                <a:cubicBezTo>
                  <a:pt x="501" y="677"/>
                  <a:pt x="521" y="595"/>
                  <a:pt x="531" y="503"/>
                </a:cubicBezTo>
                <a:cubicBezTo>
                  <a:pt x="541" y="411"/>
                  <a:pt x="543" y="265"/>
                  <a:pt x="545" y="181"/>
                </a:cubicBezTo>
                <a:cubicBezTo>
                  <a:pt x="547" y="97"/>
                  <a:pt x="545" y="56"/>
                  <a:pt x="545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6662880" y="4414680"/>
            <a:ext cx="0" cy="165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7094520" y="4414680"/>
            <a:ext cx="0" cy="165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085160" y="4414680"/>
            <a:ext cx="1170000" cy="1144800"/>
          </a:xfrm>
          <a:custGeom>
            <a:avLst/>
            <a:gdLst/>
            <a:ahLst/>
            <a:rect l="l" t="t" r="r" b="b"/>
            <a:pathLst>
              <a:path w="737" h="721">
                <a:moveTo>
                  <a:pt x="6" y="0"/>
                </a:moveTo>
                <a:cubicBezTo>
                  <a:pt x="6" y="45"/>
                  <a:pt x="0" y="176"/>
                  <a:pt x="8" y="270"/>
                </a:cubicBezTo>
                <a:cubicBezTo>
                  <a:pt x="16" y="364"/>
                  <a:pt x="22" y="490"/>
                  <a:pt x="51" y="564"/>
                </a:cubicBezTo>
                <a:cubicBezTo>
                  <a:pt x="80" y="638"/>
                  <a:pt x="122" y="713"/>
                  <a:pt x="185" y="717"/>
                </a:cubicBezTo>
                <a:cubicBezTo>
                  <a:pt x="248" y="721"/>
                  <a:pt x="361" y="642"/>
                  <a:pt x="430" y="588"/>
                </a:cubicBezTo>
                <a:cubicBezTo>
                  <a:pt x="499" y="534"/>
                  <a:pt x="551" y="461"/>
                  <a:pt x="602" y="392"/>
                </a:cubicBezTo>
                <a:cubicBezTo>
                  <a:pt x="653" y="323"/>
                  <a:pt x="709" y="218"/>
                  <a:pt x="737" y="172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797440" y="4703760"/>
            <a:ext cx="2449800" cy="1366920"/>
          </a:xfrm>
          <a:custGeom>
            <a:avLst/>
            <a:gdLst/>
            <a:ahLst/>
            <a:rect l="l" t="t" r="r" b="b"/>
            <a:pathLst>
              <a:path w="1543" h="861">
                <a:moveTo>
                  <a:pt x="0" y="861"/>
                </a:moveTo>
                <a:cubicBezTo>
                  <a:pt x="121" y="850"/>
                  <a:pt x="242" y="839"/>
                  <a:pt x="363" y="816"/>
                </a:cubicBezTo>
                <a:cubicBezTo>
                  <a:pt x="484" y="793"/>
                  <a:pt x="605" y="770"/>
                  <a:pt x="726" y="725"/>
                </a:cubicBezTo>
                <a:cubicBezTo>
                  <a:pt x="847" y="680"/>
                  <a:pt x="976" y="627"/>
                  <a:pt x="1089" y="544"/>
                </a:cubicBezTo>
                <a:cubicBezTo>
                  <a:pt x="1202" y="461"/>
                  <a:pt x="1330" y="317"/>
                  <a:pt x="1406" y="226"/>
                </a:cubicBezTo>
                <a:cubicBezTo>
                  <a:pt x="1482" y="135"/>
                  <a:pt x="1512" y="67"/>
                  <a:pt x="1543" y="0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5562720" y="4427640"/>
          <a:ext cx="723960" cy="34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4427640"/>
                    <a:ext cx="72396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"/>
          <p:cNvGraphicFramePr/>
          <p:nvPr/>
        </p:nvGraphicFramePr>
        <p:xfrm>
          <a:off x="8102520" y="6143760"/>
          <a:ext cx="279360" cy="23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02520" y="6143760"/>
                    <a:ext cx="2793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6742080" y="6149880"/>
          <a:ext cx="279360" cy="281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42080" y="6149880"/>
                    <a:ext cx="2793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>
            <a:off x="6661080" y="43434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1" name=""/>
          <p:cNvGraphicFramePr/>
          <p:nvPr/>
        </p:nvGraphicFramePr>
        <p:xfrm>
          <a:off x="6673680" y="4343400"/>
          <a:ext cx="419400" cy="281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673680" y="4343400"/>
                    <a:ext cx="41940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"/>
          <p:cNvSpPr/>
          <p:nvPr/>
        </p:nvSpPr>
        <p:spPr>
          <a:xfrm>
            <a:off x="6818400" y="26668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602400" y="2378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6848640" y="2673360"/>
          <a:ext cx="257040" cy="280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4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848640" y="2673360"/>
                    <a:ext cx="25704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7" name=""/>
          <p:cNvGraphicFramePr/>
          <p:nvPr/>
        </p:nvGraphicFramePr>
        <p:xfrm>
          <a:off x="6345360" y="2306520"/>
          <a:ext cx="257040" cy="281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4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345360" y="2306520"/>
                    <a:ext cx="25704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9" name="" descr=""/>
          <p:cNvPicPr/>
          <p:nvPr/>
        </p:nvPicPr>
        <p:blipFill>
          <a:blip r:embed="rId20"/>
          <a:stretch/>
        </p:blipFill>
        <p:spPr>
          <a:xfrm>
            <a:off x="5181480" y="1865160"/>
            <a:ext cx="3314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28600" y="4876920"/>
            <a:ext cx="6400800" cy="121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rcRect l="4413" t="20762" r="7852" b="7284"/>
          <a:stretch/>
        </p:blipFill>
        <p:spPr>
          <a:xfrm>
            <a:off x="539640" y="765000"/>
            <a:ext cx="5327640" cy="341172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/>
          <p:nvPr/>
        </p:nvSpPr>
        <p:spPr>
          <a:xfrm>
            <a:off x="546840" y="692280"/>
            <a:ext cx="1062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2268000" y="1989000"/>
            <a:ext cx="3024360" cy="12240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935040" y="277920"/>
            <a:ext cx="1916640" cy="825480"/>
          </a:xfrm>
          <a:prstGeom prst="rect">
            <a:avLst/>
          </a:pr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0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7021440" y="263664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84540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7021440" y="2854440"/>
            <a:ext cx="1079640" cy="1079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020000" y="3933720"/>
            <a:ext cx="504720" cy="503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318160" y="2854440"/>
            <a:ext cx="316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023600" y="234936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734160" y="307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2484360" y="2266560"/>
            <a:ext cx="2519280" cy="1584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7021440" y="3141720"/>
            <a:ext cx="12240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818480" y="2708280"/>
            <a:ext cx="0" cy="15843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268360" y="4294080"/>
            <a:ext cx="432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720320" y="3454560"/>
            <a:ext cx="1235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e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9692400">
            <a:off x="5437080" y="1815480"/>
            <a:ext cx="935280" cy="215640"/>
          </a:xfrm>
          <a:prstGeom prst="rightArrow">
            <a:avLst>
              <a:gd name="adj1" fmla="val 59491"/>
              <a:gd name="adj2" fmla="val 140699"/>
            </a:avLst>
          </a:prstGeom>
          <a:solidFill>
            <a:srgbClr val="6666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84720" y="1446120"/>
            <a:ext cx="2664000" cy="87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si-particle pea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3203640" y="765000"/>
            <a:ext cx="2663640" cy="1191240"/>
            <a:chOff x="3203640" y="765000"/>
            <a:chExt cx="2663640" cy="1191240"/>
          </a:xfrm>
        </p:grpSpPr>
        <p:sp>
          <p:nvSpPr>
            <p:cNvPr id="1170" name=""/>
            <p:cNvSpPr/>
            <p:nvPr/>
          </p:nvSpPr>
          <p:spPr>
            <a:xfrm>
              <a:off x="3203640" y="777960"/>
              <a:ext cx="2663640" cy="863640"/>
            </a:xfrm>
            <a:prstGeom prst="wedgeEllipseCallout">
              <a:avLst>
                <a:gd name="adj1" fmla="val -11444"/>
                <a:gd name="adj2" fmla="val 140439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419640" y="765000"/>
              <a:ext cx="2162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 Fermi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822240" y="3500280"/>
            <a:ext cx="1086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e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204640" y="371628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637040" y="419580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4897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k Spectral Fun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036320" y="4191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, et al.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09880" y="5281560"/>
            <a:ext cx="504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157560" y="5499000"/>
            <a:ext cx="504720" cy="142920"/>
          </a:xfrm>
          <a:custGeom>
            <a:avLst/>
            <a:gdLst/>
            <a:ahLst/>
            <a:rect l="l" t="t" r="r" b="b"/>
            <a:pathLst>
              <a:path w="318" h="105">
                <a:moveTo>
                  <a:pt x="0" y="105"/>
                </a:moveTo>
                <a:cubicBezTo>
                  <a:pt x="23" y="67"/>
                  <a:pt x="54" y="30"/>
                  <a:pt x="91" y="15"/>
                </a:cubicBezTo>
                <a:cubicBezTo>
                  <a:pt x="128" y="0"/>
                  <a:pt x="184" y="2"/>
                  <a:pt x="222" y="17"/>
                </a:cubicBezTo>
                <a:cubicBezTo>
                  <a:pt x="260" y="32"/>
                  <a:pt x="298" y="87"/>
                  <a:pt x="318" y="10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3157560" y="5641200"/>
            <a:ext cx="504720" cy="144360"/>
          </a:xfrm>
          <a:custGeom>
            <a:avLst/>
            <a:gdLst/>
            <a:ahLst/>
            <a:rect l="l" t="t" r="r" b="b"/>
            <a:pathLst>
              <a:path w="318" h="105">
                <a:moveTo>
                  <a:pt x="0" y="105"/>
                </a:moveTo>
                <a:cubicBezTo>
                  <a:pt x="23" y="67"/>
                  <a:pt x="54" y="30"/>
                  <a:pt x="91" y="15"/>
                </a:cubicBezTo>
                <a:cubicBezTo>
                  <a:pt x="128" y="0"/>
                  <a:pt x="184" y="2"/>
                  <a:pt x="222" y="17"/>
                </a:cubicBezTo>
                <a:cubicBezTo>
                  <a:pt x="260" y="32"/>
                  <a:pt x="298" y="87"/>
                  <a:pt x="318" y="10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133800" y="5257800"/>
            <a:ext cx="552240" cy="384120"/>
          </a:xfrm>
          <a:custGeom>
            <a:avLst/>
            <a:gdLst/>
            <a:ahLst/>
            <a:rect l="l" t="t" r="r" b="b"/>
            <a:pathLst>
              <a:path w="348" h="242">
                <a:moveTo>
                  <a:pt x="15" y="242"/>
                </a:moveTo>
                <a:cubicBezTo>
                  <a:pt x="7" y="193"/>
                  <a:pt x="0" y="144"/>
                  <a:pt x="15" y="106"/>
                </a:cubicBezTo>
                <a:cubicBezTo>
                  <a:pt x="30" y="68"/>
                  <a:pt x="68" y="30"/>
                  <a:pt x="106" y="15"/>
                </a:cubicBezTo>
                <a:cubicBezTo>
                  <a:pt x="144" y="0"/>
                  <a:pt x="204" y="0"/>
                  <a:pt x="242" y="15"/>
                </a:cubicBezTo>
                <a:cubicBezTo>
                  <a:pt x="280" y="30"/>
                  <a:pt x="318" y="68"/>
                  <a:pt x="333" y="106"/>
                </a:cubicBezTo>
                <a:cubicBezTo>
                  <a:pt x="348" y="144"/>
                  <a:pt x="333" y="219"/>
                  <a:pt x="333" y="2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491000" y="5487840"/>
            <a:ext cx="504720" cy="142920"/>
          </a:xfrm>
          <a:custGeom>
            <a:avLst/>
            <a:gdLst/>
            <a:ahLst/>
            <a:rect l="l" t="t" r="r" b="b"/>
            <a:pathLst>
              <a:path w="318" h="105">
                <a:moveTo>
                  <a:pt x="0" y="105"/>
                </a:moveTo>
                <a:cubicBezTo>
                  <a:pt x="23" y="67"/>
                  <a:pt x="54" y="30"/>
                  <a:pt x="91" y="15"/>
                </a:cubicBezTo>
                <a:cubicBezTo>
                  <a:pt x="128" y="0"/>
                  <a:pt x="184" y="2"/>
                  <a:pt x="222" y="17"/>
                </a:cubicBezTo>
                <a:cubicBezTo>
                  <a:pt x="260" y="32"/>
                  <a:pt x="298" y="87"/>
                  <a:pt x="318" y="10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491000" y="5630760"/>
            <a:ext cx="504720" cy="144720"/>
          </a:xfrm>
          <a:custGeom>
            <a:avLst/>
            <a:gdLst/>
            <a:ahLst/>
            <a:rect l="l" t="t" r="r" b="b"/>
            <a:pathLst>
              <a:path w="318" h="105">
                <a:moveTo>
                  <a:pt x="0" y="105"/>
                </a:moveTo>
                <a:cubicBezTo>
                  <a:pt x="23" y="67"/>
                  <a:pt x="54" y="30"/>
                  <a:pt x="91" y="15"/>
                </a:cubicBezTo>
                <a:cubicBezTo>
                  <a:pt x="128" y="0"/>
                  <a:pt x="184" y="2"/>
                  <a:pt x="222" y="17"/>
                </a:cubicBezTo>
                <a:cubicBezTo>
                  <a:pt x="260" y="32"/>
                  <a:pt x="298" y="87"/>
                  <a:pt x="318" y="10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457880" y="5234040"/>
            <a:ext cx="1083960" cy="396720"/>
          </a:xfrm>
          <a:custGeom>
            <a:avLst/>
            <a:gdLst/>
            <a:ahLst/>
            <a:rect l="l" t="t" r="r" b="b"/>
            <a:pathLst>
              <a:path w="683" h="250">
                <a:moveTo>
                  <a:pt x="21" y="250"/>
                </a:moveTo>
                <a:cubicBezTo>
                  <a:pt x="13" y="201"/>
                  <a:pt x="0" y="153"/>
                  <a:pt x="21" y="114"/>
                </a:cubicBezTo>
                <a:cubicBezTo>
                  <a:pt x="42" y="75"/>
                  <a:pt x="66" y="32"/>
                  <a:pt x="149" y="16"/>
                </a:cubicBezTo>
                <a:cubicBezTo>
                  <a:pt x="232" y="0"/>
                  <a:pt x="432" y="2"/>
                  <a:pt x="517" y="16"/>
                </a:cubicBezTo>
                <a:cubicBezTo>
                  <a:pt x="602" y="30"/>
                  <a:pt x="633" y="63"/>
                  <a:pt x="658" y="102"/>
                </a:cubicBezTo>
                <a:cubicBezTo>
                  <a:pt x="683" y="141"/>
                  <a:pt x="663" y="219"/>
                  <a:pt x="664" y="24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95720" y="5487840"/>
            <a:ext cx="505080" cy="142920"/>
          </a:xfrm>
          <a:custGeom>
            <a:avLst/>
            <a:gdLst/>
            <a:ahLst/>
            <a:rect l="l" t="t" r="r" b="b"/>
            <a:pathLst>
              <a:path w="318" h="105">
                <a:moveTo>
                  <a:pt x="0" y="105"/>
                </a:moveTo>
                <a:cubicBezTo>
                  <a:pt x="23" y="67"/>
                  <a:pt x="54" y="30"/>
                  <a:pt x="91" y="15"/>
                </a:cubicBezTo>
                <a:cubicBezTo>
                  <a:pt x="128" y="0"/>
                  <a:pt x="184" y="2"/>
                  <a:pt x="222" y="17"/>
                </a:cubicBezTo>
                <a:cubicBezTo>
                  <a:pt x="260" y="32"/>
                  <a:pt x="298" y="87"/>
                  <a:pt x="318" y="10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4995720" y="5630760"/>
            <a:ext cx="505080" cy="144720"/>
          </a:xfrm>
          <a:custGeom>
            <a:avLst/>
            <a:gdLst/>
            <a:ahLst/>
            <a:rect l="l" t="t" r="r" b="b"/>
            <a:pathLst>
              <a:path w="318" h="105">
                <a:moveTo>
                  <a:pt x="0" y="105"/>
                </a:moveTo>
                <a:cubicBezTo>
                  <a:pt x="23" y="67"/>
                  <a:pt x="54" y="30"/>
                  <a:pt x="91" y="15"/>
                </a:cubicBezTo>
                <a:cubicBezTo>
                  <a:pt x="128" y="0"/>
                  <a:pt x="184" y="2"/>
                  <a:pt x="222" y="17"/>
                </a:cubicBezTo>
                <a:cubicBezTo>
                  <a:pt x="260" y="32"/>
                  <a:pt x="298" y="87"/>
                  <a:pt x="318" y="10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rot="5400000">
            <a:off x="3346200" y="5445000"/>
            <a:ext cx="125640" cy="125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3355560" y="5713200"/>
            <a:ext cx="125280" cy="125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5400000">
            <a:off x="4672080" y="5435640"/>
            <a:ext cx="125280" cy="125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5400000">
            <a:off x="4668480" y="5703840"/>
            <a:ext cx="125640" cy="125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5192280" y="569448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5400000">
            <a:off x="5191920" y="54259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2171880" y="5229360"/>
            <a:ext cx="125280" cy="125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3321000" y="5209920"/>
            <a:ext cx="125280" cy="12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4912920" y="5181120"/>
            <a:ext cx="125640" cy="125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430200" y="5425920"/>
          <a:ext cx="1371600" cy="47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0200" y="5425920"/>
                    <a:ext cx="1371600" cy="4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7" name=""/>
          <p:cNvSpPr/>
          <p:nvPr/>
        </p:nvSpPr>
        <p:spPr>
          <a:xfrm>
            <a:off x="1938240" y="5641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946240" y="5641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666960" y="5641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241880" y="5641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29240" y="5641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2657520" y="5487840"/>
          <a:ext cx="291960" cy="29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57520" y="5487840"/>
                    <a:ext cx="2919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4" name=""/>
          <p:cNvGraphicFramePr/>
          <p:nvPr/>
        </p:nvGraphicFramePr>
        <p:xfrm>
          <a:off x="3881520" y="5487840"/>
          <a:ext cx="291960" cy="29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1520" y="5487840"/>
                    <a:ext cx="2919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6" name=""/>
          <p:cNvGraphicFramePr/>
          <p:nvPr/>
        </p:nvGraphicFramePr>
        <p:xfrm>
          <a:off x="5816520" y="5478480"/>
          <a:ext cx="584280" cy="29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6520" y="5478480"/>
                    <a:ext cx="58428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8" name=""/>
          <p:cNvSpPr/>
          <p:nvPr/>
        </p:nvSpPr>
        <p:spPr>
          <a:xfrm>
            <a:off x="147960" y="4648320"/>
            <a:ext cx="327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matrix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79280" y="4800600"/>
            <a:ext cx="144720" cy="144360"/>
          </a:xfrm>
          <a:prstGeom prst="octagon">
            <a:avLst>
              <a:gd name="adj" fmla="val 29287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36560" y="6289560"/>
            <a:ext cx="69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quark fluctuations largely modify quark exci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34920" y="979560"/>
            <a:ext cx="6904080" cy="447516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/>
          <p:nvPr/>
        </p:nvSpPr>
        <p:spPr>
          <a:xfrm flipH="1">
            <a:off x="4149720" y="4005360"/>
            <a:ext cx="69840" cy="320400"/>
          </a:xfrm>
          <a:custGeom>
            <a:avLst/>
            <a:gdLst>
              <a:gd name="textAreaLeft" fmla="*/ 6120 w 69840"/>
              <a:gd name="textAreaRight" fmla="*/ 63720 w 69840"/>
              <a:gd name="textAreaTop" fmla="*/ 6120 h 320400"/>
              <a:gd name="textAreaBottom" fmla="*/ 314280 h 320400"/>
            </a:gdLst>
            <a:ahLst/>
            <a:rect l="textAreaLeft" t="textAreaTop" r="textAreaRight" b="textAreaBottom"/>
            <a:pathLst>
              <a:path w="21600" h="98695">
                <a:moveTo>
                  <a:pt x="6720" y="0"/>
                </a:moveTo>
                <a:arcTo wR="6720" hR="6720" stAng="16200000" swAng="-5400000"/>
                <a:lnTo>
                  <a:pt x="0" y="91975"/>
                </a:lnTo>
                <a:arcTo wR="6720" hR="6720" stAng="10800000" swAng="-5400000"/>
                <a:lnTo>
                  <a:pt x="14880" y="98695"/>
                </a:lnTo>
                <a:arcTo wR="6720" hR="6720" stAng="5400000" swAng="-5400000"/>
                <a:lnTo>
                  <a:pt x="21600" y="6720"/>
                </a:lnTo>
                <a:arcTo wR="6720" hR="672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2411280" y="860400"/>
            <a:ext cx="6659640" cy="235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14" name=""/>
          <p:cNvSpPr/>
          <p:nvPr/>
        </p:nvSpPr>
        <p:spPr>
          <a:xfrm rot="21463800">
            <a:off x="3995280" y="3141720"/>
            <a:ext cx="289080" cy="720720"/>
          </a:xfrm>
          <a:prstGeom prst="upArrow">
            <a:avLst>
              <a:gd name="adj1" fmla="val 42861"/>
              <a:gd name="adj2" fmla="val 84571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4378800">
            <a:off x="6632280" y="2611080"/>
            <a:ext cx="288720" cy="1781280"/>
          </a:xfrm>
          <a:prstGeom prst="upArrow">
            <a:avLst>
              <a:gd name="adj1" fmla="val 50556"/>
              <a:gd name="adj2" fmla="val 11710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3012600">
            <a:off x="5132880" y="2978640"/>
            <a:ext cx="289080" cy="1036800"/>
          </a:xfrm>
          <a:prstGeom prst="upArrow">
            <a:avLst>
              <a:gd name="adj1" fmla="val 50000"/>
              <a:gd name="adj2" fmla="val 89664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4614840" y="3841920"/>
            <a:ext cx="69840" cy="320400"/>
          </a:xfrm>
          <a:custGeom>
            <a:avLst/>
            <a:gdLst>
              <a:gd name="textAreaLeft" fmla="*/ 6120 w 69840"/>
              <a:gd name="textAreaRight" fmla="*/ 63720 w 69840"/>
              <a:gd name="textAreaTop" fmla="*/ 6120 h 320400"/>
              <a:gd name="textAreaBottom" fmla="*/ 314280 h 320400"/>
            </a:gdLst>
            <a:ahLst/>
            <a:rect l="textAreaLeft" t="textAreaTop" r="textAreaRight" b="textAreaBottom"/>
            <a:pathLst>
              <a:path w="21600" h="98695">
                <a:moveTo>
                  <a:pt x="6720" y="0"/>
                </a:moveTo>
                <a:arcTo wR="6720" hR="6720" stAng="16200000" swAng="-5400000"/>
                <a:lnTo>
                  <a:pt x="0" y="91975"/>
                </a:lnTo>
                <a:arcTo wR="6720" hR="6720" stAng="10800000" swAng="-5400000"/>
                <a:lnTo>
                  <a:pt x="14880" y="98695"/>
                </a:lnTo>
                <a:arcTo wR="6720" hR="6720" stAng="5400000" swAng="-5400000"/>
                <a:lnTo>
                  <a:pt x="21600" y="6720"/>
                </a:lnTo>
                <a:arcTo wR="6720" hR="672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5551560" y="3673440"/>
            <a:ext cx="69840" cy="320760"/>
          </a:xfrm>
          <a:custGeom>
            <a:avLst/>
            <a:gdLst>
              <a:gd name="textAreaLeft" fmla="*/ 6120 w 69840"/>
              <a:gd name="textAreaRight" fmla="*/ 63720 w 69840"/>
              <a:gd name="textAreaTop" fmla="*/ 6120 h 320760"/>
              <a:gd name="textAreaBottom" fmla="*/ 314640 h 320760"/>
            </a:gdLst>
            <a:ahLst/>
            <a:rect l="textAreaLeft" t="textAreaTop" r="textAreaRight" b="textAreaBottom"/>
            <a:pathLst>
              <a:path w="21600" h="98806">
                <a:moveTo>
                  <a:pt x="6720" y="0"/>
                </a:moveTo>
                <a:arcTo wR="6720" hR="6720" stAng="16200000" swAng="-5400000"/>
                <a:lnTo>
                  <a:pt x="0" y="92086"/>
                </a:lnTo>
                <a:arcTo wR="6720" hR="6720" stAng="10800000" swAng="-5400000"/>
                <a:lnTo>
                  <a:pt x="14880" y="98806"/>
                </a:lnTo>
                <a:arcTo wR="6720" hR="6720" stAng="5400000" swAng="-5400000"/>
                <a:lnTo>
                  <a:pt x="21600" y="6720"/>
                </a:lnTo>
                <a:arcTo wR="6720" hR="672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192560" y="3715920"/>
            <a:ext cx="0" cy="1081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653000" y="3715920"/>
            <a:ext cx="0" cy="1081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5589720" y="3735000"/>
            <a:ext cx="0" cy="1081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19200" y="5780160"/>
            <a:ext cx="803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seudogap survives up to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=0.05~0.1 ( 5~10% above T</a:t>
            </a:r>
            <a:r>
              <a:rPr b="1" lang="en-US" sz="24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3" name=""/>
          <p:cNvGraphicFramePr/>
          <p:nvPr/>
        </p:nvGraphicFramePr>
        <p:xfrm>
          <a:off x="7524720" y="3828960"/>
          <a:ext cx="122400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382896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5" name=""/>
          <p:cNvSpPr/>
          <p:nvPr/>
        </p:nvSpPr>
        <p:spPr>
          <a:xfrm>
            <a:off x="7308720" y="3789360"/>
            <a:ext cx="1584360" cy="1008000"/>
          </a:xfrm>
          <a:prstGeom prst="wedgeRoundRectCallout">
            <a:avLst>
              <a:gd name="adj1" fmla="val 2004"/>
              <a:gd name="adj2" fmla="val -109685"/>
              <a:gd name="adj3" fmla="val 16667"/>
            </a:avLst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507920" y="5146560"/>
            <a:ext cx="2342160" cy="459720"/>
          </a:xfrm>
          <a:prstGeom prst="wedgeRectCallout">
            <a:avLst>
              <a:gd name="adj1" fmla="val -59004"/>
              <a:gd name="adj2" fmla="val -284189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gap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3973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gap Reg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438880" y="66600"/>
            <a:ext cx="3570120" cy="510120"/>
          </a:xfrm>
          <a:prstGeom prst="rect">
            <a:avLst/>
          </a:prstGeom>
          <a:noFill/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flavor NJL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293960" y="64612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, et al.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412920" y="3811680"/>
            <a:ext cx="7921440" cy="1220760"/>
          </a:xfrm>
          <a:custGeom>
            <a:avLst/>
            <a:gdLst/>
            <a:ahLst/>
            <a:rect l="l" t="t" r="r" b="b"/>
            <a:pathLst>
              <a:path w="4990" h="769">
                <a:moveTo>
                  <a:pt x="4924" y="761"/>
                </a:moveTo>
                <a:cubicBezTo>
                  <a:pt x="4919" y="733"/>
                  <a:pt x="4921" y="625"/>
                  <a:pt x="4891" y="594"/>
                </a:cubicBezTo>
                <a:cubicBezTo>
                  <a:pt x="4861" y="563"/>
                  <a:pt x="4990" y="583"/>
                  <a:pt x="4744" y="573"/>
                </a:cubicBezTo>
                <a:cubicBezTo>
                  <a:pt x="4498" y="563"/>
                  <a:pt x="3887" y="567"/>
                  <a:pt x="3415" y="536"/>
                </a:cubicBezTo>
                <a:cubicBezTo>
                  <a:pt x="2942" y="505"/>
                  <a:pt x="2354" y="455"/>
                  <a:pt x="1909" y="388"/>
                </a:cubicBezTo>
                <a:cubicBezTo>
                  <a:pt x="1465" y="321"/>
                  <a:pt x="1046" y="188"/>
                  <a:pt x="747" y="133"/>
                </a:cubicBezTo>
                <a:cubicBezTo>
                  <a:pt x="448" y="78"/>
                  <a:pt x="232" y="63"/>
                  <a:pt x="116" y="60"/>
                </a:cubicBezTo>
                <a:cubicBezTo>
                  <a:pt x="0" y="57"/>
                  <a:pt x="61" y="0"/>
                  <a:pt x="49" y="118"/>
                </a:cubicBezTo>
                <a:cubicBezTo>
                  <a:pt x="37" y="236"/>
                  <a:pt x="43" y="634"/>
                  <a:pt x="41" y="769"/>
                </a:cubicBezTo>
              </a:path>
            </a:pathLst>
          </a:custGeom>
          <a:gradFill rotWithShape="0">
            <a:gsLst>
              <a:gs pos="0">
                <a:srgbClr val="0000ff">
                  <a:alpha val="16078"/>
                </a:srgbClr>
              </a:gs>
              <a:gs pos="100000">
                <a:srgbClr val="0f0ffe">
                  <a:alpha val="4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5484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Phase Diagra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42920" y="5032440"/>
            <a:ext cx="8245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61000" y="511164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7640" y="52084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68360" y="3881520"/>
            <a:ext cx="7848720" cy="846000"/>
          </a:xfrm>
          <a:custGeom>
            <a:avLst/>
            <a:gdLst/>
            <a:ahLst/>
            <a:rect l="l" t="t" r="r" b="b"/>
            <a:pathLst>
              <a:path w="4570" h="652">
                <a:moveTo>
                  <a:pt x="4399" y="644"/>
                </a:moveTo>
                <a:cubicBezTo>
                  <a:pt x="4484" y="648"/>
                  <a:pt x="4570" y="652"/>
                  <a:pt x="4359" y="644"/>
                </a:cubicBezTo>
                <a:cubicBezTo>
                  <a:pt x="4148" y="636"/>
                  <a:pt x="3567" y="636"/>
                  <a:pt x="3131" y="598"/>
                </a:cubicBezTo>
                <a:cubicBezTo>
                  <a:pt x="2694" y="560"/>
                  <a:pt x="2150" y="499"/>
                  <a:pt x="1739" y="417"/>
                </a:cubicBezTo>
                <a:cubicBezTo>
                  <a:pt x="1328" y="335"/>
                  <a:pt x="955" y="174"/>
                  <a:pt x="665" y="105"/>
                </a:cubicBezTo>
                <a:cubicBezTo>
                  <a:pt x="375" y="36"/>
                  <a:pt x="139" y="2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311240" y="46292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87600" y="46004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0980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133720"/>
            <a:ext cx="2717640" cy="2322360"/>
          </a:xfrm>
          <a:custGeom>
            <a:avLst/>
            <a:gdLst/>
            <a:ahLst/>
            <a:rect l="l" t="t" r="r" b="b"/>
            <a:pathLst>
              <a:path w="1588" h="861">
                <a:moveTo>
                  <a:pt x="1588" y="861"/>
                </a:moveTo>
                <a:cubicBezTo>
                  <a:pt x="1511" y="825"/>
                  <a:pt x="1311" y="747"/>
                  <a:pt x="1125" y="645"/>
                </a:cubicBezTo>
                <a:cubicBezTo>
                  <a:pt x="939" y="543"/>
                  <a:pt x="658" y="353"/>
                  <a:pt x="471" y="246"/>
                </a:cubicBezTo>
                <a:cubicBezTo>
                  <a:pt x="284" y="139"/>
                  <a:pt x="98" y="51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8360" y="297180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bo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708360" y="4456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52360" y="946080"/>
            <a:ext cx="34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phas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778560" y="457524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lu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2040" y="36640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04480" y="182880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2485080" y="2362320"/>
            <a:ext cx="4714200" cy="2336760"/>
            <a:chOff x="2485080" y="2362320"/>
            <a:chExt cx="4714200" cy="2336760"/>
          </a:xfrm>
        </p:grpSpPr>
        <p:sp>
          <p:nvSpPr>
            <p:cNvPr id="1247" name=""/>
            <p:cNvSpPr/>
            <p:nvPr/>
          </p:nvSpPr>
          <p:spPr>
            <a:xfrm>
              <a:off x="2590920" y="2362320"/>
              <a:ext cx="4608360" cy="2336760"/>
            </a:xfrm>
            <a:custGeom>
              <a:avLst/>
              <a:gdLst/>
              <a:ahLst/>
              <a:rect l="l" t="t" r="r" b="b"/>
              <a:pathLst>
                <a:path w="2788" h="1332">
                  <a:moveTo>
                    <a:pt x="2788" y="1332"/>
                  </a:moveTo>
                  <a:cubicBezTo>
                    <a:pt x="2650" y="1301"/>
                    <a:pt x="2215" y="1230"/>
                    <a:pt x="1957" y="1144"/>
                  </a:cubicBezTo>
                  <a:cubicBezTo>
                    <a:pt x="1699" y="1058"/>
                    <a:pt x="1466" y="940"/>
                    <a:pt x="1243" y="817"/>
                  </a:cubicBezTo>
                  <a:cubicBezTo>
                    <a:pt x="1020" y="694"/>
                    <a:pt x="824" y="544"/>
                    <a:pt x="617" y="408"/>
                  </a:cubicBezTo>
                  <a:cubicBezTo>
                    <a:pt x="410" y="272"/>
                    <a:pt x="129" y="8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485080" y="3160800"/>
              <a:ext cx="233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eudo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re-critic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421520" y="3352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-2742840" y="2590920"/>
            <a:ext cx="640008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0000">
                  <a:alpha val="20000"/>
                </a:srgbClr>
              </a:gs>
              <a:gs pos="100000">
                <a:srgbClr val="fe1e1e">
                  <a:alpha val="60392"/>
                </a:srgbClr>
              </a:gs>
            </a:gsLst>
            <a:lin ang="81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 flipV="1">
            <a:off x="456840" y="1752480"/>
            <a:ext cx="11160" cy="342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47920" y="3581280"/>
            <a:ext cx="26665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0"/>
                </a:moveTo>
                <a:arcTo wR="10800" hR="10800" stAng="-10752257" swAng="10752257"/>
                <a:lnTo>
                  <a:pt x="10800" y="10800"/>
                </a:lnTo>
                <a:close/>
              </a:path>
              <a:path fill="none" w="21600" h="21600">
                <a:moveTo>
                  <a:pt x="1" y="10650"/>
                </a:moveTo>
                <a:arcTo wR="10800" hR="10800" stAng="-10752257" swAng="10752257"/>
              </a:path>
            </a:pathLst>
          </a:custGeom>
          <a:solidFill>
            <a:srgbClr val="808080">
              <a:alpha val="50000"/>
            </a:srgbClr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279600" y="5029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~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4678200" y="846000"/>
            <a:ext cx="4465800" cy="30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5" name=""/>
          <p:cNvGraphicFramePr/>
          <p:nvPr/>
        </p:nvGraphicFramePr>
        <p:xfrm>
          <a:off x="152280" y="1720800"/>
          <a:ext cx="381024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720800"/>
                    <a:ext cx="38102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7" name=""/>
          <p:cNvSpPr/>
          <p:nvPr/>
        </p:nvSpPr>
        <p:spPr>
          <a:xfrm rot="16200000">
            <a:off x="3456000" y="2173680"/>
            <a:ext cx="21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d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f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32360" y="37479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ariant mass M [MeV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7716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easure Diquarks Fluctua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9360" y="9525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epton produc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2280" y="1143000"/>
            <a:ext cx="144720" cy="14436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75960" y="1371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75960" y="5459400"/>
            <a:ext cx="8008920" cy="1261440"/>
            <a:chOff x="75960" y="5459400"/>
            <a:chExt cx="8008920" cy="1261440"/>
          </a:xfrm>
        </p:grpSpPr>
        <p:sp>
          <p:nvSpPr>
            <p:cNvPr id="1264" name=""/>
            <p:cNvSpPr/>
            <p:nvPr/>
          </p:nvSpPr>
          <p:spPr>
            <a:xfrm>
              <a:off x="152280" y="5646600"/>
              <a:ext cx="144720" cy="144720"/>
            </a:xfrm>
            <a:prstGeom prst="octagon">
              <a:avLst>
                <a:gd name="adj" fmla="val 2928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75960" y="5875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3480" y="545940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combi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255680" y="633240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407960" y="60278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4011840" y="6060240"/>
              <a:ext cx="357840" cy="304200"/>
              <a:chOff x="4011840" y="6060240"/>
              <a:chExt cx="357840" cy="304200"/>
            </a:xfrm>
          </p:grpSpPr>
          <p:sp>
            <p:nvSpPr>
              <p:cNvPr id="1270" name=""/>
              <p:cNvSpPr/>
              <p:nvPr/>
            </p:nvSpPr>
            <p:spPr>
              <a:xfrm rot="4585200">
                <a:off x="4168440" y="6163560"/>
                <a:ext cx="1425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4585200">
                <a:off x="4081680" y="6111360"/>
                <a:ext cx="144360" cy="1447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12318000">
                <a:off x="4038120" y="6116040"/>
                <a:ext cx="304920" cy="192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 rot="4585200">
              <a:off x="1483560" y="6561000"/>
              <a:ext cx="144720" cy="1443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4585200">
              <a:off x="4114080" y="6485040"/>
              <a:ext cx="144360" cy="1443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5" name=""/>
            <p:cNvGrpSpPr/>
            <p:nvPr/>
          </p:nvGrpSpPr>
          <p:grpSpPr>
            <a:xfrm>
              <a:off x="2322000" y="6247440"/>
              <a:ext cx="344520" cy="370440"/>
              <a:chOff x="2322000" y="6247440"/>
              <a:chExt cx="344520" cy="370440"/>
            </a:xfrm>
          </p:grpSpPr>
          <p:sp>
            <p:nvSpPr>
              <p:cNvPr id="1276" name=""/>
              <p:cNvSpPr/>
              <p:nvPr/>
            </p:nvSpPr>
            <p:spPr>
              <a:xfrm rot="4585200">
                <a:off x="2395080" y="6432120"/>
                <a:ext cx="144000" cy="1443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4585200">
                <a:off x="2485080" y="6338880"/>
                <a:ext cx="1425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4585200">
                <a:off x="2398320" y="6261840"/>
                <a:ext cx="144000" cy="1447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10800000">
                <a:off x="2322000" y="6256080"/>
                <a:ext cx="344520" cy="361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1636560" y="6103800"/>
              <a:ext cx="609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484280" y="6408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1712880" y="6561000"/>
              <a:ext cx="457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5065200" y="6171120"/>
              <a:ext cx="344520" cy="370440"/>
              <a:chOff x="5065200" y="6171120"/>
              <a:chExt cx="344520" cy="370440"/>
            </a:xfrm>
          </p:grpSpPr>
          <p:sp>
            <p:nvSpPr>
              <p:cNvPr id="1284" name=""/>
              <p:cNvSpPr/>
              <p:nvPr/>
            </p:nvSpPr>
            <p:spPr>
              <a:xfrm rot="4585200">
                <a:off x="5138280" y="6355800"/>
                <a:ext cx="144000" cy="1443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4585200">
                <a:off x="5228280" y="6262560"/>
                <a:ext cx="1425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4585200">
                <a:off x="5141520" y="6185520"/>
                <a:ext cx="144000" cy="1447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10800000">
                <a:off x="5065200" y="6179760"/>
                <a:ext cx="344520" cy="361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>
              <a:off x="4419720" y="62564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4343400" y="648468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46000" y="6027840"/>
              <a:ext cx="183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e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t 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, 2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5564520" y="990720"/>
            <a:ext cx="17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914040" y="3352680"/>
            <a:ext cx="2760840" cy="1228320"/>
            <a:chOff x="914040" y="3352680"/>
            <a:chExt cx="2760840" cy="1228320"/>
          </a:xfrm>
        </p:grpSpPr>
        <p:sp>
          <p:nvSpPr>
            <p:cNvPr id="1293" name=""/>
            <p:cNvSpPr/>
            <p:nvPr/>
          </p:nvSpPr>
          <p:spPr>
            <a:xfrm>
              <a:off x="1428120" y="3405600"/>
              <a:ext cx="450000" cy="12276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1428120" y="3528720"/>
              <a:ext cx="450000" cy="12384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877040" y="3405600"/>
              <a:ext cx="450000" cy="12276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1877040" y="3528720"/>
              <a:ext cx="450000" cy="12384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5400000">
              <a:off x="1591560" y="3358800"/>
              <a:ext cx="108000" cy="111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5400000">
              <a:off x="1588680" y="3589560"/>
              <a:ext cx="108000" cy="111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5400000">
              <a:off x="2054520" y="3580560"/>
              <a:ext cx="123840" cy="128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5400000">
              <a:off x="2054520" y="3350160"/>
              <a:ext cx="123840" cy="128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10800" y="3405600"/>
              <a:ext cx="450360" cy="12276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2710800" y="3528720"/>
              <a:ext cx="450360" cy="12384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5400000">
              <a:off x="2888280" y="3580560"/>
              <a:ext cx="123840" cy="128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5400000">
              <a:off x="2888280" y="3350160"/>
              <a:ext cx="123840" cy="128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1428120" y="4279680"/>
              <a:ext cx="450000" cy="12276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1428120" y="4402440"/>
              <a:ext cx="450000" cy="12384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2270880" y="4279680"/>
              <a:ext cx="450000" cy="12276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 flipV="1">
              <a:off x="2270880" y="4402440"/>
              <a:ext cx="450000" cy="12384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 rot="16200000">
              <a:off x="1591560" y="4232520"/>
              <a:ext cx="108000" cy="111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rot="16200000">
              <a:off x="1588680" y="4463280"/>
              <a:ext cx="107640" cy="111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 rot="16200000">
              <a:off x="2447280" y="4454640"/>
              <a:ext cx="123840" cy="128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rot="16200000">
              <a:off x="2447280" y="4223880"/>
              <a:ext cx="123840" cy="128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710080" y="4279680"/>
              <a:ext cx="450360" cy="12276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 flipV="1">
              <a:off x="2710080" y="4402440"/>
              <a:ext cx="450360" cy="123840"/>
            </a:xfrm>
            <a:custGeom>
              <a:avLst/>
              <a:gdLst/>
              <a:ahLst/>
              <a:rect l="l" t="t" r="r" b="b"/>
              <a:pathLst>
                <a:path w="318" h="105">
                  <a:moveTo>
                    <a:pt x="0" y="105"/>
                  </a:moveTo>
                  <a:cubicBezTo>
                    <a:pt x="23" y="67"/>
                    <a:pt x="54" y="30"/>
                    <a:pt x="91" y="15"/>
                  </a:cubicBezTo>
                  <a:cubicBezTo>
                    <a:pt x="128" y="0"/>
                    <a:pt x="184" y="2"/>
                    <a:pt x="222" y="17"/>
                  </a:cubicBezTo>
                  <a:cubicBezTo>
                    <a:pt x="260" y="32"/>
                    <a:pt x="298" y="87"/>
                    <a:pt x="31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 rot="16200000">
              <a:off x="2887560" y="4454640"/>
              <a:ext cx="123840" cy="128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 rot="16200000">
              <a:off x="2887560" y="4223880"/>
              <a:ext cx="123840" cy="128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28120" y="3528720"/>
              <a:ext cx="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161520" y="3528720"/>
              <a:ext cx="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914040" y="3528720"/>
              <a:ext cx="513720" cy="4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 flipV="1">
              <a:off x="914400" y="3961440"/>
              <a:ext cx="515520" cy="43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161520" y="3528720"/>
              <a:ext cx="513360" cy="4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3161520" y="3961440"/>
              <a:ext cx="513360" cy="43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1371600" y="3899880"/>
              <a:ext cx="111600" cy="10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rot="10800000">
              <a:off x="3096360" y="3853080"/>
              <a:ext cx="111960" cy="10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 rot="18960000">
              <a:off x="1107720" y="4123440"/>
              <a:ext cx="111600" cy="108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 rot="13560000">
              <a:off x="3352320" y="4145400"/>
              <a:ext cx="108000" cy="111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 rot="2760000">
              <a:off x="1109520" y="3704040"/>
              <a:ext cx="107640" cy="111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rot="8160000">
              <a:off x="3363480" y="3686040"/>
              <a:ext cx="111960" cy="10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9" name=""/>
            <p:cNvGraphicFramePr/>
            <p:nvPr/>
          </p:nvGraphicFramePr>
          <p:xfrm>
            <a:off x="2381040" y="3465720"/>
            <a:ext cx="331200" cy="186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3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81040" y="3465720"/>
                      <a:ext cx="331200" cy="18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1" name=""/>
            <p:cNvGraphicFramePr/>
            <p:nvPr/>
          </p:nvGraphicFramePr>
          <p:xfrm>
            <a:off x="1942200" y="4332960"/>
            <a:ext cx="331200" cy="1868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42200" y="4332960"/>
                      <a:ext cx="331200" cy="18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33" name=""/>
          <p:cNvGraphicFramePr/>
          <p:nvPr/>
        </p:nvGraphicFramePr>
        <p:xfrm>
          <a:off x="533520" y="2895480"/>
          <a:ext cx="876240" cy="48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520" y="2895480"/>
                    <a:ext cx="87624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5" name=""/>
          <p:cNvGraphicFramePr/>
          <p:nvPr/>
        </p:nvGraphicFramePr>
        <p:xfrm>
          <a:off x="525600" y="3933720"/>
          <a:ext cx="485640" cy="425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5600" y="3933720"/>
                    <a:ext cx="4856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7" name=""/>
          <p:cNvGraphicFramePr/>
          <p:nvPr/>
        </p:nvGraphicFramePr>
        <p:xfrm>
          <a:off x="3579840" y="3587760"/>
          <a:ext cx="455760" cy="417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79840" y="3587760"/>
                    <a:ext cx="4557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9" name=""/>
          <p:cNvSpPr/>
          <p:nvPr/>
        </p:nvSpPr>
        <p:spPr>
          <a:xfrm>
            <a:off x="5839920" y="4343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lepton rate from CFL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ikumar,Rapp,Zahed,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04920" y="2895480"/>
            <a:ext cx="3733560" cy="2210040"/>
          </a:xfrm>
          <a:prstGeom prst="wedgeRectCallout">
            <a:avLst>
              <a:gd name="adj1" fmla="val 11523"/>
              <a:gd name="adj2" fmla="val -73134"/>
            </a:avLst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988200" y="4648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lamasov-Larkin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225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0880" y="914400"/>
            <a:ext cx="853452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nched lattice simulation indicates the existence of the quark quasi-particles even nea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aving a thermal m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.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ark matter under neutrality conditions has an extremely rich phase structure owing to the mismatches of Fermi su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ation of superconductivity in the polarized gas is a hot topics in the condensed matter physics, and the QM community will have a lot to learn from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iquark coupling is strong enough, the quarks form stable diquarks in the QGP phase at low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f the diquark coupling is not sufficiently stro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uctuations affect various observables near but well abo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3522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ma Instabil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755640" y="1989000"/>
            <a:ext cx="2951280" cy="860400"/>
            <a:chOff x="755640" y="1989000"/>
            <a:chExt cx="2951280" cy="860400"/>
          </a:xfrm>
        </p:grpSpPr>
        <p:sp>
          <p:nvSpPr>
            <p:cNvPr id="1346" name=""/>
            <p:cNvSpPr/>
            <p:nvPr/>
          </p:nvSpPr>
          <p:spPr>
            <a:xfrm flipV="1">
              <a:off x="755640" y="198900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55640" y="2849400"/>
              <a:ext cx="29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8" name=""/>
          <p:cNvSpPr/>
          <p:nvPr/>
        </p:nvSpPr>
        <p:spPr>
          <a:xfrm>
            <a:off x="755640" y="2101680"/>
            <a:ext cx="2622600" cy="968400"/>
          </a:xfrm>
          <a:custGeom>
            <a:avLst/>
            <a:gdLst/>
            <a:ahLst/>
            <a:rect l="l" t="t" r="r" b="b"/>
            <a:pathLst>
              <a:path w="1652" h="610">
                <a:moveTo>
                  <a:pt x="0" y="471"/>
                </a:moveTo>
                <a:cubicBezTo>
                  <a:pt x="15" y="470"/>
                  <a:pt x="40" y="476"/>
                  <a:pt x="91" y="467"/>
                </a:cubicBezTo>
                <a:cubicBezTo>
                  <a:pt x="142" y="458"/>
                  <a:pt x="215" y="442"/>
                  <a:pt x="306" y="417"/>
                </a:cubicBezTo>
                <a:cubicBezTo>
                  <a:pt x="397" y="392"/>
                  <a:pt x="532" y="290"/>
                  <a:pt x="639" y="318"/>
                </a:cubicBezTo>
                <a:cubicBezTo>
                  <a:pt x="746" y="346"/>
                  <a:pt x="844" y="560"/>
                  <a:pt x="947" y="585"/>
                </a:cubicBezTo>
                <a:cubicBezTo>
                  <a:pt x="1050" y="610"/>
                  <a:pt x="1141" y="568"/>
                  <a:pt x="1258" y="471"/>
                </a:cubicBezTo>
                <a:cubicBezTo>
                  <a:pt x="1375" y="374"/>
                  <a:pt x="1507" y="186"/>
                  <a:pt x="165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9" name=""/>
          <p:cNvGraphicFramePr/>
          <p:nvPr/>
        </p:nvGraphicFramePr>
        <p:xfrm>
          <a:off x="3706920" y="2781360"/>
          <a:ext cx="23004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6920" y="2781360"/>
                    <a:ext cx="2300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1" name=""/>
          <p:cNvGraphicFramePr/>
          <p:nvPr/>
        </p:nvGraphicFramePr>
        <p:xfrm>
          <a:off x="826920" y="1844640"/>
          <a:ext cx="59220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844640"/>
                    <a:ext cx="592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3" name=""/>
          <p:cNvSpPr/>
          <p:nvPr/>
        </p:nvSpPr>
        <p:spPr>
          <a:xfrm>
            <a:off x="242280" y="81612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pless SC is re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effective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08000" y="981000"/>
            <a:ext cx="144360" cy="14436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70964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29257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547640" y="20383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p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42160" y="29973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427640" y="2133720"/>
            <a:ext cx="406440" cy="431640"/>
          </a:xfrm>
          <a:prstGeom prst="rightArrow">
            <a:avLst>
              <a:gd name="adj1" fmla="val 49556"/>
              <a:gd name="adj2" fmla="val 35681"/>
            </a:avLst>
          </a:prstGeom>
          <a:solidFill>
            <a:srgbClr val="6666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88880" y="2081160"/>
            <a:ext cx="2428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rma in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flipV="1">
            <a:off x="684360" y="4292640"/>
            <a:ext cx="14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85800" y="50864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5800" y="5805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4360" y="5157720"/>
            <a:ext cx="136836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49560" y="42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013200" y="549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7" name=""/>
          <p:cNvGraphicFramePr/>
          <p:nvPr/>
        </p:nvGraphicFramePr>
        <p:xfrm>
          <a:off x="1547640" y="5800680"/>
          <a:ext cx="250920" cy="29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5800680"/>
                    <a:ext cx="2509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9" name=""/>
          <p:cNvSpPr/>
          <p:nvPr/>
        </p:nvSpPr>
        <p:spPr>
          <a:xfrm>
            <a:off x="684360" y="4437000"/>
            <a:ext cx="64764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692360" y="4437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132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000" y="3594240"/>
            <a:ext cx="68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less state is unstable again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se sepa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928760" y="4581360"/>
            <a:ext cx="2815920" cy="1368720"/>
            <a:chOff x="4928760" y="4581360"/>
            <a:chExt cx="2815920" cy="1368720"/>
          </a:xfrm>
        </p:grpSpPr>
        <p:sp>
          <p:nvSpPr>
            <p:cNvPr id="1374" name=""/>
            <p:cNvSpPr/>
            <p:nvPr/>
          </p:nvSpPr>
          <p:spPr>
            <a:xfrm>
              <a:off x="5076720" y="501336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508720" y="49417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92720" y="5229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8720" y="544500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724360" y="515772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37080" y="508644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219640" y="544680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24360" y="4941720"/>
              <a:ext cx="14472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292720" y="4797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03640" y="558972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08720" y="472608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80000" y="5230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796000" y="5157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148360" y="5086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37080" y="5518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869080" y="53020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96000" y="5589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003640" y="53020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227640" y="5589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515280" y="544680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012000" y="479736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72360" y="5013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586560" y="53020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588000" y="4870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83280" y="49417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156360" y="5157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26200" y="5373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8398400">
              <a:off x="4895640" y="5049000"/>
              <a:ext cx="108108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3307200">
              <a:off x="5040000" y="5122440"/>
              <a:ext cx="10810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666600">
              <a:off x="4932360" y="5157720"/>
              <a:ext cx="10810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rot="20481600">
              <a:off x="5003640" y="5302080"/>
              <a:ext cx="1081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rot="5604000">
              <a:off x="4894920" y="5050440"/>
              <a:ext cx="86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61080" y="5013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093080" y="49417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877080" y="5229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093080" y="544500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308720" y="566100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021440" y="508644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804000" y="544680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308720" y="4941720"/>
              <a:ext cx="14472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77080" y="479736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96360" y="544680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093080" y="472608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64360" y="5230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80360" y="5157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732720" y="5086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021440" y="5518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453440" y="53020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380360" y="5589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083280" y="5373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299280" y="4797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rot="18398400">
              <a:off x="6480000" y="5049000"/>
              <a:ext cx="108108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rot="3307200">
              <a:off x="6624360" y="5122440"/>
              <a:ext cx="10810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rot="666600">
              <a:off x="6659640" y="5157720"/>
              <a:ext cx="10810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20481600">
              <a:off x="6588000" y="5302080"/>
              <a:ext cx="1081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5604000">
              <a:off x="6479280" y="5050440"/>
              <a:ext cx="86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5604000">
              <a:off x="5110920" y="5266440"/>
              <a:ext cx="865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012000" y="4581360"/>
              <a:ext cx="0" cy="136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451640" y="4870440"/>
              <a:ext cx="14472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23280" y="47991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5604000">
              <a:off x="7055640" y="5050440"/>
              <a:ext cx="86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659640" y="4581360"/>
              <a:ext cx="0" cy="136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>
            <a:off x="3924360" y="4940280"/>
            <a:ext cx="647640" cy="576360"/>
          </a:xfrm>
          <a:prstGeom prst="rightArrow">
            <a:avLst>
              <a:gd name="adj1" fmla="val 50000"/>
              <a:gd name="adj2" fmla="val 28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2124000" y="4940280"/>
            <a:ext cx="71640" cy="792360"/>
            <a:chOff x="2124000" y="4940280"/>
            <a:chExt cx="71640" cy="792360"/>
          </a:xfrm>
        </p:grpSpPr>
        <p:sp>
          <p:nvSpPr>
            <p:cNvPr id="1438" name=""/>
            <p:cNvSpPr/>
            <p:nvPr/>
          </p:nvSpPr>
          <p:spPr>
            <a:xfrm>
              <a:off x="2124000" y="4940280"/>
              <a:ext cx="7164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24000" y="566100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157480" y="5013360"/>
              <a:ext cx="0" cy="647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1187280" y="4508640"/>
            <a:ext cx="71640" cy="792000"/>
            <a:chOff x="1187280" y="4508640"/>
            <a:chExt cx="71640" cy="792000"/>
          </a:xfrm>
        </p:grpSpPr>
        <p:sp>
          <p:nvSpPr>
            <p:cNvPr id="1442" name=""/>
            <p:cNvSpPr/>
            <p:nvPr/>
          </p:nvSpPr>
          <p:spPr>
            <a:xfrm>
              <a:off x="1187280" y="450864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187280" y="5227560"/>
              <a:ext cx="7164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25440" y="4581360"/>
              <a:ext cx="0" cy="6480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1332000" y="4437000"/>
            <a:ext cx="0" cy="180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050920" y="4437000"/>
            <a:ext cx="0" cy="180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068480" y="6156360"/>
            <a:ext cx="12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332000" y="6165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412920" y="3811680"/>
            <a:ext cx="7921440" cy="1220760"/>
          </a:xfrm>
          <a:custGeom>
            <a:avLst/>
            <a:gdLst/>
            <a:ahLst/>
            <a:rect l="l" t="t" r="r" b="b"/>
            <a:pathLst>
              <a:path w="4990" h="769">
                <a:moveTo>
                  <a:pt x="4924" y="761"/>
                </a:moveTo>
                <a:cubicBezTo>
                  <a:pt x="4919" y="733"/>
                  <a:pt x="4921" y="625"/>
                  <a:pt x="4891" y="594"/>
                </a:cubicBezTo>
                <a:cubicBezTo>
                  <a:pt x="4861" y="563"/>
                  <a:pt x="4990" y="583"/>
                  <a:pt x="4744" y="573"/>
                </a:cubicBezTo>
                <a:cubicBezTo>
                  <a:pt x="4498" y="563"/>
                  <a:pt x="3887" y="567"/>
                  <a:pt x="3415" y="536"/>
                </a:cubicBezTo>
                <a:cubicBezTo>
                  <a:pt x="2942" y="505"/>
                  <a:pt x="2354" y="455"/>
                  <a:pt x="1909" y="388"/>
                </a:cubicBezTo>
                <a:cubicBezTo>
                  <a:pt x="1465" y="321"/>
                  <a:pt x="1046" y="188"/>
                  <a:pt x="747" y="133"/>
                </a:cubicBezTo>
                <a:cubicBezTo>
                  <a:pt x="448" y="78"/>
                  <a:pt x="232" y="63"/>
                  <a:pt x="116" y="60"/>
                </a:cubicBezTo>
                <a:cubicBezTo>
                  <a:pt x="0" y="57"/>
                  <a:pt x="61" y="0"/>
                  <a:pt x="49" y="118"/>
                </a:cubicBezTo>
                <a:cubicBezTo>
                  <a:pt x="37" y="236"/>
                  <a:pt x="43" y="634"/>
                  <a:pt x="41" y="769"/>
                </a:cubicBezTo>
              </a:path>
            </a:pathLst>
          </a:custGeom>
          <a:gradFill rotWithShape="0">
            <a:gsLst>
              <a:gs pos="0">
                <a:srgbClr val="0000ff">
                  <a:alpha val="16078"/>
                </a:srgbClr>
              </a:gs>
              <a:gs pos="100000">
                <a:srgbClr val="0f0ffe">
                  <a:alpha val="4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225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561000" y="511164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68360" y="3881520"/>
            <a:ext cx="7848720" cy="846000"/>
          </a:xfrm>
          <a:custGeom>
            <a:avLst/>
            <a:gdLst/>
            <a:ahLst/>
            <a:rect l="l" t="t" r="r" b="b"/>
            <a:pathLst>
              <a:path w="4570" h="652">
                <a:moveTo>
                  <a:pt x="4399" y="644"/>
                </a:moveTo>
                <a:cubicBezTo>
                  <a:pt x="4484" y="648"/>
                  <a:pt x="4570" y="652"/>
                  <a:pt x="4359" y="644"/>
                </a:cubicBezTo>
                <a:cubicBezTo>
                  <a:pt x="4148" y="636"/>
                  <a:pt x="3567" y="636"/>
                  <a:pt x="3131" y="598"/>
                </a:cubicBezTo>
                <a:cubicBezTo>
                  <a:pt x="2694" y="560"/>
                  <a:pt x="2150" y="499"/>
                  <a:pt x="1739" y="417"/>
                </a:cubicBezTo>
                <a:cubicBezTo>
                  <a:pt x="1328" y="335"/>
                  <a:pt x="955" y="174"/>
                  <a:pt x="665" y="105"/>
                </a:cubicBezTo>
                <a:cubicBezTo>
                  <a:pt x="375" y="36"/>
                  <a:pt x="139" y="2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311240" y="46292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87600" y="46004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0980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990720" y="2133720"/>
            <a:ext cx="2717640" cy="2322360"/>
          </a:xfrm>
          <a:custGeom>
            <a:avLst/>
            <a:gdLst/>
            <a:ahLst/>
            <a:rect l="l" t="t" r="r" b="b"/>
            <a:pathLst>
              <a:path w="1588" h="861">
                <a:moveTo>
                  <a:pt x="1588" y="861"/>
                </a:moveTo>
                <a:cubicBezTo>
                  <a:pt x="1511" y="825"/>
                  <a:pt x="1311" y="747"/>
                  <a:pt x="1125" y="645"/>
                </a:cubicBezTo>
                <a:cubicBezTo>
                  <a:pt x="939" y="543"/>
                  <a:pt x="658" y="353"/>
                  <a:pt x="471" y="246"/>
                </a:cubicBezTo>
                <a:cubicBezTo>
                  <a:pt x="284" y="139"/>
                  <a:pt x="98" y="51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8360" y="297180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bo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4456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52360" y="946080"/>
            <a:ext cx="34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phas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778560" y="457524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lu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2040" y="36640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104480" y="182880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2485080" y="2362320"/>
            <a:ext cx="4714200" cy="2336760"/>
            <a:chOff x="2485080" y="2362320"/>
            <a:chExt cx="4714200" cy="2336760"/>
          </a:xfrm>
        </p:grpSpPr>
        <p:sp>
          <p:nvSpPr>
            <p:cNvPr id="1464" name=""/>
            <p:cNvSpPr/>
            <p:nvPr/>
          </p:nvSpPr>
          <p:spPr>
            <a:xfrm>
              <a:off x="2590920" y="2362320"/>
              <a:ext cx="4608360" cy="2336760"/>
            </a:xfrm>
            <a:custGeom>
              <a:avLst/>
              <a:gdLst/>
              <a:ahLst/>
              <a:rect l="l" t="t" r="r" b="b"/>
              <a:pathLst>
                <a:path w="2788" h="1332">
                  <a:moveTo>
                    <a:pt x="2788" y="1332"/>
                  </a:moveTo>
                  <a:cubicBezTo>
                    <a:pt x="2650" y="1301"/>
                    <a:pt x="2215" y="1230"/>
                    <a:pt x="1957" y="1144"/>
                  </a:cubicBezTo>
                  <a:cubicBezTo>
                    <a:pt x="1699" y="1058"/>
                    <a:pt x="1466" y="940"/>
                    <a:pt x="1243" y="817"/>
                  </a:cubicBezTo>
                  <a:cubicBezTo>
                    <a:pt x="1020" y="694"/>
                    <a:pt x="824" y="544"/>
                    <a:pt x="617" y="408"/>
                  </a:cubicBezTo>
                  <a:cubicBezTo>
                    <a:pt x="410" y="272"/>
                    <a:pt x="129" y="8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85080" y="3160800"/>
              <a:ext cx="233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eudo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re-critic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21520" y="3352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-2742840" y="2590920"/>
            <a:ext cx="640008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0000">
                  <a:alpha val="20000"/>
                </a:srgbClr>
              </a:gs>
              <a:gs pos="100000">
                <a:srgbClr val="fe1e1e">
                  <a:alpha val="60392"/>
                </a:srgbClr>
              </a:gs>
            </a:gsLst>
            <a:lin ang="81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 flipV="1">
            <a:off x="456840" y="1752480"/>
            <a:ext cx="11160" cy="342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447920" y="3581280"/>
            <a:ext cx="26665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0"/>
                </a:moveTo>
                <a:arcTo wR="10800" hR="10800" stAng="-10752257" swAng="10752257"/>
                <a:lnTo>
                  <a:pt x="10800" y="10800"/>
                </a:lnTo>
                <a:close/>
              </a:path>
              <a:path fill="none" w="21600" h="21600">
                <a:moveTo>
                  <a:pt x="1" y="10650"/>
                </a:moveTo>
                <a:arcTo wR="10800" hR="10800" stAng="-10752257" swAng="10752257"/>
              </a:path>
            </a:pathLst>
          </a:custGeom>
          <a:solidFill>
            <a:srgbClr val="808080">
              <a:alpha val="50000"/>
            </a:srgbClr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4876920" y="1488960"/>
            <a:ext cx="4034160" cy="825480"/>
            <a:chOff x="4876920" y="1488960"/>
            <a:chExt cx="4034160" cy="825480"/>
          </a:xfrm>
        </p:grpSpPr>
        <p:sp>
          <p:nvSpPr>
            <p:cNvPr id="1471" name=""/>
            <p:cNvSpPr/>
            <p:nvPr/>
          </p:nvSpPr>
          <p:spPr>
            <a:xfrm>
              <a:off x="5177880" y="1488960"/>
              <a:ext cx="373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HIC; hadronization, et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surement on lattice Q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76920" y="1600200"/>
              <a:ext cx="304560" cy="228600"/>
            </a:xfrm>
            <a:prstGeom prst="rightArrow">
              <a:avLst>
                <a:gd name="adj1" fmla="val 50000"/>
                <a:gd name="adj2" fmla="val 33307"/>
              </a:avLst>
            </a:prstGeom>
            <a:solidFill>
              <a:srgbClr val="666699"/>
            </a:solidFill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4876920" y="1981080"/>
              <a:ext cx="304560" cy="228600"/>
            </a:xfrm>
            <a:prstGeom prst="rightArrow">
              <a:avLst>
                <a:gd name="adj1" fmla="val 50000"/>
                <a:gd name="adj2" fmla="val 33307"/>
              </a:avLst>
            </a:prstGeom>
            <a:solidFill>
              <a:srgbClr val="666699"/>
            </a:solidFill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7010280" y="3809880"/>
            <a:ext cx="2071440" cy="459720"/>
            <a:chOff x="7010280" y="3809880"/>
            <a:chExt cx="2071440" cy="459720"/>
          </a:xfrm>
        </p:grpSpPr>
        <p:sp>
          <p:nvSpPr>
            <p:cNvPr id="1475" name=""/>
            <p:cNvSpPr/>
            <p:nvPr/>
          </p:nvSpPr>
          <p:spPr>
            <a:xfrm>
              <a:off x="7300800" y="380988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IR@GS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010280" y="39625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solidFill>
              <a:srgbClr val="666699"/>
            </a:solidFill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380880" y="1600200"/>
            <a:ext cx="4453560" cy="1219320"/>
            <a:chOff x="380880" y="1600200"/>
            <a:chExt cx="4453560" cy="1219320"/>
          </a:xfrm>
        </p:grpSpPr>
        <p:sp>
          <p:nvSpPr>
            <p:cNvPr id="1478" name=""/>
            <p:cNvSpPr/>
            <p:nvPr/>
          </p:nvSpPr>
          <p:spPr>
            <a:xfrm>
              <a:off x="1994400" y="1600200"/>
              <a:ext cx="2840040" cy="825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diquark wou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ist in sQGP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80880" y="1981080"/>
              <a:ext cx="1067040" cy="838440"/>
            </a:xfrm>
            <a:prstGeom prst="ellipse">
              <a:avLst/>
            </a:prstGeom>
            <a:noFill/>
            <a:ln w="255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1447560" y="2286000"/>
              <a:ext cx="533160" cy="15228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2578680" y="2591640"/>
            <a:ext cx="6135120" cy="2055600"/>
            <a:chOff x="2578680" y="2591640"/>
            <a:chExt cx="6135120" cy="2055600"/>
          </a:xfrm>
        </p:grpSpPr>
        <p:sp>
          <p:nvSpPr>
            <p:cNvPr id="1482" name=""/>
            <p:cNvSpPr/>
            <p:nvPr/>
          </p:nvSpPr>
          <p:spPr>
            <a:xfrm>
              <a:off x="5267160" y="2971800"/>
              <a:ext cx="3446640" cy="825480"/>
            </a:xfrm>
            <a:prstGeom prst="rect">
              <a:avLst/>
            </a:prstGeom>
            <a:noFill/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rge fluctu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fect various observab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1929600">
              <a:off x="2666880" y="3123720"/>
              <a:ext cx="2286000" cy="990720"/>
            </a:xfrm>
            <a:prstGeom prst="ellipse">
              <a:avLst/>
            </a:prstGeom>
            <a:noFill/>
            <a:ln w="255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4800600" y="3657600"/>
              <a:ext cx="457200" cy="1522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5" name=""/>
          <p:cNvSpPr/>
          <p:nvPr/>
        </p:nvSpPr>
        <p:spPr>
          <a:xfrm>
            <a:off x="533520" y="5029200"/>
            <a:ext cx="39621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42920" y="5032440"/>
            <a:ext cx="8245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07640" y="52084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279600" y="5029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~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5040" y="955800"/>
            <a:ext cx="513540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rk Quasi-partic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the Deconfined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8280" y="112680"/>
            <a:ext cx="77630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Quark Quasi-Particles in QGP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6"/>
          <p:cNvGraphicFramePr/>
          <p:nvPr/>
        </p:nvGraphicFramePr>
        <p:xfrm>
          <a:off x="1593720" y="4008600"/>
          <a:ext cx="1198800" cy="39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4008600"/>
                    <a:ext cx="119880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Picture 9" descr="plasmino1"/>
          <p:cNvPicPr/>
          <p:nvPr/>
        </p:nvPicPr>
        <p:blipFill>
          <a:blip r:embed="rId3"/>
          <a:stretch/>
        </p:blipFill>
        <p:spPr>
          <a:xfrm>
            <a:off x="4916520" y="990720"/>
            <a:ext cx="39592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0"/>
          <p:cNvSpPr/>
          <p:nvPr/>
        </p:nvSpPr>
        <p:spPr>
          <a:xfrm>
            <a:off x="7088760" y="25020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lasmi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6682320" y="4249800"/>
            <a:ext cx="88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/ 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 rot="16200000">
            <a:off x="4011120" y="2296080"/>
            <a:ext cx="102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15"/>
          <p:cNvGraphicFramePr/>
          <p:nvPr/>
        </p:nvGraphicFramePr>
        <p:xfrm>
          <a:off x="5326200" y="3030480"/>
          <a:ext cx="129528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26200" y="3030480"/>
                    <a:ext cx="12952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16" descr="Untitled"/>
          <p:cNvPicPr/>
          <p:nvPr/>
        </p:nvPicPr>
        <p:blipFill>
          <a:blip r:embed="rId6"/>
          <a:stretch/>
        </p:blipFill>
        <p:spPr>
          <a:xfrm>
            <a:off x="2895480" y="3921120"/>
            <a:ext cx="1447920" cy="498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85120" y="879480"/>
            <a:ext cx="38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t asymptotically hi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697680" y="1981080"/>
            <a:ext cx="3344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ollective exc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a “thermal mas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706680" y="3276720"/>
            <a:ext cx="18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th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~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1600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" y="20574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6200" y="148896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k quasi-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066680"/>
            <a:ext cx="144720" cy="144720"/>
          </a:xfrm>
          <a:prstGeom prst="octagon">
            <a:avLst>
              <a:gd name="adj" fmla="val 2928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1684440"/>
            <a:ext cx="144720" cy="14436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15"/>
          <p:cNvGraphicFramePr/>
          <p:nvPr/>
        </p:nvGraphicFramePr>
        <p:xfrm>
          <a:off x="1252440" y="4940280"/>
          <a:ext cx="993960" cy="86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2440" y="4940280"/>
                    <a:ext cx="993960" cy="865080"/>
                  </a:xfrm>
                  <a:prstGeom prst="rect">
                    <a:avLst/>
                  </a:prstGeom>
                  <a:ln w="1908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726280" y="5105520"/>
            <a:ext cx="50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ay width grows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ow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5181480"/>
            <a:ext cx="304920" cy="30492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666699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5181480"/>
            <a:ext cx="304560" cy="30492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666699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4840" y="5943600"/>
            <a:ext cx="263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l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ea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130800"/>
            <a:ext cx="144720" cy="144720"/>
          </a:xfrm>
          <a:prstGeom prst="octagon">
            <a:avLst>
              <a:gd name="adj" fmla="val 29287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4" descr=""/>
          <p:cNvPicPr/>
          <p:nvPr/>
        </p:nvPicPr>
        <p:blipFill>
          <a:blip r:embed="rId1"/>
          <a:srcRect l="5930" t="0" r="0" b="0"/>
          <a:stretch/>
        </p:blipFill>
        <p:spPr>
          <a:xfrm>
            <a:off x="0" y="1487520"/>
            <a:ext cx="4648320" cy="34480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6748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tice QCD Simulation for Quark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5000" y="5334120"/>
            <a:ext cx="77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tice result is well reproduced by 2-pole ansatz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of~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5720" y="5715000"/>
            <a:ext cx="754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k excitations would have small decay rate even nea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1440" y="2286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rsch,MK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4640" y="5807160"/>
            <a:ext cx="304560" cy="30456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666699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4894200" y="3556080"/>
          <a:ext cx="2720880" cy="9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94200" y="3556080"/>
                    <a:ext cx="27208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29"/>
          <p:cNvSpPr/>
          <p:nvPr/>
        </p:nvSpPr>
        <p:spPr>
          <a:xfrm>
            <a:off x="4876920" y="3429000"/>
            <a:ext cx="4114800" cy="1143000"/>
          </a:xfrm>
          <a:prstGeom prst="octagon">
            <a:avLst>
              <a:gd name="adj" fmla="val 10000"/>
            </a:avLst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28760" y="2530440"/>
            <a:ext cx="30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pole ansatz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k spectra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98520" y="35305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93480" y="3987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plas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998640"/>
            <a:ext cx="144720" cy="14436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6280" y="803160"/>
            <a:ext cx="622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-time quark correlator in Landau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quenched approx., 6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5160" y="480060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80080" y="2743200"/>
            <a:ext cx="144360" cy="14436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19720" y="3733920"/>
            <a:ext cx="457200" cy="228600"/>
          </a:xfrm>
          <a:prstGeom prst="line">
            <a:avLst/>
          </a:prstGeom>
          <a:ln w="25560">
            <a:solidFill>
              <a:srgbClr val="33cc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13"/>
          <p:cNvGraphicFramePr/>
          <p:nvPr/>
        </p:nvGraphicFramePr>
        <p:xfrm>
          <a:off x="789120" y="1752480"/>
          <a:ext cx="164916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9120" y="1752480"/>
                    <a:ext cx="16491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132360" y="1828800"/>
            <a:ext cx="107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8"/>
          <a:stretch/>
        </p:blipFill>
        <p:spPr>
          <a:xfrm>
            <a:off x="5638680" y="1295280"/>
            <a:ext cx="32004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Object 13"/>
          <p:cNvGraphicFramePr/>
          <p:nvPr/>
        </p:nvGraphicFramePr>
        <p:xfrm>
          <a:off x="7380360" y="4619520"/>
          <a:ext cx="166212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0360" y="4619520"/>
                    <a:ext cx="16621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5860080" y="458640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o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5562360" y="457164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24600" y="646128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so the analysis in SD eq., Harada, Nemoto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5334120"/>
            <a:ext cx="8686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8280" y="111960"/>
            <a:ext cx="3657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k Dispers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3171" t="0" r="0" b="39398"/>
          <a:stretch/>
        </p:blipFill>
        <p:spPr>
          <a:xfrm>
            <a:off x="0" y="1066680"/>
            <a:ext cx="5108400" cy="334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lasmino1"/>
          <p:cNvPicPr/>
          <p:nvPr/>
        </p:nvPicPr>
        <p:blipFill>
          <a:blip r:embed="rId2"/>
          <a:stretch/>
        </p:blipFill>
        <p:spPr>
          <a:xfrm>
            <a:off x="5562720" y="914400"/>
            <a:ext cx="3200400" cy="2736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792040" y="9810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L(1-lo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20999400">
            <a:off x="4723920" y="2742840"/>
            <a:ext cx="1143000" cy="533520"/>
          </a:xfrm>
          <a:prstGeom prst="leftRightArrow">
            <a:avLst>
              <a:gd name="adj1" fmla="val 50000"/>
              <a:gd name="adj2" fmla="val 426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791320" y="1447560"/>
            <a:ext cx="2895480" cy="1904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60320" y="4343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83560" y="31896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rsch, MK, to appear so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78920" y="362268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lasm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4360" y="4876920"/>
            <a:ext cx="7013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tice results behave reasonably as functio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ks hav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mal m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 0.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.25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495288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1160" y="76212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quenched approx., 6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6640" y="6008760"/>
            <a:ext cx="6916680" cy="76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ce: Further studies on spatial volume and discretiz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ects are needed for the definite conclusion abou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3319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59200" y="4786200"/>
            <a:ext cx="393480" cy="532080"/>
          </a:xfrm>
          <a:custGeom>
            <a:avLst/>
            <a:gdLst/>
            <a:ahLst/>
            <a:rect l="l" t="t" r="r" b="b"/>
            <a:pathLst>
              <a:path w="1834" h="2059">
                <a:moveTo>
                  <a:pt x="1834" y="2059"/>
                </a:moveTo>
                <a:cubicBezTo>
                  <a:pt x="1821" y="1988"/>
                  <a:pt x="1806" y="1787"/>
                  <a:pt x="1761" y="1635"/>
                </a:cubicBezTo>
                <a:cubicBezTo>
                  <a:pt x="1716" y="1483"/>
                  <a:pt x="1665" y="1305"/>
                  <a:pt x="1562" y="1145"/>
                </a:cubicBezTo>
                <a:cubicBezTo>
                  <a:pt x="1459" y="985"/>
                  <a:pt x="1305" y="822"/>
                  <a:pt x="1145" y="675"/>
                </a:cubicBezTo>
                <a:cubicBezTo>
                  <a:pt x="985" y="528"/>
                  <a:pt x="793" y="377"/>
                  <a:pt x="602" y="265"/>
                </a:cubicBezTo>
                <a:cubicBezTo>
                  <a:pt x="411" y="153"/>
                  <a:pt x="100" y="4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984400"/>
            <a:ext cx="3333600" cy="2379600"/>
          </a:xfrm>
          <a:custGeom>
            <a:avLst/>
            <a:gdLst/>
            <a:ahLst/>
            <a:rect l="l" t="t" r="r" b="b"/>
            <a:pathLst>
              <a:path w="2100" h="1499">
                <a:moveTo>
                  <a:pt x="4" y="1491"/>
                </a:moveTo>
                <a:cubicBezTo>
                  <a:pt x="3" y="1244"/>
                  <a:pt x="0" y="359"/>
                  <a:pt x="0" y="9"/>
                </a:cubicBezTo>
                <a:cubicBezTo>
                  <a:pt x="115" y="17"/>
                  <a:pt x="316" y="0"/>
                  <a:pt x="434" y="13"/>
                </a:cubicBezTo>
                <a:cubicBezTo>
                  <a:pt x="552" y="23"/>
                  <a:pt x="589" y="33"/>
                  <a:pt x="710" y="67"/>
                </a:cubicBezTo>
                <a:cubicBezTo>
                  <a:pt x="832" y="101"/>
                  <a:pt x="996" y="123"/>
                  <a:pt x="1164" y="217"/>
                </a:cubicBezTo>
                <a:cubicBezTo>
                  <a:pt x="1332" y="311"/>
                  <a:pt x="1575" y="487"/>
                  <a:pt x="1719" y="630"/>
                </a:cubicBezTo>
                <a:cubicBezTo>
                  <a:pt x="1863" y="773"/>
                  <a:pt x="1964" y="933"/>
                  <a:pt x="2027" y="1078"/>
                </a:cubicBezTo>
                <a:cubicBezTo>
                  <a:pt x="2100" y="1386"/>
                  <a:pt x="2085" y="1411"/>
                  <a:pt x="2100" y="1499"/>
                </a:cubicBez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3200400"/>
            <a:ext cx="1886040" cy="2122560"/>
          </a:xfrm>
          <a:custGeom>
            <a:avLst/>
            <a:gdLst/>
            <a:ahLst/>
            <a:rect l="l" t="t" r="r" b="b"/>
            <a:pathLst>
              <a:path w="2049" h="2115">
                <a:moveTo>
                  <a:pt x="2049" y="2115"/>
                </a:moveTo>
                <a:cubicBezTo>
                  <a:pt x="2036" y="2044"/>
                  <a:pt x="2021" y="1843"/>
                  <a:pt x="1976" y="1691"/>
                </a:cubicBezTo>
                <a:cubicBezTo>
                  <a:pt x="1931" y="1539"/>
                  <a:pt x="1880" y="1361"/>
                  <a:pt x="1777" y="1201"/>
                </a:cubicBezTo>
                <a:cubicBezTo>
                  <a:pt x="1674" y="1041"/>
                  <a:pt x="1520" y="878"/>
                  <a:pt x="1360" y="731"/>
                </a:cubicBezTo>
                <a:cubicBezTo>
                  <a:pt x="1200" y="584"/>
                  <a:pt x="973" y="423"/>
                  <a:pt x="817" y="321"/>
                </a:cubicBezTo>
                <a:cubicBezTo>
                  <a:pt x="661" y="219"/>
                  <a:pt x="562" y="172"/>
                  <a:pt x="426" y="119"/>
                </a:cubicBezTo>
                <a:cubicBezTo>
                  <a:pt x="290" y="66"/>
                  <a:pt x="89" y="2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53625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11280" y="21924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0160" y="19051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79640" y="312912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78880" y="4952880"/>
            <a:ext cx="3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960" y="5273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065480"/>
            <a:ext cx="2663640" cy="503280"/>
          </a:xfrm>
          <a:custGeom>
            <a:avLst/>
            <a:gdLst/>
            <a:ahLst/>
            <a:rect l="l" t="t" r="r" b="b"/>
            <a:pathLst>
              <a:path w="1709" h="404">
                <a:moveTo>
                  <a:pt x="0" y="404"/>
                </a:moveTo>
                <a:cubicBezTo>
                  <a:pt x="60" y="379"/>
                  <a:pt x="230" y="302"/>
                  <a:pt x="363" y="255"/>
                </a:cubicBezTo>
                <a:cubicBezTo>
                  <a:pt x="496" y="208"/>
                  <a:pt x="658" y="157"/>
                  <a:pt x="800" y="123"/>
                </a:cubicBezTo>
                <a:cubicBezTo>
                  <a:pt x="942" y="89"/>
                  <a:pt x="1062" y="74"/>
                  <a:pt x="1213" y="54"/>
                </a:cubicBezTo>
                <a:cubicBezTo>
                  <a:pt x="1364" y="34"/>
                  <a:pt x="1606" y="11"/>
                  <a:pt x="1709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3000" y="83808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ximation: (quasi-)fermions + interaction (gluon-ex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4360" y="133020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 to condensed matter ph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148284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666699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838080"/>
            <a:ext cx="8001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6520" y="1768320"/>
            <a:ext cx="35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S-BEC cross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ly correl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748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4280" y="6461280"/>
            <a:ext cx="793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mal ma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0.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negligible?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e, a trial in Hidaka, MK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95640" y="3375000"/>
            <a:ext cx="3303360" cy="1986120"/>
          </a:xfrm>
          <a:custGeom>
            <a:avLst/>
            <a:gdLst/>
            <a:ahLst/>
            <a:rect l="l" t="t" r="r" b="b"/>
            <a:pathLst>
              <a:path w="2081" h="1251">
                <a:moveTo>
                  <a:pt x="272" y="1251"/>
                </a:moveTo>
                <a:cubicBezTo>
                  <a:pt x="240" y="1043"/>
                  <a:pt x="0" y="163"/>
                  <a:pt x="81" y="0"/>
                </a:cubicBezTo>
                <a:cubicBezTo>
                  <a:pt x="185" y="8"/>
                  <a:pt x="421" y="130"/>
                  <a:pt x="757" y="273"/>
                </a:cubicBezTo>
                <a:cubicBezTo>
                  <a:pt x="1017" y="400"/>
                  <a:pt x="1420" y="599"/>
                  <a:pt x="1641" y="760"/>
                </a:cubicBezTo>
                <a:cubicBezTo>
                  <a:pt x="1862" y="921"/>
                  <a:pt x="1989" y="1140"/>
                  <a:pt x="2081" y="1240"/>
                </a:cubicBez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920" y="111960"/>
            <a:ext cx="3319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185" dir="7721969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59200" y="4786200"/>
            <a:ext cx="393480" cy="532080"/>
          </a:xfrm>
          <a:custGeom>
            <a:avLst/>
            <a:gdLst/>
            <a:ahLst/>
            <a:rect l="l" t="t" r="r" b="b"/>
            <a:pathLst>
              <a:path w="1834" h="2059">
                <a:moveTo>
                  <a:pt x="1834" y="2059"/>
                </a:moveTo>
                <a:cubicBezTo>
                  <a:pt x="1821" y="1988"/>
                  <a:pt x="1806" y="1787"/>
                  <a:pt x="1761" y="1635"/>
                </a:cubicBezTo>
                <a:cubicBezTo>
                  <a:pt x="1716" y="1483"/>
                  <a:pt x="1665" y="1305"/>
                  <a:pt x="1562" y="1145"/>
                </a:cubicBezTo>
                <a:cubicBezTo>
                  <a:pt x="1459" y="985"/>
                  <a:pt x="1305" y="822"/>
                  <a:pt x="1145" y="675"/>
                </a:cubicBezTo>
                <a:cubicBezTo>
                  <a:pt x="985" y="528"/>
                  <a:pt x="793" y="377"/>
                  <a:pt x="602" y="265"/>
                </a:cubicBezTo>
                <a:cubicBezTo>
                  <a:pt x="411" y="153"/>
                  <a:pt x="100" y="4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2984400"/>
            <a:ext cx="3333600" cy="2379600"/>
          </a:xfrm>
          <a:custGeom>
            <a:avLst/>
            <a:gdLst/>
            <a:ahLst/>
            <a:rect l="l" t="t" r="r" b="b"/>
            <a:pathLst>
              <a:path w="2100" h="1499">
                <a:moveTo>
                  <a:pt x="4" y="1491"/>
                </a:moveTo>
                <a:cubicBezTo>
                  <a:pt x="3" y="1244"/>
                  <a:pt x="0" y="359"/>
                  <a:pt x="0" y="9"/>
                </a:cubicBezTo>
                <a:cubicBezTo>
                  <a:pt x="115" y="17"/>
                  <a:pt x="316" y="0"/>
                  <a:pt x="434" y="13"/>
                </a:cubicBezTo>
                <a:cubicBezTo>
                  <a:pt x="552" y="23"/>
                  <a:pt x="589" y="33"/>
                  <a:pt x="710" y="67"/>
                </a:cubicBezTo>
                <a:cubicBezTo>
                  <a:pt x="832" y="101"/>
                  <a:pt x="996" y="123"/>
                  <a:pt x="1164" y="217"/>
                </a:cubicBezTo>
                <a:cubicBezTo>
                  <a:pt x="1332" y="311"/>
                  <a:pt x="1575" y="487"/>
                  <a:pt x="1719" y="630"/>
                </a:cubicBezTo>
                <a:cubicBezTo>
                  <a:pt x="1863" y="773"/>
                  <a:pt x="1964" y="933"/>
                  <a:pt x="2027" y="1078"/>
                </a:cubicBezTo>
                <a:cubicBezTo>
                  <a:pt x="2100" y="1386"/>
                  <a:pt x="2085" y="1411"/>
                  <a:pt x="2100" y="1499"/>
                </a:cubicBez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3200400"/>
            <a:ext cx="1886040" cy="2122560"/>
          </a:xfrm>
          <a:custGeom>
            <a:avLst/>
            <a:gdLst/>
            <a:ahLst/>
            <a:rect l="l" t="t" r="r" b="b"/>
            <a:pathLst>
              <a:path w="2049" h="2115">
                <a:moveTo>
                  <a:pt x="2049" y="2115"/>
                </a:moveTo>
                <a:cubicBezTo>
                  <a:pt x="2036" y="2044"/>
                  <a:pt x="2021" y="1843"/>
                  <a:pt x="1976" y="1691"/>
                </a:cubicBezTo>
                <a:cubicBezTo>
                  <a:pt x="1931" y="1539"/>
                  <a:pt x="1880" y="1361"/>
                  <a:pt x="1777" y="1201"/>
                </a:cubicBezTo>
                <a:cubicBezTo>
                  <a:pt x="1674" y="1041"/>
                  <a:pt x="1520" y="878"/>
                  <a:pt x="1360" y="731"/>
                </a:cubicBezTo>
                <a:cubicBezTo>
                  <a:pt x="1200" y="584"/>
                  <a:pt x="973" y="423"/>
                  <a:pt x="817" y="321"/>
                </a:cubicBezTo>
                <a:cubicBezTo>
                  <a:pt x="661" y="219"/>
                  <a:pt x="562" y="172"/>
                  <a:pt x="426" y="119"/>
                </a:cubicBezTo>
                <a:cubicBezTo>
                  <a:pt x="290" y="66"/>
                  <a:pt x="89" y="2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36256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11280" y="21924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0160" y="19051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312912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78880" y="4952880"/>
            <a:ext cx="3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960" y="5273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80000" y="4065480"/>
            <a:ext cx="2663640" cy="503280"/>
          </a:xfrm>
          <a:custGeom>
            <a:avLst/>
            <a:gdLst/>
            <a:ahLst/>
            <a:rect l="l" t="t" r="r" b="b"/>
            <a:pathLst>
              <a:path w="1709" h="404">
                <a:moveTo>
                  <a:pt x="0" y="404"/>
                </a:moveTo>
                <a:cubicBezTo>
                  <a:pt x="60" y="379"/>
                  <a:pt x="230" y="302"/>
                  <a:pt x="363" y="255"/>
                </a:cubicBezTo>
                <a:cubicBezTo>
                  <a:pt x="496" y="208"/>
                  <a:pt x="658" y="157"/>
                  <a:pt x="800" y="123"/>
                </a:cubicBezTo>
                <a:cubicBezTo>
                  <a:pt x="942" y="89"/>
                  <a:pt x="1062" y="74"/>
                  <a:pt x="1213" y="54"/>
                </a:cubicBezTo>
                <a:cubicBezTo>
                  <a:pt x="1364" y="34"/>
                  <a:pt x="1606" y="11"/>
                  <a:pt x="1709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3000" y="83808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ximation: (quasi-)fermions + interaction (gluon-ex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81680" y="2308320"/>
            <a:ext cx="2689200" cy="459720"/>
          </a:xfrm>
          <a:prstGeom prst="wedgeRectCallout">
            <a:avLst>
              <a:gd name="adj1" fmla="val -47444"/>
              <a:gd name="adj2" fmla="val 103912"/>
            </a:avLst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over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30280" y="3451320"/>
            <a:ext cx="4655160" cy="825480"/>
          </a:xfrm>
          <a:prstGeom prst="wedgeRectCallout">
            <a:avLst>
              <a:gd name="adj1" fmla="val -43810"/>
              <a:gd name="adj2" fmla="val 73231"/>
            </a:avLst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kyonic reg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Lerran, Pisarski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rally restored but con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2612880"/>
            <a:ext cx="533520" cy="685800"/>
          </a:xfrm>
          <a:prstGeom prst="upDownArrow">
            <a:avLst>
              <a:gd name="adj1" fmla="val 50000"/>
              <a:gd name="adj2" fmla="val 25589"/>
            </a:avLst>
          </a:prstGeom>
          <a:solidFill>
            <a:srgbClr val="ff6600">
              <a:alpha val="61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838080"/>
            <a:ext cx="8001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8560" y="5527800"/>
            <a:ext cx="5581800" cy="825480"/>
          </a:xfrm>
          <a:prstGeom prst="wedgeRectCallout">
            <a:avLst>
              <a:gd name="adj1" fmla="val -25194"/>
              <a:gd name="adj2" fmla="val -78944"/>
            </a:avLst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k-hadron 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k-diquark model / trionic liquid /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271600">
            <a:off x="3893400" y="4735440"/>
            <a:ext cx="212760" cy="838440"/>
          </a:xfrm>
          <a:prstGeom prst="upDownArrow">
            <a:avLst>
              <a:gd name="adj1" fmla="val 50000"/>
              <a:gd name="adj2" fmla="val 78450"/>
            </a:avLst>
          </a:prstGeom>
          <a:solidFill>
            <a:srgbClr val="ff6600">
              <a:alpha val="61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2920" y="6461280"/>
            <a:ext cx="702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mal ma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0.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negligible?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e, Hidaka, MK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175248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(topics NOT considered 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4360" y="133020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 to condensed matter ph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148284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666699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6520" y="1768320"/>
            <a:ext cx="35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S-BEC cross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ly correl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9748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akiyo　Kitazawa</cp:lastModifiedBy>
  <dcterms:modified xsi:type="dcterms:W3CDTF">2008-10-14T01:41:15Z</dcterms:modified>
  <cp:revision>2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