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739B-78A0-48C1-B478-45AE1F79D6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a is determined by the thickness of the corona, which is insensitive to epsilon_0 for the case of surface emi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293-8CF1-4303-8977-B6B08B2D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E2D-330C-41E5-87D3-EF8B021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24F-8595-45D1-B1AE-7E2B93DE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DCF-FC3F-459B-9611-4D84B8BA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8F1-20D0-4841-9DD7-26D30A70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726-0196-4736-924B-367C79C5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0B5-7C58-4C62-917F-4B24FD6E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D78-1DD8-4A11-8A40-B847CDE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21B-F81F-4036-A180-8A69BD2A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6DB-625F-43AE-BC6B-2744D84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38A-12FF-4CBB-BD57-81B3FFD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654-43FD-4E0D-913F-D8CD064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4379-F927-40F3-813D-13AC8EDFF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urface versus volume emissions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 photon-hadron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133720"/>
            <a:ext cx="86058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an-Zhong 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stitute of Particle Physics, Huazhong Normal University,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llaborators: J. Owens, E. Wang and  X.-N. W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646128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HIC 2008, Tsukub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6521400"/>
            <a:ext cx="25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. 14, 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107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buClr>
                <a:srgbClr val="0000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solated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amma-tagged jet emissions in A+A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F01-4A46-41CE-99EB-742B23083D97}" type="slidenum">
              <a:t>1</a:t>
            </a:fld>
          </a:p>
        </p:txBody>
      </p:sp>
    </p:spTree>
  </p:cSld>
  <p:transition advTm="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365640" y="1197000"/>
            <a:ext cx="5667120" cy="4343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4076640"/>
            <a:ext cx="38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Turbide, Gale, Jeon, Moore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hys. Rev. C.  72 (2005) 014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 p_T prompt photon dominates in central Au+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230000">
            <a:off x="6013080" y="2849040"/>
            <a:ext cx="3130560" cy="5097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1628640"/>
            <a:ext cx="3024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ther sources in A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sio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phot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uced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phot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rma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573408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ith isolation cut applied, the “clean” photons are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rom the “unclean” EM signals in A+A colli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C13-7E49-4579-8BDD-153F3CC48394}" type="slidenum">
              <a:t>10</a:t>
            </a:fld>
          </a:p>
        </p:txBody>
      </p:sp>
    </p:spTree>
  </p:cSld>
  <p:transition advTm="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32000" y="18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II. Gamma-tagged jet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581360"/>
            <a:ext cx="849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_AA gives such a fragmentation function of the final parton jets, which is just weighted with the invariant cross sections of the correlated pho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ometimes we call D_AA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photon-triggered hadron fragmenta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24000" y="1700280"/>
                <a:ext cx="8424720" cy="28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  <m:sup>
                                <m:r>
                                  <m:t xml:space="preserve">γh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e>
                            </m:nary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dΔφ</m:t>
                            </m:r>
                            <m:r>
                              <m:t xml:space="preserve">×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</m:sup>
                            </m:sSubSup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sub>
                                  <m:sup>
                                    <m:r>
                                      <m:t xml:space="preserve">γh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dΔφ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e>
                            </m:nary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Sup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γ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  <m:r>
                          <m:t xml:space="preserve">∝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d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DFs</m:t>
                            </m:r>
                            <m:r>
                              <m:t xml:space="preserve">⊗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Fs</m:t>
                            </m:r>
                            <m:r>
                              <m:t xml:space="preserve">,</m:t>
                            </m:r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r>
                          <m:t xml:space="preserve">∝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d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DFs</m:t>
                            </m:r>
                            <m:r>
                              <m:t xml:space="preserve">⊗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50920" y="981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per-trigger photon-hadron spec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C6F-4A62-47F4-AE89-4CB16D8A20CE}" type="slidenum">
              <a:t>11</a:t>
            </a:fld>
          </a:p>
        </p:txBody>
      </p:sp>
    </p:spTree>
  </p:cSld>
  <p:transition advTm="2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5391000" cy="5505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6308640"/>
            <a:ext cx="61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ata from “Matthew Nguyen for PHENIX, talk at QM200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508720" y="2421000"/>
                <a:ext cx="30240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p</m:t>
                                    </m:r>
                                  </m:sub>
                                  <m:sup>
                                    <m:r>
                                      <m:t xml:space="preserve">γh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p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γ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292720" y="981000"/>
            <a:ext cx="338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er-trigger yield 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unction of the p_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triggered phot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4221000"/>
            <a:ext cx="39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LO pQCD results descri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behavior of the data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oton-hadron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p+p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89000"/>
            <a:ext cx="777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mma-triggered hadrons in p+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329-5869-4493-8BC3-F7BA717D8BA2}" type="slidenum">
              <a:t>12</a:t>
            </a:fld>
          </a:p>
        </p:txBody>
      </p:sp>
    </p:spTree>
  </p:cSld>
  <p:transition advTm="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11280" y="189000"/>
            <a:ext cx="777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mma-triggered hadrons in A+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5300640"/>
            <a:ext cx="712764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ata from “A. Hamed for STAR, talk at QM2008 and HP200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98100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e energy loss formalism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as that in our previous studies on single/dihadron spectra in A+A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580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multaneous fit of single, dihadron and photon-hadron productions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---Another evidence of jet quenchi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4427640" cy="3332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71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5AB-20EC-4F6D-A363-BD9C07D36F43}" type="slidenum">
              <a:t>13</a:t>
            </a:fld>
          </a:p>
        </p:txBody>
      </p:sp>
    </p:spTree>
  </p:cSld>
  <p:transition advTm="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211640" y="4581360"/>
            <a:ext cx="4608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Qualitatively, Iaa in small z_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gion is slightly more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o epsilon_0 than Iaa in large z_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1920" y="620640"/>
            <a:ext cx="4098960" cy="6102360"/>
            <a:chOff x="61920" y="620640"/>
            <a:chExt cx="4098960" cy="610236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1920" y="620640"/>
              <a:ext cx="409896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rcRect l="0" t="0" r="0" b="1539"/>
            <a:stretch/>
          </p:blipFill>
          <p:spPr>
            <a:xfrm>
              <a:off x="100080" y="4363920"/>
              <a:ext cx="367200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"/>
          <p:cNvSpPr/>
          <p:nvPr/>
        </p:nvSpPr>
        <p:spPr>
          <a:xfrm>
            <a:off x="3059280" y="5661000"/>
            <a:ext cx="93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0"/>
            <a:ext cx="864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-trigger yield for photon-hadron in central Au+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285264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2565360"/>
            <a:ext cx="865440" cy="33847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2997360"/>
            <a:ext cx="1440000" cy="309564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211640" y="1413000"/>
                <a:ext cx="4486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where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4211640" y="83664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uclear modification f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11640" y="2492280"/>
            <a:ext cx="460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nergy loss parame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ich is introduced to descri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uncertainty of the med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nsity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7451640" y="2421000"/>
                <a:ext cx="1224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D39-EB9C-45C5-A201-F9F6BA525BF3}" type="slidenum">
              <a:t>14</a:t>
            </a:fld>
          </a:p>
        </p:txBody>
      </p:sp>
    </p:spTree>
  </p:cSld>
  <p:transition advTm="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47828" b="0"/>
          <a:stretch/>
        </p:blipFill>
        <p:spPr>
          <a:xfrm>
            <a:off x="298440" y="765000"/>
            <a:ext cx="4238640" cy="468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332000" y="3213000"/>
                <a:ext cx="1368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1042920" y="189000"/>
            <a:ext cx="73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LO  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&gt; 0  at z_T&gt;1: surface e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73680" y="836640"/>
                <a:ext cx="3751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los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4626720" y="2012400"/>
            <a:ext cx="40640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t large z_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the contributions with energy lo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vanish due to jet quench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dominated by the contrib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ithout energy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1773360"/>
            <a:ext cx="1441440" cy="29509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04000" y="1197000"/>
            <a:ext cx="0" cy="2872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8720" y="620640"/>
            <a:ext cx="1440000" cy="792360"/>
          </a:xfrm>
          <a:prstGeom prst="ellipse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859280" y="3762360"/>
            <a:ext cx="3818160" cy="309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740720" y="3500280"/>
                <a:ext cx="1125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588000" y="1557360"/>
                <a:ext cx="5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79280" y="5302440"/>
            <a:ext cx="47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For LO, the jet’s energy can’t exceed the gamma’s energy, no contributions for z_T&gt;1 reg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For NLO, because of 2-&gt;3 processes, have z_T&gt;1 contribu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owever 2-&gt;2 (tree level + one loop) domin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472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84A-A9A9-4640-8BDC-B9B632DE53BD}" type="slidenum">
              <a:t>15</a:t>
            </a:fld>
          </a:p>
        </p:txBody>
      </p:sp>
    </p:spTree>
  </p:cSld>
  <p:transition advTm="2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rcRect l="0" t="0" r="47828" b="0"/>
          <a:stretch/>
        </p:blipFill>
        <p:spPr>
          <a:xfrm>
            <a:off x="0" y="1197000"/>
            <a:ext cx="4537080" cy="501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258920" y="3716280"/>
                <a:ext cx="1368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835280" y="260280"/>
            <a:ext cx="6767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 small z_T: Volume e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32360" y="1341360"/>
                <a:ext cx="3749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los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5076720" y="191520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t small z_T: both con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jets near the ce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ith energy loss do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1700280"/>
            <a:ext cx="1152360" cy="331128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745080" cy="30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812000" y="3141720"/>
                <a:ext cx="1125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BB1-D667-4B27-9F96-C4528B7C70BD}" type="slidenum">
              <a:t>16</a:t>
            </a:fld>
          </a:p>
        </p:txBody>
      </p:sp>
    </p:spTree>
  </p:cSld>
  <p:transition advTm="2000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81080" y="14842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24000" y="62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averaged distance &lt;L&gt; for the gamma-triggered parton jets passing through the quark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1916280"/>
            <a:ext cx="1368360" cy="309528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4076640"/>
            <a:ext cx="2665440" cy="12240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8000" y="0"/>
            <a:ext cx="6767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face versus Volume e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02136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mall z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es the matter deeper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than large zt, so more sen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4148280"/>
            <a:ext cx="302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urface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60360" y="2851200"/>
            <a:ext cx="295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olume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843280" cy="2306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84328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018640" y="1700280"/>
                <a:ext cx="1125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020080" y="3860640"/>
                <a:ext cx="1123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1763640" y="2781000"/>
            <a:ext cx="4680000" cy="64764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219640" y="4508640"/>
            <a:ext cx="1224000" cy="7272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89D-D7DC-4B08-9A79-8956C412FF15}" type="slidenum">
              <a:t>17</a:t>
            </a:fld>
          </a:p>
        </p:txBody>
      </p:sp>
    </p:spTree>
  </p:cSld>
  <p:transition advTm="38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764320" y="476280"/>
            <a:ext cx="3379680" cy="33843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2987640" y="404640"/>
            <a:ext cx="2664000" cy="4032360"/>
            <a:chOff x="2987640" y="404640"/>
            <a:chExt cx="2664000" cy="4032360"/>
          </a:xfrm>
        </p:grpSpPr>
        <p:pic>
          <p:nvPicPr>
            <p:cNvPr id="345" name="" descr=""/>
            <p:cNvPicPr/>
            <p:nvPr/>
          </p:nvPicPr>
          <p:blipFill>
            <a:blip r:embed="rId2"/>
            <a:stretch/>
          </p:blipFill>
          <p:spPr>
            <a:xfrm>
              <a:off x="2987640" y="404640"/>
              <a:ext cx="2664000" cy="20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3"/>
            <a:stretch/>
          </p:blipFill>
          <p:spPr>
            <a:xfrm>
              <a:off x="3035880" y="2338920"/>
              <a:ext cx="2590560" cy="20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79280" y="404640"/>
            <a:ext cx="2608200" cy="4032360"/>
            <a:chOff x="179280" y="404640"/>
            <a:chExt cx="2608200" cy="4032360"/>
          </a:xfrm>
        </p:grpSpPr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179280" y="404640"/>
              <a:ext cx="2608200" cy="20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5"/>
            <a:stretch/>
          </p:blipFill>
          <p:spPr>
            <a:xfrm>
              <a:off x="250920" y="2318760"/>
              <a:ext cx="2512080" cy="21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3851280" y="4940280"/>
            <a:ext cx="1512720" cy="14986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635280" y="4365720"/>
            <a:ext cx="1441440" cy="1800000"/>
          </a:xfrm>
          <a:prstGeom prst="line">
            <a:avLst/>
          </a:prstGeom>
          <a:ln w="73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76080" y="4434120"/>
            <a:ext cx="1743480" cy="1989360"/>
            <a:chOff x="676080" y="4434120"/>
            <a:chExt cx="1743480" cy="1989360"/>
          </a:xfrm>
        </p:grpSpPr>
        <p:sp>
          <p:nvSpPr>
            <p:cNvPr id="353" name=""/>
            <p:cNvSpPr/>
            <p:nvPr/>
          </p:nvSpPr>
          <p:spPr>
            <a:xfrm rot="283200">
              <a:off x="734760" y="4865040"/>
              <a:ext cx="1513080" cy="14983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695600" y="4434120"/>
              <a:ext cx="723960" cy="87948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628640" y="4822920"/>
              <a:ext cx="520920" cy="502560"/>
              <a:chOff x="1628640" y="4822920"/>
              <a:chExt cx="520920" cy="50256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1628640" y="4948560"/>
                <a:ext cx="24120" cy="2880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695600" y="4822920"/>
                <a:ext cx="183960" cy="49104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766880" y="5061960"/>
                <a:ext cx="382680" cy="25812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838160" y="5270400"/>
                <a:ext cx="221040" cy="550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211640" y="4869000"/>
            <a:ext cx="504720" cy="504720"/>
            <a:chOff x="4211640" y="4869000"/>
            <a:chExt cx="504720" cy="504720"/>
          </a:xfrm>
        </p:grpSpPr>
        <p:sp>
          <p:nvSpPr>
            <p:cNvPr id="361" name=""/>
            <p:cNvSpPr/>
            <p:nvPr/>
          </p:nvSpPr>
          <p:spPr>
            <a:xfrm flipV="1">
              <a:off x="4211640" y="5013000"/>
              <a:ext cx="0" cy="2890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84720" y="4869000"/>
              <a:ext cx="142920" cy="5047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356000" y="5085000"/>
              <a:ext cx="360360" cy="2887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427640" y="5300280"/>
              <a:ext cx="215640" cy="730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705840" y="5523120"/>
            <a:ext cx="527040" cy="500760"/>
            <a:chOff x="3705840" y="5523120"/>
            <a:chExt cx="527040" cy="500760"/>
          </a:xfrm>
        </p:grpSpPr>
        <p:sp>
          <p:nvSpPr>
            <p:cNvPr id="366" name=""/>
            <p:cNvSpPr/>
            <p:nvPr/>
          </p:nvSpPr>
          <p:spPr>
            <a:xfrm flipH="1">
              <a:off x="4198320" y="5619960"/>
              <a:ext cx="34560" cy="2869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966480" y="5540040"/>
              <a:ext cx="202680" cy="48384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705840" y="5531400"/>
              <a:ext cx="392400" cy="24336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804120" y="5523120"/>
              <a:ext cx="222840" cy="4680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68360" y="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ingle hadron                  Dihadron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oton-ha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0843400">
            <a:off x="1547640" y="2997000"/>
            <a:ext cx="5521320" cy="785520"/>
          </a:xfrm>
          <a:prstGeom prst="rightArrow">
            <a:avLst>
              <a:gd name="adj1" fmla="val 50000"/>
              <a:gd name="adj2" fmla="val 175722"/>
            </a:avLst>
          </a:prstGeom>
          <a:solidFill>
            <a:srgbClr val="00ff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0360" y="3789360"/>
            <a:ext cx="32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sensitive pro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732720" y="4130640"/>
            <a:ext cx="1530000" cy="2322000"/>
            <a:chOff x="6732720" y="4130640"/>
            <a:chExt cx="1530000" cy="2322000"/>
          </a:xfrm>
        </p:grpSpPr>
        <p:sp>
          <p:nvSpPr>
            <p:cNvPr id="374" name=""/>
            <p:cNvSpPr/>
            <p:nvPr/>
          </p:nvSpPr>
          <p:spPr>
            <a:xfrm>
              <a:off x="6732720" y="4651200"/>
              <a:ext cx="1512720" cy="1498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804000" y="5444280"/>
              <a:ext cx="647280" cy="100836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948720" y="5445720"/>
              <a:ext cx="646920" cy="604440"/>
              <a:chOff x="6948720" y="5445720"/>
              <a:chExt cx="646920" cy="604440"/>
            </a:xfrm>
          </p:grpSpPr>
          <p:sp>
            <p:nvSpPr>
              <p:cNvPr id="377" name=""/>
              <p:cNvSpPr/>
              <p:nvPr/>
            </p:nvSpPr>
            <p:spPr>
              <a:xfrm>
                <a:off x="7595640" y="5530680"/>
                <a:ext cx="0" cy="34632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318800" y="5445720"/>
                <a:ext cx="183240" cy="60444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948720" y="5445720"/>
                <a:ext cx="461880" cy="3456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042320" y="5445720"/>
                <a:ext cx="276480" cy="874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Freeform 33"/>
            <p:cNvSpPr/>
            <p:nvPr/>
          </p:nvSpPr>
          <p:spPr>
            <a:xfrm rot="17506800">
              <a:off x="7180920" y="4637520"/>
              <a:ext cx="1335240" cy="358560"/>
            </a:xfrm>
            <a:prstGeom prst="pie">
              <a:avLst/>
            </a:prstGeom>
            <a:noFill/>
            <a:ln w="540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7524720" y="220500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6324480"/>
            <a:ext cx="777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mparing small-zt gamma-jets to single jets and dije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57E-C192-43F9-96DC-2638A93F1E33}" type="slidenum">
              <a:t>18</a:t>
            </a:fld>
          </a:p>
        </p:txBody>
      </p:sp>
    </p:spTree>
  </p:cSld>
  <p:transition advTm="1000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189000"/>
            <a:ext cx="777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 small-zt gamma-jets to single j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641760" cy="2674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960800" y="836640"/>
            <a:ext cx="3600720" cy="26859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92800" y="3645000"/>
            <a:ext cx="3240000" cy="2581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496800" y="3645000"/>
            <a:ext cx="3164040" cy="2566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60440" y="3211560"/>
            <a:ext cx="18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amma-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5928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 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560" y="3284640"/>
            <a:ext cx="111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z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640080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am-jets for small z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es the matter deeper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than single j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258920" y="1125360"/>
                <a:ext cx="8636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987640" y="1197000"/>
                <a:ext cx="863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628-98D4-4E17-86C0-A32F6CDF08A9}" type="slidenum">
              <a:t>19</a:t>
            </a:fld>
          </a:p>
        </p:txBody>
      </p:sp>
    </p:spTree>
  </p:cSld>
  <p:transition advTm="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84360" y="-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.   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55736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Jet quench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133720"/>
            <a:ext cx="792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hard jet loses a significant amount of its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ia gluon radiation induced by multiple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52040" y="3573360"/>
            <a:ext cx="3601800" cy="2775600"/>
            <a:chOff x="752040" y="3573360"/>
            <a:chExt cx="3601800" cy="2775600"/>
          </a:xfrm>
        </p:grpSpPr>
        <p:grpSp>
          <p:nvGrpSpPr>
            <p:cNvPr id="57" name=""/>
            <p:cNvGrpSpPr/>
            <p:nvPr/>
          </p:nvGrpSpPr>
          <p:grpSpPr>
            <a:xfrm>
              <a:off x="752040" y="3573360"/>
              <a:ext cx="3601800" cy="2093760"/>
              <a:chOff x="752040" y="3573360"/>
              <a:chExt cx="3601800" cy="2093760"/>
            </a:xfrm>
          </p:grpSpPr>
          <p:sp>
            <p:nvSpPr>
              <p:cNvPr id="58" name=""/>
              <p:cNvSpPr/>
              <p:nvPr/>
            </p:nvSpPr>
            <p:spPr>
              <a:xfrm>
                <a:off x="752040" y="4949280"/>
                <a:ext cx="80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hadr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8640" y="4349880"/>
                <a:ext cx="790560" cy="155520"/>
              </a:xfrm>
              <a:custGeom>
                <a:avLst/>
                <a:gdLst/>
                <a:ahLst/>
                <a:rect l="l" t="t" r="r" b="b"/>
                <a:pathLst>
                  <a:path w="856" h="328">
                    <a:moveTo>
                      <a:pt x="0" y="328"/>
                    </a:moveTo>
                    <a:lnTo>
                      <a:pt x="680" y="328"/>
                    </a:lnTo>
                    <a:lnTo>
                      <a:pt x="85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1941840" y="4588920"/>
                <a:ext cx="792360" cy="156960"/>
              </a:xfrm>
              <a:custGeom>
                <a:avLst/>
                <a:gdLst/>
                <a:ahLst/>
                <a:rect l="l" t="t" r="r" b="b"/>
                <a:pathLst>
                  <a:path w="856" h="328">
                    <a:moveTo>
                      <a:pt x="0" y="328"/>
                    </a:moveTo>
                    <a:lnTo>
                      <a:pt x="680" y="328"/>
                    </a:lnTo>
                    <a:lnTo>
                      <a:pt x="856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87360" y="4289040"/>
                <a:ext cx="46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30360" y="4621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2116800" y="4075920"/>
                <a:ext cx="4752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222640" y="3936240"/>
                <a:ext cx="17820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290680" y="4205160"/>
                <a:ext cx="15696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170800" y="4043880"/>
                <a:ext cx="8208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2215800" y="3633120"/>
                <a:ext cx="681480" cy="68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777680" y="4788720"/>
                <a:ext cx="96120" cy="2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719360" y="4772160"/>
                <a:ext cx="15480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549800" y="4746240"/>
                <a:ext cx="36216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927800" y="4777200"/>
                <a:ext cx="1404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62000" y="4768560"/>
                <a:ext cx="8568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87280" y="3992040"/>
                <a:ext cx="11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hadr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91960" y="3573360"/>
                <a:ext cx="136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part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87040" y="5187600"/>
                <a:ext cx="144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leading part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74880" y="369432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98000" y="4505760"/>
                <a:ext cx="111960" cy="83160"/>
              </a:xfrm>
              <a:custGeom>
                <a:avLst/>
                <a:gdLst/>
                <a:ahLst/>
                <a:rect l="l" t="t" r="r" b="b"/>
                <a:pathLst>
                  <a:path w="109" h="140">
                    <a:moveTo>
                      <a:pt x="0" y="11"/>
                    </a:moveTo>
                    <a:cubicBezTo>
                      <a:pt x="38" y="5"/>
                      <a:pt x="77" y="0"/>
                      <a:pt x="80" y="11"/>
                    </a:cubicBezTo>
                    <a:cubicBezTo>
                      <a:pt x="83" y="22"/>
                      <a:pt x="12" y="64"/>
                      <a:pt x="16" y="75"/>
                    </a:cubicBezTo>
                    <a:cubicBezTo>
                      <a:pt x="20" y="86"/>
                      <a:pt x="99" y="66"/>
                      <a:pt x="104" y="75"/>
                    </a:cubicBezTo>
                    <a:cubicBezTo>
                      <a:pt x="109" y="84"/>
                      <a:pt x="49" y="122"/>
                      <a:pt x="48" y="131"/>
                    </a:cubicBezTo>
                    <a:cubicBezTo>
                      <a:pt x="47" y="140"/>
                      <a:pt x="88" y="132"/>
                      <a:pt x="96" y="1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612080" y="4847040"/>
                <a:ext cx="294480" cy="820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332000" y="5950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-N coll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780000" y="3573360"/>
            <a:ext cx="4967640" cy="2775240"/>
            <a:chOff x="3780000" y="3573360"/>
            <a:chExt cx="4967640" cy="2775240"/>
          </a:xfrm>
        </p:grpSpPr>
        <p:grpSp>
          <p:nvGrpSpPr>
            <p:cNvPr id="81" name=""/>
            <p:cNvGrpSpPr/>
            <p:nvPr/>
          </p:nvGrpSpPr>
          <p:grpSpPr>
            <a:xfrm>
              <a:off x="4932000" y="3573360"/>
              <a:ext cx="3815640" cy="2360160"/>
              <a:chOff x="4932000" y="3573360"/>
              <a:chExt cx="3815640" cy="23601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932000" y="3573360"/>
                <a:ext cx="3815640" cy="2360160"/>
                <a:chOff x="4932000" y="3573360"/>
                <a:chExt cx="3815640" cy="236016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5544000" y="4288680"/>
                  <a:ext cx="1845360" cy="658800"/>
                  <a:chOff x="5544000" y="4288680"/>
                  <a:chExt cx="1845360" cy="658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5611320" y="4294800"/>
                    <a:ext cx="1710360" cy="639360"/>
                  </a:xfrm>
                  <a:prstGeom prst="rect">
                    <a:avLst/>
                  </a:prstGeom>
                  <a:solidFill>
                    <a:srgbClr val="ff66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46800" y="4288680"/>
                    <a:ext cx="142560" cy="6523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544000" y="4288680"/>
                    <a:ext cx="142560" cy="6588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5261040" y="5036400"/>
                  <a:ext cx="808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hadr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48200" y="4398840"/>
                  <a:ext cx="765720" cy="165600"/>
                </a:xfrm>
                <a:custGeom>
                  <a:avLst/>
                  <a:gdLst/>
                  <a:ahLst/>
                  <a:rect l="l" t="t" r="r" b="b"/>
                  <a:pathLst>
                    <a:path w="856" h="328">
                      <a:moveTo>
                        <a:pt x="0" y="328"/>
                      </a:moveTo>
                      <a:lnTo>
                        <a:pt x="680" y="328"/>
                      </a:lnTo>
                      <a:lnTo>
                        <a:pt x="856" y="0"/>
                      </a:ln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flipV="1">
                  <a:off x="6412320" y="4652640"/>
                  <a:ext cx="767160" cy="166680"/>
                </a:xfrm>
                <a:custGeom>
                  <a:avLst/>
                  <a:gdLst/>
                  <a:ahLst/>
                  <a:rect l="l" t="t" r="r" b="b"/>
                  <a:pathLst>
                    <a:path w="856" h="328">
                      <a:moveTo>
                        <a:pt x="0" y="328"/>
                      </a:moveTo>
                      <a:lnTo>
                        <a:pt x="680" y="328"/>
                      </a:lnTo>
                      <a:lnTo>
                        <a:pt x="856" y="0"/>
                      </a:ln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806800" y="4336560"/>
                  <a:ext cx="400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894360" y="4687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6584040" y="4107600"/>
                  <a:ext cx="4212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6684840" y="3958920"/>
                  <a:ext cx="172800" cy="35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6750360" y="4244760"/>
                  <a:ext cx="15192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6634440" y="4074120"/>
                  <a:ext cx="7920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6677640" y="3636360"/>
                  <a:ext cx="660240" cy="729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6176160" y="4881240"/>
                  <a:ext cx="193320" cy="600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6254280" y="4865400"/>
                  <a:ext cx="9324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197400" y="4848120"/>
                  <a:ext cx="150480" cy="12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6032520" y="4820400"/>
                  <a:ext cx="351000" cy="6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6399360" y="4853160"/>
                  <a:ext cx="13680" cy="40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32480" y="4844160"/>
                  <a:ext cx="82800" cy="25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0800" y="4017240"/>
                  <a:ext cx="114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hadr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434720" y="3573360"/>
                  <a:ext cx="13129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ahoma"/>
                    </a:rPr>
                    <a:t>Leading particle </a:t>
                  </a:r>
                  <a:r>
                    <a:rPr b="1" lang="en-US" sz="1200" spc="-1" strike="noStrike">
                      <a:solidFill>
                        <a:srgbClr val="0000cc"/>
                      </a:solidFill>
                      <a:latin typeface="Tahoma"/>
                    </a:rPr>
                    <a:t>suppress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57880" y="5292000"/>
                  <a:ext cx="1408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ahoma"/>
                    </a:rPr>
                    <a:t>leading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ahoma"/>
                    </a:rPr>
                    <a:t>particle </a:t>
                  </a:r>
                  <a:r>
                    <a:rPr b="1" lang="en-US" sz="1200" spc="-1" strike="noStrike">
                      <a:solidFill>
                        <a:srgbClr val="0000cc"/>
                      </a:solidFill>
                      <a:latin typeface="Tahoma"/>
                    </a:rPr>
                    <a:t>suppress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90720" y="3700440"/>
                  <a:ext cx="184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467040" y="4564440"/>
                  <a:ext cx="108720" cy="88920"/>
                </a:xfrm>
                <a:custGeom>
                  <a:avLst/>
                  <a:gdLst/>
                  <a:ahLst/>
                  <a:rect l="l" t="t" r="r" b="b"/>
                  <a:pathLst>
                    <a:path w="109" h="140">
                      <a:moveTo>
                        <a:pt x="0" y="11"/>
                      </a:moveTo>
                      <a:cubicBezTo>
                        <a:pt x="38" y="5"/>
                        <a:pt x="77" y="0"/>
                        <a:pt x="80" y="11"/>
                      </a:cubicBezTo>
                      <a:cubicBezTo>
                        <a:pt x="83" y="22"/>
                        <a:pt x="12" y="64"/>
                        <a:pt x="16" y="75"/>
                      </a:cubicBezTo>
                      <a:cubicBezTo>
                        <a:pt x="20" y="86"/>
                        <a:pt x="99" y="66"/>
                        <a:pt x="104" y="75"/>
                      </a:cubicBezTo>
                      <a:cubicBezTo>
                        <a:pt x="109" y="84"/>
                        <a:pt x="49" y="122"/>
                        <a:pt x="48" y="131"/>
                      </a:cubicBezTo>
                      <a:cubicBezTo>
                        <a:pt x="47" y="140"/>
                        <a:pt x="88" y="132"/>
                        <a:pt x="96" y="13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4932000" y="4584240"/>
                  <a:ext cx="417960" cy="144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7652160" y="4584240"/>
                  <a:ext cx="417960" cy="144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6633000" y="3891240"/>
                  <a:ext cx="456120" cy="5234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6093360" y="4927680"/>
                  <a:ext cx="284760" cy="8719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69640" y="4314960"/>
                <a:ext cx="457920" cy="280800"/>
                <a:chOff x="6569640" y="4314960"/>
                <a:chExt cx="457920" cy="280800"/>
              </a:xfrm>
            </p:grpSpPr>
            <p:sp>
              <p:nvSpPr>
                <p:cNvPr id="113" name=""/>
                <p:cNvSpPr/>
                <p:nvPr/>
              </p:nvSpPr>
              <p:spPr>
                <a:xfrm flipV="1">
                  <a:off x="6969960" y="4398480"/>
                  <a:ext cx="57600" cy="1800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976800">
                  <a:off x="6587640" y="4364280"/>
                  <a:ext cx="379440" cy="181800"/>
                </a:xfrm>
                <a:custGeom>
                  <a:avLst/>
                  <a:gdLst/>
                  <a:ahLst/>
                  <a:rect l="l" t="t" r="r" b="b"/>
                  <a:pathLst>
                    <a:path w="361" h="259">
                      <a:moveTo>
                        <a:pt x="0" y="240"/>
                      </a:moveTo>
                      <a:cubicBezTo>
                        <a:pt x="39" y="231"/>
                        <a:pt x="36" y="217"/>
                        <a:pt x="49" y="225"/>
                      </a:cubicBezTo>
                      <a:cubicBezTo>
                        <a:pt x="58" y="230"/>
                        <a:pt x="43" y="227"/>
                        <a:pt x="53" y="230"/>
                      </a:cubicBezTo>
                      <a:cubicBezTo>
                        <a:pt x="58" y="232"/>
                        <a:pt x="82" y="259"/>
                        <a:pt x="82" y="259"/>
                      </a:cubicBezTo>
                      <a:cubicBezTo>
                        <a:pt x="92" y="256"/>
                        <a:pt x="108" y="259"/>
                        <a:pt x="111" y="249"/>
                      </a:cubicBezTo>
                      <a:cubicBezTo>
                        <a:pt x="114" y="239"/>
                        <a:pt x="121" y="220"/>
                        <a:pt x="121" y="220"/>
                      </a:cubicBezTo>
                      <a:cubicBezTo>
                        <a:pt x="119" y="204"/>
                        <a:pt x="121" y="187"/>
                        <a:pt x="116" y="172"/>
                      </a:cubicBezTo>
                      <a:cubicBezTo>
                        <a:pt x="111" y="156"/>
                        <a:pt x="73" y="148"/>
                        <a:pt x="73" y="148"/>
                      </a:cubicBezTo>
                      <a:cubicBezTo>
                        <a:pt x="76" y="172"/>
                        <a:pt x="70" y="189"/>
                        <a:pt x="92" y="201"/>
                      </a:cubicBezTo>
                      <a:cubicBezTo>
                        <a:pt x="101" y="206"/>
                        <a:pt x="121" y="211"/>
                        <a:pt x="121" y="211"/>
                      </a:cubicBezTo>
                      <a:cubicBezTo>
                        <a:pt x="170" y="205"/>
                        <a:pt x="172" y="207"/>
                        <a:pt x="188" y="163"/>
                      </a:cubicBezTo>
                      <a:cubicBezTo>
                        <a:pt x="183" y="126"/>
                        <a:pt x="180" y="113"/>
                        <a:pt x="145" y="100"/>
                      </a:cubicBezTo>
                      <a:cubicBezTo>
                        <a:pt x="119" y="139"/>
                        <a:pt x="160" y="163"/>
                        <a:pt x="193" y="172"/>
                      </a:cubicBezTo>
                      <a:cubicBezTo>
                        <a:pt x="240" y="166"/>
                        <a:pt x="235" y="148"/>
                        <a:pt x="246" y="105"/>
                      </a:cubicBezTo>
                      <a:cubicBezTo>
                        <a:pt x="241" y="74"/>
                        <a:pt x="242" y="63"/>
                        <a:pt x="212" y="52"/>
                      </a:cubicBezTo>
                      <a:cubicBezTo>
                        <a:pt x="182" y="97"/>
                        <a:pt x="241" y="112"/>
                        <a:pt x="270" y="129"/>
                      </a:cubicBezTo>
                      <a:cubicBezTo>
                        <a:pt x="292" y="123"/>
                        <a:pt x="301" y="122"/>
                        <a:pt x="308" y="100"/>
                      </a:cubicBezTo>
                      <a:cubicBezTo>
                        <a:pt x="304" y="50"/>
                        <a:pt x="317" y="28"/>
                        <a:pt x="274" y="14"/>
                      </a:cubicBezTo>
                      <a:cubicBezTo>
                        <a:pt x="264" y="30"/>
                        <a:pt x="264" y="69"/>
                        <a:pt x="284" y="81"/>
                      </a:cubicBezTo>
                      <a:cubicBezTo>
                        <a:pt x="293" y="86"/>
                        <a:pt x="313" y="91"/>
                        <a:pt x="313" y="91"/>
                      </a:cubicBezTo>
                      <a:cubicBezTo>
                        <a:pt x="361" y="74"/>
                        <a:pt x="287" y="0"/>
                        <a:pt x="361" y="0"/>
                      </a:cubicBezTo>
                    </a:path>
                  </a:pathLst>
                </a:custGeom>
                <a:noFill/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399360" y="4688640"/>
                <a:ext cx="295920" cy="376560"/>
                <a:chOff x="6399360" y="4688640"/>
                <a:chExt cx="295920" cy="376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608160" y="5008680"/>
                  <a:ext cx="14760" cy="565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 rot="1015800">
                  <a:off x="6433200" y="4715640"/>
                  <a:ext cx="227880" cy="267840"/>
                </a:xfrm>
                <a:custGeom>
                  <a:avLst/>
                  <a:gdLst/>
                  <a:ahLst/>
                  <a:rect l="l" t="t" r="r" b="b"/>
                  <a:pathLst>
                    <a:path w="361" h="259">
                      <a:moveTo>
                        <a:pt x="0" y="240"/>
                      </a:moveTo>
                      <a:cubicBezTo>
                        <a:pt x="39" y="231"/>
                        <a:pt x="36" y="217"/>
                        <a:pt x="49" y="225"/>
                      </a:cubicBezTo>
                      <a:cubicBezTo>
                        <a:pt x="58" y="230"/>
                        <a:pt x="43" y="227"/>
                        <a:pt x="53" y="230"/>
                      </a:cubicBezTo>
                      <a:cubicBezTo>
                        <a:pt x="58" y="232"/>
                        <a:pt x="82" y="259"/>
                        <a:pt x="82" y="259"/>
                      </a:cubicBezTo>
                      <a:cubicBezTo>
                        <a:pt x="92" y="256"/>
                        <a:pt x="108" y="259"/>
                        <a:pt x="111" y="249"/>
                      </a:cubicBezTo>
                      <a:cubicBezTo>
                        <a:pt x="114" y="239"/>
                        <a:pt x="121" y="220"/>
                        <a:pt x="121" y="220"/>
                      </a:cubicBezTo>
                      <a:cubicBezTo>
                        <a:pt x="119" y="204"/>
                        <a:pt x="121" y="187"/>
                        <a:pt x="116" y="172"/>
                      </a:cubicBezTo>
                      <a:cubicBezTo>
                        <a:pt x="111" y="156"/>
                        <a:pt x="73" y="148"/>
                        <a:pt x="73" y="148"/>
                      </a:cubicBezTo>
                      <a:cubicBezTo>
                        <a:pt x="76" y="172"/>
                        <a:pt x="70" y="189"/>
                        <a:pt x="92" y="201"/>
                      </a:cubicBezTo>
                      <a:cubicBezTo>
                        <a:pt x="101" y="206"/>
                        <a:pt x="121" y="211"/>
                        <a:pt x="121" y="211"/>
                      </a:cubicBezTo>
                      <a:cubicBezTo>
                        <a:pt x="170" y="205"/>
                        <a:pt x="172" y="207"/>
                        <a:pt x="188" y="163"/>
                      </a:cubicBezTo>
                      <a:cubicBezTo>
                        <a:pt x="183" y="126"/>
                        <a:pt x="180" y="113"/>
                        <a:pt x="145" y="100"/>
                      </a:cubicBezTo>
                      <a:cubicBezTo>
                        <a:pt x="119" y="139"/>
                        <a:pt x="160" y="163"/>
                        <a:pt x="193" y="172"/>
                      </a:cubicBezTo>
                      <a:cubicBezTo>
                        <a:pt x="240" y="166"/>
                        <a:pt x="235" y="148"/>
                        <a:pt x="246" y="105"/>
                      </a:cubicBezTo>
                      <a:cubicBezTo>
                        <a:pt x="241" y="74"/>
                        <a:pt x="242" y="63"/>
                        <a:pt x="212" y="52"/>
                      </a:cubicBezTo>
                      <a:cubicBezTo>
                        <a:pt x="182" y="97"/>
                        <a:pt x="241" y="112"/>
                        <a:pt x="270" y="129"/>
                      </a:cubicBezTo>
                      <a:cubicBezTo>
                        <a:pt x="292" y="123"/>
                        <a:pt x="301" y="122"/>
                        <a:pt x="308" y="100"/>
                      </a:cubicBezTo>
                      <a:cubicBezTo>
                        <a:pt x="304" y="50"/>
                        <a:pt x="317" y="28"/>
                        <a:pt x="274" y="14"/>
                      </a:cubicBezTo>
                      <a:cubicBezTo>
                        <a:pt x="264" y="30"/>
                        <a:pt x="264" y="69"/>
                        <a:pt x="284" y="81"/>
                      </a:cubicBezTo>
                      <a:cubicBezTo>
                        <a:pt x="293" y="86"/>
                        <a:pt x="313" y="91"/>
                        <a:pt x="313" y="91"/>
                      </a:cubicBezTo>
                      <a:cubicBezTo>
                        <a:pt x="361" y="74"/>
                        <a:pt x="287" y="0"/>
                        <a:pt x="361" y="0"/>
                      </a:cubicBezTo>
                    </a:path>
                  </a:pathLst>
                </a:custGeom>
                <a:noFill/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37200" y="4548240"/>
                <a:ext cx="477720" cy="410400"/>
                <a:chOff x="6037200" y="4548240"/>
                <a:chExt cx="477720" cy="41040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6037200" y="4784760"/>
                  <a:ext cx="68400" cy="2160"/>
                </a:xfrm>
                <a:prstGeom prst="line">
                  <a:avLst/>
                </a:prstGeom>
                <a:ln w="93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18135000">
                  <a:off x="6161400" y="4599720"/>
                  <a:ext cx="291600" cy="307080"/>
                </a:xfrm>
                <a:custGeom>
                  <a:avLst/>
                  <a:gdLst/>
                  <a:ahLst/>
                  <a:rect l="l" t="t" r="r" b="b"/>
                  <a:pathLst>
                    <a:path w="361" h="259">
                      <a:moveTo>
                        <a:pt x="0" y="240"/>
                      </a:moveTo>
                      <a:cubicBezTo>
                        <a:pt x="39" y="231"/>
                        <a:pt x="36" y="217"/>
                        <a:pt x="49" y="225"/>
                      </a:cubicBezTo>
                      <a:cubicBezTo>
                        <a:pt x="58" y="230"/>
                        <a:pt x="43" y="227"/>
                        <a:pt x="53" y="230"/>
                      </a:cubicBezTo>
                      <a:cubicBezTo>
                        <a:pt x="58" y="232"/>
                        <a:pt x="82" y="259"/>
                        <a:pt x="82" y="259"/>
                      </a:cubicBezTo>
                      <a:cubicBezTo>
                        <a:pt x="92" y="256"/>
                        <a:pt x="108" y="259"/>
                        <a:pt x="111" y="249"/>
                      </a:cubicBezTo>
                      <a:cubicBezTo>
                        <a:pt x="114" y="239"/>
                        <a:pt x="121" y="220"/>
                        <a:pt x="121" y="220"/>
                      </a:cubicBezTo>
                      <a:cubicBezTo>
                        <a:pt x="119" y="204"/>
                        <a:pt x="121" y="187"/>
                        <a:pt x="116" y="172"/>
                      </a:cubicBezTo>
                      <a:cubicBezTo>
                        <a:pt x="111" y="156"/>
                        <a:pt x="73" y="148"/>
                        <a:pt x="73" y="148"/>
                      </a:cubicBezTo>
                      <a:cubicBezTo>
                        <a:pt x="76" y="172"/>
                        <a:pt x="70" y="189"/>
                        <a:pt x="92" y="201"/>
                      </a:cubicBezTo>
                      <a:cubicBezTo>
                        <a:pt x="101" y="206"/>
                        <a:pt x="121" y="211"/>
                        <a:pt x="121" y="211"/>
                      </a:cubicBezTo>
                      <a:cubicBezTo>
                        <a:pt x="170" y="205"/>
                        <a:pt x="172" y="207"/>
                        <a:pt x="188" y="163"/>
                      </a:cubicBezTo>
                      <a:cubicBezTo>
                        <a:pt x="183" y="126"/>
                        <a:pt x="180" y="113"/>
                        <a:pt x="145" y="100"/>
                      </a:cubicBezTo>
                      <a:cubicBezTo>
                        <a:pt x="119" y="139"/>
                        <a:pt x="160" y="163"/>
                        <a:pt x="193" y="172"/>
                      </a:cubicBezTo>
                      <a:cubicBezTo>
                        <a:pt x="240" y="166"/>
                        <a:pt x="235" y="148"/>
                        <a:pt x="246" y="105"/>
                      </a:cubicBezTo>
                      <a:cubicBezTo>
                        <a:pt x="241" y="74"/>
                        <a:pt x="242" y="63"/>
                        <a:pt x="212" y="52"/>
                      </a:cubicBezTo>
                      <a:cubicBezTo>
                        <a:pt x="182" y="97"/>
                        <a:pt x="241" y="112"/>
                        <a:pt x="270" y="129"/>
                      </a:cubicBezTo>
                      <a:cubicBezTo>
                        <a:pt x="292" y="123"/>
                        <a:pt x="301" y="122"/>
                        <a:pt x="308" y="100"/>
                      </a:cubicBezTo>
                      <a:cubicBezTo>
                        <a:pt x="304" y="50"/>
                        <a:pt x="317" y="28"/>
                        <a:pt x="274" y="14"/>
                      </a:cubicBezTo>
                      <a:cubicBezTo>
                        <a:pt x="264" y="30"/>
                        <a:pt x="264" y="69"/>
                        <a:pt x="284" y="81"/>
                      </a:cubicBezTo>
                      <a:cubicBezTo>
                        <a:pt x="293" y="86"/>
                        <a:pt x="313" y="91"/>
                        <a:pt x="313" y="91"/>
                      </a:cubicBezTo>
                      <a:cubicBezTo>
                        <a:pt x="361" y="74"/>
                        <a:pt x="287" y="0"/>
                        <a:pt x="361" y="0"/>
                      </a:cubicBezTo>
                    </a:path>
                  </a:pathLst>
                </a:custGeom>
                <a:noFill/>
                <a:ln w="93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91360" y="4093200"/>
                <a:ext cx="364320" cy="422280"/>
                <a:chOff x="6291360" y="4093200"/>
                <a:chExt cx="364320" cy="42228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6489360" y="4093200"/>
                  <a:ext cx="12240" cy="56880"/>
                </a:xfrm>
                <a:prstGeom prst="line">
                  <a:avLst/>
                </a:prstGeom>
                <a:ln w="936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 rot="14001600">
                  <a:off x="6327720" y="4209120"/>
                  <a:ext cx="291240" cy="237240"/>
                </a:xfrm>
                <a:custGeom>
                  <a:avLst/>
                  <a:gdLst/>
                  <a:ahLst/>
                  <a:rect l="l" t="t" r="r" b="b"/>
                  <a:pathLst>
                    <a:path w="361" h="259">
                      <a:moveTo>
                        <a:pt x="0" y="240"/>
                      </a:moveTo>
                      <a:cubicBezTo>
                        <a:pt x="39" y="231"/>
                        <a:pt x="36" y="217"/>
                        <a:pt x="49" y="225"/>
                      </a:cubicBezTo>
                      <a:cubicBezTo>
                        <a:pt x="58" y="230"/>
                        <a:pt x="43" y="227"/>
                        <a:pt x="53" y="230"/>
                      </a:cubicBezTo>
                      <a:cubicBezTo>
                        <a:pt x="58" y="232"/>
                        <a:pt x="82" y="259"/>
                        <a:pt x="82" y="259"/>
                      </a:cubicBezTo>
                      <a:cubicBezTo>
                        <a:pt x="92" y="256"/>
                        <a:pt x="108" y="259"/>
                        <a:pt x="111" y="249"/>
                      </a:cubicBezTo>
                      <a:cubicBezTo>
                        <a:pt x="114" y="239"/>
                        <a:pt x="121" y="220"/>
                        <a:pt x="121" y="220"/>
                      </a:cubicBezTo>
                      <a:cubicBezTo>
                        <a:pt x="119" y="204"/>
                        <a:pt x="121" y="187"/>
                        <a:pt x="116" y="172"/>
                      </a:cubicBezTo>
                      <a:cubicBezTo>
                        <a:pt x="111" y="156"/>
                        <a:pt x="73" y="148"/>
                        <a:pt x="73" y="148"/>
                      </a:cubicBezTo>
                      <a:cubicBezTo>
                        <a:pt x="76" y="172"/>
                        <a:pt x="70" y="189"/>
                        <a:pt x="92" y="201"/>
                      </a:cubicBezTo>
                      <a:cubicBezTo>
                        <a:pt x="101" y="206"/>
                        <a:pt x="121" y="211"/>
                        <a:pt x="121" y="211"/>
                      </a:cubicBezTo>
                      <a:cubicBezTo>
                        <a:pt x="170" y="205"/>
                        <a:pt x="172" y="207"/>
                        <a:pt x="188" y="163"/>
                      </a:cubicBezTo>
                      <a:cubicBezTo>
                        <a:pt x="183" y="126"/>
                        <a:pt x="180" y="113"/>
                        <a:pt x="145" y="100"/>
                      </a:cubicBezTo>
                      <a:cubicBezTo>
                        <a:pt x="119" y="139"/>
                        <a:pt x="160" y="163"/>
                        <a:pt x="193" y="172"/>
                      </a:cubicBezTo>
                      <a:cubicBezTo>
                        <a:pt x="240" y="166"/>
                        <a:pt x="235" y="148"/>
                        <a:pt x="246" y="105"/>
                      </a:cubicBezTo>
                      <a:cubicBezTo>
                        <a:pt x="241" y="74"/>
                        <a:pt x="242" y="63"/>
                        <a:pt x="212" y="52"/>
                      </a:cubicBezTo>
                      <a:cubicBezTo>
                        <a:pt x="182" y="97"/>
                        <a:pt x="241" y="112"/>
                        <a:pt x="270" y="129"/>
                      </a:cubicBezTo>
                      <a:cubicBezTo>
                        <a:pt x="292" y="123"/>
                        <a:pt x="301" y="122"/>
                        <a:pt x="308" y="100"/>
                      </a:cubicBezTo>
                      <a:cubicBezTo>
                        <a:pt x="304" y="50"/>
                        <a:pt x="317" y="28"/>
                        <a:pt x="274" y="14"/>
                      </a:cubicBezTo>
                      <a:cubicBezTo>
                        <a:pt x="264" y="30"/>
                        <a:pt x="264" y="69"/>
                        <a:pt x="284" y="81"/>
                      </a:cubicBezTo>
                      <a:cubicBezTo>
                        <a:pt x="293" y="86"/>
                        <a:pt x="313" y="91"/>
                        <a:pt x="313" y="91"/>
                      </a:cubicBezTo>
                      <a:cubicBezTo>
                        <a:pt x="361" y="74"/>
                        <a:pt x="287" y="0"/>
                        <a:pt x="361" y="0"/>
                      </a:cubicBezTo>
                    </a:path>
                  </a:pathLst>
                </a:custGeom>
                <a:noFill/>
                <a:ln w="9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3780000" y="4294080"/>
              <a:ext cx="593640" cy="619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6000" y="59497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-A coll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524720" y="422100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950080"/>
            <a:ext cx="9352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89600" y="1699200"/>
            <a:ext cx="501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X.-N.Wang and M.Gyulassy, Phys.Rev.Lett.68,1480(199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907920"/>
            <a:ext cx="835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happens for a jet propagating inside QG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E20-5D08-4FD5-973A-1DAF1D5CBE52}" type="slidenum">
              <a:t>2</a:t>
            </a:fld>
          </a:p>
        </p:txBody>
      </p:sp>
    </p:spTree>
  </p:cSld>
  <p:transition advTm="2000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43280" cy="2800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189000"/>
            <a:ext cx="777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 small-zt gamma-jets to dij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641760" cy="2674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96800" y="3645000"/>
            <a:ext cx="3164040" cy="25668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60440" y="3211560"/>
            <a:ext cx="18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amma-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3640" y="3213000"/>
            <a:ext cx="18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560" y="3284640"/>
            <a:ext cx="111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z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615636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ecause of punch-through jets for dihadro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it is not sure whether small-zt gam-jets are more sensitive than dij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352908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8280360" y="1052640"/>
                <a:ext cx="863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8280360" y="1413000"/>
                <a:ext cx="863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258920" y="1125360"/>
                <a:ext cx="8636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987640" y="1197000"/>
                <a:ext cx="863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6588000" y="1700280"/>
            <a:ext cx="1297080" cy="42498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066920" y="4869000"/>
            <a:ext cx="3025800" cy="122400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165720"/>
            <a:ext cx="2160360" cy="4320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541-B485-45EF-95F5-58A59F211729}" type="slidenum">
              <a:t>20</a:t>
            </a:fld>
          </a:p>
        </p:txBody>
      </p:sp>
    </p:spTree>
  </p:cSld>
  <p:transition advTm="0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5219640" cy="3929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24000" y="0"/>
            <a:ext cx="828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dron-triggered FFs are greater than gamma-triggered 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68360" y="2276640"/>
                <a:ext cx="2895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uAu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uAu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14" name=""/>
          <p:cNvGrpSpPr/>
          <p:nvPr/>
        </p:nvGrpSpPr>
        <p:grpSpPr>
          <a:xfrm>
            <a:off x="1967760" y="4781880"/>
            <a:ext cx="5226120" cy="606240"/>
            <a:chOff x="1967760" y="4781880"/>
            <a:chExt cx="5226120" cy="606240"/>
          </a:xfrm>
        </p:grpSpPr>
        <p:sp>
          <p:nvSpPr>
            <p:cNvPr id="415" name=""/>
            <p:cNvSpPr/>
            <p:nvPr/>
          </p:nvSpPr>
          <p:spPr>
            <a:xfrm>
              <a:off x="1967760" y="5085360"/>
              <a:ext cx="5226120" cy="55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38560" y="5109480"/>
              <a:ext cx="2575080" cy="3780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106800">
              <a:off x="4284360" y="4869000"/>
              <a:ext cx="431640" cy="43164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0" y="3716280"/>
            <a:ext cx="3887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.g.  Trig=8GeV, zt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4365720"/>
            <a:ext cx="6840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hadr:8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jet:12           jet:12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ssoc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890720" y="5548320"/>
            <a:ext cx="5314680" cy="736920"/>
            <a:chOff x="1890720" y="5548320"/>
            <a:chExt cx="5314680" cy="736920"/>
          </a:xfrm>
        </p:grpSpPr>
        <p:sp>
          <p:nvSpPr>
            <p:cNvPr id="421" name="Freeform 33"/>
            <p:cNvSpPr/>
            <p:nvPr/>
          </p:nvSpPr>
          <p:spPr>
            <a:xfrm rot="21213000">
              <a:off x="1907640" y="5691240"/>
              <a:ext cx="2574720" cy="450720"/>
            </a:xfrm>
            <a:prstGeom prst="pie">
              <a:avLst/>
            </a:prstGeom>
            <a:noFill/>
            <a:ln w="540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8840" y="5959440"/>
              <a:ext cx="2806560" cy="3348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65080" y="5945400"/>
              <a:ext cx="1359360" cy="5328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106800">
              <a:off x="4297320" y="5721120"/>
              <a:ext cx="431640" cy="43200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332000" y="6165720"/>
            <a:ext cx="6840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amm:8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               jet:8   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ssoc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5084640"/>
            <a:ext cx="1582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+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32000" y="4221000"/>
            <a:ext cx="2952720" cy="26370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92360" y="5157720"/>
            <a:ext cx="2266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er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16360" y="4292640"/>
            <a:ext cx="1584360" cy="649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6208560"/>
            <a:ext cx="1584360" cy="6494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126828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hy hadron-triggered FFs are greater than gamma-triggered FFs in pp/A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7F4-CA6D-4AA6-A4E7-F2E000AAAF4D}" type="slidenum">
              <a:t>21</a:t>
            </a:fld>
          </a:p>
        </p:txBody>
      </p:sp>
    </p:spTree>
  </p:cSld>
  <p:transition advTm="38000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5219640" cy="3929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564000" y="5589720"/>
            <a:ext cx="3456000" cy="718920"/>
          </a:xfrm>
          <a:prstGeom prst="ellipse">
            <a:avLst/>
          </a:prstGeom>
          <a:gradFill rotWithShape="0">
            <a:gsLst>
              <a:gs pos="0">
                <a:srgbClr val="ffcc00">
                  <a:alpha val="47058"/>
                </a:srgbClr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8360" y="2276640"/>
                <a:ext cx="2895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uAu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uAu</m:t>
                            </m:r>
                          </m:sub>
                          <m:sup>
                            <m:r>
                              <m:t xml:space="preserve">γh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967760" y="5084640"/>
            <a:ext cx="6840720" cy="55440"/>
          </a:xfrm>
          <a:prstGeom prst="line">
            <a:avLst/>
          </a:prstGeom>
          <a:ln w="73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37840" y="5108040"/>
            <a:ext cx="4060440" cy="2160"/>
          </a:xfrm>
          <a:prstGeom prst="line">
            <a:avLst/>
          </a:prstGeom>
          <a:ln w="73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3106800">
            <a:off x="5077080" y="4868640"/>
            <a:ext cx="431640" cy="4320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716280"/>
            <a:ext cx="3887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.g.  Trig=8GeV, zt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32000" y="4365720"/>
            <a:ext cx="781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hadr:8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12                                   12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ssoc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33"/>
          <p:cNvSpPr/>
          <p:nvPr/>
        </p:nvSpPr>
        <p:spPr>
          <a:xfrm rot="21309600">
            <a:off x="1907640" y="5661000"/>
            <a:ext cx="3240360" cy="450720"/>
          </a:xfrm>
          <a:prstGeom prst="pie">
            <a:avLst/>
          </a:prstGeom>
          <a:noFill/>
          <a:ln w="540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91920" y="5928840"/>
            <a:ext cx="3551400" cy="40680"/>
          </a:xfrm>
          <a:prstGeom prst="line">
            <a:avLst/>
          </a:prstGeom>
          <a:ln w="73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58520" y="5918760"/>
            <a:ext cx="2076480" cy="32400"/>
          </a:xfrm>
          <a:prstGeom prst="line">
            <a:avLst/>
          </a:prstGeom>
          <a:ln w="73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3106800">
            <a:off x="5077080" y="5733720"/>
            <a:ext cx="431640" cy="4320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61657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amm:8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6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ssoc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084640"/>
            <a:ext cx="197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u+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32000" y="4221000"/>
            <a:ext cx="2952720" cy="26370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5157720"/>
            <a:ext cx="2266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er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20800" y="5916600"/>
            <a:ext cx="1038240" cy="33120"/>
          </a:xfrm>
          <a:prstGeom prst="line">
            <a:avLst/>
          </a:prstGeom>
          <a:ln w="73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16720" y="4437000"/>
            <a:ext cx="792000" cy="6494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6208560"/>
            <a:ext cx="792000" cy="6494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0" y="6426360"/>
            <a:ext cx="27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ume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40360" y="436572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ngential ~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9280" y="1268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hy hadron-triggered FFs is greater than gamma-triggered FFs in pp/A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0"/>
            <a:ext cx="828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dron-triggered FFs are greater than gamma-triggered 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579-4E5D-4911-84E1-78C01B2F5B7C}" type="slidenum">
              <a:t>22</a:t>
            </a:fld>
          </a:p>
        </p:txBody>
      </p:sp>
    </p:spTree>
  </p:cSld>
  <p:transition advTm="38000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272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V.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1197000"/>
            <a:ext cx="882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ith isolation cut applied, the “clean” photons are separated from the “unclean” EM signals in A+A collisions. With the “clean” photons tagged, the back-to-back jets are “clearly” stared for checking their energy lo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ithin the same energy loss formalism, our numerical results for photon-hadron fit data well, providing another evidence of jet quen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suppression factor for hadrons with large z_T is controlled mainly by the surface emission of the gamma-jet events, while small z_T region will be   volume emission bi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Gamma-jets for small z_T region probe the dense  matter deeper than those for large z_T region, so the gamma-jets for small z_T region are slightly more sensitive to the dense matter proper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573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anks for your atten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DA3-867A-4FC4-97CA-C8E2CD3B97C5}" type="slidenum">
              <a:t>23</a:t>
            </a:fld>
          </a:p>
        </p:txBody>
      </p:sp>
    </p:spTree>
  </p:cSld>
  <p:transition advTm="1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333360"/>
            <a:ext cx="648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ree kinds of hard probes of Q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981000"/>
            <a:ext cx="842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cc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ingle jet 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Single hadron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ijet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Hadron-triggered away-side hadron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mma-jet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Photon-triggered away-side hadron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68720" y="3065400"/>
            <a:ext cx="1513080" cy="14986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852720" y="2490840"/>
            <a:ext cx="1441440" cy="1800000"/>
          </a:xfrm>
          <a:prstGeom prst="line">
            <a:avLst/>
          </a:prstGeom>
          <a:ln w="73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93520" y="2559240"/>
            <a:ext cx="1743480" cy="1989360"/>
            <a:chOff x="893520" y="2559240"/>
            <a:chExt cx="1743480" cy="1989360"/>
          </a:xfrm>
        </p:grpSpPr>
        <p:sp>
          <p:nvSpPr>
            <p:cNvPr id="135" name=""/>
            <p:cNvSpPr/>
            <p:nvPr/>
          </p:nvSpPr>
          <p:spPr>
            <a:xfrm rot="283200">
              <a:off x="952200" y="2990160"/>
              <a:ext cx="1513080" cy="14983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913040" y="2559240"/>
              <a:ext cx="723960" cy="87948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846080" y="2948040"/>
              <a:ext cx="520920" cy="502560"/>
              <a:chOff x="1846080" y="2948040"/>
              <a:chExt cx="520920" cy="50256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1846080" y="3073680"/>
                <a:ext cx="24120" cy="2880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913040" y="2948040"/>
                <a:ext cx="183960" cy="49104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1984320" y="3187080"/>
                <a:ext cx="382680" cy="25812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055600" y="3395520"/>
                <a:ext cx="221040" cy="550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429080" y="2994120"/>
            <a:ext cx="504720" cy="504720"/>
            <a:chOff x="4429080" y="2994120"/>
            <a:chExt cx="504720" cy="504720"/>
          </a:xfrm>
        </p:grpSpPr>
        <p:sp>
          <p:nvSpPr>
            <p:cNvPr id="143" name=""/>
            <p:cNvSpPr/>
            <p:nvPr/>
          </p:nvSpPr>
          <p:spPr>
            <a:xfrm flipV="1">
              <a:off x="4429080" y="3138120"/>
              <a:ext cx="0" cy="2890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02160" y="2994120"/>
              <a:ext cx="142920" cy="5047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573440" y="3210120"/>
              <a:ext cx="360360" cy="2887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645080" y="3425400"/>
              <a:ext cx="215640" cy="730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23280" y="3648240"/>
            <a:ext cx="527040" cy="500760"/>
            <a:chOff x="3923280" y="3648240"/>
            <a:chExt cx="527040" cy="500760"/>
          </a:xfrm>
        </p:grpSpPr>
        <p:sp>
          <p:nvSpPr>
            <p:cNvPr id="148" name=""/>
            <p:cNvSpPr/>
            <p:nvPr/>
          </p:nvSpPr>
          <p:spPr>
            <a:xfrm flipH="1">
              <a:off x="4415760" y="3745080"/>
              <a:ext cx="34560" cy="28692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183920" y="3665160"/>
              <a:ext cx="202680" cy="48384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923280" y="3656520"/>
              <a:ext cx="392400" cy="24336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021560" y="3648240"/>
              <a:ext cx="222840" cy="4680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4360" y="242100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ingle jet                       Dijet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mma-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05440" y="2545200"/>
            <a:ext cx="1530720" cy="2321640"/>
            <a:chOff x="6805440" y="2545200"/>
            <a:chExt cx="1530720" cy="2321640"/>
          </a:xfrm>
        </p:grpSpPr>
        <p:sp>
          <p:nvSpPr>
            <p:cNvPr id="154" name=""/>
            <p:cNvSpPr/>
            <p:nvPr/>
          </p:nvSpPr>
          <p:spPr>
            <a:xfrm>
              <a:off x="6805440" y="3065040"/>
              <a:ext cx="1513080" cy="14983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876720" y="3858840"/>
              <a:ext cx="647640" cy="100800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021440" y="3858840"/>
              <a:ext cx="647280" cy="604080"/>
              <a:chOff x="7021440" y="3858840"/>
              <a:chExt cx="647280" cy="604080"/>
            </a:xfrm>
          </p:grpSpPr>
          <p:sp>
            <p:nvSpPr>
              <p:cNvPr id="157" name=""/>
              <p:cNvSpPr/>
              <p:nvPr/>
            </p:nvSpPr>
            <p:spPr>
              <a:xfrm>
                <a:off x="7668720" y="3944520"/>
                <a:ext cx="0" cy="34596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391880" y="3858840"/>
                <a:ext cx="183240" cy="6040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021440" y="3858840"/>
                <a:ext cx="462240" cy="3456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7115400" y="3859200"/>
                <a:ext cx="276480" cy="874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Freeform 33"/>
            <p:cNvSpPr/>
            <p:nvPr/>
          </p:nvSpPr>
          <p:spPr>
            <a:xfrm rot="17506800">
              <a:off x="7254000" y="3051720"/>
              <a:ext cx="1334880" cy="358920"/>
            </a:xfrm>
            <a:prstGeom prst="pie">
              <a:avLst/>
            </a:prstGeom>
            <a:noFill/>
            <a:ln w="540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4773600"/>
            <a:ext cx="2592360" cy="208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348000" y="474984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08720" y="4797360"/>
            <a:ext cx="1008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81360"/>
            <a:ext cx="6877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H.Z. Zhang, J.F. Owens, E. Wang and X.-N. Wang , PRL 98(2007)2123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877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C96-7E30-4126-B569-AA2BC460B867}" type="slidenum">
              <a:t>3</a:t>
            </a:fld>
          </a:p>
        </p:txBody>
      </p:sp>
    </p:spTree>
  </p:cSld>
  <p:transition advTm="2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333360"/>
            <a:ext cx="83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mma-jet by NLO pQCD parton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4030560" y="239544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133720"/>
            <a:ext cx="86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LO : 2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 tree level:                  NLO corrections: 2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 one loop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tre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33560" y="4349880"/>
            <a:ext cx="792000" cy="1008000"/>
          </a:xfrm>
          <a:prstGeom prst="line">
            <a:avLst/>
          </a:prstGeom>
          <a:ln w="73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33"/>
          <p:cNvSpPr/>
          <p:nvPr/>
        </p:nvSpPr>
        <p:spPr>
          <a:xfrm rot="17749200">
            <a:off x="1562760" y="3629520"/>
            <a:ext cx="1334880" cy="358920"/>
          </a:xfrm>
          <a:prstGeom prst="pie">
            <a:avLst/>
          </a:prstGeom>
          <a:noFill/>
          <a:ln w="540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57280" y="1160640"/>
                <a:ext cx="580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σ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p>
                    <m:r>
                      <m:t xml:space="preserve">∝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⊗</m:t>
                    </m:r>
                    <m:r>
                      <m:rPr>
                        <m:lit/>
                        <m:nor/>
                      </m:rPr>
                      <m:t xml:space="preserve">PDFs</m:t>
                    </m:r>
                    <m:r>
                      <m:t xml:space="preserve">⊗</m:t>
                    </m:r>
                    <m:r>
                      <m:t xml:space="preserve">dσ</m:t>
                    </m:r>
                    <m:r>
                      <m:t xml:space="preserve">⊗</m:t>
                    </m:r>
                    <m:r>
                      <m:rPr>
                        <m:lit/>
                        <m:nor/>
                      </m:rPr>
                      <m:t xml:space="preserve">FF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435640" y="1052640"/>
            <a:ext cx="647640" cy="9363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771640" y="1773000"/>
            <a:ext cx="2521080" cy="1368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724360" y="2060640"/>
            <a:ext cx="71640" cy="10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55640" y="5518080"/>
                <a:ext cx="19242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47640" y="2997360"/>
                <a:ext cx="893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68360" y="4437000"/>
                <a:ext cx="722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 flipH="1">
            <a:off x="4707000" y="4133880"/>
            <a:ext cx="792000" cy="1008000"/>
          </a:xfrm>
          <a:prstGeom prst="line">
            <a:avLst/>
          </a:prstGeom>
          <a:ln w="73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33"/>
          <p:cNvSpPr/>
          <p:nvPr/>
        </p:nvSpPr>
        <p:spPr>
          <a:xfrm rot="13899600">
            <a:off x="4515120" y="3413160"/>
            <a:ext cx="1335240" cy="358920"/>
          </a:xfrm>
          <a:prstGeom prst="pie">
            <a:avLst/>
          </a:prstGeom>
          <a:noFill/>
          <a:ln w="540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4149000"/>
            <a:ext cx="1008000" cy="73080"/>
          </a:xfrm>
          <a:prstGeom prst="line">
            <a:avLst/>
          </a:prstGeom>
          <a:ln w="73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77080" y="3141720"/>
                <a:ext cx="191304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&lt;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am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am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a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851280" y="2852640"/>
                <a:ext cx="89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021200" y="4149720"/>
                <a:ext cx="825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9080" y="343044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5229360"/>
                <a:ext cx="440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ne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619280" y="4076640"/>
            <a:ext cx="4334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3720"/>
            <a:ext cx="4334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59500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refore leading to hadrons with transve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mentum larger than that of the phot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588-BCAB-422D-AA47-4CD86E48E2DB}" type="slidenum">
              <a:t>4</a:t>
            </a:fld>
          </a:p>
        </p:txBody>
      </p:sp>
    </p:spTree>
  </p:cSld>
  <p:transition advTm="2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0"/>
            <a:ext cx="83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Fs modification due to jet quen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85264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jet energy loss in a 1D expanding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85840" y="3645000"/>
                <a:ext cx="481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  <m:r>
                          <m:t xml:space="preserve">d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τ</m:t>
                        </m:r>
                        <m:f>
                          <m:num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58920" y="4724280"/>
                <a:ext cx="445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340000" y="4869000"/>
            <a:ext cx="315720" cy="431640"/>
          </a:xfrm>
          <a:prstGeom prst="ellipse">
            <a:avLst/>
          </a:pr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5445000"/>
            <a:ext cx="34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nergy loss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602136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a parameterization form of theory calculations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nke Wang , X. -N. Wang , PRL87(2001)1423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49228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X. -N. Wang , PRC70(2004)0319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156360" y="3500280"/>
            <a:ext cx="2771280" cy="2159280"/>
            <a:chOff x="6156360" y="3500280"/>
            <a:chExt cx="2771280" cy="2159280"/>
          </a:xfrm>
        </p:grpSpPr>
        <p:sp>
          <p:nvSpPr>
            <p:cNvPr id="199" name=""/>
            <p:cNvSpPr/>
            <p:nvPr/>
          </p:nvSpPr>
          <p:spPr>
            <a:xfrm>
              <a:off x="6156360" y="3500280"/>
              <a:ext cx="2078640" cy="215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79000" y="3892680"/>
              <a:ext cx="1448640" cy="1504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4000" y="4546800"/>
              <a:ext cx="693000" cy="32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4000" y="45468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857000" y="4088520"/>
              <a:ext cx="251640" cy="78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05000" y="4874040"/>
              <a:ext cx="252000" cy="26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7859520" y="4106880"/>
            <a:ext cx="247320" cy="743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89920" y="4068720"/>
            <a:ext cx="780840" cy="214200"/>
            <a:chOff x="7189920" y="4068720"/>
            <a:chExt cx="780840" cy="2142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189920" y="4068720"/>
              <a:ext cx="780840" cy="214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453440" y="4088520"/>
                  <a:ext cx="102240" cy="17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3680" y="4295880"/>
                <a:ext cx="14292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 rot="7602600">
            <a:off x="7866720" y="4475520"/>
            <a:ext cx="288000" cy="1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5574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55746"/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297560" y="4692600"/>
                <a:ext cx="1270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480" y="979560"/>
                <a:ext cx="90835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sup>
                    </m:sSup>
                    <m:sSubSup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79280" y="1916280"/>
                <a:ext cx="42404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564000" y="1557360"/>
            <a:ext cx="55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With energy loss                                             withou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0" y="1989000"/>
                <a:ext cx="44085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τ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620640"/>
            <a:ext cx="83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modified fragmentation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76F-8AE0-4FED-A64A-076A5A23EC7A}" type="slidenum">
              <a:t>5</a:t>
            </a:fld>
          </a:p>
        </p:txBody>
      </p:sp>
    </p:spTree>
  </p:cSld>
  <p:transition advTm="2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68360" y="332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I. Isolated ph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1268280"/>
            <a:ext cx="777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 photon sources in p+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)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rompt phot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from hard scat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465300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nnihilation            Compton           2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tree level    2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 one-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Annihilation            Comp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2360" y="2637000"/>
            <a:ext cx="4103640" cy="2087280"/>
            <a:chOff x="252360" y="2637000"/>
            <a:chExt cx="4103640" cy="2087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0" t="51594" r="0" b="15033"/>
            <a:stretch/>
          </p:blipFill>
          <p:spPr>
            <a:xfrm>
              <a:off x="252360" y="3603600"/>
              <a:ext cx="410364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0" t="0" r="0" b="69566"/>
            <a:stretch/>
          </p:blipFill>
          <p:spPr>
            <a:xfrm>
              <a:off x="252360" y="2637000"/>
              <a:ext cx="4103640" cy="10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5076720" y="2637000"/>
            <a:ext cx="3565440" cy="2016000"/>
            <a:chOff x="5076720" y="2637000"/>
            <a:chExt cx="3565440" cy="201600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076720" y="2694240"/>
              <a:ext cx="157716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6993720" y="2637000"/>
              <a:ext cx="164844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324000" y="3284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                                                     N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2 tre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516640"/>
            <a:ext cx="72007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ragmentati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or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e. 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remsstrahlung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689800" y="5803200"/>
            <a:ext cx="3302640" cy="768960"/>
            <a:chOff x="5689800" y="5803200"/>
            <a:chExt cx="3302640" cy="768960"/>
          </a:xfrm>
        </p:grpSpPr>
        <p:sp>
          <p:nvSpPr>
            <p:cNvPr id="229" name=""/>
            <p:cNvSpPr/>
            <p:nvPr/>
          </p:nvSpPr>
          <p:spPr>
            <a:xfrm flipH="1" flipV="1">
              <a:off x="7319520" y="6210000"/>
              <a:ext cx="846000" cy="2088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43120" y="6230160"/>
              <a:ext cx="949320" cy="180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3"/>
            <p:cNvSpPr/>
            <p:nvPr/>
          </p:nvSpPr>
          <p:spPr>
            <a:xfrm rot="9974400">
              <a:off x="5723280" y="5962320"/>
              <a:ext cx="1393920" cy="450720"/>
            </a:xfrm>
            <a:prstGeom prst="pie">
              <a:avLst/>
            </a:prstGeom>
            <a:noFill/>
            <a:ln w="540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3998600">
              <a:off x="7847640" y="6087600"/>
              <a:ext cx="309600" cy="32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790320" y="6076800"/>
              <a:ext cx="569520" cy="479520"/>
              <a:chOff x="6790320" y="6076800"/>
              <a:chExt cx="569520" cy="479520"/>
            </a:xfrm>
          </p:grpSpPr>
          <p:sp>
            <p:nvSpPr>
              <p:cNvPr id="234" name=""/>
              <p:cNvSpPr/>
              <p:nvPr/>
            </p:nvSpPr>
            <p:spPr>
              <a:xfrm flipH="1">
                <a:off x="7028640" y="6374880"/>
                <a:ext cx="290880" cy="18144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790320" y="6279480"/>
                <a:ext cx="569520" cy="21816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6882120" y="6161760"/>
                <a:ext cx="446400" cy="6876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7131240" y="6076800"/>
                <a:ext cx="166320" cy="10368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F9F-A57A-4C99-A6F4-A74045E901DB}" type="slidenum">
              <a:t>6</a:t>
            </a:fld>
          </a:p>
        </p:txBody>
      </p:sp>
    </p:spTree>
  </p:cSld>
  <p:transition advTm="2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468360" y="2208960"/>
            <a:ext cx="3115440" cy="3798000"/>
            <a:chOff x="468360" y="2208960"/>
            <a:chExt cx="3115440" cy="3798000"/>
          </a:xfrm>
        </p:grpSpPr>
        <p:sp>
          <p:nvSpPr>
            <p:cNvPr id="239" name=""/>
            <p:cNvSpPr/>
            <p:nvPr/>
          </p:nvSpPr>
          <p:spPr>
            <a:xfrm flipV="1">
              <a:off x="1161000" y="4249440"/>
              <a:ext cx="723600" cy="87984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68360" y="4998960"/>
              <a:ext cx="792000" cy="1008000"/>
            </a:xfrm>
            <a:prstGeom prst="line">
              <a:avLst/>
            </a:prstGeom>
            <a:ln w="7308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 rot="17749200">
              <a:off x="1646640" y="3413880"/>
              <a:ext cx="1334880" cy="358200"/>
            </a:xfrm>
            <a:prstGeom prst="pie">
              <a:avLst/>
            </a:prstGeom>
            <a:noFill/>
            <a:ln w="540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54080" y="4725720"/>
              <a:ext cx="432720" cy="433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692000" y="3502800"/>
              <a:ext cx="601560" cy="789120"/>
              <a:chOff x="1692000" y="3502800"/>
              <a:chExt cx="601560" cy="78912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1692000" y="3708360"/>
                <a:ext cx="37080" cy="4518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1765440" y="3502800"/>
                <a:ext cx="227880" cy="7758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1846800" y="3867480"/>
                <a:ext cx="446760" cy="41760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928160" y="4197960"/>
                <a:ext cx="254520" cy="93960"/>
              </a:xfrm>
              <a:prstGeom prst="line">
                <a:avLst/>
              </a:prstGeom>
              <a:ln w="22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>
              <a:off x="1703160" y="2636280"/>
              <a:ext cx="360000" cy="1800360"/>
            </a:xfrm>
            <a:prstGeom prst="line">
              <a:avLst/>
            </a:prstGeom>
            <a:ln w="349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774800" y="3428280"/>
              <a:ext cx="1512360" cy="1009800"/>
            </a:xfrm>
            <a:prstGeom prst="line">
              <a:avLst/>
            </a:prstGeom>
            <a:ln w="349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720200">
              <a:off x="1990440" y="2492280"/>
              <a:ext cx="1439640" cy="1008000"/>
            </a:xfrm>
            <a:prstGeom prst="ellipse">
              <a:avLst/>
            </a:prstGeom>
            <a:noFill/>
            <a:ln w="349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9280" y="6021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J. F. Owens, Rev. Mod. Phys. 59, 465(198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H. Baer, J. Ohnemus, and J. F. Owens,  Phys. Rev. D. 42, 61(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619280" y="4941720"/>
            <a:ext cx="4789440" cy="912960"/>
            <a:chOff x="1619280" y="4941720"/>
            <a:chExt cx="4789440" cy="912960"/>
          </a:xfrm>
        </p:grpSpPr>
        <p:sp>
          <p:nvSpPr>
            <p:cNvPr id="253" name=""/>
            <p:cNvSpPr/>
            <p:nvPr/>
          </p:nvSpPr>
          <p:spPr>
            <a:xfrm>
              <a:off x="1619280" y="4941720"/>
              <a:ext cx="4789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Most accompanying hadron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within a cone of half-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5219640" y="5300640"/>
                  <a:ext cx="720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cone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"/>
          <p:cNvSpPr/>
          <p:nvPr/>
        </p:nvSpPr>
        <p:spPr>
          <a:xfrm>
            <a:off x="539640" y="333360"/>
            <a:ext cx="777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olation Cut (I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26828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enerally, the bremsstrahlung photons are always accompanied by nearly collinear hadrons on the sam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227640" y="5157720"/>
                <a:ext cx="272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ne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Δη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Δϕ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6021360"/>
            <a:ext cx="126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2565360"/>
            <a:ext cx="126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2781360"/>
            <a:ext cx="475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 “isolation” cut (IC) are of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lied on the electromagne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gnal to separate the pro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otons from other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B4B-50CB-41DE-B390-6FFA9D0D4E9E}" type="slidenum">
              <a:t>7</a:t>
            </a:fld>
          </a:p>
        </p:txBody>
      </p:sp>
    </p:spTree>
  </p:cSld>
  <p:transition advTm="2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9640" y="189000"/>
            <a:ext cx="777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LO results for prompt photons in p+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5127840" cy="5394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292720" y="450864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ecause of IC selected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HIC, most frag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ntributions from pa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jets are taken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123920"/>
            <a:ext cx="29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 with 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435640" y="1916280"/>
                <a:ext cx="3311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n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5292720" y="155736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PHENIX, PRL 98 (2007) 01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92720" y="2708280"/>
            <a:ext cx="3600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measured photon samples … are expected to be isolated from parton jet activ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E3D-C8D2-4E94-BC95-F7D0F5E44F39}" type="slidenum">
              <a:t>8</a:t>
            </a:fld>
          </a:p>
        </p:txBody>
      </p:sp>
    </p:spTree>
  </p:cSld>
  <p:transition advTm="2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4360" y="1484280"/>
            <a:ext cx="7777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f we only consider the events where the photon has no nearly collinear hadrons accompanying on the same side, high p_T photon/photon-hadron will be dominated by annihilation and Compton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27320" y="62064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cus on isolated photons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4508640"/>
            <a:ext cx="748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order to give a simple and clear jet quenching picture in A+A, we will only consider such gamma-jet events in which the photons are isolated or only contributed by annihilation and Compton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357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ory prompt photons         Ex. IC ph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32360" y="3573360"/>
                <a:ext cx="644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0C2-A2B4-42FE-BA99-8D30EF608FAE}" type="slidenum">
              <a:t>9</a:t>
            </a:fld>
          </a:p>
        </p:txBody>
      </p:sp>
    </p:spTree>
  </p:cSld>
  <p:transition advTm="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03:07:23Z</dcterms:created>
  <dc:creator>chuan</dc:creator>
  <dc:description/>
  <dc:language>en-US</dc:language>
  <cp:lastModifiedBy>sdfssd</cp:lastModifiedBy>
  <dcterms:modified xsi:type="dcterms:W3CDTF">2008-10-13T23:37:00Z</dcterms:modified>
  <cp:revision>2671</cp:revision>
  <dc:subject/>
  <dc:title>格点场论与Monte Carlo模拟</dc:title>
</cp:coreProperties>
</file>