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5"/>
          <p:cNvSpPr/>
          <p:nvPr/>
        </p:nvSpPr>
        <p:spPr>
          <a:xfrm>
            <a:off x="336600" y="836640"/>
            <a:ext cx="837576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2"/>
          <p:cNvSpPr/>
          <p:nvPr/>
        </p:nvSpPr>
        <p:spPr>
          <a:xfrm>
            <a:off x="8458200" y="6496200"/>
            <a:ext cx="574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0F10-CB29-45A3-9861-357B495AFE17}" type="slidenum">
              <a:rPr b="1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4"/>
          <p:cNvSpPr/>
          <p:nvPr/>
        </p:nvSpPr>
        <p:spPr>
          <a:xfrm>
            <a:off x="230040" y="6453360"/>
            <a:ext cx="8553600" cy="25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189000"/>
            <a:ext cx="5543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1915920"/>
            <a:ext cx="7993080" cy="41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116000" y="836640"/>
            <a:ext cx="754524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95280" y="6308640"/>
            <a:ext cx="83376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5440" y="6410160"/>
            <a:ext cx="3022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.G. Ma, Nanjing, Apr. 2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8461440" y="6381720"/>
            <a:ext cx="574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ABF7-AD7D-4916-BB33-CF61D7109E72}" type="slidenum">
              <a:rPr b="1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8"/>
          <p:cNvGraphicFramePr/>
          <p:nvPr/>
        </p:nvGraphicFramePr>
        <p:xfrm>
          <a:off x="36360" y="104760"/>
          <a:ext cx="107964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60" y="104760"/>
                    <a:ext cx="1079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826920" y="2924280"/>
            <a:ext cx="7345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n-Hui 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nghai Institute of Applied Physics,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2nd Asian Triangle Heavy Ion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. 13-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ukuba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aboration with F. Jin (SINA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Gangadharan (UCLA), X. Cai (SINAP), H. Huang (UCLA) and Y. Ma (SINA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4000" y="47628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arton distributions at hadronization from bulk dense matter produced at RHIC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468360" y="2708280"/>
            <a:ext cx="7893000" cy="0"/>
          </a:xfrm>
          <a:prstGeom prst="line">
            <a:avLst/>
          </a:prstGeom>
          <a:ln w="442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/d quark ratio from primordial hyperon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rcRect l="3454" t="46848" r="10791" b="658"/>
          <a:stretch/>
        </p:blipFill>
        <p:spPr>
          <a:xfrm>
            <a:off x="179280" y="1052640"/>
            <a:ext cx="5399280" cy="4680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6010200" y="1197000"/>
            <a:ext cx="2954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/d ratio from hyperon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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1530) feed-down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[1]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: 46%+-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08000" y="1125360"/>
            <a:ext cx="9036000" cy="5264640"/>
            <a:chOff x="108000" y="1125360"/>
            <a:chExt cx="9036000" cy="5264640"/>
          </a:xfrm>
        </p:grpSpPr>
        <p:sp>
          <p:nvSpPr>
            <p:cNvPr id="168" name="Rectangle 12"/>
            <p:cNvSpPr/>
            <p:nvPr/>
          </p:nvSpPr>
          <p:spPr>
            <a:xfrm>
              <a:off x="6012000" y="2060640"/>
              <a:ext cx="2954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6600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Consistent s/d ratio derived from primordial hyperon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4" descr=""/>
            <p:cNvPicPr/>
            <p:nvPr/>
          </p:nvPicPr>
          <p:blipFill>
            <a:blip r:embed="rId2"/>
            <a:srcRect l="2293" t="46549" r="10769" b="961"/>
            <a:stretch/>
          </p:blipFill>
          <p:spPr>
            <a:xfrm>
              <a:off x="108000" y="1125360"/>
              <a:ext cx="547380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21"/>
            <p:cNvSpPr/>
            <p:nvPr/>
          </p:nvSpPr>
          <p:spPr>
            <a:xfrm>
              <a:off x="5938920" y="4827600"/>
              <a:ext cx="309708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[2] B.I. Abelev et al., 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hys. Rev. Lett. </a:t>
              </a: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97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, 132301 (2006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[3] S. Wheaton and J. Cleymans, 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J. Phys. G </a:t>
              </a: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31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, S1069 (2005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[4] M. Bleicher et al., 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J. Phys. G </a:t>
              </a: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25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, 1859 (1999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; H.J. Drescher et al., 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hys. Rep. </a:t>
              </a: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350</a:t>
              </a: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, 93 (200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6073920" y="3068640"/>
              <a:ext cx="3070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feed-down: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(1385)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Arial"/>
                  <a:ea typeface="宋体"/>
                </a:rPr>
                <a:t>[2]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: 26%+-5.9%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  <a:ea typeface="宋体"/>
                </a:rPr>
                <a:t>0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: no data available y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THERMUS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Arial"/>
                  <a:ea typeface="宋体"/>
                </a:rPr>
                <a:t>[3]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: 3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String frag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Arial"/>
                  <a:ea typeface="宋体"/>
                </a:rPr>
                <a:t>[4]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宋体"/>
                </a:rPr>
                <a:t>: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26"/>
          <p:cNvSpPr/>
          <p:nvPr/>
        </p:nvSpPr>
        <p:spPr>
          <a:xfrm>
            <a:off x="5934240" y="4586400"/>
            <a:ext cx="28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R. Witt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. Phys. G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, S921 (2007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1914" t="61202" r="36374" b="0"/>
          <a:stretch/>
        </p:blipFill>
        <p:spPr>
          <a:xfrm>
            <a:off x="1187280" y="907920"/>
            <a:ext cx="5472360" cy="48596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6154560" y="2205000"/>
            <a:ext cx="2954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63440" y="100080"/>
            <a:ext cx="88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/d ratio compared with Reco. model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9640" y="568008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ark Reco. model predicted a consistent shape between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/d rati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the hyperon rati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372360" y="2924280"/>
            <a:ext cx="863640" cy="1944720"/>
          </a:xfrm>
          <a:custGeom>
            <a:avLst/>
            <a:gdLst>
              <a:gd name="textAreaLeft" fmla="*/ 0 w 863640"/>
              <a:gd name="textAreaRight" fmla="*/ 311760 w 863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36000" y="3116160"/>
            <a:ext cx="151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ood agreement with the data;</a:t>
            </a:r>
            <a:br>
              <a:rPr sz="1800"/>
            </a:br>
            <a:r>
              <a:rPr b="0" i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Large exp. uncertai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rton freeze-out properties</a:t>
            </a:r>
            <a:endParaRPr b="0" lang="en-US" sz="3600" spc="-1" strike="noStrike">
              <a:solidFill>
                <a:srgbClr val="003366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2095560" y="3754440"/>
                <a:ext cx="762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611280" y="4869000"/>
                <a:ext cx="59054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∝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πρ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[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2" name="Picture 4" descr=""/>
          <p:cNvPicPr/>
          <p:nvPr/>
        </p:nvPicPr>
        <p:blipFill>
          <a:blip r:embed="rId1"/>
          <a:srcRect l="0" t="71443" r="35887" b="0"/>
          <a:stretch/>
        </p:blipFill>
        <p:spPr>
          <a:xfrm>
            <a:off x="539640" y="1052640"/>
            <a:ext cx="5362560" cy="3373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5219640" y="4365720"/>
            <a:ext cx="38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J. Fries et al.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hys. Rev. C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8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,044902 (200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hys. Rev. Lett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,202303 (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32000" y="4365720"/>
            <a:ext cx="42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rmal parton distribution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4"/>
              <p:cNvSpPr txBox="1"/>
              <p:nvPr/>
            </p:nvSpPr>
            <p:spPr>
              <a:xfrm>
                <a:off x="684360" y="5805360"/>
                <a:ext cx="1741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Text Box 17"/>
          <p:cNvSpPr/>
          <p:nvPr/>
        </p:nvSpPr>
        <p:spPr>
          <a:xfrm>
            <a:off x="6156360" y="1484280"/>
            <a:ext cx="259236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radial flow though with large uncertainty involved from the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46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26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5040" y="115560"/>
            <a:ext cx="896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Constraints on the system evolution dynamics</a:t>
            </a:r>
            <a:endParaRPr b="0" lang="en-US" sz="33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1080" y="1071720"/>
            <a:ext cx="8712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tical model for particle production at RHIC typically involve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nitial 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artonic evol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hadro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hadronic evol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tical uncertainties due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adronization sche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adronic evol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issues for quantitative description of properties of QCD medium created at RH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the hadronic evolution process have been added to the hydrodynamic models as an afterburner and have been shown to significantly alter the spectra shapes of ordinary hadron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T. Hirano et al.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hys. Rev. C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77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, 044909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4000" y="51577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our derived quark distributions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representing a cumulative effect from initial conditions through partonic evolution, be used 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 the final-state hadron momentum distribution?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7"/>
          <p:cNvGrpSpPr/>
          <p:nvPr/>
        </p:nvGrpSpPr>
        <p:grpSpPr>
          <a:xfrm>
            <a:off x="166680" y="1055520"/>
            <a:ext cx="8599320" cy="5253120"/>
            <a:chOff x="166680" y="1055520"/>
            <a:chExt cx="8599320" cy="525312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rcRect l="0" t="22044" r="10439" b="0"/>
            <a:stretch/>
          </p:blipFill>
          <p:spPr>
            <a:xfrm>
              <a:off x="4500720" y="1055520"/>
              <a:ext cx="4265280" cy="52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8"/>
            <p:cNvSpPr/>
            <p:nvPr/>
          </p:nvSpPr>
          <p:spPr>
            <a:xfrm>
              <a:off x="166680" y="3573360"/>
              <a:ext cx="4464000" cy="25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iginal version failed to reproduce the spectra dat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sufficiency parton cascading cross sections in the ZPC model where only pQCD processes have been includ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rong choice of hadronization schem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-1296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ynamical model calculation (1)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79280" y="936720"/>
            <a:ext cx="403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ulti-Phase Transport mode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itial condition: H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artonic evolution: Z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Hadronization: coalesc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dronic evolution: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39640" y="299088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Z.W. Lin et al.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hys. Rev. C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72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, 064901 (2005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231840" y="981000"/>
            <a:ext cx="453528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uned the initial parto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stribution inherited from HIJING string melting empirically,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T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th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quirement: the tuned distributions after parton cascade match our derived s/d quark d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alescence scheme: two nearest (in coordinate space) quark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eson while three nearest quark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ary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-1296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ynamical model calculation (2)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526248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 essential ingredient in Reco./Coa. model calculation: the distribution of effective constituent quarks that readily turn into had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9280" y="1125360"/>
            <a:ext cx="8785440" cy="5112000"/>
            <a:chOff x="179280" y="1125360"/>
            <a:chExt cx="8785440" cy="5112000"/>
          </a:xfrm>
        </p:grpSpPr>
        <p:pic>
          <p:nvPicPr>
            <p:cNvPr id="200" name="Picture 5" descr=""/>
            <p:cNvPicPr/>
            <p:nvPr/>
          </p:nvPicPr>
          <p:blipFill>
            <a:blip r:embed="rId1"/>
            <a:srcRect l="0" t="21837" r="10439" b="829"/>
            <a:stretch/>
          </p:blipFill>
          <p:spPr>
            <a:xfrm>
              <a:off x="4781520" y="1125360"/>
              <a:ext cx="418320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9280" y="4516560"/>
              <a:ext cx="41767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t can faithfully reproduce the data at intermediate 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50920" y="981000"/>
            <a:ext cx="8640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analysis provided an empirical confirmation of recombination/ coalescence framework for hadronization of bulk partonic matter produced at RHIC. We derived transverse momentum distributions for effective constituent quarks at hadro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results suggest that partons develop a significant collective radial flow during partonic evolu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lidity of our approach to explore quark transverse-momentum distributions at hadronization has been tested with independent particle rati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approach in complement with the constituent quark number scaling in elliptic flow provides a means to measure quantitative parton distributions at hadro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f. Phys. Rev. C 78 (2008) 0349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Tof-electronic"/>
          <p:cNvPicPr/>
          <p:nvPr/>
        </p:nvPicPr>
        <p:blipFill>
          <a:blip r:embed="rId1"/>
          <a:stretch/>
        </p:blipFill>
        <p:spPr>
          <a:xfrm>
            <a:off x="395280" y="981000"/>
            <a:ext cx="3873600" cy="3700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Tof-dEdx"/>
          <p:cNvPicPr/>
          <p:nvPr/>
        </p:nvPicPr>
        <p:blipFill>
          <a:blip r:embed="rId2"/>
          <a:stretch/>
        </p:blipFill>
        <p:spPr>
          <a:xfrm>
            <a:off x="4716360" y="852480"/>
            <a:ext cx="3816360" cy="300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4932360" y="3933720"/>
            <a:ext cx="403236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/K separation to 1.6 GeV/c   </a:t>
            </a:r>
            <a:r>
              <a:rPr b="0" lang="en-GB" sz="1800" spc="-1" strike="noStrike">
                <a:solidFill>
                  <a:srgbClr val="3333cc"/>
                </a:solidFill>
                <a:latin typeface="Arial Narrow"/>
              </a:rPr>
              <a:t>(0.7 T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+K)/p to 3 GeV/c   </a:t>
            </a:r>
            <a:r>
              <a:rPr b="0" lang="en-GB" sz="1800" spc="-1" strike="noStrike">
                <a:solidFill>
                  <a:srgbClr val="3333cc"/>
                </a:solidFill>
                <a:latin typeface="Arial Narrow"/>
              </a:rPr>
              <a:t>(1.2 T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 Narrow"/>
              </a:rPr>
              <a:t>Clean electron ID down to 0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52360" y="4651200"/>
            <a:ext cx="864072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oF detector upda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 (of 120) ToF trays to be installed for Run 9 and will be completed before Run 10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llow a more precise quantitative measurement of multi-strange hadron production at RH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7880" y="134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utlook: Extend PID Capability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43015" r="33462" b="977"/>
          <a:stretch/>
        </p:blipFill>
        <p:spPr>
          <a:xfrm>
            <a:off x="4932360" y="981000"/>
            <a:ext cx="3938760" cy="4681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62575" r="35887" b="0"/>
          <a:stretch/>
        </p:blipFill>
        <p:spPr>
          <a:xfrm>
            <a:off x="71280" y="1138320"/>
            <a:ext cx="4788000" cy="3946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0920" y="260280"/>
            <a:ext cx="84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Quantify the parton distributions at hadro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5438880"/>
            <a:ext cx="5472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.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xtra slid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3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and Moti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enomena @ RHIC in favor of quark Coalescence/Recombination mechan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ituent quark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tribution at hadroniz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/d quark ratio at hadron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on freeze-out properti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al model calc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and Outloo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deltapT_vs_Coa_Phi_pT"/>
          <p:cNvPicPr/>
          <p:nvPr/>
        </p:nvPicPr>
        <p:blipFill>
          <a:blip r:embed="rId1"/>
          <a:stretch/>
        </p:blipFill>
        <p:spPr>
          <a:xfrm>
            <a:off x="4572000" y="3284640"/>
            <a:ext cx="4464000" cy="298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deltapT_vs_Coa_Omega_pT"/>
          <p:cNvPicPr/>
          <p:nvPr/>
        </p:nvPicPr>
        <p:blipFill>
          <a:blip r:embed="rId2"/>
          <a:stretch/>
        </p:blipFill>
        <p:spPr>
          <a:xfrm>
            <a:off x="316080" y="981000"/>
            <a:ext cx="4255920" cy="2844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71280" y="189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ge quark momentum difference in AMP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303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dependence physical proces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91" name="Group 46"/>
          <p:cNvGrpSpPr/>
          <p:nvPr/>
        </p:nvGrpSpPr>
        <p:grpSpPr>
          <a:xfrm>
            <a:off x="503280" y="4803840"/>
            <a:ext cx="8351640" cy="1333440"/>
            <a:chOff x="503280" y="4803840"/>
            <a:chExt cx="8351640" cy="1333440"/>
          </a:xfrm>
        </p:grpSpPr>
        <p:grpSp>
          <p:nvGrpSpPr>
            <p:cNvPr id="92" name="Group 5"/>
            <p:cNvGrpSpPr/>
            <p:nvPr/>
          </p:nvGrpSpPr>
          <p:grpSpPr>
            <a:xfrm>
              <a:off x="503280" y="4803840"/>
              <a:ext cx="8351640" cy="583920"/>
              <a:chOff x="503280" y="4803840"/>
              <a:chExt cx="8351640" cy="583920"/>
            </a:xfrm>
          </p:grpSpPr>
          <p:sp>
            <p:nvSpPr>
              <p:cNvPr id="93" name="Line 6"/>
              <p:cNvSpPr/>
              <p:nvPr/>
            </p:nvSpPr>
            <p:spPr>
              <a:xfrm>
                <a:off x="647640" y="4875120"/>
                <a:ext cx="804348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7"/>
              <p:cNvSpPr/>
              <p:nvPr/>
            </p:nvSpPr>
            <p:spPr>
              <a:xfrm>
                <a:off x="64764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248256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547200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29528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90656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>
                <a:off x="309564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3"/>
              <p:cNvSpPr/>
              <p:nvPr/>
            </p:nvSpPr>
            <p:spPr>
              <a:xfrm>
                <a:off x="370656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4"/>
              <p:cNvSpPr/>
              <p:nvPr/>
            </p:nvSpPr>
            <p:spPr>
              <a:xfrm>
                <a:off x="485928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5"/>
              <p:cNvSpPr/>
              <p:nvPr/>
            </p:nvSpPr>
            <p:spPr>
              <a:xfrm>
                <a:off x="428292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6"/>
              <p:cNvSpPr/>
              <p:nvPr/>
            </p:nvSpPr>
            <p:spPr>
              <a:xfrm>
                <a:off x="719928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"/>
              <p:cNvSpPr/>
              <p:nvPr/>
            </p:nvSpPr>
            <p:spPr>
              <a:xfrm>
                <a:off x="604836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62436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9"/>
              <p:cNvSpPr/>
              <p:nvPr/>
            </p:nvSpPr>
            <p:spPr>
              <a:xfrm>
                <a:off x="7775280" y="480384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503280" y="5019480"/>
                <a:ext cx="835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        1        2       3        4       5       6       7        8       9      10     11     12   GeV/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3"/>
            <p:cNvGrpSpPr/>
            <p:nvPr/>
          </p:nvGrpSpPr>
          <p:grpSpPr>
            <a:xfrm>
              <a:off x="3132000" y="5769000"/>
              <a:ext cx="5265720" cy="368280"/>
              <a:chOff x="3132000" y="5769000"/>
              <a:chExt cx="5265720" cy="368280"/>
            </a:xfrm>
          </p:grpSpPr>
          <p:sp>
            <p:nvSpPr>
              <p:cNvPr id="109" name="Line 27"/>
              <p:cNvSpPr/>
              <p:nvPr/>
            </p:nvSpPr>
            <p:spPr>
              <a:xfrm>
                <a:off x="3132000" y="5962680"/>
                <a:ext cx="115272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8"/>
              <p:cNvSpPr/>
              <p:nvPr/>
            </p:nvSpPr>
            <p:spPr>
              <a:xfrm>
                <a:off x="3735360" y="5962680"/>
                <a:ext cx="38163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29"/>
              <p:cNvSpPr/>
              <p:nvPr/>
            </p:nvSpPr>
            <p:spPr>
              <a:xfrm>
                <a:off x="7569360" y="576900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cc"/>
                    </a:solidFill>
                    <a:latin typeface="Arial"/>
                  </a:rPr>
                  <a:t>pQC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44"/>
            <p:cNvGrpSpPr/>
            <p:nvPr/>
          </p:nvGrpSpPr>
          <p:grpSpPr>
            <a:xfrm>
              <a:off x="647640" y="5487840"/>
              <a:ext cx="5206320" cy="368280"/>
              <a:chOff x="647640" y="5487840"/>
              <a:chExt cx="5206320" cy="368280"/>
            </a:xfrm>
          </p:grpSpPr>
          <p:sp>
            <p:nvSpPr>
              <p:cNvPr id="113" name="Line 24"/>
              <p:cNvSpPr/>
              <p:nvPr/>
            </p:nvSpPr>
            <p:spPr>
              <a:xfrm>
                <a:off x="647640" y="5740560"/>
                <a:ext cx="126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>
                <a:off x="1908000" y="5740560"/>
                <a:ext cx="1800360" cy="6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6"/>
              <p:cNvSpPr/>
              <p:nvPr/>
            </p:nvSpPr>
            <p:spPr>
              <a:xfrm>
                <a:off x="3765600" y="5740560"/>
                <a:ext cx="126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30"/>
              <p:cNvSpPr/>
              <p:nvPr/>
            </p:nvSpPr>
            <p:spPr>
              <a:xfrm>
                <a:off x="5077440" y="5487840"/>
                <a:ext cx="7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ff0000"/>
                    </a:solidFill>
                    <a:latin typeface="Arial"/>
                  </a:rPr>
                  <a:t>Re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45"/>
            <p:cNvGrpSpPr/>
            <p:nvPr/>
          </p:nvGrpSpPr>
          <p:grpSpPr>
            <a:xfrm>
              <a:off x="647640" y="5343480"/>
              <a:ext cx="2687400" cy="368280"/>
              <a:chOff x="647640" y="5343480"/>
              <a:chExt cx="2687400" cy="368280"/>
            </a:xfrm>
          </p:grpSpPr>
          <p:sp>
            <p:nvSpPr>
              <p:cNvPr id="118" name="Line 22"/>
              <p:cNvSpPr/>
              <p:nvPr/>
            </p:nvSpPr>
            <p:spPr>
              <a:xfrm>
                <a:off x="647640" y="5524560"/>
                <a:ext cx="126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3"/>
              <p:cNvSpPr/>
              <p:nvPr/>
            </p:nvSpPr>
            <p:spPr>
              <a:xfrm>
                <a:off x="1943280" y="5524560"/>
                <a:ext cx="576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2494440" y="5343480"/>
                <a:ext cx="84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Hyd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50"/>
          <p:cNvGrpSpPr/>
          <p:nvPr/>
        </p:nvGrpSpPr>
        <p:grpSpPr>
          <a:xfrm>
            <a:off x="63360" y="923760"/>
            <a:ext cx="4795920" cy="3835440"/>
            <a:chOff x="63360" y="923760"/>
            <a:chExt cx="4795920" cy="3835440"/>
          </a:xfrm>
        </p:grpSpPr>
        <p:grpSp>
          <p:nvGrpSpPr>
            <p:cNvPr id="122" name="Group 48"/>
            <p:cNvGrpSpPr/>
            <p:nvPr/>
          </p:nvGrpSpPr>
          <p:grpSpPr>
            <a:xfrm>
              <a:off x="324000" y="982800"/>
              <a:ext cx="4535280" cy="3238200"/>
              <a:chOff x="324000" y="982800"/>
              <a:chExt cx="4535280" cy="3238200"/>
            </a:xfrm>
          </p:grpSpPr>
          <p:pic>
            <p:nvPicPr>
              <p:cNvPr id="123" name="Picture 4" descr="Rcp_4060_seq_7"/>
              <p:cNvPicPr/>
              <p:nvPr/>
            </p:nvPicPr>
            <p:blipFill>
              <a:blip r:embed="rId1"/>
              <a:srcRect l="9118" t="0" r="8193" b="0"/>
              <a:stretch/>
            </p:blipFill>
            <p:spPr>
              <a:xfrm>
                <a:off x="324000" y="982800"/>
                <a:ext cx="4535280" cy="32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47"/>
              <p:cNvSpPr/>
              <p:nvPr/>
            </p:nvSpPr>
            <p:spPr>
              <a:xfrm>
                <a:off x="1476360" y="1023840"/>
                <a:ext cx="230364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36"/>
            <p:cNvSpPr/>
            <p:nvPr/>
          </p:nvSpPr>
          <p:spPr>
            <a:xfrm>
              <a:off x="1863720" y="1266840"/>
              <a:ext cx="0" cy="3490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7"/>
            <p:cNvSpPr/>
            <p:nvPr/>
          </p:nvSpPr>
          <p:spPr>
            <a:xfrm>
              <a:off x="3708360" y="1268280"/>
              <a:ext cx="0" cy="34909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712800" y="2603520"/>
              <a:ext cx="1065240" cy="3348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9"/>
            <p:cNvSpPr/>
            <p:nvPr/>
          </p:nvSpPr>
          <p:spPr>
            <a:xfrm>
              <a:off x="2036880" y="3108240"/>
              <a:ext cx="1598400" cy="33480"/>
            </a:xfrm>
            <a:prstGeom prst="line">
              <a:avLst/>
            </a:prstGeom>
            <a:ln w="507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0"/>
            <p:cNvSpPr/>
            <p:nvPr/>
          </p:nvSpPr>
          <p:spPr>
            <a:xfrm>
              <a:off x="3780000" y="2349360"/>
              <a:ext cx="1064880" cy="33480"/>
            </a:xfrm>
            <a:prstGeom prst="line">
              <a:avLst/>
            </a:prstGeom>
            <a:ln w="50760">
              <a:solidFill>
                <a:srgbClr val="0000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2"/>
            <p:cNvSpPr/>
            <p:nvPr/>
          </p:nvSpPr>
          <p:spPr>
            <a:xfrm rot="16200000">
              <a:off x="-4320" y="212436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9"/>
            <p:cNvSpPr/>
            <p:nvPr/>
          </p:nvSpPr>
          <p:spPr>
            <a:xfrm>
              <a:off x="798480" y="923760"/>
              <a:ext cx="38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 RunII Au+Au @ 200 G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51"/>
          <p:cNvSpPr/>
          <p:nvPr/>
        </p:nvSpPr>
        <p:spPr>
          <a:xfrm>
            <a:off x="5292720" y="1612800"/>
            <a:ext cx="38512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pendence physical process at RH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focus on the intermediate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gion, and let’s visit the data again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rcRect l="0" t="63033" r="10382" b="0"/>
          <a:stretch/>
        </p:blipFill>
        <p:spPr>
          <a:xfrm>
            <a:off x="1042920" y="1203480"/>
            <a:ext cx="6769080" cy="3954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240" y="268200"/>
            <a:ext cx="8937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riguing phenomena at RHIC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                                ---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arge p/</a:t>
            </a:r>
            <a:r>
              <a:rPr b="0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atio</a:t>
            </a:r>
            <a:endParaRPr b="0" lang="en-US" sz="3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2360" y="5157720"/>
            <a:ext cx="856764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expected large p/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ratio at intermediate p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in central Au+Au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hadronization scheme at RHIC must be different from 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253800"/>
            <a:ext cx="8435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riguing phenomena at RHIC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---- v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2,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C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uping</a:t>
            </a:r>
            <a:endParaRPr b="0" lang="en-US" sz="3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50920" y="4976640"/>
            <a:ext cx="8642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and 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C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measurements for identified particles show a B/M grouping behavior at intermediate p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CQ-scaling, partonic degrees of free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4"/>
          <p:cNvGrpSpPr/>
          <p:nvPr/>
        </p:nvGrpSpPr>
        <p:grpSpPr>
          <a:xfrm>
            <a:off x="108000" y="1557360"/>
            <a:ext cx="4319640" cy="3149640"/>
            <a:chOff x="108000" y="1557360"/>
            <a:chExt cx="4319640" cy="3149640"/>
          </a:xfrm>
        </p:grpSpPr>
        <p:pic>
          <p:nvPicPr>
            <p:cNvPr id="139" name="Picture 7" descr="starv2_02april06_iv_zgkx"/>
            <p:cNvPicPr/>
            <p:nvPr/>
          </p:nvPicPr>
          <p:blipFill>
            <a:blip r:embed="rId1"/>
            <a:srcRect l="0" t="3844" r="3649" b="3844"/>
            <a:stretch/>
          </p:blipFill>
          <p:spPr>
            <a:xfrm>
              <a:off x="108000" y="1557360"/>
              <a:ext cx="4319640" cy="31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2"/>
            <p:cNvSpPr/>
            <p:nvPr/>
          </p:nvSpPr>
          <p:spPr>
            <a:xfrm>
              <a:off x="3348000" y="214632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CQ=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3117960" y="262260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CQ=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"/>
          <p:cNvPicPr/>
          <p:nvPr/>
        </p:nvPicPr>
        <p:blipFill>
          <a:blip r:embed="rId2"/>
          <a:srcRect l="955" t="68294" r="37334" b="0"/>
          <a:stretch/>
        </p:blipFill>
        <p:spPr>
          <a:xfrm>
            <a:off x="4498920" y="1589040"/>
            <a:ext cx="4321080" cy="31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198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can we learn from those phenomena?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95280" y="907920"/>
            <a:ext cx="8209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HIC intriguing experimental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enhanced baryon over meson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trong elliptic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B/M type grouping behavior of 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nd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CP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for indentified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adronization of bulk dense matter created at RHIC must be different from 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llis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vidence for quark Coal/Rec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19240" y="3703680"/>
            <a:ext cx="87454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sential degrees of freedom at hadronization seem to be effective constituent quarks that have develop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lective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the partonic evolutio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nq represents the constituent quark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what about the constituent quark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strib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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: large resonance decay and hadronic re-scattering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r approach is made possible because of high stat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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asur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cus on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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pic>
        <p:nvPicPr>
          <p:cNvPr id="147" name="Picture 3" descr="OmegaPhiRatioPP31Jan07"/>
          <p:cNvPicPr/>
          <p:nvPr/>
        </p:nvPicPr>
        <p:blipFill>
          <a:blip r:embed="rId1"/>
          <a:srcRect l="2380" t="2723" r="2380" b="0"/>
          <a:stretch/>
        </p:blipFill>
        <p:spPr>
          <a:xfrm>
            <a:off x="179280" y="1276200"/>
            <a:ext cx="3816360" cy="3665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144360" y="4941720"/>
            <a:ext cx="8820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 mostly from bulk s quar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lk s quarks have collectiv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act the s quarks 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distributions from high sta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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rcRect l="0" t="63251" r="36374" b="0"/>
          <a:stretch/>
        </p:blipFill>
        <p:spPr>
          <a:xfrm>
            <a:off x="4067280" y="1209600"/>
            <a:ext cx="4751280" cy="3875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2640240" y="90792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 RunIV Au+Au @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on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distributions at hadronization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3348000" y="2563920"/>
                <a:ext cx="20606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Ξ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Text Box 4"/>
          <p:cNvSpPr/>
          <p:nvPr/>
        </p:nvSpPr>
        <p:spPr>
          <a:xfrm>
            <a:off x="108000" y="1017720"/>
            <a:ext cx="8893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aryons o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ostly formed from coalescence of partons a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3 and mesons o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ostly formed from coalescence of partons a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2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[1,2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79280" y="4905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particles have no decay feed-down con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se particles will freeze-out earlier from the system and have small hadronic re-scattering cross sec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364000" y="1895400"/>
            <a:ext cx="3600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1] R.C. Hwa et al., </a:t>
            </a: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hys. Rev. C 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66</a:t>
            </a: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, 025205 (2002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2] V. Greco et al.,  </a:t>
            </a: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hys. Rev. Lett. 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, 202302 (2003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3] R.J. Fries et al., </a:t>
            </a: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hys. Rev. Lett. 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, 202303 (200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0"/>
          <p:cNvGrpSpPr/>
          <p:nvPr/>
        </p:nvGrpSpPr>
        <p:grpSpPr>
          <a:xfrm>
            <a:off x="108000" y="851040"/>
            <a:ext cx="8856720" cy="5891040"/>
            <a:chOff x="108000" y="851040"/>
            <a:chExt cx="8856720" cy="5891040"/>
          </a:xfrm>
        </p:grpSpPr>
        <p:pic>
          <p:nvPicPr>
            <p:cNvPr id="157" name="Picture 9" descr=""/>
            <p:cNvPicPr/>
            <p:nvPr/>
          </p:nvPicPr>
          <p:blipFill>
            <a:blip r:embed="rId1"/>
            <a:srcRect l="0" t="43032" r="34421" b="1100"/>
            <a:stretch/>
          </p:blipFill>
          <p:spPr>
            <a:xfrm>
              <a:off x="108000" y="851040"/>
              <a:ext cx="4897440" cy="58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19"/>
            <p:cNvSpPr/>
            <p:nvPr/>
          </p:nvSpPr>
          <p:spPr>
            <a:xfrm>
              <a:off x="5219640" y="1413000"/>
              <a:ext cx="3745080" cy="26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The constitute quark p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Arial"/>
                </a:rPr>
                <a:t>T  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distributions have been extracted from the multi-strange data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cc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The s-quark shows a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Arial"/>
                </a:rPr>
                <a:t>flatter p</a:t>
              </a:r>
              <a:r>
                <a:rPr b="1" i="1" lang="en-US" sz="2000" spc="-1" strike="noStrike" baseline="-25000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distribution than the d-quar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913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nge and light quark distribution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5291280" y="1125360"/>
            <a:ext cx="3601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1"/>
          <p:cNvGrpSpPr/>
          <p:nvPr/>
        </p:nvGrpSpPr>
        <p:grpSpPr>
          <a:xfrm>
            <a:off x="108000" y="907920"/>
            <a:ext cx="8966160" cy="5904000"/>
            <a:chOff x="108000" y="907920"/>
            <a:chExt cx="8966160" cy="5904000"/>
          </a:xfrm>
        </p:grpSpPr>
        <p:sp>
          <p:nvSpPr>
            <p:cNvPr id="162" name="Rectangle 12"/>
            <p:cNvSpPr/>
            <p:nvPr/>
          </p:nvSpPr>
          <p:spPr>
            <a:xfrm>
              <a:off x="5219640" y="4365720"/>
              <a:ext cx="38545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3333cc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The s-quark and d-quark have a similar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Arial"/>
                </a:rPr>
                <a:t>KE</a:t>
              </a:r>
              <a:r>
                <a:rPr b="1" i="1" lang="en-US" sz="2000" spc="-1" strike="noStrike" baseline="-25000">
                  <a:solidFill>
                    <a:srgbClr val="3333cc"/>
                  </a:solidFill>
                  <a:latin typeface="Arial"/>
                </a:rPr>
                <a:t>T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Arial"/>
                </a:rPr>
                <a:t>distribution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: partons have undergone a partonic evolution possibly described by hydrodynamics.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6" descr=""/>
            <p:cNvPicPr/>
            <p:nvPr/>
          </p:nvPicPr>
          <p:blipFill>
            <a:blip r:embed="rId2"/>
            <a:srcRect l="0" t="43708" r="34421" b="300"/>
            <a:stretch/>
          </p:blipFill>
          <p:spPr>
            <a:xfrm>
              <a:off x="108000" y="907920"/>
              <a:ext cx="4897440" cy="590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5:10:09Z</dcterms:created>
  <dc:creator>Jin-Hui Chen</dc:creator>
  <dc:description/>
  <dc:language>en-US</dc:language>
  <cp:lastModifiedBy>jhchen</cp:lastModifiedBy>
  <dcterms:modified xsi:type="dcterms:W3CDTF">2008-10-14T02:24:24Z</dcterms:modified>
  <cp:revision>1993</cp:revision>
  <dc:subject/>
  <dc:title>Slide 1</dc:title>
</cp:coreProperties>
</file>