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F45-22AA-4626-859F-F8931EB406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non-central nucleus-nucleus collisions, the initial overlap zone is an almon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is eccentricity makes the pressure gradient larger in in-plane direction in coordinat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t drive the overlap zone expand along in-plane direction. So the final transverse-momentum distrib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-plane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fact , what we observed up to now  is only the second coefficient of Fourier expansion of azimuthal distrib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t describes the anisotropic distribution of transverse moment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uch a dis. is supposed to be dr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this global measure itself is not able to tell if this pressure gradient is the only driver of anisotropic dis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it does not contain the information of  intrinsic interactions of the formed ma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v-2  is insufficient in judging whether the formed matter behaves like hydrodynamic flow or no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use AMPT with string melting as an example, where the initial geometry is describ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mmonly used Glauber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65D-A00E-4CDA-9D57-25A2E018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E1E-A88E-4770-8EF6-ACB239B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653-9C0E-49B4-882A-8502DD73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665-10B7-4B70-A0B1-6DF2E9C4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B39-5914-4386-B0DC-4FB5741A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FCF-B081-495C-B212-8D5E99F2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CCA-9D5A-4714-BBB5-94C54286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B0C-92A4-474A-AA22-79A42832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BE6-1AA7-4004-A1DF-8807998B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3FC-71B8-47E0-B701-97E4FC0C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60A-6A46-4C3A-8F61-A477CDD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846-DAE1-4389-9DE7-BECA5B8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33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00"/>
                </a:solidFill>
                <a:latin typeface="Arial"/>
              </a:rPr>
              <a:t>&lt;date/time&gt;</a:t>
            </a:r>
            <a:r>
              <a:rPr b="1" lang="zh-CN" sz="1400" spc="-1" strike="noStrike">
                <a:solidFill>
                  <a:srgbClr val="336600"/>
                </a:solidFill>
                <a:latin typeface="Arial"/>
              </a:rPr>
              <a:t>2008.10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336600"/>
                </a:solidFill>
                <a:latin typeface="Bauhaus 9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00"/>
                </a:solidFill>
                <a:latin typeface="Bauhaus 93"/>
              </a:rPr>
              <a:t>&lt;footer&gt;</a:t>
            </a:r>
            <a:r>
              <a:rPr b="1" lang="zh-CN" sz="1600" spc="-1" strike="noStrike">
                <a:solidFill>
                  <a:srgbClr val="336600"/>
                </a:solidFill>
                <a:latin typeface="Bauhaus 93"/>
              </a:rPr>
              <a:t>ATHIC’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33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F97-A41F-48FF-B024-BE2D0D237930}" type="slidenum">
              <a:rPr b="1" lang="zh-CN" sz="1600" spc="-1" strike="noStrike">
                <a:solidFill>
                  <a:srgbClr val="3366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333360"/>
            <a:ext cx="8712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nisotropic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amp;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ultiplic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relativistic heavy  ion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341360"/>
            <a:ext cx="8856720" cy="0"/>
          </a:xfrm>
          <a:prstGeom prst="line">
            <a:avLst/>
          </a:prstGeom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41300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1484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Wang Meijuan  &amp; Wu Yuanf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492280"/>
            <a:ext cx="6264360" cy="285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sotropic flow and multiplicity at fixed impact parameter in A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. Initial eccentricity and multiplicity at fixed b in A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Summary and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920" y="1844640"/>
            <a:ext cx="6121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Times New Roman"/>
              </a:rPr>
              <a:t>IOPP, Huazhong Normal University, Wuhan, Chin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0EF-CEA1-4C8A-B2E4-40428F41B6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2557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951280" cy="576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1. Motivation:</a:t>
            </a:r>
            <a:r>
              <a:rPr b="1" lang="en-US" sz="3200" spc="-1" strike="noStrike">
                <a:solidFill>
                  <a:srgbClr val="000000"/>
                </a:solidFill>
                <a:latin typeface="Franklin Gothic Medium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08000" y="692280"/>
            <a:ext cx="3600360" cy="423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★ 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Anisotropic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620640"/>
            <a:ext cx="8640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79280" y="6237360"/>
            <a:ext cx="8856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221000"/>
            <a:ext cx="5472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sotropic flow parameter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oordinate-space-anisotropy    </a:t>
            </a:r>
            <a:r>
              <a:rPr b="1" lang="en-US" sz="2000" spc="-1" strike="noStrike">
                <a:solidFill>
                  <a:srgbClr val="a50021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momentum-space-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32000" y="1773360"/>
            <a:ext cx="2199240" cy="1872720"/>
            <a:chOff x="1332000" y="1773360"/>
            <a:chExt cx="2199240" cy="1872720"/>
          </a:xfrm>
        </p:grpSpPr>
        <p:sp>
          <p:nvSpPr>
            <p:cNvPr id="62" name=""/>
            <p:cNvSpPr/>
            <p:nvPr/>
          </p:nvSpPr>
          <p:spPr>
            <a:xfrm>
              <a:off x="1332000" y="2442240"/>
              <a:ext cx="1233720" cy="1202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55440" y="2442240"/>
              <a:ext cx="1233720" cy="12024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68920" y="1773360"/>
              <a:ext cx="2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llGothic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3960" y="273744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llGothic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53640" y="2453040"/>
              <a:ext cx="674280" cy="119304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6600"/>
                </a:gs>
                <a:gs pos="100000">
                  <a:srgbClr val="00cc00"/>
                </a:gs>
              </a:gsLst>
              <a:lin ang="10800000"/>
            </a:gradFill>
            <a:ln w="9360">
              <a:solidFill>
                <a:srgbClr val="00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95280" y="3055680"/>
              <a:ext cx="113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195280" y="2131200"/>
              <a:ext cx="108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075280" y="1699560"/>
            <a:ext cx="2927160" cy="1970280"/>
            <a:chOff x="5075280" y="1699560"/>
            <a:chExt cx="2927160" cy="1970280"/>
          </a:xfrm>
        </p:grpSpPr>
        <p:sp>
          <p:nvSpPr>
            <p:cNvPr id="70" name=""/>
            <p:cNvSpPr/>
            <p:nvPr/>
          </p:nvSpPr>
          <p:spPr>
            <a:xfrm rot="16203000">
              <a:off x="5804280" y="2385000"/>
              <a:ext cx="650880" cy="1268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132240" y="2033640"/>
              <a:ext cx="1800" cy="9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30800" y="2994120"/>
              <a:ext cx="1405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">
              <a:off x="5988240" y="1700280"/>
              <a:ext cx="365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llGothic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BellGothic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32400">
              <a:off x="7455960" y="2673360"/>
              <a:ext cx="544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llGothic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BellGothic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8235000">
              <a:off x="5236200" y="3314520"/>
              <a:ext cx="328680" cy="74880"/>
            </a:xfrm>
            <a:custGeom>
              <a:avLst/>
              <a:gdLst>
                <a:gd name="textAreaLeft" fmla="*/ 51120 w 328680"/>
                <a:gd name="textAreaRight" fmla="*/ 287640 w 328680"/>
                <a:gd name="textAreaTop" fmla="*/ 18720 h 74880"/>
                <a:gd name="textAreaBottom" fmla="*/ 5616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2568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194800">
              <a:off x="6693840" y="3305160"/>
              <a:ext cx="287640" cy="74520"/>
            </a:xfrm>
            <a:custGeom>
              <a:avLst/>
              <a:gdLst>
                <a:gd name="textAreaLeft" fmla="*/ 45000 w 287640"/>
                <a:gd name="textAreaRight" fmla="*/ 252000 w 287640"/>
                <a:gd name="textAreaTop" fmla="*/ 18720 h 74520"/>
                <a:gd name="textAreaBottom" fmla="*/ 561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8604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3404000">
              <a:off x="5319720" y="2603160"/>
              <a:ext cx="326880" cy="74520"/>
            </a:xfrm>
            <a:custGeom>
              <a:avLst/>
              <a:gdLst>
                <a:gd name="textAreaLeft" fmla="*/ 51120 w 326880"/>
                <a:gd name="textAreaRight" fmla="*/ 286200 w 326880"/>
                <a:gd name="textAreaTop" fmla="*/ 18720 h 74520"/>
                <a:gd name="textAreaBottom" fmla="*/ 561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1899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148200">
              <a:off x="5627880" y="2468520"/>
              <a:ext cx="303480" cy="101880"/>
            </a:xfrm>
            <a:custGeom>
              <a:avLst/>
              <a:gdLst>
                <a:gd name="textAreaLeft" fmla="*/ 47160 w 303480"/>
                <a:gd name="textAreaRight" fmla="*/ 265680 w 303480"/>
                <a:gd name="textAreaTop" fmla="*/ 25560 h 101880"/>
                <a:gd name="textAreaBottom" fmla="*/ 76680 h 10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1725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924600">
              <a:off x="6654240" y="2625480"/>
              <a:ext cx="382680" cy="77760"/>
            </a:xfrm>
            <a:custGeom>
              <a:avLst/>
              <a:gdLst>
                <a:gd name="textAreaLeft" fmla="*/ 59760 w 382680"/>
                <a:gd name="textAreaRight" fmla="*/ 335160 w 382680"/>
                <a:gd name="textAreaTop" fmla="*/ 19440 h 77760"/>
                <a:gd name="textAreaBottom" fmla="*/ 5832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1347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5363400">
              <a:off x="6016680" y="3485520"/>
              <a:ext cx="244440" cy="90360"/>
            </a:xfrm>
            <a:custGeom>
              <a:avLst/>
              <a:gdLst>
                <a:gd name="textAreaLeft" fmla="*/ 38160 w 244440"/>
                <a:gd name="textAreaRight" fmla="*/ 213840 w 244440"/>
                <a:gd name="textAreaTop" fmla="*/ 22680 h 90360"/>
                <a:gd name="textAreaBottom" fmla="*/ 68040 h 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543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4600">
              <a:off x="6831000" y="2979360"/>
              <a:ext cx="384120" cy="76320"/>
            </a:xfrm>
            <a:custGeom>
              <a:avLst/>
              <a:gdLst>
                <a:gd name="textAreaLeft" fmla="*/ 59760 w 384120"/>
                <a:gd name="textAreaRight" fmla="*/ 336240 w 384120"/>
                <a:gd name="textAreaTop" fmla="*/ 19080 h 76320"/>
                <a:gd name="textAreaBottom" fmla="*/ 5724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107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3817200">
              <a:off x="6376320" y="3487680"/>
              <a:ext cx="281160" cy="74520"/>
            </a:xfrm>
            <a:custGeom>
              <a:avLst/>
              <a:gdLst>
                <a:gd name="textAreaLeft" fmla="*/ 43920 w 281160"/>
                <a:gd name="textAreaRight" fmla="*/ 246240 w 281160"/>
                <a:gd name="textAreaTop" fmla="*/ 18720 h 74520"/>
                <a:gd name="textAreaBottom" fmla="*/ 561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6984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7343000">
              <a:off x="6323400" y="2478600"/>
              <a:ext cx="317520" cy="109440"/>
            </a:xfrm>
            <a:custGeom>
              <a:avLst/>
              <a:gdLst>
                <a:gd name="textAreaLeft" fmla="*/ 49320 w 317520"/>
                <a:gd name="textAreaRight" fmla="*/ 277920 w 317520"/>
                <a:gd name="textAreaTop" fmla="*/ 27360 h 109440"/>
                <a:gd name="textAreaBottom" fmla="*/ 82080 h 1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1506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68400">
              <a:off x="5076000" y="2952360"/>
              <a:ext cx="369720" cy="101520"/>
            </a:xfrm>
            <a:custGeom>
              <a:avLst/>
              <a:gdLst>
                <a:gd name="textAreaLeft" fmla="*/ 57600 w 369720"/>
                <a:gd name="textAreaRight" fmla="*/ 323640 w 369720"/>
                <a:gd name="textAreaTop" fmla="*/ 25200 h 101520"/>
                <a:gd name="textAreaBottom" fmla="*/ 7632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21534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097400">
              <a:off x="6000120" y="2464560"/>
              <a:ext cx="243000" cy="87480"/>
            </a:xfrm>
            <a:custGeom>
              <a:avLst/>
              <a:gdLst>
                <a:gd name="textAreaLeft" fmla="*/ 37800 w 243000"/>
                <a:gd name="textAreaRight" fmla="*/ 212760 w 243000"/>
                <a:gd name="textAreaTop" fmla="*/ 21600 h 87480"/>
                <a:gd name="textAreaBottom" fmla="*/ 658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16302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601200">
              <a:off x="5617080" y="3475800"/>
              <a:ext cx="290520" cy="85680"/>
            </a:xfrm>
            <a:custGeom>
              <a:avLst/>
              <a:gdLst>
                <a:gd name="textAreaLeft" fmla="*/ 45360 w 290520"/>
                <a:gd name="textAreaRight" fmla="*/ 254520 w 290520"/>
                <a:gd name="textAreaTop" fmla="*/ 21240 h 85680"/>
                <a:gd name="textAreaBottom" fmla="*/ 6444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4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340000" y="4797360"/>
                <a:ext cx="5033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d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ϕ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554400" y="3716280"/>
            <a:ext cx="34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t-of-plan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9840" y="3716280"/>
            <a:ext cx="29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-plan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5589720"/>
            <a:ext cx="73454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supposed to be mainly due to initial eccentricity.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500280"/>
            <a:ext cx="914400" cy="914400"/>
          </a:xfrm>
          <a:prstGeom prst="donut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56400" y="1773360"/>
            <a:ext cx="3056760" cy="398880"/>
            <a:chOff x="3056400" y="1773360"/>
            <a:chExt cx="3056760" cy="398880"/>
          </a:xfrm>
        </p:grpSpPr>
        <p:sp>
          <p:nvSpPr>
            <p:cNvPr id="93" name=""/>
            <p:cNvSpPr/>
            <p:nvPr/>
          </p:nvSpPr>
          <p:spPr>
            <a:xfrm>
              <a:off x="3203640" y="1922400"/>
              <a:ext cx="144360" cy="1425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56400" y="1773360"/>
              <a:ext cx="30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Z : beam dir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E2A-870B-4CAF-9317-3BFE5B175A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8000" y="62064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23736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201080" cy="258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189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8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59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1.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1497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 mid-central collisions, elliptic flow has its maximum value, where the spatial anisotropy of the overlap region is the larg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90792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08000" y="765000"/>
            <a:ext cx="7704000" cy="7520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★ 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Anisotropic flow,  impact parameter &amp; multip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5084640"/>
            <a:ext cx="7848720" cy="952200"/>
          </a:xfrm>
          <a:prstGeom prst="rect">
            <a:avLst/>
          </a:prstGeom>
          <a:solidFill>
            <a:srgbClr val="ffff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the multiplicity dependence of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pletely ow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geometrical eccentricity, or impact para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41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For Au + Au collisions at 200 GeV from AMPT with string me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57D-6AD9-45FC-88F9-DE4BC890BA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8000" y="62064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623736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89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8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8900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2. Anisotropic flow and multiplicity at fixed impact parameter in A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08000" y="765000"/>
            <a:ext cx="8424720" cy="7974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★ 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Multiplity dependence of v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Bradley Hand ITC TT-Bold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 at fixed impact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307" t="0" r="5252" b="2591"/>
          <a:stretch/>
        </p:blipFill>
        <p:spPr>
          <a:xfrm>
            <a:off x="108000" y="1844640"/>
            <a:ext cx="5113440" cy="244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4365720"/>
            <a:ext cx="8642160" cy="1657080"/>
          </a:xfrm>
          <a:prstGeom prst="rect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☞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f Npart is further fixe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e v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still increases with Nch  at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=8fm and b=12fm.  This may be understandable as the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ch comes from more binary coll. and  lead to the stronger anisotropy.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341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For Au + Au collisions at 200 GeV from AMPT with string me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1989000"/>
            <a:ext cx="3780000" cy="1857600"/>
          </a:xfrm>
          <a:prstGeom prst="rect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☞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v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change with multipl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onotonically at fixed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☞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v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Arial"/>
                <a:ea typeface="Arial Unicode MS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 depends differently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Nch at different b.</a:t>
            </a:r>
            <a:r>
              <a:rPr b="1" lang="zh-CN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2A6-CA6B-437C-A123-8EA7C7F89B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62064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23736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89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8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5724360" cy="281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98100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221000"/>
            <a:ext cx="8352000" cy="139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nisotropic flow depends on the number of partici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t fixed impact parameter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ifferently for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impact parameters. This is the same as N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Arial"/>
              </a:rPr>
              <a:t>ch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depend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8900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2. Anisotropic flow and multiplicity at fixed impact parameter in A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08000" y="765000"/>
            <a:ext cx="8424720" cy="4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★ 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Bradley Hand ITC TT-Bold"/>
              </a:rPr>
              <a:t>part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 dependence of v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Bradley Hand ITC TT-Bold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 at fixed impact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187-0C70-465D-A62E-29902DDD8D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8000" y="62064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630864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89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8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98100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95280" y="765000"/>
            <a:ext cx="4176720" cy="423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★ 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The initial eccentric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68360" y="1628640"/>
          <a:ext cx="432144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628640"/>
                    <a:ext cx="4321440" cy="1171800"/>
                  </a:xfrm>
                  <a:prstGeom prst="rect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258920" y="3500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M. L. Miller, K. Reygers, S. J. Sanders, P. Steinberg, PRC77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14906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115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3. The initial eccentricity and multiplicity at fixe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E7A-54A0-400A-8A5B-CB72BD396F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8000" y="62064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630864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89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8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4535280" cy="2146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48360" y="1197000"/>
            <a:ext cx="3816360" cy="2305080"/>
          </a:xfrm>
          <a:prstGeom prst="rect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☞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Initial eccentricity alw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decrease with Nch at diff.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itial eccentricity al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ont.  at diff. b and N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☞</a:t>
            </a: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Initial eccentricity al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decrease with N</a:t>
            </a:r>
            <a:r>
              <a:rPr b="1" lang="zh-CN" sz="1800" spc="-1" strike="noStrike" baseline="-25000">
                <a:solidFill>
                  <a:srgbClr val="336600"/>
                </a:solidFill>
                <a:latin typeface="Arial"/>
              </a:rPr>
              <a:t>part</a:t>
            </a: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 at diff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3573360"/>
            <a:ext cx="3456000" cy="10087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e Nch dependence of initial eccentricity is diff. from that of  elliptic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115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3. The initial eccentricity and multiplicity at fixe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824360" cy="2049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79280" y="692280"/>
            <a:ext cx="7777440" cy="4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★ 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Eccentricity,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Bradley Hand ITC TT-Bold"/>
              </a:rPr>
              <a:t>part</a:t>
            </a:r>
            <a:r>
              <a:rPr b="1" lang="fr-FR" sz="2400" spc="-1" strike="noStrike">
                <a:solidFill>
                  <a:srgbClr val="000000"/>
                </a:solidFill>
                <a:latin typeface="Bradley Hand ITC TT-Bold"/>
              </a:rPr>
              <a:t> and multiplicity at fixed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4724280"/>
            <a:ext cx="3960720" cy="131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nisotropic  flow  is not completely determined by the initial eccentricity of overlap zon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320-EBC9-442A-895D-7798C6329C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8000" y="62064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6237360"/>
            <a:ext cx="88567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89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8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1592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d8ffb"/>
                </a:solidFill>
                <a:latin typeface="Arial"/>
              </a:rPr>
              <a:t>4. Summary and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692280"/>
            <a:ext cx="8137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33"/>
                </a:solidFill>
                <a:latin typeface="Arial"/>
                <a:ea typeface="Arial"/>
              </a:rPr>
              <a:t>In AMPT with string melting, we show tha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Arial"/>
                <a:ea typeface="Arial"/>
              </a:rPr>
              <a:t>● </a:t>
            </a:r>
            <a:r>
              <a:rPr b="1" lang="zh-CN" sz="2000" spc="-1" strike="noStrike">
                <a:solidFill>
                  <a:srgbClr val="336600"/>
                </a:solidFill>
                <a:latin typeface="Arial"/>
              </a:rPr>
              <a:t>At fixed impact parameter, the anisotropic flow still changes monotonically with N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"/>
              </a:rPr>
              <a:t>●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"/>
              </a:rPr>
              <a:t>Initial eccentricity always decrease with multiplicity, </a:t>
            </a:r>
            <a:r>
              <a:rPr b="1" lang="zh-CN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Arial"/>
              </a:rPr>
              <a:t>in contrary to the multiplicity dependence of anisotropic f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Arial"/>
              </a:rPr>
              <a:t>●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The multiplicity dependence of v</a:t>
            </a:r>
            <a:r>
              <a:rPr b="1" lang="zh-CN" sz="20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 does not completely own to initial eccentricity. Late expansion and interactions contribute to anisotropic flow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is complicated situation should be taken into account in the further investigation of anisotropic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>
            <a:off x="5796000" y="4869000"/>
            <a:ext cx="2952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Thanks/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谢 谢 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7F1-22E8-4635-BAB2-09F0234F5F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3:16:47Z</dcterms:created>
  <dc:creator>meijuan</dc:creator>
  <dc:description/>
  <dc:language>en-US</dc:language>
  <cp:lastModifiedBy>sdfssd</cp:lastModifiedBy>
  <dcterms:modified xsi:type="dcterms:W3CDTF">2008-10-13T07:37:55Z</dcterms:modified>
  <cp:revision>11</cp:revision>
  <dc:subject/>
  <dc:title>幻灯片 1</dc:title>
</cp:coreProperties>
</file>