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1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35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810-765B-441C-B076-1B360523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atic error on dN/dy ~ 10 %, similar on v2 and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6B85-6F3A-4A96-BB8D-3024D093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58D3-407E-4D58-8BBC-C4D7E213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5A1-956D-42A3-8314-8ED0E3A9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B2A-1099-4EC5-9E5B-6E48F319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ADD-5761-46AF-9A35-2E69EAD7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C1D-9068-44C6-A557-AF8DAB8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0440-9A5B-4963-B2EA-D5AD3420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3FD-3689-4CA2-9CB1-3F30DB4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71B7-0EB9-4565-A9D7-9B91C932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9D47-FB15-4C18-9275-527FB09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8D80-C73F-4267-A3A6-C05FAA6F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4A5-6A50-4701-A429-341D84F7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8657-334F-43BA-A93B-DC904BF3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BC4-83DD-4DA2-844A-6086F1D7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E424-B626-4C23-99EE-461E4A8A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48F1-D90A-48DE-962A-E4DEA185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652-1B0E-4FAB-9D0E-D1418C2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538-447E-46D6-842B-506808A6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1FB-D0E0-4136-A793-56435CE6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FC9-FBEC-4C7F-BFEF-2874E274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5B0-ABC7-46BE-9396-B5E2E02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3F7-8703-4664-8E4F-00A2C8D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7B3-CED9-4C99-BE05-ECDD89D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3A0-BAF4-4640-91E8-1E74B1F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534-1AD0-4FE7-BFEA-107AE91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35C-A541-4E1F-A51F-29FF134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cc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DE2D-217B-41B3-A379-7BF586E9B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_0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94F8-F768-48BE-AD07-90F8731B934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cc"/>
              </a:buClr>
              <a:buFont typeface="Arial"/>
              <a:buChar char="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30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29960" y="765000"/>
            <a:ext cx="67676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ahoma"/>
              </a:rPr>
              <a:t>Systematic Study of Elliptic Flow at RHIC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584160" y="3068280"/>
            <a:ext cx="453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aya SHIMOMURA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University of Tsukuba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286240"/>
            <a:ext cx="338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HIC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niversity of Tsukuba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October 13-1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2880" y="6021360"/>
            <a:ext cx="201636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12520" y="259920"/>
            <a:ext cx="48942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52160" y="1384200"/>
            <a:ext cx="2879640" cy="749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62.4 and 200 GeV 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21240" y="1201680"/>
            <a:ext cx="5168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pendence of centrality (N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mpare the results in Cu + Cu which is smaller collision size than  Au+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comparison of PID hadrons. pi/K/p </a:t>
            </a:r>
            <a:r>
              <a:rPr b="1" lang="en-US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xt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28880" y="5769000"/>
            <a:ext cx="5976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200GeV and 62GeV are consisten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995400" y="2867040"/>
            <a:ext cx="3525840" cy="2728800"/>
            <a:chOff x="995400" y="2867040"/>
            <a:chExt cx="3525840" cy="272880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995400" y="2867040"/>
              <a:ext cx="352584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641600" y="3074760"/>
              <a:ext cx="259236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311800" y="2900520"/>
            <a:ext cx="3529080" cy="2695320"/>
            <a:chOff x="5311800" y="2900520"/>
            <a:chExt cx="3529080" cy="269532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5311800" y="2900520"/>
              <a:ext cx="352908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959440" y="3074760"/>
              <a:ext cx="259236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639800" y="3076560"/>
            <a:ext cx="1297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5240" y="26449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53240" y="263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152880" y="3094200"/>
            <a:ext cx="1152360" cy="709200"/>
            <a:chOff x="3152880" y="3094200"/>
            <a:chExt cx="1152360" cy="709200"/>
          </a:xfrm>
        </p:grpSpPr>
        <p:sp>
          <p:nvSpPr>
            <p:cNvPr id="338" name=""/>
            <p:cNvSpPr/>
            <p:nvPr/>
          </p:nvSpPr>
          <p:spPr>
            <a:xfrm>
              <a:off x="3152880" y="3094200"/>
              <a:ext cx="1152360" cy="70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0-4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32440" y="3612240"/>
              <a:ext cx="119160" cy="1314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32440" y="3133800"/>
              <a:ext cx="119160" cy="12672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32440" y="3389400"/>
              <a:ext cx="119160" cy="126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545240" y="3251160"/>
            <a:ext cx="1152360" cy="477720"/>
            <a:chOff x="7545240" y="3251160"/>
            <a:chExt cx="1152360" cy="477720"/>
          </a:xfrm>
        </p:grpSpPr>
        <p:sp>
          <p:nvSpPr>
            <p:cNvPr id="343" name=""/>
            <p:cNvSpPr/>
            <p:nvPr/>
          </p:nvSpPr>
          <p:spPr>
            <a:xfrm>
              <a:off x="7545240" y="3251160"/>
              <a:ext cx="1152360" cy="47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4440" y="3520800"/>
              <a:ext cx="119160" cy="1317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4440" y="3298680"/>
              <a:ext cx="119160" cy="12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961240" y="3095640"/>
            <a:ext cx="129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568520" y="2610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5889600" y="261000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863800" y="37609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184880" y="3689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EA6-5053-477E-858A-40FD9B1979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889600" y="3159000"/>
            <a:ext cx="3959280" cy="2478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289080" y="1701720"/>
            <a:ext cx="5313240" cy="2836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14680" y="115560"/>
            <a:ext cx="475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8520" y="5084280"/>
            <a:ext cx="5688000" cy="100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collision energy has larger v2 up to RHIC energy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ve 62.4 GeV, 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saturated.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his indicates the matter reached thermal equilibrium state at RHIC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176880" y="690480"/>
            <a:ext cx="3673440" cy="2625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50080" y="981000"/>
            <a:ext cx="127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: neg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e: pos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201240" y="13953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9161280" y="1326960"/>
            <a:ext cx="76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oduc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107120" y="403200"/>
            <a:ext cx="12463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an p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28880" y="1557360"/>
            <a:ext cx="21589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41600" y="765000"/>
            <a:ext cx="3671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d hadron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/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pendenc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201240" y="191628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7600" y="4413240"/>
            <a:ext cx="5256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lt;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gt; of 62.4 GeV and 200 GeV are consistent within errors on pi/K/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ｐ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herefore v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agree at any 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egion in fig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228240" y="2276640"/>
                <a:ext cx="188640" cy="18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4017960" y="177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704880" y="160344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961240" y="5646600"/>
            <a:ext cx="408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E09-765A-48AF-9792-6F4FFFB542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12520" y="1133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29960" y="2565000"/>
            <a:ext cx="5110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Eccentricity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4880" y="371628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change the size of collision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es of collision nucleus (Au+Au ,Cu+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C28-A752-446B-A629-6ECB6E5E69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4030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397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736-0E38-487C-850E-E3529C9D12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762-5DA2-46BA-BC41-7834B6F0EA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064-FD7F-41E7-86B8-8387463824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28880" y="5445000"/>
            <a:ext cx="56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not constant and it shades depending o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28880" y="5967360"/>
            <a:ext cx="525600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be normal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t same N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pa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enough to determin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C21-F51C-4BA3-B270-70ACF5CA2F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008160" y="1917720"/>
            <a:ext cx="2887920" cy="28796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-15840" y="1989000"/>
            <a:ext cx="2881440" cy="28558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321600" y="182412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4520" y="981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6560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4880" y="5573880"/>
            <a:ext cx="878508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u+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136520" y="3284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144-2C78-4E97-A51C-90FB62E08E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28960" y="1916280"/>
            <a:ext cx="2960640" cy="29527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7240" y="1936800"/>
            <a:ext cx="2879640" cy="28558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488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703440" y="2131920"/>
            <a:ext cx="863280" cy="314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352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0520" y="110808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2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6321600" y="1916280"/>
            <a:ext cx="3409920" cy="32097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8193240" y="2133720"/>
            <a:ext cx="1226880" cy="1090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351000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7"/>
          <a:stretch/>
        </p:blipFill>
        <p:spPr>
          <a:xfrm>
            <a:off x="1781280" y="213372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503-3B4B-42BA-AD5B-29FCA9999B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85680" y="1989000"/>
            <a:ext cx="2851200" cy="28432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081240" y="1989000"/>
            <a:ext cx="2887920" cy="2880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71800" y="1622520"/>
            <a:ext cx="17290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80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32520" y="2997360"/>
            <a:ext cx="28908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15800" y="4554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60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6392880" y="194796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88880" y="1197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4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185436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4805280" y="339408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8481960" y="364500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35448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7F0-24DE-4D6C-93AD-AE561DB0A9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29960" y="43920"/>
            <a:ext cx="7480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28880" y="836280"/>
            <a:ext cx="5688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RHIC-PHENIX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lliptic Flow (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Motivation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Results 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nergy dependence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Comparison with theory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0F5-E606-4483-8ECF-C940753316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3527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526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1A5-659E-4384-9F3A-AAD4516BBF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84520" y="1422000"/>
            <a:ext cx="748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Universal v</a:t>
            </a:r>
            <a:r>
              <a:rPr b="0" lang="en-US" sz="4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29960" y="3111480"/>
            <a:ext cx="7480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Quark number + K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Arial"/>
              </a:rPr>
              <a:t>ET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Universal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17E-5E23-4EE9-9F2E-9A5010059A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573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1288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69C-9967-43CE-9B58-BBF3D7D364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965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62.4GeV)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36520" y="863640"/>
            <a:ext cx="6050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HENIX: Error bars include both statistical and systematic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TAR: Error bars include statistical errors. Yellow band indicates systematic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233280" y="1704960"/>
            <a:ext cx="9672840" cy="35244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440120" y="1137600"/>
            <a:ext cx="23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 results :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hys. Rev. C 7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400880" y="765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entrality 10-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20880" y="5823000"/>
            <a:ext cx="7345080" cy="745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universal curve independent on particl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2160" y="5300280"/>
            <a:ext cx="734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caling is OK at 62.4 GeV, too!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5240" y="1628640"/>
            <a:ext cx="136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16520" y="1628640"/>
            <a:ext cx="1944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184880" y="1628640"/>
            <a:ext cx="22320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28520" y="162864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DDF-BE97-452C-8DE3-7A9A116F0E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35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69240" y="1890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+Cu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 =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9800" y="5733720"/>
            <a:ext cx="9489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uark number + 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aling seems to works out at Cu+Cu 200GeV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40520" y="1844640"/>
            <a:ext cx="2736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ll centrality, (between 0- 50 %)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/p is consistent to  quark number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560520" y="642960"/>
            <a:ext cx="6480000" cy="502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AAD-1205-462A-AD1A-56C3587383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28520" y="1052640"/>
            <a:ext cx="5545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Summary of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7600" y="2349360"/>
            <a:ext cx="849636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energy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o change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 of participa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ccentricity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peci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ticipants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D82-C458-4B9B-A692-E2D442A113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639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29960" y="115560"/>
            <a:ext cx="3527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D0-E0B5-4AA0-ADC1-C35DE21D72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666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667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8" name="" descr=""/>
            <p:cNvPicPr/>
            <p:nvPr/>
          </p:nvPicPr>
          <p:blipFill>
            <a:blip r:embed="rId2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979-3C3D-45C7-8E38-88F9929724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0520" y="558972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consistent at 0-50% centralities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674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675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7" name=""/>
          <p:cNvGrpSpPr/>
          <p:nvPr/>
        </p:nvGrpSpPr>
        <p:grpSpPr>
          <a:xfrm>
            <a:off x="6543720" y="1406520"/>
            <a:ext cx="2801880" cy="3967200"/>
            <a:chOff x="6543720" y="1406520"/>
            <a:chExt cx="2801880" cy="3967200"/>
          </a:xfrm>
        </p:grpSpPr>
        <p:sp>
          <p:nvSpPr>
            <p:cNvPr id="678" name=""/>
            <p:cNvSpPr/>
            <p:nvPr/>
          </p:nvSpPr>
          <p:spPr>
            <a:xfrm>
              <a:off x="7042320" y="140652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Npar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/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" descr=""/>
            <p:cNvPicPr/>
            <p:nvPr/>
          </p:nvPicPr>
          <p:blipFill>
            <a:blip r:embed="rId3"/>
            <a:stretch/>
          </p:blipFill>
          <p:spPr>
            <a:xfrm>
              <a:off x="6543720" y="1773360"/>
              <a:ext cx="274320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C42-6E71-49E3-847C-1D83406099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96880" y="148428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(KET/nq)/nq/epar/Npart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639440" y="188640"/>
            <a:ext cx="3886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Universal Scaling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808520" y="907920"/>
            <a:ext cx="496872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ystem (Au+Au, Cu+Cu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ergy (200GeV - 62.4GeV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entrality (0-50%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ticl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K /p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673600" y="2997360"/>
                <a:ext cx="251964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ε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t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6392880" y="2276640"/>
            <a:ext cx="1225440" cy="71748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881600" y="49417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Universal Curve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48520" y="4437000"/>
            <a:ext cx="1296720" cy="64944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12600" y="789120"/>
            <a:ext cx="4724640" cy="54482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57240" y="789120"/>
            <a:ext cx="4724280" cy="54482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560520" y="6165720"/>
            <a:ext cx="3456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/ndf = 8.1 (without systematic err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/ndf = 3.2 (with systematic err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00160" y="5661000"/>
            <a:ext cx="18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symbol - Au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symbol - C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80D-6B19-4692-BFAD-738D9C4CB0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39440" y="11592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tivistic Heavy Ion Collider (RHIC)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17600" y="1052280"/>
            <a:ext cx="5327640" cy="1655640"/>
          </a:xfrm>
          <a:prstGeom prst="rect">
            <a:avLst/>
          </a:prstGeom>
          <a:solidFill>
            <a:srgbClr val="66ff3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Brookhaven National Laboratory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First relativistic heavy ion collider in the world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ircumference 3.83 km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2 rings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ollision species (Au+Au, Cu+Cu, d+Au, p+p)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Energy (A+A); up to 100 GeV/nucleon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HENIX is the one of the main experiment group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57240" y="4086360"/>
            <a:ext cx="341316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4280" y="372600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ENIX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00160" y="765000"/>
            <a:ext cx="3311280" cy="288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240" y="3068640"/>
            <a:ext cx="41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evolution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733920" y="3502080"/>
            <a:ext cx="3595680" cy="244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84520" y="2997360"/>
            <a:ext cx="6192720" cy="31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51640" y="5229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9080" y="4581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1280" y="3213000"/>
            <a:ext cx="216000" cy="2400480"/>
          </a:xfrm>
          <a:prstGeom prst="upArrow">
            <a:avLst>
              <a:gd name="adj1" fmla="val 29407"/>
              <a:gd name="adj2" fmla="val 17297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484488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1640" y="37180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emic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3213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rm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4276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d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9240" y="3789360"/>
            <a:ext cx="1008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in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201240" y="436572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01240" y="3429000"/>
            <a:ext cx="1440" cy="42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5960" y="4726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3760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44C-A81E-48A8-AD95-0F15846A31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284040" y="3887640"/>
            <a:ext cx="2724120" cy="23608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6238800" y="1353960"/>
            <a:ext cx="2962440" cy="25686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238800" y="3807000"/>
            <a:ext cx="2884680" cy="25016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201600" y="1071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96960" y="919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8160" y="43920"/>
            <a:ext cx="4537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mparison with hydro-simulation</a:t>
            </a:r>
            <a:endParaRPr b="0" lang="en-US" sz="2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-360" y="6361200"/>
            <a:ext cx="965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u+Au results agree well with hydro but  Cu+Cu results don’t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4"/>
          <a:stretch/>
        </p:blipFill>
        <p:spPr>
          <a:xfrm>
            <a:off x="3338640" y="3814920"/>
            <a:ext cx="2806560" cy="24336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5"/>
          <a:stretch/>
        </p:blipFill>
        <p:spPr>
          <a:xfrm>
            <a:off x="3255840" y="1300320"/>
            <a:ext cx="2806920" cy="24318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284040" y="1344600"/>
            <a:ext cx="2806920" cy="24321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173400" y="1071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68760" y="919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145200" y="1071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640560" y="919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79800" y="115920"/>
            <a:ext cx="4969080" cy="2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ＭＳ ゴシック"/>
              </a:rPr>
              <a:t>QGP fluid+hadron gas with Glauber I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00160" y="523800"/>
            <a:ext cx="4316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537240" y="60336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8408520" y="83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76160" y="287280"/>
            <a:ext cx="475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ydro calculations done by Prof. Hi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f: arXiv:0710.5795 [nucl-th] and Phys. Lett.B 636, 299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6D8-E522-4795-A70B-847206ED69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35720" y="3568680"/>
            <a:ext cx="2978280" cy="25844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6513480" y="1197000"/>
            <a:ext cx="2808360" cy="24350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84160" y="80640"/>
            <a:ext cx="67327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mparison of v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2(data)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participant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to v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2(hydro)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29760" y="6248520"/>
            <a:ext cx="866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u+Au and Cu+Cu results agree well with hydro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3549600" y="1295280"/>
            <a:ext cx="2806920" cy="24336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3549600" y="3728880"/>
            <a:ext cx="2806920" cy="24339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5"/>
          <a:stretch/>
        </p:blipFill>
        <p:spPr>
          <a:xfrm>
            <a:off x="660240" y="3809880"/>
            <a:ext cx="2724480" cy="23623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77800" y="1295280"/>
            <a:ext cx="2806920" cy="2433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4953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4671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9625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389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9343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00160" y="404640"/>
            <a:ext cx="4316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65760" y="54936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8564040" y="81432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B73-445A-4101-848A-D29DF9B57F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7240" y="43920"/>
            <a:ext cx="44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mparison with hydro-simulation</a:t>
            </a:r>
            <a:endParaRPr b="0" lang="en-US" sz="20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763560" y="547560"/>
            <a:ext cx="3036960" cy="26337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776160" y="3200400"/>
            <a:ext cx="3005280" cy="26049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281240" y="836640"/>
            <a:ext cx="12952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-10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　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0099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0-20</a:t>
            </a:r>
            <a:r>
              <a:rPr b="1" lang="zh-CN" sz="1400" spc="-1" strike="noStrike">
                <a:solidFill>
                  <a:srgbClr val="009900"/>
                </a:solidFill>
                <a:latin typeface="Arial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81240" y="3500280"/>
            <a:ext cx="1295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-30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0160" y="523800"/>
            <a:ext cx="4316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808520" y="115920"/>
            <a:ext cx="1728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6321600" y="3213000"/>
            <a:ext cx="3101760" cy="268920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6392880" y="620640"/>
            <a:ext cx="3029040" cy="2627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3944880" y="2924280"/>
            <a:ext cx="2158920" cy="288720"/>
          </a:xfrm>
          <a:prstGeom prst="rightArrow">
            <a:avLst>
              <a:gd name="adj1" fmla="val 50000"/>
              <a:gd name="adj2" fmla="val 18693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16520" y="1935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by eccentri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90720" y="5840280"/>
            <a:ext cx="734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data)/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icipa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oesn’t agree with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hydro)/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24520" y="3500280"/>
            <a:ext cx="1295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-30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97600" y="876240"/>
            <a:ext cx="12956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-10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　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0099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10-20</a:t>
            </a:r>
            <a:r>
              <a:rPr b="1" lang="zh-CN" sz="1200" spc="-1" strike="noStrike">
                <a:solidFill>
                  <a:srgbClr val="0099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712880" y="5317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3B9-AC08-4353-B5DC-A2F196C0D2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12520" y="115560"/>
            <a:ext cx="259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60520" y="874800"/>
            <a:ext cx="8921520" cy="51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study for charged had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one for 4 systems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+Au, Cu+Cu) x (62.4GeV, 200GeV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obtained in different collision energies at RHIC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62.4 - 200GeV)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various hadron species are scaled by quark number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caled by participant Eccentricity are consistent between Au+Au and Cu+Cu collisions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caled by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ndicates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re determined by the initial geometrical anisotropy and its evolution time depending on the initial siz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rmalization of proper eccentricities, hydro-calculation agree with data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not for proton. 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0E8-D66B-48B4-B20E-80D093DC77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64880" y="1422360"/>
            <a:ext cx="6334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cc"/>
                </a:solidFill>
                <a:latin typeface="Arial"/>
              </a:rPr>
              <a:t>Back Up</a:t>
            </a:r>
            <a:endParaRPr b="0" lang="en-US" sz="8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4FC-8BDA-47C4-9929-60339AEA115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1800" y="274680"/>
            <a:ext cx="8278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on of simple expansion model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987480" y="5661000"/>
            <a:ext cx="75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me until chemical freeze-out is proportional to N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6969240" y="1628640"/>
            <a:ext cx="25178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48" name=""/>
          <p:cNvGrpSpPr/>
          <p:nvPr/>
        </p:nvGrpSpPr>
        <p:grpSpPr>
          <a:xfrm>
            <a:off x="98280" y="907920"/>
            <a:ext cx="6941880" cy="4392360"/>
            <a:chOff x="98280" y="907920"/>
            <a:chExt cx="6941880" cy="4392360"/>
          </a:xfrm>
        </p:grpSpPr>
        <p:pic>
          <p:nvPicPr>
            <p:cNvPr id="749" name="" descr=""/>
            <p:cNvPicPr/>
            <p:nvPr/>
          </p:nvPicPr>
          <p:blipFill>
            <a:blip r:embed="rId2"/>
            <a:stretch/>
          </p:blipFill>
          <p:spPr>
            <a:xfrm>
              <a:off x="98280" y="975960"/>
              <a:ext cx="694188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4466160" y="1557000"/>
              <a:ext cx="703080" cy="64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778640" y="1268280"/>
              <a:ext cx="774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32160" y="907920"/>
              <a:ext cx="16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um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1208160" y="4941720"/>
            <a:ext cx="40320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is done by Dr.Ko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6608880" y="2637000"/>
            <a:ext cx="3133440" cy="25304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6897600" y="2170080"/>
            <a:ext cx="2868840" cy="4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558-A1C8-4D2C-9CC3-3F58AE7532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11080" y="131760"/>
            <a:ext cx="705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y of v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roduction and development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48160" y="692280"/>
            <a:ext cx="1873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Low to mid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857240" y="126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57240" y="1916280"/>
            <a:ext cx="16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00160" y="278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57240" y="342252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d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5724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68520" y="1341360"/>
            <a:ext cx="0" cy="4175280"/>
          </a:xfrm>
          <a:prstGeom prst="line">
            <a:avLst/>
          </a:prstGeom>
          <a:ln w="50760">
            <a:solidFill>
              <a:srgbClr val="333399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84520" y="558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1800" y="126828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017960" y="1268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initial geometrical eccentricity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th the particip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89240" y="2060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pressure gradient from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657600" y="2637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160880" y="3343320"/>
            <a:ext cx="482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This finite time becomes longer with larger collision system, and the v</a:t>
            </a:r>
            <a:r>
              <a:rPr b="0" lang="en-US" sz="1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 increases proportion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089240" y="2492280"/>
            <a:ext cx="4249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xpanding during finit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depending on the kind of qu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4488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305240" y="4076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dial flow depending on each mass expa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4488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305240" y="50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BD7-34D7-405E-9DF5-2A71D96250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3980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Summary (1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47560" y="836280"/>
            <a:ext cx="8942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the systems have same 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f paricipant geometry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85960" y="2138400"/>
            <a:ext cx="9349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41960" y="1969920"/>
            <a:ext cx="504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24160" y="1916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2792160" y="220500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217188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0718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584520" y="234936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6120" y="1628640"/>
            <a:ext cx="12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92520" y="27082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35560" y="2487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12880" y="1773360"/>
            <a:ext cx="11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24160" y="3357720"/>
            <a:ext cx="151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737240" y="3405240"/>
            <a:ext cx="158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465960" y="1998720"/>
            <a:ext cx="324144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depends on eccentricity of initial participant geometry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be constant at an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it is no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57240" y="4365720"/>
            <a:ext cx="792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52520" y="1544760"/>
            <a:ext cx="496908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68880" y="4653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152880" y="40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7324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4196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792160" y="4437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65600" y="44370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008160" y="515772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84520" y="4726080"/>
            <a:ext cx="50472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352520" y="3860640"/>
            <a:ext cx="49690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68520" y="4005360"/>
            <a:ext cx="151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25960" y="417204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65960" y="3759120"/>
            <a:ext cx="3224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o explai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addition to the initial geometrical eccentricity,   there are something related to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718080" y="52848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D94-D312-4D20-8663-436F9D5043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39440" y="115560"/>
            <a:ext cx="6838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Summary (2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47800" y="764640"/>
            <a:ext cx="820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same eccentricity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(number of participants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37240" y="1341360"/>
            <a:ext cx="28796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comes consistent after scaled by not on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 also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41600" y="1701720"/>
            <a:ext cx="79200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1989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76520" y="1406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5724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2596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576160" y="1773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49600" y="177336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92520" y="213372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368520" y="177336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36520" y="1341360"/>
            <a:ext cx="504036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96880" y="1341360"/>
            <a:ext cx="10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37240" y="1508040"/>
            <a:ext cx="107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81240" y="3524400"/>
            <a:ext cx="201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305240" y="3556080"/>
            <a:ext cx="19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73240" y="3103560"/>
            <a:ext cx="33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C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D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368520" y="263700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53724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s it because of thickness increasing along beam axis then energy per unit area increasing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92880" y="3206880"/>
            <a:ext cx="309708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GeV)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2.4Ge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335640" y="3683160"/>
            <a:ext cx="322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oncludes that increasing dN/dy doesn’t change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RHIC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28124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10672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3036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62200" y="5191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8900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712880" y="59007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62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25600" y="438768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3708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6256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86200" y="52531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18040" y="5119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245200" y="52531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52880" y="58514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81440" y="4340160"/>
            <a:ext cx="106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36880" y="4357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576160" y="465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60880" y="465300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73480" y="471312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720880" y="520704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712880" y="4791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9910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264360" y="4508640"/>
            <a:ext cx="3512880" cy="177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t might be because that number of participant to 1/3 (like length) is proportional to the time period taken to freeze out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, and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expands proportional to tha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3456000" y="2220840"/>
                <a:ext cx="3445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9FF-A394-47A4-83BB-36221CF73E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82440" y="914400"/>
            <a:ext cx="9740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606680" y="115560"/>
            <a:ext cx="7480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caling (others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5000" y="4952880"/>
            <a:ext cx="8667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Straight line from SPS to RHIC energy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66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 is reaching the hydro limit at central collision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3"/>
          <a:stretch/>
        </p:blipFill>
        <p:spPr>
          <a:xfrm>
            <a:off x="82440" y="985680"/>
            <a:ext cx="4870440" cy="38610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4"/>
          <a:srcRect l="0" t="6126" r="8041" b="0"/>
          <a:stretch/>
        </p:blipFill>
        <p:spPr>
          <a:xfrm>
            <a:off x="4622760" y="1219320"/>
            <a:ext cx="4915080" cy="348912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7936200" y="99072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R. Nou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67800" y="99072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64F-7DBC-4847-A089-7E325E78A4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11240" y="82440"/>
            <a:ext cx="5850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lliptic Flow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600" y="4149720"/>
                <a:ext cx="4883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1440" y="1125000"/>
            <a:ext cx="9361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A sensitive probe for studying properties of the hot dense matter made by heavy ion collisions.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3680" y="1413000"/>
            <a:ext cx="3953520" cy="2691720"/>
            <a:chOff x="193680" y="1413000"/>
            <a:chExt cx="3953520" cy="2691720"/>
          </a:xfrm>
        </p:grpSpPr>
        <p:sp>
          <p:nvSpPr>
            <p:cNvPr id="121" name=""/>
            <p:cNvSpPr/>
            <p:nvPr/>
          </p:nvSpPr>
          <p:spPr>
            <a:xfrm>
              <a:off x="303480" y="1830600"/>
              <a:ext cx="117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am ax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93680" y="1413000"/>
              <a:ext cx="3953520" cy="2691720"/>
              <a:chOff x="193680" y="1413000"/>
              <a:chExt cx="3953520" cy="26917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49560" y="1413000"/>
                <a:ext cx="3797640" cy="2691720"/>
                <a:chOff x="349560" y="1413000"/>
                <a:chExt cx="3797640" cy="269172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349560" y="1576440"/>
                  <a:ext cx="3402000" cy="2528280"/>
                  <a:chOff x="349560" y="1576440"/>
                  <a:chExt cx="3402000" cy="252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0800000">
                    <a:off x="2890440" y="157644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>
                    <a:off x="959760" y="1916280"/>
                    <a:ext cx="649800" cy="9590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1273680" y="1916280"/>
                    <a:ext cx="639000" cy="944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475280" y="2117160"/>
                    <a:ext cx="21420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424520" y="3121920"/>
                    <a:ext cx="15055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9920" y="1911960"/>
                    <a:ext cx="3401640" cy="1862280"/>
                  </a:xfrm>
                  <a:prstGeom prst="parallelogram">
                    <a:avLst>
                      <a:gd name="adj" fmla="val 67770"/>
                    </a:avLst>
                  </a:prstGeom>
                  <a:noFill/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>
                    <a:off x="349560" y="3372120"/>
                    <a:ext cx="272520" cy="405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1425600" y="1916280"/>
                    <a:ext cx="790560" cy="116856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 rot="10800000">
                    <a:off x="1394280" y="2968560"/>
                    <a:ext cx="264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715">
                        <a:moveTo>
                          <a:pt x="84" y="643"/>
                        </a:moveTo>
                        <a:cubicBezTo>
                          <a:pt x="64" y="611"/>
                          <a:pt x="38" y="568"/>
                          <a:pt x="24" y="519"/>
                        </a:cubicBezTo>
                        <a:cubicBezTo>
                          <a:pt x="10" y="470"/>
                          <a:pt x="0" y="403"/>
                          <a:pt x="1" y="351"/>
                        </a:cubicBezTo>
                        <a:cubicBezTo>
                          <a:pt x="2" y="299"/>
                          <a:pt x="14" y="251"/>
                          <a:pt x="30" y="205"/>
                        </a:cubicBezTo>
                        <a:cubicBezTo>
                          <a:pt x="46" y="159"/>
                          <a:pt x="77" y="106"/>
                          <a:pt x="100" y="73"/>
                        </a:cubicBezTo>
                        <a:cubicBezTo>
                          <a:pt x="123" y="40"/>
                          <a:pt x="163" y="0"/>
                          <a:pt x="166" y="4"/>
                        </a:cubicBezTo>
                        <a:cubicBezTo>
                          <a:pt x="198" y="57"/>
                          <a:pt x="212" y="120"/>
                          <a:pt x="225" y="171"/>
                        </a:cubicBezTo>
                        <a:cubicBezTo>
                          <a:pt x="239" y="226"/>
                          <a:pt x="246" y="280"/>
                          <a:pt x="249" y="337"/>
                        </a:cubicBezTo>
                        <a:cubicBezTo>
                          <a:pt x="252" y="394"/>
                          <a:pt x="249" y="464"/>
                          <a:pt x="241" y="514"/>
                        </a:cubicBezTo>
                        <a:cubicBezTo>
                          <a:pt x="233" y="564"/>
                          <a:pt x="216" y="603"/>
                          <a:pt x="199" y="636"/>
                        </a:cubicBezTo>
                        <a:cubicBezTo>
                          <a:pt x="182" y="669"/>
                          <a:pt x="142" y="715"/>
                          <a:pt x="142" y="712"/>
                        </a:cubicBezTo>
                        <a:cubicBezTo>
                          <a:pt x="142" y="711"/>
                          <a:pt x="104" y="675"/>
                          <a:pt x="84" y="64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1251720" y="2910960"/>
                    <a:ext cx="582840" cy="8593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307960" y="379764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297080" y="182880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2295360" y="1739520"/>
                    <a:ext cx="1080000" cy="1043640"/>
                    <a:chOff x="2295360" y="1739520"/>
                    <a:chExt cx="1080000" cy="1043640"/>
                  </a:xfrm>
                </p:grpSpPr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2295360" y="1739520"/>
                      <a:ext cx="1080000" cy="1043640"/>
                      <a:chOff x="2295360" y="1739520"/>
                      <a:chExt cx="1080000" cy="1043640"/>
                    </a:xfrm>
                  </p:grpSpPr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2319480" y="1740600"/>
                        <a:ext cx="1032480" cy="1024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333399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2319480" y="1739520"/>
                        <a:ext cx="1032480" cy="1024920"/>
                      </a:xfrm>
                      <a:prstGeom prst="ellips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295360" y="2156400"/>
                        <a:ext cx="1080000" cy="62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00">
                            <a:moveTo>
                              <a:pt x="43" y="123"/>
                            </a:moveTo>
                            <a:cubicBezTo>
                              <a:pt x="61" y="136"/>
                              <a:pt x="84" y="160"/>
                              <a:pt x="120" y="181"/>
                            </a:cubicBezTo>
                            <a:cubicBezTo>
                              <a:pt x="156" y="202"/>
                              <a:pt x="210" y="233"/>
                              <a:pt x="262" y="250"/>
                            </a:cubicBezTo>
                            <a:cubicBezTo>
                              <a:pt x="314" y="267"/>
                              <a:pt x="370" y="279"/>
                              <a:pt x="432" y="280"/>
                            </a:cubicBezTo>
                            <a:cubicBezTo>
                              <a:pt x="494" y="281"/>
                              <a:pt x="573" y="272"/>
                              <a:pt x="634" y="259"/>
                            </a:cubicBezTo>
                            <a:cubicBezTo>
                              <a:pt x="695" y="246"/>
                              <a:pt x="749" y="229"/>
                              <a:pt x="799" y="201"/>
                            </a:cubicBezTo>
                            <a:cubicBezTo>
                              <a:pt x="849" y="173"/>
                              <a:pt x="899" y="122"/>
                              <a:pt x="937" y="90"/>
                            </a:cubicBezTo>
                            <a:cubicBezTo>
                              <a:pt x="975" y="58"/>
                              <a:pt x="1012" y="0"/>
                              <a:pt x="1026" y="9"/>
                            </a:cubicBezTo>
                            <a:cubicBezTo>
                              <a:pt x="1021" y="13"/>
                              <a:pt x="1025" y="101"/>
                              <a:pt x="1019" y="144"/>
                            </a:cubicBezTo>
                            <a:cubicBezTo>
                              <a:pt x="1013" y="187"/>
                              <a:pt x="1007" y="227"/>
                              <a:pt x="992" y="267"/>
                            </a:cubicBezTo>
                            <a:cubicBezTo>
                              <a:pt x="978" y="307"/>
                              <a:pt x="952" y="351"/>
                              <a:pt x="929" y="384"/>
                            </a:cubicBezTo>
                            <a:cubicBezTo>
                              <a:pt x="907" y="417"/>
                              <a:pt x="886" y="440"/>
                              <a:pt x="857" y="467"/>
                            </a:cubicBezTo>
                            <a:cubicBezTo>
                              <a:pt x="827" y="493"/>
                              <a:pt x="790" y="521"/>
                              <a:pt x="749" y="542"/>
                            </a:cubicBezTo>
                            <a:cubicBezTo>
                              <a:pt x="708" y="562"/>
                              <a:pt x="659" y="580"/>
                              <a:pt x="610" y="588"/>
                            </a:cubicBezTo>
                            <a:cubicBezTo>
                              <a:pt x="561" y="596"/>
                              <a:pt x="505" y="600"/>
                              <a:pt x="455" y="594"/>
                            </a:cubicBezTo>
                            <a:cubicBezTo>
                              <a:pt x="404" y="588"/>
                              <a:pt x="353" y="572"/>
                              <a:pt x="310" y="553"/>
                            </a:cubicBezTo>
                            <a:cubicBezTo>
                              <a:pt x="267" y="533"/>
                              <a:pt x="229" y="510"/>
                              <a:pt x="193" y="479"/>
                            </a:cubicBezTo>
                            <a:cubicBezTo>
                              <a:pt x="157" y="448"/>
                              <a:pt x="121" y="408"/>
                              <a:pt x="95" y="368"/>
                            </a:cubicBezTo>
                            <a:cubicBezTo>
                              <a:pt x="69" y="328"/>
                              <a:pt x="52" y="286"/>
                              <a:pt x="36" y="237"/>
                            </a:cubicBezTo>
                            <a:cubicBezTo>
                              <a:pt x="20" y="188"/>
                              <a:pt x="0" y="92"/>
                              <a:pt x="1" y="73"/>
                            </a:cubicBezTo>
                            <a:lnTo>
                              <a:pt x="43" y="12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319480" y="2182320"/>
                        <a:ext cx="1030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9" h="257">
                            <a:moveTo>
                              <a:pt x="0" y="78"/>
                            </a:moveTo>
                            <a:cubicBezTo>
                              <a:pt x="17" y="92"/>
                              <a:pt x="57" y="134"/>
                              <a:pt x="101" y="160"/>
                            </a:cubicBezTo>
                            <a:cubicBezTo>
                              <a:pt x="145" y="186"/>
                              <a:pt x="213" y="216"/>
                              <a:pt x="263" y="232"/>
                            </a:cubicBezTo>
                            <a:cubicBezTo>
                              <a:pt x="313" y="248"/>
                              <a:pt x="347" y="255"/>
                              <a:pt x="404" y="256"/>
                            </a:cubicBezTo>
                            <a:cubicBezTo>
                              <a:pt x="461" y="257"/>
                              <a:pt x="542" y="254"/>
                              <a:pt x="608" y="238"/>
                            </a:cubicBezTo>
                            <a:cubicBezTo>
                              <a:pt x="674" y="222"/>
                              <a:pt x="738" y="200"/>
                              <a:pt x="800" y="160"/>
                            </a:cubicBezTo>
                            <a:cubicBezTo>
                              <a:pt x="862" y="120"/>
                              <a:pt x="942" y="33"/>
                              <a:pt x="97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314440" y="1882800"/>
                      <a:ext cx="264960" cy="74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" name=""/>
                  <p:cNvSpPr/>
                  <p:nvPr/>
                </p:nvSpPr>
                <p:spPr>
                  <a:xfrm>
                    <a:off x="1625400" y="1911960"/>
                    <a:ext cx="88308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47960" y="2117160"/>
                    <a:ext cx="6321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335960" y="2316960"/>
                    <a:ext cx="12553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2248200" y="2240280"/>
                    <a:ext cx="341280" cy="5047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199880" y="251820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1256040" y="1911960"/>
                    <a:ext cx="1253160" cy="1854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063440" y="271944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737360" y="2322720"/>
                    <a:ext cx="515160" cy="1029960"/>
                    <a:chOff x="1737360" y="2322720"/>
                    <a:chExt cx="515160" cy="102996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737360" y="2323440"/>
                      <a:ext cx="514080" cy="102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737360" y="2814120"/>
                      <a:ext cx="51516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515">
                          <a:moveTo>
                            <a:pt x="13" y="46"/>
                          </a:moveTo>
                          <a:cubicBezTo>
                            <a:pt x="24" y="55"/>
                            <a:pt x="47" y="72"/>
                            <a:pt x="65" y="81"/>
                          </a:cubicBezTo>
                          <a:cubicBezTo>
                            <a:pt x="83" y="90"/>
                            <a:pt x="103" y="92"/>
                            <a:pt x="121" y="97"/>
                          </a:cubicBezTo>
                          <a:cubicBezTo>
                            <a:pt x="139" y="102"/>
                            <a:pt x="156" y="109"/>
                            <a:pt x="176" y="112"/>
                          </a:cubicBezTo>
                          <a:cubicBezTo>
                            <a:pt x="196" y="115"/>
                            <a:pt x="218" y="115"/>
                            <a:pt x="241" y="114"/>
                          </a:cubicBezTo>
                          <a:cubicBezTo>
                            <a:pt x="264" y="113"/>
                            <a:pt x="289" y="109"/>
                            <a:pt x="313" y="103"/>
                          </a:cubicBezTo>
                          <a:cubicBezTo>
                            <a:pt x="337" y="97"/>
                            <a:pt x="362" y="90"/>
                            <a:pt x="385" y="78"/>
                          </a:cubicBezTo>
                          <a:cubicBezTo>
                            <a:pt x="408" y="66"/>
                            <a:pt x="435" y="41"/>
                            <a:pt x="452" y="29"/>
                          </a:cubicBezTo>
                          <a:cubicBezTo>
                            <a:pt x="469" y="17"/>
                            <a:pt x="479" y="0"/>
                            <a:pt x="485" y="7"/>
                          </a:cubicBezTo>
                          <a:cubicBezTo>
                            <a:pt x="483" y="11"/>
                            <a:pt x="489" y="40"/>
                            <a:pt x="487" y="70"/>
                          </a:cubicBezTo>
                          <a:cubicBezTo>
                            <a:pt x="485" y="100"/>
                            <a:pt x="481" y="151"/>
                            <a:pt x="474" y="190"/>
                          </a:cubicBezTo>
                          <a:cubicBezTo>
                            <a:pt x="467" y="229"/>
                            <a:pt x="455" y="272"/>
                            <a:pt x="444" y="304"/>
                          </a:cubicBezTo>
                          <a:cubicBezTo>
                            <a:pt x="433" y="336"/>
                            <a:pt x="423" y="359"/>
                            <a:pt x="408" y="385"/>
                          </a:cubicBezTo>
                          <a:cubicBezTo>
                            <a:pt x="394" y="411"/>
                            <a:pt x="376" y="438"/>
                            <a:pt x="356" y="458"/>
                          </a:cubicBezTo>
                          <a:cubicBezTo>
                            <a:pt x="336" y="478"/>
                            <a:pt x="313" y="495"/>
                            <a:pt x="289" y="503"/>
                          </a:cubicBezTo>
                          <a:cubicBezTo>
                            <a:pt x="265" y="511"/>
                            <a:pt x="238" y="515"/>
                            <a:pt x="214" y="509"/>
                          </a:cubicBezTo>
                          <a:cubicBezTo>
                            <a:pt x="189" y="503"/>
                            <a:pt x="164" y="488"/>
                            <a:pt x="143" y="469"/>
                          </a:cubicBezTo>
                          <a:cubicBezTo>
                            <a:pt x="122" y="450"/>
                            <a:pt x="104" y="427"/>
                            <a:pt x="87" y="397"/>
                          </a:cubicBezTo>
                          <a:cubicBezTo>
                            <a:pt x="69" y="367"/>
                            <a:pt x="52" y="328"/>
                            <a:pt x="39" y="289"/>
                          </a:cubicBezTo>
                          <a:cubicBezTo>
                            <a:pt x="27" y="250"/>
                            <a:pt x="17" y="204"/>
                            <a:pt x="10" y="161"/>
                          </a:cubicBezTo>
                          <a:cubicBezTo>
                            <a:pt x="4" y="118"/>
                            <a:pt x="0" y="47"/>
                            <a:pt x="0" y="28"/>
                          </a:cubicBezTo>
                          <a:lnTo>
                            <a:pt x="13" y="4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737360" y="2816280"/>
                      <a:ext cx="51300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9" h="257">
                          <a:moveTo>
                            <a:pt x="0" y="78"/>
                          </a:moveTo>
                          <a:cubicBezTo>
                            <a:pt x="17" y="92"/>
                            <a:pt x="57" y="134"/>
                            <a:pt x="101" y="160"/>
                          </a:cubicBezTo>
                          <a:cubicBezTo>
                            <a:pt x="145" y="186"/>
                            <a:pt x="213" y="216"/>
                            <a:pt x="263" y="232"/>
                          </a:cubicBezTo>
                          <a:cubicBezTo>
                            <a:pt x="313" y="248"/>
                            <a:pt x="347" y="255"/>
                            <a:pt x="404" y="256"/>
                          </a:cubicBezTo>
                          <a:cubicBezTo>
                            <a:pt x="461" y="257"/>
                            <a:pt x="542" y="254"/>
                            <a:pt x="608" y="238"/>
                          </a:cubicBezTo>
                          <a:cubicBezTo>
                            <a:pt x="674" y="222"/>
                            <a:pt x="738" y="200"/>
                            <a:pt x="800" y="160"/>
                          </a:cubicBezTo>
                          <a:cubicBezTo>
                            <a:pt x="862" y="120"/>
                            <a:pt x="942" y="33"/>
                            <a:pt x="979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737360" y="2322720"/>
                      <a:ext cx="514080" cy="1026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 flipH="1">
                    <a:off x="2176200" y="2377440"/>
                    <a:ext cx="940680" cy="1392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1874520" y="2455200"/>
                    <a:ext cx="886680" cy="13111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084400" y="2919240"/>
                    <a:ext cx="986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1517400" y="1803960"/>
                    <a:ext cx="163800" cy="24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1553400" y="2894760"/>
                    <a:ext cx="595080" cy="879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1689840" y="2909520"/>
                    <a:ext cx="145800" cy="216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359360" y="2920680"/>
                    <a:ext cx="501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611640" y="2837160"/>
                    <a:ext cx="1068840" cy="1045080"/>
                    <a:chOff x="611640" y="2837160"/>
                    <a:chExt cx="1068840" cy="10450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26400" y="2838240"/>
                      <a:ext cx="1031400" cy="1024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33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23880" y="2837160"/>
                      <a:ext cx="1031400" cy="10249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1640" y="3262320"/>
                      <a:ext cx="106884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2" h="568">
                          <a:moveTo>
                            <a:pt x="22" y="106"/>
                          </a:moveTo>
                          <a:cubicBezTo>
                            <a:pt x="39" y="120"/>
                            <a:pt x="60" y="144"/>
                            <a:pt x="100" y="166"/>
                          </a:cubicBezTo>
                          <a:cubicBezTo>
                            <a:pt x="140" y="188"/>
                            <a:pt x="212" y="222"/>
                            <a:pt x="262" y="238"/>
                          </a:cubicBezTo>
                          <a:cubicBezTo>
                            <a:pt x="312" y="254"/>
                            <a:pt x="346" y="261"/>
                            <a:pt x="403" y="262"/>
                          </a:cubicBezTo>
                          <a:cubicBezTo>
                            <a:pt x="460" y="263"/>
                            <a:pt x="546" y="257"/>
                            <a:pt x="607" y="244"/>
                          </a:cubicBezTo>
                          <a:cubicBezTo>
                            <a:pt x="668" y="231"/>
                            <a:pt x="719" y="210"/>
                            <a:pt x="769" y="183"/>
                          </a:cubicBezTo>
                          <a:cubicBezTo>
                            <a:pt x="819" y="156"/>
                            <a:pt x="872" y="111"/>
                            <a:pt x="907" y="82"/>
                          </a:cubicBezTo>
                          <a:cubicBezTo>
                            <a:pt x="942" y="53"/>
                            <a:pt x="966" y="0"/>
                            <a:pt x="978" y="7"/>
                          </a:cubicBezTo>
                          <a:cubicBezTo>
                            <a:pt x="973" y="11"/>
                            <a:pt x="982" y="84"/>
                            <a:pt x="978" y="123"/>
                          </a:cubicBezTo>
                          <a:cubicBezTo>
                            <a:pt x="974" y="162"/>
                            <a:pt x="966" y="204"/>
                            <a:pt x="952" y="243"/>
                          </a:cubicBezTo>
                          <a:cubicBezTo>
                            <a:pt x="938" y="282"/>
                            <a:pt x="913" y="325"/>
                            <a:pt x="891" y="357"/>
                          </a:cubicBezTo>
                          <a:cubicBezTo>
                            <a:pt x="869" y="389"/>
                            <a:pt x="849" y="412"/>
                            <a:pt x="820" y="438"/>
                          </a:cubicBezTo>
                          <a:cubicBezTo>
                            <a:pt x="791" y="464"/>
                            <a:pt x="755" y="491"/>
                            <a:pt x="715" y="511"/>
                          </a:cubicBezTo>
                          <a:cubicBezTo>
                            <a:pt x="675" y="531"/>
                            <a:pt x="628" y="548"/>
                            <a:pt x="580" y="556"/>
                          </a:cubicBezTo>
                          <a:cubicBezTo>
                            <a:pt x="532" y="564"/>
                            <a:pt x="478" y="568"/>
                            <a:pt x="429" y="562"/>
                          </a:cubicBezTo>
                          <a:cubicBezTo>
                            <a:pt x="380" y="556"/>
                            <a:pt x="330" y="541"/>
                            <a:pt x="288" y="522"/>
                          </a:cubicBezTo>
                          <a:cubicBezTo>
                            <a:pt x="246" y="503"/>
                            <a:pt x="209" y="480"/>
                            <a:pt x="174" y="450"/>
                          </a:cubicBezTo>
                          <a:cubicBezTo>
                            <a:pt x="139" y="420"/>
                            <a:pt x="104" y="381"/>
                            <a:pt x="79" y="342"/>
                          </a:cubicBezTo>
                          <a:cubicBezTo>
                            <a:pt x="54" y="303"/>
                            <a:pt x="34" y="257"/>
                            <a:pt x="21" y="214"/>
                          </a:cubicBezTo>
                          <a:cubicBezTo>
                            <a:pt x="8" y="171"/>
                            <a:pt x="0" y="99"/>
                            <a:pt x="0" y="81"/>
                          </a:cubicBezTo>
                          <a:lnTo>
                            <a:pt x="22" y="10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 rot="10800000">
                      <a:off x="1393920" y="2961720"/>
                      <a:ext cx="265680" cy="7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81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369080" y="2957400"/>
                      <a:ext cx="119880" cy="76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728">
                          <a:moveTo>
                            <a:pt x="90" y="621"/>
                          </a:moveTo>
                          <a:cubicBezTo>
                            <a:pt x="86" y="592"/>
                            <a:pt x="86" y="572"/>
                            <a:pt x="84" y="540"/>
                          </a:cubicBezTo>
                          <a:cubicBezTo>
                            <a:pt x="82" y="508"/>
                            <a:pt x="78" y="467"/>
                            <a:pt x="78" y="426"/>
                          </a:cubicBezTo>
                          <a:cubicBezTo>
                            <a:pt x="78" y="385"/>
                            <a:pt x="80" y="339"/>
                            <a:pt x="81" y="291"/>
                          </a:cubicBezTo>
                          <a:cubicBezTo>
                            <a:pt x="82" y="243"/>
                            <a:pt x="83" y="185"/>
                            <a:pt x="84" y="138"/>
                          </a:cubicBezTo>
                          <a:cubicBezTo>
                            <a:pt x="85" y="91"/>
                            <a:pt x="95" y="0"/>
                            <a:pt x="86" y="6"/>
                          </a:cubicBezTo>
                          <a:cubicBezTo>
                            <a:pt x="54" y="59"/>
                            <a:pt x="40" y="122"/>
                            <a:pt x="27" y="173"/>
                          </a:cubicBezTo>
                          <a:cubicBezTo>
                            <a:pt x="13" y="228"/>
                            <a:pt x="6" y="282"/>
                            <a:pt x="3" y="339"/>
                          </a:cubicBezTo>
                          <a:cubicBezTo>
                            <a:pt x="0" y="396"/>
                            <a:pt x="3" y="465"/>
                            <a:pt x="11" y="516"/>
                          </a:cubicBezTo>
                          <a:cubicBezTo>
                            <a:pt x="19" y="567"/>
                            <a:pt x="35" y="608"/>
                            <a:pt x="52" y="643"/>
                          </a:cubicBezTo>
                          <a:cubicBezTo>
                            <a:pt x="69" y="678"/>
                            <a:pt x="108" y="728"/>
                            <a:pt x="114" y="724"/>
                          </a:cubicBezTo>
                          <a:cubicBezTo>
                            <a:pt x="114" y="723"/>
                            <a:pt x="95" y="642"/>
                            <a:pt x="90" y="621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26400" y="3362400"/>
                      <a:ext cx="83052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179">
                          <a:moveTo>
                            <a:pt x="0" y="0"/>
                          </a:moveTo>
                          <a:cubicBezTo>
                            <a:pt x="17" y="14"/>
                            <a:pt x="57" y="56"/>
                            <a:pt x="101" y="82"/>
                          </a:cubicBezTo>
                          <a:cubicBezTo>
                            <a:pt x="145" y="108"/>
                            <a:pt x="213" y="138"/>
                            <a:pt x="263" y="154"/>
                          </a:cubicBezTo>
                          <a:cubicBezTo>
                            <a:pt x="313" y="170"/>
                            <a:pt x="347" y="177"/>
                            <a:pt x="404" y="178"/>
                          </a:cubicBezTo>
                          <a:cubicBezTo>
                            <a:pt x="461" y="179"/>
                            <a:pt x="556" y="169"/>
                            <a:pt x="608" y="160"/>
                          </a:cubicBezTo>
                          <a:cubicBezTo>
                            <a:pt x="660" y="151"/>
                            <a:pt x="687" y="140"/>
                            <a:pt x="714" y="123"/>
                          </a:cubicBezTo>
                          <a:cubicBezTo>
                            <a:pt x="741" y="106"/>
                            <a:pt x="755" y="73"/>
                            <a:pt x="768" y="60"/>
                          </a:cubicBezTo>
                          <a:cubicBezTo>
                            <a:pt x="781" y="47"/>
                            <a:pt x="785" y="46"/>
                            <a:pt x="790" y="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" name=""/>
                  <p:cNvSpPr/>
                  <p:nvPr/>
                </p:nvSpPr>
                <p:spPr>
                  <a:xfrm flipH="1">
                    <a:off x="1433880" y="2721960"/>
                    <a:ext cx="236880" cy="350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423080" y="3123000"/>
                    <a:ext cx="1328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326600" y="3520080"/>
                    <a:ext cx="1333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3">
                        <a:moveTo>
                          <a:pt x="0" y="3"/>
                        </a:moveTo>
                        <a:lnTo>
                          <a:pt x="1266" y="0"/>
                        </a:lnTo>
                      </a:path>
                    </a:pathLst>
                  </a:custGeom>
                  <a:noFill/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3200" bIns="-43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407960" y="3321720"/>
                    <a:ext cx="14050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1250280" y="3111120"/>
                    <a:ext cx="447480" cy="663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959760" y="3556800"/>
                    <a:ext cx="145800" cy="2174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>
                    <a:off x="660960" y="3509280"/>
                    <a:ext cx="173160" cy="2599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90960" y="3774600"/>
                    <a:ext cx="209664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03800" y="356256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1389960" y="2503440"/>
                    <a:ext cx="1232640" cy="354960"/>
                    <a:chOff x="1389960" y="2503440"/>
                    <a:chExt cx="1232640" cy="35496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 flipV="1">
                      <a:off x="2052720" y="2571840"/>
                      <a:ext cx="74520" cy="10620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flipV="1">
                      <a:off x="2187360" y="2503440"/>
                      <a:ext cx="192600" cy="1612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2273040" y="2678040"/>
                      <a:ext cx="30204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2273040" y="2802960"/>
                      <a:ext cx="34956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H="1" flipV="1">
                      <a:off x="1510920" y="2531160"/>
                      <a:ext cx="313920" cy="1292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flipV="1">
                      <a:off x="1412640" y="2691360"/>
                      <a:ext cx="34020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 flipV="1">
                      <a:off x="1389960" y="2853360"/>
                      <a:ext cx="302400" cy="50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flipV="1">
                      <a:off x="1667520" y="2798640"/>
                      <a:ext cx="21708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flipV="1">
                      <a:off x="1692000" y="266904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H="1" flipV="1">
                      <a:off x="1884960" y="2595600"/>
                      <a:ext cx="71640" cy="824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V="1">
                      <a:off x="2127600" y="266040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2116080" y="277092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flipH="1" flipV="1">
                      <a:off x="1851480" y="2747880"/>
                      <a:ext cx="120960" cy="363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410480" y="2960280"/>
                    <a:ext cx="1184400" cy="356400"/>
                    <a:chOff x="1410480" y="2960280"/>
                    <a:chExt cx="1184400" cy="356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H="1">
                      <a:off x="1848960" y="3100680"/>
                      <a:ext cx="79920" cy="140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1605240" y="3154680"/>
                      <a:ext cx="192600" cy="1620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1410480" y="3062520"/>
                      <a:ext cx="3020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>
                      <a:off x="1483200" y="2992680"/>
                      <a:ext cx="230400" cy="154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160720" y="3159720"/>
                      <a:ext cx="313560" cy="1296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232000" y="3049200"/>
                      <a:ext cx="3398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293200" y="2960280"/>
                      <a:ext cx="301680" cy="5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2101320" y="2997000"/>
                      <a:ext cx="216720" cy="22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2099880" y="309528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2029680" y="3140280"/>
                      <a:ext cx="71280" cy="824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flipH="1">
                      <a:off x="1726200" y="311328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flipH="1">
                      <a:off x="1653840" y="303444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2013120" y="3034440"/>
                      <a:ext cx="120960" cy="36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7" name=""/>
                  <p:cNvSpPr/>
                  <p:nvPr/>
                </p:nvSpPr>
                <p:spPr>
                  <a:xfrm>
                    <a:off x="522000" y="3522960"/>
                    <a:ext cx="348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214080" y="2316960"/>
                    <a:ext cx="2617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>
                    <a:off x="3325680" y="1910520"/>
                    <a:ext cx="107280" cy="159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237040" y="3777120"/>
                    <a:ext cx="438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H="1" flipV="1">
                  <a:off x="3118320" y="2838240"/>
                  <a:ext cx="158040" cy="297000"/>
                </a:xfrm>
                <a:prstGeom prst="line">
                  <a:avLst/>
                </a:prstGeom>
                <a:ln w="936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60640" y="3061440"/>
                  <a:ext cx="1186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Reaction pla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8760" y="1413000"/>
                  <a:ext cx="2927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n central colli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49920" y="3355560"/>
                <a:ext cx="0" cy="43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3680" y="3051000"/>
                <a:ext cx="2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7175520" y="1811160"/>
            <a:ext cx="261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, Φ, to 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6560" y="3860640"/>
            <a:ext cx="46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efficient of 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ellip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4880" y="4869000"/>
            <a:ext cx="544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02520" y="1341360"/>
            <a:ext cx="5131800" cy="2665800"/>
            <a:chOff x="4502520" y="1341360"/>
            <a:chExt cx="5131800" cy="2665800"/>
          </a:xfrm>
        </p:grpSpPr>
        <p:sp>
          <p:nvSpPr>
            <p:cNvPr id="220" name=""/>
            <p:cNvSpPr/>
            <p:nvPr/>
          </p:nvSpPr>
          <p:spPr>
            <a:xfrm>
              <a:off x="7293600" y="2925720"/>
              <a:ext cx="23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x (Reaction Plan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63560" y="1341360"/>
              <a:ext cx="2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</a:rPr>
                <a:t>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502520" y="1629720"/>
              <a:ext cx="2865960" cy="2377440"/>
              <a:chOff x="4502520" y="1629720"/>
              <a:chExt cx="2865960" cy="23774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5419800" y="2349360"/>
                <a:ext cx="1481040" cy="793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4502520" y="1629720"/>
                <a:ext cx="2865960" cy="2377440"/>
                <a:chOff x="4502520" y="1629720"/>
                <a:chExt cx="2865960" cy="23774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795920" y="3142800"/>
                  <a:ext cx="257256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5418720" y="1629720"/>
                  <a:ext cx="1440" cy="20890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502520" y="2277720"/>
                  <a:ext cx="1873440" cy="1729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631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63135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201000" y="2180880"/>
                  <a:ext cx="701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cc3300"/>
                      </a:solidFill>
                      <a:latin typeface="Arial"/>
                      <a:ea typeface="Arial"/>
                    </a:rPr>
                    <a:t>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420160" y="1908000"/>
                  <a:ext cx="62424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430600" y="1883880"/>
                  <a:ext cx="23328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5396040" y="2855520"/>
                  <a:ext cx="1559880" cy="2872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07920" y="3153960"/>
                  <a:ext cx="1330920" cy="142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418720" y="3141360"/>
                  <a:ext cx="1258920" cy="4921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5261760" y="1774080"/>
                  <a:ext cx="146160" cy="1366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5318640" y="2997000"/>
              <a:ext cx="204480" cy="2890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172040" y="2565360"/>
            <a:ext cx="547560" cy="289080"/>
          </a:xfrm>
          <a:prstGeom prst="rightArrow">
            <a:avLst>
              <a:gd name="adj1" fmla="val 50000"/>
              <a:gd name="adj2" fmla="val 47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10200" y="4581360"/>
            <a:ext cx="479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ield is (x direction)&gt;(y direction)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0160" y="5159520"/>
            <a:ext cx="92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geometrical anisotropy is transferred by the pressure gradients into a momentum space anisotrop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asure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lects the dense matter produced in the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93680" y="741240"/>
            <a:ext cx="7682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trength of the elliptic anisotropy of produced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A47-DCE3-402F-B9E3-0AF867668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60520" y="115920"/>
            <a:ext cx="3960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3 systemes comparison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7329600" y="463680"/>
            <a:ext cx="2571480" cy="29653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4849920" y="476280"/>
            <a:ext cx="2624040" cy="302400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84880" y="4870440"/>
            <a:ext cx="424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scalings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ks best. 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2360520" y="549360"/>
            <a:ext cx="2559240" cy="29509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4"/>
          <a:stretch/>
        </p:blipFill>
        <p:spPr>
          <a:xfrm>
            <a:off x="2730600" y="3573360"/>
            <a:ext cx="2663640" cy="30718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173160" y="573120"/>
            <a:ext cx="2476440" cy="2855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6"/>
          <a:stretch/>
        </p:blipFill>
        <p:spPr>
          <a:xfrm>
            <a:off x="17640" y="3457440"/>
            <a:ext cx="2847960" cy="32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3A6-BA11-45E1-ADAA-DB13276682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5800" y="115920"/>
            <a:ext cx="9074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200GeV)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23800" y="5661000"/>
            <a:ext cx="655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aling  exists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1281240" y="836640"/>
            <a:ext cx="6930720" cy="45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99D-1999-4320-96B3-7F5A32CC80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1641600" y="647640"/>
            <a:ext cx="6840360" cy="530244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12520" y="117360"/>
            <a:ext cx="583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2 vs. pT at Cu+Cu in 200GeV collision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0160" y="587664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ality dependence of PID v2 vs. pT for Cu+Cu 200GeV is measured. 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7473960" y="3475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13E-D1C2-438D-BCDF-09E7C9A471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68520" y="-27000"/>
            <a:ext cx="7488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onal quark number + K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caling</a:t>
            </a:r>
            <a:r>
              <a:rPr b="0" lang="en-US" sz="3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bPb 17.2GeV)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566640" y="1484280"/>
            <a:ext cx="3881520" cy="36702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5138640" y="1494000"/>
            <a:ext cx="3917880" cy="3663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5211720" y="1341360"/>
            <a:ext cx="44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ken from A. Tranenko’s talk at QM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692280"/>
            <a:ext cx="7437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p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36600" y="134136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b+Pb at 158A GeV, NA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39800" y="907920"/>
            <a:ext cx="688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reliminary) - G. Stefanek for NA49 collaboration (nucl-ex/0611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3240" y="522936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doesn’t seem to work out at SPS.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low at partonic level due to nonexistence of QGP ?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are to big to conclude it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C0E-F106-4E19-8B94-790E4D5FAC4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03120" y="75960"/>
            <a:ext cx="421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otivation 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3680" y="1341360"/>
            <a:ext cx="959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t low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&lt; ~2 GeV/c)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can be explained by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t mid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(&lt;4~6 GeV/c)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　→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is consistent with recombination model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esults are consistent with Quark number +K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1000" y="739800"/>
            <a:ext cx="70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the results at 200GeV in Au+Au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5800" y="2781360"/>
            <a:ext cx="4057920" cy="2541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5400000">
            <a:off x="1617480" y="5643720"/>
            <a:ext cx="432000" cy="466560"/>
          </a:xfrm>
          <a:custGeom>
            <a:avLst/>
            <a:gdLst>
              <a:gd name="textAreaLeft" fmla="*/ 144000 w 432000"/>
              <a:gd name="textAreaRight" fmla="*/ 349560 w 432000"/>
              <a:gd name="textAreaTop" fmla="*/ 244800 h 466560"/>
              <a:gd name="textAreaBottom" fmla="*/ 377640 h 466560"/>
            </a:gdLst>
            <a:ahLst/>
            <a:rect l="textAreaLeft" t="textAreaTop" r="textAreaRight" b="textAreaBottom"/>
            <a:pathLst>
              <a:path w="21600" h="21600">
                <a:moveTo>
                  <a:pt x="0" y="15458"/>
                </a:moveTo>
                <a:lnTo>
                  <a:pt x="11329" y="15458"/>
                </a:lnTo>
                <a:lnTo>
                  <a:pt x="11329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7471" y="7200"/>
                </a:lnTo>
                <a:lnTo>
                  <a:pt x="17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6760" y="5711760"/>
            <a:ext cx="5694480" cy="39888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 other systems and energies 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265720" y="2874960"/>
            <a:ext cx="4368600" cy="2786040"/>
            <a:chOff x="5265720" y="2874960"/>
            <a:chExt cx="4368600" cy="27860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265720" y="2874960"/>
              <a:ext cx="43686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074800" y="4795920"/>
              <a:ext cx="15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8, 1623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990880" y="282564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1, 1823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29600" y="5746680"/>
            <a:ext cx="1230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mT-m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76160" y="2637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8481960" y="4483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7B-AE8C-425D-A5E6-A610954BF1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12520" y="701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12520" y="2060280"/>
            <a:ext cx="7480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Energy dependence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ccentricity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32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Quark number + K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ET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scaling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DDA-E920-43C5-9B97-525BCDF253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39800" y="115560"/>
            <a:ext cx="194472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  <a:ea typeface="HGP創英角ﾎﾟｯﾌﾟ体"/>
              </a:rPr>
              <a:t>&lt;words&gt;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48880" y="1052640"/>
            <a:ext cx="6767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--- Number of nucleons participating the collision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centricity(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--- geometirical eccentricity of participant nucleons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857240" y="3573360"/>
            <a:ext cx="4319640" cy="2340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24520" y="3875040"/>
            <a:ext cx="2522520" cy="2484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49240" y="1992240"/>
            <a:ext cx="67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ucleus formed by wood-Saxon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e-Carlo simulation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uber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eccentricity which is calculated with long and short axis determined by distribution of participants at each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00880" y="3278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783560" y="1125360"/>
                <a:ext cx="163332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0BE-2AEE-4F5F-9F1E-6B8DDA6C1A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30320" y="274680"/>
            <a:ext cx="3670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BBA-695E-4560-B9DE-7414E94574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30320" y="274680"/>
            <a:ext cx="3670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320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C00-2A3B-44A6-AE9E-7F06182C1C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1:03:53Z</dcterms:created>
  <dc:creator>maya</dc:creator>
  <dc:description/>
  <cp:keywords/>
  <dc:language>en-US</dc:language>
  <cp:lastModifiedBy>maya</cp:lastModifiedBy>
  <dcterms:modified xsi:type="dcterms:W3CDTF">2008-10-14T09:20:03Z</dcterms:modified>
  <cp:revision>33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211041</vt:lpwstr>
  </property>
</Properties>
</file>