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98.png" ContentType="image/png"/>
  <Override PartName="/ppt/media/image53.wmf" ContentType="image/x-wmf"/>
  <Override PartName="/ppt/media/image51.wmf" ContentType="image/x-wmf"/>
  <Override PartName="/ppt/media/image29.png" ContentType="image/png"/>
  <Override PartName="/ppt/media/image94.png" ContentType="image/png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5.png" ContentType="image/png"/>
  <Override PartName="/ppt/media/image41.wmf" ContentType="image/x-wmf"/>
  <Override PartName="/ppt/media/image19.png" ContentType="image/png"/>
  <Override PartName="/ppt/media/image84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13.wmf" ContentType="image/x-wmf"/>
  <Override PartName="/ppt/media/image38.wmf" ContentType="image/x-wmf"/>
  <Override PartName="/ppt/media/image8.wmf" ContentType="image/x-wmf"/>
  <Override PartName="/ppt/media/image11.jpeg" ContentType="image/jpeg"/>
  <Override PartName="/ppt/media/image27.wmf" ContentType="image/x-wmf"/>
  <Override PartName="/ppt/media/image92.wmf" ContentType="image/x-wmf"/>
  <Override PartName="/ppt/media/image37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35.wmf" ContentType="image/x-wmf"/>
  <Override PartName="/ppt/media/image26.png" ContentType="image/png"/>
  <Override PartName="/ppt/media/image66.wmf" ContentType="image/x-wmf"/>
  <Override PartName="/ppt/media/image64.wmf" ContentType="image/x-wmf"/>
  <Override PartName="/ppt/media/image65.wmf" ContentType="image/x-wmf"/>
  <Override PartName="/ppt/media/image25.png" ContentType="image/png"/>
  <Override PartName="/ppt/media/image69.wmf" ContentType="image/x-wmf"/>
  <Override PartName="/ppt/media/image2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1.png" ContentType="image/png"/>
  <Override PartName="/ppt/media/image72.png" ContentType="image/png"/>
  <Override PartName="/ppt/media/image87.wmf" ContentType="image/x-wmf"/>
  <Override PartName="/ppt/media/image50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73.wmf" ContentType="image/x-wmf"/>
  <Override PartName="/ppt/media/image96.wmf" ContentType="image/x-wmf"/>
  <Override PartName="/ppt/media/image32.wmf" ContentType="image/x-wmf"/>
  <Override PartName="/ppt/media/image75.png" ContentType="image/png"/>
  <Override PartName="/ppt/media/image95.wmf" ContentType="image/x-wmf"/>
  <Override PartName="/ppt/media/image80.png" ContentType="image/png"/>
  <Override PartName="/ppt/media/image10.png" ContentType="image/png"/>
  <Override PartName="/ppt/media/image78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101.wmf" ContentType="image/x-wmf"/>
  <Override PartName="/ppt/media/image3.wmf" ContentType="image/x-wmf"/>
  <Override PartName="/ppt/media/image15.wmf" ContentType="image/x-wmf"/>
  <Override PartName="/ppt/media/image79.wmf" ContentType="image/x-wmf"/>
  <Override PartName="/ppt/media/image91.wmf" ContentType="image/x-wmf"/>
  <Override PartName="/ppt/media/image89.wmf" ContentType="image/x-wmf"/>
  <Override PartName="/ppt/media/image90.wmf" ContentType="image/x-wmf"/>
  <Override PartName="/ppt/media/image88.wmf" ContentType="image/x-wmf"/>
  <Override PartName="/ppt/media/image74.wmf" ContentType="image/x-wmf"/>
  <Override PartName="/ppt/media/image24.wmf" ContentType="image/x-wmf"/>
  <Override PartName="/ppt/media/image23.png" ContentType="image/png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99.png" ContentType="image/png"/>
  <Override PartName="/ppt/media/image33.wmf" ContentType="image/x-wmf"/>
  <Override PartName="/ppt/media/image76.png" ContentType="image/png"/>
  <Override PartName="/ppt/media/image81.wmf" ContentType="image/x-wmf"/>
  <Override PartName="/ppt/media/image4.wmf" ContentType="image/x-wmf"/>
  <Override PartName="/ppt/media/image34.wmf" ContentType="image/x-wmf"/>
  <Override PartName="/ppt/media/image77.png" ContentType="image/png"/>
  <Override PartName="/ppt/media/image28.wmf" ContentType="image/x-wmf"/>
  <Override PartName="/ppt/media/image93.wmf" ContentType="image/x-wmf"/>
  <Override PartName="/ppt/media/image8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Click to move the slide</a:t>
            </a: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5FC9-889E-4A7F-8F7D-1C58F36018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A9B-A92F-42D8-8029-C0ACC36646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F30-DC56-430F-9012-FB6F982BA3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consider the history of theoretical studies of BCS-BEC crossover. Of course, the first theory is a mean-field theory. Here is the phase diagram at zero temperature. As the attractive interaction U is changed from a small negative value to a large negative value, we go from the BCS regime to the BEC regime. For the BCS regime, the BCS wave-function is valid. While for the BEC regime, we have the BEC variational wave-function. The important discovery by Eagles and Leggett is that these two wave-functions actually are connected. For example, in the BEC limit, the vk in the BCS wave-function becomes very small, we can rewrite it into this form. Therefore, the BCS wave-function can be transformed into the BEC wave-function. This observation suggests that from BCS to BEC it is not an abrupt phase transition, rather, we have a smooth crossover. The mean-field theory has been generalized by Holland and Levin to the cold atomic ga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35F-EB13-4382-A6C7-D89BE38694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hat is the BCS-BEC crossover? Consider a two-component Fermi gas with attractive interactions. When the interaction is weak, we have the BCS fermionic superfluidity of Cooper-pairs, and we know that these Cooper-pairs are long-range objects. As the interaction increases, the size of Cooper-pairs becomes smaller and smaller, and finally can be regarded as a point-like structure, or molecules. We then can have a condensate of molecules.  These two limits, BCS and BEC limits, are actually well-understood, however, the regime between these limits, is not so clear, and is to explo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cess the crossover, of course, the interaction strength should be enhanced enough l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59A-DD34-4545-8E8C-946B07BC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8209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" y="3766680"/>
            <a:ext cx="8209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AE1-6BD0-4EC4-AEE6-0B6FD098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" y="376668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76668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46-89D5-41E5-B608-3C3E7421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1800" y="90756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400" y="90756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200" y="376668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1800" y="376668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400" y="3766680"/>
            <a:ext cx="26431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C67-98D2-4EAA-96A1-04B43120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200" y="90756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862-C05E-41F8-AB69-E382BFE6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C9F-8A21-456A-9867-FAE8C6E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4005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907560"/>
            <a:ext cx="4005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A81-9ACF-4EA3-8052-F1A0CFE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C2D-4F38-48DF-93A7-E57BF6E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5680" y="173160"/>
            <a:ext cx="64803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13A-E2A8-400A-A9A6-503A56F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907560"/>
            <a:ext cx="4005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00" y="376668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C6F-E48B-45E5-A786-7291CF38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4005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76668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E20-10CD-4FBD-9428-DE088F6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907560"/>
            <a:ext cx="4005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200" y="3766680"/>
            <a:ext cx="8209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A93-823D-4445-9AEB-17478C7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568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Click to edit the title text format</a:t>
            </a: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90756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9933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9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9933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99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99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431640" y="6453360"/>
            <a:ext cx="820908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09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00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51E-688F-4FEE-845A-FFC00027DF49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518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0080"/>
                </a:solidFill>
                <a:latin typeface="Verdana"/>
                <a:ea typeface="仿宋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QCD/HIC workshop, USTC, 2008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0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68DD-5EE5-427D-8731-E2D5C50014A4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" name="Picture 9" descr="shouyea5"/>
          <p:cNvPicPr/>
          <p:nvPr/>
        </p:nvPicPr>
        <p:blipFill>
          <a:blip r:embed="rId2"/>
          <a:stretch/>
        </p:blipFill>
        <p:spPr>
          <a:xfrm>
            <a:off x="7007400" y="263520"/>
            <a:ext cx="1676160" cy="596880"/>
          </a:xfrm>
          <a:prstGeom prst="rect">
            <a:avLst/>
          </a:prstGeom>
          <a:ln w="0">
            <a:noFill/>
          </a:ln>
        </p:spPr>
      </p:pic>
      <p:sp>
        <p:nvSpPr>
          <p:cNvPr id="7" name="Line 1024"/>
          <p:cNvSpPr/>
          <p:nvPr/>
        </p:nvSpPr>
        <p:spPr>
          <a:xfrm>
            <a:off x="455760" y="801720"/>
            <a:ext cx="64814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png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image" Target="../media/image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5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3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C1B-B9C7-40E3-BAD0-CB3080801915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灯片编号占位符 5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EDA-CF8F-4A23-AFC6-DE8607E12A9C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229280" y="2690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826920" y="1052640"/>
            <a:ext cx="8064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BCS-BEC Crossover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in Relativistic System and Its    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Possible Realization in QCD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16000" y="3357720"/>
            <a:ext cx="6337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Lianyi He and Pengfei Zhua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Physics Department, Tsinghua U.</a:t>
            </a:r>
            <a:r>
              <a:rPr b="1" lang="en-US" sz="2400" spc="-1" strike="noStrike">
                <a:solidFill>
                  <a:srgbClr val="740074"/>
                </a:solidFill>
                <a:latin typeface="Arial"/>
                <a:ea typeface="黑体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08000" y="4508640"/>
            <a:ext cx="45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ferences: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ys.Rev.D75:096003,2007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ys.Rev.D75:096004,2007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ys.Rev.D76:056003,2007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-print Arxiv: 0709.2246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2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621-3EED-4B7B-9142-5E543B330190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灯片编号占位符 4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584-4062-4B91-ABEA-8FE501C231A3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554560" y="105264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Non-Relativistic Limi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15832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7"/>
          <p:cNvGraphicFramePr/>
          <p:nvPr/>
        </p:nvGraphicFramePr>
        <p:xfrm>
          <a:off x="2268360" y="3213000"/>
          <a:ext cx="93528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213000"/>
                    <a:ext cx="935280" cy="8334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8"/>
          <p:cNvSpPr/>
          <p:nvPr/>
        </p:nvSpPr>
        <p:spPr>
          <a:xfrm>
            <a:off x="576360" y="494172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or small value of the parameter    , the NR version of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-Leggett result is recovere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8" name="Object 9"/>
          <p:cNvGraphicFramePr/>
          <p:nvPr/>
        </p:nvGraphicFramePr>
        <p:xfrm>
          <a:off x="5435640" y="5013360"/>
          <a:ext cx="2700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5013360"/>
                    <a:ext cx="270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0"/>
          <p:cNvGraphicFramePr/>
          <p:nvPr/>
        </p:nvGraphicFramePr>
        <p:xfrm>
          <a:off x="6588000" y="3284640"/>
          <a:ext cx="1100160" cy="81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88000" y="3284640"/>
                    <a:ext cx="1100160" cy="8190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2" name="Object 11"/>
          <p:cNvGraphicFramePr/>
          <p:nvPr/>
        </p:nvGraphicFramePr>
        <p:xfrm>
          <a:off x="7093080" y="981000"/>
          <a:ext cx="1008000" cy="74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981000"/>
                    <a:ext cx="10080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2"/>
          <p:cNvSpPr/>
          <p:nvPr/>
        </p:nvSpPr>
        <p:spPr>
          <a:xfrm>
            <a:off x="468360" y="5805360"/>
            <a:ext cx="79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condition                 or              is neede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5" name="Object 13"/>
          <p:cNvGraphicFramePr/>
          <p:nvPr/>
        </p:nvGraphicFramePr>
        <p:xfrm>
          <a:off x="2556000" y="5877000"/>
          <a:ext cx="1366560" cy="44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6000" y="5877000"/>
                    <a:ext cx="1366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4"/>
          <p:cNvGraphicFramePr/>
          <p:nvPr/>
        </p:nvGraphicFramePr>
        <p:xfrm>
          <a:off x="4356000" y="5805360"/>
          <a:ext cx="1081080" cy="474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8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6000" y="5805360"/>
                    <a:ext cx="1081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日期占位符 4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F2C-66BD-4503-BCE7-088057E6DCDA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灯片编号占位符 6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900-80D6-40A8-839E-B4251CED8A10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31960" y="98100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lativistic Effect I: BCS-NBEC-RBEC Crossov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705800" cy="30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7"/>
          <p:cNvGraphicFramePr/>
          <p:nvPr/>
        </p:nvGraphicFramePr>
        <p:xfrm>
          <a:off x="6516720" y="4508640"/>
          <a:ext cx="1800360" cy="5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4508640"/>
                    <a:ext cx="1800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8" descr=""/>
          <p:cNvPicPr/>
          <p:nvPr/>
        </p:nvPicPr>
        <p:blipFill>
          <a:blip r:embed="rId4"/>
          <a:stretch/>
        </p:blipFill>
        <p:spPr>
          <a:xfrm>
            <a:off x="2843280" y="4581360"/>
            <a:ext cx="2808360" cy="957600"/>
          </a:xfrm>
          <a:prstGeom prst="rect">
            <a:avLst/>
          </a:prstGeom>
          <a:ln w="0">
            <a:noFill/>
          </a:ln>
        </p:spPr>
      </p:pic>
      <p:sp>
        <p:nvSpPr>
          <p:cNvPr id="237" name="Line 11"/>
          <p:cNvSpPr/>
          <p:nvPr/>
        </p:nvSpPr>
        <p:spPr>
          <a:xfrm flipH="1" flipV="1">
            <a:off x="1763280" y="4149360"/>
            <a:ext cx="1081080" cy="8650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 flipV="1">
            <a:off x="2556000" y="4149360"/>
            <a:ext cx="503280" cy="8636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V="1">
            <a:off x="3132000" y="4220640"/>
            <a:ext cx="792360" cy="7923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94920" y="551664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ysical picture: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41" name="Object 16"/>
          <p:cNvGraphicFramePr/>
          <p:nvPr/>
        </p:nvGraphicFramePr>
        <p:xfrm>
          <a:off x="2987640" y="5445000"/>
          <a:ext cx="172728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5445000"/>
                    <a:ext cx="172728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7"/>
          <p:cNvGraphicFramePr/>
          <p:nvPr/>
        </p:nvGraphicFramePr>
        <p:xfrm>
          <a:off x="4716360" y="5516640"/>
          <a:ext cx="64764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5516640"/>
                    <a:ext cx="647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8"/>
          <p:cNvGraphicFramePr/>
          <p:nvPr/>
        </p:nvGraphicFramePr>
        <p:xfrm>
          <a:off x="5364000" y="5373720"/>
          <a:ext cx="1584360" cy="77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5373720"/>
                    <a:ext cx="1584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9"/>
          <p:cNvGraphicFramePr/>
          <p:nvPr/>
        </p:nvGraphicFramePr>
        <p:xfrm>
          <a:off x="7093080" y="5445000"/>
          <a:ext cx="122400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5445000"/>
                    <a:ext cx="1224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 Box 20"/>
          <p:cNvSpPr/>
          <p:nvPr/>
        </p:nvSpPr>
        <p:spPr>
          <a:xfrm>
            <a:off x="388440" y="602136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BEC:           ,  anti-particles available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50" name="Object 21"/>
          <p:cNvGraphicFramePr/>
          <p:nvPr/>
        </p:nvGraphicFramePr>
        <p:xfrm>
          <a:off x="1547640" y="6093000"/>
          <a:ext cx="865440" cy="40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7640" y="6093000"/>
                    <a:ext cx="865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2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ED2-4E26-4A1C-ADAA-8821B7CD0642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4" name="灯片编号占位符 4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699-D468-402F-996C-BC3E73C77ECA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915480" y="981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lativistic Effect II: Density Induced Crossov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121440" cy="4206960"/>
          </a:xfrm>
          <a:prstGeom prst="rect">
            <a:avLst/>
          </a:prstGeom>
          <a:ln w="0">
            <a:noFill/>
          </a:ln>
        </p:spPr>
      </p:pic>
      <p:sp>
        <p:nvSpPr>
          <p:cNvPr id="257" name="Line 14"/>
          <p:cNvSpPr/>
          <p:nvPr/>
        </p:nvSpPr>
        <p:spPr>
          <a:xfrm>
            <a:off x="2843280" y="5013360"/>
            <a:ext cx="151272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V="1">
            <a:off x="4716360" y="3068640"/>
            <a:ext cx="0" cy="12952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6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0E8-B4CA-4132-968B-F0B0BF6D340B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灯片编号占位符 8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675-B5C2-4859-B984-6305F21F5D54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75560" y="98100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llective Mode Evolu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475308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879640" cy="50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952720" cy="3571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76560" y="15573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ive action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67280" y="3213000"/>
            <a:ext cx="50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ispersion of the collective mod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8" name="Picture 15" descr=""/>
          <p:cNvPicPr/>
          <p:nvPr/>
        </p:nvPicPr>
        <p:blipFill>
          <a:blip r:embed="rId4"/>
          <a:stretch/>
        </p:blipFill>
        <p:spPr>
          <a:xfrm>
            <a:off x="3635280" y="2205000"/>
            <a:ext cx="4753080" cy="8128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8"/>
          <p:cNvSpPr/>
          <p:nvPr/>
        </p:nvSpPr>
        <p:spPr>
          <a:xfrm>
            <a:off x="2772000" y="3716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Goldstone mod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6156360" y="2060640"/>
            <a:ext cx="216000" cy="288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71" name="Object 20"/>
          <p:cNvGraphicFramePr/>
          <p:nvPr/>
        </p:nvGraphicFramePr>
        <p:xfrm>
          <a:off x="3419640" y="4149720"/>
          <a:ext cx="122544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149720"/>
                    <a:ext cx="12254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22"/>
          <p:cNvSpPr/>
          <p:nvPr/>
        </p:nvSpPr>
        <p:spPr>
          <a:xfrm>
            <a:off x="679320" y="4365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87960" y="50133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BE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75" name="Object 24"/>
          <p:cNvGraphicFramePr/>
          <p:nvPr/>
        </p:nvGraphicFramePr>
        <p:xfrm>
          <a:off x="1835280" y="4869000"/>
          <a:ext cx="273528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869000"/>
                    <a:ext cx="27352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5"/>
          <p:cNvGraphicFramePr/>
          <p:nvPr/>
        </p:nvGraphicFramePr>
        <p:xfrm>
          <a:off x="1835280" y="4365720"/>
          <a:ext cx="115092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5280" y="4365720"/>
                    <a:ext cx="1150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26"/>
          <p:cNvSpPr/>
          <p:nvPr/>
        </p:nvSpPr>
        <p:spPr>
          <a:xfrm>
            <a:off x="4788360" y="5013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ogoliubov theor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680040" y="55897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BE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81" name="Object 28"/>
          <p:cNvGraphicFramePr/>
          <p:nvPr/>
        </p:nvGraphicFramePr>
        <p:xfrm>
          <a:off x="1835280" y="5661000"/>
          <a:ext cx="1079280" cy="44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5661000"/>
                    <a:ext cx="1079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9"/>
          <p:cNvSpPr/>
          <p:nvPr/>
        </p:nvSpPr>
        <p:spPr>
          <a:xfrm>
            <a:off x="3565080" y="55897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ltra-relativistic BE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4861440" y="4292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-B mod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5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D5E-F312-4A7A-B63B-7385780CAD35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C66-AEDD-4B84-B29D-D931C1E1D55D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89" name="Picture 9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2303640" cy="322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8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800840" cy="2068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5184720" cy="1679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"/>
          <p:cNvPicPr/>
          <p:nvPr/>
        </p:nvPicPr>
        <p:blipFill>
          <a:blip r:embed="rId4"/>
          <a:stretch/>
        </p:blipFill>
        <p:spPr>
          <a:xfrm>
            <a:off x="5292720" y="3860640"/>
            <a:ext cx="3516480" cy="1746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2"/>
          <p:cNvSpPr/>
          <p:nvPr/>
        </p:nvSpPr>
        <p:spPr>
          <a:xfrm>
            <a:off x="1040760" y="5661000"/>
            <a:ext cx="37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K.Levin and Qijin Chen, et.al,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hys.Rept. 412, 1(2005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4" name="Picture 23" descr=""/>
          <p:cNvPicPr/>
          <p:nvPr/>
        </p:nvPicPr>
        <p:blipFill>
          <a:blip r:embed="rId5"/>
          <a:stretch/>
        </p:blipFill>
        <p:spPr>
          <a:xfrm>
            <a:off x="5435640" y="5516640"/>
            <a:ext cx="2112840" cy="7682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5"/>
          <p:cNvSpPr/>
          <p:nvPr/>
        </p:nvSpPr>
        <p:spPr>
          <a:xfrm>
            <a:off x="902520" y="981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nzero Temperatur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29800" y="9810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seudogap theor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611D-8E77-420C-8C0D-349238018882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244-E286-4D8B-8DA1-A21B91D6DFDB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46320" cy="55450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5363280" y="1052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c Calcul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13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4029120" cy="876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3"/>
          <a:stretch/>
        </p:blipFill>
        <p:spPr>
          <a:xfrm>
            <a:off x="4572000" y="4581360"/>
            <a:ext cx="3516480" cy="797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7"/>
          <p:cNvSpPr/>
          <p:nvPr/>
        </p:nvSpPr>
        <p:spPr>
          <a:xfrm>
            <a:off x="5470560" y="1916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BEC reg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613480" y="386064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BEC reg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08" name="Object 19"/>
          <p:cNvGraphicFramePr/>
          <p:nvPr/>
        </p:nvGraphicFramePr>
        <p:xfrm>
          <a:off x="4284720" y="5661000"/>
          <a:ext cx="934920" cy="3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5661000"/>
                    <a:ext cx="934920" cy="3970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0" name="Text Box 20"/>
          <p:cNvSpPr/>
          <p:nvPr/>
        </p:nvSpPr>
        <p:spPr>
          <a:xfrm>
            <a:off x="5186880" y="55897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ound states above T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1052640"/>
            <a:ext cx="0" cy="216036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1052640"/>
            <a:ext cx="0" cy="216036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50E-3E00-4D25-A091-3535EAAB9CC9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5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9183-F4CF-469E-B358-56153DD7C657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4500720" y="2205000"/>
            <a:ext cx="3889080" cy="27655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399600" y="33336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-BEC Crossover in QCD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032360" cy="29383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6"/>
          <p:cNvSpPr/>
          <p:nvPr/>
        </p:nvSpPr>
        <p:spPr>
          <a:xfrm>
            <a:off x="1201680" y="155736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wo color QC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341240" y="155736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QCD at finite isospin dens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346480" y="595008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ys.Rev.D75:096004,2007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3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9840" y="5084640"/>
            <a:ext cx="79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n the BEC region, quark energy gap is different from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order parameter! Can be confirmed in Lattice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4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430-06D7-47B7-905A-3A586B28EA4D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灯片编号占位符 6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97BF-EEB5-4068-9538-277F33632C7B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262160" y="98100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hiral restoration vs. BCS-BEC crossov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28" name="Object 12"/>
          <p:cNvGraphicFramePr/>
          <p:nvPr/>
        </p:nvGraphicFramePr>
        <p:xfrm>
          <a:off x="3635280" y="5300640"/>
          <a:ext cx="1656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300640"/>
                    <a:ext cx="1656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44764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"/>
          <p:cNvPicPr/>
          <p:nvPr/>
        </p:nvPicPr>
        <p:blipFill>
          <a:blip r:embed="rId4"/>
          <a:stretch/>
        </p:blipFill>
        <p:spPr>
          <a:xfrm>
            <a:off x="468360" y="1557360"/>
            <a:ext cx="4968720" cy="3898800"/>
          </a:xfrm>
          <a:prstGeom prst="rect">
            <a:avLst/>
          </a:prstGeom>
          <a:ln w="0">
            <a:noFill/>
          </a:ln>
        </p:spPr>
      </p:pic>
      <p:sp>
        <p:nvSpPr>
          <p:cNvPr id="332" name="Line 18"/>
          <p:cNvSpPr/>
          <p:nvPr/>
        </p:nvSpPr>
        <p:spPr>
          <a:xfrm flipV="1">
            <a:off x="3571920" y="1714680"/>
            <a:ext cx="0" cy="309528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3" name="Line 19"/>
          <p:cNvSpPr/>
          <p:nvPr/>
        </p:nvSpPr>
        <p:spPr>
          <a:xfrm>
            <a:off x="3564000" y="4941720"/>
            <a:ext cx="360360" cy="5749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4" name="Picture 20" descr=""/>
          <p:cNvPicPr/>
          <p:nvPr/>
        </p:nvPicPr>
        <p:blipFill>
          <a:blip r:embed="rId5"/>
          <a:stretch/>
        </p:blipFill>
        <p:spPr>
          <a:xfrm>
            <a:off x="5651640" y="2276640"/>
            <a:ext cx="2665440" cy="2147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"/>
          <p:cNvPicPr/>
          <p:nvPr/>
        </p:nvPicPr>
        <p:blipFill>
          <a:blip r:embed="rId6"/>
          <a:stretch/>
        </p:blipFill>
        <p:spPr>
          <a:xfrm>
            <a:off x="5724360" y="4365720"/>
            <a:ext cx="2737080" cy="1998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2"/>
          <p:cNvSpPr/>
          <p:nvPr/>
        </p:nvSpPr>
        <p:spPr>
          <a:xfrm>
            <a:off x="7238520" y="3429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E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7265520" y="5248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8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1D9-B66A-42EE-8013-6D2896E37BEA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0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0EDC-1312-44AA-923D-C3128F204A6D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578400" cy="2660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654360" cy="2592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"/>
          <p:cNvPicPr/>
          <p:nvPr/>
        </p:nvPicPr>
        <p:blipFill>
          <a:blip r:embed="rId3"/>
          <a:stretch/>
        </p:blipFill>
        <p:spPr>
          <a:xfrm>
            <a:off x="4859280" y="4221000"/>
            <a:ext cx="2808360" cy="4636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graphicFrame>
        <p:nvGraphicFramePr>
          <p:cNvPr id="345" name="Object 14"/>
          <p:cNvGraphicFramePr/>
          <p:nvPr/>
        </p:nvGraphicFramePr>
        <p:xfrm>
          <a:off x="4427640" y="2781360"/>
          <a:ext cx="129528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2781360"/>
                    <a:ext cx="129528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15"/>
          <p:cNvGraphicFramePr/>
          <p:nvPr/>
        </p:nvGraphicFramePr>
        <p:xfrm>
          <a:off x="6372360" y="2852640"/>
          <a:ext cx="1152360" cy="74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8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2852640"/>
                    <a:ext cx="11523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16"/>
          <p:cNvSpPr/>
          <p:nvPr/>
        </p:nvSpPr>
        <p:spPr>
          <a:xfrm>
            <a:off x="4023000" y="5084640"/>
            <a:ext cx="47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Quark mass is still large above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hiral phase transition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1403280" y="306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c dependenc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51" name="Object 18"/>
          <p:cNvGraphicFramePr/>
          <p:nvPr/>
        </p:nvGraphicFramePr>
        <p:xfrm>
          <a:off x="1258920" y="981000"/>
          <a:ext cx="431640" cy="40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981000"/>
                    <a:ext cx="4316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19"/>
          <p:cNvSpPr/>
          <p:nvPr/>
        </p:nvSpPr>
        <p:spPr>
          <a:xfrm>
            <a:off x="1692000" y="907920"/>
            <a:ext cx="63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ndensation and Chiral Phase Transi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410760" y="33336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seudogap in QCD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5254200" y="155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JL Mod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56" name="Picture 22" descr=""/>
          <p:cNvPicPr/>
          <p:nvPr/>
        </p:nvPicPr>
        <p:blipFill>
          <a:blip r:embed="rId10"/>
          <a:stretch/>
        </p:blipFill>
        <p:spPr>
          <a:xfrm>
            <a:off x="4284720" y="2133720"/>
            <a:ext cx="3529080" cy="636480"/>
          </a:xfrm>
          <a:prstGeom prst="rect">
            <a:avLst/>
          </a:prstGeom>
          <a:ln w="0">
            <a:noFill/>
          </a:ln>
        </p:spPr>
      </p:pic>
      <p:sp>
        <p:nvSpPr>
          <p:cNvPr id="357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96E8-F6BE-43D2-9C61-E51903033144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9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19BB-B1E4-4AC0-B6CB-971EEC7E71F2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4142520" y="249228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Quark pesudogap remarkable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971280" y="907920"/>
            <a:ext cx="75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iquark condensation and color superconductiv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4502520" y="15573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JL model, 2SC phas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64" name="Object 23"/>
          <p:cNvGraphicFramePr/>
          <p:nvPr/>
        </p:nvGraphicFramePr>
        <p:xfrm>
          <a:off x="4643280" y="2133720"/>
          <a:ext cx="324036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324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4032360" cy="29620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92400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2340000" y="3213000"/>
          <a:ext cx="115236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3213000"/>
                    <a:ext cx="1152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03480" y="48690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 high Tc superconductor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19280" y="5445000"/>
          <a:ext cx="158436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445000"/>
                    <a:ext cx="1584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日期占位符 4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76A-8A84-4795-AAF7-B0CA11DDAC78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灯片编号占位符 6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34F-E86D-4212-9005-48F3C5621A0C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mpact of Superconductivity</a:t>
            </a:r>
            <a:endParaRPr b="0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773360"/>
          <a:ext cx="8137440" cy="4605120"/>
        </p:xfrm>
        <a:graphic>
          <a:graphicData uri="http://schemas.openxmlformats.org/drawingml/2006/table">
            <a:tbl>
              <a:tblPr/>
              <a:tblGrid>
                <a:gridCol w="2149920"/>
                <a:gridCol w="1794240"/>
                <a:gridCol w="216000"/>
                <a:gridCol w="3977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henomena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Order parameter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air Breaking effect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Metallic superconductivity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Zeeman Splitting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uperfluidity in Ultracold Fermi atoms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opulation imbalance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hiral symmetry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aking  in QCD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aryon chemical potential 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olor superconductivity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in dense quark matter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Isospin chemical potential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range quark mass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flavor superfluidity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in isospin matter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aryon chemical potential</a:t>
                      </a:r>
                      <a:endParaRPr b="0" lang="en-US" sz="1600" spc="-1" strike="noStrike">
                        <a:solidFill>
                          <a:srgbClr val="66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55"/>
              <p:cNvSpPr txBox="1"/>
              <p:nvPr/>
            </p:nvSpPr>
            <p:spPr>
              <a:xfrm>
                <a:off x="2987640" y="2492280"/>
                <a:ext cx="107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↑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↓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3"/>
              <p:cNvSpPr txBox="1"/>
              <p:nvPr/>
            </p:nvSpPr>
            <p:spPr>
              <a:xfrm>
                <a:off x="2987640" y="3213000"/>
                <a:ext cx="1079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89"/>
          <p:cNvGraphicFramePr/>
          <p:nvPr/>
        </p:nvGraphicFramePr>
        <p:xfrm>
          <a:off x="2987640" y="3933720"/>
          <a:ext cx="100800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933720"/>
                    <a:ext cx="1008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2"/>
          <p:cNvGraphicFramePr/>
          <p:nvPr/>
        </p:nvGraphicFramePr>
        <p:xfrm>
          <a:off x="2987640" y="4797360"/>
          <a:ext cx="100800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797360"/>
                    <a:ext cx="1008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95"/>
          <p:cNvGraphicFramePr/>
          <p:nvPr/>
        </p:nvGraphicFramePr>
        <p:xfrm>
          <a:off x="2987640" y="5734080"/>
          <a:ext cx="100800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5734080"/>
                    <a:ext cx="1008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11"/>
          <p:cNvGraphicFramePr/>
          <p:nvPr/>
        </p:nvGraphicFramePr>
        <p:xfrm>
          <a:off x="6630840" y="2492280"/>
          <a:ext cx="135432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30840" y="2492280"/>
                    <a:ext cx="13543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114"/>
              <p:cNvSpPr txBox="1"/>
              <p:nvPr/>
            </p:nvSpPr>
            <p:spPr>
              <a:xfrm>
                <a:off x="6948360" y="3141720"/>
                <a:ext cx="129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7451640" y="3860640"/>
          <a:ext cx="44928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51640" y="3860640"/>
                    <a:ext cx="449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451640" y="4508640"/>
          <a:ext cx="39204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1640" y="4508640"/>
                    <a:ext cx="392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877080" y="5157720"/>
          <a:ext cx="42048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7080" y="5157720"/>
                    <a:ext cx="420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67640" y="5734080"/>
          <a:ext cx="447840" cy="50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67640" y="5734080"/>
                    <a:ext cx="447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29"/>
              <p:cNvSpPr txBox="1"/>
              <p:nvPr/>
            </p:nvSpPr>
            <p:spPr>
              <a:xfrm>
                <a:off x="6012000" y="4221000"/>
                <a:ext cx="1224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g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75" name="Picture 24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4537080" cy="3033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5" descr=""/>
          <p:cNvPicPr/>
          <p:nvPr/>
        </p:nvPicPr>
        <p:blipFill>
          <a:blip r:embed="rId2"/>
          <a:stretch/>
        </p:blipFill>
        <p:spPr>
          <a:xfrm>
            <a:off x="4572000" y="4221000"/>
            <a:ext cx="1297080" cy="4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7" name="Rectangle 3"/>
          <p:cNvGraphicFramePr/>
          <p:nvPr/>
        </p:nvGraphicFramePr>
        <p:xfrm>
          <a:off x="7380360" y="4221000"/>
          <a:ext cx="93672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4221000"/>
                    <a:ext cx="9367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431960" y="5013360"/>
            <a:ext cx="40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n-Fermi liquid behavior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t low T!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4257720" cy="5616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45760" y="580536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(High T, see M.Kitazawa, 2005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占位符 3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6E99-89C0-4E82-8D24-D004B4DF2F5F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3" name="灯片编号占位符 5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09BC-2FD2-4FFC-B332-7FC314F3DA2A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95280" y="765000"/>
            <a:ext cx="792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. BCS-BEC crossover theory has been generalized             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relativistic system,  both at zero and at finite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emperatur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. Proper NR limit is recovered and new relativistic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s are foun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. Possible BCS-BEC crossover in diquark and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sospin matter is discusse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4. The size of quark pseudogap in chiral and CSC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hase transition is calculated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5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5640" y="443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utlook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1280" y="4869000"/>
            <a:ext cx="869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termine the pseudogap phase in QCD phase diagra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ignals of diquark fluctuation and pesudogap in HI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 of  the pseudogap on compact star cool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re precise theory, including quantum fluctu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日期占位符 5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B091-E81C-4B21-B9AB-DA5C22B3F68C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9" name="灯片编号占位符 7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8FB2-6F67-4049-92F9-9A5F86EDDFC4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402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2413440" y="2349360"/>
            <a:ext cx="432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2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3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E15-E13E-4B2F-821A-CCBDF9024F79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灯片编号占位符 5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0648-E06D-40FF-B144-50AA1525718A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640" y="1052280"/>
            <a:ext cx="597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Garamond"/>
              </a:rPr>
              <a:t>Theoretical History of Crossover:</a:t>
            </a:r>
            <a:endParaRPr b="0" lang="en-US" sz="24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258920" y="1628640"/>
            <a:ext cx="7416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Leggett  (1980)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noted that BCS T=0 wavefunction could b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eneralized to arbitrary attraction: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moot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CS-BEC crossover !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4067280" y="580536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995640" y="5229360"/>
                <a:ext cx="1257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" name="Group 7"/>
          <p:cNvGrpSpPr/>
          <p:nvPr/>
        </p:nvGrpSpPr>
        <p:grpSpPr>
          <a:xfrm>
            <a:off x="5435640" y="5121360"/>
            <a:ext cx="2573280" cy="900000"/>
            <a:chOff x="5435640" y="5121360"/>
            <a:chExt cx="2573280" cy="900000"/>
          </a:xfrm>
        </p:grpSpPr>
        <p:pic>
          <p:nvPicPr>
            <p:cNvPr id="89" name="Picture 8" descr="txp_fig"/>
            <p:cNvPicPr/>
            <p:nvPr/>
          </p:nvPicPr>
          <p:blipFill>
            <a:blip r:embed="rId1">
              <a:lum bright="100000"/>
              <a:alphaModFix amt="50000"/>
            </a:blip>
            <a:stretch/>
          </p:blipFill>
          <p:spPr>
            <a:xfrm>
              <a:off x="5435640" y="5553000"/>
              <a:ext cx="2573280" cy="46836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90" name="Text Box 9"/>
            <p:cNvSpPr/>
            <p:nvPr/>
          </p:nvSpPr>
          <p:spPr>
            <a:xfrm>
              <a:off x="6412680" y="512136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BCS</a:t>
              </a: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1042920" y="5157720"/>
            <a:ext cx="2868840" cy="863640"/>
            <a:chOff x="1042920" y="5157720"/>
            <a:chExt cx="2868840" cy="863640"/>
          </a:xfrm>
        </p:grpSpPr>
        <mc:AlternateContent>
          <mc:Choice xmlns:a14="http://schemas.microsoft.com/office/drawing/2010/main" Requires="a14">
            <p:sp>
              <p:nvSpPr>
                <p:cNvPr id="92" name="Object 11"/>
                <p:cNvSpPr txBox="1"/>
                <p:nvPr/>
              </p:nvSpPr>
              <p:spPr>
                <a:xfrm>
                  <a:off x="1042920" y="5589720"/>
                  <a:ext cx="28688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bSup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</m:sup>
                          </m:sSubSup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</m:sup>
                          </m:sSubSup>
                        </m:e>
                      </m:d>
                      <m:m>
                        <m:mr>
                          <m:e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3" name="Text Box 12"/>
            <p:cNvSpPr/>
            <p:nvPr/>
          </p:nvSpPr>
          <p:spPr>
            <a:xfrm>
              <a:off x="2096280" y="5157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BEC</a:t>
              </a: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cxnSp>
        <p:nvCxnSpPr>
          <p:cNvPr id="94" name="AutoShape 13"/>
          <p:cNvCxnSpPr/>
          <p:nvPr/>
        </p:nvCxnSpPr>
        <p:spPr>
          <a:xfrm>
            <a:off x="2857320" y="1520640"/>
            <a:ext cx="34297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pic>
        <p:nvPicPr>
          <p:cNvPr id="95" name="Picture 14" descr="Anthony J. Leggett"/>
          <p:cNvPicPr/>
          <p:nvPr/>
        </p:nvPicPr>
        <p:blipFill>
          <a:blip r:embed="rId2"/>
          <a:stretch/>
        </p:blipFill>
        <p:spPr>
          <a:xfrm>
            <a:off x="250920" y="1197000"/>
            <a:ext cx="971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bec_bcs"/>
          <p:cNvPicPr/>
          <p:nvPr/>
        </p:nvPicPr>
        <p:blipFill>
          <a:blip r:embed="rId3"/>
          <a:stretch/>
        </p:blipFill>
        <p:spPr>
          <a:xfrm>
            <a:off x="2124000" y="2421000"/>
            <a:ext cx="4896000" cy="237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8"/>
          <p:cNvSpPr/>
          <p:nvPr/>
        </p:nvSpPr>
        <p:spPr>
          <a:xfrm>
            <a:off x="446040" y="173160"/>
            <a:ext cx="64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Introduction to BCS-BEC Crossover</a:t>
            </a:r>
            <a:endParaRPr b="0" lang="en-US" sz="2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570640" y="47242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eak coupl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79000" y="4743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trong coupl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1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E5F-9B68-4794-9EF2-205137AD5A0E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EF8-9D6C-4FCE-97D1-6C36E9156F42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50920" y="1052640"/>
            <a:ext cx="8569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黑体"/>
              </a:rPr>
              <a:t>Eagles (1969): Pairing without superconductivit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4720" cy="4133880"/>
          </a:xfrm>
          <a:prstGeom prst="rect">
            <a:avLst/>
          </a:prstGeom>
          <a:ln w="0">
            <a:noFill/>
          </a:ln>
        </p:spPr>
      </p:pic>
      <p:sp>
        <p:nvSpPr>
          <p:cNvPr id="105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7400" y="5013360"/>
            <a:ext cx="50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 HTSC, the root of PG is not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quite clear. The pre-formed boson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echanism is only one explanation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2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D96-9F1C-4271-8098-C296E88A82F1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灯片编号占位符 4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FEB-2AD1-49B4-B7D4-E0D7F96C7392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285560" y="907920"/>
            <a:ext cx="659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xperimental evidence for pseudogap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in ultracold ferm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0" name="Picture 7" descr="DukeData-7SCI_AllT4"/>
          <p:cNvPicPr/>
          <p:nvPr/>
        </p:nvPicPr>
        <p:blipFill>
          <a:blip r:embed="rId1"/>
          <a:stretch/>
        </p:blipFill>
        <p:spPr>
          <a:xfrm>
            <a:off x="4427640" y="2205000"/>
            <a:ext cx="4176720" cy="327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Rectangle 8"/>
          <p:cNvSpPr/>
          <p:nvPr/>
        </p:nvSpPr>
        <p:spPr>
          <a:xfrm>
            <a:off x="4646880" y="580536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cience 307, 1296 (2005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12" name="Object 10"/>
          <p:cNvGraphicFramePr/>
          <p:nvPr/>
        </p:nvGraphicFramePr>
        <p:xfrm>
          <a:off x="468360" y="1557360"/>
          <a:ext cx="3213000" cy="42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32130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2"/>
          <p:cNvSpPr/>
          <p:nvPr/>
        </p:nvSpPr>
        <p:spPr>
          <a:xfrm>
            <a:off x="468360" y="5805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cience 305, 1128 (2004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Picture 13" descr="txp_fig"/>
          <p:cNvPicPr/>
          <p:nvPr/>
        </p:nvPicPr>
        <p:blipFill>
          <a:blip r:embed="rId4"/>
          <a:stretch/>
        </p:blipFill>
        <p:spPr>
          <a:xfrm>
            <a:off x="2484360" y="2205000"/>
            <a:ext cx="158436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txp_fig"/>
          <p:cNvPicPr/>
          <p:nvPr/>
        </p:nvPicPr>
        <p:blipFill>
          <a:blip r:embed="rId5"/>
          <a:stretch/>
        </p:blipFill>
        <p:spPr>
          <a:xfrm>
            <a:off x="2484360" y="2997360"/>
            <a:ext cx="1582920" cy="29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txp_fig"/>
          <p:cNvPicPr/>
          <p:nvPr/>
        </p:nvPicPr>
        <p:blipFill>
          <a:blip r:embed="rId6"/>
          <a:stretch/>
        </p:blipFill>
        <p:spPr>
          <a:xfrm>
            <a:off x="2484360" y="3860640"/>
            <a:ext cx="1656000" cy="27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txp_fig"/>
          <p:cNvPicPr/>
          <p:nvPr/>
        </p:nvPicPr>
        <p:blipFill>
          <a:blip r:embed="rId7"/>
          <a:stretch/>
        </p:blipFill>
        <p:spPr>
          <a:xfrm>
            <a:off x="2700360" y="4653000"/>
            <a:ext cx="1440000" cy="262080"/>
          </a:xfrm>
          <a:prstGeom prst="rect">
            <a:avLst/>
          </a:prstGeom>
          <a:ln w="0">
            <a:noFill/>
          </a:ln>
        </p:spPr>
      </p:pic>
      <p:sp>
        <p:nvSpPr>
          <p:cNvPr id="119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093080" y="4005360"/>
          <a:ext cx="50328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400536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 flipV="1">
            <a:off x="6659280" y="3716280"/>
            <a:ext cx="431640" cy="4320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C08-C735-43DC-A921-00A3B595C14B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490-0A4E-4EA9-AAD2-9E168BFF4374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971640" y="4076640"/>
            <a:ext cx="4394160" cy="2179800"/>
            <a:chOff x="971640" y="4076640"/>
            <a:chExt cx="4394160" cy="2179800"/>
          </a:xfrm>
        </p:grpSpPr>
        <p:sp>
          <p:nvSpPr>
            <p:cNvPr id="126" name="Arc 4"/>
            <p:cNvSpPr/>
            <p:nvPr/>
          </p:nvSpPr>
          <p:spPr>
            <a:xfrm>
              <a:off x="971640" y="4076640"/>
              <a:ext cx="2852640" cy="21765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 flipH="1">
              <a:off x="2337840" y="4957560"/>
              <a:ext cx="3025800" cy="2700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2341800" y="5181480"/>
              <a:ext cx="3024000" cy="1074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 rot="17488200">
              <a:off x="3141720" y="4665600"/>
              <a:ext cx="428400" cy="936360"/>
            </a:xfrm>
            <a:custGeom>
              <a:avLst/>
              <a:gdLst>
                <a:gd name="textAreaLeft" fmla="*/ 114120 w 428400"/>
                <a:gd name="textAreaRight" fmla="*/ 297360 w 428400"/>
                <a:gd name="textAreaTop" fmla="*/ 150120 h 936360"/>
                <a:gd name="textAreaBottom" fmla="*/ 786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94" y="2689"/>
                    <a:pt x="14988" y="5080"/>
                    <a:pt x="14988" y="10800"/>
                  </a:cubicBezTo>
                  <a:cubicBezTo>
                    <a:pt x="14988" y="16520"/>
                    <a:pt x="18294" y="189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 rot="1879200">
              <a:off x="2960280" y="4954320"/>
              <a:ext cx="503280" cy="215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541800" y="2924280"/>
            <a:ext cx="5226840" cy="3601800"/>
            <a:chOff x="541800" y="2924280"/>
            <a:chExt cx="5226840" cy="3601800"/>
          </a:xfrm>
        </p:grpSpPr>
        <p:sp>
          <p:nvSpPr>
            <p:cNvPr id="132" name="AutoShape 10"/>
            <p:cNvSpPr/>
            <p:nvPr/>
          </p:nvSpPr>
          <p:spPr>
            <a:xfrm flipH="1">
              <a:off x="2338920" y="5004000"/>
              <a:ext cx="3025800" cy="26964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339640" y="5265720"/>
              <a:ext cx="3024360" cy="1023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 flipV="1">
              <a:off x="4184280" y="4998960"/>
              <a:ext cx="1177920" cy="108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541800" y="292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</a:t>
              </a:r>
              <a:endParaRPr b="0" lang="en-US" sz="2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5430600" y="5975280"/>
              <a:ext cx="33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0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Arc 15"/>
            <p:cNvSpPr/>
            <p:nvPr/>
          </p:nvSpPr>
          <p:spPr>
            <a:xfrm>
              <a:off x="961920" y="4422960"/>
              <a:ext cx="2111400" cy="1877760"/>
            </a:xfrm>
            <a:prstGeom prst="pie">
              <a:avLst/>
            </a:prstGeom>
            <a:gradFill rotWithShape="0">
              <a:gsLst>
                <a:gs pos="0">
                  <a:srgbClr val="ffe0cb"/>
                </a:gs>
                <a:gs pos="100000">
                  <a:srgbClr val="ff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Arc 16"/>
            <p:cNvSpPr/>
            <p:nvPr/>
          </p:nvSpPr>
          <p:spPr>
            <a:xfrm>
              <a:off x="952200" y="4710240"/>
              <a:ext cx="2111400" cy="1587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2028600" y="466740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 flipV="1">
              <a:off x="961920" y="3168720"/>
              <a:ext cx="0" cy="31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961920" y="6300720"/>
              <a:ext cx="44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142" name="Text Box 20"/>
          <p:cNvSpPr/>
          <p:nvPr/>
        </p:nvSpPr>
        <p:spPr>
          <a:xfrm>
            <a:off x="3132000" y="5734080"/>
            <a:ext cx="1170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  <a:ea typeface="MS PGothic"/>
              </a:rPr>
              <a:t>BEC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1044000" y="4005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QGP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99960" y="33336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lativistic BCS-BEC Crossov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468360" y="90792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) QCD phase diagram at moderate temperature and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nsity, strong coupling nature!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) BCS-BEC crossover in CSC?  Pseudogap of CS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) NJL model: BCS theory of chiral symmetry breaking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hiral pesudogap above Tc?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2916360" y="5373720"/>
            <a:ext cx="2447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281400" y="5013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seudogap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4430880" y="558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S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284120" y="5392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B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87280" y="5373720"/>
          <a:ext cx="3654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373720"/>
                    <a:ext cx="365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356000" y="4149720"/>
            <a:ext cx="1152720" cy="10080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7840" y="3789360"/>
            <a:ext cx="56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Quark Spectrum and pseudogap, M. Kitazawa, et.al. 2005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148000" y="5373720"/>
            <a:ext cx="865080" cy="2872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1200" y="4941720"/>
            <a:ext cx="34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Structure change of Cooper pairs,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H.Abuki, et.al.2002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22920" y="90792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rogress in this field of research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4680" y="1484280"/>
            <a:ext cx="815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.Abuki and Y.Nishida:   NSR approach,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ew crossover: BCS-BEC-RBEC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.He and P.Zhuang:  BCS-Leggett theory at zero T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nd pesudogap theory at finite 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-BEC vs. Chiral Restor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J.Deng and Q.Wang: Boson-fermion mod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n mean field and beyond mean fiel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.Kitazawa, D.Rischke and I.Shovkovy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ossible Diquark BEC in NJ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.Brauner: Collective Excit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N expansion including quantum fluctu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(with H.Abuki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6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2EB-7013-467D-B589-D29BBEB6479D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灯片编号占位符 8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E37-A238-4CFF-A46F-A06F2B2357F2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01280" y="90792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Zero Temperature: BCS-Leggett mean Field Theor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40000" y="155736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del Lagrangia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3313080" cy="40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3168720" cy="563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3"/>
          <a:stretch/>
        </p:blipFill>
        <p:spPr>
          <a:xfrm>
            <a:off x="3924360" y="2637000"/>
            <a:ext cx="3097080" cy="8316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6" name="Text Box 11"/>
          <p:cNvSpPr/>
          <p:nvPr/>
        </p:nvSpPr>
        <p:spPr>
          <a:xfrm>
            <a:off x="522000" y="27813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ean Field Equ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7" name="Picture 15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4028760" cy="7002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8" name="Picture 18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2305080" cy="5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"/>
          <p:cNvPicPr/>
          <p:nvPr/>
        </p:nvPicPr>
        <p:blipFill>
          <a:blip r:embed="rId6"/>
          <a:stretch/>
        </p:blipFill>
        <p:spPr>
          <a:xfrm>
            <a:off x="3348000" y="4437000"/>
            <a:ext cx="1943280" cy="43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"/>
          <p:cNvPicPr/>
          <p:nvPr/>
        </p:nvPicPr>
        <p:blipFill>
          <a:blip r:embed="rId7"/>
          <a:stretch/>
        </p:blipFill>
        <p:spPr>
          <a:xfrm>
            <a:off x="5651640" y="4292640"/>
            <a:ext cx="2303280" cy="53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8"/>
          <a:stretch/>
        </p:blipFill>
        <p:spPr>
          <a:xfrm>
            <a:off x="684360" y="5084640"/>
            <a:ext cx="4968720" cy="81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"/>
          <p:cNvPicPr/>
          <p:nvPr/>
        </p:nvPicPr>
        <p:blipFill>
          <a:blip r:embed="rId9"/>
          <a:stretch/>
        </p:blipFill>
        <p:spPr>
          <a:xfrm>
            <a:off x="6156360" y="5300640"/>
            <a:ext cx="187308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24"/>
          <p:cNvGraphicFramePr/>
          <p:nvPr/>
        </p:nvGraphicFramePr>
        <p:xfrm>
          <a:off x="2411280" y="5805360"/>
          <a:ext cx="576360" cy="32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4" name="Object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11280" y="5805360"/>
                    <a:ext cx="57636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3"/>
          <p:cNvSpPr/>
          <p:nvPr/>
        </p:nvSpPr>
        <p:spPr>
          <a:xfrm>
            <a:off x="61128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CF5-8B81-4EAC-A57F-F3289FB47439}" type="datetime">
              <a:rPr b="1" lang="zh-CN" sz="1200" spc="-1" strike="noStrike">
                <a:solidFill>
                  <a:srgbClr val="800080"/>
                </a:solidFill>
                <a:latin typeface="Verdana"/>
              </a:rPr>
              <a:t>26/7/31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6516720" y="651816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7EA-09EE-40A7-8125-2E2AD756C9E5}" type="slidenum">
              <a:rPr b="1" lang="en-US" sz="1200" spc="-1" strike="noStrike">
                <a:solidFill>
                  <a:srgbClr val="800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165400" y="9810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ermionic Excitation Spectru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971640" y="1628640"/>
          <a:ext cx="295272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2952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4572000" y="1557360"/>
          <a:ext cx="316872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57360"/>
                    <a:ext cx="31687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1787040" y="2205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erm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220000" y="22050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nti-ferm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3320" y="2781360"/>
            <a:ext cx="906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n-relativistic limi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riterion for BCS and BEC: Minimum of the dispersion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: at           , existence of Fermi surfac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EC: at           , molecule condensation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role of fermion mass (new aspect in  QCD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CS-BEC      Chiral symmetry breaking&amp; restora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900000" y="3284640"/>
          <a:ext cx="273528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284640"/>
                    <a:ext cx="273528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40360" y="2852640"/>
          <a:ext cx="9363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2852640"/>
                    <a:ext cx="936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2"/>
          <p:cNvGraphicFramePr/>
          <p:nvPr/>
        </p:nvGraphicFramePr>
        <p:xfrm>
          <a:off x="5292720" y="2781360"/>
          <a:ext cx="151128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27813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3"/>
          <p:cNvGraphicFramePr/>
          <p:nvPr/>
        </p:nvGraphicFramePr>
        <p:xfrm>
          <a:off x="6948360" y="2781360"/>
          <a:ext cx="16560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2781360"/>
                    <a:ext cx="1656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4"/>
          <p:cNvGraphicFramePr/>
          <p:nvPr/>
        </p:nvGraphicFramePr>
        <p:xfrm>
          <a:off x="4067280" y="3429000"/>
          <a:ext cx="3313080" cy="61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3429000"/>
                    <a:ext cx="33130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2124000" y="4653000"/>
          <a:ext cx="79236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653000"/>
                    <a:ext cx="792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6"/>
          <p:cNvGraphicFramePr/>
          <p:nvPr/>
        </p:nvGraphicFramePr>
        <p:xfrm>
          <a:off x="2124000" y="5013360"/>
          <a:ext cx="792360" cy="36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9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4000" y="5013360"/>
                    <a:ext cx="7923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7"/>
          <p:cNvGraphicFramePr/>
          <p:nvPr/>
        </p:nvGraphicFramePr>
        <p:xfrm>
          <a:off x="7020000" y="4724280"/>
          <a:ext cx="431640" cy="32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1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20000" y="4724280"/>
                    <a:ext cx="4316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8"/>
          <p:cNvGraphicFramePr/>
          <p:nvPr/>
        </p:nvGraphicFramePr>
        <p:xfrm>
          <a:off x="7451640" y="4724280"/>
          <a:ext cx="863640" cy="366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3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51640" y="4724280"/>
                    <a:ext cx="8636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9"/>
          <p:cNvGraphicFramePr/>
          <p:nvPr/>
        </p:nvGraphicFramePr>
        <p:xfrm>
          <a:off x="6588000" y="5084640"/>
          <a:ext cx="432000" cy="324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5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88000" y="5084640"/>
                    <a:ext cx="432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0"/>
          <p:cNvGraphicFramePr/>
          <p:nvPr/>
        </p:nvGraphicFramePr>
        <p:xfrm>
          <a:off x="7020000" y="5084640"/>
          <a:ext cx="792000" cy="336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7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20000" y="5084640"/>
                    <a:ext cx="7920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68360" y="5734080"/>
          <a:ext cx="576360" cy="431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68360" y="5734080"/>
                    <a:ext cx="57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页脚占位符 8"/>
          <p:cNvSpPr/>
          <p:nvPr/>
        </p:nvSpPr>
        <p:spPr>
          <a:xfrm>
            <a:off x="3132000" y="6518160"/>
            <a:ext cx="351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Verdana"/>
                <a:ea typeface="仿宋_GB2312"/>
              </a:rPr>
              <a:t>ATHIC2008, TSUKUBA, JAPAN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03:47Z</dcterms:created>
  <dc:creator>Xianglei ZHU</dc:creator>
  <dc:description/>
  <dc:language>en-US</dc:language>
  <cp:lastModifiedBy>mao, shijun</cp:lastModifiedBy>
  <dcterms:modified xsi:type="dcterms:W3CDTF">2008-10-14T05:57:50Z</dcterms:modified>
  <cp:revision>776</cp:revision>
  <dc:subject/>
  <dc:title>幻灯片 1</dc:title>
</cp:coreProperties>
</file>