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15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433E-058C-4112-A1E9-A608B9E620F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BE4A-EF2E-4C21-85FE-BC84C8856A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71A2-9556-479F-9A19-5198774A3AC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6FEE-16D6-4789-A193-DCC948B564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75E3-F874-4E16-91E9-E3B6E6F27B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97BE-68CD-4137-B0C5-4E5D24A3E5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9C6E-8B4E-4C5B-8424-B6F522EF3C0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DD05-4E97-4822-9435-A3804AB2A8D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5E24-F2B6-48B0-9958-A26B9E895C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074B-AE57-481A-8896-19189388DA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EA53-4EDA-4833-B71B-CFF256D378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EA2A-613C-4083-8B69-5B2E48A621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EDAF-E0C8-4874-B821-97D297F52E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2CD-A765-4DB5-8EAE-EFACEBE8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396-507B-42E1-B396-9AD77C12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6B6-029B-461A-B589-AAEF31D1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B59-4334-4A2D-B706-3F59084F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7497-7F09-4117-B190-0BF6FECB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3F8F-D1A3-4820-A809-50D01F46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315C-B406-4A5A-AC63-2E12B0A3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0CF7-2CEC-424B-B02A-D5E4B022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4F9F-BFBF-43BA-96CA-D6C0424F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A730-E5FB-45B0-BCCF-A510716E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5900-E9AF-4B25-820D-C7CD20E1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501-7835-44A5-851F-8292DEE0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9FCF-C6EA-41C3-8AF4-DE33C228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A020-1F2A-46DF-970B-342E4B6F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9AF6-87BF-4B6F-A0B6-C527613C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7FA0-92A7-4505-911E-8E68961E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5139-429F-4672-BCBF-60721F95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C4379-C51B-4F0E-AC32-FE5E0A8B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74AD1-9E59-4AD9-B6D2-F363D264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E1CA-F89F-4211-A9DE-535E7FA8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D6EFB-CFAA-454F-850A-E1D8A202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3995-52DD-486F-A9AD-3532718C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7BE-6C36-4309-AF6C-C7A0B337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8CB87-E588-4691-AB68-0622FC00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F9613-32DE-4BBF-BA2B-FA8113F5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21BE5-3BA3-403F-A2FD-4D1C9664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B8BE-29ED-4464-93C1-ADE91413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27624-6CD0-466D-8120-41ECDA5D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9FE7-00C7-4AD9-819D-D129DA68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743A8-32FB-4E1E-A489-B81E630E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BB9C9-4385-4809-9DAD-1C441323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A8CBC-5303-4DCE-A27F-903962F8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86737-12FD-4523-ACBD-34CC7B3F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BA3-EA6B-474C-9EC3-341F4C41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B566B-784B-4EC9-BE63-D20458E7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1AB32-8046-45C3-A256-5DA8221C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26356-D3A6-4D73-A211-A8F03BDD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B855A-5901-4609-B86C-C108D61E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3DF07-DC78-49DF-96D2-943510D5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ED24A-BD8C-41D1-9698-761E783A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F652C-73F1-4253-9CCD-93BEC0EA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E37F8-F95B-4012-B890-018B1D54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5C0F3-A3E9-4E67-871D-94A1D5D1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A4E-F82F-4018-A85B-08779200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656-0A6C-455D-9B66-7F808C75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12C-1214-4956-BD78-61543F25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BDB-8023-4AD6-BA14-718960F5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4F2-81AB-45C4-AE6D-7963C54C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フリーフォーム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フリーフォーム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-360" y="6643440"/>
            <a:ext cx="1071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643440"/>
            <a:ext cx="3353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76212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320A-B8CD-4711-9E7E-714F2DF620C2}" type="slidenum">
              <a:rPr b="1" lang="ja-JP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グループ化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フリーフォーム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フリーフォーム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フリーフォーム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フリーフォーム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フリーフォーム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グループ化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フリーフォーム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フリーフォーム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フリーフォーム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フリーフォーム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-360" y="6643440"/>
            <a:ext cx="1071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1eaee"/>
                </a:solidFill>
                <a:latin typeface="Times New Roman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643440"/>
            <a:ext cx="3353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1eaee"/>
                </a:solidFill>
                <a:latin typeface="Times New Roman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-360" y="0"/>
            <a:ext cx="76212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0C90-8A23-4E4D-90FB-06CA80AE2C8C}" type="slidenum"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フリーフォーム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フリーフォーム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グループ化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フリーフォーム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フリーフォーム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フリーフォーム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フリーフォーム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-360" y="6643440"/>
            <a:ext cx="1071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1eaee"/>
                </a:solidFill>
                <a:latin typeface="Times New Roman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643440"/>
            <a:ext cx="3353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1eaee"/>
                </a:solidFill>
                <a:latin typeface="Times New Roman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-360" y="0"/>
            <a:ext cx="76212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A305-B8F3-4D1D-8C92-6C526D9B3E14}" type="slidenum"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 つの角を丸めた四角形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フリーフォーム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フリーフォーム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-360" y="6643440"/>
            <a:ext cx="1071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643440"/>
            <a:ext cx="3353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8B76-8613-43B6-B08A-EB5B52ECCBD8}" type="slidenum">
              <a:rPr b="1" lang="ja-JP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タイトル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248680" cy="1895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743200" y="4500720"/>
            <a:ext cx="6400800" cy="1428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Yorito Yamaguch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or the PHENIX collabo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NS, University of Toky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日付プレースホルダ 3"/>
          <p:cNvSpPr/>
          <p:nvPr/>
        </p:nvSpPr>
        <p:spPr>
          <a:xfrm>
            <a:off x="0" y="664380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1eaee"/>
                </a:solidFill>
                <a:latin typeface="Arial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フッター プレースホルダ 5"/>
          <p:cNvSpPr/>
          <p:nvPr/>
        </p:nvSpPr>
        <p:spPr>
          <a:xfrm>
            <a:off x="2666880" y="6643800"/>
            <a:ext cx="335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1eaee"/>
                </a:solidFill>
                <a:latin typeface="Arial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phenix"/>
          <p:cNvPicPr/>
          <p:nvPr/>
        </p:nvPicPr>
        <p:blipFill>
          <a:blip r:embed="rId2"/>
          <a:stretch/>
        </p:blipFill>
        <p:spPr>
          <a:xfrm>
            <a:off x="7037280" y="5929200"/>
            <a:ext cx="2094120" cy="714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NS_Logo"/>
          <p:cNvPicPr/>
          <p:nvPr/>
        </p:nvPicPr>
        <p:blipFill>
          <a:blip r:embed="rId3"/>
          <a:stretch/>
        </p:blipFill>
        <p:spPr>
          <a:xfrm>
            <a:off x="4468680" y="5931000"/>
            <a:ext cx="2571840" cy="712800"/>
          </a:xfrm>
          <a:prstGeom prst="rect">
            <a:avLst/>
          </a:prstGeom>
          <a:ln w="0">
            <a:noFill/>
          </a:ln>
        </p:spPr>
      </p:pic>
      <p:sp>
        <p:nvSpPr>
          <p:cNvPr id="208" name="スライド番号プレースホルダ 8"/>
          <p:cNvSpPr/>
          <p:nvPr/>
        </p:nvSpPr>
        <p:spPr>
          <a:xfrm>
            <a:off x="0" y="0"/>
            <a:ext cx="762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B237-8E10-40C9-844E-AABE72E07D12}" type="slidenum">
              <a:rPr b="1" lang="ja-JP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9" descr="C:\Users\Yasuyuki Akiba\Documents\phenix\phenix_publications\PPG086 RUN4_5 ICA\9 PPG086 BNL seminar\Fig3.gif"/>
          <p:cNvPicPr/>
          <p:nvPr/>
        </p:nvPicPr>
        <p:blipFill>
          <a:blip r:embed="rId1"/>
          <a:stretch/>
        </p:blipFill>
        <p:spPr>
          <a:xfrm>
            <a:off x="0" y="1428840"/>
            <a:ext cx="5500800" cy="3697200"/>
          </a:xfrm>
          <a:prstGeom prst="rect">
            <a:avLst/>
          </a:prstGeom>
          <a:ln w="0">
            <a:noFill/>
          </a:ln>
        </p:spPr>
      </p:pic>
      <p:pic>
        <p:nvPicPr>
          <p:cNvPr id="335" name="タイトル 1" descr=""/>
          <p:cNvPicPr/>
          <p:nvPr/>
        </p:nvPicPr>
        <p:blipFill>
          <a:blip r:embed="rId2"/>
          <a:stretch/>
        </p:blipFill>
        <p:spPr>
          <a:xfrm>
            <a:off x="73080" y="96840"/>
            <a:ext cx="8620200" cy="1152360"/>
          </a:xfrm>
          <a:prstGeom prst="rect">
            <a:avLst/>
          </a:prstGeom>
          <a:ln w="0">
            <a:noFill/>
          </a:ln>
        </p:spPr>
      </p:pic>
      <p:sp>
        <p:nvSpPr>
          <p:cNvPr id="336" name="日付プレースホルダ 2"/>
          <p:cNvSpPr/>
          <p:nvPr/>
        </p:nvSpPr>
        <p:spPr>
          <a:xfrm>
            <a:off x="0" y="664380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フッター プレースホルダ 3"/>
          <p:cNvSpPr/>
          <p:nvPr/>
        </p:nvSpPr>
        <p:spPr>
          <a:xfrm>
            <a:off x="2666880" y="6643800"/>
            <a:ext cx="335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テキスト ボックス 9"/>
          <p:cNvSpPr/>
          <p:nvPr/>
        </p:nvSpPr>
        <p:spPr>
          <a:xfrm>
            <a:off x="5072040" y="1790640"/>
            <a:ext cx="371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Curves : NLO pQCD calculations with different theoretical sc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5143680" y="2817720"/>
                <a:ext cx="385740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dσ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LO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dσ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LO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dσ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ad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テキスト ボックス 11"/>
          <p:cNvSpPr/>
          <p:nvPr/>
        </p:nvSpPr>
        <p:spPr>
          <a:xfrm>
            <a:off x="71280" y="5249880"/>
            <a:ext cx="471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 Unicode MS"/>
              </a:rPr>
              <a:t>p+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Consistent with NLO pQ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better agreement with small 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テキスト ボックス 12"/>
          <p:cNvSpPr/>
          <p:nvPr/>
        </p:nvSpPr>
        <p:spPr>
          <a:xfrm>
            <a:off x="4786200" y="5249880"/>
            <a:ext cx="43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 Unicode MS"/>
              </a:rPr>
              <a:t>Au+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Clear enhancement above NLO pQ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テキスト ボックス 12"/>
          <p:cNvSpPr/>
          <p:nvPr/>
        </p:nvSpPr>
        <p:spPr>
          <a:xfrm>
            <a:off x="1290960" y="1320840"/>
            <a:ext cx="6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 Unicode MS"/>
              </a:rPr>
              <a:t>p+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テキスト ボックス 13"/>
          <p:cNvSpPr/>
          <p:nvPr/>
        </p:nvSpPr>
        <p:spPr>
          <a:xfrm>
            <a:off x="3436920" y="1320840"/>
            <a:ext cx="108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 Unicode MS"/>
              </a:rPr>
              <a:t>Au+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テキスト ボックス 14"/>
          <p:cNvSpPr/>
          <p:nvPr/>
        </p:nvSpPr>
        <p:spPr>
          <a:xfrm>
            <a:off x="4857840" y="14288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Bas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omment 17"/>
          <p:cNvSpPr/>
          <p:nvPr/>
        </p:nvSpPr>
        <p:spPr>
          <a:xfrm>
            <a:off x="4929120" y="4202280"/>
            <a:ext cx="421488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990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L.E.Gordon, W.Vogelsang, PRD  48  3136 and W.Vogelsang, private commun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2129400" y="1571760"/>
            <a:ext cx="11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Xiv: 0804.41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スライド番号プレースホルダ 15"/>
          <p:cNvSpPr/>
          <p:nvPr/>
        </p:nvSpPr>
        <p:spPr>
          <a:xfrm>
            <a:off x="0" y="0"/>
            <a:ext cx="762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F77A-8E1E-4CE4-A917-04DAFEED3B5D}" type="slidenum">
              <a:rPr b="1" lang="ja-JP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C:\Users\Yasuyuki Akiba\Documents\phenix\phenix_publications\PPG086 RUN4_5 ICA\9 PPG086 BNL seminar\Fig4.gif"/>
          <p:cNvPicPr/>
          <p:nvPr/>
        </p:nvPicPr>
        <p:blipFill>
          <a:blip r:embed="rId1"/>
          <a:stretch/>
        </p:blipFill>
        <p:spPr>
          <a:xfrm>
            <a:off x="0" y="1036800"/>
            <a:ext cx="5065560" cy="5678280"/>
          </a:xfrm>
          <a:prstGeom prst="rect">
            <a:avLst/>
          </a:prstGeom>
          <a:ln w="0">
            <a:noFill/>
          </a:ln>
        </p:spPr>
      </p:pic>
      <p:pic>
        <p:nvPicPr>
          <p:cNvPr id="349" name="タイトル 1" descr=""/>
          <p:cNvPicPr/>
          <p:nvPr/>
        </p:nvPicPr>
        <p:blipFill>
          <a:blip r:embed="rId2"/>
          <a:stretch/>
        </p:blipFill>
        <p:spPr>
          <a:xfrm>
            <a:off x="73080" y="96840"/>
            <a:ext cx="8620200" cy="1152360"/>
          </a:xfrm>
          <a:prstGeom prst="rect">
            <a:avLst/>
          </a:prstGeom>
          <a:ln w="0">
            <a:noFill/>
          </a:ln>
        </p:spPr>
      </p:pic>
      <p:sp>
        <p:nvSpPr>
          <p:cNvPr id="350" name="日付プレースホルダ 2"/>
          <p:cNvSpPr/>
          <p:nvPr/>
        </p:nvSpPr>
        <p:spPr>
          <a:xfrm>
            <a:off x="0" y="664380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テキスト ボックス 6"/>
          <p:cNvSpPr/>
          <p:nvPr/>
        </p:nvSpPr>
        <p:spPr>
          <a:xfrm>
            <a:off x="4643280" y="1143000"/>
            <a:ext cx="442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 Unicode MS"/>
              </a:rPr>
              <a:t>p+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First measurement in 1-3GeV/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Consistent with NLO pQ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 Unicode MS"/>
              </a:rPr>
              <a:t>Serves as a crucial re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テキスト ボックス 7"/>
          <p:cNvSpPr/>
          <p:nvPr/>
        </p:nvSpPr>
        <p:spPr>
          <a:xfrm>
            <a:off x="4643280" y="2535120"/>
            <a:ext cx="442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 Unicode MS"/>
              </a:rPr>
              <a:t>Au+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Significant excess over binary-scaled p+p result for pT&lt;3GeV/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Inverse slope of exponential fit is related to temperature of mat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図 8" descr="fit_summary.jpg"/>
          <p:cNvPicPr/>
          <p:nvPr/>
        </p:nvPicPr>
        <p:blipFill>
          <a:blip r:embed="rId3"/>
          <a:stretch/>
        </p:blipFill>
        <p:spPr>
          <a:xfrm>
            <a:off x="4694400" y="5305320"/>
            <a:ext cx="4410000" cy="1435320"/>
          </a:xfrm>
          <a:prstGeom prst="rect">
            <a:avLst/>
          </a:prstGeom>
          <a:ln w="0">
            <a:noFill/>
          </a:ln>
        </p:spPr>
      </p:pic>
      <p:sp>
        <p:nvSpPr>
          <p:cNvPr id="354" name="正方形/長方形 8"/>
          <p:cNvSpPr/>
          <p:nvPr/>
        </p:nvSpPr>
        <p:spPr>
          <a:xfrm>
            <a:off x="4695840" y="5643720"/>
            <a:ext cx="468360" cy="23328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正方形/長方形 9"/>
          <p:cNvSpPr/>
          <p:nvPr/>
        </p:nvSpPr>
        <p:spPr>
          <a:xfrm>
            <a:off x="7234200" y="5643720"/>
            <a:ext cx="1062000" cy="23328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グループ化 17"/>
          <p:cNvGrpSpPr/>
          <p:nvPr/>
        </p:nvGrpSpPr>
        <p:grpSpPr>
          <a:xfrm>
            <a:off x="4727520" y="4262400"/>
            <a:ext cx="4243320" cy="1091880"/>
            <a:chOff x="4727520" y="4262400"/>
            <a:chExt cx="4243320" cy="1091880"/>
          </a:xfrm>
        </p:grpSpPr>
        <mc:AlternateContent>
          <mc:Choice xmlns:a14="http://schemas.microsoft.com/office/drawing/2010/main" Requires="a14">
            <p:sp>
              <p:nvSpPr>
                <p:cNvPr id="357" name="Object 5"/>
                <p:cNvSpPr txBox="1"/>
                <p:nvPr/>
              </p:nvSpPr>
              <p:spPr>
                <a:xfrm>
                  <a:off x="4727520" y="4507560"/>
                  <a:ext cx="4243320" cy="41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sub>
                      </m:sSub>
                      <m:r>
                        <m:t xml:space="preserve">×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fPr>
                          <m:type m:val="lin"/>
                        </m:fPr>
                        <m:num>
                          <m:sSubSup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フリーフォーム 11"/>
            <p:cNvSpPr/>
            <p:nvPr/>
          </p:nvSpPr>
          <p:spPr>
            <a:xfrm>
              <a:off x="6581520" y="4924440"/>
              <a:ext cx="2292480" cy="131760"/>
            </a:xfrm>
            <a:prstGeom prst="pie">
              <a:avLst/>
            </a:prstGeom>
            <a:noFill/>
            <a:ln w="381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フリーフォーム 12"/>
            <p:cNvSpPr/>
            <p:nvPr/>
          </p:nvSpPr>
          <p:spPr>
            <a:xfrm>
              <a:off x="4808160" y="4924440"/>
              <a:ext cx="1622520" cy="133200"/>
            </a:xfrm>
            <a:prstGeom prst="pie">
              <a:avLst/>
            </a:prstGeom>
            <a:noFill/>
            <a:ln w="381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テキスト ボックス 16"/>
            <p:cNvSpPr/>
            <p:nvPr/>
          </p:nvSpPr>
          <p:spPr>
            <a:xfrm>
              <a:off x="4867560" y="504720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Exponential p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テキスト ボックス 17"/>
            <p:cNvSpPr/>
            <p:nvPr/>
          </p:nvSpPr>
          <p:spPr>
            <a:xfrm>
              <a:off x="6651720" y="5047200"/>
              <a:ext cx="22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inary-scaled p+p resul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正方形/長方形 15"/>
            <p:cNvSpPr/>
            <p:nvPr/>
          </p:nvSpPr>
          <p:spPr>
            <a:xfrm>
              <a:off x="6091200" y="4568760"/>
              <a:ext cx="182520" cy="2793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テキスト ボックス 17"/>
            <p:cNvSpPr/>
            <p:nvPr/>
          </p:nvSpPr>
          <p:spPr>
            <a:xfrm>
              <a:off x="5568840" y="426240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verse slo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フッター プレースホルダ 3"/>
          <p:cNvSpPr/>
          <p:nvPr/>
        </p:nvSpPr>
        <p:spPr>
          <a:xfrm>
            <a:off x="2666880" y="6643800"/>
            <a:ext cx="335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3344040" y="1357200"/>
            <a:ext cx="11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Xiv: 0804.41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スライド番号プレースホルダ 20"/>
          <p:cNvSpPr/>
          <p:nvPr/>
        </p:nvSpPr>
        <p:spPr>
          <a:xfrm>
            <a:off x="0" y="0"/>
            <a:ext cx="762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987A-1710-40EF-89E0-65A4F3D35F1D}" type="slidenum">
              <a:rPr b="1" lang="ja-JP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タイトル 1" descr=""/>
          <p:cNvPicPr/>
          <p:nvPr/>
        </p:nvPicPr>
        <p:blipFill>
          <a:blip r:embed="rId1"/>
          <a:stretch/>
        </p:blipFill>
        <p:spPr>
          <a:xfrm>
            <a:off x="73080" y="96840"/>
            <a:ext cx="8620200" cy="1152360"/>
          </a:xfrm>
          <a:prstGeom prst="rect">
            <a:avLst/>
          </a:prstGeom>
          <a:ln w="0">
            <a:noFill/>
          </a:ln>
        </p:spPr>
      </p:pic>
      <p:sp>
        <p:nvSpPr>
          <p:cNvPr id="368" name="日付プレースホルダ 2"/>
          <p:cNvSpPr/>
          <p:nvPr/>
        </p:nvSpPr>
        <p:spPr>
          <a:xfrm>
            <a:off x="0" y="664380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フッター プレースホルダ 3"/>
          <p:cNvSpPr/>
          <p:nvPr/>
        </p:nvSpPr>
        <p:spPr>
          <a:xfrm>
            <a:off x="2666880" y="6643800"/>
            <a:ext cx="335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ontent Placeholder 2"/>
          <p:cNvSpPr/>
          <p:nvPr/>
        </p:nvSpPr>
        <p:spPr>
          <a:xfrm>
            <a:off x="4429080" y="1424160"/>
            <a:ext cx="4714920" cy="51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51"/>
              </a:spcBef>
              <a:buClr>
                <a:srgbClr val="0f6fc6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 temperatures and times from theoretical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=590MeV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=0.15fm/c (D.d’Enterria et al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=580MeV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=0.17fm/c (S.Rasanen et al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=450-600MeV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=0.2fm/c (D.K.Srivast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=370MeV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=0.33fm/c (S.Turbide et al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=300MeV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=0.5fm/c (J.Alam et al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=370MeV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=0.6fm/c (F.Liu et al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51"/>
              </a:spcBef>
              <a:buClr>
                <a:srgbClr val="0f6fc6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hydrodynamical models are agreement with the data within a factor of 2 in spite of their wide-ranging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10800" y="1190520"/>
            <a:ext cx="484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ry compilation by D. d’Enterria and D. Peressoun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JC46, 451 (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6" descr="au_020_gdirect_theory_comp2"/>
          <p:cNvPicPr/>
          <p:nvPr/>
        </p:nvPicPr>
        <p:blipFill>
          <a:blip r:embed="rId2"/>
          <a:stretch/>
        </p:blipFill>
        <p:spPr>
          <a:xfrm>
            <a:off x="0" y="1643040"/>
            <a:ext cx="4521240" cy="4952880"/>
          </a:xfrm>
          <a:prstGeom prst="rect">
            <a:avLst/>
          </a:prstGeom>
          <a:ln w="0">
            <a:noFill/>
          </a:ln>
        </p:spPr>
      </p:pic>
      <p:grpSp>
        <p:nvGrpSpPr>
          <p:cNvPr id="373" name="グループ化 12"/>
          <p:cNvGrpSpPr/>
          <p:nvPr/>
        </p:nvGrpSpPr>
        <p:grpSpPr>
          <a:xfrm>
            <a:off x="0" y="1143000"/>
            <a:ext cx="9144000" cy="5500800"/>
            <a:chOff x="0" y="1143000"/>
            <a:chExt cx="9144000" cy="5500800"/>
          </a:xfrm>
        </p:grpSpPr>
        <p:pic>
          <p:nvPicPr>
            <p:cNvPr id="374" name="図 10" descr="theory_comp.jpg"/>
            <p:cNvPicPr/>
            <p:nvPr/>
          </p:nvPicPr>
          <p:blipFill>
            <a:blip r:embed="rId3"/>
            <a:stretch/>
          </p:blipFill>
          <p:spPr>
            <a:xfrm>
              <a:off x="0" y="1214280"/>
              <a:ext cx="4429080" cy="542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Content Placeholder 2"/>
            <p:cNvSpPr/>
            <p:nvPr/>
          </p:nvSpPr>
          <p:spPr>
            <a:xfrm>
              <a:off x="4425480" y="1428480"/>
              <a:ext cx="4718520" cy="501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spcBef>
                  <a:spcPts val="451"/>
                </a:spcBef>
                <a:buClr>
                  <a:srgbClr val="0f6fc6"/>
                </a:buClr>
                <a:buSzPct val="9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itial temperatures and times from theoretical 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30080" indent="-272880">
                <a:lnSpc>
                  <a:spcPct val="100000"/>
                </a:lnSpc>
                <a:spcBef>
                  <a:spcPts val="349"/>
                </a:spcBef>
                <a:buClr>
                  <a:srgbClr val="0f6fc6"/>
                </a:buClr>
                <a:buSzPct val="9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=590MeV,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15fm/c (D.d’Enterria et al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30080" indent="-272880">
                <a:lnSpc>
                  <a:spcPct val="100000"/>
                </a:lnSpc>
                <a:spcBef>
                  <a:spcPts val="349"/>
                </a:spcBef>
                <a:buClr>
                  <a:srgbClr val="0f6fc6"/>
                </a:buClr>
                <a:buSzPct val="9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=580MeV,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17fm/c (S.Rasanen et al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30080" indent="-272880">
                <a:lnSpc>
                  <a:spcPct val="100000"/>
                </a:lnSpc>
                <a:spcBef>
                  <a:spcPts val="349"/>
                </a:spcBef>
                <a:buClr>
                  <a:srgbClr val="0f6fc6"/>
                </a:buClr>
                <a:buSzPct val="9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=450-600MeV,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2fm/c (D.K.Srivastav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30080" indent="-272880">
                <a:lnSpc>
                  <a:spcPct val="100000"/>
                </a:lnSpc>
                <a:spcBef>
                  <a:spcPts val="349"/>
                </a:spcBef>
                <a:buClr>
                  <a:srgbClr val="0f6fc6"/>
                </a:buClr>
                <a:buSzPct val="9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=370MeV,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33fm/c (S.Turbide et al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30080" indent="-272880">
                <a:lnSpc>
                  <a:spcPct val="100000"/>
                </a:lnSpc>
                <a:spcBef>
                  <a:spcPts val="349"/>
                </a:spcBef>
                <a:buClr>
                  <a:srgbClr val="0f6fc6"/>
                </a:buClr>
                <a:buSzPct val="9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=300MeV,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5fm/c (J.Alam et al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30080" indent="-272880">
                <a:lnSpc>
                  <a:spcPct val="100000"/>
                </a:lnSpc>
                <a:spcBef>
                  <a:spcPts val="349"/>
                </a:spcBef>
                <a:buClr>
                  <a:srgbClr val="0f6fc6"/>
                </a:buClr>
                <a:buSzPct val="9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=370MeV, </a:t>
              </a:r>
              <a:r>
                <a:rPr b="1" lang="en-US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=0.6fm/c (F.Liu et al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spcBef>
                  <a:spcPts val="451"/>
                </a:spcBef>
                <a:buClr>
                  <a:srgbClr val="0f6fc6"/>
                </a:buClr>
                <a:buSzPct val="9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l hydrodynamical models are in agreement with the data within a factor of 2 in spite of their wide-ranging conditio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spcBef>
                  <a:spcPts val="451"/>
                </a:spcBef>
                <a:buClr>
                  <a:srgbClr val="0f6fc6"/>
                </a:buClr>
                <a:buSzPct val="9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Agreement with real data for different centralities and a wide pT rang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21"/>
            <p:cNvSpPr/>
            <p:nvPr/>
          </p:nvSpPr>
          <p:spPr>
            <a:xfrm>
              <a:off x="2486520" y="1143000"/>
              <a:ext cx="118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rXiv: 0807.477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スライド番号プレースホルダ 12"/>
          <p:cNvSpPr/>
          <p:nvPr/>
        </p:nvSpPr>
        <p:spPr>
          <a:xfrm>
            <a:off x="0" y="0"/>
            <a:ext cx="762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032D-6C60-43CA-AFC0-6200189A0C32}" type="slidenum">
              <a:rPr b="1" lang="ja-JP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タイトル 1" descr=""/>
          <p:cNvPicPr/>
          <p:nvPr/>
        </p:nvPicPr>
        <p:blipFill>
          <a:blip r:embed="rId1"/>
          <a:stretch/>
        </p:blipFill>
        <p:spPr>
          <a:xfrm>
            <a:off x="73080" y="96840"/>
            <a:ext cx="8620200" cy="1152360"/>
          </a:xfrm>
          <a:prstGeom prst="rect">
            <a:avLst/>
          </a:prstGeom>
          <a:ln w="0">
            <a:noFill/>
          </a:ln>
        </p:spPr>
      </p:pic>
      <p:sp>
        <p:nvSpPr>
          <p:cNvPr id="379" name="日付プレースホルダ 2"/>
          <p:cNvSpPr/>
          <p:nvPr/>
        </p:nvSpPr>
        <p:spPr>
          <a:xfrm>
            <a:off x="0" y="664380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フッター プレースホルダ 3"/>
          <p:cNvSpPr/>
          <p:nvPr/>
        </p:nvSpPr>
        <p:spPr>
          <a:xfrm>
            <a:off x="2666880" y="6643800"/>
            <a:ext cx="335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テキスト ボックス 5"/>
          <p:cNvSpPr/>
          <p:nvPr/>
        </p:nvSpPr>
        <p:spPr>
          <a:xfrm>
            <a:off x="33480" y="1285920"/>
            <a:ext cx="9072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Direct photon measurements with virtual photon method in p+p and Au+Au collisions have been done at RHIC-PHENI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Significant excess of direct photon yield above binary scaled p+p result is observed in Au+Au colli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Fitting with exponential + binary-scaled p+p result provides inverse slope of 221±23±18MeV in central Au+Au colli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Theoretical models are in agreement with the data within a factor of 2 in spite of their wide-ranging initial cond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Same analysis in d+Au collisions is needed to evaluate contributions from nuclear effects to direct photon yield in pT &lt; 3GeV/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Cronin ef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PDF of Au nucleus</a:t>
            </a:r>
            <a:r>
              <a:rPr b="0" lang="en-US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p+p analysis with more statistics is now ongo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 with higher quality will be provi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T region will be extended upwa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スライド番号プレースホルダ 6"/>
          <p:cNvSpPr/>
          <p:nvPr/>
        </p:nvSpPr>
        <p:spPr>
          <a:xfrm>
            <a:off x="0" y="0"/>
            <a:ext cx="762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E6E6-960C-43F7-B883-38345A042D36}" type="slidenum">
              <a:rPr b="1" lang="ja-JP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タイトル 1" descr=""/>
          <p:cNvPicPr/>
          <p:nvPr/>
        </p:nvPicPr>
        <p:blipFill>
          <a:blip r:embed="rId1"/>
          <a:stretch/>
        </p:blipFill>
        <p:spPr>
          <a:xfrm>
            <a:off x="73080" y="96840"/>
            <a:ext cx="8620200" cy="1152360"/>
          </a:xfrm>
          <a:prstGeom prst="rect">
            <a:avLst/>
          </a:prstGeom>
          <a:ln w="0">
            <a:noFill/>
          </a:ln>
        </p:spPr>
      </p:pic>
      <p:sp>
        <p:nvSpPr>
          <p:cNvPr id="210" name="日付プレースホルダ 2"/>
          <p:cNvSpPr/>
          <p:nvPr/>
        </p:nvSpPr>
        <p:spPr>
          <a:xfrm>
            <a:off x="0" y="664380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フッター プレースホルダ 4"/>
          <p:cNvSpPr/>
          <p:nvPr/>
        </p:nvSpPr>
        <p:spPr>
          <a:xfrm>
            <a:off x="2666880" y="6643800"/>
            <a:ext cx="335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テキスト ボックス 5"/>
          <p:cNvSpPr/>
          <p:nvPr/>
        </p:nvSpPr>
        <p:spPr>
          <a:xfrm>
            <a:off x="0" y="1452600"/>
            <a:ext cx="58579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 photon is an important probe to investigate the characteristics of evolution of the matter created by heavy ion colli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fined as photons from parton-parton interaction, NOT from hadron dec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itted from every stage of coll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netrate the strong interacting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ed into 2 groups depending on their ori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>
              <a:lnSpc>
                <a:spcPct val="100000"/>
              </a:lnSpc>
              <a:buClr>
                <a:srgbClr val="0f6fc6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 photons (</a:t>
            </a:r>
            <a:r>
              <a:rPr b="1" lang="en-US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High pT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71600">
              <a:lnSpc>
                <a:spcPct val="100000"/>
              </a:lnSpc>
              <a:buClr>
                <a:srgbClr val="0f6fc6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itial hard scat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>
              <a:lnSpc>
                <a:spcPct val="100000"/>
              </a:lnSpc>
              <a:buClr>
                <a:srgbClr val="0f6fc6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-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4400">
              <a:lnSpc>
                <a:spcPct val="100000"/>
              </a:lnSpc>
              <a:buClr>
                <a:srgbClr val="0f6fc6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ft photons (</a:t>
            </a:r>
            <a:r>
              <a:rPr b="1" lang="en-US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ow pT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71600">
              <a:lnSpc>
                <a:spcPct val="100000"/>
              </a:lnSpc>
              <a:buClr>
                <a:srgbClr val="0f6fc6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Thermal radiation from QGP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Hadron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2" descr="dirgamma"/>
          <p:cNvPicPr/>
          <p:nvPr/>
        </p:nvPicPr>
        <p:blipFill>
          <a:blip r:embed="rId2"/>
          <a:stretch/>
        </p:blipFill>
        <p:spPr>
          <a:xfrm>
            <a:off x="5929200" y="1071720"/>
            <a:ext cx="2872080" cy="2500200"/>
          </a:xfrm>
          <a:prstGeom prst="rect">
            <a:avLst/>
          </a:prstGeom>
          <a:ln w="0">
            <a:noFill/>
          </a:ln>
        </p:spPr>
      </p:pic>
      <p:grpSp>
        <p:nvGrpSpPr>
          <p:cNvPr id="214" name="グループ化 23"/>
          <p:cNvGrpSpPr/>
          <p:nvPr/>
        </p:nvGrpSpPr>
        <p:grpSpPr>
          <a:xfrm>
            <a:off x="5857920" y="3573360"/>
            <a:ext cx="3173400" cy="3272040"/>
            <a:chOff x="5857920" y="3573360"/>
            <a:chExt cx="3173400" cy="3272040"/>
          </a:xfrm>
        </p:grpSpPr>
        <p:pic>
          <p:nvPicPr>
            <p:cNvPr id="215" name="Picture 69" descr=""/>
            <p:cNvPicPr/>
            <p:nvPr/>
          </p:nvPicPr>
          <p:blipFill>
            <a:blip r:embed="rId3"/>
            <a:stretch/>
          </p:blipFill>
          <p:spPr>
            <a:xfrm>
              <a:off x="5857920" y="3574440"/>
              <a:ext cx="3150720" cy="32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70" descr=""/>
            <p:cNvPicPr/>
            <p:nvPr/>
          </p:nvPicPr>
          <p:blipFill>
            <a:blip r:embed="rId4"/>
            <a:stretch/>
          </p:blipFill>
          <p:spPr>
            <a:xfrm>
              <a:off x="5857920" y="3573360"/>
              <a:ext cx="3150720" cy="32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71" descr=""/>
            <p:cNvPicPr/>
            <p:nvPr/>
          </p:nvPicPr>
          <p:blipFill>
            <a:blip r:embed="rId5"/>
            <a:stretch/>
          </p:blipFill>
          <p:spPr>
            <a:xfrm>
              <a:off x="5857920" y="3573360"/>
              <a:ext cx="3150720" cy="32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Group 72"/>
            <p:cNvGrpSpPr/>
            <p:nvPr/>
          </p:nvGrpSpPr>
          <p:grpSpPr>
            <a:xfrm>
              <a:off x="7947000" y="5700600"/>
              <a:ext cx="1084320" cy="654120"/>
              <a:chOff x="7947000" y="5700600"/>
              <a:chExt cx="1084320" cy="654120"/>
            </a:xfrm>
          </p:grpSpPr>
          <p:graphicFrame>
            <p:nvGraphicFramePr>
              <p:cNvPr id="219" name="Object 3"/>
              <p:cNvGraphicFramePr/>
              <p:nvPr/>
            </p:nvGraphicFramePr>
            <p:xfrm>
              <a:off x="8700120" y="5700600"/>
              <a:ext cx="331200" cy="65412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20" name="Object 3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8700120" y="5700600"/>
                        <a:ext cx="331200" cy="65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1" name="Text Box 74"/>
              <p:cNvSpPr/>
              <p:nvPr/>
            </p:nvSpPr>
            <p:spPr>
              <a:xfrm>
                <a:off x="7947000" y="5901120"/>
                <a:ext cx="64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hard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22" name="Object 2"/>
            <p:cNvGraphicFramePr/>
            <p:nvPr/>
          </p:nvGraphicFramePr>
          <p:xfrm>
            <a:off x="7358400" y="4362840"/>
            <a:ext cx="518760" cy="325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23" name="Object 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358400" y="4362840"/>
                      <a:ext cx="518760" cy="32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Text Box 77"/>
            <p:cNvSpPr/>
            <p:nvPr/>
          </p:nvSpPr>
          <p:spPr>
            <a:xfrm>
              <a:off x="6422040" y="437292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therm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78"/>
            <p:cNvSpPr/>
            <p:nvPr/>
          </p:nvSpPr>
          <p:spPr>
            <a:xfrm>
              <a:off x="6831360" y="4611240"/>
              <a:ext cx="201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Arial"/>
                </a:rPr>
                <a:t>Decay photons</a:t>
              </a:r>
              <a:br>
                <a:rPr sz="1400"/>
              </a:br>
              <a:r>
                <a:rPr b="0" lang="en-US" sz="1400" spc="-1" strike="noStrike">
                  <a:solidFill>
                    <a:srgbClr val="009900"/>
                  </a:solidFill>
                  <a:latin typeface="Arial"/>
                </a:rPr>
                <a:t>(</a:t>
              </a:r>
              <a:r>
                <a:rPr b="0" lang="en-US" sz="1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</a:t>
              </a:r>
              <a:r>
                <a:rPr b="0" lang="en-US" sz="1400" spc="-1" strike="noStrike" baseline="30000">
                  <a:solidFill>
                    <a:srgbClr val="0099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9900"/>
                  </a:solidFill>
                  <a:latin typeface="Arial"/>
                </a:rPr>
                <a:t>→</a:t>
              </a:r>
              <a:r>
                <a:rPr b="0" lang="en-US" sz="1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</a:t>
              </a:r>
              <a:r>
                <a:rPr b="0" lang="en-US" sz="1400" spc="-1" strike="noStrike">
                  <a:solidFill>
                    <a:srgbClr val="009900"/>
                  </a:solidFill>
                  <a:latin typeface="Arial"/>
                </a:rPr>
                <a:t>, </a:t>
              </a:r>
              <a:r>
                <a:rPr b="0" lang="en-US" sz="1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</a:t>
              </a:r>
              <a:r>
                <a:rPr b="0" lang="en-US" sz="1400" spc="-1" strike="noStrike">
                  <a:solidFill>
                    <a:srgbClr val="009900"/>
                  </a:solidFill>
                  <a:latin typeface="Arial"/>
                </a:rPr>
                <a:t>→</a:t>
              </a:r>
              <a:r>
                <a:rPr b="0" lang="en-US" sz="1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</a:t>
              </a:r>
              <a:r>
                <a:rPr b="0" lang="en-US" sz="1400" spc="-1" strike="noStrike">
                  <a:solidFill>
                    <a:srgbClr val="009900"/>
                  </a:solidFill>
                  <a:latin typeface="Arial"/>
                </a:rPr>
                <a:t>, 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79"/>
            <p:cNvSpPr/>
            <p:nvPr/>
          </p:nvSpPr>
          <p:spPr>
            <a:xfrm flipH="1">
              <a:off x="6426360" y="4606200"/>
              <a:ext cx="117720" cy="28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スライド番号プレースホルダ 18"/>
          <p:cNvSpPr/>
          <p:nvPr/>
        </p:nvSpPr>
        <p:spPr>
          <a:xfrm>
            <a:off x="0" y="0"/>
            <a:ext cx="762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0066-9A80-41DE-BD59-839CEE509023}" type="slidenum">
              <a:rPr b="1" lang="ja-JP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タイトル 1" descr=""/>
          <p:cNvPicPr/>
          <p:nvPr/>
        </p:nvPicPr>
        <p:blipFill>
          <a:blip r:embed="rId1"/>
          <a:stretch/>
        </p:blipFill>
        <p:spPr>
          <a:xfrm>
            <a:off x="73080" y="96840"/>
            <a:ext cx="8620200" cy="1152360"/>
          </a:xfrm>
          <a:prstGeom prst="rect">
            <a:avLst/>
          </a:prstGeom>
          <a:ln w="0">
            <a:noFill/>
          </a:ln>
        </p:spPr>
      </p:pic>
      <p:sp>
        <p:nvSpPr>
          <p:cNvPr id="229" name="日付プレースホルダ 2"/>
          <p:cNvSpPr/>
          <p:nvPr/>
        </p:nvSpPr>
        <p:spPr>
          <a:xfrm>
            <a:off x="0" y="664380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フッター プレースホルダ 4"/>
          <p:cNvSpPr/>
          <p:nvPr/>
        </p:nvSpPr>
        <p:spPr>
          <a:xfrm>
            <a:off x="2666880" y="6643800"/>
            <a:ext cx="335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スライド番号プレースホルダ 16"/>
          <p:cNvSpPr/>
          <p:nvPr/>
        </p:nvSpPr>
        <p:spPr>
          <a:xfrm>
            <a:off x="0" y="0"/>
            <a:ext cx="762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5025-68C6-4157-9421-E45949CB3303}" type="slidenum">
              <a:rPr b="1" lang="ja-JP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テキスト ボックス 13"/>
          <p:cNvSpPr/>
          <p:nvPr/>
        </p:nvSpPr>
        <p:spPr>
          <a:xfrm>
            <a:off x="71280" y="1571760"/>
            <a:ext cx="44294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rmal radiation from QG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ontributor in 1.0 &lt; pT &lt; 3.0GeV/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 evidence of the QGP 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ry the thermodynamic information of QG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f6fc6"/>
              </a:buClr>
              <a:buFont typeface="Arial"/>
              <a:buChar char="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perature, Degree of freedom and so 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f6fc6"/>
              </a:buClr>
              <a:buFont typeface="Arial"/>
              <a:buChar char="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ximately exponential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グループ化 16"/>
          <p:cNvGrpSpPr/>
          <p:nvPr/>
        </p:nvGrpSpPr>
        <p:grpSpPr>
          <a:xfrm>
            <a:off x="4357800" y="1333440"/>
            <a:ext cx="4714920" cy="4122720"/>
            <a:chOff x="4357800" y="1333440"/>
            <a:chExt cx="4714920" cy="4122720"/>
          </a:xfrm>
        </p:grpSpPr>
        <p:pic>
          <p:nvPicPr>
            <p:cNvPr id="234" name="Picture 14" descr=""/>
            <p:cNvPicPr/>
            <p:nvPr/>
          </p:nvPicPr>
          <p:blipFill>
            <a:blip r:embed="rId2"/>
            <a:stretch/>
          </p:blipFill>
          <p:spPr>
            <a:xfrm>
              <a:off x="4357800" y="1333440"/>
              <a:ext cx="4714920" cy="41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円/楕円 20"/>
            <p:cNvSpPr/>
            <p:nvPr/>
          </p:nvSpPr>
          <p:spPr>
            <a:xfrm rot="1957200">
              <a:off x="6178680" y="2647800"/>
              <a:ext cx="2004840" cy="450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テキスト ボックス 14"/>
            <p:cNvSpPr/>
            <p:nvPr/>
          </p:nvSpPr>
          <p:spPr>
            <a:xfrm>
              <a:off x="7618680" y="26658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QG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テキスト ボックス 12"/>
          <p:cNvSpPr/>
          <p:nvPr/>
        </p:nvSpPr>
        <p:spPr>
          <a:xfrm>
            <a:off x="539640" y="5286240"/>
            <a:ext cx="821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background from hadron dec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bility of pQCD is doubtable in low pT reg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imental determination is very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omment 17"/>
          <p:cNvSpPr/>
          <p:nvPr/>
        </p:nvSpPr>
        <p:spPr>
          <a:xfrm>
            <a:off x="5265720" y="1143000"/>
            <a:ext cx="387828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990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.Turbid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t 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PRC  69  01490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グループ化 21"/>
          <p:cNvGrpSpPr/>
          <p:nvPr/>
        </p:nvGrpSpPr>
        <p:grpSpPr>
          <a:xfrm>
            <a:off x="6858000" y="5000760"/>
            <a:ext cx="2192400" cy="1573920"/>
            <a:chOff x="6858000" y="5000760"/>
            <a:chExt cx="2192400" cy="1573920"/>
          </a:xfrm>
        </p:grpSpPr>
        <p:sp>
          <p:nvSpPr>
            <p:cNvPr id="240" name="Rectangle 9"/>
            <p:cNvSpPr/>
            <p:nvPr/>
          </p:nvSpPr>
          <p:spPr>
            <a:xfrm>
              <a:off x="6858000" y="5128560"/>
              <a:ext cx="1937880" cy="137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Picture 10" descr=""/>
            <p:cNvPicPr/>
            <p:nvPr/>
          </p:nvPicPr>
          <p:blipFill>
            <a:blip r:embed="rId1"/>
            <a:stretch/>
          </p:blipFill>
          <p:spPr>
            <a:xfrm>
              <a:off x="7404120" y="5675760"/>
              <a:ext cx="70668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2"/>
            <p:cNvSpPr/>
            <p:nvPr/>
          </p:nvSpPr>
          <p:spPr>
            <a:xfrm>
              <a:off x="7096680" y="52959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omic Sans MS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"/>
            <p:cNvSpPr/>
            <p:nvPr/>
          </p:nvSpPr>
          <p:spPr>
            <a:xfrm>
              <a:off x="7896240" y="559116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</a:t>
              </a:r>
              <a:r>
                <a:rPr b="1" lang="en-US" sz="2400" spc="-1" strike="noStrike" baseline="30000">
                  <a:solidFill>
                    <a:srgbClr val="cc3300"/>
                  </a:solidFill>
                  <a:latin typeface="Symbol"/>
                  <a:ea typeface="Symbol"/>
                </a:rPr>
                <a:t>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4"/>
            <p:cNvSpPr/>
            <p:nvPr/>
          </p:nvSpPr>
          <p:spPr>
            <a:xfrm>
              <a:off x="7096680" y="6176880"/>
              <a:ext cx="3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5"/>
            <p:cNvSpPr/>
            <p:nvPr/>
          </p:nvSpPr>
          <p:spPr>
            <a:xfrm>
              <a:off x="8089200" y="6206400"/>
              <a:ext cx="33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omic Sans MS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6"/>
            <p:cNvSpPr/>
            <p:nvPr/>
          </p:nvSpPr>
          <p:spPr>
            <a:xfrm flipV="1">
              <a:off x="8105400" y="5364000"/>
              <a:ext cx="290880" cy="3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7"/>
            <p:cNvSpPr/>
            <p:nvPr/>
          </p:nvSpPr>
          <p:spPr>
            <a:xfrm flipV="1">
              <a:off x="8105400" y="5541840"/>
              <a:ext cx="424080" cy="14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8"/>
            <p:cNvSpPr/>
            <p:nvPr/>
          </p:nvSpPr>
          <p:spPr>
            <a:xfrm>
              <a:off x="8358120" y="5000760"/>
              <a:ext cx="5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9"/>
            <p:cNvSpPr/>
            <p:nvPr/>
          </p:nvSpPr>
          <p:spPr>
            <a:xfrm>
              <a:off x="8491320" y="5334840"/>
              <a:ext cx="55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32" descr="run2_direct_photon"/>
          <p:cNvPicPr/>
          <p:nvPr/>
        </p:nvPicPr>
        <p:blipFill>
          <a:blip r:embed="rId2"/>
          <a:stretch/>
        </p:blipFill>
        <p:spPr>
          <a:xfrm>
            <a:off x="6672240" y="1500120"/>
            <a:ext cx="2471760" cy="2928960"/>
          </a:xfrm>
          <a:prstGeom prst="rect">
            <a:avLst/>
          </a:prstGeom>
          <a:ln w="0">
            <a:noFill/>
          </a:ln>
        </p:spPr>
      </p:pic>
      <p:pic>
        <p:nvPicPr>
          <p:cNvPr id="251" name="タイトル 1" descr=""/>
          <p:cNvPicPr/>
          <p:nvPr/>
        </p:nvPicPr>
        <p:blipFill>
          <a:blip r:embed="rId3"/>
          <a:stretch/>
        </p:blipFill>
        <p:spPr>
          <a:xfrm>
            <a:off x="-347760" y="96840"/>
            <a:ext cx="9498240" cy="1158840"/>
          </a:xfrm>
          <a:prstGeom prst="rect">
            <a:avLst/>
          </a:prstGeom>
          <a:ln w="0">
            <a:noFill/>
          </a:ln>
        </p:spPr>
      </p:pic>
      <p:sp>
        <p:nvSpPr>
          <p:cNvPr id="252" name="日付プレースホルダ 2"/>
          <p:cNvSpPr/>
          <p:nvPr/>
        </p:nvSpPr>
        <p:spPr>
          <a:xfrm>
            <a:off x="0" y="664380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フッター プレースホルダ 3"/>
          <p:cNvSpPr/>
          <p:nvPr/>
        </p:nvSpPr>
        <p:spPr>
          <a:xfrm>
            <a:off x="2666880" y="6643800"/>
            <a:ext cx="335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テキスト ボックス 28"/>
          <p:cNvSpPr/>
          <p:nvPr/>
        </p:nvSpPr>
        <p:spPr>
          <a:xfrm>
            <a:off x="71280" y="1357200"/>
            <a:ext cx="65008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 Unicode MS"/>
              </a:rPr>
              <a:t>In ‘real’ photon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Measured yield with a large systematic err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Difficulty on measuring low pT “real” direct 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Finite energy resolution of the EM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Large hadron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下矢印 29"/>
          <p:cNvSpPr/>
          <p:nvPr/>
        </p:nvSpPr>
        <p:spPr>
          <a:xfrm>
            <a:off x="2500200" y="3143160"/>
            <a:ext cx="1428840" cy="1117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テキスト ボックス 14"/>
          <p:cNvSpPr/>
          <p:nvPr/>
        </p:nvSpPr>
        <p:spPr>
          <a:xfrm>
            <a:off x="0" y="5268960"/>
            <a:ext cx="70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 Unicode MS"/>
              </a:rPr>
              <a:t>Advantages on measuring ‘virtual’ phot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High momentum resolution of the Drift Cha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Reliable estimation of the hadron decay components using Kroll-Wada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角丸四角形 31"/>
          <p:cNvSpPr/>
          <p:nvPr/>
        </p:nvSpPr>
        <p:spPr>
          <a:xfrm>
            <a:off x="71280" y="4429080"/>
            <a:ext cx="7429680" cy="7858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 Unicode MS"/>
              </a:rPr>
              <a:t>Alternative method to measure low pT direct phot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 Unicode MS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 Unicode MS"/>
              </a:rPr>
              <a:t>Measure e</a:t>
            </a:r>
            <a:r>
              <a:rPr b="1" lang="en-US" sz="2200" spc="-1" strike="noStrike" baseline="30000">
                <a:solidFill>
                  <a:srgbClr val="ffffff"/>
                </a:solidFill>
                <a:latin typeface="Arial"/>
                <a:ea typeface="Arial Unicode MS"/>
              </a:rPr>
              <a:t>+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 Unicode MS"/>
              </a:rPr>
              <a:t>e</a:t>
            </a:r>
            <a:r>
              <a:rPr b="1" lang="en-US" sz="2200" spc="-1" strike="noStrike" baseline="30000">
                <a:solidFill>
                  <a:srgbClr val="ffffff"/>
                </a:solidFill>
                <a:latin typeface="Arial"/>
                <a:ea typeface="Arial Unicode MS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 Unicode MS"/>
              </a:rPr>
              <a:t> pairs from ‘virtual’ direct phot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スライド番号プレースホルダ 22"/>
          <p:cNvSpPr/>
          <p:nvPr/>
        </p:nvSpPr>
        <p:spPr>
          <a:xfrm>
            <a:off x="0" y="0"/>
            <a:ext cx="762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488A-4948-49AE-BBD5-557F426CFAFD}" type="slidenum">
              <a:rPr b="1" lang="ja-JP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タイトル 1" descr=""/>
          <p:cNvPicPr/>
          <p:nvPr/>
        </p:nvPicPr>
        <p:blipFill>
          <a:blip r:embed="rId1"/>
          <a:stretch/>
        </p:blipFill>
        <p:spPr>
          <a:xfrm>
            <a:off x="73080" y="96840"/>
            <a:ext cx="8620200" cy="1152360"/>
          </a:xfrm>
          <a:prstGeom prst="rect">
            <a:avLst/>
          </a:prstGeom>
          <a:ln w="0">
            <a:noFill/>
          </a:ln>
        </p:spPr>
      </p:pic>
      <p:sp>
        <p:nvSpPr>
          <p:cNvPr id="260" name="日付プレースホルダ 2"/>
          <p:cNvSpPr/>
          <p:nvPr/>
        </p:nvSpPr>
        <p:spPr>
          <a:xfrm>
            <a:off x="0" y="664380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フッター プレースホルダ 3"/>
          <p:cNvSpPr/>
          <p:nvPr/>
        </p:nvSpPr>
        <p:spPr>
          <a:xfrm>
            <a:off x="2666880" y="6643800"/>
            <a:ext cx="335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グループ化 18"/>
          <p:cNvGrpSpPr/>
          <p:nvPr/>
        </p:nvGrpSpPr>
        <p:grpSpPr>
          <a:xfrm>
            <a:off x="142920" y="3643200"/>
            <a:ext cx="4143240" cy="2933640"/>
            <a:chOff x="142920" y="3643200"/>
            <a:chExt cx="4143240" cy="2933640"/>
          </a:xfrm>
        </p:grpSpPr>
        <p:pic>
          <p:nvPicPr>
            <p:cNvPr id="263" name="Picture 23" descr="Dalitz"/>
            <p:cNvPicPr/>
            <p:nvPr/>
          </p:nvPicPr>
          <p:blipFill>
            <a:blip r:embed="rId2"/>
            <a:stretch/>
          </p:blipFill>
          <p:spPr>
            <a:xfrm>
              <a:off x="142920" y="3643200"/>
              <a:ext cx="4143240" cy="29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Rectangle 31"/>
            <p:cNvSpPr/>
            <p:nvPr/>
          </p:nvSpPr>
          <p:spPr>
            <a:xfrm>
              <a:off x="898560" y="3746160"/>
              <a:ext cx="1365480" cy="251928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2"/>
            <p:cNvSpPr/>
            <p:nvPr/>
          </p:nvSpPr>
          <p:spPr>
            <a:xfrm>
              <a:off x="406800" y="3746160"/>
              <a:ext cx="193320" cy="2519280"/>
            </a:xfrm>
            <a:prstGeom prst="rect">
              <a:avLst/>
            </a:prstGeom>
            <a:solidFill>
              <a:srgbClr val="00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テキスト ボックス 9"/>
          <p:cNvSpPr/>
          <p:nvPr/>
        </p:nvSpPr>
        <p:spPr>
          <a:xfrm>
            <a:off x="4143240" y="3544920"/>
            <a:ext cx="5000760" cy="32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alitz decays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bviousl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= 0 at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&gt;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had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pT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Arial Unicode MS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&gt;&gt;M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ee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ossible to separate hadron decay components from real signal in the proper mass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テキスト ボックス 10"/>
          <p:cNvSpPr/>
          <p:nvPr/>
        </p:nvSpPr>
        <p:spPr>
          <a:xfrm>
            <a:off x="144000" y="1273320"/>
            <a:ext cx="69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ny source of real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can emi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with very low m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Convert direc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fraction to real direct photon y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テキスト ボックス 23"/>
          <p:cNvSpPr/>
          <p:nvPr/>
        </p:nvSpPr>
        <p:spPr>
          <a:xfrm>
            <a:off x="205920" y="20527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roll-Wada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111240" y="2389320"/>
                <a:ext cx="6492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7"/>
              <p:cNvSpPr txBox="1"/>
              <p:nvPr/>
            </p:nvSpPr>
            <p:spPr>
              <a:xfrm>
                <a:off x="6929280" y="1344600"/>
                <a:ext cx="2038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rec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clusiv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rect</m:t>
                            </m:r>
                          </m:sub>
                          <m:sup/>
                        </m:sSubSup>
                      </m:num>
                      <m:den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clusiv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テキスト ボックス 21"/>
          <p:cNvSpPr/>
          <p:nvPr/>
        </p:nvSpPr>
        <p:spPr>
          <a:xfrm>
            <a:off x="303480" y="327348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: Process dependent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2"/>
              <p:cNvSpPr txBox="1"/>
              <p:nvPr/>
            </p:nvSpPr>
            <p:spPr>
              <a:xfrm>
                <a:off x="4929120" y="3803760"/>
                <a:ext cx="34480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e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e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adro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3"/>
              <p:cNvSpPr txBox="1"/>
              <p:nvPr/>
            </p:nvSpPr>
            <p:spPr>
              <a:xfrm>
                <a:off x="4929120" y="5457960"/>
                <a:ext cx="711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スライド番号プレースホルダ 17"/>
          <p:cNvSpPr/>
          <p:nvPr/>
        </p:nvSpPr>
        <p:spPr>
          <a:xfrm>
            <a:off x="0" y="0"/>
            <a:ext cx="762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516D-E72C-4494-9A4A-84092FB52598}" type="slidenum">
              <a:rPr b="1" lang="ja-JP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fig1"/>
          <p:cNvPicPr/>
          <p:nvPr/>
        </p:nvPicPr>
        <p:blipFill>
          <a:blip r:embed="rId1"/>
          <a:stretch/>
        </p:blipFill>
        <p:spPr>
          <a:xfrm>
            <a:off x="71280" y="1027080"/>
            <a:ext cx="4197600" cy="3079800"/>
          </a:xfrm>
          <a:prstGeom prst="rect">
            <a:avLst/>
          </a:prstGeom>
          <a:ln w="0">
            <a:noFill/>
          </a:ln>
        </p:spPr>
      </p:pic>
      <p:grpSp>
        <p:nvGrpSpPr>
          <p:cNvPr id="276" name="グループ化 10"/>
          <p:cNvGrpSpPr/>
          <p:nvPr/>
        </p:nvGrpSpPr>
        <p:grpSpPr>
          <a:xfrm>
            <a:off x="142920" y="4214880"/>
            <a:ext cx="4106880" cy="2500200"/>
            <a:chOff x="142920" y="4214880"/>
            <a:chExt cx="4106880" cy="2500200"/>
          </a:xfrm>
        </p:grpSpPr>
        <p:pic>
          <p:nvPicPr>
            <p:cNvPr id="277" name="Content Placeholder 14" descr="mass_unlike_pp_ex_py.gif"/>
            <p:cNvPicPr/>
            <p:nvPr/>
          </p:nvPicPr>
          <p:blipFill>
            <a:blip r:embed="rId2"/>
            <a:srcRect l="0" t="0" r="0" b="52385"/>
            <a:stretch/>
          </p:blipFill>
          <p:spPr>
            <a:xfrm>
              <a:off x="142920" y="4214880"/>
              <a:ext cx="4106880" cy="220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15" descr="fig1.gif"/>
            <p:cNvPicPr/>
            <p:nvPr/>
          </p:nvPicPr>
          <p:blipFill>
            <a:blip r:embed="rId3"/>
            <a:srcRect l="0" t="93386" r="0" b="0"/>
            <a:stretch/>
          </p:blipFill>
          <p:spPr>
            <a:xfrm>
              <a:off x="142920" y="6408360"/>
              <a:ext cx="4106880" cy="30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Text Box 22"/>
          <p:cNvSpPr/>
          <p:nvPr/>
        </p:nvSpPr>
        <p:spPr>
          <a:xfrm>
            <a:off x="2844000" y="968400"/>
            <a:ext cx="11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Xiv: 0706.30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2823120" y="4059360"/>
            <a:ext cx="11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Xiv: 0802.00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テキスト ボックス 13"/>
          <p:cNvSpPr/>
          <p:nvPr/>
        </p:nvSpPr>
        <p:spPr>
          <a:xfrm>
            <a:off x="1143000" y="121428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Au+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テキスト ボックス 14"/>
          <p:cNvSpPr/>
          <p:nvPr/>
        </p:nvSpPr>
        <p:spPr>
          <a:xfrm>
            <a:off x="1143000" y="43578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+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テキスト ボックス 23"/>
          <p:cNvSpPr/>
          <p:nvPr/>
        </p:nvSpPr>
        <p:spPr>
          <a:xfrm>
            <a:off x="4143240" y="1214280"/>
            <a:ext cx="5000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b5395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b5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-electron continu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b5395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ckground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binatorial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erial conversion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itional correlate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ible in p+p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oss pairs from decays with 4 electrons in the fin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irs in same jet or back-to-back 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下矢印 24"/>
          <p:cNvSpPr/>
          <p:nvPr/>
        </p:nvSpPr>
        <p:spPr>
          <a:xfrm>
            <a:off x="5929200" y="4143240"/>
            <a:ext cx="1071720" cy="928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テキスト ボックス 46"/>
          <p:cNvSpPr/>
          <p:nvPr/>
        </p:nvSpPr>
        <p:spPr>
          <a:xfrm>
            <a:off x="5504760" y="4273560"/>
            <a:ext cx="200052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fter 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テキスト ボックス 26"/>
          <p:cNvSpPr/>
          <p:nvPr/>
        </p:nvSpPr>
        <p:spPr>
          <a:xfrm>
            <a:off x="4143240" y="503244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b5395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maining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b5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 signal + Hadron decay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timate hadron components using  hadronic cock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uned to individually measured yields of mesons at PHE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日付プレースホルダ 2"/>
          <p:cNvSpPr/>
          <p:nvPr/>
        </p:nvSpPr>
        <p:spPr>
          <a:xfrm>
            <a:off x="0" y="664380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フッター プレースホルダ 3"/>
          <p:cNvSpPr/>
          <p:nvPr/>
        </p:nvSpPr>
        <p:spPr>
          <a:xfrm>
            <a:off x="2666880" y="6643800"/>
            <a:ext cx="335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スライド番号プレースホルダ 17"/>
          <p:cNvSpPr/>
          <p:nvPr/>
        </p:nvSpPr>
        <p:spPr>
          <a:xfrm>
            <a:off x="0" y="0"/>
            <a:ext cx="762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4BBF-0AA1-4379-9637-746110D09315}" type="slidenum">
              <a:rPr b="1" lang="ja-JP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タイトル 1" descr=""/>
          <p:cNvPicPr/>
          <p:nvPr/>
        </p:nvPicPr>
        <p:blipFill>
          <a:blip r:embed="rId4"/>
          <a:stretch/>
        </p:blipFill>
        <p:spPr>
          <a:xfrm>
            <a:off x="73080" y="6480"/>
            <a:ext cx="8620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タイトル 1" descr=""/>
          <p:cNvPicPr/>
          <p:nvPr/>
        </p:nvPicPr>
        <p:blipFill>
          <a:blip r:embed="rId1"/>
          <a:stretch/>
        </p:blipFill>
        <p:spPr>
          <a:xfrm>
            <a:off x="73080" y="96840"/>
            <a:ext cx="8620200" cy="1152360"/>
          </a:xfrm>
          <a:prstGeom prst="rect">
            <a:avLst/>
          </a:prstGeom>
          <a:ln w="0">
            <a:noFill/>
          </a:ln>
        </p:spPr>
      </p:pic>
      <p:sp>
        <p:nvSpPr>
          <p:cNvPr id="292" name="日付プレースホルダ 2"/>
          <p:cNvSpPr/>
          <p:nvPr/>
        </p:nvSpPr>
        <p:spPr>
          <a:xfrm>
            <a:off x="0" y="664380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フッター プレースホルダ 3"/>
          <p:cNvSpPr/>
          <p:nvPr/>
        </p:nvSpPr>
        <p:spPr>
          <a:xfrm>
            <a:off x="2666880" y="6643800"/>
            <a:ext cx="335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1"/>
          <p:cNvGrpSpPr/>
          <p:nvPr/>
        </p:nvGrpSpPr>
        <p:grpSpPr>
          <a:xfrm>
            <a:off x="1544760" y="1214280"/>
            <a:ext cx="5599080" cy="3643560"/>
            <a:chOff x="1544760" y="1214280"/>
            <a:chExt cx="5599080" cy="3643560"/>
          </a:xfrm>
        </p:grpSpPr>
        <p:grpSp>
          <p:nvGrpSpPr>
            <p:cNvPr id="295" name="Group 16"/>
            <p:cNvGrpSpPr/>
            <p:nvPr/>
          </p:nvGrpSpPr>
          <p:grpSpPr>
            <a:xfrm>
              <a:off x="1544760" y="1214280"/>
              <a:ext cx="5599080" cy="3643560"/>
              <a:chOff x="1544760" y="1214280"/>
              <a:chExt cx="5599080" cy="3643560"/>
            </a:xfrm>
          </p:grpSpPr>
          <p:pic>
            <p:nvPicPr>
              <p:cNvPr id="296" name="Content Placeholder 10" descr="mass_pp_auau_ptbins.gif"/>
              <p:cNvPicPr/>
              <p:nvPr/>
            </p:nvPicPr>
            <p:blipFill>
              <a:blip r:embed="rId2"/>
              <a:srcRect l="0" t="4666" r="0" b="0"/>
              <a:stretch/>
            </p:blipFill>
            <p:spPr>
              <a:xfrm>
                <a:off x="1544760" y="1214280"/>
                <a:ext cx="559908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Rectangle 9"/>
              <p:cNvSpPr/>
              <p:nvPr/>
            </p:nvSpPr>
            <p:spPr>
              <a:xfrm>
                <a:off x="5603760" y="1378080"/>
                <a:ext cx="1329840" cy="49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0"/>
              <p:cNvSpPr/>
              <p:nvPr/>
            </p:nvSpPr>
            <p:spPr>
              <a:xfrm>
                <a:off x="5533920" y="3225240"/>
                <a:ext cx="1329840" cy="496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1"/>
              <p:cNvSpPr/>
              <p:nvPr/>
            </p:nvSpPr>
            <p:spPr>
              <a:xfrm>
                <a:off x="2874600" y="3225240"/>
                <a:ext cx="1329840" cy="496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2804400" y="1378080"/>
                <a:ext cx="1329840" cy="49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8"/>
              <p:cNvSpPr/>
              <p:nvPr/>
            </p:nvSpPr>
            <p:spPr>
              <a:xfrm>
                <a:off x="2509920" y="1449360"/>
                <a:ext cx="169416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0 &lt; p</a:t>
                </a:r>
                <a:r>
                  <a:rPr b="1" lang="en-US" sz="1600" spc="-1" strike="noStrike" baseline="-25000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T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&lt; 8 GeV/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13"/>
              <p:cNvSpPr/>
              <p:nvPr/>
            </p:nvSpPr>
            <p:spPr>
              <a:xfrm>
                <a:off x="4785840" y="1449360"/>
                <a:ext cx="209196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0 &lt; p</a:t>
                </a:r>
                <a:r>
                  <a:rPr b="1" lang="en-US" sz="1600" spc="-1" strike="noStrike" baseline="-25000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T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&lt; 0.7 GeV/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14"/>
              <p:cNvSpPr/>
              <p:nvPr/>
            </p:nvSpPr>
            <p:spPr>
              <a:xfrm>
                <a:off x="2071080" y="3154320"/>
                <a:ext cx="214776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0.7 &lt; p</a:t>
                </a:r>
                <a:r>
                  <a:rPr b="1" lang="en-US" sz="1600" spc="-1" strike="noStrike" baseline="-25000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T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&lt; 1.5 GeV/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15"/>
              <p:cNvSpPr/>
              <p:nvPr/>
            </p:nvSpPr>
            <p:spPr>
              <a:xfrm>
                <a:off x="4834080" y="3154320"/>
                <a:ext cx="197388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1.5 &lt; p</a:t>
                </a:r>
                <a:r>
                  <a:rPr b="1" lang="en-US" sz="1600" spc="-1" strike="noStrike" baseline="-25000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T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&lt; 8 GeV/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Text Box 19"/>
            <p:cNvSpPr/>
            <p:nvPr/>
          </p:nvSpPr>
          <p:spPr>
            <a:xfrm>
              <a:off x="4956120" y="3580560"/>
              <a:ext cx="195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PHENIX Prelimin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テキスト ボックス 18"/>
          <p:cNvSpPr/>
          <p:nvPr/>
        </p:nvSpPr>
        <p:spPr>
          <a:xfrm>
            <a:off x="7431480" y="1714680"/>
            <a:ext cx="14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u+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15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+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テキスト ボックス 18"/>
          <p:cNvSpPr/>
          <p:nvPr/>
        </p:nvSpPr>
        <p:spPr>
          <a:xfrm>
            <a:off x="71280" y="4832280"/>
            <a:ext cx="90727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ossible sources of low mass enhanc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irtual direct photons, qqbar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annihi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pT&gt;1GeV/c &amp;&amp; 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e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300Me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Small expected contributions from qqbar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annihi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Satisfy p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&gt;&gt;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e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正方形/長方形 19"/>
          <p:cNvSpPr/>
          <p:nvPr/>
        </p:nvSpPr>
        <p:spPr>
          <a:xfrm>
            <a:off x="4441680" y="2897280"/>
            <a:ext cx="2643480" cy="1785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スライド番号プレースホルダ 20"/>
          <p:cNvSpPr/>
          <p:nvPr/>
        </p:nvSpPr>
        <p:spPr>
          <a:xfrm>
            <a:off x="0" y="0"/>
            <a:ext cx="762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A2C0-E004-4052-BA1B-449C7031CA07}" type="slidenum">
              <a:rPr b="1" lang="ja-JP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2"/>
          <p:cNvGrpSpPr/>
          <p:nvPr/>
        </p:nvGrpSpPr>
        <p:grpSpPr>
          <a:xfrm>
            <a:off x="142920" y="1198440"/>
            <a:ext cx="6214680" cy="4230360"/>
            <a:chOff x="142920" y="1198440"/>
            <a:chExt cx="6214680" cy="4230360"/>
          </a:xfrm>
        </p:grpSpPr>
        <p:pic>
          <p:nvPicPr>
            <p:cNvPr id="311" name="Picture 27" descr="data_cock_mb_qm05_fortorsten"/>
            <p:cNvPicPr/>
            <p:nvPr/>
          </p:nvPicPr>
          <p:blipFill>
            <a:blip r:embed="rId1"/>
            <a:stretch/>
          </p:blipFill>
          <p:spPr>
            <a:xfrm>
              <a:off x="142920" y="1198440"/>
              <a:ext cx="6214680" cy="42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18"/>
            <p:cNvSpPr/>
            <p:nvPr/>
          </p:nvSpPr>
          <p:spPr>
            <a:xfrm>
              <a:off x="830880" y="1707120"/>
              <a:ext cx="697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+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9"/>
            <p:cNvSpPr/>
            <p:nvPr/>
          </p:nvSpPr>
          <p:spPr>
            <a:xfrm>
              <a:off x="4115520" y="1707120"/>
              <a:ext cx="1849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u+Au (M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タイトル 1" descr=""/>
          <p:cNvPicPr/>
          <p:nvPr/>
        </p:nvPicPr>
        <p:blipFill>
          <a:blip r:embed="rId2"/>
          <a:stretch/>
        </p:blipFill>
        <p:spPr>
          <a:xfrm>
            <a:off x="73080" y="96840"/>
            <a:ext cx="8620200" cy="1152360"/>
          </a:xfrm>
          <a:prstGeom prst="rect">
            <a:avLst/>
          </a:prstGeom>
          <a:ln w="0">
            <a:noFill/>
          </a:ln>
        </p:spPr>
      </p:pic>
      <p:sp>
        <p:nvSpPr>
          <p:cNvPr id="315" name="日付プレースホルダ 2"/>
          <p:cNvSpPr/>
          <p:nvPr/>
        </p:nvSpPr>
        <p:spPr>
          <a:xfrm>
            <a:off x="0" y="664380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フッター プレースホルダ 3"/>
          <p:cNvSpPr/>
          <p:nvPr/>
        </p:nvSpPr>
        <p:spPr>
          <a:xfrm>
            <a:off x="2666880" y="6643800"/>
            <a:ext cx="335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テキスト ボックス 11"/>
          <p:cNvSpPr/>
          <p:nvPr/>
        </p:nvSpPr>
        <p:spPr>
          <a:xfrm>
            <a:off x="71280" y="5268960"/>
            <a:ext cx="428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 Unicode MS"/>
              </a:rPr>
              <a:t>p+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Good agreement between real and cockt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Small excess at higher 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テキスト ボックス 12"/>
          <p:cNvSpPr/>
          <p:nvPr/>
        </p:nvSpPr>
        <p:spPr>
          <a:xfrm>
            <a:off x="4214880" y="5268960"/>
            <a:ext cx="485784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 Unicode MS"/>
              </a:rPr>
              <a:t>Au+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Good agreement in 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e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&lt; 50Me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Enhancement is clearly seen above 100MeV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6310440" y="1785960"/>
            <a:ext cx="2538360" cy="20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 &lt; p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lt; 2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2 &lt; p</a:t>
            </a:r>
            <a:r>
              <a:rPr b="1" lang="en-US" sz="2800" spc="-1" strike="noStrike" baseline="-25000">
                <a:solidFill>
                  <a:srgbClr val="33cc33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 &lt; 3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 &lt; 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&lt; 4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4 &lt; p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&lt; 5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5058360" y="1428840"/>
            <a:ext cx="11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Xiv: 0804.41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スライド番号プレースホルダ 13"/>
          <p:cNvSpPr/>
          <p:nvPr/>
        </p:nvSpPr>
        <p:spPr>
          <a:xfrm>
            <a:off x="0" y="0"/>
            <a:ext cx="762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B8CA-81E6-4A17-9AE0-FAA6889DF458}" type="slidenum">
              <a:rPr b="1" lang="ja-JP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図 14" descr="fit_result.gif"/>
          <p:cNvPicPr/>
          <p:nvPr/>
        </p:nvPicPr>
        <p:blipFill>
          <a:blip r:embed="rId1"/>
          <a:stretch/>
        </p:blipFill>
        <p:spPr>
          <a:xfrm>
            <a:off x="0" y="2941560"/>
            <a:ext cx="5303880" cy="3567240"/>
          </a:xfrm>
          <a:prstGeom prst="rect">
            <a:avLst/>
          </a:prstGeom>
          <a:ln w="0">
            <a:noFill/>
          </a:ln>
        </p:spPr>
      </p:pic>
      <p:pic>
        <p:nvPicPr>
          <p:cNvPr id="323" name="タイトル 1" descr=""/>
          <p:cNvPicPr/>
          <p:nvPr/>
        </p:nvPicPr>
        <p:blipFill>
          <a:blip r:embed="rId2"/>
          <a:stretch/>
        </p:blipFill>
        <p:spPr>
          <a:xfrm>
            <a:off x="73080" y="96840"/>
            <a:ext cx="8620200" cy="1152360"/>
          </a:xfrm>
          <a:prstGeom prst="rect">
            <a:avLst/>
          </a:prstGeom>
          <a:ln w="0">
            <a:noFill/>
          </a:ln>
        </p:spPr>
      </p:pic>
      <p:sp>
        <p:nvSpPr>
          <p:cNvPr id="324" name="日付プレースホルダ 2"/>
          <p:cNvSpPr/>
          <p:nvPr/>
        </p:nvSpPr>
        <p:spPr>
          <a:xfrm>
            <a:off x="0" y="664380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10/14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フッター プレースホルダ 3"/>
          <p:cNvSpPr/>
          <p:nvPr/>
        </p:nvSpPr>
        <p:spPr>
          <a:xfrm>
            <a:off x="2666880" y="6643800"/>
            <a:ext cx="335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Arial"/>
              </a:rPr>
              <a:t>ATHIC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テキスト ボックス 11"/>
          <p:cNvSpPr/>
          <p:nvPr/>
        </p:nvSpPr>
        <p:spPr>
          <a:xfrm>
            <a:off x="381600" y="2824200"/>
            <a:ext cx="31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: dire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/inclusi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テキスト ボックス 12"/>
          <p:cNvSpPr/>
          <p:nvPr/>
        </p:nvSpPr>
        <p:spPr>
          <a:xfrm>
            <a:off x="285840" y="114300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ire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/inclusi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is determined by fitting the following function to the data for each pT b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8"/>
              <p:cNvSpPr txBox="1"/>
              <p:nvPr/>
            </p:nvSpPr>
            <p:spPr>
              <a:xfrm>
                <a:off x="366840" y="1928880"/>
                <a:ext cx="6643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cktai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rec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テキスト ボックス 9"/>
          <p:cNvSpPr/>
          <p:nvPr/>
        </p:nvSpPr>
        <p:spPr>
          <a:xfrm>
            <a:off x="4929120" y="3071880"/>
            <a:ext cx="4143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6fc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Fit in 80-300MeV g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ssuming direc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sha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/DOF=13.8/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ssuming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shape instead of direc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sha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/DOF=21.1/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f6fc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Twice as much as measure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y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Arial Unicode MS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ssumption of direc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is favor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テキスト ボックス 10"/>
          <p:cNvSpPr/>
          <p:nvPr/>
        </p:nvSpPr>
        <p:spPr>
          <a:xfrm>
            <a:off x="3687840" y="6296040"/>
            <a:ext cx="12124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ee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GeV/c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テキスト ボックス 11"/>
          <p:cNvSpPr/>
          <p:nvPr/>
        </p:nvSpPr>
        <p:spPr>
          <a:xfrm>
            <a:off x="441720" y="2500200"/>
            <a:ext cx="671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minder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dir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is given by Kroll-Wada formula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3629520" y="3071880"/>
            <a:ext cx="11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Xiv: 0804.41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スライド番号プレースホルダ 13"/>
          <p:cNvSpPr/>
          <p:nvPr/>
        </p:nvSpPr>
        <p:spPr>
          <a:xfrm>
            <a:off x="0" y="0"/>
            <a:ext cx="762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44B8-443A-46DF-BAB9-E76CAD325F95}" type="slidenum">
              <a:rPr b="1" lang="ja-JP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1:37:36Z</dcterms:created>
  <dc:creator>yorito</dc:creator>
  <dc:description/>
  <dc:language>en-US</dc:language>
  <cp:lastModifiedBy>athic2008</cp:lastModifiedBy>
  <dcterms:modified xsi:type="dcterms:W3CDTF">2008-10-14T08:50:20Z</dcterms:modified>
  <cp:revision>41</cp:revision>
  <dc:subject/>
  <dc:title>Soft photons in PHENIX</dc:title>
</cp:coreProperties>
</file>