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56C2-6DBD-434D-B914-B12814E06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FE64-63CD-4A7D-B0E1-E7F87555C7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 Beomsu Chang from Yonsei University , Kore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l present study about Combinatorial pair background in the electron-positron mass spectra in pp collistion at LHC ener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05A3-C9D4-4208-AB35-749EC5216A1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plot shows combinatorial pair mass distribution of each estimato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lue is for the like-sign pairs and red is for the Mixed-event pair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wo distributions show agreement for the low pT pairs or the large mass pair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owever significant difference is observed at the low mass and the high pT region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gnificant fraction of this difference will be from 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</a:rPr>
              <a:t>jet pairs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3B41-C070-4E46-B504-5457556A3D1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se plots show subtracted signal from each metho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d and blue boxes are subtracted pairs by like-sign pairs method and Mixed-event pair metho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lack solid and dot lines are from light hadrons and correlated heavy flavor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 general, like-sign pair subtraction works better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We can see the summation of hadrons and heavy flavor source is similar to like-sign pairs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or like-sign pair subtraction, the expected signal excess shows significant strength over the subtracted signal for the mass ran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fore, high quality data will be feasible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4EF1-51E4-4559-BFD1-55566D3722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also studied effect of detector acceptance for single tracks and for track pair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cceptance difference for the positively charged and the negatively charged tracks can distort the estimation by like-sign pair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fore, focus is given to the azimuthal angl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acceptance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lifted limitation i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acceptance completely for the first case 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d introduced substantial inefficiencies for the second cas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72A3-0C89-41F0-892B-46D555BCB4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ft plot shows e+e- mass distribution of each case, with or without phi acceptance varia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ight plot is Ratio of two distribu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duction of pair counts looks uniform over the studied mass range while some variation is seen as pair pT chang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69FA-29D5-4552-A053-259BF357F8F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rack pairs can be lost when they share a large number of hit clusters or approach each other closely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loss appears somewhat differently for the like-sign and the unlike-sign pairs due to the magnetic field configuration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inefficiency does not appear in the mixed event pairs. Therefore, this effect can distort measured mass distribution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o investigate distortion due to the lost close track pairs, we make the distribution of closest distance between two tracks in the ALICE TPC ran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consider distance of 2(cm) between trajectories will avoid hit cluster sharing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fore, we removed all track pairs within the distance, and studied how this pair filter affects the e+e- mass distributio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DE67-EB7F-4F88-A006-F0254FD6896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me changes are visible in the lowest mass bin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 significant loss is however visible for the mass range 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84CF-03A1-4357-B11D-0ECF4747A86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ike sign pairs yield better representation of the combinatorial pair background for the studied PYTHIA events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trong appearance of direc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*  is expected for Mee ~ 300 MeV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mi-leptonic decays of heavy flavor pairs appear as an important source of e+e- pair at large mas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assumed a virtual detector similar to ALIC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ngle track acceptance affect e+e- pair distribution by slowly varying normalization factors in the kinematic/mass regions of interes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rack pair acceptance does not affect e+e- pair distribution in the kinematic/mass regions of interes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ignored some background tracks induced by the photon conversion in the detector material, but expect no significant change of the current message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9A4A-E32E-4985-AEF0-A21CF5590AF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 will say abo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hysics motiv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asurement sche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d description of Combinatorial background and two background estimation method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d simulated event sample from PYTHIA will be describ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d Compare results of two combinatorial background estimation metho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d consider ALICE-like Detector effect from acceptance for Like-sign metho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A229-0733-4A5E-A9E4-8E0C285ABD2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w pT photon production is one of the best known QCD process, and further discussion was made yesterda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2DEC-8F16-4D9F-B8E1-364ED261991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want to measure low pT photon production through lepton pair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can avoid pi0 background through lepton pair measuremen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842B-AB36-4A8B-92F9-0122AC8409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ACEB-0880-4525-809D-7A16E8A3A3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hat is the combinatorial background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take two lepton pairs as an exampl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 is two real electron pairs like case 1 or case 2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want to measure two real electron-positron pair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cannot know which is real pair when we reconstruct from actual data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 we reconstruct all track pair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##For example, there are two electron-positron pairs like case 1, case2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굴림"/>
              </a:rPr>
              <a:t>In this case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get 4 electron-positron pairs after track pairs reconstruc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f course 2 red pairs is fake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se two pairs are called Combinatorial backgroun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wo approximations of the combinatorial background are widely used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ne i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US" sz="1200" spc="-1" strike="noStrike">
                <a:solidFill>
                  <a:srgbClr val="000000"/>
                </a:solidFill>
                <a:latin typeface="굴림"/>
              </a:rPr>
              <a:t>pairs from mixed even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and the other i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US" sz="1200" spc="-1" strike="noStrike">
                <a:solidFill>
                  <a:srgbClr val="000000"/>
                </a:solidFill>
                <a:latin typeface="굴림"/>
              </a:rPr>
              <a:t>like-sign pair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investigate their approach under controlled situation and get the proper answ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845C-B856-44D6-9614-509E7BDDD26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irst combinatorial background estimator is Mixed event pair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ixed event pairs method makes fake track pairs for each track with other similar event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ne track doe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 have rear partner in other events, all of mixed event pairs are combinatorial backgroun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urrently, we use 99events for each track, normalization is 1/99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ecause we can use many events to estimate background, mixed event pairs method has advantage in statistic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ut it has negative points also, that is mixed event pairs method cannot estimate fake pairs like cross pairs or Jet pairs produced by physics effec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find further detail for these correlated pairs in PHENIX publica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1320-4292-4E03-91D6-80675BEA61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ajor sources of electrons are rare decays of light hadrons (mostly  and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, vector mesons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, and the heavy flavored hadron pair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 important characteristic of these sources is charge symmetry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fore, combinatorial pairs formed by random combination of these electrons are charge symmetri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----------------------------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굴림"/>
              </a:rPr>
              <a:t>We can assume Number of combinatorial background by unlike sign pairs is same as Number of like-sign pair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굴림"/>
              </a:rPr>
              <a:t>If there exist some differences in acceptance for the positively charged and the negatively charged ones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굴림"/>
              </a:rPr>
              <a:t>the symmetry breaks down via acceptance factors 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굴림"/>
              </a:rPr>
              <a:t>In this case, geometric mean of counts can be safely used as an estimate of the combinatorial pair background counts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6A7D-71CC-4DD7-8D84-88649362A59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bove two estimates of the combinatorial background are tested against the event generator PYTHIA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or this task, we utilized 300M events of p+p collisions at LHC energy simulated by PYTHIA with default setting (MSEL=1)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lots are The pseudo-rapidity and the transverse momentum distribution of the produced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+ and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6B4C-D4B8-4BAD-8956-9DC95684448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is e+e- pair distribution from the simulated event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lue box is reconstructed raw pair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lid line is e+e- pairs from light hardon deca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tted line is pairs from correlated heavy flavor decay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lid and dotted black line came from PYTHIA information directly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d blue box raw pairs came from all track pair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’s no Virtual gamma in the simulated PYTHIA events, and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can see summation of hadronic source is less than raw pair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excess is combinatorial backgroun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ink dotted line will be expected level of signal when we assume direct gamma is 10% of the gamma’s from pi0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236-EF77-40FF-81B0-ECAC6682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B60-ABC3-4BCA-AC92-9130286D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CC4-F9DF-419C-90E0-3E196AE3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3A1-A5F7-4CFE-A5C3-A0EFB575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7E93-3268-4749-B3A9-DCAD2525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955E-2242-4BEF-A7A1-1C7BA0F3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F59B-EAE4-4F2E-8961-BA33BB19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AF19-D8DE-460D-939C-A8EE5FE6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78C4-6E33-4800-8533-F4CAD61A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240" y="36648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3E1E-3D5E-4E05-BC37-E44F3496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A197-F519-4E36-B7A5-350740AF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DB6-5581-4C29-BC9C-C0CE0261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0C05-4DAF-4C55-A67D-3E939DCF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86D9-DCFE-4873-875E-A1343982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62A3-5104-48BE-A2D3-535CEC00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B105-02F2-4DBC-AA7F-D4E8731A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26B2-8B28-451E-8709-C119DDCF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8FA9-B6A1-4E8D-80FC-8C4C303A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1A95-3256-411E-A323-546B4CFD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A3A0-BF68-430F-AC31-2CF7C81D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62E6-711D-49F8-856B-D7E837B9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92B2-9C94-4E7E-BDC6-DBA6E306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848-0130-40CE-AFBF-AC57032F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28240" y="36648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D2D0-416B-4B08-81C4-3631F18E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FBA3-67D4-4062-A737-CFF33D32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D8B6-D3A6-48BE-A679-666BFB13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7FA2B-DDD3-47BA-9E51-3CE2B08F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1723-8C42-43CE-9137-56AA4FF5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F7E5-0F99-42B3-A499-90221D3D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796E-BB73-4EEF-A9D5-2AAD9885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DF9-DF37-4D36-97D9-517D3A1D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BE5-7622-4836-8D49-FB838091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240" y="36648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0CA-0F79-4760-BA7C-8AD77B4E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A7D-D0D2-476A-91DB-E4792479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502-8EAF-424E-AEA0-A64DF070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D9F-3604-4814-ADA2-0C0817F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257480" y="2971800"/>
            <a:ext cx="6629400" cy="838080"/>
            <a:chOff x="1257480" y="2971800"/>
            <a:chExt cx="6629400" cy="838080"/>
          </a:xfrm>
        </p:grpSpPr>
        <p:sp>
          <p:nvSpPr>
            <p:cNvPr id="1" name="Rectangle 3"/>
            <p:cNvSpPr/>
            <p:nvPr/>
          </p:nvSpPr>
          <p:spPr>
            <a:xfrm>
              <a:off x="1257480" y="3059280"/>
              <a:ext cx="6629400" cy="628560"/>
            </a:xfrm>
            <a:prstGeom prst="rect">
              <a:avLst/>
            </a:prstGeom>
            <a:noFill/>
            <a:ln w="381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00200" y="2971800"/>
              <a:ext cx="5943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540480"/>
            <a:ext cx="2362320" cy="30492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3048120" y="2286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Yonsei University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0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BCFC-ECF1-4C68-BA2A-CB478B31B4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533520" y="1009800"/>
            <a:ext cx="7238880" cy="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40480"/>
            <a:ext cx="2362320" cy="30492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09080" y="657360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573600"/>
            <a:ext cx="289584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그림 12" descr="symbol_03.jpg"/>
          <p:cNvPicPr/>
          <p:nvPr/>
        </p:nvPicPr>
        <p:blipFill>
          <a:blip r:embed="rId2"/>
          <a:stretch/>
        </p:blipFill>
        <p:spPr>
          <a:xfrm>
            <a:off x="8305920" y="152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59720" y="6573600"/>
            <a:ext cx="213336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EAE1-5626-4E68-B86E-074300A976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8169120" y="654840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976D-F35E-41EA-ABD1-F56143CADA6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684360" y="2590920"/>
            <a:ext cx="7774920" cy="838080"/>
            <a:chOff x="684360" y="2590920"/>
            <a:chExt cx="7774920" cy="838080"/>
          </a:xfrm>
        </p:grpSpPr>
        <p:sp>
          <p:nvSpPr>
            <p:cNvPr id="95" name="Rectangle 3"/>
            <p:cNvSpPr/>
            <p:nvPr/>
          </p:nvSpPr>
          <p:spPr>
            <a:xfrm>
              <a:off x="684360" y="2678400"/>
              <a:ext cx="7774920" cy="628560"/>
            </a:xfrm>
            <a:prstGeom prst="rect">
              <a:avLst/>
            </a:prstGeom>
            <a:noFill/>
            <a:ln w="381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1086120" y="2590920"/>
              <a:ext cx="6972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7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6540480"/>
            <a:ext cx="2362320" cy="30492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048120" y="2286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Yonsei University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C8EA-1943-43A3-8044-914B508DBE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Combinatorial pair background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in the e</a:t>
            </a:r>
            <a:r>
              <a:rPr b="0" i="1" lang="en-US" sz="2800" spc="-1" strike="noStrike" baseline="30000">
                <a:solidFill>
                  <a:srgbClr val="000066"/>
                </a:solidFill>
                <a:latin typeface="Arial Black"/>
                <a:ea typeface="굴림"/>
              </a:rPr>
              <a:t>+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e</a:t>
            </a:r>
            <a:r>
              <a:rPr b="0" i="1" lang="en-US" sz="2800" spc="-1" strike="noStrike" baseline="30000">
                <a:solidFill>
                  <a:srgbClr val="000066"/>
                </a:solidFill>
                <a:latin typeface="Arial Black"/>
                <a:ea typeface="굴림"/>
              </a:rPr>
              <a:t>-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 mass spectra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in p+p collisions at √s = 14TeV</a:t>
            </a:r>
            <a:endParaRPr b="0" i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nsei Uni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. G. Song, D. H. Lee, B. K. Kim, B. S. Chang, Y. Kwon, J. H. K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날짜 개체 틀 2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Difference between two estimators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  <a:ea typeface="굴림"/>
              </a:rPr>
              <a:t>Like-sign pairs</a:t>
            </a:r>
            <a:r>
              <a:rPr b="1" lang="en-US" sz="2800" spc="-1" strike="noStrike">
                <a:solidFill>
                  <a:srgbClr val="00b0f0"/>
                </a:solidFill>
                <a:latin typeface="Arial Black"/>
                <a:ea typeface="굴림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굴림"/>
              </a:rPr>
              <a:t>vs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굴림"/>
              </a:rPr>
              <a:t>Mixed-event pairs</a:t>
            </a:r>
            <a:endParaRPr b="0" i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12" name="그림 21" descr="Fig9.jpg"/>
          <p:cNvPicPr/>
          <p:nvPr/>
        </p:nvPicPr>
        <p:blipFill>
          <a:blip r:embed="rId1"/>
          <a:stretch/>
        </p:blipFill>
        <p:spPr>
          <a:xfrm>
            <a:off x="1403280" y="1773360"/>
            <a:ext cx="6408720" cy="45561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4"/>
          <p:cNvSpPr/>
          <p:nvPr/>
        </p:nvSpPr>
        <p:spPr>
          <a:xfrm>
            <a:off x="508320" y="126828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binatorial pair mass distributi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날짜 개체 틀 2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Subtracted signal level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  <a:ea typeface="굴림"/>
              </a:rPr>
              <a:t>Like-sign pairs</a:t>
            </a:r>
            <a:r>
              <a:rPr b="1" lang="en-US" sz="2800" spc="-1" strike="noStrike">
                <a:solidFill>
                  <a:srgbClr val="00b0f0"/>
                </a:solidFill>
                <a:latin typeface="Arial Black"/>
                <a:ea typeface="굴림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굴림"/>
              </a:rPr>
              <a:t>vs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굴림"/>
              </a:rPr>
              <a:t>Mixed-event pairs</a:t>
            </a:r>
            <a:endParaRPr b="0" i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216" name="Group 14"/>
          <p:cNvGrpSpPr/>
          <p:nvPr/>
        </p:nvGrpSpPr>
        <p:grpSpPr>
          <a:xfrm>
            <a:off x="611280" y="2637000"/>
            <a:ext cx="3598920" cy="3886200"/>
            <a:chOff x="611280" y="2637000"/>
            <a:chExt cx="3598920" cy="3886200"/>
          </a:xfrm>
        </p:grpSpPr>
        <p:pic>
          <p:nvPicPr>
            <p:cNvPr id="217" name="그림 6" descr="Fig14.jpg"/>
            <p:cNvPicPr/>
            <p:nvPr/>
          </p:nvPicPr>
          <p:blipFill>
            <a:blip r:embed="rId1"/>
            <a:stretch/>
          </p:blipFill>
          <p:spPr>
            <a:xfrm>
              <a:off x="616320" y="2640240"/>
              <a:ext cx="3593880" cy="38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그림 8" descr="Fig12.jpg"/>
            <p:cNvPicPr/>
            <p:nvPr/>
          </p:nvPicPr>
          <p:blipFill>
            <a:blip r:embed="rId2"/>
            <a:stretch/>
          </p:blipFill>
          <p:spPr>
            <a:xfrm>
              <a:off x="611280" y="2637000"/>
              <a:ext cx="3598920" cy="38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19"/>
          <p:cNvGrpSpPr/>
          <p:nvPr/>
        </p:nvGrpSpPr>
        <p:grpSpPr>
          <a:xfrm>
            <a:off x="4572000" y="2638440"/>
            <a:ext cx="3598920" cy="3885840"/>
            <a:chOff x="4572000" y="2638440"/>
            <a:chExt cx="3598920" cy="3885840"/>
          </a:xfrm>
        </p:grpSpPr>
        <p:pic>
          <p:nvPicPr>
            <p:cNvPr id="220" name="그림 7" descr="Fig15.jpg"/>
            <p:cNvPicPr/>
            <p:nvPr/>
          </p:nvPicPr>
          <p:blipFill>
            <a:blip r:embed="rId3"/>
            <a:stretch/>
          </p:blipFill>
          <p:spPr>
            <a:xfrm>
              <a:off x="4573440" y="2638440"/>
              <a:ext cx="3595320" cy="387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그림 9" descr="Fig13.jpg"/>
            <p:cNvPicPr/>
            <p:nvPr/>
          </p:nvPicPr>
          <p:blipFill>
            <a:blip r:embed="rId4"/>
            <a:stretch/>
          </p:blipFill>
          <p:spPr>
            <a:xfrm>
              <a:off x="4572000" y="2645280"/>
              <a:ext cx="3598920" cy="387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Rectangle 22"/>
          <p:cNvSpPr/>
          <p:nvPr/>
        </p:nvSpPr>
        <p:spPr>
          <a:xfrm>
            <a:off x="324000" y="1125360"/>
            <a:ext cx="81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stribut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aw pai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with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substra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  <a:ea typeface="굴림"/>
              </a:rPr>
              <a:t>Red box : Subtracted counts by Mixed event,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Blue box : Subtracted counts</a:t>
            </a: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by Like-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Black solid line : From light hadro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Black dotted line : From heavy flavor pairs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그림 16" descr="Fig16.jpg"/>
          <p:cNvPicPr/>
          <p:nvPr/>
        </p:nvPicPr>
        <p:blipFill>
          <a:blip r:embed="rId1"/>
          <a:stretch/>
        </p:blipFill>
        <p:spPr>
          <a:xfrm>
            <a:off x="5219640" y="907920"/>
            <a:ext cx="3851280" cy="25894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Consideration for Detector effect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Efficiency for Single track</a:t>
            </a:r>
            <a:endParaRPr b="0" i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835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| &lt;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T &gt; 0.3 GeV/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wo case in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. Complete acceptance without in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. substantial ineffici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그림 12" descr="Fig17.jpg"/>
          <p:cNvPicPr/>
          <p:nvPr/>
        </p:nvPicPr>
        <p:blipFill>
          <a:blip r:embed="rId2"/>
          <a:stretch/>
        </p:blipFill>
        <p:spPr>
          <a:xfrm>
            <a:off x="5219640" y="3789360"/>
            <a:ext cx="390384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Efficiency for Single track</a:t>
            </a:r>
            <a:r>
              <a:rPr b="0" i="1" lang="en-US" sz="3200" spc="-1" strike="noStrike">
                <a:solidFill>
                  <a:srgbClr val="9999cc"/>
                </a:solidFill>
                <a:latin typeface="Arial Black"/>
                <a:ea typeface="굴림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Arial Black"/>
                <a:ea typeface="굴림"/>
              </a:rPr>
              <a:t>with</a:t>
            </a: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 &amp; </a:t>
            </a:r>
            <a:r>
              <a:rPr b="0" i="1" lang="en-US" sz="3200" spc="-1" strike="noStrike">
                <a:solidFill>
                  <a:srgbClr val="0000ff"/>
                </a:solidFill>
                <a:latin typeface="Arial Black"/>
                <a:ea typeface="굴림"/>
              </a:rPr>
              <a:t>without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 acceptance 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Uniform reduction over the mass r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eed mor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그림 4" descr="Fig6.jpg"/>
          <p:cNvPicPr/>
          <p:nvPr/>
        </p:nvPicPr>
        <p:blipFill>
          <a:blip r:embed="rId1"/>
          <a:stretch/>
        </p:blipFill>
        <p:spPr>
          <a:xfrm>
            <a:off x="0" y="2560680"/>
            <a:ext cx="4500720" cy="29559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395280" y="546552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굴림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mass distribution (like-sign pair subtraction) with &amp; withou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acceptanc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3" name="그림 5" descr="Fig7.jpg"/>
          <p:cNvPicPr/>
          <p:nvPr/>
        </p:nvPicPr>
        <p:blipFill>
          <a:blip r:embed="rId2"/>
          <a:stretch/>
        </p:blipFill>
        <p:spPr>
          <a:xfrm>
            <a:off x="4643280" y="2565360"/>
            <a:ext cx="4500720" cy="29466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9"/>
          <p:cNvSpPr/>
          <p:nvPr/>
        </p:nvSpPr>
        <p:spPr>
          <a:xfrm>
            <a:off x="4723200" y="54442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atio of two distributio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날짜 개체 틀 4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Consideration for Detector effect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Track Pairs</a:t>
            </a:r>
            <a:endParaRPr b="0" i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7" name="그림 17" descr="Fig3.jpg"/>
          <p:cNvPicPr/>
          <p:nvPr/>
        </p:nvPicPr>
        <p:blipFill>
          <a:blip r:embed="rId1"/>
          <a:stretch/>
        </p:blipFill>
        <p:spPr>
          <a:xfrm>
            <a:off x="250920" y="1052640"/>
            <a:ext cx="4825800" cy="51130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6160" y="1523880"/>
            <a:ext cx="4040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oo close track pairs can be lost because of cluster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move tr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osest distance &lt; 2cm in TPC-like vol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 flipV="1">
            <a:off x="971640" y="1557360"/>
            <a:ext cx="0" cy="417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Track Pairs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 Black"/>
                <a:ea typeface="굴림"/>
              </a:rPr>
              <a:t>with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 vs. </a:t>
            </a:r>
            <a:r>
              <a:rPr b="0" i="1" lang="en-US" sz="2800" spc="-1" strike="noStrike">
                <a:solidFill>
                  <a:srgbClr val="0000ff"/>
                </a:solidFill>
                <a:latin typeface="Arial Black"/>
                <a:ea typeface="굴림"/>
              </a:rPr>
              <a:t>without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 track pair filter</a:t>
            </a:r>
            <a:endParaRPr b="0" i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o loss but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mass 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그림 1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302520" cy="3978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324000" y="5949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굴림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mass distribution (like-sign pair subtraction) 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with (red)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&amp;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without (blue)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track pair filter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Summary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stimation by like-sign pairs yield better representation of the combinatorial background for th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pair analysis in p+p coll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rong appearance of dire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* is expected fo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~ 300 M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mi-leptonic decays of heavy flavor pairs appear as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mportant source of e+e- pair at large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ngle track or track pair acceptance will not affect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pair mass distribution (in the kinematic/mass region of inter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e note experimental background tracks as 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conversion in the detector material are not included in the current wor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Backup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ko-KR" sz="3200" spc="-1" strike="noStrike">
              <a:solidFill>
                <a:srgbClr val="000066"/>
              </a:solidFill>
              <a:latin typeface="Arial Black"/>
              <a:ea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  <a:ea typeface="PMingLiU"/>
              </a:rPr>
              <a:t>Like-sig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Major sources of single electrons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MingLiU"/>
                <a:ea typeface="PMingLiU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 Dalitz, Vector mesons, heavy flavor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Charge symmetric sour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MingLiU"/>
                <a:ea typeface="PMingLiU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~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MingLiU"/>
                <a:ea typeface="PMingLiU"/>
              </a:rPr>
              <a:t>-+</a:t>
            </a: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~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MingLiU"/>
                <a:ea typeface="PMingLiU"/>
              </a:rPr>
              <a:t>+-</a:t>
            </a: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~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MingLiU"/>
                <a:ea typeface="PMingLiU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Difference in acceptan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  <a:ea typeface="PMingLiU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  <a:ea typeface="PMingLiU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5025960" y="3571920"/>
                <a:ext cx="3760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cc"/>
                </a:solidFill>
                <a:latin typeface="Arial Black"/>
                <a:ea typeface="굴림"/>
              </a:rPr>
              <a:t>Two estimators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Like-sign pairs</a:t>
            </a:r>
            <a:endParaRPr b="0" i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l Pair →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,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constructed Pai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→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2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2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2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2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br>
              <a:rPr sz="1800"/>
            </a:b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→ Combinatorial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ke-sign pairs →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  <a:ea typeface="굴림"/>
              </a:rPr>
              <a:t>1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굴림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  <a:ea typeface="굴림"/>
              </a:rPr>
              <a:t>2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굴림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, 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  <a:ea typeface="굴림"/>
              </a:rPr>
              <a:t>1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굴림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  <a:ea typeface="굴림"/>
              </a:rPr>
              <a:t>2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굴림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ackground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harge symmerty 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N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+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~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N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  <a:ea typeface="굴림"/>
              </a:rPr>
              <a:t>++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~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N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-+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~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N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  <a:ea typeface="굴림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ifference in acceptance </a:t>
            </a:r>
            <a:br>
              <a:rPr sz="1800"/>
            </a:b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 flipV="1">
            <a:off x="7095960" y="4468320"/>
            <a:ext cx="204840" cy="1343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7095960" y="4844880"/>
            <a:ext cx="925560" cy="966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7227720" y="4640400"/>
            <a:ext cx="468360" cy="1275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Line 7"/>
          <p:cNvSpPr/>
          <p:nvPr/>
        </p:nvSpPr>
        <p:spPr>
          <a:xfrm flipV="1">
            <a:off x="7229520" y="5156280"/>
            <a:ext cx="1098360" cy="76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030440" y="4005360"/>
            <a:ext cx="4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굴림"/>
              </a:rPr>
              <a:t>1</a:t>
            </a:r>
            <a:r>
              <a:rPr b="1" lang="en-US" sz="1800" spc="-1" strike="noStrike" baseline="30000">
                <a:solidFill>
                  <a:srgbClr val="0000ff"/>
                </a:solidFill>
                <a:latin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7594200" y="4211640"/>
            <a:ext cx="4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굴림"/>
              </a:rPr>
              <a:t>2</a:t>
            </a:r>
            <a:r>
              <a:rPr b="1" lang="en-US" sz="1800" spc="-1" strike="noStrike" baseline="30000">
                <a:solidFill>
                  <a:srgbClr val="0000ff"/>
                </a:solidFill>
                <a:latin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7980840" y="4432320"/>
            <a:ext cx="43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굴림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굴림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8288640" y="4754520"/>
            <a:ext cx="43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굴림"/>
              </a:rPr>
              <a:t>2</a:t>
            </a:r>
            <a:r>
              <a:rPr b="1" lang="en-US" sz="1800" spc="-1" strike="noStrike" baseline="30000">
                <a:solidFill>
                  <a:srgbClr val="ff0000"/>
                </a:solidFill>
                <a:latin typeface="굴림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Line 12"/>
          <p:cNvSpPr/>
          <p:nvPr/>
        </p:nvSpPr>
        <p:spPr>
          <a:xfrm flipV="1">
            <a:off x="7655040" y="920880"/>
            <a:ext cx="215640" cy="1218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Line 13"/>
          <p:cNvSpPr/>
          <p:nvPr/>
        </p:nvSpPr>
        <p:spPr>
          <a:xfrm flipV="1">
            <a:off x="7655040" y="1263600"/>
            <a:ext cx="971280" cy="876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Line 14"/>
          <p:cNvSpPr/>
          <p:nvPr/>
        </p:nvSpPr>
        <p:spPr>
          <a:xfrm flipH="1">
            <a:off x="7235640" y="2233080"/>
            <a:ext cx="352800" cy="1185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Line 15"/>
          <p:cNvSpPr/>
          <p:nvPr/>
        </p:nvSpPr>
        <p:spPr>
          <a:xfrm flipH="1">
            <a:off x="6528240" y="2239920"/>
            <a:ext cx="1065240" cy="7621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6238440" y="3003480"/>
            <a:ext cx="4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굴림"/>
              </a:rPr>
              <a:t>2</a:t>
            </a:r>
            <a:r>
              <a:rPr b="1" lang="en-US" sz="1800" spc="-1" strike="noStrike" baseline="30000">
                <a:solidFill>
                  <a:srgbClr val="0000ff"/>
                </a:solidFill>
                <a:latin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8573040" y="947880"/>
            <a:ext cx="43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굴림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굴림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6975720" y="3363840"/>
            <a:ext cx="43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굴림"/>
              </a:rPr>
              <a:t>2</a:t>
            </a:r>
            <a:r>
              <a:rPr b="1" lang="en-US" sz="1800" spc="-1" strike="noStrike" baseline="30000">
                <a:solidFill>
                  <a:srgbClr val="ff0000"/>
                </a:solidFill>
                <a:latin typeface="굴림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7751160" y="549360"/>
            <a:ext cx="4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굴림"/>
              </a:rPr>
              <a:t>1</a:t>
            </a:r>
            <a:r>
              <a:rPr b="1" lang="en-US" sz="1800" spc="-1" strike="noStrike" baseline="30000">
                <a:solidFill>
                  <a:srgbClr val="0000ff"/>
                </a:solidFill>
                <a:latin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836720" y="5529240"/>
                <a:ext cx="4103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CONTENTS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hysics motivation : Low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easurement scheme :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mbinatorial background &amp; Its estimators (Pairs from Mixed event, Like-sign pai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ulated event sample : PYTH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ackground estimation for the given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fference between two estim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btracted sig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nsideration for Detector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fficiency for Sing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fficiency for close track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?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+e- pair mass distribution from PYTHIA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그림 1" descr=""/>
          <p:cNvPicPr/>
          <p:nvPr/>
        </p:nvPicPr>
        <p:blipFill>
          <a:blip r:embed="rId1"/>
          <a:srcRect l="0" t="1929" r="54128" b="49793"/>
          <a:stretch/>
        </p:blipFill>
        <p:spPr>
          <a:xfrm>
            <a:off x="5595840" y="2637000"/>
            <a:ext cx="3513240" cy="3889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-55080" y="1676520"/>
            <a:ext cx="5641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굴림"/>
              </a:rPr>
              <a:t>A = blue box : raw pai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B = solid line : hadron deca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C = dotted line : correlated heavy flavor decay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굴림"/>
                <a:ea typeface="굴림"/>
              </a:rPr>
              <a:t>D = pink line : fictitious virtual </a:t>
            </a:r>
            <a:r>
              <a:rPr b="0" lang="en-US" sz="1800" spc="-1" strike="noStrike">
                <a:solidFill>
                  <a:srgbClr val="ff00ff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  <a:ea typeface="굴림"/>
              </a:rPr>
              <a:t>A-(B+C+D) = Combinatorial pair backgroun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날짜 개체 틀 2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Lepton pairs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from light hadron decay, PYTHIA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82" name="내용 개체 틀 5" descr="Fig8.jpg"/>
          <p:cNvPicPr/>
          <p:nvPr/>
        </p:nvPicPr>
        <p:blipFill>
          <a:blip r:embed="rId1"/>
          <a:stretch/>
        </p:blipFill>
        <p:spPr>
          <a:xfrm>
            <a:off x="677880" y="2001960"/>
            <a:ext cx="4038480" cy="2757240"/>
          </a:xfrm>
          <a:prstGeom prst="rect">
            <a:avLst/>
          </a:prstGeom>
          <a:ln w="0">
            <a:noFill/>
          </a:ln>
        </p:spPr>
      </p:pic>
      <p:pic>
        <p:nvPicPr>
          <p:cNvPr id="283" name="내용 개체 틀 6" descr="Fig4.jpg"/>
          <p:cNvPicPr/>
          <p:nvPr/>
        </p:nvPicPr>
        <p:blipFill>
          <a:blip r:embed="rId2"/>
          <a:stretch/>
        </p:blipFill>
        <p:spPr>
          <a:xfrm>
            <a:off x="4788000" y="2057400"/>
            <a:ext cx="4038480" cy="2722680"/>
          </a:xfrm>
          <a:prstGeom prst="rect">
            <a:avLst/>
          </a:prstGeom>
          <a:ln w="0">
            <a:noFill/>
          </a:ln>
        </p:spPr>
      </p:pic>
      <p:cxnSp>
        <p:nvCxnSpPr>
          <p:cNvPr id="284" name="직선 화살표 연결선 8"/>
          <p:cNvCxnSpPr/>
          <p:nvPr/>
        </p:nvCxnSpPr>
        <p:spPr>
          <a:xfrm flipH="1">
            <a:off x="1785240" y="2984040"/>
            <a:ext cx="500760" cy="500760"/>
          </a:xfrm>
          <a:prstGeom prst="straightConnector1">
            <a:avLst/>
          </a:prstGeom>
          <a:ln w="9360">
            <a:solidFill>
              <a:srgbClr val="153f93"/>
            </a:solidFill>
            <a:miter/>
            <a:tailEnd len="med" type="arrow" w="med"/>
          </a:ln>
        </p:spPr>
      </p:cxnSp>
      <p:sp>
        <p:nvSpPr>
          <p:cNvPr id="285" name="TextBox 9"/>
          <p:cNvSpPr/>
          <p:nvPr/>
        </p:nvSpPr>
        <p:spPr>
          <a:xfrm>
            <a:off x="1650960" y="255600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직사각형 10"/>
          <p:cNvSpPr/>
          <p:nvPr/>
        </p:nvSpPr>
        <p:spPr>
          <a:xfrm>
            <a:off x="727920" y="1413000"/>
            <a:ext cx="44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ight hadron decay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729000" y="5056200"/>
            <a:ext cx="236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eavy flavor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. Virtu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1116000" y="566100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Physics motivation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Low p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 Black"/>
                <a:ea typeface="굴림"/>
              </a:rPr>
              <a:t>T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 production</a:t>
            </a:r>
            <a:endParaRPr b="0" i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Direc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production in p+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ne of the best known QCD proc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1752480" cy="1363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"/>
          <p:cNvPicPr/>
          <p:nvPr/>
        </p:nvPicPr>
        <p:blipFill>
          <a:blip r:embed="rId2"/>
          <a:stretch/>
        </p:blipFill>
        <p:spPr>
          <a:xfrm>
            <a:off x="2819520" y="2971800"/>
            <a:ext cx="1752480" cy="1324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4"/>
          <p:cNvSpPr/>
          <p:nvPr/>
        </p:nvSpPr>
        <p:spPr>
          <a:xfrm>
            <a:off x="4866480" y="3546360"/>
            <a:ext cx="33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ing order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erturbation theor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9"/>
              <p:cNvSpPr txBox="1"/>
              <p:nvPr/>
            </p:nvSpPr>
            <p:spPr>
              <a:xfrm>
                <a:off x="928800" y="4572000"/>
                <a:ext cx="17859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q</m:t>
                    </m:r>
                    <m:r>
                      <m:t xml:space="preserve">→</m:t>
                    </m:r>
                    <m:r>
                      <m:t xml:space="preserve">γ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0"/>
              <p:cNvSpPr txBox="1"/>
              <p:nvPr/>
            </p:nvSpPr>
            <p:spPr>
              <a:xfrm>
                <a:off x="2786040" y="4500720"/>
                <a:ext cx="1928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γ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Measurement scheme: e+e- pairs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, R H Dalitz 1951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roc. Phys. Soc.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667-66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ND we can avoi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backgrou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5429160" y="2781360"/>
            <a:ext cx="3610800" cy="3324240"/>
            <a:chOff x="5429160" y="2781360"/>
            <a:chExt cx="3610800" cy="3324240"/>
          </a:xfrm>
        </p:grpSpPr>
        <p:pic>
          <p:nvPicPr>
            <p:cNvPr id="167" name="Picture 37" descr=""/>
            <p:cNvPicPr/>
            <p:nvPr/>
          </p:nvPicPr>
          <p:blipFill>
            <a:blip r:embed="rId1"/>
            <a:stretch/>
          </p:blipFill>
          <p:spPr>
            <a:xfrm>
              <a:off x="5429160" y="4152960"/>
              <a:ext cx="208908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Line 6"/>
            <p:cNvSpPr/>
            <p:nvPr/>
          </p:nvSpPr>
          <p:spPr>
            <a:xfrm flipV="1">
              <a:off x="7486560" y="3238560"/>
              <a:ext cx="228600" cy="9144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 flipH="1" flipV="1">
              <a:off x="7486200" y="4152600"/>
              <a:ext cx="990360" cy="2286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7304760" y="27813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굴림"/>
                </a:rPr>
                <a:t>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굴림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8494920" y="422928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굴림"/>
                </a:rPr>
                <a:t>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굴림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Combinatorial background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al Pai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constructed Pai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&gt; 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1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-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1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1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-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굴림"/>
              </a:rPr>
              <a:t>1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굴림"/>
              </a:rPr>
              <a:t>-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&gt; Combinatorial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ackground estima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&gt; mixed event, like-sign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737400" y="1371240"/>
            <a:ext cx="204840" cy="1343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737400" y="1747800"/>
            <a:ext cx="925560" cy="966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869160" y="1543680"/>
            <a:ext cx="468360" cy="1275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870960" y="2058840"/>
            <a:ext cx="1098000" cy="763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6798960" y="1052640"/>
            <a:ext cx="4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굴림"/>
              </a:rPr>
              <a:t>1</a:t>
            </a:r>
            <a:r>
              <a:rPr b="1" lang="en-US" sz="1800" spc="-1" strike="noStrike" baseline="30000">
                <a:solidFill>
                  <a:srgbClr val="0000ff"/>
                </a:solidFill>
                <a:latin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7159320" y="1258920"/>
            <a:ext cx="4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굴림"/>
              </a:rPr>
              <a:t>2</a:t>
            </a:r>
            <a:r>
              <a:rPr b="1" lang="en-US" sz="1800" spc="-1" strike="noStrike" baseline="30000">
                <a:solidFill>
                  <a:srgbClr val="0000ff"/>
                </a:solidFill>
                <a:latin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7545600" y="1479600"/>
            <a:ext cx="43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굴림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굴림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7853760" y="1801800"/>
            <a:ext cx="43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굴림"/>
              </a:rPr>
              <a:t>2</a:t>
            </a:r>
            <a:r>
              <a:rPr b="1" lang="en-US" sz="1800" spc="-1" strike="noStrike" baseline="30000">
                <a:solidFill>
                  <a:srgbClr val="ff0000"/>
                </a:solidFill>
                <a:latin typeface="굴림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380360" y="3578400"/>
            <a:ext cx="216000" cy="1218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380360" y="3921120"/>
            <a:ext cx="971640" cy="876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960960" y="4890600"/>
            <a:ext cx="352800" cy="1185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253560" y="4897440"/>
            <a:ext cx="106524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5963760" y="5661000"/>
            <a:ext cx="4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굴림"/>
              </a:rPr>
              <a:t>2</a:t>
            </a:r>
            <a:r>
              <a:rPr b="1" lang="en-US" sz="1800" spc="-1" strike="noStrike" baseline="30000">
                <a:solidFill>
                  <a:srgbClr val="0000ff"/>
                </a:solidFill>
                <a:latin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8226720" y="3676680"/>
            <a:ext cx="43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굴림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굴림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6701040" y="6021360"/>
            <a:ext cx="43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굴림"/>
              </a:rPr>
              <a:t>2</a:t>
            </a:r>
            <a:r>
              <a:rPr b="1" lang="en-US" sz="1800" spc="-1" strike="noStrike" baseline="30000">
                <a:solidFill>
                  <a:srgbClr val="ff0000"/>
                </a:solidFill>
                <a:latin typeface="굴림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7405200" y="3278160"/>
            <a:ext cx="4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e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굴림"/>
              </a:rPr>
              <a:t>1</a:t>
            </a:r>
            <a:r>
              <a:rPr b="1" lang="en-US" sz="1800" spc="-1" strike="noStrike" baseline="30000">
                <a:solidFill>
                  <a:srgbClr val="0000ff"/>
                </a:solidFill>
                <a:latin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7504200" y="2610000"/>
            <a:ext cx="9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504200" y="5805360"/>
            <a:ext cx="9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cc"/>
                </a:solidFill>
                <a:latin typeface="Arial Black"/>
                <a:ea typeface="굴림"/>
              </a:rPr>
              <a:t>Two estimators</a:t>
            </a:r>
            <a:br>
              <a:rPr sz="2800"/>
            </a:br>
            <a:r>
              <a:rPr b="0" i="1" lang="en-US" sz="2800" spc="-1" strike="noStrike">
                <a:solidFill>
                  <a:srgbClr val="9999cc"/>
                </a:solidFill>
                <a:latin typeface="Arial Black"/>
                <a:ea typeface="굴림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 Black"/>
                <a:ea typeface="굴림"/>
              </a:rPr>
              <a:t>Mixed event pairs</a:t>
            </a:r>
            <a:endParaRPr b="0" i="1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stimate fake track pairs with each track and other similar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urrent work : Previous 99 events in mixed event pool, normalization factor = 1/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Good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eed independent estimate for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ross pairs (Double Dalitz deca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nd Jet pairs (correlated pairs from 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0 corre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--- Details can be found in the rec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PHENIX pub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Two estimators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Like-sign pairs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ajor sources of single electrons 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Dalitz, Vector mesons, heavy fla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ssume fake number of unlike sign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 pairs is related with like-sign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+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harge symmetric sour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~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-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~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+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~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ifference in acceptan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5286240" y="3840120"/>
                <a:ext cx="2562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</m:sub>
                        </m:sSub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날짜 개체 틀 3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Simulated event sample : PYTHIA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300M p+p events @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Default setting with MSEL=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214880" y="1428840"/>
                <a:ext cx="2714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Te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4" name="그림 6" descr="Fig1.jpg"/>
          <p:cNvPicPr/>
          <p:nvPr/>
        </p:nvPicPr>
        <p:blipFill>
          <a:blip r:embed="rId1"/>
          <a:stretch/>
        </p:blipFill>
        <p:spPr>
          <a:xfrm>
            <a:off x="0" y="3000240"/>
            <a:ext cx="4572000" cy="305604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7" descr="Fig2.jpg"/>
          <p:cNvPicPr/>
          <p:nvPr/>
        </p:nvPicPr>
        <p:blipFill>
          <a:blip r:embed="rId2"/>
          <a:stretch/>
        </p:blipFill>
        <p:spPr>
          <a:xfrm>
            <a:off x="4543560" y="3000240"/>
            <a:ext cx="460044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날짜 개체 틀 2"/>
          <p:cNvSpPr/>
          <p:nvPr/>
        </p:nvSpPr>
        <p:spPr>
          <a:xfrm>
            <a:off x="10944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nsei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3664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e</a:t>
            </a:r>
            <a:r>
              <a:rPr b="0" i="1" lang="en-US" sz="3200" spc="-1" strike="noStrike" baseline="30000">
                <a:solidFill>
                  <a:srgbClr val="000066"/>
                </a:solidFill>
                <a:latin typeface="Arial Black"/>
                <a:ea typeface="굴림"/>
              </a:rPr>
              <a:t>+</a:t>
            </a: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e</a:t>
            </a:r>
            <a:r>
              <a:rPr b="0" i="1" lang="en-US" sz="3200" spc="-1" strike="noStrike" baseline="30000">
                <a:solidFill>
                  <a:srgbClr val="000066"/>
                </a:solidFill>
                <a:latin typeface="Arial Black"/>
                <a:ea typeface="굴림"/>
              </a:rPr>
              <a:t>-</a:t>
            </a:r>
            <a:r>
              <a:rPr b="0" i="1" lang="en-US" sz="3200" spc="-1" strike="noStrike">
                <a:solidFill>
                  <a:srgbClr val="000066"/>
                </a:solidFill>
                <a:latin typeface="Arial Black"/>
                <a:ea typeface="굴림"/>
              </a:rPr>
              <a:t> pairs distribution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08" name="그림 1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42483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7"/>
          <p:cNvSpPr/>
          <p:nvPr/>
        </p:nvSpPr>
        <p:spPr>
          <a:xfrm>
            <a:off x="576360" y="53341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blue box : raw pai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olid line : hadron deca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dotted line : correlated heavy flavor decay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굴림"/>
                <a:ea typeface="굴림"/>
              </a:rPr>
              <a:t>pink line : fictitious virtual </a:t>
            </a:r>
            <a:r>
              <a:rPr b="1" lang="en-US" sz="1800" spc="-1" strike="noStrike">
                <a:solidFill>
                  <a:srgbClr val="ff00ff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7:30:18Z</dcterms:created>
  <dc:creator>bs</dc:creator>
  <dc:description/>
  <dc:language>en-US</dc:language>
  <cp:lastModifiedBy>npl</cp:lastModifiedBy>
  <dcterms:modified xsi:type="dcterms:W3CDTF">2008-10-14T04:45:45Z</dcterms:modified>
  <cp:revision>80</cp:revision>
  <dc:subject/>
  <dc:title>Combinatorial pair background in the e+e-</dc:title>
</cp:coreProperties>
</file>