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41.png" ContentType="image/png"/>
  <Override PartName="/ppt/media/image3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31.png" ContentType="image/png"/>
  <Override PartName="/ppt/media/image29.png" ContentType="image/png"/>
  <Override PartName="/ppt/media/image34.wmf" ContentType="image/x-wmf"/>
  <Override PartName="/ppt/media/image40.png" ContentType="image/png"/>
  <Override PartName="/ppt/media/image32.png" ContentType="image/png"/>
  <Override PartName="/ppt/media/image1.jpeg" ContentType="image/jpeg"/>
  <Override PartName="/ppt/media/image43.wmf" ContentType="image/x-wmf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10.wmf" ContentType="image/x-wmf"/>
  <Override PartName="/ppt/media/image25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DF3B3-F0F2-48CE-BE04-FC9785E9B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94AC7-D0B7-4A63-98A7-67AE8271C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D061A-C8DD-4602-BD9D-C8F52798F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1FC13-458B-4A7E-8E0C-02926E42B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EFF45-7926-4B61-B19D-80E8AF0E72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35922-288F-4DAA-A24F-BDDF871908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B6897-17FB-40E6-B15A-3A7B1BC1A4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D844C-45E4-48B9-82E4-7E34838556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1FA62-9A0D-4E0E-BEF6-765CBC85F3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2EAA8-C18C-4082-936E-704DFA98C1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B3237-E7A4-4154-94AB-568801D1E5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59665-7513-4239-B0E8-7644112F5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072F6-4D57-4EFE-AAE7-A9C05E3733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D858A-230D-4B41-9DEB-30C132EF4D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DE172-6016-4FEF-8499-F59BC51388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38AA4-FD07-48BE-A776-F95FC15B8A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A2120-CAC8-4EA2-A468-C2C343727B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6128E-8F30-40C7-97ED-48F0E253E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A4370-3C5F-40CA-A89B-62B2D6139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57DF6-4691-4021-81E5-BCDDB2F00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B4179-B06E-4F51-A6B8-02C0AEE62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6657E-BF4F-46E9-8298-E0CF6ADAA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19613-A15A-498F-829E-DFAE17E46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55AE1-17B8-4E46-9954-0EC0DCB04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0A33-A180-4A1F-B29D-2F0565519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aki Ouch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24640"/>
            <a:ext cx="4140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 Oct. ATHIC @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0F42-B596-4786-AFD0-CD601E62E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24640"/>
            <a:ext cx="4140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 Oct. ATHIC @ Tsuku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rot="8189400">
            <a:off x="5580000" y="3357720"/>
            <a:ext cx="1152720" cy="1653840"/>
          </a:xfrm>
          <a:custGeom>
            <a:avLst/>
            <a:gdLst/>
            <a:ahLst/>
            <a:rect l="l" t="t" r="r" b="b"/>
            <a:pathLst>
              <a:path w="1527" h="2140">
                <a:moveTo>
                  <a:pt x="1353" y="0"/>
                </a:moveTo>
                <a:cubicBezTo>
                  <a:pt x="1440" y="132"/>
                  <a:pt x="1527" y="265"/>
                  <a:pt x="1489" y="318"/>
                </a:cubicBezTo>
                <a:cubicBezTo>
                  <a:pt x="1451" y="371"/>
                  <a:pt x="1165" y="258"/>
                  <a:pt x="1127" y="318"/>
                </a:cubicBezTo>
                <a:cubicBezTo>
                  <a:pt x="1089" y="378"/>
                  <a:pt x="1301" y="627"/>
                  <a:pt x="1263" y="680"/>
                </a:cubicBezTo>
                <a:cubicBezTo>
                  <a:pt x="1225" y="733"/>
                  <a:pt x="938" y="582"/>
                  <a:pt x="900" y="635"/>
                </a:cubicBezTo>
                <a:cubicBezTo>
                  <a:pt x="862" y="688"/>
                  <a:pt x="1066" y="953"/>
                  <a:pt x="1036" y="998"/>
                </a:cubicBezTo>
                <a:cubicBezTo>
                  <a:pt x="1006" y="1043"/>
                  <a:pt x="748" y="854"/>
                  <a:pt x="718" y="907"/>
                </a:cubicBezTo>
                <a:cubicBezTo>
                  <a:pt x="688" y="960"/>
                  <a:pt x="892" y="1271"/>
                  <a:pt x="854" y="1316"/>
                </a:cubicBezTo>
                <a:cubicBezTo>
                  <a:pt x="816" y="1361"/>
                  <a:pt x="530" y="1134"/>
                  <a:pt x="492" y="1179"/>
                </a:cubicBezTo>
                <a:cubicBezTo>
                  <a:pt x="454" y="1224"/>
                  <a:pt x="666" y="1535"/>
                  <a:pt x="628" y="1588"/>
                </a:cubicBezTo>
                <a:cubicBezTo>
                  <a:pt x="590" y="1641"/>
                  <a:pt x="295" y="1452"/>
                  <a:pt x="265" y="1497"/>
                </a:cubicBezTo>
                <a:cubicBezTo>
                  <a:pt x="235" y="1542"/>
                  <a:pt x="484" y="1815"/>
                  <a:pt x="446" y="1860"/>
                </a:cubicBezTo>
                <a:cubicBezTo>
                  <a:pt x="408" y="1905"/>
                  <a:pt x="76" y="1731"/>
                  <a:pt x="38" y="1769"/>
                </a:cubicBezTo>
                <a:cubicBezTo>
                  <a:pt x="0" y="1807"/>
                  <a:pt x="219" y="2034"/>
                  <a:pt x="219" y="2087"/>
                </a:cubicBezTo>
                <a:cubicBezTo>
                  <a:pt x="219" y="2140"/>
                  <a:pt x="128" y="2113"/>
                  <a:pt x="38" y="2087"/>
                </a:cubicBezTo>
              </a:path>
            </a:pathLst>
          </a:custGeom>
          <a:noFill/>
          <a:ln w="38160">
            <a:solidFill>
              <a:srgbClr val="ffff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1180600">
            <a:off x="4859280" y="3284280"/>
            <a:ext cx="1081080" cy="1511280"/>
          </a:xfrm>
          <a:custGeom>
            <a:avLst/>
            <a:gdLst/>
            <a:ahLst/>
            <a:rect l="l" t="t" r="r" b="b"/>
            <a:pathLst>
              <a:path w="1527" h="2140">
                <a:moveTo>
                  <a:pt x="1353" y="0"/>
                </a:moveTo>
                <a:cubicBezTo>
                  <a:pt x="1440" y="132"/>
                  <a:pt x="1527" y="265"/>
                  <a:pt x="1489" y="318"/>
                </a:cubicBezTo>
                <a:cubicBezTo>
                  <a:pt x="1451" y="371"/>
                  <a:pt x="1165" y="258"/>
                  <a:pt x="1127" y="318"/>
                </a:cubicBezTo>
                <a:cubicBezTo>
                  <a:pt x="1089" y="378"/>
                  <a:pt x="1301" y="627"/>
                  <a:pt x="1263" y="680"/>
                </a:cubicBezTo>
                <a:cubicBezTo>
                  <a:pt x="1225" y="733"/>
                  <a:pt x="938" y="582"/>
                  <a:pt x="900" y="635"/>
                </a:cubicBezTo>
                <a:cubicBezTo>
                  <a:pt x="862" y="688"/>
                  <a:pt x="1066" y="953"/>
                  <a:pt x="1036" y="998"/>
                </a:cubicBezTo>
                <a:cubicBezTo>
                  <a:pt x="1006" y="1043"/>
                  <a:pt x="748" y="854"/>
                  <a:pt x="718" y="907"/>
                </a:cubicBezTo>
                <a:cubicBezTo>
                  <a:pt x="688" y="960"/>
                  <a:pt x="892" y="1271"/>
                  <a:pt x="854" y="1316"/>
                </a:cubicBezTo>
                <a:cubicBezTo>
                  <a:pt x="816" y="1361"/>
                  <a:pt x="530" y="1134"/>
                  <a:pt x="492" y="1179"/>
                </a:cubicBezTo>
                <a:cubicBezTo>
                  <a:pt x="454" y="1224"/>
                  <a:pt x="666" y="1535"/>
                  <a:pt x="628" y="1588"/>
                </a:cubicBezTo>
                <a:cubicBezTo>
                  <a:pt x="590" y="1641"/>
                  <a:pt x="295" y="1452"/>
                  <a:pt x="265" y="1497"/>
                </a:cubicBezTo>
                <a:cubicBezTo>
                  <a:pt x="235" y="1542"/>
                  <a:pt x="484" y="1815"/>
                  <a:pt x="446" y="1860"/>
                </a:cubicBezTo>
                <a:cubicBezTo>
                  <a:pt x="408" y="1905"/>
                  <a:pt x="76" y="1731"/>
                  <a:pt x="38" y="1769"/>
                </a:cubicBezTo>
                <a:cubicBezTo>
                  <a:pt x="0" y="1807"/>
                  <a:pt x="219" y="2034"/>
                  <a:pt x="219" y="2087"/>
                </a:cubicBezTo>
                <a:cubicBezTo>
                  <a:pt x="219" y="2140"/>
                  <a:pt x="128" y="2113"/>
                  <a:pt x="38" y="2087"/>
                </a:cubicBezTo>
              </a:path>
            </a:pathLst>
          </a:custGeom>
          <a:noFill/>
          <a:ln w="38160">
            <a:solidFill>
              <a:srgbClr val="ffff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133720"/>
            <a:ext cx="1152360" cy="1654200"/>
          </a:xfrm>
          <a:custGeom>
            <a:avLst/>
            <a:gdLst/>
            <a:ahLst/>
            <a:rect l="l" t="t" r="r" b="b"/>
            <a:pathLst>
              <a:path w="1527" h="2140">
                <a:moveTo>
                  <a:pt x="1353" y="0"/>
                </a:moveTo>
                <a:cubicBezTo>
                  <a:pt x="1440" y="132"/>
                  <a:pt x="1527" y="265"/>
                  <a:pt x="1489" y="318"/>
                </a:cubicBezTo>
                <a:cubicBezTo>
                  <a:pt x="1451" y="371"/>
                  <a:pt x="1165" y="258"/>
                  <a:pt x="1127" y="318"/>
                </a:cubicBezTo>
                <a:cubicBezTo>
                  <a:pt x="1089" y="378"/>
                  <a:pt x="1301" y="627"/>
                  <a:pt x="1263" y="680"/>
                </a:cubicBezTo>
                <a:cubicBezTo>
                  <a:pt x="1225" y="733"/>
                  <a:pt x="938" y="582"/>
                  <a:pt x="900" y="635"/>
                </a:cubicBezTo>
                <a:cubicBezTo>
                  <a:pt x="862" y="688"/>
                  <a:pt x="1066" y="953"/>
                  <a:pt x="1036" y="998"/>
                </a:cubicBezTo>
                <a:cubicBezTo>
                  <a:pt x="1006" y="1043"/>
                  <a:pt x="748" y="854"/>
                  <a:pt x="718" y="907"/>
                </a:cubicBezTo>
                <a:cubicBezTo>
                  <a:pt x="688" y="960"/>
                  <a:pt x="892" y="1271"/>
                  <a:pt x="854" y="1316"/>
                </a:cubicBezTo>
                <a:cubicBezTo>
                  <a:pt x="816" y="1361"/>
                  <a:pt x="530" y="1134"/>
                  <a:pt x="492" y="1179"/>
                </a:cubicBezTo>
                <a:cubicBezTo>
                  <a:pt x="454" y="1224"/>
                  <a:pt x="666" y="1535"/>
                  <a:pt x="628" y="1588"/>
                </a:cubicBezTo>
                <a:cubicBezTo>
                  <a:pt x="590" y="1641"/>
                  <a:pt x="295" y="1452"/>
                  <a:pt x="265" y="1497"/>
                </a:cubicBezTo>
                <a:cubicBezTo>
                  <a:pt x="235" y="1542"/>
                  <a:pt x="484" y="1815"/>
                  <a:pt x="446" y="1860"/>
                </a:cubicBezTo>
                <a:cubicBezTo>
                  <a:pt x="408" y="1905"/>
                  <a:pt x="76" y="1731"/>
                  <a:pt x="38" y="1769"/>
                </a:cubicBezTo>
                <a:cubicBezTo>
                  <a:pt x="0" y="1807"/>
                  <a:pt x="219" y="2034"/>
                  <a:pt x="219" y="2087"/>
                </a:cubicBezTo>
                <a:cubicBezTo>
                  <a:pt x="219" y="2140"/>
                  <a:pt x="128" y="2113"/>
                  <a:pt x="38" y="2087"/>
                </a:cubicBezTo>
              </a:path>
            </a:pathLst>
          </a:custGeom>
          <a:noFill/>
          <a:ln w="38160">
            <a:solidFill>
              <a:srgbClr val="ffff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871720" y="2381400"/>
            <a:ext cx="3400560" cy="2095200"/>
            <a:chOff x="2871720" y="2381400"/>
            <a:chExt cx="3400560" cy="2095200"/>
          </a:xfrm>
        </p:grpSpPr>
        <p:sp>
          <p:nvSpPr>
            <p:cNvPr id="89" name=""/>
            <p:cNvSpPr txBox="1"/>
            <p:nvPr/>
          </p:nvSpPr>
          <p:spPr>
            <a:xfrm>
              <a:off x="2871720" y="2381400"/>
              <a:ext cx="3400560" cy="20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med"/>
          <p:cNvPicPr/>
          <p:nvPr/>
        </p:nvPicPr>
        <p:blipFill>
          <a:blip r:embed="rId1"/>
          <a:stretch/>
        </p:blipFill>
        <p:spPr>
          <a:xfrm>
            <a:off x="179280" y="4941720"/>
            <a:ext cx="2448000" cy="1508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4000" y="5084640"/>
            <a:ext cx="701964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Lucida Sans Unicode"/>
              </a:rPr>
              <a:t>Misaki Ouchida</a:t>
            </a:r>
            <a:r>
              <a:rPr b="0" lang="zh-CN" sz="2400" spc="-1" strike="noStrike">
                <a:solidFill>
                  <a:srgbClr val="ff5050"/>
                </a:solidFill>
                <a:latin typeface="Lucida Sans Unicode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Lucida Sans Unicode"/>
              </a:rPr>
              <a:t>Hiroshima Univers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Lucida Sans Unicode"/>
              </a:rPr>
              <a:t>For the PHENIX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17040" y="404640"/>
            <a:ext cx="71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7"/>
                </a:solidFill>
                <a:latin typeface="Arial"/>
                <a:ea typeface="MeiryoKe_PGothic"/>
              </a:rPr>
              <a:t>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36320" y="1211400"/>
            <a:ext cx="71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7"/>
                </a:solidFill>
                <a:latin typeface="Arial"/>
                <a:ea typeface="MeiryoKe_PGothic"/>
              </a:rPr>
              <a:t>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040" y="1413000"/>
            <a:ext cx="71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7"/>
                </a:solidFill>
                <a:latin typeface="Arial"/>
                <a:ea typeface="MeiryoKe_PGothic"/>
              </a:rPr>
              <a:t>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8000" y="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7"/>
                </a:solidFill>
                <a:latin typeface="Arial"/>
                <a:ea typeface="MeiryoKe_PGothic"/>
              </a:rPr>
              <a:t>e</a:t>
            </a:r>
            <a:r>
              <a:rPr b="0" lang="zh-CN" sz="4400" spc="-1" strike="noStrike" baseline="30000">
                <a:solidFill>
                  <a:srgbClr val="fffff7"/>
                </a:solidFill>
                <a:latin typeface="Arial"/>
                <a:ea typeface="MeiryoKe_PGothic"/>
              </a:rPr>
              <a:t>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20000" y="1197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7"/>
                </a:solidFill>
                <a:latin typeface="Arial"/>
                <a:ea typeface="MeiryoKe_PGothic"/>
              </a:rPr>
              <a:t>e</a:t>
            </a:r>
            <a:r>
              <a:rPr b="0" lang="zh-CN" sz="4400" spc="-1" strike="noStrike" baseline="30000">
                <a:solidFill>
                  <a:srgbClr val="fffff7"/>
                </a:solidFill>
                <a:latin typeface="Arial"/>
                <a:ea typeface="MeiryoKe_PGothic"/>
              </a:rPr>
              <a:t>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08720" y="2205000"/>
            <a:ext cx="287280" cy="503280"/>
          </a:xfrm>
          <a:prstGeom prst="line">
            <a:avLst/>
          </a:prstGeom>
          <a:ln w="38160">
            <a:solidFill>
              <a:srgbClr val="fffff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08360" y="3645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7"/>
                </a:solidFill>
                <a:latin typeface="Arial"/>
                <a:ea typeface="MeiryoKe_PGothic"/>
              </a:rPr>
              <a:t>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4724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7"/>
                </a:solidFill>
                <a:latin typeface="Arial"/>
                <a:ea typeface="MeiryoKe_PGothic"/>
              </a:rPr>
              <a:t>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67640" y="2421000"/>
            <a:ext cx="12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7"/>
                </a:solidFill>
                <a:latin typeface="Arial"/>
                <a:ea typeface="MeiryoKe_PGothic"/>
              </a:rPr>
              <a:t>π</a:t>
            </a:r>
            <a:r>
              <a:rPr b="0" lang="en-US" sz="4400" spc="-1" strike="noStrike" baseline="30000">
                <a:solidFill>
                  <a:srgbClr val="fffff7"/>
                </a:solidFill>
                <a:latin typeface="Arial"/>
                <a:ea typeface="MeiryoKe_PGothic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256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7"/>
                </a:solidFill>
                <a:latin typeface="Arial"/>
                <a:ea typeface="MeiryoKe_PGothic"/>
              </a:rPr>
              <a:t>π</a:t>
            </a:r>
            <a:r>
              <a:rPr b="0" lang="en-US" sz="4400" spc="-1" strike="noStrike" baseline="30000">
                <a:solidFill>
                  <a:srgbClr val="fffff7"/>
                </a:solidFill>
                <a:latin typeface="Arial"/>
                <a:ea typeface="MeiryoKe_PGothic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5157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7"/>
                </a:solidFill>
                <a:latin typeface="Arial"/>
                <a:ea typeface="MeiryoKe_PGothic"/>
              </a:rPr>
              <a:t>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3933720"/>
            <a:ext cx="158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7"/>
                </a:solidFill>
                <a:latin typeface="Arial"/>
                <a:ea typeface="MeiryoKe_PGothic"/>
              </a:rPr>
              <a:t>π</a:t>
            </a:r>
            <a:r>
              <a:rPr b="0" lang="zh-CN" sz="4400" spc="-1" strike="noStrike" baseline="30000">
                <a:solidFill>
                  <a:srgbClr val="fffff7"/>
                </a:solidFill>
                <a:latin typeface="Arial"/>
                <a:ea typeface="MeiryoKe_PGothic"/>
              </a:rPr>
              <a:t>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260280"/>
            <a:ext cx="2952720" cy="647640"/>
          </a:xfrm>
          <a:custGeom>
            <a:avLst/>
            <a:gdLst/>
            <a:ahLst/>
            <a:rect l="l" t="t" r="r" b="b"/>
            <a:pathLst>
              <a:path w="2132" h="408">
                <a:moveTo>
                  <a:pt x="0" y="408"/>
                </a:moveTo>
                <a:cubicBezTo>
                  <a:pt x="480" y="397"/>
                  <a:pt x="960" y="386"/>
                  <a:pt x="1315" y="318"/>
                </a:cubicBezTo>
                <a:cubicBezTo>
                  <a:pt x="1670" y="250"/>
                  <a:pt x="1996" y="53"/>
                  <a:pt x="2132" y="0"/>
                </a:cubicBezTo>
              </a:path>
            </a:pathLst>
          </a:custGeom>
          <a:noFill/>
          <a:ln w="38160">
            <a:solidFill>
              <a:srgbClr val="ffffd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0920" y="1125360"/>
            <a:ext cx="3384720" cy="648000"/>
          </a:xfrm>
          <a:custGeom>
            <a:avLst/>
            <a:gdLst/>
            <a:ahLst/>
            <a:rect l="l" t="t" r="r" b="b"/>
            <a:pathLst>
              <a:path w="2313" h="454">
                <a:moveTo>
                  <a:pt x="0" y="0"/>
                </a:moveTo>
                <a:cubicBezTo>
                  <a:pt x="533" y="30"/>
                  <a:pt x="1066" y="60"/>
                  <a:pt x="1451" y="136"/>
                </a:cubicBezTo>
                <a:cubicBezTo>
                  <a:pt x="1836" y="212"/>
                  <a:pt x="2169" y="401"/>
                  <a:pt x="2313" y="454"/>
                </a:cubicBezTo>
              </a:path>
            </a:pathLst>
          </a:custGeom>
          <a:noFill/>
          <a:ln w="38160">
            <a:solidFill>
              <a:srgbClr val="ffffd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2347920"/>
            <a:ext cx="168120" cy="1944720"/>
          </a:xfrm>
          <a:custGeom>
            <a:avLst/>
            <a:gdLst/>
            <a:ahLst/>
            <a:rect l="l" t="t" r="r" b="b"/>
            <a:pathLst>
              <a:path w="106" h="1043">
                <a:moveTo>
                  <a:pt x="15" y="0"/>
                </a:moveTo>
                <a:cubicBezTo>
                  <a:pt x="7" y="207"/>
                  <a:pt x="0" y="415"/>
                  <a:pt x="15" y="589"/>
                </a:cubicBezTo>
                <a:cubicBezTo>
                  <a:pt x="30" y="763"/>
                  <a:pt x="91" y="967"/>
                  <a:pt x="106" y="1043"/>
                </a:cubicBezTo>
              </a:path>
            </a:pathLst>
          </a:custGeom>
          <a:noFill/>
          <a:ln w="38160">
            <a:solidFill>
              <a:srgbClr val="fffff7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276640"/>
            <a:ext cx="250920" cy="360360"/>
          </a:xfrm>
          <a:custGeom>
            <a:avLst/>
            <a:gdLst/>
            <a:ahLst/>
            <a:rect l="l" t="t" r="r" b="b"/>
            <a:pathLst>
              <a:path w="136" h="431">
                <a:moveTo>
                  <a:pt x="136" y="0"/>
                </a:moveTo>
                <a:cubicBezTo>
                  <a:pt x="102" y="147"/>
                  <a:pt x="69" y="295"/>
                  <a:pt x="46" y="363"/>
                </a:cubicBezTo>
                <a:cubicBezTo>
                  <a:pt x="23" y="431"/>
                  <a:pt x="8" y="401"/>
                  <a:pt x="0" y="409"/>
                </a:cubicBezTo>
              </a:path>
            </a:pathLst>
          </a:custGeom>
          <a:noFill/>
          <a:ln w="38160">
            <a:solidFill>
              <a:srgbClr val="ffff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459640" y="1413000"/>
            <a:ext cx="649440" cy="1116000"/>
          </a:xfrm>
          <a:custGeom>
            <a:avLst/>
            <a:gdLst/>
            <a:ahLst/>
            <a:rect l="l" t="t" r="r" b="b"/>
            <a:pathLst>
              <a:path w="136" h="431">
                <a:moveTo>
                  <a:pt x="136" y="0"/>
                </a:moveTo>
                <a:cubicBezTo>
                  <a:pt x="102" y="147"/>
                  <a:pt x="69" y="295"/>
                  <a:pt x="46" y="363"/>
                </a:cubicBezTo>
                <a:cubicBezTo>
                  <a:pt x="23" y="431"/>
                  <a:pt x="8" y="401"/>
                  <a:pt x="0" y="409"/>
                </a:cubicBezTo>
              </a:path>
            </a:pathLst>
          </a:custGeom>
          <a:noFill/>
          <a:ln w="38160">
            <a:solidFill>
              <a:srgbClr val="fffff7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99280" y="3357720"/>
            <a:ext cx="10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7"/>
                </a:solidFill>
                <a:latin typeface="Arial"/>
                <a:ea typeface="MeiryoKe_PGothic"/>
              </a:rPr>
              <a:t>π</a:t>
            </a:r>
            <a:r>
              <a:rPr b="0" lang="en-US" sz="4400" spc="-1" strike="noStrike" baseline="30000">
                <a:solidFill>
                  <a:srgbClr val="fffff7"/>
                </a:solidFill>
                <a:latin typeface="Arial"/>
                <a:ea typeface="MeiryoKe_PGothic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563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0" y="2347920"/>
            <a:ext cx="395280" cy="1152360"/>
          </a:xfrm>
          <a:prstGeom prst="line">
            <a:avLst/>
          </a:prstGeom>
          <a:ln w="38160">
            <a:solidFill>
              <a:srgbClr val="fffff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3640" y="580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7"/>
                </a:solidFill>
                <a:latin typeface="Arial"/>
                <a:ea typeface="MeiryoKe_PGothic"/>
              </a:rPr>
              <a:t>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40720" y="59500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7"/>
                </a:solidFill>
                <a:latin typeface="Arial"/>
                <a:ea typeface="MeiryoKe_PGothic"/>
              </a:rPr>
              <a:t>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8748720" y="2276640"/>
            <a:ext cx="395280" cy="1008000"/>
          </a:xfrm>
          <a:prstGeom prst="line">
            <a:avLst/>
          </a:prstGeom>
          <a:ln w="38160">
            <a:solidFill>
              <a:srgbClr val="fffff7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136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ow mass vector meson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measurements at RHIC</a:t>
            </a:r>
            <a:br>
              <a:rPr sz="4000"/>
            </a:b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stematic Measurement  of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mega mesons in PHE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8360" y="4076640"/>
            <a:ext cx="1440000" cy="1798560"/>
          </a:xfrm>
          <a:custGeom>
            <a:avLst/>
            <a:gdLst/>
            <a:ahLst/>
            <a:rect l="l" t="t" r="r" b="b"/>
            <a:pathLst>
              <a:path w="1527" h="2140">
                <a:moveTo>
                  <a:pt x="1353" y="0"/>
                </a:moveTo>
                <a:cubicBezTo>
                  <a:pt x="1440" y="132"/>
                  <a:pt x="1527" y="265"/>
                  <a:pt x="1489" y="318"/>
                </a:cubicBezTo>
                <a:cubicBezTo>
                  <a:pt x="1451" y="371"/>
                  <a:pt x="1165" y="258"/>
                  <a:pt x="1127" y="318"/>
                </a:cubicBezTo>
                <a:cubicBezTo>
                  <a:pt x="1089" y="378"/>
                  <a:pt x="1301" y="627"/>
                  <a:pt x="1263" y="680"/>
                </a:cubicBezTo>
                <a:cubicBezTo>
                  <a:pt x="1225" y="733"/>
                  <a:pt x="938" y="582"/>
                  <a:pt x="900" y="635"/>
                </a:cubicBezTo>
                <a:cubicBezTo>
                  <a:pt x="862" y="688"/>
                  <a:pt x="1066" y="953"/>
                  <a:pt x="1036" y="998"/>
                </a:cubicBezTo>
                <a:cubicBezTo>
                  <a:pt x="1006" y="1043"/>
                  <a:pt x="748" y="854"/>
                  <a:pt x="718" y="907"/>
                </a:cubicBezTo>
                <a:cubicBezTo>
                  <a:pt x="688" y="960"/>
                  <a:pt x="892" y="1271"/>
                  <a:pt x="854" y="1316"/>
                </a:cubicBezTo>
                <a:cubicBezTo>
                  <a:pt x="816" y="1361"/>
                  <a:pt x="530" y="1134"/>
                  <a:pt x="492" y="1179"/>
                </a:cubicBezTo>
                <a:cubicBezTo>
                  <a:pt x="454" y="1224"/>
                  <a:pt x="666" y="1535"/>
                  <a:pt x="628" y="1588"/>
                </a:cubicBezTo>
                <a:cubicBezTo>
                  <a:pt x="590" y="1641"/>
                  <a:pt x="295" y="1452"/>
                  <a:pt x="265" y="1497"/>
                </a:cubicBezTo>
                <a:cubicBezTo>
                  <a:pt x="235" y="1542"/>
                  <a:pt x="484" y="1815"/>
                  <a:pt x="446" y="1860"/>
                </a:cubicBezTo>
                <a:cubicBezTo>
                  <a:pt x="408" y="1905"/>
                  <a:pt x="76" y="1731"/>
                  <a:pt x="38" y="1769"/>
                </a:cubicBezTo>
                <a:cubicBezTo>
                  <a:pt x="0" y="1807"/>
                  <a:pt x="219" y="2034"/>
                  <a:pt x="219" y="2087"/>
                </a:cubicBezTo>
                <a:cubicBezTo>
                  <a:pt x="219" y="2140"/>
                  <a:pt x="128" y="2113"/>
                  <a:pt x="38" y="2087"/>
                </a:cubicBezTo>
              </a:path>
            </a:pathLst>
          </a:custGeom>
          <a:noFill/>
          <a:ln w="38160">
            <a:solidFill>
              <a:srgbClr val="ffff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9222000">
            <a:off x="7956360" y="4220640"/>
            <a:ext cx="1085760" cy="1636920"/>
          </a:xfrm>
          <a:custGeom>
            <a:avLst/>
            <a:gdLst/>
            <a:ahLst/>
            <a:rect l="l" t="t" r="r" b="b"/>
            <a:pathLst>
              <a:path w="1527" h="2140">
                <a:moveTo>
                  <a:pt x="1353" y="0"/>
                </a:moveTo>
                <a:cubicBezTo>
                  <a:pt x="1440" y="132"/>
                  <a:pt x="1527" y="265"/>
                  <a:pt x="1489" y="318"/>
                </a:cubicBezTo>
                <a:cubicBezTo>
                  <a:pt x="1451" y="371"/>
                  <a:pt x="1165" y="258"/>
                  <a:pt x="1127" y="318"/>
                </a:cubicBezTo>
                <a:cubicBezTo>
                  <a:pt x="1089" y="378"/>
                  <a:pt x="1301" y="627"/>
                  <a:pt x="1263" y="680"/>
                </a:cubicBezTo>
                <a:cubicBezTo>
                  <a:pt x="1225" y="733"/>
                  <a:pt x="938" y="582"/>
                  <a:pt x="900" y="635"/>
                </a:cubicBezTo>
                <a:cubicBezTo>
                  <a:pt x="862" y="688"/>
                  <a:pt x="1066" y="953"/>
                  <a:pt x="1036" y="998"/>
                </a:cubicBezTo>
                <a:cubicBezTo>
                  <a:pt x="1006" y="1043"/>
                  <a:pt x="748" y="854"/>
                  <a:pt x="718" y="907"/>
                </a:cubicBezTo>
                <a:cubicBezTo>
                  <a:pt x="688" y="960"/>
                  <a:pt x="892" y="1271"/>
                  <a:pt x="854" y="1316"/>
                </a:cubicBezTo>
                <a:cubicBezTo>
                  <a:pt x="816" y="1361"/>
                  <a:pt x="530" y="1134"/>
                  <a:pt x="492" y="1179"/>
                </a:cubicBezTo>
                <a:cubicBezTo>
                  <a:pt x="454" y="1224"/>
                  <a:pt x="666" y="1535"/>
                  <a:pt x="628" y="1588"/>
                </a:cubicBezTo>
                <a:cubicBezTo>
                  <a:pt x="590" y="1641"/>
                  <a:pt x="295" y="1452"/>
                  <a:pt x="265" y="1497"/>
                </a:cubicBezTo>
                <a:cubicBezTo>
                  <a:pt x="235" y="1542"/>
                  <a:pt x="484" y="1815"/>
                  <a:pt x="446" y="1860"/>
                </a:cubicBezTo>
                <a:cubicBezTo>
                  <a:pt x="408" y="1905"/>
                  <a:pt x="76" y="1731"/>
                  <a:pt x="38" y="1769"/>
                </a:cubicBezTo>
                <a:cubicBezTo>
                  <a:pt x="0" y="1807"/>
                  <a:pt x="219" y="2034"/>
                  <a:pt x="219" y="2087"/>
                </a:cubicBezTo>
                <a:cubicBezTo>
                  <a:pt x="219" y="2140"/>
                  <a:pt x="128" y="2113"/>
                  <a:pt x="38" y="2087"/>
                </a:cubicBezTo>
              </a:path>
            </a:pathLst>
          </a:custGeom>
          <a:noFill/>
          <a:ln w="38160">
            <a:solidFill>
              <a:srgbClr val="ffff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31320" y="3645000"/>
            <a:ext cx="92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eiryoKe_PGothic"/>
              </a:rPr>
              <a:t>ー　　　　　　　　　　　　　　　　　　　　　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FAA06-546F-4534-9B9B-5B1759728F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11280" y="1557360"/>
            <a:ext cx="142920" cy="431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1280" y="2060640"/>
            <a:ext cx="142920" cy="431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508720" y="4587840"/>
            <a:ext cx="3635280" cy="2270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464920" y="33037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: 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0" y="2708280"/>
            <a:ext cx="5343480" cy="33354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412520" y="573264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GeV/c^2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2340000" y="3643200"/>
            <a:ext cx="2233440" cy="7160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843280" y="2625840"/>
            <a:ext cx="3024000" cy="82404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Peripheral (cent 60~92 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3.5&lt;pT&lt;4.5[GeV/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123640" y="4394160"/>
            <a:ext cx="1366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4716360" y="1700280"/>
            <a:ext cx="1871640" cy="8096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6732720" y="1700280"/>
            <a:ext cx="1871640" cy="8078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H="1">
            <a:off x="4427280" y="4076640"/>
            <a:ext cx="1439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284360" y="3532320"/>
            <a:ext cx="1787400" cy="191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57480" y="3429000"/>
            <a:ext cx="23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Magenta:BG1+BG2+BG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86160" y="3498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BG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13800" y="2997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2160" y="3860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B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1000" y="5950080"/>
            <a:ext cx="323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ussian (Mean and With are Fix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Embedding simul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556000" y="558936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322320" y="3933720"/>
            <a:ext cx="2544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fter subtraction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G1+BG2+BG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4788000" y="4724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056000">
            <a:off x="5148000" y="5947920"/>
            <a:ext cx="596880" cy="554040"/>
          </a:xfrm>
          <a:prstGeom prst="rightArrow">
            <a:avLst>
              <a:gd name="adj1" fmla="val 50000"/>
              <a:gd name="adj2" fmla="val 269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16200000">
            <a:off x="154800" y="34610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23120" y="2557440"/>
            <a:ext cx="27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nstructed invarian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95640" y="1197000"/>
            <a:ext cx="180036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xed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3132000" y="3429000"/>
                <a:ext cx="576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Highligh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How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 we appro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-295560" y="620640"/>
            <a:ext cx="87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Book Antiqua"/>
                <a:ea typeface="HGｺﾞｼｯｸE"/>
              </a:rPr>
              <a:t>Subtracting Backgrounds </a:t>
            </a:r>
            <a:r>
              <a:rPr b="1" i="1" lang="en-US" sz="2000" spc="-1" strike="noStrike">
                <a:solidFill>
                  <a:srgbClr val="cc0000"/>
                </a:solidFill>
                <a:latin typeface="Book Antiqua"/>
                <a:ea typeface="HGｺﾞｼｯｸE"/>
              </a:rPr>
              <a:t>( 3 body:</a:t>
            </a:r>
            <a:r>
              <a:rPr b="1" i="1" lang="en-US" sz="3200" spc="-1" strike="noStrike">
                <a:solidFill>
                  <a:srgbClr val="cc0000"/>
                </a:solidFill>
                <a:latin typeface="Book Antiqua"/>
                <a:ea typeface="HGｺﾞｼｯｸE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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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MeiryoKe_PGothic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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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MeiryoKe_PGothic"/>
              </a:rPr>
              <a:t>2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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MeiryoKe_PGothic"/>
              </a:rPr>
              <a:t>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MeiryoKe_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8360" y="1197000"/>
            <a:ext cx="142920" cy="431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1628640"/>
            <a:ext cx="144360" cy="433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5280" y="2133720"/>
            <a:ext cx="142920" cy="431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68360" y="1413000"/>
            <a:ext cx="2663280" cy="936360"/>
            <a:chOff x="468360" y="1413000"/>
            <a:chExt cx="2663280" cy="936360"/>
          </a:xfrm>
        </p:grpSpPr>
        <p:sp>
          <p:nvSpPr>
            <p:cNvPr id="352" name=""/>
            <p:cNvSpPr/>
            <p:nvPr/>
          </p:nvSpPr>
          <p:spPr>
            <a:xfrm flipH="1" flipV="1">
              <a:off x="539280" y="1413000"/>
              <a:ext cx="251964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468360" y="1844280"/>
              <a:ext cx="158256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68360" y="1916280"/>
              <a:ext cx="158256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050560" y="1700280"/>
              <a:ext cx="10810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250920" y="1268280"/>
            <a:ext cx="142920" cy="432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79280" y="1844640"/>
            <a:ext cx="142920" cy="432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05440" y="14130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29440" y="1700280"/>
            <a:ext cx="650160" cy="368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B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89800" y="1700280"/>
            <a:ext cx="650160" cy="368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094160" y="494172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04398-FE50-4983-9C72-9BAAC547D8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24000" y="733320"/>
            <a:ext cx="8064360" cy="61246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0" y="692280"/>
            <a:ext cx="8218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ectra (p+p &amp; d+A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&amp; Discussion        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Wha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 we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F9241-A802-4224-BC72-F54A336FAD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692280"/>
            <a:ext cx="8218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ectra (Au+A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356000" y="836640"/>
            <a:ext cx="3851280" cy="39888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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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MeiryoKe_PGothic"/>
              </a:rPr>
              <a:t>e+e-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@ Au+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&amp; Discussion        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Wha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 we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68360" y="1197000"/>
          <a:ext cx="781200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78120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5146560" y="5445000"/>
            <a:ext cx="3997440" cy="719280"/>
          </a:xfrm>
          <a:prstGeom prst="wedgeRectCallout">
            <a:avLst>
              <a:gd name="adj1" fmla="val 11476"/>
              <a:gd name="adj2" fmla="val -118212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cc0000"/>
                </a:solidFill>
                <a:latin typeface="Arial"/>
                <a:ea typeface="MeiryoKe_PGothic"/>
              </a:rPr>
              <a:t>Suggesting Hadron suppre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11280" y="1268280"/>
          <a:ext cx="8532720" cy="526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268280"/>
                    <a:ext cx="853272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3" name=""/>
          <p:cNvGrpSpPr/>
          <p:nvPr/>
        </p:nvGrpSpPr>
        <p:grpSpPr>
          <a:xfrm>
            <a:off x="137880" y="2233440"/>
            <a:ext cx="1194120" cy="2419560"/>
            <a:chOff x="137880" y="2233440"/>
            <a:chExt cx="1194120" cy="2419560"/>
          </a:xfrm>
        </p:grpSpPr>
        <p:sp>
          <p:nvSpPr>
            <p:cNvPr id="374" name=""/>
            <p:cNvSpPr/>
            <p:nvPr/>
          </p:nvSpPr>
          <p:spPr>
            <a:xfrm>
              <a:off x="900000" y="3500280"/>
              <a:ext cx="432000" cy="1152720"/>
            </a:xfrm>
            <a:prstGeom prst="downArrow">
              <a:avLst>
                <a:gd name="adj1" fmla="val 50000"/>
                <a:gd name="adj2" fmla="val 66708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7006400">
              <a:off x="-429120" y="3101040"/>
              <a:ext cx="229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eiryoKe_PGothic"/>
                </a:rPr>
                <a:t>Getting dow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eiryoKe_PGothic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eiryoKe_PGothic"/>
                </a:rPr>
                <a:t>in higher centra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59611-9223-45E5-9284-AFE34350E9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0" y="692280"/>
          <a:ext cx="8893080" cy="54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92280"/>
                    <a:ext cx="889308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3851280" y="1341360"/>
          <a:ext cx="4032360" cy="24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1341360"/>
                    <a:ext cx="40323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3924360" y="3213000"/>
            <a:ext cx="3960720" cy="576360"/>
          </a:xfrm>
          <a:prstGeom prst="rect">
            <a:avLst/>
          </a:prstGeom>
          <a:solidFill>
            <a:srgbClr val="fffff7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&amp; Discussion        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Wha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 we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70520" y="765000"/>
            <a:ext cx="66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nteresting systematic measurement of hadron sup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A39C8-FD07-45A9-BA8E-5EA4B12592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0" y="692280"/>
          <a:ext cx="8893080" cy="54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92280"/>
                    <a:ext cx="889308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3851280" y="1341360"/>
          <a:ext cx="4032360" cy="24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1341360"/>
                    <a:ext cx="40323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3924360" y="3213000"/>
            <a:ext cx="3960720" cy="576360"/>
          </a:xfrm>
          <a:prstGeom prst="wedgeRectCallout">
            <a:avLst>
              <a:gd name="adj1" fmla="val -39018"/>
              <a:gd name="adj2" fmla="val 102615"/>
            </a:avLst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&amp; Discussion        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Wha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 we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70520" y="765000"/>
            <a:ext cx="66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nteresting systematic measurement of hadron sup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FFF96-9827-40A7-BA63-4F8EE8D977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HENIX measured Low Mass Vector Meson, φandω production in both leptonic and hadronic channels in different collision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pectra show good agreement among several decay channels in p+p and d+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+A results have an ability to discuss hadron suppression providing intriguing systematic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69640" y="69228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Book Antiqua"/>
                <a:ea typeface="HGｺﾞｼｯｸE"/>
              </a:rPr>
              <a:t>Physic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90560" y="1771560"/>
            <a:ext cx="8353440" cy="478080"/>
          </a:xfrm>
          <a:prstGeom prst="leftRightArrow">
            <a:avLst>
              <a:gd name="adj1" fmla="val 54824"/>
              <a:gd name="adj2" fmla="val 162918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ow pT                                        High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925560" y="1052640"/>
            <a:ext cx="4557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Signal for Chiral Symmtery Rest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456080" y="1411200"/>
            <a:ext cx="355932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Signal for Hadron Su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836720" y="692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t to be discuss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39640" y="981000"/>
            <a:ext cx="28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intriguing resu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8360" y="5950080"/>
            <a:ext cx="8496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MeiryoKe_PGothic"/>
              </a:rPr>
              <a:t>Systematic measurement of omega in PHENIX will be published in near fur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F8ED-08AC-4E37-AA34-D287784AD8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845440" y="2565360"/>
            <a:ext cx="314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MeiryoKe_PGothic"/>
              </a:rPr>
              <a:t>Back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90AF4-4BD4-44E9-86BB-75C7D0C307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Chiral Symmetry Rest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483080" y="836640"/>
            <a:ext cx="4410000" cy="2924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395280" y="2852640"/>
            <a:ext cx="3924360" cy="720720"/>
          </a:xfrm>
          <a:prstGeom prst="wedgeRectCallout">
            <a:avLst>
              <a:gd name="adj1" fmla="val 73342"/>
              <a:gd name="adj2" fmla="val 533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Chiral symmetry is re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&lt;qq&gt; →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8360" y="1844640"/>
            <a:ext cx="4824360" cy="720720"/>
          </a:xfrm>
          <a:prstGeom prst="wedgeRectCallout">
            <a:avLst>
              <a:gd name="adj1" fmla="val 68787"/>
              <a:gd name="adj2" fmla="val -131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Chiral symmetry is spontaneously broken &lt;qq&gt;~250 M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160720" y="3068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Book Antiqua"/>
                <a:ea typeface="HGｺﾞｼｯｸE"/>
              </a:rPr>
              <a:t>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673440" y="213372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HGｺﾞｼｯｸE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89080" y="21337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Book Antiqua"/>
                <a:ea typeface="HGｺﾞｼｯｸE"/>
              </a:rPr>
              <a:t>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724640" y="3797280"/>
            <a:ext cx="361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6699"/>
                </a:solidFill>
                <a:latin typeface="Times New Roman"/>
                <a:ea typeface="ＭＳ 明朝"/>
              </a:rPr>
              <a:t>(Heavy Ion Collider used for this stud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233840" y="1268280"/>
            <a:ext cx="190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Times New Roman"/>
                <a:ea typeface="HGｺﾞｼｯｸE"/>
              </a:rPr>
              <a:t>Phys.Rev.Lett.55(1985)15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Times New Roman"/>
                <a:ea typeface="HGｺﾞｼｯｸE"/>
              </a:rPr>
              <a:t>Nucl.Phys.A443(1993)59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E1215-6476-403C-B204-BD0ACE6868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on of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2627280" y="765000"/>
            <a:ext cx="6516720" cy="29862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0" y="3811680"/>
            <a:ext cx="3887640" cy="3046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222480" y="1341360"/>
            <a:ext cx="2392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 Antiqua"/>
                <a:ea typeface="HGｺﾞｼｯｸE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Book Antiqua"/>
                <a:ea typeface="HGｺﾞｼｯｸE"/>
              </a:rPr>
              <a:t>T.Hatsuda and S.H.L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ook Antiqua"/>
                <a:ea typeface="HGｺﾞｼｯｸE"/>
              </a:rPr>
              <a:t>P.R.C.46(1992)R34    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-38160" y="3141720"/>
            <a:ext cx="28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ook Antiqua"/>
                <a:ea typeface="HGｺﾞｼｯｸE"/>
              </a:rPr>
              <a:t>R.Rapp,H.Hees and T.Str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ook Antiqua"/>
                <a:ea typeface="HGｺﾞｼｯｸE"/>
              </a:rPr>
              <a:t>hep-ph/0611339 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645000"/>
            <a:ext cx="49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ook Antiqua"/>
                <a:ea typeface="HGｺﾞｼｯｸE"/>
              </a:rPr>
              <a:t>There’s no clear consistent results for the theoritical approach to search for the effect of Chiral Symmetry Resto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11640" y="5300640"/>
            <a:ext cx="49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Book Antiqua"/>
                <a:ea typeface="HGｺﾞｼｯｸE"/>
              </a:rPr>
              <a:t>This is the example where experiments has the potential to guide the theor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084720" y="4724280"/>
            <a:ext cx="648000" cy="5032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EE262-6ECF-46F8-A711-3ADEE0982F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i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300720" y="3213000"/>
            <a:ext cx="2556000" cy="39888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φ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MeiryoKe_PGothic"/>
              </a:rPr>
              <a:t>K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  <a:ea typeface="MeiryoKe_PGothic"/>
              </a:rPr>
              <a:t>+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MeiryoKe_PGothic"/>
              </a:rPr>
              <a:t>K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  <a:ea typeface="MeiryoKe_PGothic"/>
              </a:rPr>
              <a:t>-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MeiryoKe_PGothic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@ Au+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6067440" cy="43912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4284720" y="3821040"/>
            <a:ext cx="4282920" cy="30369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5219640" y="692280"/>
            <a:ext cx="3924360" cy="39888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φ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MeiryoKe_PGothic"/>
              </a:rPr>
              <a:t>e+e-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φ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MeiryoKe_PGothic"/>
              </a:rPr>
              <a:t>K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  <a:ea typeface="MeiryoKe_PGothic"/>
              </a:rPr>
              <a:t>+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MeiryoKe_PGothic"/>
              </a:rPr>
              <a:t>K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  <a:ea typeface="MeiryoKe_PGothic"/>
              </a:rPr>
              <a:t>-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@ Au+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F3753-424C-4351-8D61-9FEF1EFCE9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4653000"/>
            <a:ext cx="4032360" cy="863640"/>
          </a:xfrm>
          <a:prstGeom prst="cloudCallout">
            <a:avLst>
              <a:gd name="adj1" fmla="val 153976"/>
              <a:gd name="adj2" fmla="val -151472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349360"/>
            <a:ext cx="8353440" cy="792360"/>
          </a:xfrm>
          <a:prstGeom prst="cloudCallout">
            <a:avLst>
              <a:gd name="adj1" fmla="val 46162"/>
              <a:gd name="adj2" fmla="val -103305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1268280"/>
            <a:ext cx="6119640" cy="790560"/>
          </a:xfrm>
          <a:prstGeom prst="cloudCallout">
            <a:avLst>
              <a:gd name="adj1" fmla="val 83902"/>
              <a:gd name="adj2" fmla="val -60643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3429000"/>
            <a:ext cx="5327640" cy="719280"/>
          </a:xfrm>
          <a:prstGeom prst="cloudCallout">
            <a:avLst>
              <a:gd name="adj1" fmla="val 103754"/>
              <a:gd name="adj2" fmla="val -75606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675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Wh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Low Mass Vector mes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Which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decay mode do we measure in PHENIX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High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How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do we appro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&amp;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Wha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do we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64FC9-3F97-4F3E-BE7D-8BA61CAD0C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d+Au results (omeg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5649840" cy="5868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6335640" y="1052640"/>
            <a:ext cx="2808360" cy="67320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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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@ d+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81D79-7416-49DB-A4AF-B74B76B4F5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R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6624720" cy="603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7E9EC-43F0-4212-A3C8-48127416D2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th direct pho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748720" cy="565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C466B-219C-4A2D-ABD9-8BC4CCAEC2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t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4932360" y="836640"/>
          <a:ext cx="363528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836640"/>
                    <a:ext cx="363528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650160" y="1484280"/>
            <a:ext cx="249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Pi0 Momentum C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Photon Energy C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Pi0 Mass 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68360" y="24922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Book Antiqua"/>
                <a:ea typeface="ＭＳ 明朝"/>
              </a:rPr>
              <a:t>Great influence on  the peak signific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1116000" y="3141720"/>
            <a:ext cx="7632720" cy="35002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1403280" y="285264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ＭＳ 明朝"/>
              </a:rPr>
              <a:t>Pi0 Momentum C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924360" y="285264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ＭＳ 明朝"/>
              </a:rPr>
              <a:t>Photon Energy C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732720" y="2852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ＭＳ 明朝"/>
              </a:rPr>
              <a:t>Pi0 Mass Wid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80536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ＭＳ 明朝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4000" y="522936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ＭＳ 明朝"/>
              </a:rPr>
              <a:t>Cut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4000" y="472428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ＭＳ 明朝"/>
              </a:rPr>
              <a:t>Cut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4000" y="414972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ＭＳ 明朝"/>
              </a:rPr>
              <a:t>Cut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4000" y="364500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ＭＳ 明朝"/>
              </a:rPr>
              <a:t>Cut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1280" y="299736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ＭＳ 明朝"/>
              </a:rPr>
              <a:t>S/√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6597720"/>
            <a:ext cx="24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Book Antiqua"/>
                <a:ea typeface="ＭＳ 明朝"/>
              </a:rPr>
              <a:t>ex. 4.5&lt;ωpT&lt;5.5 (GeV/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1052640"/>
            <a:ext cx="41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ＭＳ 明朝"/>
              </a:rPr>
              <a:t>If there’s no cut, S/B&lt; 1/1000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1268280"/>
            <a:ext cx="38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ＭＳ 明朝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ＭＳ 明朝"/>
              </a:rPr>
              <a:t>Have to improve it by the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0F38D-B9E8-480A-B9CA-39D42E9B3A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31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imation of omega cross-s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278480" cy="54115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427640" y="803160"/>
            <a:ext cx="4354560" cy="37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E354D-785A-4148-A70E-82B2B7CB55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Wh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w Mass Vector mes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720" y="472428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Book Antiqua"/>
                <a:ea typeface="HGｺﾞｼｯｸE"/>
              </a:rPr>
              <a:t>Physic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5734080"/>
            <a:ext cx="8353440" cy="477720"/>
          </a:xfrm>
          <a:prstGeom prst="leftRightArrow">
            <a:avLst>
              <a:gd name="adj1" fmla="val 54824"/>
              <a:gd name="adj2" fmla="val 163041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ow pT                                        High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920" y="5013360"/>
            <a:ext cx="4557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Signal for Chiral Symmtery Rest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16360" y="692280"/>
            <a:ext cx="2570040" cy="4032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712760" y="62064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66"/>
                </a:solidFill>
                <a:latin typeface="Arial Rounded MT Bold"/>
              </a:rPr>
              <a:t>p+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57120" y="14842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10066"/>
                </a:solidFill>
                <a:latin typeface="Arial Rounded MT Bold"/>
              </a:rPr>
              <a:t>d</a:t>
            </a:r>
            <a:r>
              <a:rPr b="1" lang="en-US" sz="2000" spc="-1" strike="noStrike">
                <a:solidFill>
                  <a:srgbClr val="010066"/>
                </a:solidFill>
                <a:latin typeface="Arial Rounded MT Bold"/>
              </a:rPr>
              <a:t>+</a:t>
            </a:r>
            <a:r>
              <a:rPr b="1" lang="ja-JP" sz="2000" spc="-1" strike="noStrike">
                <a:solidFill>
                  <a:srgbClr val="010066"/>
                </a:solidFill>
                <a:latin typeface="Arial Rounded MT Bold"/>
              </a:rPr>
              <a:t>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70440" y="2997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10066"/>
                </a:solidFill>
                <a:latin typeface="Arial Rounded MT Bold"/>
              </a:rPr>
              <a:t>A</a:t>
            </a:r>
            <a:r>
              <a:rPr b="1" lang="en-US" sz="2000" spc="-1" strike="noStrike">
                <a:solidFill>
                  <a:srgbClr val="010066"/>
                </a:solidFill>
                <a:latin typeface="Arial Rounded MT Bold"/>
              </a:rPr>
              <a:t>+</a:t>
            </a:r>
            <a:r>
              <a:rPr b="1" lang="ja-JP" sz="2000" spc="-1" strike="noStrike">
                <a:solidFill>
                  <a:srgbClr val="010066"/>
                </a:solidFill>
                <a:latin typeface="Arial Rounded MT Bold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4000" y="3357720"/>
            <a:ext cx="1368360" cy="1366560"/>
          </a:xfrm>
          <a:prstGeom prst="ellipse">
            <a:avLst/>
          </a:prstGeom>
          <a:solidFill>
            <a:srgbClr val="ff66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563640" y="4005360"/>
            <a:ext cx="576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203640" y="4005360"/>
            <a:ext cx="1008000" cy="57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76720" y="4581360"/>
                <a:ext cx="3096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372360" y="836640"/>
            <a:ext cx="27716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Systematic Study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Low Mass Vector Me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ＭＳ Ｐ明朝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different decay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(lepton, had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ＭＳ Ｐ明朝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different collision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(p+p, d+Au, A+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492280"/>
            <a:ext cx="2808360" cy="360360"/>
          </a:xfrm>
          <a:prstGeom prst="wedgeRectCallout">
            <a:avLst>
              <a:gd name="adj1" fmla="val 87703"/>
              <a:gd name="adj2" fmla="val 227972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eiryoKe_PGothic"/>
              </a:rPr>
              <a:t>Matter ( life time~10fm/c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997360"/>
            <a:ext cx="3492360" cy="360360"/>
          </a:xfrm>
          <a:prstGeom prst="wedgeRectCallout">
            <a:avLst>
              <a:gd name="adj1" fmla="val 50546"/>
              <a:gd name="adj2" fmla="val 208148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eiryoKe_P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eiryoKe_PGothic"/>
              </a:rPr>
              <a:t>omega meson ( life time 23fm/c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00280"/>
            <a:ext cx="3059280" cy="360360"/>
          </a:xfrm>
          <a:prstGeom prst="wedgeRectCallout">
            <a:avLst>
              <a:gd name="adj1" fmla="val 55032"/>
              <a:gd name="adj2" fmla="val 232379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eiryoKe_P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eiryoKe_PGothic"/>
              </a:rPr>
              <a:t>phi meson ( life time 46fm/c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413000"/>
            <a:ext cx="277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Promising probe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study the proper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of the deconfined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443640" y="1484280"/>
                <a:ext cx="3715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804000" y="1413000"/>
                <a:ext cx="30960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35280" y="3716280"/>
                <a:ext cx="3715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5" name=""/>
          <p:cNvGrpSpPr/>
          <p:nvPr/>
        </p:nvGrpSpPr>
        <p:grpSpPr>
          <a:xfrm>
            <a:off x="5435640" y="3068640"/>
            <a:ext cx="3785040" cy="2210400"/>
            <a:chOff x="5435640" y="3068640"/>
            <a:chExt cx="3785040" cy="2210400"/>
          </a:xfrm>
        </p:grpSpPr>
        <p:graphicFrame>
          <p:nvGraphicFramePr>
            <p:cNvPr id="146" name=""/>
            <p:cNvGraphicFramePr/>
            <p:nvPr/>
          </p:nvGraphicFramePr>
          <p:xfrm>
            <a:off x="5867280" y="3284640"/>
            <a:ext cx="3276720" cy="1990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867280" y="3284640"/>
                      <a:ext cx="3276720" cy="199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 rot="16200000">
              <a:off x="4898520" y="3969360"/>
              <a:ext cx="165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MeiryoKe_PGothic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MeiryoKe_PGothic"/>
                </a:rPr>
                <a:t>Reconstruc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MeiryoKe_PGothic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MeiryoKe_PGothic"/>
                </a:rPr>
                <a:t>Efficien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13360" y="3068640"/>
              <a:ext cx="22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Symbol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1" lang="ja-JP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ja-JP" sz="18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r>
                <a:rPr b="1" lang="ja-JP" sz="18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r>
                <a:rPr b="1" lang="ja-JP" sz="18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r>
                <a:rPr b="1" lang="ja-JP" sz="1800" spc="-1" strike="noStrike" baseline="30000">
                  <a:solidFill>
                    <a:srgbClr val="ff0000"/>
                  </a:solidFill>
                  <a:latin typeface="Arial"/>
                </a:rPr>
                <a:t>- </a:t>
              </a:r>
              <a:r>
                <a:rPr b="1" lang="ja-JP" sz="1600" spc="-1" strike="noStrike">
                  <a:solidFill>
                    <a:srgbClr val="ff0000"/>
                  </a:solidFill>
                  <a:latin typeface="Arial"/>
                  <a:ea typeface="MeiryoKe_PGothic"/>
                </a:rPr>
                <a:t>(BR:7x10</a:t>
              </a:r>
              <a:r>
                <a:rPr b="1" lang="ja-JP" sz="1600" spc="-1" strike="noStrike" baseline="30000">
                  <a:solidFill>
                    <a:srgbClr val="ff0000"/>
                  </a:solidFill>
                  <a:latin typeface="Arial"/>
                  <a:ea typeface="MeiryoKe_PGothic"/>
                </a:rPr>
                <a:t>-3</a:t>
              </a:r>
              <a:r>
                <a:rPr b="1" lang="ja-JP" sz="1600" spc="-1" strike="noStrike">
                  <a:solidFill>
                    <a:srgbClr val="ff0000"/>
                  </a:solidFill>
                  <a:latin typeface="Arial"/>
                  <a:ea typeface="MeiryoKe_PGothic"/>
                </a:rPr>
                <a:t>%)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  <a:ea typeface="MeiryoKe_PGothic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81560" y="3933720"/>
              <a:ext cx="21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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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Symbol"/>
                  <a:ea typeface="Symbol"/>
                </a:rPr>
                <a:t></a:t>
              </a: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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MeiryoKe_PGothic"/>
                </a:rPr>
                <a:t>(BR:9%)</a:t>
              </a: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35080" y="494172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  <a:ea typeface="MeiryoKe_PGothic"/>
                </a:rPr>
                <a:t>ω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859280" y="5373720"/>
            <a:ext cx="295272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gnal for Jet Quen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859280" y="4365720"/>
            <a:ext cx="2952720" cy="1430280"/>
            <a:chOff x="4859280" y="4365720"/>
            <a:chExt cx="2952720" cy="1430280"/>
          </a:xfrm>
        </p:grpSpPr>
        <p:sp>
          <p:nvSpPr>
            <p:cNvPr id="154" name=""/>
            <p:cNvSpPr/>
            <p:nvPr/>
          </p:nvSpPr>
          <p:spPr>
            <a:xfrm flipV="1">
              <a:off x="6948360" y="4365720"/>
              <a:ext cx="287640" cy="1008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59280" y="5373720"/>
              <a:ext cx="2952720" cy="422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9A572-83A9-47FB-A1F4-5B29608F34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96472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ression as a Probe of Q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15652" t="0" r="7826" b="0"/>
          <a:stretch/>
        </p:blipFill>
        <p:spPr>
          <a:xfrm>
            <a:off x="0" y="1341360"/>
            <a:ext cx="3708360" cy="2563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27640" y="2852640"/>
            <a:ext cx="3816360" cy="3529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296320" y="623736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L 91. 072301 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496880" y="4795920"/>
                <a:ext cx="3124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dσ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d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dσ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pp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d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822960" y="429264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 Modificatio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76720" y="4653000"/>
            <a:ext cx="432000" cy="1008000"/>
          </a:xfrm>
          <a:prstGeom prst="downArrow">
            <a:avLst>
              <a:gd name="adj1" fmla="val 50000"/>
              <a:gd name="adj2" fmla="val 5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09440" y="30686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7080" y="5734080"/>
            <a:ext cx="45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absence of nuclear effects: 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256536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cc0000"/>
                </a:solidFill>
                <a:latin typeface="Arial"/>
              </a:rPr>
              <a:t>The inclusive pi0 production in Au+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141300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Hadron Production will be suppressed due to the jet quenching occurred in the heavy-ion collisions as an effect of the 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Wh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w Mass Vector mes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77417-A6B0-4F4C-92C7-D47C113341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250920" y="1268280"/>
            <a:ext cx="4284720" cy="3708000"/>
            <a:chOff x="250920" y="1268280"/>
            <a:chExt cx="4284720" cy="3708000"/>
          </a:xfrm>
        </p:grpSpPr>
        <p:grpSp>
          <p:nvGrpSpPr>
            <p:cNvPr id="169" name=""/>
            <p:cNvGrpSpPr/>
            <p:nvPr/>
          </p:nvGrpSpPr>
          <p:grpSpPr>
            <a:xfrm>
              <a:off x="250920" y="1268280"/>
              <a:ext cx="4284720" cy="3708000"/>
              <a:chOff x="250920" y="1268280"/>
              <a:chExt cx="4284720" cy="3708000"/>
            </a:xfrm>
          </p:grpSpPr>
          <p:pic>
            <p:nvPicPr>
              <p:cNvPr id="1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1268280"/>
                <a:ext cx="4284720" cy="338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 rot="20340000">
                <a:off x="2139480" y="2031120"/>
                <a:ext cx="1512720" cy="814680"/>
              </a:xfrm>
              <a:custGeom>
                <a:avLst/>
                <a:gdLst/>
                <a:ahLst/>
                <a:rect l="l" t="t" r="r" b="b"/>
                <a:pathLst>
                  <a:path w="865" h="503">
                    <a:moveTo>
                      <a:pt x="0" y="473"/>
                    </a:moveTo>
                    <a:cubicBezTo>
                      <a:pt x="32" y="478"/>
                      <a:pt x="126" y="503"/>
                      <a:pt x="193" y="501"/>
                    </a:cubicBezTo>
                    <a:cubicBezTo>
                      <a:pt x="260" y="499"/>
                      <a:pt x="346" y="483"/>
                      <a:pt x="402" y="463"/>
                    </a:cubicBezTo>
                    <a:cubicBezTo>
                      <a:pt x="458" y="443"/>
                      <a:pt x="484" y="417"/>
                      <a:pt x="529" y="381"/>
                    </a:cubicBezTo>
                    <a:cubicBezTo>
                      <a:pt x="574" y="345"/>
                      <a:pt x="618" y="312"/>
                      <a:pt x="674" y="248"/>
                    </a:cubicBezTo>
                    <a:cubicBezTo>
                      <a:pt x="730" y="184"/>
                      <a:pt x="825" y="52"/>
                      <a:pt x="865" y="0"/>
                    </a:cubicBezTo>
                  </a:path>
                </a:pathLst>
              </a:custGeom>
              <a:noFill/>
              <a:ln w="28440">
                <a:solidFill>
                  <a:srgbClr val="4700b8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9860000">
                <a:off x="2145240" y="2332800"/>
                <a:ext cx="1640880" cy="282960"/>
              </a:xfrm>
              <a:custGeom>
                <a:avLst/>
                <a:gdLst/>
                <a:ahLst/>
                <a:rect l="l" t="t" r="r" b="b"/>
                <a:pathLst>
                  <a:path w="1312" h="157">
                    <a:moveTo>
                      <a:pt x="0" y="157"/>
                    </a:moveTo>
                    <a:cubicBezTo>
                      <a:pt x="103" y="107"/>
                      <a:pt x="207" y="57"/>
                      <a:pt x="332" y="32"/>
                    </a:cubicBezTo>
                    <a:cubicBezTo>
                      <a:pt x="457" y="7"/>
                      <a:pt x="589" y="8"/>
                      <a:pt x="752" y="4"/>
                    </a:cubicBezTo>
                    <a:cubicBezTo>
                      <a:pt x="915" y="0"/>
                      <a:pt x="1219" y="9"/>
                      <a:pt x="1312" y="10"/>
                    </a:cubicBezTo>
                  </a:path>
                </a:pathLst>
              </a:custGeom>
              <a:noFill/>
              <a:ln w="31680">
                <a:solidFill>
                  <a:srgbClr val="4700b8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59360" y="1477080"/>
                <a:ext cx="427320" cy="27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6000"/>
                  </a:lnSpc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e</a:t>
                </a:r>
                <a:r>
                  <a:rPr b="1" lang="en-GB" sz="1600" spc="-1" strike="noStrike" baseline="30000">
                    <a:solidFill>
                      <a:srgbClr val="000000"/>
                    </a:solidFill>
                    <a:latin typeface="Arial"/>
                    <a:ea typeface="SimSu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18000" y="1932120"/>
                <a:ext cx="427680" cy="27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6000"/>
                  </a:lnSpc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e</a:t>
                </a:r>
                <a:r>
                  <a:rPr b="1" lang="en-GB" sz="1600" spc="-1" strike="noStrike" baseline="30000">
                    <a:solidFill>
                      <a:srgbClr val="000000"/>
                    </a:solidFill>
                    <a:latin typeface="Arial"/>
                    <a:ea typeface="SimSu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28640" y="4664880"/>
                <a:ext cx="11239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omentu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53000" y="2718360"/>
                <a:ext cx="153360" cy="162000"/>
              </a:xfrm>
              <a:prstGeom prst="irregularSeal2">
                <a:avLst/>
              </a:prstGeom>
              <a:solidFill>
                <a:srgbClr val="e6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700000" y="2395800"/>
                <a:ext cx="153720" cy="162000"/>
              </a:xfrm>
              <a:prstGeom prst="irregularSeal2">
                <a:avLst/>
              </a:prstGeom>
              <a:solidFill>
                <a:srgbClr val="e6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20640000">
                <a:off x="2853000" y="2238120"/>
                <a:ext cx="306360" cy="161640"/>
              </a:xfrm>
              <a:prstGeom prst="irregularSeal2">
                <a:avLst/>
              </a:prstGeom>
              <a:solidFill>
                <a:srgbClr val="e6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720000">
                <a:off x="3134520" y="2381400"/>
                <a:ext cx="153720" cy="322560"/>
              </a:xfrm>
              <a:prstGeom prst="irregularSeal2">
                <a:avLst/>
              </a:prstGeom>
              <a:solidFill>
                <a:srgbClr val="e6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720000">
                <a:off x="3424680" y="1595160"/>
                <a:ext cx="149760" cy="329760"/>
              </a:xfrm>
              <a:prstGeom prst="irregularSeal2">
                <a:avLst/>
              </a:prstGeom>
              <a:solidFill>
                <a:srgbClr val="e6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920000">
                <a:off x="3593520" y="1762920"/>
                <a:ext cx="153720" cy="322560"/>
              </a:xfrm>
              <a:prstGeom prst="irregularSeal2">
                <a:avLst/>
              </a:prstGeom>
              <a:solidFill>
                <a:srgbClr val="e6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005280" y="4664880"/>
                <a:ext cx="11131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lectron 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798720" y="4179960"/>
                <a:ext cx="384480" cy="27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6000"/>
                  </a:lnSpc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π</a:t>
                </a:r>
                <a:r>
                  <a:rPr b="1" lang="en-GB" sz="1600" spc="-1" strike="noStrike" baseline="30000">
                    <a:solidFill>
                      <a:srgbClr val="000000"/>
                    </a:solidFill>
                    <a:latin typeface="Arial"/>
                    <a:ea typeface="SimSu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994040" y="3332880"/>
              <a:ext cx="107172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4700b8"/>
                  </a:solidFill>
                  <a:latin typeface="Arial"/>
                </a:rPr>
                <a:t>φ→e</a:t>
              </a:r>
              <a:r>
                <a:rPr b="1" lang="en-GB" sz="1800" spc="-1" strike="noStrike" baseline="33000">
                  <a:solidFill>
                    <a:srgbClr val="4700b8"/>
                  </a:solidFill>
                  <a:latin typeface="Arial"/>
                </a:rPr>
                <a:t>+</a:t>
              </a:r>
              <a:r>
                <a:rPr b="1" lang="en-GB" sz="1800" spc="-1" strike="noStrike">
                  <a:solidFill>
                    <a:srgbClr val="4700b8"/>
                  </a:solidFill>
                  <a:latin typeface="Arial"/>
                </a:rPr>
                <a:t>e</a:t>
              </a:r>
              <a:r>
                <a:rPr b="1" lang="en-GB" sz="1800" spc="-1" strike="noStrike" baseline="33000">
                  <a:solidFill>
                    <a:srgbClr val="4700b8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4700b8"/>
                  </a:solidFill>
                  <a:latin typeface="Arial"/>
                </a:rPr>
                <a:t>ω→e</a:t>
              </a:r>
              <a:r>
                <a:rPr b="1" lang="en-GB" sz="1800" spc="-1" strike="noStrike" baseline="33000">
                  <a:solidFill>
                    <a:srgbClr val="4700b8"/>
                  </a:solidFill>
                  <a:latin typeface="Arial"/>
                </a:rPr>
                <a:t>+</a:t>
              </a:r>
              <a:r>
                <a:rPr b="1" lang="en-GB" sz="1800" spc="-1" strike="noStrike">
                  <a:solidFill>
                    <a:srgbClr val="4700b8"/>
                  </a:solidFill>
                  <a:latin typeface="Arial"/>
                </a:rPr>
                <a:t>e</a:t>
              </a:r>
              <a:r>
                <a:rPr b="1" lang="en-GB" sz="1800" spc="-1" strike="noStrike" baseline="33000">
                  <a:solidFill>
                    <a:srgbClr val="4700b8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-179640" y="972360"/>
            <a:ext cx="5038560" cy="4400640"/>
            <a:chOff x="-179640" y="972360"/>
            <a:chExt cx="5038560" cy="4400640"/>
          </a:xfrm>
        </p:grpSpPr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58680" y="1193400"/>
              <a:ext cx="4604040" cy="370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 rot="1980000">
              <a:off x="2346480" y="3283560"/>
              <a:ext cx="1868040" cy="431640"/>
            </a:xfrm>
            <a:custGeom>
              <a:avLst/>
              <a:gdLst/>
              <a:ahLst/>
              <a:rect l="l" t="t" r="r" b="b"/>
              <a:pathLst>
                <a:path w="865" h="503">
                  <a:moveTo>
                    <a:pt x="0" y="473"/>
                  </a:moveTo>
                  <a:cubicBezTo>
                    <a:pt x="32" y="478"/>
                    <a:pt x="126" y="503"/>
                    <a:pt x="193" y="501"/>
                  </a:cubicBezTo>
                  <a:cubicBezTo>
                    <a:pt x="260" y="499"/>
                    <a:pt x="346" y="483"/>
                    <a:pt x="402" y="463"/>
                  </a:cubicBezTo>
                  <a:cubicBezTo>
                    <a:pt x="458" y="443"/>
                    <a:pt x="484" y="417"/>
                    <a:pt x="529" y="381"/>
                  </a:cubicBezTo>
                  <a:cubicBezTo>
                    <a:pt x="574" y="345"/>
                    <a:pt x="618" y="312"/>
                    <a:pt x="674" y="248"/>
                  </a:cubicBezTo>
                  <a:cubicBezTo>
                    <a:pt x="730" y="184"/>
                    <a:pt x="825" y="52"/>
                    <a:pt x="865" y="0"/>
                  </a:cubicBezTo>
                </a:path>
              </a:pathLst>
            </a:custGeom>
            <a:noFill/>
            <a:ln w="28440">
              <a:solidFill>
                <a:srgbClr val="4700b8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80000">
              <a:off x="2378160" y="2927160"/>
              <a:ext cx="2304000" cy="332280"/>
            </a:xfrm>
            <a:custGeom>
              <a:avLst/>
              <a:gdLst/>
              <a:ahLst/>
              <a:rect l="l" t="t" r="r" b="b"/>
              <a:pathLst>
                <a:path w="1312" h="157">
                  <a:moveTo>
                    <a:pt x="0" y="157"/>
                  </a:moveTo>
                  <a:cubicBezTo>
                    <a:pt x="103" y="107"/>
                    <a:pt x="207" y="57"/>
                    <a:pt x="332" y="32"/>
                  </a:cubicBezTo>
                  <a:cubicBezTo>
                    <a:pt x="457" y="7"/>
                    <a:pt x="589" y="8"/>
                    <a:pt x="752" y="4"/>
                  </a:cubicBezTo>
                  <a:cubicBezTo>
                    <a:pt x="915" y="0"/>
                    <a:pt x="1219" y="9"/>
                    <a:pt x="1312" y="10"/>
                  </a:cubicBezTo>
                </a:path>
              </a:pathLst>
            </a:custGeom>
            <a:noFill/>
            <a:ln w="31680">
              <a:solidFill>
                <a:srgbClr val="4700b8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65000" y="2745720"/>
              <a:ext cx="49392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π</a:t>
              </a:r>
              <a:r>
                <a:rPr b="1" lang="en-GB" sz="16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12760" y="3415680"/>
              <a:ext cx="176400" cy="185040"/>
            </a:xfrm>
            <a:prstGeom prst="irregularSeal2">
              <a:avLst/>
            </a:prstGeom>
            <a:solidFill>
              <a:srgbClr val="e6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12760" y="2860200"/>
              <a:ext cx="178560" cy="186840"/>
            </a:xfrm>
            <a:prstGeom prst="irregularSeal2">
              <a:avLst/>
            </a:prstGeom>
            <a:solidFill>
              <a:srgbClr val="e6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 rot="20640000">
              <a:off x="3811320" y="2877480"/>
              <a:ext cx="181800" cy="149040"/>
            </a:xfrm>
            <a:prstGeom prst="irregularSeal2">
              <a:avLst/>
            </a:prstGeom>
            <a:solidFill>
              <a:srgbClr val="e6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720000">
              <a:off x="3748320" y="3668400"/>
              <a:ext cx="208080" cy="228960"/>
            </a:xfrm>
            <a:prstGeom prst="irregularSeal2">
              <a:avLst/>
            </a:prstGeom>
            <a:solidFill>
              <a:srgbClr val="e6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2820000">
              <a:off x="3886560" y="3778920"/>
              <a:ext cx="393840" cy="183600"/>
            </a:xfrm>
            <a:prstGeom prst="irregularSeal2">
              <a:avLst/>
            </a:prstGeom>
            <a:solidFill>
              <a:srgbClr val="e6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4260000">
              <a:off x="4089600" y="2832480"/>
              <a:ext cx="186840" cy="355320"/>
            </a:xfrm>
            <a:prstGeom prst="irregularSeal2">
              <a:avLst/>
            </a:prstGeom>
            <a:solidFill>
              <a:srgbClr val="e6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03200" y="3237840"/>
              <a:ext cx="6555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381760" y="2409840"/>
              <a:ext cx="1594440" cy="642600"/>
            </a:xfrm>
            <a:prstGeom prst="line">
              <a:avLst/>
            </a:prstGeom>
            <a:ln w="25200">
              <a:solidFill>
                <a:srgbClr val="4700b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360000">
              <a:off x="3794040" y="2268360"/>
              <a:ext cx="424800" cy="346680"/>
            </a:xfrm>
            <a:prstGeom prst="irregularSeal2">
              <a:avLst/>
            </a:prstGeom>
            <a:solidFill>
              <a:srgbClr val="e6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381760" y="1792080"/>
              <a:ext cx="1398600" cy="1260360"/>
            </a:xfrm>
            <a:prstGeom prst="line">
              <a:avLst/>
            </a:prstGeom>
            <a:ln w="25200">
              <a:solidFill>
                <a:srgbClr val="4700b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33000" y="1198800"/>
              <a:ext cx="336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69240" y="1810440"/>
              <a:ext cx="3366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9920000">
              <a:off x="4090680" y="1191240"/>
              <a:ext cx="393480" cy="1236600"/>
            </a:xfrm>
            <a:prstGeom prst="ellipse">
              <a:avLst/>
            </a:prstGeom>
            <a:noFill/>
            <a:ln w="9360">
              <a:solidFill>
                <a:srgbClr val="4700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73400" y="1603800"/>
              <a:ext cx="46980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4700b8"/>
                  </a:solidFill>
                  <a:latin typeface="Arial"/>
                </a:rPr>
                <a:t>π</a:t>
              </a:r>
              <a:r>
                <a:rPr b="1" lang="en-GB" sz="1800" spc="-1" strike="noStrike" baseline="33000">
                  <a:solidFill>
                    <a:srgbClr val="4700b8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825480" y="1792080"/>
              <a:ext cx="1483200" cy="1260360"/>
            </a:xfrm>
            <a:prstGeom prst="line">
              <a:avLst/>
            </a:prstGeom>
            <a:ln w="252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628920" y="2615040"/>
              <a:ext cx="1679400" cy="437400"/>
            </a:xfrm>
            <a:prstGeom prst="line">
              <a:avLst/>
            </a:prstGeom>
            <a:ln w="252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27240" y="3045600"/>
              <a:ext cx="1981080" cy="1029240"/>
            </a:xfrm>
            <a:prstGeom prst="line">
              <a:avLst/>
            </a:prstGeom>
            <a:ln w="25200">
              <a:solidFill>
                <a:srgbClr val="00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100000">
              <a:off x="3561480" y="1639800"/>
              <a:ext cx="298080" cy="535680"/>
            </a:xfrm>
            <a:prstGeom prst="irregularSeal2">
              <a:avLst/>
            </a:prstGeom>
            <a:solidFill>
              <a:srgbClr val="e6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8600" y="4082400"/>
              <a:ext cx="336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8600" y="4082400"/>
              <a:ext cx="336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2023200"/>
              <a:ext cx="336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480" y="1198800"/>
              <a:ext cx="336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440000">
              <a:off x="138240" y="981000"/>
              <a:ext cx="393480" cy="164700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280" y="1603800"/>
              <a:ext cx="46980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ff00"/>
                  </a:solidFill>
                  <a:latin typeface="Arial"/>
                </a:rPr>
                <a:t>π</a:t>
              </a:r>
              <a:r>
                <a:rPr b="1" lang="en-GB" sz="1800" spc="-1" strike="noStrike" baseline="33000">
                  <a:solidFill>
                    <a:srgbClr val="00ff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12160" y="4046400"/>
              <a:ext cx="1755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4700b8"/>
                  </a:solidFill>
                  <a:latin typeface="Arial"/>
                </a:rPr>
                <a:t>ω→π</a:t>
              </a:r>
              <a:r>
                <a:rPr b="1" lang="en-GB" sz="1800" spc="-1" strike="noStrike" baseline="33000">
                  <a:solidFill>
                    <a:srgbClr val="4700b8"/>
                  </a:solidFill>
                  <a:latin typeface="Arial"/>
                </a:rPr>
                <a:t>0</a:t>
              </a:r>
              <a:r>
                <a:rPr b="1" lang="en-GB" sz="1800" spc="-1" strike="noStrike">
                  <a:solidFill>
                    <a:srgbClr val="4700b8"/>
                  </a:solidFill>
                  <a:latin typeface="Arial"/>
                </a:rPr>
                <a:t>π</a:t>
              </a:r>
              <a:r>
                <a:rPr b="1" lang="en-GB" sz="1800" spc="-1" strike="noStrike" baseline="33000">
                  <a:solidFill>
                    <a:srgbClr val="4700b8"/>
                  </a:solidFill>
                  <a:latin typeface="Arial"/>
                </a:rPr>
                <a:t>+</a:t>
              </a:r>
              <a:r>
                <a:rPr b="1" lang="en-GB" sz="1800" spc="-1" strike="noStrike">
                  <a:solidFill>
                    <a:srgbClr val="4700b8"/>
                  </a:solidFill>
                  <a:latin typeface="Arial"/>
                </a:rPr>
                <a:t>π</a:t>
              </a:r>
              <a:r>
                <a:rPr b="1" lang="en-GB" sz="1800" spc="-1" strike="noStrike" baseline="33000">
                  <a:solidFill>
                    <a:srgbClr val="4700b8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ff00"/>
                  </a:solidFill>
                  <a:latin typeface="Arial"/>
                </a:rPr>
                <a:t>ω→π</a:t>
              </a:r>
              <a:r>
                <a:rPr b="1" lang="en-GB" sz="1800" spc="-1" strike="noStrike" baseline="33000">
                  <a:solidFill>
                    <a:srgbClr val="00ff00"/>
                  </a:solidFill>
                  <a:latin typeface="Arial"/>
                </a:rPr>
                <a:t>0</a:t>
              </a:r>
              <a:r>
                <a:rPr b="1" lang="en-GB" sz="1800" spc="-1" strike="noStrike">
                  <a:solidFill>
                    <a:srgbClr val="00ff00"/>
                  </a:solidFill>
                  <a:latin typeface="Arial"/>
                </a:rPr>
                <a:t>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360000">
              <a:off x="3794040" y="2268360"/>
              <a:ext cx="424800" cy="346680"/>
            </a:xfrm>
            <a:prstGeom prst="irregularSeal2">
              <a:avLst/>
            </a:prstGeom>
            <a:solidFill>
              <a:srgbClr val="e6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360000">
              <a:off x="520200" y="3750120"/>
              <a:ext cx="424800" cy="346680"/>
            </a:xfrm>
            <a:prstGeom prst="irregularSeal2">
              <a:avLst/>
            </a:prstGeom>
            <a:solidFill>
              <a:srgbClr val="e6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900000">
              <a:off x="407520" y="2335680"/>
              <a:ext cx="424800" cy="346680"/>
            </a:xfrm>
            <a:prstGeom prst="irregularSeal2">
              <a:avLst/>
            </a:prstGeom>
            <a:solidFill>
              <a:srgbClr val="e6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360000">
              <a:off x="716400" y="1711080"/>
              <a:ext cx="424800" cy="346680"/>
            </a:xfrm>
            <a:prstGeom prst="irregularSeal2">
              <a:avLst/>
            </a:prstGeom>
            <a:solidFill>
              <a:srgbClr val="e6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296640" y="2486160"/>
              <a:ext cx="4197600" cy="2886840"/>
              <a:chOff x="296640" y="2486160"/>
              <a:chExt cx="4197600" cy="2886840"/>
            </a:xfrm>
          </p:grpSpPr>
          <p:sp>
            <p:nvSpPr>
              <p:cNvPr id="220" name=""/>
              <p:cNvSpPr/>
              <p:nvPr/>
            </p:nvSpPr>
            <p:spPr>
              <a:xfrm>
                <a:off x="3511080" y="4961520"/>
                <a:ext cx="9831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6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1347120" y="3514320"/>
                <a:ext cx="1572840" cy="145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96640" y="4975920"/>
                <a:ext cx="1443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6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omentu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10520" y="4961520"/>
                <a:ext cx="14029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6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Hadron 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2919960" y="3925800"/>
                <a:ext cx="786960" cy="83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2919960" y="4130640"/>
                <a:ext cx="1180800" cy="6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4100760" y="2486160"/>
                <a:ext cx="1440" cy="227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"/>
          <p:cNvSpPr/>
          <p:nvPr/>
        </p:nvSpPr>
        <p:spPr>
          <a:xfrm>
            <a:off x="4859280" y="1484280"/>
            <a:ext cx="428472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4700b8"/>
                </a:solidFill>
                <a:uFillTx/>
                <a:latin typeface="Arial"/>
              </a:rPr>
              <a:t>PHENIX spectr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&lt;Global detecto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BC &amp; ZDC : Event trigger, Colli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ex, Centr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&lt;Central a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ptan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⇒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seud-rapidity range : |η| &lt;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zimuthal angle : 2x90 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C &amp; PC : tracking, momen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CH &amp; EMC : electr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F, EMC : hadr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&lt;Muon a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ID : mu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03640" y="4437000"/>
            <a:ext cx="41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0000"/>
                </a:solidFill>
                <a:uFillTx/>
                <a:latin typeface="Times New Roman"/>
                <a:ea typeface="HGｺﾞｼｯｸE"/>
              </a:rPr>
              <a:t>⇒</a:t>
            </a:r>
            <a:r>
              <a:rPr b="1" lang="en-GB" sz="2400" spc="-1" strike="noStrike" u="sng">
                <a:solidFill>
                  <a:srgbClr val="cc0000"/>
                </a:solidFill>
                <a:uFillTx/>
                <a:latin typeface="Times New Roman"/>
                <a:ea typeface="HGｺﾞｼｯｸE"/>
              </a:rPr>
              <a:t>PHENIX </a:t>
            </a:r>
            <a:r>
              <a:rPr b="1" lang="en-GB" sz="2400" spc="-1" strike="noStrike" u="sng">
                <a:solidFill>
                  <a:srgbClr val="cc0000"/>
                </a:solidFill>
                <a:uFillTx/>
                <a:latin typeface="ＭＳ 明朝"/>
                <a:ea typeface="ＭＳ 明朝"/>
              </a:rPr>
              <a:t>consists of multi-purpose det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0000"/>
                </a:solidFill>
                <a:uFillTx/>
                <a:latin typeface="ＭＳ 明朝"/>
                <a:ea typeface="ＭＳ 明朝"/>
              </a:rPr>
              <a:t>to measure rare probe from colli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       </a:t>
            </a:r>
            <a:r>
              <a:rPr b="1" i="1" lang="en-US" sz="2500" spc="-1" strike="noStrike">
                <a:solidFill>
                  <a:srgbClr val="cc0000"/>
                </a:solidFill>
                <a:latin typeface="Arial"/>
              </a:rPr>
              <a:t>Which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decay mode do we measure 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4757C-0ECE-4CFF-BB17-51A1B9A407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481920" y="765000"/>
            <a:ext cx="209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cc0000"/>
                </a:solidFill>
                <a:latin typeface="Book Antiqua"/>
                <a:ea typeface="HGｺﾞｼｯｸE"/>
              </a:rPr>
              <a:t>p+p, d+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cc0000"/>
                </a:solidFill>
                <a:latin typeface="Book Antiqua"/>
                <a:ea typeface="HGｺﾞｼｯｸE"/>
              </a:rPr>
              <a:t>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Highligh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How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 we appro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419640" y="1989000"/>
          <a:ext cx="244764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989000"/>
                    <a:ext cx="244764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3832200" y="2281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0" y="981000"/>
            <a:ext cx="2879640" cy="20890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71080" y="69228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66"/>
                </a:solidFill>
                <a:latin typeface="Arial Rounded MT Bold"/>
              </a:rPr>
              <a:t>p+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867280" y="836640"/>
            <a:ext cx="3120840" cy="2205000"/>
            <a:chOff x="5867280" y="836640"/>
            <a:chExt cx="3120840" cy="2205000"/>
          </a:xfrm>
        </p:grpSpPr>
        <p:pic>
          <p:nvPicPr>
            <p:cNvPr id="238" name="" descr=""/>
            <p:cNvPicPr/>
            <p:nvPr/>
          </p:nvPicPr>
          <p:blipFill>
            <a:blip r:embed="rId4"/>
            <a:stretch/>
          </p:blipFill>
          <p:spPr>
            <a:xfrm>
              <a:off x="5867280" y="836640"/>
              <a:ext cx="312084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7377840" y="8366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10066"/>
                  </a:solidFill>
                  <a:latin typeface="Arial Rounded MT Bold"/>
                </a:rPr>
                <a:t>d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 Rounded MT Bold"/>
                </a:rPr>
                <a:t>+</a:t>
              </a:r>
              <a:r>
                <a:rPr b="1" lang="ja-JP" sz="2000" spc="-1" strike="noStrike">
                  <a:solidFill>
                    <a:srgbClr val="010066"/>
                  </a:solidFill>
                  <a:latin typeface="Arial Rounded MT Bold"/>
                </a:rPr>
                <a:t>A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131880" y="3213000"/>
            <a:ext cx="2664360" cy="2327400"/>
            <a:chOff x="6131880" y="3213000"/>
            <a:chExt cx="2664360" cy="2327400"/>
          </a:xfrm>
        </p:grpSpPr>
        <p:pic>
          <p:nvPicPr>
            <p:cNvPr id="241" name="" descr=""/>
            <p:cNvPicPr/>
            <p:nvPr/>
          </p:nvPicPr>
          <p:blipFill>
            <a:blip r:embed="rId5"/>
            <a:stretch/>
          </p:blipFill>
          <p:spPr>
            <a:xfrm>
              <a:off x="6156360" y="3429000"/>
              <a:ext cx="2639880" cy="21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369840" y="321300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10066"/>
                  </a:solidFill>
                  <a:latin typeface="Arial Rounded MT Bold"/>
                </a:rPr>
                <a:t>d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 Rounded MT Bold"/>
                </a:rPr>
                <a:t>+</a:t>
              </a:r>
              <a:r>
                <a:rPr b="1" lang="ja-JP" sz="2000" spc="-1" strike="noStrike">
                  <a:solidFill>
                    <a:srgbClr val="010066"/>
                  </a:solidFill>
                  <a:latin typeface="Arial Rounded MT Bold"/>
                </a:rPr>
                <a:t>A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31880" y="4724280"/>
              <a:ext cx="111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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373400" y="1413000"/>
            <a:ext cx="137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φ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MeiryoKe_PGothic"/>
              </a:rPr>
              <a:t>e+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723440" y="1413000"/>
            <a:ext cx="137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φ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MeiryoKe_PGothic"/>
              </a:rPr>
              <a:t>e+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250920" y="3500280"/>
            <a:ext cx="3097080" cy="2211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271240" y="4365720"/>
            <a:ext cx="13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3280" y="328464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66"/>
                </a:solidFill>
                <a:latin typeface="Arial Rounded MT Bold"/>
              </a:rPr>
              <a:t>p+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19640" y="5013360"/>
            <a:ext cx="27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Both leptonic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hadronic decay channel are meas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1532C-1152-4849-9F81-75C600D3D6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611280" y="692280"/>
          <a:ext cx="8028000" cy="58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92280"/>
                    <a:ext cx="80280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50920" y="5516640"/>
            <a:ext cx="5832720" cy="93816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ffffd9"/>
                </a:solidFill>
                <a:latin typeface="Book Antiqua"/>
                <a:ea typeface="ＭＳ 明朝"/>
              </a:rPr>
              <a:t>Quest for Low Mass Vector Me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ffffd9"/>
                </a:solidFill>
                <a:latin typeface="Book Antiqua"/>
                <a:ea typeface="ＭＳ 明朝"/>
              </a:rPr>
              <a:t>　　</a:t>
            </a:r>
            <a:r>
              <a:rPr b="1" i="1" lang="ja-JP" sz="2800" spc="-1" strike="noStrike">
                <a:solidFill>
                  <a:srgbClr val="ffffd9"/>
                </a:solidFill>
                <a:latin typeface="Book Antiqua"/>
                <a:ea typeface="ＭＳ 明朝"/>
              </a:rPr>
              <a:t>in huge huge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203640" y="2852640"/>
          <a:ext cx="3168720" cy="17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2852640"/>
                    <a:ext cx="316872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Highligh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How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 we appro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68360" y="692280"/>
            <a:ext cx="4753080" cy="792000"/>
          </a:xfrm>
          <a:prstGeom prst="foldedCorner">
            <a:avLst>
              <a:gd name="adj" fmla="val 12500"/>
            </a:avLst>
          </a:prstGeom>
          <a:solidFill>
            <a:srgbClr val="fffff7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Book Antiqua"/>
                <a:ea typeface="ＭＳ 明朝"/>
              </a:rPr>
              <a:t>Challenge to A+A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061FD-2A6E-43D4-868D-1EE1912902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Highligh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How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 we appro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-60480" y="620640"/>
            <a:ext cx="29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Book Antiqua"/>
                <a:ea typeface="HGｺﾞｼｯｸE"/>
              </a:rPr>
              <a:t>Improving S/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643280" y="4005000"/>
            <a:ext cx="3758760" cy="2280600"/>
            <a:chOff x="4643280" y="4005000"/>
            <a:chExt cx="3758760" cy="228060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4752720" y="4005360"/>
              <a:ext cx="338292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77080" y="4581360"/>
              <a:ext cx="502920" cy="720360"/>
            </a:xfrm>
            <a:prstGeom prst="upArrow">
              <a:avLst>
                <a:gd name="adj1" fmla="val 50000"/>
                <a:gd name="adj2" fmla="val 3580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04440" y="5948280"/>
              <a:ext cx="149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pT(ω) [GeV/c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6200000">
              <a:off x="3728520" y="4919760"/>
              <a:ext cx="2166840" cy="337320"/>
            </a:xfrm>
            <a:prstGeom prst="rect">
              <a:avLst/>
            </a:pr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/√B (significanc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71600" y="54450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 Cu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27240" y="4292640"/>
              <a:ext cx="11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est Cu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430920" y="1125360"/>
            <a:ext cx="28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Book Antiqua"/>
                <a:ea typeface="HGｺﾞｼｯｸE"/>
              </a:rPr>
              <a:t> </a:t>
            </a:r>
            <a:r>
              <a:rPr b="1" i="1" lang="en-US" sz="2400" spc="-1" strike="noStrike">
                <a:solidFill>
                  <a:srgbClr val="003399"/>
                </a:solidFill>
                <a:latin typeface="Book Antiqua"/>
                <a:ea typeface="HGｺﾞｼｯｸE"/>
              </a:rPr>
              <a:t>Cut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00720" y="1197000"/>
            <a:ext cx="2808000" cy="39888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MeiryoKe_PGothic"/>
              </a:rPr>
              <a:t>e.g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MeiryoKe_PGothic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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@ Au+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50920" y="4653000"/>
            <a:ext cx="4032000" cy="117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"/>
          <p:cNvGraphicFramePr/>
          <p:nvPr/>
        </p:nvGraphicFramePr>
        <p:xfrm>
          <a:off x="395280" y="1773360"/>
          <a:ext cx="2305080" cy="23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1773360"/>
                    <a:ext cx="23050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3108240" y="1771560"/>
            <a:ext cx="5374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66"/>
                </a:solidFill>
                <a:latin typeface="Book Antiqua"/>
                <a:ea typeface="ＭＳ 明朝"/>
              </a:rPr>
              <a:t>Kinematical Cuts for Re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03640" y="2276640"/>
            <a:ext cx="381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ransverse Momentum of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Ph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Width of      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6299280" y="2276640"/>
                <a:ext cx="43164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6515280" y="2637000"/>
            <a:ext cx="576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156360" y="2779200"/>
            <a:ext cx="9349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24320" y="2347920"/>
            <a:ext cx="146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Ri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inimum C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130560" y="2347920"/>
            <a:ext cx="144360" cy="934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59280" y="3429000"/>
            <a:ext cx="56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ＭＳ 明朝"/>
              </a:rPr>
              <a:t>Use Best Cuts that improve S/√B (significance) the m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427640" y="2924280"/>
                <a:ext cx="35856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1540440" y="4365720"/>
            <a:ext cx="310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MeiryoKe_PGothic"/>
              </a:rPr>
              <a:t>p[GeV/c</a:t>
            </a:r>
            <a:r>
              <a:rPr b="1" lang="ja-JP" sz="1400" spc="-1" strike="noStrike" baseline="30000">
                <a:solidFill>
                  <a:srgbClr val="000000"/>
                </a:solidFill>
                <a:latin typeface="Arial"/>
                <a:ea typeface="MeiryoKe_PGothic"/>
              </a:rPr>
              <a:t>2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MeiryoKe_PGothic"/>
              </a:rPr>
              <a:t>]      E[GeV]     MassWidth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eiryoKe_P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9ABB3-E232-41B5-B087-59F5F67449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Highligh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How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 we appro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-143640" y="620640"/>
            <a:ext cx="89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cc0000"/>
                </a:solidFill>
                <a:latin typeface="Book Antiqua"/>
                <a:ea typeface="HGｺﾞｼｯｸE"/>
              </a:rPr>
              <a:t>Subtracting Backgrounds </a:t>
            </a:r>
            <a:r>
              <a:rPr b="1" i="1" lang="ja-JP" sz="2000" spc="-1" strike="noStrike">
                <a:solidFill>
                  <a:srgbClr val="cc0000"/>
                </a:solidFill>
                <a:latin typeface="Book Antiqua"/>
                <a:ea typeface="HGｺﾞｼｯｸE"/>
              </a:rPr>
              <a:t>( 2 body:</a:t>
            </a:r>
            <a:r>
              <a:rPr b="1" i="1" lang="ja-JP" sz="3200" spc="-1" strike="noStrike">
                <a:solidFill>
                  <a:srgbClr val="cc0000"/>
                </a:solidFill>
                <a:latin typeface="Book Antiqua"/>
                <a:ea typeface="HGｺﾞｼｯｸE"/>
              </a:rPr>
              <a:t> </a:t>
            </a:r>
            <a:r>
              <a:rPr b="1" lang="ja-JP" sz="2000" spc="-1" strike="noStrike">
                <a:solidFill>
                  <a:srgbClr val="cc0000"/>
                </a:solidFill>
                <a:latin typeface="Symbol"/>
                <a:ea typeface="Symbol"/>
              </a:rPr>
              <a:t>φ</a:t>
            </a:r>
            <a:r>
              <a:rPr b="1" lang="ja-JP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cc0000"/>
                </a:solidFill>
                <a:latin typeface="Arial"/>
                <a:ea typeface="MeiryoKe_PGothic"/>
              </a:rPr>
              <a:t>e+e-</a:t>
            </a:r>
            <a:r>
              <a:rPr b="1" lang="ja-JP" sz="2000" spc="-1" strike="noStrike">
                <a:solidFill>
                  <a:srgbClr val="cc0000"/>
                </a:solidFill>
                <a:latin typeface="Symbol"/>
                <a:ea typeface="Symbol"/>
              </a:rPr>
              <a:t>φ</a:t>
            </a:r>
            <a:r>
              <a:rPr b="1" lang="ja-JP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cc0000"/>
                </a:solidFill>
                <a:latin typeface="Arial"/>
                <a:ea typeface="MeiryoKe_PGothic"/>
              </a:rPr>
              <a:t>K</a:t>
            </a:r>
            <a:r>
              <a:rPr b="1" lang="ja-JP" sz="1800" spc="-1" strike="noStrike" baseline="30000">
                <a:solidFill>
                  <a:srgbClr val="cc0000"/>
                </a:solidFill>
                <a:latin typeface="Arial"/>
                <a:ea typeface="MeiryoKe_PGothic"/>
              </a:rPr>
              <a:t>+</a:t>
            </a:r>
            <a:r>
              <a:rPr b="1" lang="ja-JP" sz="1800" spc="-1" strike="noStrike">
                <a:solidFill>
                  <a:srgbClr val="cc0000"/>
                </a:solidFill>
                <a:latin typeface="Arial"/>
                <a:ea typeface="MeiryoKe_PGothic"/>
              </a:rPr>
              <a:t>K</a:t>
            </a:r>
            <a:r>
              <a:rPr b="1" lang="ja-JP" sz="1800" spc="-1" strike="noStrike" baseline="30000">
                <a:solidFill>
                  <a:srgbClr val="cc0000"/>
                </a:solidFill>
                <a:latin typeface="Arial"/>
                <a:ea typeface="MeiryoKe_PGothic"/>
              </a:rPr>
              <a:t>-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  <a:ea typeface="MeiryoKe_PGothic"/>
              </a:rPr>
              <a:t> </a:t>
            </a:r>
            <a:r>
              <a:rPr b="1" i="1" lang="ja-JP" sz="1800" spc="-1" strike="noStrike">
                <a:solidFill>
                  <a:srgbClr val="cc0000"/>
                </a:solidFill>
                <a:latin typeface="Arial"/>
                <a:ea typeface="MeiryoKe_PGothic"/>
              </a:rPr>
              <a:t>)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  <a:ea typeface="MeiryoKe_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1268280"/>
            <a:ext cx="144360" cy="7207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2060640"/>
            <a:ext cx="144360" cy="647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4104000" cy="27432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076720" y="1339920"/>
            <a:ext cx="3924360" cy="28796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95280" y="2781360"/>
            <a:ext cx="144360" cy="647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2421000"/>
            <a:ext cx="144360" cy="7207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1557360"/>
            <a:ext cx="144360" cy="720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68360" y="1700280"/>
            <a:ext cx="2506320" cy="1369440"/>
            <a:chOff x="468360" y="1700280"/>
            <a:chExt cx="2506320" cy="1369440"/>
          </a:xfrm>
        </p:grpSpPr>
        <p:sp>
          <p:nvSpPr>
            <p:cNvPr id="293" name=""/>
            <p:cNvSpPr/>
            <p:nvPr/>
          </p:nvSpPr>
          <p:spPr>
            <a:xfrm>
              <a:off x="2464560" y="1700280"/>
              <a:ext cx="51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68360" y="1773360"/>
              <a:ext cx="1871280" cy="1296360"/>
              <a:chOff x="468360" y="1773360"/>
              <a:chExt cx="1871280" cy="1296360"/>
            </a:xfrm>
          </p:grpSpPr>
          <p:sp>
            <p:nvSpPr>
              <p:cNvPr id="295" name=""/>
              <p:cNvSpPr/>
              <p:nvPr/>
            </p:nvSpPr>
            <p:spPr>
              <a:xfrm flipH="1" flipV="1">
                <a:off x="684000" y="1773360"/>
                <a:ext cx="165528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468360" y="1917360"/>
                <a:ext cx="187128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394920" y="1413000"/>
            <a:ext cx="2613240" cy="1726560"/>
            <a:chOff x="394920" y="1413000"/>
            <a:chExt cx="2613240" cy="1726560"/>
          </a:xfrm>
        </p:grpSpPr>
        <p:sp>
          <p:nvSpPr>
            <p:cNvPr id="298" name=""/>
            <p:cNvSpPr/>
            <p:nvPr/>
          </p:nvSpPr>
          <p:spPr>
            <a:xfrm flipH="1">
              <a:off x="394920" y="162864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394920" y="1699920"/>
              <a:ext cx="2087640" cy="143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84360" y="141300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eiryoKe_PGothic"/>
                </a:rPr>
                <a:t>B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94920" y="2421000"/>
            <a:ext cx="2614680" cy="431280"/>
            <a:chOff x="394920" y="2421000"/>
            <a:chExt cx="2614680" cy="431280"/>
          </a:xfrm>
        </p:grpSpPr>
        <p:grpSp>
          <p:nvGrpSpPr>
            <p:cNvPr id="302" name=""/>
            <p:cNvGrpSpPr/>
            <p:nvPr/>
          </p:nvGrpSpPr>
          <p:grpSpPr>
            <a:xfrm>
              <a:off x="394920" y="2421000"/>
              <a:ext cx="2089440" cy="431280"/>
              <a:chOff x="394920" y="2421000"/>
              <a:chExt cx="2089440" cy="431280"/>
            </a:xfrm>
          </p:grpSpPr>
          <p:sp>
            <p:nvSpPr>
              <p:cNvPr id="303" name=""/>
              <p:cNvSpPr/>
              <p:nvPr/>
            </p:nvSpPr>
            <p:spPr>
              <a:xfrm flipH="1" flipV="1">
                <a:off x="394920" y="2421000"/>
                <a:ext cx="208908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684360" y="2563560"/>
                <a:ext cx="180000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2485800" y="242100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eiryoKe_PGothic"/>
                </a:rPr>
                <a:t>B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988000" y="1268280"/>
            <a:ext cx="16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MeiryoKe_PGothic"/>
              </a:rPr>
              <a:t>conbinato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MeiryoKe_PGothic"/>
              </a:rPr>
              <a:t>backgr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32000" y="2133720"/>
            <a:ext cx="1800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Event Mix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942160" y="126828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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MeiryoKe_PGothic"/>
              </a:rPr>
              <a:t>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MeiryoKe_PGothic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215040" y="15908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999040" y="14176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995280" y="1916280"/>
            <a:ext cx="2016360" cy="165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84360" y="1844640"/>
            <a:ext cx="2252160" cy="934560"/>
            <a:chOff x="684360" y="1844640"/>
            <a:chExt cx="2252160" cy="934560"/>
          </a:xfrm>
        </p:grpSpPr>
        <p:sp>
          <p:nvSpPr>
            <p:cNvPr id="313" name=""/>
            <p:cNvSpPr/>
            <p:nvPr/>
          </p:nvSpPr>
          <p:spPr>
            <a:xfrm>
              <a:off x="684360" y="1917720"/>
              <a:ext cx="1655640" cy="71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684360" y="2060280"/>
              <a:ext cx="1655640" cy="71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12720" y="18446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eiryoKe_PGothic"/>
                </a:rPr>
                <a:t>B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68360" y="1844640"/>
            <a:ext cx="2885040" cy="1297080"/>
            <a:chOff x="468360" y="1844640"/>
            <a:chExt cx="2885040" cy="1297080"/>
          </a:xfrm>
        </p:grpSpPr>
        <p:sp>
          <p:nvSpPr>
            <p:cNvPr id="317" name=""/>
            <p:cNvSpPr/>
            <p:nvPr/>
          </p:nvSpPr>
          <p:spPr>
            <a:xfrm>
              <a:off x="684360" y="1844640"/>
              <a:ext cx="1800000" cy="21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468360" y="2133720"/>
              <a:ext cx="201600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85440" y="191628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eiryoKe_PGothic"/>
                </a:rPr>
                <a:t>Sig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04C3C-E7FC-47FB-AB20-A34FA111B6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4:27:47Z</dcterms:created>
  <dc:creator>Yuji Tsuchimoto</dc:creator>
  <dc:description/>
  <dc:language>en-US</dc:language>
  <cp:lastModifiedBy>Misaki Ouchida</cp:lastModifiedBy>
  <dcterms:modified xsi:type="dcterms:W3CDTF">2008-10-14T07:15:27Z</dcterms:modified>
  <cp:revision>357</cp:revision>
  <dc:subject>論文輪講</dc:subject>
  <dc:title>高エネルギー核子衝突に於けるρ中間子スペクトル</dc:title>
</cp:coreProperties>
</file>