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8.jpeg" ContentType="image/jpeg"/>
  <Override PartName="/ppt/media/image23.wmf" ContentType="image/x-wmf"/>
  <Override PartName="/ppt/media/image2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24.wmf" ContentType="image/x-wmf"/>
  <Override PartName="/ppt/media/image1.wmf" ContentType="image/x-wmf"/>
  <Override PartName="/ppt/media/image9.jpeg" ContentType="image/jpeg"/>
  <Override PartName="/ppt/media/image25.wmf" ContentType="image/x-wmf"/>
  <Override PartName="/ppt/media/image13.wmf" ContentType="image/x-wmf"/>
  <Override PartName="/ppt/media/image39.jpeg" ContentType="image/jpeg"/>
  <Override PartName="/ppt/media/image8.jpeg" ContentType="image/jpeg"/>
  <Override PartName="/ppt/media/image33.jpeg" ContentType="image/jpeg"/>
  <Override PartName="/ppt/media/image10.wmf" ContentType="image/x-wmf"/>
  <Override PartName="/ppt/media/image31.jpeg" ContentType="image/jpeg"/>
  <Override PartName="/ppt/media/image34.wmf" ContentType="image/x-wmf"/>
  <Override PartName="/ppt/media/image35.wmf" ContentType="image/x-wmf"/>
  <Override PartName="/ppt/media/image3.jpeg" ContentType="image/jpeg"/>
  <Override PartName="/ppt/media/image40.wmf" ContentType="image/x-wmf"/>
  <Override PartName="/ppt/media/image4.jpeg" ContentType="image/jpeg"/>
  <Override PartName="/ppt/media/image38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12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5DC153-4682-4CB7-BB95-06C2AD12B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1AC25A-44FA-4297-AFB7-ECF8B041776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B16246-22BF-4F26-B035-887B540E084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6B749E-1A33-43F0-8213-E8B7069B6A2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7DA189-51DA-4E9A-8544-CA5D5157890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E6283E-5039-4264-83A4-350407EFC89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EB471D-67EC-4387-ACA5-482AE9437F7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DDC-4429-4F4F-919A-6B0A6FD9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39D-1769-421A-B366-DB5E68F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3B408-AC98-415A-AE0F-7BD818C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93931-9286-4C91-A5EB-91020313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917CDE-36F6-43B6-A0C0-B8CD051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DB7B5-A0AF-42C4-BE37-5D0466D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5E55F-4F0D-404E-A210-8F9F638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988A7-A2A6-43D3-AF78-70A280B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DBF632-08DA-487F-AC16-91084BE5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76863-FA2D-46E6-8F52-7C2F7A0D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7DAF0-3A67-478B-A5A6-DCF88469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2B73E-68A3-4F77-A80F-326203A9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AFE-3858-4B03-BC26-CFE22200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215DB2-2905-4A81-9886-68F59075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E3A0B-48C2-482B-A9A3-51B6E17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446AA-4F2A-4F94-ABBD-84572162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61FF91-A4EA-42CC-85C7-4C7339D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071259-BE70-4562-AAE1-47BFA313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68A2F-2D49-4ECB-BD95-EE67224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E0DC1-565D-4E22-B8A0-46DF162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EC1B9-5D89-4722-A3B2-69E25F5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9695E-C346-4627-86D9-E020DB4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5D948A-1393-4AE5-AEC3-B7F0DF84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FA1-EEE5-4167-85C4-52830A4A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D15F4-7CAA-4E98-8093-93613BB8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461F1-61EA-47A9-8D62-22048D57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7D5D0-88AE-4291-9174-A54E9C1A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A30834-40E2-45FC-9D86-72BB14F2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BFF369-A030-416F-833F-3C07665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5FDC4-7F15-4244-AB40-7506B27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F533DF-9542-4FEE-A9CB-226170D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0B636-5749-44B0-B948-404359A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217CFB-2A87-4800-B063-06B852F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39A043-3E13-4975-9FAD-F8DA34E0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F958-3D57-428F-ACF1-ADC312B44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BB65C6-B79A-4EE9-AE9F-EB52501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617043-37AA-48AD-B1AF-85E85C5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E8035F-D567-4018-B193-7A702A1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C068BE-2FBB-4936-9B53-302A4221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E2034F-16A9-48D7-935C-97A98E6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F407DA-D1FC-424C-A9BB-E02A4CE0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B4DACA-F660-4771-B9F6-EE9B7A57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098A27-C49C-4E60-A28A-39817C3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A9D28-C809-4D0D-B700-120F774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DD33B9-FE95-4C34-B9E1-83E63A3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5CEF-B1F0-45B5-B717-5AEC05AE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C7542F-F85C-406D-BF3F-6B87032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951771-97F3-4E9D-B699-D553A0E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2EDC83-619D-4CCC-9C98-DA220E5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C6E0FE-176E-4D35-9373-809933CB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0EA0F-B62A-4ECA-AFD7-0BA080C2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925F3-95C7-4356-90F0-0B0DF6F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528AF-EB43-4CE6-9EE6-AC1343C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25C24-51E4-4B35-ADA6-0A6A0D90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B9AC9-9A05-45FF-95A0-B828CB50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14C76-2F29-4105-8CA2-674DCBE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A45-865F-436D-A400-33CBB63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7416C-75FF-4ECC-B74C-B1E26881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1EC04-F827-4767-8AE9-117D31BD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97D86-8AD5-49F7-AF39-6D3F51F6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71895-6BCC-48F0-A786-EB7C82F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D81A1-741F-41CA-8FE7-732B5B8EF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94272-9870-4441-8DDC-4C28FF1F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FFAD7-F65C-4608-8997-8E06BFC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56AF0-65AA-486D-A870-BF388DF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365B5-C4AD-4975-9E1C-6EC8B9CB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66746-5DCC-4AFF-83A4-BFD2D3D5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F1A-2567-47D4-B664-1B764B25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11DEE-FC25-43CD-B9CA-8170B21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BA9E8-5017-4DEE-BB7A-444A64C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1C63D-63AD-487D-8508-F4803E4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B2071-DF0A-42D1-AD2E-47ED541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75D44-DEF6-4B16-984D-615A6D6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B8BC2-8EF9-4C0A-87DE-6F662B44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36C03-37FC-4626-9101-F091AFB5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A4C65-CE47-48EE-AADA-920C10AB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1889D-B866-4251-B4D9-BD9164B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32D96-5E3B-4D28-95D1-38BCBAB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345-BC56-43D5-BDFD-96FBCF4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29E87-4C08-4166-B8BD-0E4E6015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3F0C2-E2E8-46B9-9201-C833A7F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51DC0-9A0C-4F5B-8E77-AC267B8E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B1092-2115-4BCE-9B52-6FF9154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7E2AE-66B6-4DC4-9C5D-018C010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47553-5BA2-4507-B627-E15D8B7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5014D-07DE-4607-85E1-B936E77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7D95D-D498-47A3-B5D7-2D65A019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E3BAC-6F74-4EED-A960-D92F8D4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5B483-0867-4645-B659-85C00496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24-2ADA-42ED-8951-A68C1F6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78508-C2E9-463F-B398-C3158CC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867FC-7A71-4B93-89E8-C6908F9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E9AD6-2F75-4421-ABF2-BA79D4C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2EC2E-888D-451C-B631-0F233CAA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EFCEA-6909-481D-9C72-3D9BA1B1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2AFEA-7157-4C26-856C-BF32CEA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CC7EB-15C4-4851-AB47-C7D2CF4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D27E3-4AD3-4FA9-BCC3-D64E9CE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7EA3E-252D-49E8-8B76-2D51E66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4F6D4-3CA0-41CB-A026-FDADEB73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B29-1E9D-439E-8A8E-809E044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23467-38FA-48E0-AE03-2960BB62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49B80-CFD2-4D21-8867-3A76010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20111-7DAF-4363-9B49-C17E4E6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4827E-DB8D-40FE-A9A3-185BE76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DFC31-4A4E-485D-8B60-0E682A75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AFBA1-FACB-4C85-80B2-16F23F7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1A331-93E6-4837-9E4E-35A62D82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6B97E-C6E3-4967-AF9E-1D04532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5C819-E324-4969-B761-29F0384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6C57E-6609-4735-BD29-02F6F0B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35F-B69C-4705-87B1-A01AD75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F8DDB-99EC-4299-8111-02A12F8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5D886-0101-479A-83C8-CBD62B97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263F0-73C5-45BA-BB3F-0939BECF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EF482-1B50-4DFA-A8F8-44AE867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D3D51-BE48-4E20-8E04-84C32A4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6130E-6322-433A-B2F6-66D18B5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6EEFA-A26E-4132-93B9-5E0D316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1237A-7D06-4C56-8879-81FE117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65D29-C11C-4B71-8A08-9BF86EA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61126-2F59-4FF5-9134-6838834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AF1-9362-4D07-99AC-E6269B3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ED556-7342-42FE-83F4-6B22103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B9DF0-7E91-4656-922A-C66A6AE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882C8-8D13-4303-AB95-8558A343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F623E-42C8-4998-9B66-C37F120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3F722-7D02-4859-82AF-632B4939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439B9-FC25-4E07-B504-F72D683E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AFEAC-1CE9-479B-9E2C-AC8C463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F6150-25BF-402F-951C-E9245E4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7796A-C54D-401F-9DCA-A2D0861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57DCE-4ABD-48FB-AB5B-9113CEE8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D2B-30D9-4365-85A5-EC7DAD8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6E563-61BA-4402-8BAF-FFE43A1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91DBB-7ED5-4370-BFD3-640C14E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6D014-19D2-4B3D-902B-EE5F3B36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BD71C-A90F-43A2-8517-4D3D77E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92F3C-3F02-44C5-91C3-81625765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4ADE2A-8C96-4F0F-B3C8-59541DC6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D1576-64AB-4663-893D-5F93A1ED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B97BA-20E3-496C-8F0D-5E5A772D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94A3A-8C32-473D-AC87-1E153CF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FA96F-386B-4292-ADD4-D85BED6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Recombination @ A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EF11-866C-4CAC-951A-FB6D193F0F32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514153E1-0215-47AD-9584-2AA2E2DC73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676-8343-410D-9B4B-7C3A666F7BEF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610F58F0-2A58-415F-9453-DBA4B90B209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8C8-B07F-4938-BC85-88D0CE3CBAD8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BA2FC16A-C89C-4338-97F0-D95DB85F38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ATHIC #</a:t>
            </a:r>
            <a:fld id="{E49A32B6-BC48-4761-A9B1-A7F37D4221E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356-58C6-4753-B504-C8B3A1FAB8DF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9C374B9D-5FAC-4520-B16D-B0987BAC23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5ABD-5921-41CD-9E00-8019D1124E0B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DA1B82CB-112B-4578-B5AD-A388CB9387F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78BC-BD8E-4971-9320-84065C16375A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561FE2CC-09BA-4066-A0B2-042C2A039F4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2FCC-140D-4096-8109-11105E2476DF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4B9E726F-EEB2-4B08-8812-7986680E00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671-8B91-4476-B18A-D38987550B1F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5FC462A6-21AF-41A4-BCB3-EB92469448A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B2B-FDD9-4CB7-A7C0-F75693A2DF72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9BF08193-6B53-48A3-9183-8DA04F20CFD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EFB-6BB9-454C-A60E-A59374270645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ksl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Hadronization @ RHIC  #</a:t>
            </a:r>
            <a:fld id="{660DF2BE-CC41-4553-9DE6-5C9B7A8C0CF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6"/>
          <p:cNvSpPr/>
          <p:nvPr/>
        </p:nvSpPr>
        <p:spPr>
          <a:xfrm>
            <a:off x="3245040" y="167652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ahoma"/>
                <a:ea typeface="굴림"/>
              </a:rPr>
              <a:t>Kang Seog Lee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1986480" y="221472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ahoma"/>
                <a:ea typeface="굴림"/>
              </a:rPr>
              <a:t>Chonnam National University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678168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Hadronization of a QGP  via recombination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Text Box 1028"/>
          <p:cNvSpPr/>
          <p:nvPr/>
        </p:nvSpPr>
        <p:spPr>
          <a:xfrm>
            <a:off x="1714680" y="2857680"/>
            <a:ext cx="71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Introduction – recombination model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Dynamic recomination calculation :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Hydrodynamic evolution of QGP +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+ Hadronization via recombination in mixed phase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+ Hadronic rescattering by URQMD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Results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Summary and Outlook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502" name="Text Box 1031"/>
          <p:cNvSpPr/>
          <p:nvPr/>
        </p:nvSpPr>
        <p:spPr>
          <a:xfrm>
            <a:off x="6357960" y="5214960"/>
            <a:ext cx="1843200" cy="1503720"/>
          </a:xfrm>
          <a:prstGeom prst="rect">
            <a:avLst/>
          </a:prstGeom>
          <a:solidFill>
            <a:srgbClr val="800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laborators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. Bass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B. Müller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. Nonaka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14392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 of thermal quarks II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7" name="직사각형 12"/>
          <p:cNvSpPr/>
          <p:nvPr/>
        </p:nvSpPr>
        <p:spPr>
          <a:xfrm>
            <a:off x="285840" y="242892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For a cell at hadronization,           is the energy available for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hadronization where                   is the volume fraction of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QGP phase. 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548" name="직사각형 7"/>
          <p:cNvSpPr/>
          <p:nvPr/>
        </p:nvSpPr>
        <p:spPr>
          <a:xfrm>
            <a:off x="357120" y="1285920"/>
            <a:ext cx="7429680" cy="901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hadronization hypersurface : mixed phase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Energy conservation during the recombination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49" name="Object 6"/>
          <p:cNvGraphicFramePr/>
          <p:nvPr/>
        </p:nvGraphicFramePr>
        <p:xfrm>
          <a:off x="4286160" y="2428920"/>
          <a:ext cx="83664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6160" y="2428920"/>
                    <a:ext cx="8366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7"/>
          <p:cNvGraphicFramePr/>
          <p:nvPr/>
        </p:nvGraphicFramePr>
        <p:xfrm>
          <a:off x="3571920" y="2928960"/>
          <a:ext cx="144468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2928960"/>
                    <a:ext cx="1444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직사각형 10"/>
          <p:cNvSpPr/>
          <p:nvPr/>
        </p:nvSpPr>
        <p:spPr>
          <a:xfrm>
            <a:off x="357120" y="4357800"/>
            <a:ext cx="86439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In a hydrodynamic cell, i, hadronization rate in      direction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is proportional to      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54" name="Object 8"/>
          <p:cNvGraphicFramePr/>
          <p:nvPr/>
        </p:nvGraphicFramePr>
        <p:xfrm>
          <a:off x="841320" y="5533920"/>
          <a:ext cx="6756480" cy="91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1320" y="5533920"/>
                    <a:ext cx="675648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9"/>
          <p:cNvGraphicFramePr/>
          <p:nvPr/>
        </p:nvGraphicFramePr>
        <p:xfrm>
          <a:off x="3143160" y="4857840"/>
          <a:ext cx="237168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4857840"/>
                    <a:ext cx="2371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0"/>
          <p:cNvGraphicFramePr/>
          <p:nvPr/>
        </p:nvGraphicFramePr>
        <p:xfrm>
          <a:off x="7072200" y="4500720"/>
          <a:ext cx="312840" cy="33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72200" y="4500720"/>
                    <a:ext cx="312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1"/>
          <p:cNvGraphicFramePr/>
          <p:nvPr/>
        </p:nvGraphicFramePr>
        <p:xfrm>
          <a:off x="2746440" y="3500280"/>
          <a:ext cx="3808440" cy="90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6440" y="3500280"/>
                    <a:ext cx="3808440" cy="9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1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 of thermal quarks III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357120" y="5214960"/>
            <a:ext cx="8143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Inside a group, relative abundances are assumed to be  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64" name="Object 18"/>
          <p:cNvGraphicFramePr/>
          <p:nvPr/>
        </p:nvGraphicFramePr>
        <p:xfrm>
          <a:off x="785880" y="5715000"/>
          <a:ext cx="33145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5000"/>
                    <a:ext cx="33145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19"/>
          <p:cNvSpPr/>
          <p:nvPr/>
        </p:nvSpPr>
        <p:spPr>
          <a:xfrm>
            <a:off x="4473720" y="5786280"/>
            <a:ext cx="302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(C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i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: degeneracy factors)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67" name="Object 9"/>
          <p:cNvGraphicFramePr/>
          <p:nvPr/>
        </p:nvGraphicFramePr>
        <p:xfrm>
          <a:off x="500040" y="3286080"/>
          <a:ext cx="6500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286080"/>
                    <a:ext cx="6500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직사각형 9"/>
          <p:cNvSpPr/>
          <p:nvPr/>
        </p:nvSpPr>
        <p:spPr>
          <a:xfrm>
            <a:off x="357120" y="257184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Since                , there are 4 cases for mesons and 8 cases for baryons.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70" name="Object 10"/>
          <p:cNvGraphicFramePr/>
          <p:nvPr/>
        </p:nvGraphicFramePr>
        <p:xfrm>
          <a:off x="1428840" y="2500200"/>
          <a:ext cx="1143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2500200"/>
                    <a:ext cx="1143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5"/>
          <p:cNvGraphicFramePr/>
          <p:nvPr/>
        </p:nvGraphicFramePr>
        <p:xfrm>
          <a:off x="500040" y="3857760"/>
          <a:ext cx="707220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3857760"/>
                    <a:ext cx="7072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직사각형 13"/>
          <p:cNvSpPr/>
          <p:nvPr/>
        </p:nvSpPr>
        <p:spPr>
          <a:xfrm>
            <a:off x="428760" y="1428840"/>
            <a:ext cx="7858080" cy="901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depends  only on the quark masses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and is independent of hadron mass.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75" name="Object 12"/>
          <p:cNvGraphicFramePr/>
          <p:nvPr/>
        </p:nvGraphicFramePr>
        <p:xfrm>
          <a:off x="857160" y="1428840"/>
          <a:ext cx="15922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1428840"/>
                    <a:ext cx="1592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7"/>
          <p:cNvGraphicFramePr/>
          <p:nvPr/>
        </p:nvGraphicFramePr>
        <p:xfrm>
          <a:off x="428760" y="4429080"/>
          <a:ext cx="761508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4429080"/>
                    <a:ext cx="76150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Box 12"/>
          <p:cNvSpPr/>
          <p:nvPr/>
        </p:nvSpPr>
        <p:spPr>
          <a:xfrm>
            <a:off x="4500720" y="60721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  <a:ea typeface="굴림"/>
              </a:rPr>
              <a:t>e.g.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80" name="Object 13"/>
          <p:cNvGraphicFramePr/>
          <p:nvPr/>
        </p:nvGraphicFramePr>
        <p:xfrm>
          <a:off x="5286240" y="6215040"/>
          <a:ext cx="230832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86240" y="6215040"/>
                    <a:ext cx="2308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14392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 of thermal quarks IV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3" name="직사각형 7"/>
          <p:cNvSpPr/>
          <p:nvPr/>
        </p:nvSpPr>
        <p:spPr>
          <a:xfrm>
            <a:off x="357120" y="1571760"/>
            <a:ext cx="85726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  <a:ea typeface="굴림"/>
              </a:rPr>
              <a:t>After hadronization, hadronic rescattering is 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  <a:ea typeface="굴림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  <a:ea typeface="굴림"/>
              </a:rPr>
              <a:t>simulated by URQMD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!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759320" y="1828800"/>
            <a:ext cx="589860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굴림"/>
              </a:rPr>
              <a:t>Results &amp; Comparison to Data</a:t>
            </a:r>
            <a:endParaRPr b="0" lang="en-US" sz="32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hadron spectra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hadron ratios  – coming soon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R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ahoma"/>
                <a:ea typeface="굴림"/>
              </a:rPr>
              <a:t>AA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– coming soon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굴림"/>
              </a:rPr>
              <a:t>elliptic flow    – coming soon</a:t>
            </a:r>
            <a:endParaRPr b="0" lang="en-US" sz="28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그림 6" descr="dndy_pion.jpg"/>
          <p:cNvPicPr/>
          <p:nvPr/>
        </p:nvPicPr>
        <p:blipFill>
          <a:blip r:embed="rId1"/>
          <a:stretch/>
        </p:blipFill>
        <p:spPr>
          <a:xfrm>
            <a:off x="1071720" y="1000080"/>
            <a:ext cx="7022880" cy="52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10"/>
          <p:cNvGraphicFramePr/>
          <p:nvPr/>
        </p:nvGraphicFramePr>
        <p:xfrm>
          <a:off x="6751800" y="1962000"/>
          <a:ext cx="463320" cy="4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51800" y="1962000"/>
                    <a:ext cx="4633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그림 3" descr="dndy_kaon.jpg"/>
          <p:cNvPicPr/>
          <p:nvPr/>
        </p:nvPicPr>
        <p:blipFill>
          <a:blip r:embed="rId1"/>
          <a:stretch/>
        </p:blipFill>
        <p:spPr>
          <a:xfrm>
            <a:off x="1011240" y="841320"/>
            <a:ext cx="7121520" cy="517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9" name="Object 10"/>
          <p:cNvGraphicFramePr/>
          <p:nvPr/>
        </p:nvGraphicFramePr>
        <p:xfrm>
          <a:off x="6888240" y="1671480"/>
          <a:ext cx="54756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88240" y="1671480"/>
                    <a:ext cx="547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그림 3" descr="pt_pion.jpg"/>
          <p:cNvPicPr/>
          <p:nvPr/>
        </p:nvPicPr>
        <p:blipFill>
          <a:blip r:embed="rId1"/>
          <a:stretch/>
        </p:blipFill>
        <p:spPr>
          <a:xfrm>
            <a:off x="1042920" y="858960"/>
            <a:ext cx="7058160" cy="5140080"/>
          </a:xfrm>
          <a:prstGeom prst="rect">
            <a:avLst/>
          </a:prstGeom>
          <a:ln w="0">
            <a:noFill/>
          </a:ln>
        </p:spPr>
      </p:pic>
      <p:pic>
        <p:nvPicPr>
          <p:cNvPr id="592" name="그림 3" descr="pt_pion.jpg"/>
          <p:cNvPicPr/>
          <p:nvPr/>
        </p:nvPicPr>
        <p:blipFill>
          <a:blip r:embed="rId2"/>
          <a:stretch/>
        </p:blipFill>
        <p:spPr>
          <a:xfrm>
            <a:off x="1071720" y="857160"/>
            <a:ext cx="7057800" cy="51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0"/>
          <p:cNvGraphicFramePr/>
          <p:nvPr/>
        </p:nvGraphicFramePr>
        <p:xfrm>
          <a:off x="6751800" y="1962000"/>
          <a:ext cx="463320" cy="4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51800" y="1962000"/>
                    <a:ext cx="4633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그림 3" descr="pt_pro.jpg"/>
          <p:cNvPicPr/>
          <p:nvPr/>
        </p:nvPicPr>
        <p:blipFill>
          <a:blip r:embed="rId1"/>
          <a:stretch/>
        </p:blipFill>
        <p:spPr>
          <a:xfrm>
            <a:off x="1047600" y="828720"/>
            <a:ext cx="7048800" cy="52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10"/>
          <p:cNvGraphicFramePr/>
          <p:nvPr/>
        </p:nvGraphicFramePr>
        <p:xfrm>
          <a:off x="6730920" y="1920960"/>
          <a:ext cx="505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0920" y="1920960"/>
                    <a:ext cx="505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그림 3" descr="pt_kaon.jpg"/>
          <p:cNvPicPr/>
          <p:nvPr/>
        </p:nvPicPr>
        <p:blipFill>
          <a:blip r:embed="rId1"/>
          <a:stretch/>
        </p:blipFill>
        <p:spPr>
          <a:xfrm>
            <a:off x="1006560" y="795240"/>
            <a:ext cx="7130880" cy="526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9" name="Object 10"/>
          <p:cNvGraphicFramePr/>
          <p:nvPr/>
        </p:nvGraphicFramePr>
        <p:xfrm>
          <a:off x="6710400" y="1920960"/>
          <a:ext cx="54756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0400" y="1920960"/>
                    <a:ext cx="5475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5720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Summary &amp; Outlook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066680" y="1371600"/>
            <a:ext cx="682632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굴림"/>
              </a:rPr>
              <a:t>Hadronization of a QGP via Recombination: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Hydrodynamic evolution of a QGP until mixed phase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- reasonable for a perfect fluid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hadronization via quark recombination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- quark number scaling of elliptic flow, …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hadronic rescattering by URQMD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- different chemical and thermal freeze-out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No problem of freeze-out prescription !!!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issues to be addressed in the future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results are coming soon.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comparison with statistical hadronizatio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combine with viscous hydrodynamics or parton cascade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 : long history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928800" y="939960"/>
            <a:ext cx="73720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ahoma"/>
                <a:ea typeface="굴림"/>
              </a:rPr>
              <a:t>High Energy Physics Phenomenology: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K.P. Das &amp; R.C. Hwa, Phys. Lett. B68, 459 (1977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Quark-Antiquark Recombination in the Fragmentation Region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굴림"/>
              </a:rPr>
              <a:t>description of leading particle effect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T. Ochiai, Prog. Theo. Phys. 75, 1184 (1986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E. Braaten, Y. Jia &amp; T. Mehen, Phys. Rev. Lett. 89, 122002 (2002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R. Rapp &amp; E.V. Shuryak, Phys. Rev. D67, 074036 (2003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Heavy-Ion Phenomenology: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T. S. Biro, P. Levai &amp; J. Zimanyi, Phys. Lett. B347, 6 (1995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ALCOR: a dynamical model for hadronization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굴림"/>
              </a:rPr>
              <a:t>yields and ratios via counting of constituent quarks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R.C. Hwa &amp; C.B. Yang, Phys. Rev. C66, 025205 (2002) 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R. Fries, B. Mueller, C. Nonaka &amp; S.A. Bass, Phys. Rev. Lett. 90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R. Fries, B. Mueller, C. Nonaka &amp; S.A. Bass, Phys. Rev. C68, 044902 (2003)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V. Greco, C.M. Ko and P. Levai, Phys. Rev. Lett. 90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ahoma"/>
                <a:ea typeface="굴림"/>
              </a:rPr>
              <a:t>Anisotropic flow: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굴림"/>
              </a:rPr>
              <a:t>S. Voloshin, QM2002, nucl-ex/020014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Z.W. Lin &amp; C.M. Ko, Phys. Rev. Lett 89, 202302 (2002) :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굴림"/>
              </a:rPr>
              <a:t>AMPT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Tahoma"/>
                <a:ea typeface="굴림"/>
              </a:rPr>
              <a:t>D. Molnar &amp; S. Voloshin, nucl-th/0302014</a:t>
            </a:r>
            <a:endParaRPr b="0" lang="en-US" sz="16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6286680" y="6396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맑은 고딕"/>
              </a:rPr>
              <a:t>Jin-Hui Chen’s talk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Statistical Model vs. Recombina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04" name="Object 3"/>
          <p:cNvGraphicFramePr/>
          <p:nvPr/>
        </p:nvGraphicFramePr>
        <p:xfrm>
          <a:off x="609480" y="1523880"/>
          <a:ext cx="693432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693432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5"/>
          <p:cNvSpPr/>
          <p:nvPr/>
        </p:nvSpPr>
        <p:spPr>
          <a:xfrm>
            <a:off x="-71640" y="1143000"/>
            <a:ext cx="88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in the Statistical Model, the hadron distribution at freeze-out is given by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538560" y="4884840"/>
            <a:ext cx="74300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If                                           ,  recombination is identical to SM!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608" name="Object 4"/>
          <p:cNvGraphicFramePr/>
          <p:nvPr/>
        </p:nvGraphicFramePr>
        <p:xfrm>
          <a:off x="357120" y="3357720"/>
          <a:ext cx="8358120" cy="13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3357720"/>
                    <a:ext cx="83581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2"/>
          <p:cNvGraphicFramePr/>
          <p:nvPr/>
        </p:nvGraphicFramePr>
        <p:xfrm>
          <a:off x="785880" y="4929120"/>
          <a:ext cx="325116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929120"/>
                    <a:ext cx="32511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Parton Number Scaling of Elliptic Flow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304920" y="1371600"/>
            <a:ext cx="8245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1f49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in the recombination regime,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meson</a:t>
            </a: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baryon</a:t>
            </a: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 v</a:t>
            </a:r>
            <a:r>
              <a:rPr b="0" lang="en-US" sz="2000" spc="-1" strike="noStrike" baseline="-25000">
                <a:solidFill>
                  <a:srgbClr val="1f497d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 can be obtained from the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parton</a:t>
            </a: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 v</a:t>
            </a:r>
            <a:r>
              <a:rPr b="0" lang="en-US" sz="2000" spc="-1" strike="noStrike" baseline="-25000">
                <a:solidFill>
                  <a:srgbClr val="1f497d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1f497d"/>
                </a:solidFill>
                <a:latin typeface="Tahoma"/>
                <a:ea typeface="굴림"/>
              </a:rPr>
              <a:t> in the following way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614" name="Object 4"/>
          <p:cNvGraphicFramePr/>
          <p:nvPr/>
        </p:nvGraphicFramePr>
        <p:xfrm>
          <a:off x="457200" y="1981080"/>
          <a:ext cx="830592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30592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5"/>
          <p:cNvSpPr/>
          <p:nvPr/>
        </p:nvSpPr>
        <p:spPr>
          <a:xfrm>
            <a:off x="69120" y="4191120"/>
            <a:ext cx="85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neglecting quadratic and cubic terms, one finds a simple scaling law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617" name="Object 6"/>
          <p:cNvGraphicFramePr/>
          <p:nvPr/>
        </p:nvGraphicFramePr>
        <p:xfrm>
          <a:off x="685800" y="4800600"/>
          <a:ext cx="701028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800600"/>
                    <a:ext cx="7010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그림 3" descr="dndy_pro.jpg"/>
          <p:cNvPicPr/>
          <p:nvPr/>
        </p:nvPicPr>
        <p:blipFill>
          <a:blip r:embed="rId1"/>
          <a:stretch/>
        </p:blipFill>
        <p:spPr>
          <a:xfrm>
            <a:off x="1057320" y="838080"/>
            <a:ext cx="7029360" cy="5181840"/>
          </a:xfrm>
          <a:prstGeom prst="rect">
            <a:avLst/>
          </a:prstGeom>
          <a:ln w="0">
            <a:noFill/>
          </a:ln>
        </p:spPr>
      </p:pic>
      <p:pic>
        <p:nvPicPr>
          <p:cNvPr id="620" name="그림 3" descr="dndy_pro.jpg"/>
          <p:cNvPicPr/>
          <p:nvPr/>
        </p:nvPicPr>
        <p:blipFill>
          <a:blip r:embed="rId2"/>
          <a:stretch/>
        </p:blipFill>
        <p:spPr>
          <a:xfrm>
            <a:off x="1071720" y="857160"/>
            <a:ext cx="7029360" cy="518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10"/>
          <p:cNvGraphicFramePr/>
          <p:nvPr/>
        </p:nvGraphicFramePr>
        <p:xfrm>
          <a:off x="6730920" y="1920960"/>
          <a:ext cx="505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0920" y="1920960"/>
                    <a:ext cx="505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그림 3" descr="dndy_antipro.jpg"/>
          <p:cNvPicPr/>
          <p:nvPr/>
        </p:nvPicPr>
        <p:blipFill>
          <a:blip r:embed="rId1"/>
          <a:stretch/>
        </p:blipFill>
        <p:spPr>
          <a:xfrm>
            <a:off x="1042920" y="851040"/>
            <a:ext cx="7058160" cy="51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4" name="Object 10"/>
          <p:cNvGraphicFramePr/>
          <p:nvPr/>
        </p:nvGraphicFramePr>
        <p:xfrm>
          <a:off x="6837480" y="1616040"/>
          <a:ext cx="50472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37480" y="1616040"/>
                    <a:ext cx="504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그림 3" descr="pt_antipro.jpg"/>
          <p:cNvPicPr/>
          <p:nvPr/>
        </p:nvPicPr>
        <p:blipFill>
          <a:blip r:embed="rId1"/>
          <a:stretch/>
        </p:blipFill>
        <p:spPr>
          <a:xfrm>
            <a:off x="1020600" y="804960"/>
            <a:ext cx="7102800" cy="52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Object 10"/>
          <p:cNvGraphicFramePr/>
          <p:nvPr/>
        </p:nvGraphicFramePr>
        <p:xfrm>
          <a:off x="6730920" y="1792440"/>
          <a:ext cx="50508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0920" y="1792440"/>
                    <a:ext cx="5050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4771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: Pro’s &amp; Con’s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30" name="Picture 3" descr="expo"/>
          <p:cNvPicPr/>
          <p:nvPr/>
        </p:nvPicPr>
        <p:blipFill>
          <a:blip r:embed="rId1"/>
          <a:stretch/>
        </p:blipFill>
        <p:spPr>
          <a:xfrm>
            <a:off x="3962520" y="1905120"/>
            <a:ext cx="4881600" cy="32144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4"/>
          <p:cNvSpPr/>
          <p:nvPr/>
        </p:nvSpPr>
        <p:spPr>
          <a:xfrm>
            <a:off x="365040" y="1682640"/>
            <a:ext cx="35974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Pro’s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for exponential parton spectrum, recombination is more effective than fragmentatio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baryons are shifted to higher 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  <a:ea typeface="굴림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than mesons, for same quark distributio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understand behavior of protons!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Con’s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18160" y="5334120"/>
            <a:ext cx="5799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recombination violates entropy conservatio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gluons at hadronization need to be converted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4714200" y="3733920"/>
            <a:ext cx="25048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recombining partons: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1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+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2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=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h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6473880" y="2514600"/>
            <a:ext cx="237672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fragmenting parton: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h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 = z p, z&lt;1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+Fragmentation Mod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42960" y="16426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맑은 고딕"/>
                <a:ea typeface="굴림"/>
              </a:rPr>
              <a:t>basic assumptions: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맑은 고딕"/>
                <a:ea typeface="굴림"/>
              </a:rPr>
              <a:t>at low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맑은 고딕"/>
                <a:ea typeface="굴림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맑은 고딕"/>
                <a:ea typeface="굴림"/>
              </a:rPr>
              <a:t>, the quarks and antiquark spectrum is thermal and they  recombine into hadrons locally “at an instant”: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맑은 고딕"/>
                <a:ea typeface="굴림"/>
              </a:rPr>
              <a:t>features of the parton spectrum are shifted to higher p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맑은 고딕"/>
                <a:ea typeface="굴림"/>
              </a:rPr>
              <a:t>t</a:t>
            </a:r>
            <a:r>
              <a:rPr b="0" lang="en-US" sz="2000" spc="-1" strike="noStrike">
                <a:solidFill>
                  <a:srgbClr val="009900"/>
                </a:solidFill>
                <a:latin typeface="맑은 고딕"/>
                <a:ea typeface="굴림"/>
              </a:rPr>
              <a:t> in the hadron spectru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맑은 고딕"/>
                <a:ea typeface="굴림"/>
              </a:rPr>
              <a:t>at high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맑은 고딕"/>
                <a:ea typeface="굴림"/>
              </a:rPr>
              <a:t>t</a:t>
            </a:r>
            <a:r>
              <a:rPr b="0" lang="en-US" sz="2400" spc="-1" strike="noStrike">
                <a:solidFill>
                  <a:srgbClr val="cc0000"/>
                </a:solidFill>
                <a:latin typeface="맑은 고딕"/>
                <a:ea typeface="굴림"/>
              </a:rPr>
              <a:t>, the parton spectrum is given by a pQCD power law, partons suffer jet energy loss and hadrons are formed via fragmentation of quarks and gluon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508" name="Object 4"/>
          <p:cNvGraphicFramePr/>
          <p:nvPr/>
        </p:nvGraphicFramePr>
        <p:xfrm>
          <a:off x="2514600" y="3048120"/>
          <a:ext cx="190512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1905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5"/>
          <p:cNvGraphicFramePr/>
          <p:nvPr/>
        </p:nvGraphicFramePr>
        <p:xfrm>
          <a:off x="4978440" y="3048120"/>
          <a:ext cx="202248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3048120"/>
                    <a:ext cx="20224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직사각형 7"/>
          <p:cNvSpPr/>
          <p:nvPr/>
        </p:nvSpPr>
        <p:spPr>
          <a:xfrm>
            <a:off x="4071960" y="100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  <a:ea typeface="굴림"/>
              </a:rPr>
              <a:t>R.J. Fries, C. Nonaka, B. Mueller &amp; S.A. Bass, PRL 90  202303 (2003) ;  PRC68, 044902 (2003)</a:t>
            </a:r>
            <a:endParaRPr b="0" lang="en-US" sz="18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4343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Hadron Spectra I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4" name="Picture 3" descr="spectra2a"/>
          <p:cNvPicPr/>
          <p:nvPr/>
        </p:nvPicPr>
        <p:blipFill>
          <a:blip r:embed="rId1"/>
          <a:stretch/>
        </p:blipFill>
        <p:spPr>
          <a:xfrm>
            <a:off x="928800" y="1643040"/>
            <a:ext cx="739116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v2_charge2"/>
          <p:cNvPicPr/>
          <p:nvPr/>
        </p:nvPicPr>
        <p:blipFill>
          <a:blip r:embed="rId1"/>
          <a:stretch/>
        </p:blipFill>
        <p:spPr>
          <a:xfrm>
            <a:off x="152280" y="1752480"/>
            <a:ext cx="4496040" cy="32115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629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Elliptic Flow: Recombination vs. Fragmentation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800" y="5181480"/>
            <a:ext cx="9237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high p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t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: v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for all hadrons merge, since v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from energy-loss is flavor blind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harged hadron v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for high pt shows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universal  &amp; limiting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 fragmentation v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ahoma"/>
                <a:ea typeface="굴림"/>
              </a:rPr>
              <a:t>2 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굴림"/>
              </a:rPr>
              <a:t>quark number scaling breaks down in the fragmentation domai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pic>
        <p:nvPicPr>
          <p:cNvPr id="518" name="Picture 6" descr="v2n_ppi2"/>
          <p:cNvPicPr/>
          <p:nvPr/>
        </p:nvPicPr>
        <p:blipFill>
          <a:blip r:embed="rId2"/>
          <a:stretch/>
        </p:blipFill>
        <p:spPr>
          <a:xfrm>
            <a:off x="4648320" y="1752480"/>
            <a:ext cx="4400280" cy="3170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172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Parton Number Scaling of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맑은 고딕"/>
                <a:ea typeface="굴림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0" name="Picture 2" descr="v2_coal_scaling"/>
          <p:cNvPicPr/>
          <p:nvPr/>
        </p:nvPicPr>
        <p:blipFill>
          <a:blip r:embed="rId1"/>
          <a:stretch/>
        </p:blipFill>
        <p:spPr>
          <a:xfrm>
            <a:off x="0" y="1143000"/>
            <a:ext cx="5410080" cy="5248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4876920" y="4952880"/>
            <a:ext cx="4114800" cy="1209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smoking gun for recombination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measurement of partonic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ahoma"/>
                <a:ea typeface="굴림"/>
              </a:rPr>
              <a:t>2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굴림"/>
              </a:rPr>
              <a:t>!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1143000" y="403848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ahoma"/>
                <a:ea typeface="굴림"/>
              </a:rPr>
              <a:t>P. Soerensen, UCLA &amp; STAR @ SQM2003</a:t>
            </a:r>
            <a:endParaRPr b="0" lang="en-US" sz="14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23" name="Object 11"/>
          <p:cNvGraphicFramePr/>
          <p:nvPr/>
        </p:nvGraphicFramePr>
        <p:xfrm>
          <a:off x="5410080" y="2514600"/>
          <a:ext cx="2973600" cy="21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514600"/>
                    <a:ext cx="29736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13"/>
          <p:cNvSpPr/>
          <p:nvPr/>
        </p:nvSpPr>
        <p:spPr>
          <a:xfrm>
            <a:off x="5181480" y="1676520"/>
            <a:ext cx="3521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in leading order of 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  <a:ea typeface="굴림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, recombination predicts:</a:t>
            </a:r>
            <a:endParaRPr b="0" lang="en-US" sz="2000" spc="-1" strike="noStrike">
              <a:solidFill>
                <a:srgbClr val="33cc33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9528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굴림"/>
              </a:rPr>
              <a:t>Hadron Ratios vs.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맑은 고딕"/>
                <a:ea typeface="굴림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4" descr="ratios2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515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3152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ＭＳ Ｐゴシック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533520" y="1066680"/>
            <a:ext cx="7772400" cy="2111760"/>
            <a:chOff x="533520" y="1066680"/>
            <a:chExt cx="7772400" cy="2111760"/>
          </a:xfrm>
        </p:grpSpPr>
        <p:pic>
          <p:nvPicPr>
            <p:cNvPr id="530" name="Picture 4" descr="cartoon"/>
            <p:cNvPicPr/>
            <p:nvPr/>
          </p:nvPicPr>
          <p:blipFill>
            <a:blip r:embed="rId1"/>
            <a:stretch/>
          </p:blipFill>
          <p:spPr>
            <a:xfrm>
              <a:off x="533520" y="1498320"/>
              <a:ext cx="777240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 Box 5"/>
            <p:cNvSpPr/>
            <p:nvPr/>
          </p:nvSpPr>
          <p:spPr>
            <a:xfrm>
              <a:off x="972720" y="145404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initial state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981440" y="2869920"/>
              <a:ext cx="137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pre-equilibrium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2890800" y="1193760"/>
              <a:ext cx="2100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QGP and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hydrodynamic expansion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4856760" y="290196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hadronization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6629400" y="106668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hadronic phase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497d"/>
                  </a:solidFill>
                  <a:latin typeface="Tahoma"/>
                  <a:ea typeface="굴림"/>
                </a:rPr>
                <a:t>and freeze-out</a:t>
              </a:r>
              <a:endParaRPr b="0" lang="en-US" sz="1200" spc="-1" strike="noStrike">
                <a:solidFill>
                  <a:srgbClr val="33cc33"/>
                </a:solidFill>
                <a:latin typeface="Tahoma"/>
              </a:endParaRPr>
            </a:p>
          </p:txBody>
        </p:sp>
      </p:grpSp>
      <p:sp>
        <p:nvSpPr>
          <p:cNvPr id="536" name="Text Box 10"/>
          <p:cNvSpPr/>
          <p:nvPr/>
        </p:nvSpPr>
        <p:spPr>
          <a:xfrm>
            <a:off x="1812960" y="446076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3514680"/>
          <a:ext cx="8458200" cy="2571840"/>
        </p:xfrm>
        <a:graphic>
          <a:graphicData uri="http://schemas.openxmlformats.org/drawingml/2006/table">
            <a:tbl>
              <a:tblPr/>
              <a:tblGrid>
                <a:gridCol w="3103560"/>
                <a:gridCol w="5354640"/>
              </a:tblGrid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QGP</a:t>
                      </a:r>
                      <a:endParaRPr b="0" lang="en-US" sz="24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8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hydrodynamic evolution  - C. Nonaka</a:t>
                      </a:r>
                      <a:endParaRPr b="0" lang="en-US" sz="20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b05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050"/>
                          </a:solidFill>
                          <a:latin typeface="Tahoma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reasonable for a perfect fluid</a:t>
                      </a:r>
                      <a:endParaRPr b="0" lang="en-US" sz="20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Hadronization via recombination</a:t>
                      </a:r>
                      <a:endParaRPr b="0" lang="en-US" sz="24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recombination </a:t>
                      </a:r>
                      <a:endParaRPr b="0" lang="en-US" sz="24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Hadronic rescattering</a:t>
                      </a:r>
                      <a:endParaRPr b="0" lang="en-US" sz="24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8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  <a:ea typeface="ＭＳ Ｐゴシック"/>
                        </a:rPr>
                        <a:t>URQMD  - S. Bass</a:t>
                      </a:r>
                      <a:endParaRPr b="0" lang="en-US" sz="2000" spc="-1" strike="noStrike">
                        <a:solidFill>
                          <a:srgbClr val="33cc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1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Recombination of thermal quarks I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539" name="Object 5"/>
          <p:cNvGraphicFramePr/>
          <p:nvPr/>
        </p:nvGraphicFramePr>
        <p:xfrm>
          <a:off x="1000080" y="1214280"/>
          <a:ext cx="594216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14280"/>
                    <a:ext cx="59421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4"/>
          <p:cNvGraphicFramePr/>
          <p:nvPr/>
        </p:nvGraphicFramePr>
        <p:xfrm>
          <a:off x="571680" y="3286080"/>
          <a:ext cx="8358120" cy="13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286080"/>
                    <a:ext cx="83581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15"/>
          <p:cNvSpPr/>
          <p:nvPr/>
        </p:nvSpPr>
        <p:spPr>
          <a:xfrm>
            <a:off x="428760" y="5000760"/>
            <a:ext cx="7864200" cy="1267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wave functions are best know in the light cone frame. 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for a thermal distribution:</a:t>
            </a:r>
            <a:endParaRPr b="0" lang="en-US" sz="2400" spc="-1" strike="noStrike">
              <a:solidFill>
                <a:srgbClr val="33cc33"/>
              </a:solidFill>
              <a:latin typeface="Tahoma"/>
            </a:endParaRPr>
          </a:p>
        </p:txBody>
      </p:sp>
      <p:graphicFrame>
        <p:nvGraphicFramePr>
          <p:cNvPr id="544" name="Object 22"/>
          <p:cNvGraphicFramePr/>
          <p:nvPr/>
        </p:nvGraphicFramePr>
        <p:xfrm>
          <a:off x="4357800" y="5357880"/>
          <a:ext cx="378612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5357880"/>
                    <a:ext cx="3786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9:54:53Z</dcterms:created>
  <dc:creator>Dr. Steffen A. Bass</dc:creator>
  <dc:description/>
  <dc:language>en-US</dc:language>
  <cp:lastModifiedBy>TG</cp:lastModifiedBy>
  <dcterms:modified xsi:type="dcterms:W3CDTF">2008-10-15T00:10:07Z</dcterms:modified>
  <cp:revision>292</cp:revision>
  <dc:subject/>
  <dc:title>PowerPoint Presentation</dc:title>
</cp:coreProperties>
</file>