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9.wmf" ContentType="image/x-wmf"/>
  <Override PartName="/ppt/media/image11.wmf" ContentType="image/x-wmf"/>
  <Override PartName="/ppt/media/image3.png" ContentType="image/png"/>
  <Override PartName="/ppt/media/image33.png" ContentType="image/png"/>
  <Override PartName="/ppt/media/image16.wmf" ContentType="image/x-wmf"/>
  <Override PartName="/ppt/media/image12.wmf" ContentType="image/x-wmf"/>
  <Override PartName="/ppt/media/image4.png" ContentType="image/png"/>
  <Override PartName="/ppt/media/image34.png" ContentType="image/png"/>
  <Override PartName="/ppt/media/image17.wmf" ContentType="image/x-wmf"/>
  <Override PartName="/ppt/media/image30.wmf" ContentType="image/x-wmf"/>
  <Override PartName="/ppt/media/image37.png" ContentType="image/png"/>
  <Override PartName="/ppt/media/image13.wmf" ContentType="image/x-wmf"/>
  <Override PartName="/ppt/media/image35.png" ContentType="image/png"/>
  <Override PartName="/ppt/media/image5.png" ContentType="image/png"/>
  <Override PartName="/ppt/media/image38.png" ContentType="image/png"/>
  <Override PartName="/ppt/media/image39.jpeg" ContentType="image/jpeg"/>
  <Override PartName="/ppt/media/image8.wmf" ContentType="image/x-wmf"/>
  <Override PartName="/ppt/media/image10.wmf" ContentType="image/x-wmf"/>
  <Override PartName="/ppt/media/image2.png" ContentType="image/png"/>
  <Override PartName="/ppt/media/image32.png" ContentType="image/png"/>
  <Override PartName="/ppt/media/image15.wmf" ContentType="image/x-wmf"/>
  <Override PartName="/ppt/media/image31.wmf" ContentType="image/x-wmf"/>
  <Override PartName="/ppt/media/image7.jpeg" ContentType="image/jpeg"/>
  <Override PartName="/ppt/media/image18.wmf" ContentType="image/x-wmf"/>
  <Override PartName="/ppt/media/image20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2F8-89F8-4BC2-A5DB-DB8368A8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ED8-6802-4F95-BA13-FA1A3FA0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2CE-E820-4D13-8FA0-555367F0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16D-31C9-4815-BF21-803E9B75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B58-C0E3-4304-A9F0-A2C160FE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751-A2C0-4930-AA98-7F85011C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6E2-B1BE-4267-9289-C9B088E5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7CB-3A87-46FF-BE87-FA3CB413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9945-DE84-4234-BF06-21E642A8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8E2-26B2-4B1E-9E24-4E893DA4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F18-3E1F-405F-B362-EBE1A81B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D39-EF1E-4FE7-9D0D-33DBD27E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C7C6-B924-42F1-BFBF-6AA4B807FC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nke  W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Institute of Particle Physics, Huazhong Normal Univers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Modification of Frag. Func. in Cold Nucleu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Modification of Frag. Func. in QGP Med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 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  <a:ea typeface="宋体"/>
              </a:rPr>
              <a:t>Collaborators: X.-N. Wang, B.-W. Zh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Modification of  Fragmentation Function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in Strong Interacting Medi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A90-C271-406C-B353-EBBBE151D6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odified Frag. Function in Cold Nuclear Medi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80880" y="990720"/>
          <a:ext cx="8229600" cy="12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229600" cy="12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"/>
          <p:cNvGrpSpPr/>
          <p:nvPr/>
        </p:nvGrpSpPr>
        <p:grpSpPr>
          <a:xfrm>
            <a:off x="453960" y="2438280"/>
            <a:ext cx="6784560" cy="1650600"/>
            <a:chOff x="453960" y="2438280"/>
            <a:chExt cx="6784560" cy="1650600"/>
          </a:xfrm>
        </p:grpSpPr>
        <p:graphicFrame>
          <p:nvGraphicFramePr>
            <p:cNvPr id="235" name=""/>
            <p:cNvGraphicFramePr/>
            <p:nvPr/>
          </p:nvGraphicFramePr>
          <p:xfrm>
            <a:off x="847440" y="2962080"/>
            <a:ext cx="6391080" cy="1126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47440" y="2962080"/>
                      <a:ext cx="6391080" cy="112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"/>
            <p:cNvSpPr/>
            <p:nvPr/>
          </p:nvSpPr>
          <p:spPr>
            <a:xfrm>
              <a:off x="453960" y="2438280"/>
              <a:ext cx="41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  <a:ea typeface="宋体"/>
                </a:rPr>
                <a:t>Modified splitting func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09840" y="4191120"/>
            <a:ext cx="7923960" cy="2288520"/>
            <a:chOff x="609840" y="4191120"/>
            <a:chExt cx="7923960" cy="2288520"/>
          </a:xfrm>
        </p:grpSpPr>
        <p:grpSp>
          <p:nvGrpSpPr>
            <p:cNvPr id="239" name=""/>
            <p:cNvGrpSpPr/>
            <p:nvPr/>
          </p:nvGrpSpPr>
          <p:grpSpPr>
            <a:xfrm>
              <a:off x="609840" y="4191120"/>
              <a:ext cx="7923960" cy="2288520"/>
              <a:chOff x="609840" y="4191120"/>
              <a:chExt cx="7923960" cy="2288520"/>
            </a:xfrm>
          </p:grpSpPr>
          <p:graphicFrame>
            <p:nvGraphicFramePr>
              <p:cNvPr id="240" name=""/>
              <p:cNvGraphicFramePr/>
              <p:nvPr/>
            </p:nvGraphicFramePr>
            <p:xfrm>
              <a:off x="920520" y="4665240"/>
              <a:ext cx="7613280" cy="1639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41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20520" y="4665240"/>
                        <a:ext cx="7613280" cy="163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2" name=""/>
              <p:cNvSpPr/>
              <p:nvPr/>
            </p:nvSpPr>
            <p:spPr>
              <a:xfrm>
                <a:off x="609840" y="4191120"/>
                <a:ext cx="358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  <a:ea typeface="宋体"/>
                  </a:rPr>
                  <a:t>Two-parton correlation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89400" y="6019920"/>
                <a:ext cx="80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LP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 flipV="1">
              <a:off x="1542960" y="6104160"/>
              <a:ext cx="132228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338-AF9E-4A24-8358-09EF6D75FA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Rescaling of Modified Fragmentation Fun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371600" y="838080"/>
                <a:ext cx="71629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scaling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</m:den>
                    </m:f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(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5254920" cy="394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486400" y="2057400"/>
                <a:ext cx="26668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629400" y="2743200"/>
                <a:ext cx="1219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5334120" y="3276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olid cur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800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shed cur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172200" y="3733920"/>
                <a:ext cx="220968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→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QCD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→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172200" y="5181480"/>
                <a:ext cx="24382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→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scaling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→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82A-CC87-48CA-B81E-8F736B78E5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mparison with HERMES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4920" y="1752480"/>
            <a:ext cx="8457840" cy="4167360"/>
            <a:chOff x="304920" y="1752480"/>
            <a:chExt cx="8457840" cy="416736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3947040" cy="416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4380840" y="1752480"/>
              <a:ext cx="4381920" cy="41367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85800" y="914400"/>
                <a:ext cx="3276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6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e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191120" y="914400"/>
                <a:ext cx="2143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53080" y="914400"/>
                <a:ext cx="18972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e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457200" y="914400"/>
            <a:ext cx="8077320" cy="5205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                          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609588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E. Wang, X.-N. Wang, Phys. Rev. Lett. 89 (2002) 1623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EA5-1009-4053-ADB8-52C07FA1B2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avy Quark Energy Loss in Cold Nucle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838080"/>
            <a:ext cx="861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宋体"/>
              </a:rPr>
              <a:t>B. Zhang, E. Wang, X.-N. Wang, PRL93 (2004) 072301; NPA757 (2005) 4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295280"/>
            <a:ext cx="813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ss eff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1) Formation time of gluon radiation become sh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770200" y="2232000"/>
                <a:ext cx="31687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1401840" y="3311640"/>
            <a:ext cx="684216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LPM effect is significantly reduced for heavy qu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041480" y="3816360"/>
            <a:ext cx="7777080" cy="2657520"/>
            <a:chOff x="1041480" y="3816360"/>
            <a:chExt cx="7777080" cy="2657520"/>
          </a:xfrm>
        </p:grpSpPr>
        <p:sp>
          <p:nvSpPr>
            <p:cNvPr id="269" name=""/>
            <p:cNvSpPr/>
            <p:nvPr/>
          </p:nvSpPr>
          <p:spPr>
            <a:xfrm>
              <a:off x="1041480" y="3816360"/>
              <a:ext cx="7777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  <a:ea typeface="宋体"/>
                </a:rPr>
                <a:t>2) Induced gluon spectra from heavy quark is suppressed 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  <a:ea typeface="宋体"/>
                </a:rPr>
                <a:t>    “</a:t>
              </a: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  <a:ea typeface="宋体"/>
                </a:rPr>
                <a:t>dead cone” eff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1906560" y="4824360"/>
                  <a:ext cx="432108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Q</m:t>
                              </m:r>
                            </m:num>
                            <m:den>
                              <m:r>
                                <m:t xml:space="preserve">q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r>
                        <m:t xml:space="preserve">[</m:t>
                      </m:r>
                      <m:f>
                        <m:num>
                          <m:sSubSup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Sup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sSup>
                        <m:e>
                          <m:r>
                            <m:t xml:space="preserve">]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θ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sSup>
                        <m:e>
                          <m:r>
                            <m:t xml:space="preserve">]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172280" y="4176720"/>
                  <a:ext cx="1039680" cy="180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M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q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r>
                            <m:t xml:space="preserve">θ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num>
                            <m:den>
                              <m:sSup>
                                <m:e>
                                  <m:r>
                                    <m:t xml:space="preserve">q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</m:sup>
                              </m:sSup>
                              <m:r>
                                <m:t xml:space="preserve">z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1114560" y="5977080"/>
              <a:ext cx="7416720" cy="459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Dead cone Suppresses gluon radiation amplitude 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7532640" y="6048360"/>
                  <a:ext cx="77328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7ADC-1F07-4628-ADE7-C62BA85DB6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avy Quark Energy Loss in Nuclear Medi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28600" y="3957480"/>
            <a:ext cx="4427640" cy="2900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99880" y="938160"/>
            <a:ext cx="4392720" cy="29415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124600" y="1359000"/>
            <a:ext cx="3600360" cy="19227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The        dependence of the ratio between charm quark and light quark energy loss in a larg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867280" y="1371600"/>
                <a:ext cx="489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5124600" y="4307040"/>
            <a:ext cx="3600360" cy="19227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The        dependence of the ratio between charm quark and light quark energy loss in a larg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867280" y="4267080"/>
                <a:ext cx="44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929-4992-471D-8260-54A4692859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III. Modification of Frag. Func. in QGP Medi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029200" y="1143000"/>
            <a:ext cx="3886200" cy="4191120"/>
            <a:chOff x="5029200" y="1143000"/>
            <a:chExt cx="3886200" cy="4191120"/>
          </a:xfrm>
        </p:grpSpPr>
        <p:grpSp>
          <p:nvGrpSpPr>
            <p:cNvPr id="283" name=""/>
            <p:cNvGrpSpPr/>
            <p:nvPr/>
          </p:nvGrpSpPr>
          <p:grpSpPr>
            <a:xfrm>
              <a:off x="5029200" y="1143000"/>
              <a:ext cx="3886200" cy="4191120"/>
              <a:chOff x="5029200" y="1143000"/>
              <a:chExt cx="3886200" cy="4191120"/>
            </a:xfrm>
          </p:grpSpPr>
          <p:pic>
            <p:nvPicPr>
              <p:cNvPr id="28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1143000"/>
                <a:ext cx="3886200" cy="419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5820480" y="2819520"/>
                <a:ext cx="21589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0120" y="4876920"/>
                <a:ext cx="16552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324480" y="3276720"/>
                <a:ext cx="115092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52480" y="2438280"/>
                <a:ext cx="46764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43760" y="2438280"/>
                <a:ext cx="46764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>
                <a:off x="5604480" y="3048120"/>
                <a:ext cx="28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07400" y="3048120"/>
                <a:ext cx="28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324480" y="3733920"/>
              <a:ext cx="11509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28600" y="1219320"/>
            <a:ext cx="3809880" cy="3962160"/>
            <a:chOff x="228600" y="1219320"/>
            <a:chExt cx="3809880" cy="3962160"/>
          </a:xfrm>
        </p:grpSpPr>
        <p:pic>
          <p:nvPicPr>
            <p:cNvPr id="294" name="" descr=""/>
            <p:cNvPicPr/>
            <p:nvPr/>
          </p:nvPicPr>
          <p:blipFill>
            <a:blip r:embed="rId4"/>
            <a:stretch/>
          </p:blipFill>
          <p:spPr>
            <a:xfrm>
              <a:off x="228600" y="1219320"/>
              <a:ext cx="380988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295280" y="4648320"/>
              <a:ext cx="18288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33520" y="4724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ld Nucleus 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2200" y="4724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QGP 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752480" y="5410080"/>
                <a:ext cx="9622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648320" y="5181480"/>
                <a:ext cx="41148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k</m:t>
                    </m:r>
                    <m:r>
                      <m:t xml:space="preserve">⊗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5562720" y="2590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24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55627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AF7-2863-405F-93FB-CD919AE93D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ame Framework for Light  and Heavy Qua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80880" y="1143000"/>
                <a:ext cx="7848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QCD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380880" y="1981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Light qua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371600" y="2590920"/>
                <a:ext cx="1371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371600" y="3200400"/>
                <a:ext cx="44607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380880" y="3886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Heavy qua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447920" y="4495680"/>
                <a:ext cx="13716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447920" y="5029200"/>
                <a:ext cx="4038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4343400" y="6019920"/>
            <a:ext cx="281952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Peterson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4647960" y="5714640"/>
            <a:ext cx="609480" cy="304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501-74C0-4339-9E95-C1ED126206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Generalized Jet Transport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33520" y="1066680"/>
            <a:ext cx="7848000" cy="838440"/>
            <a:chOff x="533520" y="1066680"/>
            <a:chExt cx="7848000" cy="83844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533520" y="1066680"/>
              <a:ext cx="494784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2"/>
            <a:stretch/>
          </p:blipFill>
          <p:spPr>
            <a:xfrm>
              <a:off x="5412600" y="1066680"/>
              <a:ext cx="296892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"/>
          <p:cNvGrpSpPr/>
          <p:nvPr/>
        </p:nvGrpSpPr>
        <p:grpSpPr>
          <a:xfrm>
            <a:off x="685800" y="2438280"/>
            <a:ext cx="7238520" cy="914040"/>
            <a:chOff x="685800" y="2438280"/>
            <a:chExt cx="7238520" cy="91404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85800" y="2438280"/>
              <a:ext cx="467856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5217840" y="2756160"/>
              <a:ext cx="2706480" cy="55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"/>
          <p:cNvSpPr/>
          <p:nvPr/>
        </p:nvSpPr>
        <p:spPr>
          <a:xfrm>
            <a:off x="304920" y="19810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Unintegrated gluon distribution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3276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verage tranverse momentum broa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371600" y="3809880"/>
            <a:ext cx="3733560" cy="761760"/>
            <a:chOff x="1371600" y="3809880"/>
            <a:chExt cx="3733560" cy="761760"/>
          </a:xfrm>
        </p:grpSpPr>
        <p:pic>
          <p:nvPicPr>
            <p:cNvPr id="323" name="" descr=""/>
            <p:cNvPicPr/>
            <p:nvPr/>
          </p:nvPicPr>
          <p:blipFill>
            <a:blip r:embed="rId5"/>
            <a:stretch/>
          </p:blipFill>
          <p:spPr>
            <a:xfrm>
              <a:off x="1371600" y="3809880"/>
              <a:ext cx="134172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6"/>
            <a:stretch/>
          </p:blipFill>
          <p:spPr>
            <a:xfrm>
              <a:off x="2747880" y="3809880"/>
              <a:ext cx="2357280" cy="76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"/>
          <p:cNvGrpSpPr/>
          <p:nvPr/>
        </p:nvGrpSpPr>
        <p:grpSpPr>
          <a:xfrm>
            <a:off x="762120" y="4800600"/>
            <a:ext cx="7543800" cy="828000"/>
            <a:chOff x="762120" y="4800600"/>
            <a:chExt cx="7543800" cy="828000"/>
          </a:xfrm>
        </p:grpSpPr>
        <p:sp>
          <p:nvSpPr>
            <p:cNvPr id="326" name=""/>
            <p:cNvSpPr/>
            <p:nvPr/>
          </p:nvSpPr>
          <p:spPr>
            <a:xfrm>
              <a:off x="762120" y="4800600"/>
              <a:ext cx="7543800" cy="82800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averaged transverse momentum transf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         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squared per unit dist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990720" y="4876920"/>
                  <a:ext cx="5382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828800" y="5715000"/>
                <a:ext cx="4952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∝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CFE-FE56-4518-9857-70F4220042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Jet Energy Lo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914400" y="1066680"/>
                <a:ext cx="708660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d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num>
                      <m:den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828800" y="2133720"/>
                <a:ext cx="51436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Ez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2" name=""/>
          <p:cNvGrpSpPr/>
          <p:nvPr/>
        </p:nvGrpSpPr>
        <p:grpSpPr>
          <a:xfrm>
            <a:off x="457200" y="3352680"/>
            <a:ext cx="8381880" cy="3254400"/>
            <a:chOff x="457200" y="3352680"/>
            <a:chExt cx="8381880" cy="3254400"/>
          </a:xfrm>
        </p:grpSpPr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457200" y="3352680"/>
              <a:ext cx="594360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457200" y="4114800"/>
              <a:ext cx="8077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3"/>
            <a:stretch/>
          </p:blipFill>
          <p:spPr>
            <a:xfrm>
              <a:off x="533520" y="5029200"/>
              <a:ext cx="83055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4"/>
            <a:stretch/>
          </p:blipFill>
          <p:spPr>
            <a:xfrm>
              <a:off x="2286000" y="5715000"/>
              <a:ext cx="555948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"/>
          <p:cNvSpPr/>
          <p:nvPr/>
        </p:nvSpPr>
        <p:spPr>
          <a:xfrm>
            <a:off x="7238880" y="3048120"/>
            <a:ext cx="1676520" cy="4597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LPM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6477120" y="2895120"/>
            <a:ext cx="76176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BAD-0684-4E13-B066-DBA25A9930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odified Frag. Function in QGP Medi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1680" y="2286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Modified splitt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04920" y="1066680"/>
                <a:ext cx="85341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l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[</m:t>
                            </m:r>
                          </m:e>
                        </m:nary>
                      </m:e>
                    </m:nary>
                    <m:sSub>
                      <m:e>
                        <m:r>
                          <m:t xml:space="preserve">Δγ</m:t>
                        </m:r>
                      </m:e>
                      <m:sub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qg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28600" y="3048120"/>
                <a:ext cx="86868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γ</m:t>
                        </m:r>
                      </m:e>
                      <m:sub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q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  <m:f>
                      <m:num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g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irtua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306360" y="42670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514600" y="4648320"/>
                <a:ext cx="320040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fm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f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382-7ABC-483B-9D59-B800A208A0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宋体"/>
              </a:rPr>
              <a:t>I. Introdu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utherford experi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discovery of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LAC DIS experi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ro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disco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f qu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4191120"/>
            <a:ext cx="7315200" cy="42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f10d"/>
                </a:solidFill>
                <a:latin typeface="Times New Roman"/>
                <a:ea typeface="宋体"/>
              </a:rPr>
              <a:t>A-A collis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ecf10d"/>
                </a:solidFill>
                <a:latin typeface="Times New Roman"/>
                <a:ea typeface="宋体"/>
              </a:rPr>
              <a:t>Naturally provides jet and the QG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952880"/>
            <a:ext cx="853452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et (hard probe) created by parton scattering before QGP is forme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igh transverse mome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lculable in pQ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4360" y="2057400"/>
            <a:ext cx="8819280" cy="1789200"/>
            <a:chOff x="324360" y="2057400"/>
            <a:chExt cx="8819280" cy="1789200"/>
          </a:xfrm>
        </p:grpSpPr>
        <p:grpSp>
          <p:nvGrpSpPr>
            <p:cNvPr id="48" name=""/>
            <p:cNvGrpSpPr/>
            <p:nvPr/>
          </p:nvGrpSpPr>
          <p:grpSpPr>
            <a:xfrm>
              <a:off x="324360" y="2743200"/>
              <a:ext cx="8819280" cy="1103400"/>
              <a:chOff x="324360" y="2743200"/>
              <a:chExt cx="8819280" cy="1103400"/>
            </a:xfrm>
          </p:grpSpPr>
          <p:sp>
            <p:nvSpPr>
              <p:cNvPr id="49" name=""/>
              <p:cNvSpPr/>
              <p:nvPr/>
            </p:nvSpPr>
            <p:spPr>
              <a:xfrm>
                <a:off x="324360" y="3476520"/>
                <a:ext cx="236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enetrating beam (je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829480" y="3478320"/>
                <a:ext cx="331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bsorption or scattering patter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070520" y="2743200"/>
                <a:ext cx="1292040" cy="10666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QGP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5222880" y="2951280"/>
                <a:ext cx="784440" cy="784080"/>
                <a:chOff x="5222880" y="2951280"/>
                <a:chExt cx="784440" cy="784080"/>
              </a:xfrm>
            </p:grpSpPr>
            <p:sp>
              <p:nvSpPr>
                <p:cNvPr id="53" name=""/>
                <p:cNvSpPr/>
                <p:nvPr/>
              </p:nvSpPr>
              <p:spPr>
                <a:xfrm flipV="1">
                  <a:off x="5251320" y="2951280"/>
                  <a:ext cx="479520" cy="18864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324400" y="3313080"/>
                  <a:ext cx="682920" cy="1440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222880" y="3473280"/>
                  <a:ext cx="536760" cy="2620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 flipV="1">
                <a:off x="1390680" y="3357360"/>
                <a:ext cx="725400" cy="46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43120" y="3357720"/>
                <a:ext cx="231444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455760" y="2057400"/>
              <a:ext cx="421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Hard Probes of Quark Matt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6B3-B6E4-4432-9301-D23A7571E4C4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odification of Frag. Func. for light quark in QG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4876560" cy="4259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352680" y="47768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2392200" y="482292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79200" y="2286000"/>
                <a:ext cx="7700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~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52280" y="5410080"/>
            <a:ext cx="12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olid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91320" y="990720"/>
            <a:ext cx="31240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can be approach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6019920" y="1219320"/>
                <a:ext cx="1600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QCD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943600" y="2286000"/>
                <a:ext cx="30481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→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scaling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f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→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(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f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4419720" y="541008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shed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1447920" y="5334120"/>
                <a:ext cx="220968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→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QCD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→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867280" y="5257800"/>
                <a:ext cx="243864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→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scaling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→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159600" y="4038480"/>
                <a:ext cx="25416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6F5-A225-42FA-8296-37CE301C98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odified Frag. Func. for heavy quark in QG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990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 qua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4952880"/>
            <a:ext cx="594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can be approach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914400" y="5105520"/>
                <a:ext cx="1600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QCD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838080" y="5715000"/>
                <a:ext cx="49532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scaling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</m:den>
                    </m:f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(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6413400" y="5715000"/>
                <a:ext cx="23637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5" name=""/>
          <p:cNvGrpSpPr/>
          <p:nvPr/>
        </p:nvGrpSpPr>
        <p:grpSpPr>
          <a:xfrm>
            <a:off x="304920" y="1676520"/>
            <a:ext cx="8839080" cy="3507480"/>
            <a:chOff x="304920" y="1676520"/>
            <a:chExt cx="8839080" cy="3507480"/>
          </a:xfrm>
        </p:grpSpPr>
        <p:pic>
          <p:nvPicPr>
            <p:cNvPr id="366" name="" descr=""/>
            <p:cNvPicPr/>
            <p:nvPr/>
          </p:nvPicPr>
          <p:blipFill>
            <a:blip r:embed="rId1"/>
            <a:stretch/>
          </p:blipFill>
          <p:spPr>
            <a:xfrm>
              <a:off x="4800600" y="1676520"/>
              <a:ext cx="4343400" cy="32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304920" y="1676520"/>
              <a:ext cx="441936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752480" y="2057400"/>
              <a:ext cx="12956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acu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edi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sca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edium/vacu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scaling/vacu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09680" y="41148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=10G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58000" y="40384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=50G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48520" y="2057400"/>
              <a:ext cx="129528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acu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edi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sca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edium/vacu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scaling/vacu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382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3432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039-0ECB-4F34-A6D0-6B89ECE365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04920" y="3049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b qua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09480" y="4648320"/>
            <a:ext cx="8167680" cy="1691640"/>
            <a:chOff x="609480" y="4648320"/>
            <a:chExt cx="8167680" cy="1691640"/>
          </a:xfrm>
        </p:grpSpPr>
        <p:sp>
          <p:nvSpPr>
            <p:cNvPr id="376" name=""/>
            <p:cNvSpPr/>
            <p:nvPr/>
          </p:nvSpPr>
          <p:spPr>
            <a:xfrm>
              <a:off x="609480" y="4648320"/>
              <a:ext cx="594360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can be approach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914400" y="4800600"/>
                  <a:ext cx="1600200" cy="58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sSubSup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b>
                          <m:r>
                            <m:t xml:space="preserve">Q</m:t>
                          </m:r>
                          <m:r>
                            <m:t xml:space="preserve">→</m:t>
                          </m:r>
                          <m:r>
                            <m:t xml:space="preserve">H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pQCD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838080" y="5410080"/>
                  <a:ext cx="4953240" cy="92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b>
                          <m:r>
                            <m:t xml:space="preserve">Q</m:t>
                          </m:r>
                          <m:r>
                            <m:t xml:space="preserve">→</m:t>
                          </m:r>
                          <m:r>
                            <m:t xml:space="preserve">H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rescaling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Δ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ff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Q</m:t>
                          </m:r>
                          <m:r>
                            <m:t xml:space="preserve">→</m:t>
                          </m:r>
                          <m:r>
                            <m:t xml:space="preserve">H</m:t>
                          </m:r>
                        </m:sub>
                        <m:sup>
                          <m:r>
                            <m:t xml:space="preserve">0</m:t>
                          </m:r>
                        </m:sup>
                      </m:sSubSup>
                      <m:r>
                        <m:t xml:space="preserve">(</m:t>
                      </m:r>
                      <m:f>
                        <m:num>
                          <m:r>
                            <m:t xml:space="preserve">z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Δ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ff</m:t>
                              </m:r>
                            </m:sub>
                          </m:sSub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6413400" y="5410080"/>
                  <a:ext cx="236376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f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9</m:t>
                      </m:r>
                      <m:r>
                        <m:t xml:space="preserve">Δ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0" name=""/>
          <p:cNvGrpSpPr/>
          <p:nvPr/>
        </p:nvGrpSpPr>
        <p:grpSpPr>
          <a:xfrm>
            <a:off x="152280" y="990720"/>
            <a:ext cx="8991720" cy="3557520"/>
            <a:chOff x="152280" y="990720"/>
            <a:chExt cx="8991720" cy="355752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152280" y="990720"/>
              <a:ext cx="4496040" cy="34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2"/>
            <a:stretch/>
          </p:blipFill>
          <p:spPr>
            <a:xfrm>
              <a:off x="4648320" y="1066680"/>
              <a:ext cx="449568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1905120" y="1447920"/>
              <a:ext cx="12952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acu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edi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sca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edium/vacu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scaling/vacu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00200" y="30481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=10G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00800" y="1523880"/>
              <a:ext cx="160020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acu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edi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sca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edium/vacu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scaling/vacu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43600" y="30481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=50G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8580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2320" y="42670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85FC-64E9-4FCC-BD61-9E388D9785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Ratio of energy loss between heavy and  light quark in QG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4724280" cy="3778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0" y="2133720"/>
                <a:ext cx="104940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Δz</m:t>
                                </m:r>
                              </m:e>
                            </m:d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Δz</m:t>
                                </m:r>
                              </m:e>
                            </m:d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6019920" y="9907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olid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2590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shed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400800" y="1447920"/>
                <a:ext cx="13273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Δ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ff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Δ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ff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6383160" y="3048120"/>
                <a:ext cx="166716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Δ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QCD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Δ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QCD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320040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4800600"/>
            <a:ext cx="8382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In the intermediate jet energy region the ratio increase rapidly with increasing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In the very high jet energy region the effective energy loss of heavy quark is larger than one of light qu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3124080"/>
            <a:ext cx="152640" cy="38124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9880" y="3581280"/>
            <a:ext cx="152640" cy="38124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14800" y="3048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14800" y="3505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497-BC65-4170-89B9-180AA8BDCC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IV. Summ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914400"/>
            <a:ext cx="8610480" cy="57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modified fragmentation function in strong interacting medium (cold nucleus and QGP) has been calculated in pQC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modified fragmentation function in QGP medium can be approached by rescaling fragmentation function with effective energy loss frac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 F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ight quark                          , for heavy quark             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)The different effective energy fraction shift of the fragmentation function for light and heavy quark will help us to understand the different behavior of the light and heavy quark j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057400" y="3733920"/>
                <a:ext cx="7682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410080" y="3733920"/>
                <a:ext cx="21830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2819520" y="4191120"/>
                <a:ext cx="20286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540-7E32-4C8E-A446-A1FA18FAB9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08" name=""/>
          <p:cNvSpPr/>
          <p:nvPr/>
        </p:nvSpPr>
        <p:spPr>
          <a:xfrm>
            <a:off x="1830960" y="2209680"/>
            <a:ext cx="481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F20-259F-4F75-BCE2-4465159773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05E0-84CB-4640-A51A-935F5E0649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Jet quenching and Observ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952520" y="533520"/>
            <a:ext cx="3124440" cy="2255400"/>
            <a:chOff x="4952520" y="533520"/>
            <a:chExt cx="3124440" cy="2255400"/>
          </a:xfrm>
        </p:grpSpPr>
        <p:grpSp>
          <p:nvGrpSpPr>
            <p:cNvPr id="61" name=""/>
            <p:cNvGrpSpPr/>
            <p:nvPr/>
          </p:nvGrpSpPr>
          <p:grpSpPr>
            <a:xfrm>
              <a:off x="5453640" y="1205640"/>
              <a:ext cx="1510920" cy="618840"/>
              <a:chOff x="5453640" y="1205640"/>
              <a:chExt cx="1510920" cy="618840"/>
            </a:xfrm>
          </p:grpSpPr>
          <p:sp>
            <p:nvSpPr>
              <p:cNvPr id="62" name=""/>
              <p:cNvSpPr/>
              <p:nvPr/>
            </p:nvSpPr>
            <p:spPr>
              <a:xfrm>
                <a:off x="5508720" y="1211400"/>
                <a:ext cx="1400400" cy="60048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847920" y="1205640"/>
                <a:ext cx="116640" cy="612720"/>
              </a:xfrm>
              <a:prstGeom prst="ellipse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453640" y="1205640"/>
                <a:ext cx="116640" cy="618840"/>
              </a:xfrm>
              <a:prstGeom prst="ellipse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5220360" y="190836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hadr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2760" y="1309320"/>
              <a:ext cx="626760" cy="155520"/>
            </a:xfrm>
            <a:custGeom>
              <a:avLst/>
              <a:gdLst/>
              <a:ahLst/>
              <a:rect l="l" t="t" r="r" b="b"/>
              <a:pathLst>
                <a:path w="856" h="328">
                  <a:moveTo>
                    <a:pt x="0" y="328"/>
                  </a:moveTo>
                  <a:lnTo>
                    <a:pt x="680" y="328"/>
                  </a:lnTo>
                  <a:lnTo>
                    <a:pt x="8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6164640" y="1547640"/>
              <a:ext cx="628200" cy="156600"/>
            </a:xfrm>
            <a:custGeom>
              <a:avLst/>
              <a:gdLst/>
              <a:ahLst/>
              <a:rect l="l" t="t" r="r" b="b"/>
              <a:pathLst>
                <a:path w="856" h="328">
                  <a:moveTo>
                    <a:pt x="0" y="328"/>
                  </a:moveTo>
                  <a:lnTo>
                    <a:pt x="680" y="328"/>
                  </a:lnTo>
                  <a:lnTo>
                    <a:pt x="8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77200" y="1250640"/>
              <a:ext cx="31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0760" y="1580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307920" y="1036800"/>
              <a:ext cx="2952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387840" y="895680"/>
              <a:ext cx="14148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441120" y="1164240"/>
              <a:ext cx="12420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346800" y="1003680"/>
              <a:ext cx="6480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6382080" y="592560"/>
              <a:ext cx="540360" cy="6850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971680" y="1762560"/>
              <a:ext cx="158400" cy="56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035400" y="1747440"/>
              <a:ext cx="7632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5988600" y="1731240"/>
              <a:ext cx="123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853960" y="1704960"/>
              <a:ext cx="28728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153840" y="1736280"/>
              <a:ext cx="11160" cy="3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81200" y="1727640"/>
              <a:ext cx="6768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64160" y="95292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hadr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00200" y="533520"/>
              <a:ext cx="1076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Leading particle </a:t>
              </a:r>
              <a:r>
                <a:rPr b="1" lang="en-US" sz="12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suppres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40800" y="2147400"/>
              <a:ext cx="1150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lea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particle </a:t>
              </a:r>
              <a:r>
                <a:rPr b="1" lang="en-US" sz="12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suppres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97560" y="652680"/>
              <a:ext cx="1836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09280" y="1464840"/>
              <a:ext cx="88920" cy="83520"/>
            </a:xfrm>
            <a:custGeom>
              <a:avLst/>
              <a:gdLst/>
              <a:ahLst/>
              <a:rect l="l" t="t" r="r" b="b"/>
              <a:pathLst>
                <a:path w="109" h="140">
                  <a:moveTo>
                    <a:pt x="0" y="11"/>
                  </a:moveTo>
                  <a:cubicBezTo>
                    <a:pt x="38" y="5"/>
                    <a:pt x="77" y="0"/>
                    <a:pt x="80" y="11"/>
                  </a:cubicBezTo>
                  <a:cubicBezTo>
                    <a:pt x="83" y="22"/>
                    <a:pt x="12" y="64"/>
                    <a:pt x="16" y="75"/>
                  </a:cubicBezTo>
                  <a:cubicBezTo>
                    <a:pt x="20" y="86"/>
                    <a:pt x="99" y="66"/>
                    <a:pt x="104" y="75"/>
                  </a:cubicBezTo>
                  <a:cubicBezTo>
                    <a:pt x="109" y="84"/>
                    <a:pt x="49" y="122"/>
                    <a:pt x="48" y="131"/>
                  </a:cubicBezTo>
                  <a:cubicBezTo>
                    <a:pt x="47" y="140"/>
                    <a:pt x="88" y="132"/>
                    <a:pt x="96" y="1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952520" y="1483560"/>
              <a:ext cx="342360" cy="108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7179480" y="1483560"/>
              <a:ext cx="342360" cy="108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345360" y="832320"/>
              <a:ext cx="373320" cy="49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903640" y="1806120"/>
              <a:ext cx="233280" cy="81936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288120" y="1065960"/>
            <a:ext cx="387720" cy="264600"/>
            <a:chOff x="6288120" y="1065960"/>
            <a:chExt cx="387720" cy="264600"/>
          </a:xfrm>
        </p:grpSpPr>
        <p:sp>
          <p:nvSpPr>
            <p:cNvPr id="91" name=""/>
            <p:cNvSpPr/>
            <p:nvPr/>
          </p:nvSpPr>
          <p:spPr>
            <a:xfrm flipV="1">
              <a:off x="6626520" y="1128240"/>
              <a:ext cx="49320" cy="208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976800">
              <a:off x="6307560" y="1105560"/>
              <a:ext cx="311400" cy="184680"/>
            </a:xfrm>
            <a:custGeom>
              <a:avLst/>
              <a:gdLst/>
              <a:ahLst/>
              <a:rect l="l" t="t" r="r" b="b"/>
              <a:pathLst>
                <a:path w="361" h="259">
                  <a:moveTo>
                    <a:pt x="0" y="240"/>
                  </a:moveTo>
                  <a:cubicBezTo>
                    <a:pt x="39" y="231"/>
                    <a:pt x="36" y="217"/>
                    <a:pt x="49" y="225"/>
                  </a:cubicBezTo>
                  <a:cubicBezTo>
                    <a:pt x="58" y="230"/>
                    <a:pt x="43" y="227"/>
                    <a:pt x="53" y="230"/>
                  </a:cubicBezTo>
                  <a:cubicBezTo>
                    <a:pt x="58" y="232"/>
                    <a:pt x="82" y="259"/>
                    <a:pt x="82" y="259"/>
                  </a:cubicBezTo>
                  <a:cubicBezTo>
                    <a:pt x="92" y="256"/>
                    <a:pt x="108" y="259"/>
                    <a:pt x="111" y="249"/>
                  </a:cubicBezTo>
                  <a:cubicBezTo>
                    <a:pt x="114" y="239"/>
                    <a:pt x="121" y="220"/>
                    <a:pt x="121" y="220"/>
                  </a:cubicBezTo>
                  <a:cubicBezTo>
                    <a:pt x="119" y="204"/>
                    <a:pt x="121" y="187"/>
                    <a:pt x="116" y="172"/>
                  </a:cubicBezTo>
                  <a:cubicBezTo>
                    <a:pt x="111" y="156"/>
                    <a:pt x="73" y="148"/>
                    <a:pt x="73" y="148"/>
                  </a:cubicBezTo>
                  <a:cubicBezTo>
                    <a:pt x="76" y="172"/>
                    <a:pt x="70" y="189"/>
                    <a:pt x="92" y="201"/>
                  </a:cubicBezTo>
                  <a:cubicBezTo>
                    <a:pt x="101" y="206"/>
                    <a:pt x="121" y="211"/>
                    <a:pt x="121" y="211"/>
                  </a:cubicBezTo>
                  <a:cubicBezTo>
                    <a:pt x="170" y="205"/>
                    <a:pt x="172" y="207"/>
                    <a:pt x="188" y="163"/>
                  </a:cubicBezTo>
                  <a:cubicBezTo>
                    <a:pt x="183" y="126"/>
                    <a:pt x="180" y="113"/>
                    <a:pt x="145" y="100"/>
                  </a:cubicBezTo>
                  <a:cubicBezTo>
                    <a:pt x="119" y="139"/>
                    <a:pt x="160" y="163"/>
                    <a:pt x="193" y="172"/>
                  </a:cubicBezTo>
                  <a:cubicBezTo>
                    <a:pt x="240" y="166"/>
                    <a:pt x="235" y="148"/>
                    <a:pt x="246" y="105"/>
                  </a:cubicBezTo>
                  <a:cubicBezTo>
                    <a:pt x="241" y="74"/>
                    <a:pt x="242" y="63"/>
                    <a:pt x="212" y="52"/>
                  </a:cubicBezTo>
                  <a:cubicBezTo>
                    <a:pt x="182" y="97"/>
                    <a:pt x="241" y="112"/>
                    <a:pt x="270" y="129"/>
                  </a:cubicBezTo>
                  <a:cubicBezTo>
                    <a:pt x="292" y="123"/>
                    <a:pt x="301" y="122"/>
                    <a:pt x="308" y="100"/>
                  </a:cubicBezTo>
                  <a:cubicBezTo>
                    <a:pt x="304" y="50"/>
                    <a:pt x="317" y="28"/>
                    <a:pt x="274" y="14"/>
                  </a:cubicBezTo>
                  <a:cubicBezTo>
                    <a:pt x="264" y="30"/>
                    <a:pt x="264" y="69"/>
                    <a:pt x="284" y="81"/>
                  </a:cubicBezTo>
                  <a:cubicBezTo>
                    <a:pt x="293" y="86"/>
                    <a:pt x="313" y="91"/>
                    <a:pt x="313" y="91"/>
                  </a:cubicBezTo>
                  <a:cubicBezTo>
                    <a:pt x="361" y="74"/>
                    <a:pt x="287" y="0"/>
                    <a:pt x="361" y="0"/>
                  </a:cubicBez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147720" y="1440000"/>
            <a:ext cx="257400" cy="366840"/>
            <a:chOff x="6147720" y="1440000"/>
            <a:chExt cx="257400" cy="366840"/>
          </a:xfrm>
        </p:grpSpPr>
        <p:sp>
          <p:nvSpPr>
            <p:cNvPr id="94" name=""/>
            <p:cNvSpPr/>
            <p:nvPr/>
          </p:nvSpPr>
          <p:spPr>
            <a:xfrm>
              <a:off x="6318000" y="1751760"/>
              <a:ext cx="8640" cy="550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1015800">
              <a:off x="6183000" y="1460880"/>
              <a:ext cx="186480" cy="271800"/>
            </a:xfrm>
            <a:custGeom>
              <a:avLst/>
              <a:gdLst/>
              <a:ahLst/>
              <a:rect l="l" t="t" r="r" b="b"/>
              <a:pathLst>
                <a:path w="361" h="259">
                  <a:moveTo>
                    <a:pt x="0" y="240"/>
                  </a:moveTo>
                  <a:cubicBezTo>
                    <a:pt x="39" y="231"/>
                    <a:pt x="36" y="217"/>
                    <a:pt x="49" y="225"/>
                  </a:cubicBezTo>
                  <a:cubicBezTo>
                    <a:pt x="58" y="230"/>
                    <a:pt x="43" y="227"/>
                    <a:pt x="53" y="230"/>
                  </a:cubicBezTo>
                  <a:cubicBezTo>
                    <a:pt x="58" y="232"/>
                    <a:pt x="82" y="259"/>
                    <a:pt x="82" y="259"/>
                  </a:cubicBezTo>
                  <a:cubicBezTo>
                    <a:pt x="92" y="256"/>
                    <a:pt x="108" y="259"/>
                    <a:pt x="111" y="249"/>
                  </a:cubicBezTo>
                  <a:cubicBezTo>
                    <a:pt x="114" y="239"/>
                    <a:pt x="121" y="220"/>
                    <a:pt x="121" y="220"/>
                  </a:cubicBezTo>
                  <a:cubicBezTo>
                    <a:pt x="119" y="204"/>
                    <a:pt x="121" y="187"/>
                    <a:pt x="116" y="172"/>
                  </a:cubicBezTo>
                  <a:cubicBezTo>
                    <a:pt x="111" y="156"/>
                    <a:pt x="73" y="148"/>
                    <a:pt x="73" y="148"/>
                  </a:cubicBezTo>
                  <a:cubicBezTo>
                    <a:pt x="76" y="172"/>
                    <a:pt x="70" y="189"/>
                    <a:pt x="92" y="201"/>
                  </a:cubicBezTo>
                  <a:cubicBezTo>
                    <a:pt x="101" y="206"/>
                    <a:pt x="121" y="211"/>
                    <a:pt x="121" y="211"/>
                  </a:cubicBezTo>
                  <a:cubicBezTo>
                    <a:pt x="170" y="205"/>
                    <a:pt x="172" y="207"/>
                    <a:pt x="188" y="163"/>
                  </a:cubicBezTo>
                  <a:cubicBezTo>
                    <a:pt x="183" y="126"/>
                    <a:pt x="180" y="113"/>
                    <a:pt x="145" y="100"/>
                  </a:cubicBezTo>
                  <a:cubicBezTo>
                    <a:pt x="119" y="139"/>
                    <a:pt x="160" y="163"/>
                    <a:pt x="193" y="172"/>
                  </a:cubicBezTo>
                  <a:cubicBezTo>
                    <a:pt x="240" y="166"/>
                    <a:pt x="235" y="148"/>
                    <a:pt x="246" y="105"/>
                  </a:cubicBezTo>
                  <a:cubicBezTo>
                    <a:pt x="241" y="74"/>
                    <a:pt x="242" y="63"/>
                    <a:pt x="212" y="52"/>
                  </a:cubicBezTo>
                  <a:cubicBezTo>
                    <a:pt x="182" y="97"/>
                    <a:pt x="241" y="112"/>
                    <a:pt x="270" y="129"/>
                  </a:cubicBezTo>
                  <a:cubicBezTo>
                    <a:pt x="292" y="123"/>
                    <a:pt x="301" y="122"/>
                    <a:pt x="308" y="100"/>
                  </a:cubicBezTo>
                  <a:cubicBezTo>
                    <a:pt x="304" y="50"/>
                    <a:pt x="317" y="28"/>
                    <a:pt x="274" y="14"/>
                  </a:cubicBezTo>
                  <a:cubicBezTo>
                    <a:pt x="264" y="30"/>
                    <a:pt x="264" y="69"/>
                    <a:pt x="284" y="81"/>
                  </a:cubicBezTo>
                  <a:cubicBezTo>
                    <a:pt x="293" y="86"/>
                    <a:pt x="313" y="91"/>
                    <a:pt x="313" y="91"/>
                  </a:cubicBezTo>
                  <a:cubicBezTo>
                    <a:pt x="361" y="74"/>
                    <a:pt x="287" y="0"/>
                    <a:pt x="361" y="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840640" y="1303560"/>
            <a:ext cx="424440" cy="384120"/>
            <a:chOff x="5840640" y="1303560"/>
            <a:chExt cx="424440" cy="384120"/>
          </a:xfrm>
        </p:grpSpPr>
        <p:sp>
          <p:nvSpPr>
            <p:cNvPr id="97" name=""/>
            <p:cNvSpPr/>
            <p:nvPr/>
          </p:nvSpPr>
          <p:spPr>
            <a:xfrm flipH="1">
              <a:off x="5840640" y="1542600"/>
              <a:ext cx="60120" cy="828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18135000">
              <a:off x="5932080" y="1369440"/>
              <a:ext cx="295200" cy="252000"/>
            </a:xfrm>
            <a:custGeom>
              <a:avLst/>
              <a:gdLst/>
              <a:ahLst/>
              <a:rect l="l" t="t" r="r" b="b"/>
              <a:pathLst>
                <a:path w="361" h="259">
                  <a:moveTo>
                    <a:pt x="0" y="240"/>
                  </a:moveTo>
                  <a:cubicBezTo>
                    <a:pt x="39" y="231"/>
                    <a:pt x="36" y="217"/>
                    <a:pt x="49" y="225"/>
                  </a:cubicBezTo>
                  <a:cubicBezTo>
                    <a:pt x="58" y="230"/>
                    <a:pt x="43" y="227"/>
                    <a:pt x="53" y="230"/>
                  </a:cubicBezTo>
                  <a:cubicBezTo>
                    <a:pt x="58" y="232"/>
                    <a:pt x="82" y="259"/>
                    <a:pt x="82" y="259"/>
                  </a:cubicBezTo>
                  <a:cubicBezTo>
                    <a:pt x="92" y="256"/>
                    <a:pt x="108" y="259"/>
                    <a:pt x="111" y="249"/>
                  </a:cubicBezTo>
                  <a:cubicBezTo>
                    <a:pt x="114" y="239"/>
                    <a:pt x="121" y="220"/>
                    <a:pt x="121" y="220"/>
                  </a:cubicBezTo>
                  <a:cubicBezTo>
                    <a:pt x="119" y="204"/>
                    <a:pt x="121" y="187"/>
                    <a:pt x="116" y="172"/>
                  </a:cubicBezTo>
                  <a:cubicBezTo>
                    <a:pt x="111" y="156"/>
                    <a:pt x="73" y="148"/>
                    <a:pt x="73" y="148"/>
                  </a:cubicBezTo>
                  <a:cubicBezTo>
                    <a:pt x="76" y="172"/>
                    <a:pt x="70" y="189"/>
                    <a:pt x="92" y="201"/>
                  </a:cubicBezTo>
                  <a:cubicBezTo>
                    <a:pt x="101" y="206"/>
                    <a:pt x="121" y="211"/>
                    <a:pt x="121" y="211"/>
                  </a:cubicBezTo>
                  <a:cubicBezTo>
                    <a:pt x="170" y="205"/>
                    <a:pt x="172" y="207"/>
                    <a:pt x="188" y="163"/>
                  </a:cubicBezTo>
                  <a:cubicBezTo>
                    <a:pt x="183" y="126"/>
                    <a:pt x="180" y="113"/>
                    <a:pt x="145" y="100"/>
                  </a:cubicBezTo>
                  <a:cubicBezTo>
                    <a:pt x="119" y="139"/>
                    <a:pt x="160" y="163"/>
                    <a:pt x="193" y="172"/>
                  </a:cubicBezTo>
                  <a:cubicBezTo>
                    <a:pt x="240" y="166"/>
                    <a:pt x="235" y="148"/>
                    <a:pt x="246" y="105"/>
                  </a:cubicBezTo>
                  <a:cubicBezTo>
                    <a:pt x="241" y="74"/>
                    <a:pt x="242" y="63"/>
                    <a:pt x="212" y="52"/>
                  </a:cubicBezTo>
                  <a:cubicBezTo>
                    <a:pt x="182" y="97"/>
                    <a:pt x="241" y="112"/>
                    <a:pt x="270" y="129"/>
                  </a:cubicBezTo>
                  <a:cubicBezTo>
                    <a:pt x="292" y="123"/>
                    <a:pt x="301" y="122"/>
                    <a:pt x="308" y="100"/>
                  </a:cubicBezTo>
                  <a:cubicBezTo>
                    <a:pt x="304" y="50"/>
                    <a:pt x="317" y="28"/>
                    <a:pt x="274" y="14"/>
                  </a:cubicBezTo>
                  <a:cubicBezTo>
                    <a:pt x="264" y="30"/>
                    <a:pt x="264" y="69"/>
                    <a:pt x="284" y="81"/>
                  </a:cubicBezTo>
                  <a:cubicBezTo>
                    <a:pt x="293" y="86"/>
                    <a:pt x="313" y="91"/>
                    <a:pt x="313" y="91"/>
                  </a:cubicBezTo>
                  <a:cubicBezTo>
                    <a:pt x="361" y="74"/>
                    <a:pt x="287" y="0"/>
                    <a:pt x="361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039360" y="800640"/>
            <a:ext cx="332280" cy="395280"/>
            <a:chOff x="6039360" y="800640"/>
            <a:chExt cx="332280" cy="395280"/>
          </a:xfrm>
        </p:grpSpPr>
        <p:sp>
          <p:nvSpPr>
            <p:cNvPr id="100" name=""/>
            <p:cNvSpPr/>
            <p:nvPr/>
          </p:nvSpPr>
          <p:spPr>
            <a:xfrm flipV="1">
              <a:off x="6203520" y="800640"/>
              <a:ext cx="5760" cy="525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 rot="14001600">
              <a:off x="6058440" y="921240"/>
              <a:ext cx="293760" cy="195480"/>
            </a:xfrm>
            <a:custGeom>
              <a:avLst/>
              <a:gdLst/>
              <a:ahLst/>
              <a:rect l="l" t="t" r="r" b="b"/>
              <a:pathLst>
                <a:path w="361" h="259">
                  <a:moveTo>
                    <a:pt x="0" y="240"/>
                  </a:moveTo>
                  <a:cubicBezTo>
                    <a:pt x="39" y="231"/>
                    <a:pt x="36" y="217"/>
                    <a:pt x="49" y="225"/>
                  </a:cubicBezTo>
                  <a:cubicBezTo>
                    <a:pt x="58" y="230"/>
                    <a:pt x="43" y="227"/>
                    <a:pt x="53" y="230"/>
                  </a:cubicBezTo>
                  <a:cubicBezTo>
                    <a:pt x="58" y="232"/>
                    <a:pt x="82" y="259"/>
                    <a:pt x="82" y="259"/>
                  </a:cubicBezTo>
                  <a:cubicBezTo>
                    <a:pt x="92" y="256"/>
                    <a:pt x="108" y="259"/>
                    <a:pt x="111" y="249"/>
                  </a:cubicBezTo>
                  <a:cubicBezTo>
                    <a:pt x="114" y="239"/>
                    <a:pt x="121" y="220"/>
                    <a:pt x="121" y="220"/>
                  </a:cubicBezTo>
                  <a:cubicBezTo>
                    <a:pt x="119" y="204"/>
                    <a:pt x="121" y="187"/>
                    <a:pt x="116" y="172"/>
                  </a:cubicBezTo>
                  <a:cubicBezTo>
                    <a:pt x="111" y="156"/>
                    <a:pt x="73" y="148"/>
                    <a:pt x="73" y="148"/>
                  </a:cubicBezTo>
                  <a:cubicBezTo>
                    <a:pt x="76" y="172"/>
                    <a:pt x="70" y="189"/>
                    <a:pt x="92" y="201"/>
                  </a:cubicBezTo>
                  <a:cubicBezTo>
                    <a:pt x="101" y="206"/>
                    <a:pt x="121" y="211"/>
                    <a:pt x="121" y="211"/>
                  </a:cubicBezTo>
                  <a:cubicBezTo>
                    <a:pt x="170" y="205"/>
                    <a:pt x="172" y="207"/>
                    <a:pt x="188" y="163"/>
                  </a:cubicBezTo>
                  <a:cubicBezTo>
                    <a:pt x="183" y="126"/>
                    <a:pt x="180" y="113"/>
                    <a:pt x="145" y="100"/>
                  </a:cubicBezTo>
                  <a:cubicBezTo>
                    <a:pt x="119" y="139"/>
                    <a:pt x="160" y="163"/>
                    <a:pt x="193" y="172"/>
                  </a:cubicBezTo>
                  <a:cubicBezTo>
                    <a:pt x="240" y="166"/>
                    <a:pt x="235" y="148"/>
                    <a:pt x="246" y="105"/>
                  </a:cubicBezTo>
                  <a:cubicBezTo>
                    <a:pt x="241" y="74"/>
                    <a:pt x="242" y="63"/>
                    <a:pt x="212" y="52"/>
                  </a:cubicBezTo>
                  <a:cubicBezTo>
                    <a:pt x="182" y="97"/>
                    <a:pt x="241" y="112"/>
                    <a:pt x="270" y="129"/>
                  </a:cubicBezTo>
                  <a:cubicBezTo>
                    <a:pt x="292" y="123"/>
                    <a:pt x="301" y="122"/>
                    <a:pt x="308" y="100"/>
                  </a:cubicBezTo>
                  <a:cubicBezTo>
                    <a:pt x="304" y="50"/>
                    <a:pt x="317" y="28"/>
                    <a:pt x="274" y="14"/>
                  </a:cubicBezTo>
                  <a:cubicBezTo>
                    <a:pt x="264" y="30"/>
                    <a:pt x="264" y="69"/>
                    <a:pt x="284" y="81"/>
                  </a:cubicBezTo>
                  <a:cubicBezTo>
                    <a:pt x="293" y="86"/>
                    <a:pt x="313" y="91"/>
                    <a:pt x="313" y="91"/>
                  </a:cubicBezTo>
                  <a:cubicBezTo>
                    <a:pt x="361" y="74"/>
                    <a:pt x="287" y="0"/>
                    <a:pt x="361" y="0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238880" y="19051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宋体"/>
              </a:rPr>
              <a:t>A-A coll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1454040"/>
                <a:ext cx="856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28600" y="762120"/>
            <a:ext cx="2819520" cy="5205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Jet Quench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8288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33520" y="2286000"/>
                <a:ext cx="20574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−</m:t>
                    </m:r>
                    <m:r>
                      <m:t xml:space="preserve">Δ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1295280"/>
                <a:ext cx="49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28600" y="2819520"/>
            <a:ext cx="6705720" cy="5205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Modification of Fragmentation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49360" y="3429000"/>
                <a:ext cx="2111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19320" y="4038480"/>
                <a:ext cx="22860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Δz</m:t>
                    </m:r>
                    <m:r>
                      <m:t xml:space="preserve">)</m:t>
                    </m:r>
                    <m:r>
                      <m:t xml:space="preserve">z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990720" y="40384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5760" y="4648320"/>
                <a:ext cx="58957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819520" y="5410080"/>
                <a:ext cx="533376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σ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∝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⊗</m:t>
                    </m:r>
                    <m:r>
                      <m:rPr>
                        <m:lit/>
                        <m:nor/>
                      </m:rPr>
                      <m:t xml:space="preserve">PDFs</m:t>
                    </m:r>
                    <m:r>
                      <m:t xml:space="preserve">⊗</m:t>
                    </m:r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den>
                    </m:f>
                    <m:r>
                      <m:t xml:space="preserve">⊗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304920" y="4572000"/>
            <a:ext cx="7848000" cy="1904760"/>
            <a:chOff x="304920" y="4572000"/>
            <a:chExt cx="7848000" cy="1904760"/>
          </a:xfrm>
        </p:grpSpPr>
        <p:sp>
          <p:nvSpPr>
            <p:cNvPr id="115" name=""/>
            <p:cNvSpPr/>
            <p:nvPr/>
          </p:nvSpPr>
          <p:spPr>
            <a:xfrm>
              <a:off x="7368480" y="5177880"/>
              <a:ext cx="784440" cy="1298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59640" y="5177880"/>
              <a:ext cx="5208480" cy="433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4920" y="4572000"/>
              <a:ext cx="1997640" cy="779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28600" y="5410080"/>
            <a:ext cx="2362320" cy="9471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Particle Pro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705720" y="3809880"/>
            <a:ext cx="2438280" cy="1676520"/>
            <a:chOff x="6705720" y="3809880"/>
            <a:chExt cx="2438280" cy="1676520"/>
          </a:xfrm>
        </p:grpSpPr>
        <p:sp>
          <p:nvSpPr>
            <p:cNvPr id="120" name=""/>
            <p:cNvSpPr/>
            <p:nvPr/>
          </p:nvSpPr>
          <p:spPr>
            <a:xfrm>
              <a:off x="6705720" y="50292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137440" y="411444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61480" y="4876920"/>
              <a:ext cx="152280" cy="3808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8213760" y="4952880"/>
              <a:ext cx="533520" cy="380880"/>
              <a:chOff x="8213760" y="4952880"/>
              <a:chExt cx="533520" cy="380880"/>
            </a:xfrm>
          </p:grpSpPr>
          <p:sp>
            <p:nvSpPr>
              <p:cNvPr id="124" name=""/>
              <p:cNvSpPr/>
              <p:nvPr/>
            </p:nvSpPr>
            <p:spPr>
              <a:xfrm>
                <a:off x="8213760" y="495288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213760" y="502920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213760" y="5105160"/>
                <a:ext cx="5335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213760" y="518148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8670960" y="3809880"/>
                  <a:ext cx="35892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8883720" y="5118120"/>
                  <a:ext cx="2602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~"/>
                        </m:accPr>
                        <m:e>
                          <m:r>
                            <m:t xml:space="preserve">S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7543800" y="4572000"/>
                  <a:ext cx="48744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"/>
            <p:cNvGrpSpPr/>
            <p:nvPr/>
          </p:nvGrpSpPr>
          <p:grpSpPr>
            <a:xfrm>
              <a:off x="7135920" y="4444560"/>
              <a:ext cx="536040" cy="574920"/>
              <a:chOff x="7135920" y="4444560"/>
              <a:chExt cx="536040" cy="57492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7504200" y="4444560"/>
                <a:ext cx="43560" cy="80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4001600">
                <a:off x="7256880" y="4542480"/>
                <a:ext cx="293760" cy="449640"/>
              </a:xfrm>
              <a:custGeom>
                <a:avLst/>
                <a:gdLst/>
                <a:ahLst/>
                <a:rect l="l" t="t" r="r" b="b"/>
                <a:pathLst>
                  <a:path w="361" h="259">
                    <a:moveTo>
                      <a:pt x="0" y="240"/>
                    </a:moveTo>
                    <a:cubicBezTo>
                      <a:pt x="39" y="231"/>
                      <a:pt x="36" y="217"/>
                      <a:pt x="49" y="225"/>
                    </a:cubicBezTo>
                    <a:cubicBezTo>
                      <a:pt x="58" y="230"/>
                      <a:pt x="43" y="227"/>
                      <a:pt x="53" y="230"/>
                    </a:cubicBezTo>
                    <a:cubicBezTo>
                      <a:pt x="58" y="232"/>
                      <a:pt x="82" y="259"/>
                      <a:pt x="82" y="259"/>
                    </a:cubicBezTo>
                    <a:cubicBezTo>
                      <a:pt x="92" y="256"/>
                      <a:pt x="108" y="259"/>
                      <a:pt x="111" y="249"/>
                    </a:cubicBezTo>
                    <a:cubicBezTo>
                      <a:pt x="114" y="239"/>
                      <a:pt x="121" y="220"/>
                      <a:pt x="121" y="220"/>
                    </a:cubicBezTo>
                    <a:cubicBezTo>
                      <a:pt x="119" y="204"/>
                      <a:pt x="121" y="187"/>
                      <a:pt x="116" y="172"/>
                    </a:cubicBezTo>
                    <a:cubicBezTo>
                      <a:pt x="111" y="156"/>
                      <a:pt x="73" y="148"/>
                      <a:pt x="73" y="148"/>
                    </a:cubicBezTo>
                    <a:cubicBezTo>
                      <a:pt x="76" y="172"/>
                      <a:pt x="70" y="189"/>
                      <a:pt x="92" y="201"/>
                    </a:cubicBezTo>
                    <a:cubicBezTo>
                      <a:pt x="101" y="206"/>
                      <a:pt x="121" y="211"/>
                      <a:pt x="121" y="211"/>
                    </a:cubicBezTo>
                    <a:cubicBezTo>
                      <a:pt x="170" y="205"/>
                      <a:pt x="172" y="207"/>
                      <a:pt x="188" y="163"/>
                    </a:cubicBezTo>
                    <a:cubicBezTo>
                      <a:pt x="183" y="126"/>
                      <a:pt x="180" y="113"/>
                      <a:pt x="145" y="100"/>
                    </a:cubicBezTo>
                    <a:cubicBezTo>
                      <a:pt x="119" y="139"/>
                      <a:pt x="160" y="163"/>
                      <a:pt x="193" y="172"/>
                    </a:cubicBezTo>
                    <a:cubicBezTo>
                      <a:pt x="240" y="166"/>
                      <a:pt x="235" y="148"/>
                      <a:pt x="246" y="105"/>
                    </a:cubicBezTo>
                    <a:cubicBezTo>
                      <a:pt x="241" y="74"/>
                      <a:pt x="242" y="63"/>
                      <a:pt x="212" y="52"/>
                    </a:cubicBezTo>
                    <a:cubicBezTo>
                      <a:pt x="182" y="97"/>
                      <a:pt x="241" y="112"/>
                      <a:pt x="270" y="129"/>
                    </a:cubicBezTo>
                    <a:cubicBezTo>
                      <a:pt x="292" y="123"/>
                      <a:pt x="301" y="122"/>
                      <a:pt x="308" y="100"/>
                    </a:cubicBezTo>
                    <a:cubicBezTo>
                      <a:pt x="304" y="50"/>
                      <a:pt x="317" y="28"/>
                      <a:pt x="274" y="14"/>
                    </a:cubicBezTo>
                    <a:cubicBezTo>
                      <a:pt x="264" y="30"/>
                      <a:pt x="264" y="69"/>
                      <a:pt x="284" y="81"/>
                    </a:cubicBezTo>
                    <a:cubicBezTo>
                      <a:pt x="293" y="86"/>
                      <a:pt x="313" y="91"/>
                      <a:pt x="313" y="91"/>
                    </a:cubicBezTo>
                    <a:cubicBezTo>
                      <a:pt x="361" y="74"/>
                      <a:pt x="287" y="0"/>
                      <a:pt x="361" y="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6781680" y="4648320"/>
                  <a:ext cx="41940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191120" y="3809880"/>
                <a:ext cx="30319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m>
                      <m:mr>
                        <m:e/>
                        <m:e>
                          <m:r>
                            <m:t xml:space="preserve">z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e>
                      </m:mr>
                    </m:m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  <m:sSup>
                          <m:e>
                            <m:r>
                              <m:t xml:space="preserve">'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C777-F956-4B33-8B17-9155128812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Light Quark Energy Lo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6934320" cy="5791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2280" y="990720"/>
            <a:ext cx="2438640" cy="13816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PHENI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Nucl. Phys. A757 (2005) 1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5715000"/>
            <a:ext cx="80773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Theoretical results from the light quark energy loss is consistent with the experiment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886200" cy="9813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37C-6CD2-40FC-A380-5C669BB6D8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avy quark energy loss: Early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724280" y="2362320"/>
                <a:ext cx="421668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/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e>
                              <m:sub/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/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/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647240" y="944640"/>
            <a:ext cx="4041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. Zhang, E. Wang, X.-N. Wang,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PRL93 (2004) 0723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. Dokshitzer &amp; D. Kharzeev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PLB 519(2001)1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4920" y="1066680"/>
            <a:ext cx="4343040" cy="1439640"/>
            <a:chOff x="304920" y="1066680"/>
            <a:chExt cx="4343040" cy="1439640"/>
          </a:xfrm>
        </p:grpSpPr>
        <p:sp>
          <p:nvSpPr>
            <p:cNvPr id="145" name=""/>
            <p:cNvSpPr/>
            <p:nvPr/>
          </p:nvSpPr>
          <p:spPr>
            <a:xfrm>
              <a:off x="380880" y="1066680"/>
              <a:ext cx="426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eavy quark has less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/dx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due to suppression of small angle gluon radi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5840" y="2003040"/>
              <a:ext cx="22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“</a:t>
              </a: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Dead Cone” eff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4920" y="1066680"/>
              <a:ext cx="4118760" cy="1439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638680" y="4114800"/>
            <a:ext cx="2971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J. Adams et. al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PRL 91(2003)0723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. Djordjevic, et. 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PRL 94(2005)1123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4343400" cy="3497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181480" y="3276720"/>
            <a:ext cx="360360" cy="72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789-F118-4B8E-B2BF-AB31CBDCE2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400" y="990720"/>
            <a:ext cx="5319720" cy="586728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4572000" y="2438280"/>
            <a:ext cx="4343040" cy="4114440"/>
            <a:chOff x="4572000" y="2438280"/>
            <a:chExt cx="4343040" cy="411444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rcRect l="1559" t="56489" r="14419" b="0"/>
            <a:stretch/>
          </p:blipFill>
          <p:spPr>
            <a:xfrm>
              <a:off x="4572000" y="2438280"/>
              <a:ext cx="4343040" cy="411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"/>
            <p:cNvGrpSpPr/>
            <p:nvPr/>
          </p:nvGrpSpPr>
          <p:grpSpPr>
            <a:xfrm>
              <a:off x="5331240" y="2438280"/>
              <a:ext cx="1104840" cy="556200"/>
              <a:chOff x="5331240" y="2438280"/>
              <a:chExt cx="1104840" cy="556200"/>
            </a:xfrm>
          </p:grpSpPr>
          <p:sp>
            <p:nvSpPr>
              <p:cNvPr id="155" name=""/>
              <p:cNvSpPr/>
              <p:nvPr/>
            </p:nvSpPr>
            <p:spPr>
              <a:xfrm>
                <a:off x="5331240" y="2438280"/>
                <a:ext cx="647280" cy="556200"/>
              </a:xfrm>
              <a:prstGeom prst="star5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62000" y="252828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33cc"/>
                    </a:solidFill>
                    <a:latin typeface="Arial"/>
                    <a:ea typeface="宋体"/>
                  </a:rPr>
                  <a:t>S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533520" y="5715000"/>
            <a:ext cx="84103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No Significant Difference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avy Quark Jet and Light Quark J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25000" y="1676520"/>
            <a:ext cx="33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Non-photonic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from heavy quark dec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1600" y="1600200"/>
            <a:ext cx="33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Charged hadron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Light quark fra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2BB-3007-4B8F-A919-7B69089422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619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Question: Heavy Quark Energy Lo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5029200" cy="4692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1752480"/>
            <a:ext cx="373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Theoretical Calc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52578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How Reason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28600" y="2590920"/>
                <a:ext cx="37227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  <m:r>
                          <m:t xml:space="preserve">/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ΔE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Δz</m:t>
                        </m:r>
                      </m:den>
                    </m:f>
                    <m:sSup>
                      <m:e>
                        <m:r>
                          <m:t xml:space="preserve">D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/</m:t>
                            </m:r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Δz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828800" y="3657600"/>
            <a:ext cx="182880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宋体"/>
              </a:rPr>
              <a:t>Energy loss 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10000" y="3103560"/>
            <a:ext cx="379440" cy="4399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22560" y="3103560"/>
            <a:ext cx="377640" cy="4399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6840" y="3470400"/>
            <a:ext cx="252360" cy="220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257280" y="3470400"/>
            <a:ext cx="315720" cy="220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873-C0BD-41DD-97D1-62EF6B5C1C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II. Modification of Frag. Func. in Cold Nucle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57360" y="114228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3708360" cy="221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1752480" y="3124080"/>
          <a:ext cx="568800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124080"/>
                    <a:ext cx="5688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457200" y="3886200"/>
            <a:ext cx="4192560" cy="1187280"/>
            <a:chOff x="457200" y="3886200"/>
            <a:chExt cx="4192560" cy="1187280"/>
          </a:xfrm>
        </p:grpSpPr>
        <p:graphicFrame>
          <p:nvGraphicFramePr>
            <p:cNvPr id="177" name=""/>
            <p:cNvGraphicFramePr/>
            <p:nvPr/>
          </p:nvGraphicFramePr>
          <p:xfrm>
            <a:off x="457200" y="4419360"/>
            <a:ext cx="4192560" cy="654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4419360"/>
                      <a:ext cx="4192560" cy="6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"/>
            <p:cNvSpPr/>
            <p:nvPr/>
          </p:nvSpPr>
          <p:spPr>
            <a:xfrm flipH="1">
              <a:off x="3657600" y="3886200"/>
              <a:ext cx="457200" cy="45720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58640" y="3733920"/>
            <a:ext cx="8477280" cy="2643120"/>
            <a:chOff x="458640" y="3733920"/>
            <a:chExt cx="8477280" cy="2643120"/>
          </a:xfrm>
        </p:grpSpPr>
        <p:graphicFrame>
          <p:nvGraphicFramePr>
            <p:cNvPr id="181" name=""/>
            <p:cNvGraphicFramePr/>
            <p:nvPr/>
          </p:nvGraphicFramePr>
          <p:xfrm>
            <a:off x="2514600" y="5639040"/>
            <a:ext cx="6421320" cy="738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14600" y="5639040"/>
                      <a:ext cx="6421320" cy="73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458640" y="5791320"/>
              <a:ext cx="157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rag. Fun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3733920"/>
              <a:ext cx="1066680" cy="175248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676520" y="3886200"/>
            <a:ext cx="5486400" cy="1779480"/>
            <a:chOff x="1676520" y="3886200"/>
            <a:chExt cx="5486400" cy="1779480"/>
          </a:xfrm>
        </p:grpSpPr>
        <p:graphicFrame>
          <p:nvGraphicFramePr>
            <p:cNvPr id="186" name=""/>
            <p:cNvGraphicFramePr/>
            <p:nvPr/>
          </p:nvGraphicFramePr>
          <p:xfrm>
            <a:off x="1676520" y="5029200"/>
            <a:ext cx="5486400" cy="636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676520" y="5029200"/>
                      <a:ext cx="5486400" cy="63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>
              <a:off x="5257800" y="3886200"/>
              <a:ext cx="0" cy="10666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752480" y="1587240"/>
            <a:ext cx="2743200" cy="1575000"/>
            <a:chOff x="1752480" y="1587240"/>
            <a:chExt cx="2743200" cy="1575000"/>
          </a:xfrm>
        </p:grpSpPr>
        <p:sp>
          <p:nvSpPr>
            <p:cNvPr id="190" name=""/>
            <p:cNvSpPr/>
            <p:nvPr/>
          </p:nvSpPr>
          <p:spPr>
            <a:xfrm>
              <a:off x="2514600" y="1752480"/>
              <a:ext cx="1488960" cy="140976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52680" y="2057400"/>
              <a:ext cx="15732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95480" y="2438280"/>
              <a:ext cx="157320" cy="14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71640" y="1940040"/>
              <a:ext cx="15732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76520" y="2716200"/>
              <a:ext cx="157320" cy="139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49400" y="2716200"/>
              <a:ext cx="157320" cy="139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3840" y="2151000"/>
              <a:ext cx="156960" cy="14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64040" y="1798560"/>
              <a:ext cx="155520" cy="14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1800" y="2644920"/>
              <a:ext cx="156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92440" y="2151000"/>
              <a:ext cx="156960" cy="14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76520" y="2927520"/>
              <a:ext cx="15732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24080" y="2514600"/>
              <a:ext cx="15732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14680" y="2644920"/>
              <a:ext cx="156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33840" y="2716200"/>
              <a:ext cx="156960" cy="139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28960" y="1870200"/>
              <a:ext cx="15552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06720" y="2927520"/>
              <a:ext cx="15732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64040" y="2011320"/>
              <a:ext cx="155520" cy="139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90800" y="2151000"/>
              <a:ext cx="155880" cy="14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43200" y="2514600"/>
              <a:ext cx="1254240" cy="71280"/>
            </a:xfrm>
            <a:custGeom>
              <a:avLst/>
              <a:gdLst/>
              <a:ahLst/>
              <a:rect l="l" t="t" r="r" b="b"/>
              <a:pathLst>
                <a:path w="1296" h="96">
                  <a:moveTo>
                    <a:pt x="0" y="48"/>
                  </a:moveTo>
                  <a:lnTo>
                    <a:pt x="528" y="0"/>
                  </a:lnTo>
                  <a:lnTo>
                    <a:pt x="912" y="96"/>
                  </a:lnTo>
                  <a:lnTo>
                    <a:pt x="12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86000" y="1905120"/>
              <a:ext cx="533520" cy="609480"/>
            </a:xfrm>
            <a:custGeom>
              <a:avLst/>
              <a:gdLst/>
              <a:ahLst/>
              <a:rect l="l" t="t" r="r" b="b"/>
              <a:pathLst>
                <a:path w="448" h="672">
                  <a:moveTo>
                    <a:pt x="0" y="0"/>
                  </a:moveTo>
                  <a:cubicBezTo>
                    <a:pt x="12" y="40"/>
                    <a:pt x="24" y="80"/>
                    <a:pt x="48" y="96"/>
                  </a:cubicBezTo>
                  <a:cubicBezTo>
                    <a:pt x="72" y="112"/>
                    <a:pt x="136" y="72"/>
                    <a:pt x="144" y="96"/>
                  </a:cubicBezTo>
                  <a:cubicBezTo>
                    <a:pt x="152" y="120"/>
                    <a:pt x="80" y="216"/>
                    <a:pt x="96" y="240"/>
                  </a:cubicBezTo>
                  <a:cubicBezTo>
                    <a:pt x="112" y="264"/>
                    <a:pt x="224" y="216"/>
                    <a:pt x="240" y="240"/>
                  </a:cubicBezTo>
                  <a:cubicBezTo>
                    <a:pt x="256" y="264"/>
                    <a:pt x="184" y="360"/>
                    <a:pt x="192" y="384"/>
                  </a:cubicBezTo>
                  <a:cubicBezTo>
                    <a:pt x="200" y="408"/>
                    <a:pt x="264" y="384"/>
                    <a:pt x="288" y="384"/>
                  </a:cubicBezTo>
                  <a:cubicBezTo>
                    <a:pt x="312" y="384"/>
                    <a:pt x="336" y="360"/>
                    <a:pt x="336" y="384"/>
                  </a:cubicBezTo>
                  <a:cubicBezTo>
                    <a:pt x="336" y="408"/>
                    <a:pt x="272" y="504"/>
                    <a:pt x="288" y="528"/>
                  </a:cubicBezTo>
                  <a:cubicBezTo>
                    <a:pt x="304" y="552"/>
                    <a:pt x="416" y="512"/>
                    <a:pt x="432" y="528"/>
                  </a:cubicBezTo>
                  <a:cubicBezTo>
                    <a:pt x="448" y="544"/>
                    <a:pt x="392" y="600"/>
                    <a:pt x="384" y="624"/>
                  </a:cubicBezTo>
                  <a:cubicBezTo>
                    <a:pt x="376" y="648"/>
                    <a:pt x="380" y="660"/>
                    <a:pt x="384" y="67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2480" y="194004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301840" y="1587240"/>
              <a:ext cx="54756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25880" y="2575080"/>
              <a:ext cx="23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025880" y="2503080"/>
              <a:ext cx="23508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46680" y="2575080"/>
              <a:ext cx="2365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83200" y="2575080"/>
              <a:ext cx="31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14800" y="2590920"/>
              <a:ext cx="31428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71800" y="2209680"/>
              <a:ext cx="157320" cy="14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57600" y="2362320"/>
              <a:ext cx="15732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09880" y="2514600"/>
              <a:ext cx="15732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0400" y="2362320"/>
              <a:ext cx="15732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29000" y="2438280"/>
              <a:ext cx="157320" cy="14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28600" y="1143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e-A D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492-10D6-4EE2-B2F4-897D56ADA0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odified Fragmentation Fun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4114800" cy="2336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362320" y="5562720"/>
            <a:ext cx="289548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Fragmentation function in vacu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83808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宋体"/>
              </a:rPr>
              <a:t>X.-N. Wang, X. Guo, NPA696 (2001); PRL85 (2000) 35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66680" y="4343400"/>
                <a:ext cx="77724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QCD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D</m:t>
                        </m:r>
                      </m:e>
                      <m:sub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6172200" y="5715000"/>
            <a:ext cx="26668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Modification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733920" y="4952880"/>
            <a:ext cx="609480" cy="609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238880" y="4952520"/>
            <a:ext cx="609840" cy="762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B4C-3345-47C0-8454-7D792ECE56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2:47:42Z</dcterms:created>
  <dc:creator>Xin-Nian Wang</dc:creator>
  <dc:description/>
  <dc:language>en-US</dc:language>
  <cp:lastModifiedBy>wangek</cp:lastModifiedBy>
  <dcterms:modified xsi:type="dcterms:W3CDTF">2008-10-14T16:48:15Z</dcterms:modified>
  <cp:revision>169</cp:revision>
  <dc:subject/>
  <dc:title>Rapidity Asymmetry in d+A Collisions</dc:title>
</cp:coreProperties>
</file>