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799-9182-49B3-80FE-C262D389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1BA-CB0C-4539-8E76-27692886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C42-129E-4F65-92A1-1CDB57E2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03F-2695-4FB8-A95F-B9D3FEDF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A7D-6DD1-4675-A704-996FCAF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5DB-F46D-4463-A074-4E97DDA2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6A6-6AF2-4AC4-87FF-5B8F4F7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107-D205-4091-8F6D-57DF6B98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B9F-FDDF-4426-A5F3-9FEDAF9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DC7-29AD-4890-8B0E-2C224D8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CE8-21A1-4F98-9EBE-2EA0F63D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EB1-C214-4E55-B0B0-09A3BDB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AF6-6350-4857-B991-5A3A447D6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lvren.cn/1/index16780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268280"/>
            <a:ext cx="6048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ATHIC 2010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Arial"/>
              </a:rPr>
              <a:t>in Wuh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415280" cy="474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587700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67280" y="292428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0360" y="6021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weet Oliv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桂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553440" cy="4637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24360" y="58053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83360" cy="4415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544500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ference Site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uilding of The College of Physical Science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华中师范大学校友会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5294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5589720"/>
            <a:ext cx="82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Hotel: Guiyuan Hotel in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Three minuts walk to conferen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4000" cy="3868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88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5300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(Bath room, Air condition, Internet, TV, Telephone, 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8496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What is date for conferen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Oct.  2010 (prelimin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est season in Wuha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temperature~20 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weet Oli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桂花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date from STAR and PHE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HC/ALICE is ru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906480"/>
            <a:ext cx="842472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Arial"/>
                <a:ea typeface="华文楷体"/>
              </a:rPr>
              <a:t>中國歡迎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Welcome to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Arial"/>
                <a:ea typeface="华文楷体"/>
              </a:rPr>
              <a:t>武漢歡迎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Welcome to Wu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Arial"/>
                <a:ea typeface="华文楷体"/>
              </a:rPr>
              <a:t>華中師範大學歡迎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Welcome to Huazhong Norma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3288240"/>
            <a:ext cx="842472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楷体"/>
              </a:rPr>
              <a:t>2010</a:t>
            </a:r>
            <a:r>
              <a:rPr b="1" lang="zh-TW" sz="5400" spc="-1" strike="noStrike">
                <a:solidFill>
                  <a:srgbClr val="ff3300"/>
                </a:solidFill>
                <a:latin typeface="Arial"/>
                <a:ea typeface="华文楷体"/>
              </a:rPr>
              <a:t>年武漢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See You in Wuhan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4080" y="765000"/>
            <a:ext cx="5662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さよなら  つく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Good bye,  Tsuku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33336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Where is Wuh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9640" y="1557360"/>
            <a:ext cx="8388360" cy="4219560"/>
            <a:chOff x="539640" y="1557360"/>
            <a:chExt cx="8388360" cy="4219560"/>
          </a:xfrm>
        </p:grpSpPr>
        <p:grpSp>
          <p:nvGrpSpPr>
            <p:cNvPr id="44" name=""/>
            <p:cNvGrpSpPr/>
            <p:nvPr/>
          </p:nvGrpSpPr>
          <p:grpSpPr>
            <a:xfrm>
              <a:off x="539640" y="1557360"/>
              <a:ext cx="8388360" cy="4219560"/>
              <a:chOff x="539640" y="1557360"/>
              <a:chExt cx="8388360" cy="421956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1557360"/>
                <a:ext cx="8372520" cy="421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6480000" y="3934080"/>
                <a:ext cx="73080" cy="71280"/>
              </a:xfrm>
              <a:prstGeom prst="ellipse">
                <a:avLst/>
              </a:prstGeom>
              <a:solidFill>
                <a:srgbClr val="e509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80000" y="3934080"/>
                <a:ext cx="100800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福冈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Fukuok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80360" y="3213360"/>
                <a:ext cx="64764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oky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688000" y="2637000"/>
                <a:ext cx="64764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Seoul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3059280" y="3933720"/>
              <a:ext cx="3457440" cy="647640"/>
            </a:xfrm>
            <a:custGeom>
              <a:avLst/>
              <a:gdLst/>
              <a:ahLst/>
              <a:rect l="l" t="t" r="r" b="b"/>
              <a:pathLst>
                <a:path w="2178" h="408">
                  <a:moveTo>
                    <a:pt x="0" y="408"/>
                  </a:moveTo>
                  <a:cubicBezTo>
                    <a:pt x="907" y="238"/>
                    <a:pt x="1815" y="68"/>
                    <a:pt x="217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59280" y="2781360"/>
              <a:ext cx="2808000" cy="1800000"/>
            </a:xfrm>
            <a:custGeom>
              <a:avLst/>
              <a:gdLst/>
              <a:ahLst/>
              <a:rect l="l" t="t" r="r" b="b"/>
              <a:pathLst>
                <a:path w="2178" h="408">
                  <a:moveTo>
                    <a:pt x="0" y="408"/>
                  </a:moveTo>
                  <a:cubicBezTo>
                    <a:pt x="907" y="238"/>
                    <a:pt x="1815" y="68"/>
                    <a:pt x="217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3280" y="3357720"/>
              <a:ext cx="3889440" cy="1487160"/>
            </a:xfrm>
            <a:custGeom>
              <a:avLst/>
              <a:gdLst/>
              <a:ahLst/>
              <a:rect l="l" t="t" r="r" b="b"/>
              <a:pathLst>
                <a:path w="2450" h="937">
                  <a:moveTo>
                    <a:pt x="2450" y="0"/>
                  </a:moveTo>
                  <a:cubicBezTo>
                    <a:pt x="1905" y="347"/>
                    <a:pt x="1361" y="695"/>
                    <a:pt x="953" y="816"/>
                  </a:cubicBezTo>
                  <a:cubicBezTo>
                    <a:pt x="545" y="937"/>
                    <a:pt x="272" y="831"/>
                    <a:pt x="0" y="72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9280" y="4508640"/>
              <a:ext cx="1512720" cy="312480"/>
            </a:xfrm>
            <a:custGeom>
              <a:avLst/>
              <a:gdLst/>
              <a:ahLst/>
              <a:rect l="l" t="t" r="r" b="b"/>
              <a:pathLst>
                <a:path w="953" h="197">
                  <a:moveTo>
                    <a:pt x="0" y="91"/>
                  </a:moveTo>
                  <a:cubicBezTo>
                    <a:pt x="170" y="144"/>
                    <a:pt x="340" y="197"/>
                    <a:pt x="499" y="182"/>
                  </a:cubicBezTo>
                  <a:cubicBezTo>
                    <a:pt x="658" y="167"/>
                    <a:pt x="805" y="83"/>
                    <a:pt x="95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360" y="2084400"/>
              <a:ext cx="5040360" cy="1200240"/>
            </a:xfrm>
            <a:custGeom>
              <a:avLst/>
              <a:gdLst/>
              <a:ahLst/>
              <a:rect l="l" t="t" r="r" b="b"/>
              <a:pathLst>
                <a:path w="3175" h="756">
                  <a:moveTo>
                    <a:pt x="3175" y="756"/>
                  </a:moveTo>
                  <a:cubicBezTo>
                    <a:pt x="2736" y="499"/>
                    <a:pt x="2298" y="242"/>
                    <a:pt x="1769" y="121"/>
                  </a:cubicBezTo>
                  <a:cubicBezTo>
                    <a:pt x="1240" y="0"/>
                    <a:pt x="620" y="15"/>
                    <a:pt x="0" y="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8920" y="2133720"/>
              <a:ext cx="793440" cy="2447640"/>
            </a:xfrm>
            <a:custGeom>
              <a:avLst/>
              <a:gdLst/>
              <a:ahLst/>
              <a:rect l="l" t="t" r="r" b="b"/>
              <a:pathLst>
                <a:path w="500" h="1542">
                  <a:moveTo>
                    <a:pt x="500" y="0"/>
                  </a:moveTo>
                  <a:cubicBezTo>
                    <a:pt x="296" y="257"/>
                    <a:pt x="92" y="514"/>
                    <a:pt x="46" y="771"/>
                  </a:cubicBezTo>
                  <a:cubicBezTo>
                    <a:pt x="0" y="1028"/>
                    <a:pt x="113" y="1285"/>
                    <a:pt x="227" y="154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95280" y="5516640"/>
            <a:ext cx="2808360" cy="10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 flight per 2 or 3 hour in the day time from Beijing or Shanghai to Wu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43280" y="4797000"/>
            <a:ext cx="576360" cy="57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32000" y="3573000"/>
            <a:ext cx="1368360" cy="1800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89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How about Wuh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29600" cy="416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opul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5516640"/>
            <a:ext cx="2232000" cy="10688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Huazhong Normal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219280" y="4508640"/>
            <a:ext cx="1368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4292640"/>
            <a:ext cx="2174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940360" cy="324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6486480" cy="367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72360" y="62064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angtze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950000" cy="558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4002120" cy="537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8000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ellow Cran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湖北省博物馆图片 - 湖北省博物馆清晰大图片 - 湖北省博物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5256000" cy="324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700360" y="3645000"/>
            <a:ext cx="6119640" cy="2955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56360" y="76500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ubei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216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cient B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more than 2000 years 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77080" cy="4587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890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Where is for ATHIC 2010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13800" cy="518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51280" y="587700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5565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51280" y="58053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5:18:09Z</dcterms:created>
  <dc:creator>sdfssd</dc:creator>
  <dc:description/>
  <dc:language>en-US</dc:language>
  <cp:lastModifiedBy>wangek</cp:lastModifiedBy>
  <dcterms:modified xsi:type="dcterms:W3CDTF">2008-10-15T06:32:07Z</dcterms:modified>
  <cp:revision>22</cp:revision>
  <dc:subject/>
  <dc:title>幻灯片 1</dc:title>
</cp:coreProperties>
</file>