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274-BA14-4CF8-BF04-1D0530F9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67B5-0D58-4831-B59C-E3411A89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CFBA-BBF5-474D-BD24-BC166E84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宇宙の晴れ上がり」の説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9B7A-6133-4AD1-A061-1CE56B2F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4E0-EFB6-491F-9DD7-76CE1A1E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3E5-621A-45EE-A5C8-AE7CA810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0790-9DC6-40B0-B1A3-C6A1362D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30F-96CE-4947-B90A-D45A5F91A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1576-2B87-4932-BC41-F525D5AC0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B5A1-2A8D-4E4E-8F2C-D7DDE0CBA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EE7A-425A-46AA-8FC1-D001F6CC0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FC17-F424-458B-AC2E-FAEE12BE7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8E37-7F09-4661-B101-FA8F2E90A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FCE6-4CBD-401D-BC4B-524431DEF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3C0A-A7BA-4AA1-9FBC-F02710CF8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1E16-15CE-401A-AA21-C5A7E4F4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61CF-DF35-421D-BF13-EA4266072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100D-5022-4224-8562-82FEDC90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FC55-01D5-4463-B045-56501C566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6783-DCB0-4EEB-A066-514034382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１９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7B6-BC89-4741-9FE1-0BB65CF6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フッター プレースホルダ 3"/>
          <p:cNvSpPr/>
          <p:nvPr/>
        </p:nvSpPr>
        <p:spPr>
          <a:xfrm>
            <a:off x="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DDB-2E84-465C-933C-FF6FEB23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一貫教育プログラム説明会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）宇宙史一貫教育プログラムの趣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履修のガイドライ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）今年度拠点実習のプラ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ＣＥＲＮ班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下村真弥研究員）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フェルミ班（倉田正和研究員）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４）宇宙史セミナーの予定（瀬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５）質疑応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5247720" y="2057400"/>
            <a:ext cx="27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時；平成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４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０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場所；自然系棟Ｂ１１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履修要領（後期課程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拠点実習Ⅲ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後期課程１年次に</a:t>
            </a:r>
            <a:r>
              <a:rPr b="0" lang="ja-JP" sz="12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「国際研究計画検討集会」へ派遣し、博士論文構想を策定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する。博士論文構想作成は口頭発表させ、これを宇宙史特別研究Ⅲの認定要件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特講Ⅲ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研究についての非常勤講師による集中講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特別研究Ⅲ（６単位）、同Ⅳ（６単位）、同Ⅴ（６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Ⅲ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博士論文の研究計画作成と立案を行う。Ⅳでは約６ヶ月程度の拠点滞在によって研究展開・実施を行い、Ⅴでは約６ヶ月程度の拠点滞在によって論文作成を修了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2CA-1659-4FC1-97DD-9802BF0D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本年度の宇宙史拠点実習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Ⅰ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Ⅱ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のスケジュール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フェルミ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日～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日）計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　現地対応者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倉田正和研究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宿舎等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林隆康さ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素粒子実験１年（木内、橋本）２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素粒子実験２年（河内山、瀬賀、塙、林、松隈、三井）６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他に素粒子実験１年（田中、濱崎）２名は科研費による滞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原子核実験２年（横山、浜田、梶谷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観測２年　（秋山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CERN</a:t>
            </a: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日～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日）計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　現地対応者；下村真弥研究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宿舎、チケット；下村真弥研究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素粒子実験１年（黒川、小池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素粒子実験２年（高橋、深見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他に素粒子実験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山田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１名は科研費による滞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原子核実験１年（竹内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原子核実験２年（轟木、木村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観測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年　（長崎）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観測２年　（前橋）１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中間報告会（後日日程調整）、最終報告会をもって履修完了と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パスポートと保険の準備を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1B35-96D9-49BC-A957-AEDD1815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本年度の宇宙史拠点実習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Ⅲ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のスケジュール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CERN</a:t>
            </a: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　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　　　現地対応者；下村研究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原子核実験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年（坂田、佐野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フェルミ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　　　現地対応者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素粒子実験１年（武政、須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国土地理院</a:t>
            </a:r>
            <a:r>
              <a:rPr b="0" lang="ja-JP" sz="1200" spc="-1" strike="noStrike">
                <a:solidFill>
                  <a:srgbClr val="0000ff"/>
                </a:solidFill>
                <a:latin typeface="ヒラギノ丸ゴ Pro W4"/>
                <a:ea typeface="ヒラギノ丸ゴ Pro W4"/>
              </a:rPr>
              <a:t>　　　　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計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名　　　現地対応者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宇宙観測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年（扇野、荒井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BAD-3186-48F5-9BA0-F625D39A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正方形/長方形 4"/>
          <p:cNvSpPr/>
          <p:nvPr/>
        </p:nvSpPr>
        <p:spPr>
          <a:xfrm>
            <a:off x="685800" y="1523880"/>
            <a:ext cx="8077320" cy="5202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拠点実習Ⅲ（１単位）：　専門科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後期課程１年次に</a:t>
            </a:r>
            <a:r>
              <a:rPr b="0" i="1" lang="ja-JP" sz="14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「国際研究計画検討集会」へ派遣し、博士論文構想を策定</a:t>
            </a: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する。博士論文構想作成は口頭発表させ、これを宇宙史特別研究Ⅲの認定要件と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 rot="5400000">
            <a:off x="-2067120" y="2066760"/>
            <a:ext cx="6856560" cy="2722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rIns="13500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ビッグバン宇宙論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066680"/>
            <a:ext cx="5329080" cy="5951520"/>
          </a:xfrm>
          <a:prstGeom prst="rect">
            <a:avLst/>
          </a:prstGeom>
          <a:noFill/>
          <a:ln w="0">
            <a:noFill/>
          </a:ln>
        </p:spPr>
        <p:txBody>
          <a:bodyPr rIns="135000" anchor="t">
            <a:normAutofit/>
          </a:bodyPr>
          <a:p>
            <a:pPr lvl="1" marL="1114560" indent="-4064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約１４０億年前に大爆発とともに私たちの宇宙が発生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1114560" indent="-4064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想像もつかない高温・高密度状態から膨張し、膨張と共に温度が低下してきた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39640" indent="-4824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宇宙の進化を遡る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0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億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遠方銀河の赤方偏移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30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万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宇宙の晴れ上がり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宇宙背景放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3min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元素合成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元素の存在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ビッグバン宇宙論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持する証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895480" y="1143000"/>
            <a:ext cx="122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ＱＧＰ</a:t>
            </a:r>
            <a:r>
              <a:rPr b="0" lang="en-US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→</a:t>
            </a: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ハドロンガ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438280" y="22096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fb100f"/>
                </a:solidFill>
                <a:latin typeface="Times New Roman"/>
                <a:ea typeface="Times New Roman"/>
              </a:rPr>
              <a:t>He</a:t>
            </a: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などの軽元素合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362320" y="2743200"/>
            <a:ext cx="198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宇宙背景放射</a:t>
            </a:r>
            <a:br>
              <a:rPr sz="1500"/>
            </a:b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「宇宙の晴れ上がり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781000" y="4038480"/>
            <a:ext cx="8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原始銀河の形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362320" y="1600200"/>
            <a:ext cx="25905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宇宙背景ニュートリノ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(</a:t>
            </a:r>
            <a:r>
              <a:rPr b="0" lang="ja-JP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ニュートリノフリーズアウト</a:t>
            </a:r>
            <a:r>
              <a:rPr b="0" lang="en-US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611440" y="762120"/>
            <a:ext cx="115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質量起源</a:t>
            </a:r>
            <a:r>
              <a:rPr b="0" lang="en-US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Hig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 flipV="1">
            <a:off x="2133360" y="914040"/>
            <a:ext cx="409320" cy="353880"/>
          </a:xfrm>
          <a:prstGeom prst="line">
            <a:avLst/>
          </a:prstGeom>
          <a:ln w="25560">
            <a:solidFill>
              <a:srgbClr val="fb10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 flipV="1">
            <a:off x="1752480" y="685800"/>
            <a:ext cx="790560" cy="201600"/>
          </a:xfrm>
          <a:prstGeom prst="line">
            <a:avLst/>
          </a:prstGeom>
          <a:ln w="25560">
            <a:solidFill>
              <a:srgbClr val="fb10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121560" y="5181480"/>
            <a:ext cx="145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銀河中心のブラックホー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90920" y="4495680"/>
            <a:ext cx="2819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超新星爆発における</a:t>
            </a:r>
            <a:br>
              <a:rPr sz="1500"/>
            </a:b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重元素合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フッター プレースホルダ 3"/>
          <p:cNvSpPr/>
          <p:nvPr/>
        </p:nvSpPr>
        <p:spPr>
          <a:xfrm>
            <a:off x="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１９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9217-E6A5-41D1-8D0F-B175E235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bigbang2"/>
          <p:cNvPicPr/>
          <p:nvPr/>
        </p:nvPicPr>
        <p:blipFill>
          <a:blip r:embed="rId1"/>
          <a:stretch/>
        </p:blipFill>
        <p:spPr>
          <a:xfrm rot="16200000">
            <a:off x="3807360" y="-835560"/>
            <a:ext cx="1376640" cy="883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2736720" y="-5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素粒子・原子核・宇宙物理学と宇宙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Zapf Ding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素粒子、原子核、宇宙物理学の抱える課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素粒子物理学；質量の起源、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原子核物理学；クォーク・グルオンプラズマ、宇宙元素合成、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宇宙物理学；銀河の進化、ブラックホール、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Zapf Ding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れらの課題は宇宙の進化の歴史における重要なエポックを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0" y="4495680"/>
            <a:ext cx="8699040" cy="789120"/>
            <a:chOff x="0" y="4495680"/>
            <a:chExt cx="8699040" cy="789120"/>
          </a:xfrm>
        </p:grpSpPr>
        <p:sp>
          <p:nvSpPr>
            <p:cNvPr id="72" name="Oval 7"/>
            <p:cNvSpPr/>
            <p:nvPr/>
          </p:nvSpPr>
          <p:spPr>
            <a:xfrm>
              <a:off x="0" y="4495680"/>
              <a:ext cx="283176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素粒子の拠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分室＠フェルミ研究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ＣＤＦ国際共同研究チー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8"/>
            <p:cNvSpPr/>
            <p:nvPr/>
          </p:nvSpPr>
          <p:spPr>
            <a:xfrm>
              <a:off x="2933640" y="4495680"/>
              <a:ext cx="283140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原子核の拠点</a:t>
              </a:r>
              <a:br>
                <a:rPr sz="1400"/>
              </a:b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分室＠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欧州共同原子核研究機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国際共同研究チー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9"/>
            <p:cNvSpPr/>
            <p:nvPr/>
          </p:nvSpPr>
          <p:spPr>
            <a:xfrm>
              <a:off x="5867280" y="4495680"/>
              <a:ext cx="283176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宇宙観測の拠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Line 11"/>
          <p:cNvSpPr/>
          <p:nvPr/>
        </p:nvSpPr>
        <p:spPr>
          <a:xfrm flipH="1">
            <a:off x="4495320" y="5257800"/>
            <a:ext cx="2667240" cy="1295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219320" y="5257800"/>
            <a:ext cx="594360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990360" y="5257800"/>
            <a:ext cx="3276360" cy="609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7162920" y="5257800"/>
            <a:ext cx="75960" cy="6858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990360" y="5257800"/>
            <a:ext cx="228600" cy="6094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267080" y="5257800"/>
            <a:ext cx="3657600" cy="6858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 flipV="1">
            <a:off x="914400" y="3504960"/>
            <a:ext cx="380880" cy="99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 flipV="1">
            <a:off x="1295280" y="3657600"/>
            <a:ext cx="281952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 flipV="1">
            <a:off x="5562720" y="3581280"/>
            <a:ext cx="167616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11A-E388-4D9A-B8D3-B7489CEC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209680" y="914400"/>
            <a:ext cx="6553440" cy="426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2133720" y="838080"/>
            <a:ext cx="4876560" cy="205740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igbang2"/>
          <p:cNvPicPr/>
          <p:nvPr/>
        </p:nvPicPr>
        <p:blipFill>
          <a:blip r:embed="rId1"/>
          <a:stretch/>
        </p:blipFill>
        <p:spPr>
          <a:xfrm>
            <a:off x="76320" y="685800"/>
            <a:ext cx="183348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一貫教育の重要性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53337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素粒子・原子核・宇宙物理学の課題は互いに重なり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宇宙史的自然観から統一的に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日の「学際領域」が明日の「中心学問領域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917880" y="1752480"/>
            <a:ext cx="311400" cy="1220760"/>
          </a:xfrm>
          <a:custGeom>
            <a:avLst/>
            <a:gdLst>
              <a:gd name="textAreaLeft" fmla="*/ 0 w 311400"/>
              <a:gd name="textAreaRight" fmla="*/ 112320 w 311400"/>
              <a:gd name="textAreaTop" fmla="*/ 31680 h 1220760"/>
              <a:gd name="textAreaBottom" fmla="*/ 118908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86200" y="20574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1523880" y="762120"/>
            <a:ext cx="685800" cy="5790960"/>
          </a:xfrm>
          <a:prstGeom prst="downArrow">
            <a:avLst>
              <a:gd name="adj1" fmla="val 50000"/>
              <a:gd name="adj2" fmla="val 131196"/>
            </a:avLst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ビッグバンから現在に至る宇宙と物質の進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3048120" y="2286000"/>
            <a:ext cx="4419360" cy="167652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5486400" y="838080"/>
            <a:ext cx="3352680" cy="441972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486400" y="838080"/>
            <a:ext cx="3352680" cy="44197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2133720" y="838080"/>
            <a:ext cx="4876560" cy="20574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3048120" y="2286000"/>
            <a:ext cx="4419360" cy="16765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4050000" y="1139760"/>
            <a:ext cx="383400" cy="106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超弦理論・超重力理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大統一理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質量の起源・ヒッグス粒子探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4817520" y="2971800"/>
            <a:ext cx="912240" cy="824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元素合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不安定原子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534360" y="949320"/>
            <a:ext cx="1521720" cy="398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ビッグバ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宇宙大域構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物質創成・進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銀河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銀河中心ブラックホー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星間物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惑星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886200" y="2406600"/>
            <a:ext cx="2666880" cy="337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クォーク・グルオン・プラズ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6224760" y="1324080"/>
            <a:ext cx="383400" cy="58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ダーク・マタ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ダーク・エネルギ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 rot="711000">
            <a:off x="5167440" y="838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素粒子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 rot="1219800">
            <a:off x="3338280" y="3428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原子核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 rot="1013400">
            <a:off x="6497280" y="4952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宇宙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3735720" y="4518000"/>
            <a:ext cx="535680" cy="52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宇宙史一貫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31E-AAE2-4013-B9E3-0BAD75FB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800000"/>
                </a:solidFill>
                <a:latin typeface="Arial"/>
              </a:rPr>
              <a:t>宇宙史一貫教育のメカニズム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海外の３つの教育・研究拠点と筑波キャンパスを循環する人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宇宙の進化の過程としての統一的視点を養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976680" y="1295280"/>
            <a:ext cx="7465320" cy="4251600"/>
            <a:chOff x="976680" y="1295280"/>
            <a:chExt cx="7465320" cy="4251600"/>
          </a:xfrm>
        </p:grpSpPr>
        <p:grpSp>
          <p:nvGrpSpPr>
            <p:cNvPr id="112" name="Group 5"/>
            <p:cNvGrpSpPr/>
            <p:nvPr/>
          </p:nvGrpSpPr>
          <p:grpSpPr>
            <a:xfrm>
              <a:off x="1122120" y="1295280"/>
              <a:ext cx="7319880" cy="3992400"/>
              <a:chOff x="1122120" y="1295280"/>
              <a:chExt cx="7319880" cy="3992400"/>
            </a:xfrm>
          </p:grpSpPr>
          <p:sp>
            <p:nvSpPr>
              <p:cNvPr id="113" name="Oval 6"/>
              <p:cNvSpPr/>
              <p:nvPr/>
            </p:nvSpPr>
            <p:spPr>
              <a:xfrm>
                <a:off x="2985120" y="1295280"/>
                <a:ext cx="306108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素粒子実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米国フェルミ研究所・シカゴ大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ＣＤＦ国際共同研究チー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7"/>
              <p:cNvSpPr/>
              <p:nvPr/>
            </p:nvSpPr>
            <p:spPr>
              <a:xfrm>
                <a:off x="1122120" y="4156560"/>
                <a:ext cx="306072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原子核実験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RN(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欧州共同原子核研究機構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LICE</a:t>
                </a: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国際共同研究チー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8"/>
              <p:cNvSpPr/>
              <p:nvPr/>
            </p:nvSpPr>
            <p:spPr>
              <a:xfrm>
                <a:off x="3783600" y="2892240"/>
                <a:ext cx="1330920" cy="9979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筑波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9"/>
              <p:cNvSpPr/>
              <p:nvPr/>
            </p:nvSpPr>
            <p:spPr>
              <a:xfrm>
                <a:off x="5380920" y="4156560"/>
                <a:ext cx="306108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宇宙観測</a:t>
                </a:r>
                <a:br>
                  <a:rPr sz="1600"/>
                </a:b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豪国立天体望遠鏡研究所・</a:t>
                </a:r>
                <a:br>
                  <a:rPr sz="1600"/>
                </a:b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ハワイ国立天文台な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ＶＬＢＩ国際共同研究チー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AutoShape 10"/>
            <p:cNvSpPr/>
            <p:nvPr/>
          </p:nvSpPr>
          <p:spPr>
            <a:xfrm flipH="1" rot="17183400">
              <a:off x="1561680" y="2559600"/>
              <a:ext cx="1990800" cy="116712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 flipV="1" rot="14737800">
              <a:off x="5329440" y="2488320"/>
              <a:ext cx="1990800" cy="116676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2"/>
            <p:cNvSpPr/>
            <p:nvPr/>
          </p:nvSpPr>
          <p:spPr>
            <a:xfrm flipV="1" rot="21393000">
              <a:off x="3751200" y="4533480"/>
              <a:ext cx="1990800" cy="95400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 rot="18798600">
              <a:off x="5290920" y="3522240"/>
              <a:ext cx="617760" cy="852480"/>
            </a:xfrm>
            <a:prstGeom prst="upDownArrow">
              <a:avLst>
                <a:gd name="adj1" fmla="val 41991"/>
                <a:gd name="adj2" fmla="val 5350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4"/>
            <p:cNvSpPr/>
            <p:nvPr/>
          </p:nvSpPr>
          <p:spPr>
            <a:xfrm flipH="1" rot="2801400">
              <a:off x="3299760" y="3450240"/>
              <a:ext cx="617400" cy="852480"/>
            </a:xfrm>
            <a:prstGeom prst="upDownArrow">
              <a:avLst>
                <a:gd name="adj1" fmla="val 41991"/>
                <a:gd name="adj2" fmla="val 5353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5"/>
            <p:cNvSpPr/>
            <p:nvPr/>
          </p:nvSpPr>
          <p:spPr>
            <a:xfrm rot="21571200">
              <a:off x="4177800" y="2360160"/>
              <a:ext cx="617760" cy="665280"/>
            </a:xfrm>
            <a:prstGeom prst="upDownArrow">
              <a:avLst>
                <a:gd name="adj1" fmla="val 41991"/>
                <a:gd name="adj2" fmla="val 4175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7325280" y="264492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br>
                <a:rPr sz="1600"/>
              </a:b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宇宙の構造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4389840" y="434340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宇宙の進化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976680" y="266688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br>
                <a:rPr sz="1600"/>
              </a:b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質量の起源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95AB-E530-41FA-814D-62734E4E7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教育研究拠点（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19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9" name="Picture 6" descr="fnal-tevatron"/>
          <p:cNvPicPr/>
          <p:nvPr/>
        </p:nvPicPr>
        <p:blipFill>
          <a:blip r:embed="rId1"/>
          <a:stretch/>
        </p:blipFill>
        <p:spPr>
          <a:xfrm>
            <a:off x="3429000" y="762120"/>
            <a:ext cx="1901880" cy="1757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4091040" y="2666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素粒子実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250760" y="2590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宇宙観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国土地理院電波望遠鏡"/>
          <p:cNvPicPr/>
          <p:nvPr/>
        </p:nvPicPr>
        <p:blipFill>
          <a:blip r:embed="rId2"/>
          <a:stretch/>
        </p:blipFill>
        <p:spPr>
          <a:xfrm>
            <a:off x="6629400" y="990720"/>
            <a:ext cx="1901880" cy="1425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104292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原子核実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974600" cy="145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4"/>
          <a:stretch/>
        </p:blipFill>
        <p:spPr>
          <a:xfrm>
            <a:off x="1600200" y="3809880"/>
            <a:ext cx="6095880" cy="287820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1447920" y="3124080"/>
            <a:ext cx="76176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648320" y="2971800"/>
            <a:ext cx="205740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 flipH="1">
            <a:off x="4495680" y="2895480"/>
            <a:ext cx="289584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4647960" y="2895480"/>
            <a:ext cx="2819160" cy="3048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 flipH="1">
            <a:off x="5562360" y="2895480"/>
            <a:ext cx="1904760" cy="1981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650960" y="304812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ＬＨ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ＬＩＣ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193280" y="304812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3DB1-ED13-442B-B04F-C9181EE2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コース履修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990720" y="990720"/>
            <a:ext cx="7086600" cy="580680"/>
            <a:chOff x="990720" y="990720"/>
            <a:chExt cx="7086600" cy="580680"/>
          </a:xfrm>
        </p:grpSpPr>
        <p:grpSp>
          <p:nvGrpSpPr>
            <p:cNvPr id="146" name="Group 4"/>
            <p:cNvGrpSpPr/>
            <p:nvPr/>
          </p:nvGrpSpPr>
          <p:grpSpPr>
            <a:xfrm>
              <a:off x="1113840" y="990720"/>
              <a:ext cx="6840720" cy="580680"/>
              <a:chOff x="1113840" y="990720"/>
              <a:chExt cx="6840720" cy="580680"/>
            </a:xfrm>
          </p:grpSpPr>
          <p:sp>
            <p:nvSpPr>
              <p:cNvPr id="147" name="Text Box 5"/>
              <p:cNvSpPr/>
              <p:nvPr/>
            </p:nvSpPr>
            <p:spPr>
              <a:xfrm>
                <a:off x="111384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１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6"/>
              <p:cNvSpPr/>
              <p:nvPr/>
            </p:nvSpPr>
            <p:spPr>
              <a:xfrm>
                <a:off x="265716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7"/>
              <p:cNvSpPr/>
              <p:nvPr/>
            </p:nvSpPr>
            <p:spPr>
              <a:xfrm>
                <a:off x="420012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8"/>
              <p:cNvSpPr/>
              <p:nvPr/>
            </p:nvSpPr>
            <p:spPr>
              <a:xfrm>
                <a:off x="574308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１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9"/>
              <p:cNvSpPr/>
              <p:nvPr/>
            </p:nvSpPr>
            <p:spPr>
              <a:xfrm>
                <a:off x="728604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１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0"/>
            <p:cNvSpPr/>
            <p:nvPr/>
          </p:nvSpPr>
          <p:spPr>
            <a:xfrm>
              <a:off x="990720" y="1523880"/>
              <a:ext cx="708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838080" y="1676520"/>
            <a:ext cx="7467840" cy="457200"/>
            <a:chOff x="838080" y="1676520"/>
            <a:chExt cx="7467840" cy="457200"/>
          </a:xfrm>
        </p:grpSpPr>
        <p:sp>
          <p:nvSpPr>
            <p:cNvPr id="154" name="AutoShape 12"/>
            <p:cNvSpPr/>
            <p:nvPr/>
          </p:nvSpPr>
          <p:spPr>
            <a:xfrm>
              <a:off x="83808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前期１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基礎共通養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3"/>
            <p:cNvSpPr/>
            <p:nvPr/>
          </p:nvSpPr>
          <p:spPr>
            <a:xfrm>
              <a:off x="2343240" y="1676520"/>
              <a:ext cx="1447560" cy="457200"/>
            </a:xfrm>
            <a:prstGeom prst="rightArrowCallout">
              <a:avLst>
                <a:gd name="adj1" fmla="val 50005"/>
                <a:gd name="adj2" fmla="val 25000"/>
                <a:gd name="adj3" fmla="val 41468"/>
                <a:gd name="adj4" fmla="val 8660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前期２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専門基礎訓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384804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後期１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200" spc="-1" strike="noStrike">
                  <a:solidFill>
                    <a:srgbClr val="000000"/>
                  </a:solidFill>
                  <a:latin typeface="Arial"/>
                </a:rPr>
                <a:t>研究計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5"/>
            <p:cNvSpPr/>
            <p:nvPr/>
          </p:nvSpPr>
          <p:spPr>
            <a:xfrm>
              <a:off x="5353200" y="1676520"/>
              <a:ext cx="1447560" cy="457200"/>
            </a:xfrm>
            <a:prstGeom prst="rightArrowCallout">
              <a:avLst>
                <a:gd name="adj1" fmla="val 50005"/>
                <a:gd name="adj2" fmla="val 25000"/>
                <a:gd name="adj3" fmla="val 4146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後期２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研究展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6"/>
            <p:cNvSpPr/>
            <p:nvPr/>
          </p:nvSpPr>
          <p:spPr>
            <a:xfrm>
              <a:off x="685800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後期３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論文作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17"/>
          <p:cNvSpPr/>
          <p:nvPr/>
        </p:nvSpPr>
        <p:spPr>
          <a:xfrm>
            <a:off x="990720" y="6095880"/>
            <a:ext cx="2819160" cy="304920"/>
          </a:xfrm>
          <a:prstGeom prst="rightArrowCallout">
            <a:avLst>
              <a:gd name="adj1" fmla="val 50005"/>
              <a:gd name="adj2" fmla="val 25000"/>
              <a:gd name="adj3" fmla="val 121091"/>
              <a:gd name="adj4" fmla="val 86606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筑波キャンパス開講科目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1295280" y="3200400"/>
            <a:ext cx="1067040" cy="45720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ﾟ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素粒子実験実習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2514600" y="3200400"/>
            <a:ext cx="1066680" cy="45720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ﾟ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原子核実験実習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3962520" y="3124080"/>
            <a:ext cx="1371600" cy="53352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国際研究計画検討集会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8305920" y="5410080"/>
            <a:ext cx="30456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論文提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23640" y="2743200"/>
            <a:ext cx="60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研究指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36760" y="3733920"/>
            <a:ext cx="393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講義・セミナ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527040" y="3736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7924680" y="2971800"/>
            <a:ext cx="381240" cy="1066680"/>
          </a:xfrm>
          <a:prstGeom prst="upArrowCallout">
            <a:avLst>
              <a:gd name="adj1" fmla="val 25002"/>
              <a:gd name="adj2" fmla="val 25000"/>
              <a:gd name="adj3" fmla="val 46632"/>
              <a:gd name="adj4" fmla="val 419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予備審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1371600" y="23623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8"/>
          <p:cNvSpPr/>
          <p:nvPr/>
        </p:nvSpPr>
        <p:spPr>
          <a:xfrm>
            <a:off x="4191120" y="236232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9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30"/>
          <p:cNvCxnSpPr>
            <a:stCxn id="168" idx="0"/>
            <a:endCxn id="160" idx="1"/>
          </p:cNvCxnSpPr>
          <p:nvPr/>
        </p:nvCxnSpPr>
        <p:spPr>
          <a:xfrm rot="5400000">
            <a:off x="790200" y="2847960"/>
            <a:ext cx="1086480" cy="76680"/>
          </a:xfrm>
          <a:prstGeom prst="bentConnector4">
            <a:avLst>
              <a:gd name="adj1" fmla="val 57872"/>
              <a:gd name="adj2" fmla="val 106603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3" name="AutoShape 31"/>
          <p:cNvCxnSpPr>
            <a:endCxn id="160" idx="3"/>
          </p:cNvCxnSpPr>
          <p:nvPr/>
        </p:nvCxnSpPr>
        <p:spPr>
          <a:xfrm flipH="1" rot="16200000">
            <a:off x="1533600" y="2599920"/>
            <a:ext cx="1048320" cy="610560"/>
          </a:xfrm>
          <a:prstGeom prst="bentConnector4">
            <a:avLst>
              <a:gd name="adj1" fmla="val 54517"/>
              <a:gd name="adj2" fmla="val 99469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4" name="AutoShape 32"/>
          <p:cNvCxnSpPr>
            <a:endCxn id="161" idx="1"/>
          </p:cNvCxnSpPr>
          <p:nvPr/>
        </p:nvCxnSpPr>
        <p:spPr>
          <a:xfrm rot="5400000">
            <a:off x="2046960" y="2809800"/>
            <a:ext cx="1086480" cy="153000"/>
          </a:xfrm>
          <a:prstGeom prst="bentConnector4">
            <a:avLst>
              <a:gd name="adj1" fmla="val 49983"/>
              <a:gd name="adj2" fmla="val 100000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5" name="AutoShape 33"/>
          <p:cNvCxnSpPr>
            <a:endCxn id="161" idx="3"/>
          </p:cNvCxnSpPr>
          <p:nvPr/>
        </p:nvCxnSpPr>
        <p:spPr>
          <a:xfrm flipH="1" rot="16200000">
            <a:off x="2790000" y="2638440"/>
            <a:ext cx="1048320" cy="533880"/>
          </a:xfrm>
          <a:prstGeom prst="bentConnector4">
            <a:avLst>
              <a:gd name="adj1" fmla="val 49982"/>
              <a:gd name="adj2" fmla="val 97908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6" name="AutoShape 34"/>
          <p:cNvCxnSpPr>
            <a:stCxn id="171" idx="0"/>
            <a:endCxn id="162" idx="1"/>
          </p:cNvCxnSpPr>
          <p:nvPr/>
        </p:nvCxnSpPr>
        <p:spPr>
          <a:xfrm rot="5400000">
            <a:off x="3856680" y="2752560"/>
            <a:ext cx="743760" cy="533880"/>
          </a:xfrm>
          <a:prstGeom prst="bentConnector4">
            <a:avLst>
              <a:gd name="adj1" fmla="val 33317"/>
              <a:gd name="adj2" fmla="val 101147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7" name="AutoShape 35"/>
          <p:cNvCxnSpPr>
            <a:stCxn id="171" idx="1"/>
          </p:cNvCxnSpPr>
          <p:nvPr/>
        </p:nvCxnSpPr>
        <p:spPr>
          <a:xfrm flipH="1" rot="16200000">
            <a:off x="4829040" y="2733120"/>
            <a:ext cx="553320" cy="457920"/>
          </a:xfrm>
          <a:prstGeom prst="bentConnector3">
            <a:avLst>
              <a:gd name="adj1" fmla="val 31575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8" name="AutoShape 36"/>
          <p:cNvCxnSpPr>
            <a:stCxn id="170" idx="0"/>
          </p:cNvCxnSpPr>
          <p:nvPr/>
        </p:nvCxnSpPr>
        <p:spPr>
          <a:xfrm rot="5400000">
            <a:off x="3247560" y="3132720"/>
            <a:ext cx="1734120" cy="153360"/>
          </a:xfrm>
          <a:prstGeom prst="bentConnector4">
            <a:avLst>
              <a:gd name="adj1" fmla="val 71428"/>
              <a:gd name="adj2" fmla="val 249882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9" name="AutoShape 37"/>
          <p:cNvCxnSpPr>
            <a:stCxn id="170" idx="1"/>
            <a:endCxn id="167" idx="0"/>
          </p:cNvCxnSpPr>
          <p:nvPr/>
        </p:nvCxnSpPr>
        <p:spPr>
          <a:xfrm flipH="1" rot="16200000">
            <a:off x="7685640" y="2543040"/>
            <a:ext cx="591120" cy="267120"/>
          </a:xfrm>
          <a:prstGeom prst="bentConnector3">
            <a:avLst>
              <a:gd name="adj1" fmla="val 48385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180" name="Text Box 38"/>
          <p:cNvSpPr/>
          <p:nvPr/>
        </p:nvSpPr>
        <p:spPr>
          <a:xfrm>
            <a:off x="6082200" y="2362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250092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357560" y="21337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652840" y="21337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481640" y="243828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484240" y="213372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６ヶ月を２回程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5"/>
          <p:cNvSpPr/>
          <p:nvPr/>
        </p:nvSpPr>
        <p:spPr>
          <a:xfrm>
            <a:off x="1066680" y="4419720"/>
            <a:ext cx="2819520" cy="609480"/>
          </a:xfrm>
          <a:prstGeom prst="rightArrowCallout">
            <a:avLst>
              <a:gd name="adj1" fmla="val 50005"/>
              <a:gd name="adj2" fmla="val 25000"/>
              <a:gd name="adj3" fmla="val 60589"/>
              <a:gd name="adj4" fmla="val 86606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宇宙史特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連分野基礎科目、関連技術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それぞれ１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4038480" y="4419720"/>
            <a:ext cx="3962520" cy="609480"/>
          </a:xfrm>
          <a:prstGeom prst="rightArrowCallout">
            <a:avLst>
              <a:gd name="adj1" fmla="val 50005"/>
              <a:gd name="adj2" fmla="val 25000"/>
              <a:gd name="adj3" fmla="val 85151"/>
              <a:gd name="adj4" fmla="val 8660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宇宙史特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連分野専門科目、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7"/>
          <p:cNvSpPr/>
          <p:nvPr/>
        </p:nvSpPr>
        <p:spPr>
          <a:xfrm>
            <a:off x="990720" y="5486400"/>
            <a:ext cx="137160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特別研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基礎技術の習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2438280" y="5486400"/>
            <a:ext cx="137160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特別研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基礎研究と論文作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49"/>
          <p:cNvCxnSpPr>
            <a:stCxn id="167" idx="1"/>
            <a:endCxn id="163" idx="0"/>
          </p:cNvCxnSpPr>
          <p:nvPr/>
        </p:nvCxnSpPr>
        <p:spPr>
          <a:xfrm>
            <a:off x="8305560" y="3615840"/>
            <a:ext cx="153000" cy="179460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1" name="Text Box 51"/>
          <p:cNvSpPr/>
          <p:nvPr/>
        </p:nvSpPr>
        <p:spPr>
          <a:xfrm>
            <a:off x="3240" y="1981080"/>
            <a:ext cx="393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0000"/>
                </a:solidFill>
                <a:latin typeface="Arial"/>
              </a:rPr>
              <a:t>教育研究拠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2"/>
          <p:cNvSpPr/>
          <p:nvPr/>
        </p:nvSpPr>
        <p:spPr>
          <a:xfrm>
            <a:off x="3240" y="4876920"/>
            <a:ext cx="39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0000"/>
                </a:solidFill>
                <a:latin typeface="Arial"/>
              </a:rPr>
              <a:t>筑波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3"/>
          <p:cNvGrpSpPr/>
          <p:nvPr/>
        </p:nvGrpSpPr>
        <p:grpSpPr>
          <a:xfrm>
            <a:off x="4038480" y="3809880"/>
            <a:ext cx="3657600" cy="533520"/>
            <a:chOff x="4038480" y="3809880"/>
            <a:chExt cx="3657600" cy="533520"/>
          </a:xfrm>
        </p:grpSpPr>
        <p:sp>
          <p:nvSpPr>
            <p:cNvPr id="194" name="Rectangle 54"/>
            <p:cNvSpPr/>
            <p:nvPr/>
          </p:nvSpPr>
          <p:spPr>
            <a:xfrm>
              <a:off x="6553080" y="3809880"/>
              <a:ext cx="11430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論文作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5"/>
            <p:cNvSpPr/>
            <p:nvPr/>
          </p:nvSpPr>
          <p:spPr>
            <a:xfrm>
              <a:off x="5295960" y="3809880"/>
              <a:ext cx="11430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研究展開・実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6"/>
            <p:cNvSpPr/>
            <p:nvPr/>
          </p:nvSpPr>
          <p:spPr>
            <a:xfrm>
              <a:off x="4038480" y="3809880"/>
              <a:ext cx="11430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研究計画作成と立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7"/>
          <p:cNvSpPr/>
          <p:nvPr/>
        </p:nvSpPr>
        <p:spPr>
          <a:xfrm>
            <a:off x="1129320" y="2514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フッター プレースホルダ 3"/>
          <p:cNvSpPr/>
          <p:nvPr/>
        </p:nvSpPr>
        <p:spPr>
          <a:xfrm>
            <a:off x="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一貫プログラム学生名簿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05F8-0311-489D-B665-5F589DAE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1371600" y="579132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簿を確認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1219320"/>
          <a:ext cx="7315200" cy="274608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51818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グルー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学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氏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素粒子実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木内健司、黒川悠文、小池博子、橋本就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河内山真美、瀬賀智子、塙慶太、林隆康、松隈恭子、三井真吾、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高橋優介、深見智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原子核実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竹内理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２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横山広樹、浜田英太郎、梶谷緑、轟木貴人、木村瑞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宇宙観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長崎岳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２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前橋秀紀、秋山大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990720" y="4343400"/>
          <a:ext cx="7315200" cy="2225520"/>
        </p:xfrm>
        <a:graphic>
          <a:graphicData uri="http://schemas.openxmlformats.org/drawingml/2006/table">
            <a:tbl>
              <a:tblPr/>
              <a:tblGrid>
                <a:gridCol w="1463400"/>
                <a:gridCol w="669960"/>
                <a:gridCol w="518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グルー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学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氏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素粒子実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武政健一、須藤祐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永井義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子核実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坂田洞察、佐野正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渡邊健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宇宙観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扇野光俊、荒井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4" name="テキスト ボックス 10"/>
          <p:cNvSpPr/>
          <p:nvPr/>
        </p:nvSpPr>
        <p:spPr>
          <a:xfrm>
            <a:off x="762120" y="914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前期課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11"/>
          <p:cNvSpPr/>
          <p:nvPr/>
        </p:nvSpPr>
        <p:spPr>
          <a:xfrm>
            <a:off x="762120" y="3962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後期課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履修要領（前期課程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史セミナー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通年１単位）、同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通年１単位）：　基礎科目　担当；瀬田益道講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異なるグループが共同して、分野横断で修士論文中間報告を中心とした宇宙史教育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時間割作成、学生への連絡、レポート採点等は瀬田講師が担当する。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史拠点実習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、同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：　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前期課程１，２年次にそれぞれ１ヶ月程度、海外拠点へ派遣し、関連分野の研究実習を行う。事前事後の筑波キャンパスにおける指導・報告および現地での研究指導状況により単位を認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観測実習（１単位）：　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前期課程１，２年次のいづれかに、１週間程度、宇宙観測拠点において研究実習を行う。事前事後の筑波キャンパスにおける指導・報告および現地での研究指導状況により単位を認定する。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史特講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、同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研究についての非常勤講師による集中講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史特別研究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６単位）、同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６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宇宙史研究の基礎となる実験観測の技術、データ処理、物理解析を習得し修士論文のための研究を行い、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に引き続き、同研究を発展させて修士論文としてまとめ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A4C-A44A-414E-9648-585AA17E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8:09:56Z</dcterms:created>
  <dc:creator>三明 康郎</dc:creator>
  <dc:description/>
  <dc:language>en-US</dc:language>
  <cp:lastModifiedBy>Yasuo Miake</cp:lastModifiedBy>
  <cp:lastPrinted>2007-01-18T07:21:50Z</cp:lastPrinted>
  <dcterms:modified xsi:type="dcterms:W3CDTF">2009-04-21T14:36:56Z</dcterms:modified>
  <cp:revision>298</cp:revision>
  <dc:subject/>
  <dc:title>宇宙史国際連携研究・教育プログラム</dc:title>
</cp:coreProperties>
</file>