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413-2BD3-4883-BACE-3B2EA15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571-A174-4EC1-9DC1-46BDB79C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590-7F58-402B-8A65-09EFB970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18D-6837-4807-9EC1-D110AD74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AF9-B4DC-4D14-8BAF-EBC16F4E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8F2-0570-4DA8-8A44-B53D58F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6FD-83FA-4F71-B026-68F3E25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C74-E96E-405D-A66F-7166FF9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A75-15D5-4999-89EA-C8EDDFB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564-6C2C-417D-8E88-50CD8A4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2C0-C792-4765-8AF6-83172900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3FC-CE9E-417F-AD82-43E0748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50E-38E6-4B08-9343-F796C521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4681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拠点実習Ⅰ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昨年の研究課題例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LICE TR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宇宙線データの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宇宙線データを用いた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RD SM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性能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+p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衝突における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的性質の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実験における反応平面決定の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ree-particle correlations in p+p collisions at LHC-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ENIX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粒子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昨年の研究課題例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Z-&gt;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生成の重心系エネルギー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0TeV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4TeV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Z-&gt;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生成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依存性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0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-&gt;ZZ-&gt;4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観測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0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Z-&gt;μμ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質量ピークの擬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apidit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依存性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0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Z/Ψ-&gt;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よる、電子トリガー効率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W-&gt;μν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検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コンバージョンの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温度分布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ノイズ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飛跡再構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4681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拠点実習Ⅰ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パスポート・・・早目に手配すること。必ず失効日を確認して必要なら更新手続きをすること。出国日から３ヶ月以上の残存が必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航空券・・・手配済み。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に来週月曜日（４月２７日）までに各自払う。１６１、０５０円。ＨＩＳつくば店（担当：山川さん）　メールで詳細を連絡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事務手続き書類・・・物理学系事務に各自提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宿・・・手配中。男女それぞれ５人ずつアパートメントに滞在。キッチンで自炊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車・・・レンタカーを５人に１台借りる予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0:44:34Z</dcterms:created>
  <dc:creator>maya</dc:creator>
  <dc:description/>
  <dc:language>en-US</dc:language>
  <cp:lastModifiedBy>maya</cp:lastModifiedBy>
  <dcterms:modified xsi:type="dcterms:W3CDTF">2009-04-22T18:09:14Z</dcterms:modified>
  <cp:revision>9</cp:revision>
  <dc:subject/>
  <dc:title>拠点実習ⅠⅡ@ CERN</dc:title>
</cp:coreProperties>
</file>