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E3A-2AB0-4FCD-A88D-9361F085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C0C-F925-4422-A41D-C165B96E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FFC-6781-48FC-94D3-CD7D45B8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EF4-87D9-452E-AC3B-C2A37BA7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BD79-87BC-4BFA-B94A-A02A04E1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AEDC-CBC2-4293-9E22-858B8434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D44A-4E32-428A-9B30-10F0B30D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FBEF-0367-4148-A6D7-34C11C7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072B-7D36-4A0F-BEE3-465950DC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013A-D2E6-4CFD-BE6F-D461C3D3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90AD-3D0E-4106-B203-C6891099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DB2-6925-429A-AD51-9359D6E7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2FDA-5864-4E8D-9579-618DD92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7FAF-55B7-454B-84B0-812D362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5BA3-2699-4D6F-B6E6-8007AE8B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7672-8F4B-4498-82B4-22CCC9D4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8FA1-F1BE-4034-B5A3-FDE2AD3D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C8B-3537-4407-869E-D6C147F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9AF-283D-4AF6-8E3E-BE309E0E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885-A652-496B-B786-16C57CCC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1BD-6042-461A-A6E5-5F3696A7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06D-B36F-44D5-A372-56738C9B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474-7FE9-4F4C-B977-3910F3B1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8B8-EA7B-496B-8DF1-DBED8614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E70F-A3E2-4E5F-A8E7-391C73164572}" type="slidenum"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592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20720" y="105264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20000" y="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d8d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4360" y="667080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86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1616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09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AD26-6AC4-489E-9C3B-AF75A2C1FA2C}" type="slidenum"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242100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d8d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646416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63400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d8d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tkhii.px.tsukuba.ac.jp/~maya/uchuushi_cern_maya_HP/" TargetMode="External"/><Relationship Id="rId2" Type="http://schemas.openxmlformats.org/officeDocument/2006/relationships/hyperlink" Target="http://utkhii.px.tsukuba.ac.jp/~maya/uchuushi_cern_maya_HP/" TargetMode="External"/><Relationship Id="rId3" Type="http://schemas.openxmlformats.org/officeDocument/2006/relationships/hyperlink" Target="http://utkhii.px.tsukuba.ac.jp/~maya/uchuushi_cern_maya_HP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宇宙史拠点実習説明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実習先：セルン研究所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実習期間：３月４日～３月２４日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（４）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900GeV p+p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データの解析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2part.corr.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基本担当者；洞口、渡邊、江角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p+p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反応平面等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（６）ＰＨＥＮＩＸの解析；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un7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2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解析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,CuCu64GeV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の解析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基本担当者；下村、江角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本日のアジェンダ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実習における全般的な説明　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下村（このスライド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課題内容の説明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下村・洞口・三明・江角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質疑応答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基本情報１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場所　スイスとフランスの国境にまたがってあるセルン研究所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期間　２０１０年３月４日～３月２４日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現地スタッフ（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LICE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）　下村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宿泊施設　メインサイト内のホステル（スイス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研究居室　メインサイト内（スイス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実験施設　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LICE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（フランス）、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TLAS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（スイス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移動手段　レンタカー・バス・自転車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国境を越えることが多いのでパスポートと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D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を常に携帯すること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基本情報２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参加者　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f5f5f"/>
                </a:solidFill>
                <a:latin typeface="Arial"/>
              </a:rPr>
              <a:t>ALICE </a:t>
            </a:r>
            <a:r>
              <a:rPr b="0" lang="ja-JP" sz="2800" spc="-1" strike="noStrike">
                <a:solidFill>
                  <a:srgbClr val="5f5f5f"/>
                </a:solidFill>
                <a:latin typeface="Arial"/>
              </a:rPr>
              <a:t>前橋秀紀、木村瑞希、長崎岳人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f5f5f"/>
                </a:solidFill>
                <a:latin typeface="Arial"/>
              </a:rPr>
              <a:t>ATLAS</a:t>
            </a:r>
            <a:r>
              <a:rPr b="0" lang="ja-JP" sz="2800" spc="-1" strike="noStrike">
                <a:solidFill>
                  <a:srgbClr val="5f5f5f"/>
                </a:solidFill>
                <a:latin typeface="Arial"/>
              </a:rPr>
              <a:t>　高橋優介、深見智代、黒川悠文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参考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f5f5f"/>
                </a:solidFill>
                <a:latin typeface="Arial"/>
              </a:rPr>
              <a:t>http://utkhii.px.tsukuba.ac.jp/HU_Course/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ja-JP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tkhii.px.tsukuba.ac.jp/~maya/uchuushi_cern_maya_HP</a:t>
            </a:r>
            <a:r>
              <a:rPr b="0" lang="ja-JP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研究生活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各自のノート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C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を持参（要アダプタ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ネットにつなげるセットアップ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今回はサマースクールのようなプログラムがないので、ワークショップやセミナー、解析グループごとの発表ミーティング等に積極的に参加することをおすすめします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解析課題を一つ選び、最後に研究内容の発表を行う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発表会　３月２２日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スカイプ等を使い毎週進捗状況を報告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実習内容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アリスのシフトを中心とした実験データ取得やモニタリング　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基本担当者　下村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EMcal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キャリブレーション　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基本担当者　洞口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Dcal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のシミュレーション　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基本担当者　三明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900GeV p+p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データの解析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2part.corr.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基本担当者；洞口、渡邊、江角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ＰＨＥＮＩＸの解析；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run7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v2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解析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,CuCu64GeV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の解析 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基本担当者；下村、江角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実習内容の選択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）アリスのシフトを中心とした実験データ取得やモニタリン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基本担当者　下村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シフトを取りながらデータを見る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alieve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が使えること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データへのアクセス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データのダウンロード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イベントモニタリングシフト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pp 900GeV 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basic</a:t>
            </a: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な値をチェックする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荷電多重度の分布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エータ分布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Arial"/>
              </a:rPr>
              <a:t>断面積。　　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）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EMcal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キャリブレーション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基本担当者；洞口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電磁カロリメータ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パイゼロのピーク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geometry calibr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TPC 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のデータを使って改良したい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（３）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Dcal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のシミュレーション、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基本担当者；三明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q-Pythia</a:t>
            </a:r>
            <a:r>
              <a:rPr b="0" lang="ja-JP" sz="3200" spc="-1" strike="noStrike">
                <a:solidFill>
                  <a:srgbClr val="5f5f5f"/>
                </a:solidFill>
                <a:latin typeface="Arial"/>
              </a:rPr>
              <a:t>の計算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8:59:44Z</dcterms:created>
  <dc:creator>maya</dc:creator>
  <dc:description/>
  <dc:language>en-US</dc:language>
  <cp:lastModifiedBy>maya</cp:lastModifiedBy>
  <dcterms:modified xsi:type="dcterms:W3CDTF">2010-03-03T17:40:20Z</dcterms:modified>
  <cp:revision>17</cp:revision>
  <dc:subject/>
  <dc:title>宇宙史拠点実習説明会</dc:title>
</cp:coreProperties>
</file>