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40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66A-291B-4A97-9AAD-9E64B8F1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1F0-1D91-4CDB-8A38-6D552BD9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8FA-AEE7-4E29-8F7A-E20C274E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0D3-E0FB-4CF7-94E7-73038846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5B88-0E83-4B38-9E9D-B73EC180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C82E-533F-461F-A22E-01522021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7FDC-BD37-420C-B1EE-3A1E24F8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13F1-7029-43FC-A669-4225B4DE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6BB5-C6A4-4CE9-AB4B-7BC7F0C0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FEF5-32A4-44AF-832E-82CC2107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176A-77B4-449F-9BA4-3454E441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07A-677F-4B37-ABC0-724ED235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D448-FC65-4839-91ED-1E232CE4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3053-D0E5-43FC-BBBD-CA98CF10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DC5B-227A-4B49-9BE8-8875E6FA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B266-FC9F-41D9-A01C-C691A7E3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E758-CC62-467A-988C-B04C763A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AE1-3975-4908-913A-32A549D7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6D7-54E7-4BD8-82F0-490D9C44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EF1-ED78-4FCD-9254-65DE1170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F0B-8222-4B03-A46D-06C5DAC6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A7C-0BBA-47BF-96C6-FC024F17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50A-DC5A-4BA7-852C-DEA0B20E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136-A770-4041-9C57-3F0C7782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DDD0-C616-4917-BF1E-79F638CAA9D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B807-172B-40EC-90B7-800032EFA0F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11280" y="1239840"/>
            <a:ext cx="7772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中性</a:t>
            </a:r>
            <a:r>
              <a:rPr b="0" lang="en-US" sz="32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π</a:t>
            </a:r>
            <a:r>
              <a:rPr b="0" lang="zh-CN" sz="32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中間子を用いた</a:t>
            </a:r>
            <a:r>
              <a:rPr b="0" lang="en-US" sz="32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EMCAL</a:t>
            </a:r>
            <a:r>
              <a:rPr b="0" lang="zh-CN" sz="32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検出器のエネルギー較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95280" y="3789360"/>
            <a:ext cx="8136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宇宙史実習報告会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筑波大学 宇宙観測研究室　長崎岳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2010/3/2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2CA3-2798-4B66-8419-7FC5CBC6FD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73200" y="-270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解析手法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-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280" y="981000"/>
            <a:ext cx="57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使用実験データ：</a:t>
            </a:r>
            <a:r>
              <a:rPr b="0" lang="ja-JP" sz="18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p-p</a:t>
            </a:r>
            <a:r>
              <a:rPr b="0" lang="ja-JP" sz="18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衝突＠９００</a:t>
            </a:r>
            <a:r>
              <a:rPr b="0" lang="ja-JP" sz="18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Ge</a:t>
            </a:r>
            <a:r>
              <a:rPr b="0" lang="ja-JP" sz="18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ja-JP" sz="18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pass2 data</a:t>
            </a:r>
            <a:r>
              <a:rPr b="0" lang="ja-JP" sz="18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ⅰ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入射した２光子を選択（基準粒子を 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i, 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組み合わせる光子を 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j 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とする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ⅱ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位置とエネルギーより、崩壊粒子のエネルギーを計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ⅲ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.π</a:t>
            </a:r>
            <a:r>
              <a:rPr b="0" lang="ja-JP" sz="1800" spc="-1" strike="noStrike" baseline="30000">
                <a:solidFill>
                  <a:srgbClr val="ffffff"/>
                </a:solidFill>
                <a:latin typeface="HG丸ｺﾞｼｯｸM-PRO"/>
                <a:ea typeface="HG丸ｺﾞｼｯｸM-PRO"/>
              </a:rPr>
              <a:t>0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付近の質量分布ピークを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fitting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（ダブルガウシアン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ⅳ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各エネルギーにおいて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π</a:t>
            </a:r>
            <a:r>
              <a:rPr b="0" lang="ja-JP" sz="1800" spc="-1" strike="noStrike" baseline="30000">
                <a:solidFill>
                  <a:srgbClr val="ffffff"/>
                </a:solidFill>
                <a:latin typeface="HG丸ｺﾞｼｯｸM-PRO"/>
                <a:ea typeface="HG丸ｺﾞｼｯｸM-PRO"/>
              </a:rPr>
              <a:t>0</a:t>
            </a: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の質量でエネルギー較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1125360"/>
            <a:ext cx="3167280" cy="36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29440" y="1703520"/>
            <a:ext cx="2663640" cy="1725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6732720" y="2061720"/>
            <a:ext cx="503280" cy="2158920"/>
          </a:xfrm>
          <a:prstGeom prst="line">
            <a:avLst/>
          </a:prstGeom>
          <a:ln w="5724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308720" y="1774440"/>
            <a:ext cx="71640" cy="2590920"/>
          </a:xfrm>
          <a:prstGeom prst="line">
            <a:avLst/>
          </a:prstGeom>
          <a:ln w="5724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7380360" y="1990440"/>
            <a:ext cx="936720" cy="2230200"/>
          </a:xfrm>
          <a:prstGeom prst="line">
            <a:avLst/>
          </a:prstGeom>
          <a:ln w="5724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00720" y="2852640"/>
            <a:ext cx="71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  <a:ea typeface="HG丸ｺﾞｼｯｸM-PRO"/>
              </a:rPr>
              <a:t>γ</a:t>
            </a:r>
            <a:r>
              <a:rPr b="0" lang="zh-CN" sz="1600" spc="-1" strike="noStrike">
                <a:solidFill>
                  <a:srgbClr val="ffff00"/>
                </a:solidFill>
                <a:latin typeface="Verdana"/>
                <a:ea typeface="HG丸ｺﾞｼｯｸM-PRO"/>
              </a:rPr>
              <a:t>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81800" y="1773360"/>
            <a:ext cx="71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  <a:ea typeface="HG丸ｺﾞｼｯｸM-PRO"/>
              </a:rPr>
              <a:t>γ</a:t>
            </a:r>
            <a:r>
              <a:rPr b="0" lang="zh-CN" sz="1600" spc="-1" strike="noStrike">
                <a:solidFill>
                  <a:srgbClr val="ffff00"/>
                </a:solidFill>
                <a:latin typeface="Verdana"/>
                <a:ea typeface="HG丸ｺﾞｼｯｸM-PRO"/>
              </a:rPr>
              <a:t>２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956720" y="3141720"/>
            <a:ext cx="71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  <a:ea typeface="HG丸ｺﾞｼｯｸM-PRO"/>
              </a:rPr>
              <a:t>γ</a:t>
            </a:r>
            <a:r>
              <a:rPr b="0" lang="zh-CN" sz="1600" spc="-1" strike="noStrike">
                <a:solidFill>
                  <a:srgbClr val="ffff00"/>
                </a:solidFill>
                <a:latin typeface="Verdana"/>
                <a:ea typeface="HG丸ｺﾞｼｯｸM-PRO"/>
              </a:rPr>
              <a:t>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1271520"/>
            <a:ext cx="230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cc33"/>
                </a:solidFill>
                <a:latin typeface="Verdana"/>
                <a:ea typeface="HG丸ｺﾞｼｯｸM-PRO"/>
              </a:rPr>
              <a:t>ＥＭＣＡ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938920" y="907920"/>
            <a:ext cx="3170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＜それぞれの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γ</a:t>
            </a: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線の組み合わせを考える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32720" y="3645000"/>
            <a:ext cx="1295280" cy="100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" y="5229360"/>
            <a:ext cx="8497800" cy="14396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π</a:t>
            </a:r>
            <a:r>
              <a:rPr b="1" lang="en-US" sz="1600" spc="-1" strike="noStrike" u="sng" baseline="30000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0</a:t>
            </a:r>
            <a:r>
              <a:rPr b="1" lang="zh-CN" sz="1600" spc="-1" strike="noStrike" u="sng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中間子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質量：０</a:t>
            </a:r>
            <a:r>
              <a:rPr b="0" lang="en-US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.135GeV/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HG丸ｺﾞｼｯｸM-PRO"/>
                <a:ea typeface="HG丸ｺﾞｼｯｸM-PRO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 寿命：８</a:t>
            </a:r>
            <a:r>
              <a:rPr b="0" lang="en-US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４</a:t>
            </a:r>
            <a:r>
              <a:rPr b="0" lang="en-US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×</a:t>
            </a:r>
            <a:r>
              <a:rPr b="0" lang="zh-CN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１０</a:t>
            </a:r>
            <a:r>
              <a:rPr b="0" lang="zh-CN" sz="1600" spc="-1" strike="noStrike" baseline="30000">
                <a:solidFill>
                  <a:srgbClr val="ffffff"/>
                </a:solidFill>
                <a:latin typeface="HG丸ｺﾞｼｯｸM-PRO"/>
                <a:ea typeface="HG丸ｺﾞｼｯｸM-PRO"/>
              </a:rPr>
              <a:t>－１７　</a:t>
            </a:r>
            <a:r>
              <a:rPr b="0" lang="en-US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クォーク組成：　　　　　          </a:t>
            </a:r>
            <a:r>
              <a:rPr b="1" lang="en-US" sz="2000" spc="-1" strike="noStrike">
                <a:solidFill>
                  <a:srgbClr val="ffcc00"/>
                </a:solidFill>
                <a:latin typeface="HG丸ｺﾞｼｯｸM-PRO"/>
                <a:ea typeface="HG丸ｺﾞｼｯｸM-PRO"/>
              </a:rPr>
              <a:t>π</a:t>
            </a:r>
            <a:r>
              <a:rPr b="1" lang="en-US" sz="2000" spc="-1" strike="noStrike" baseline="30000">
                <a:solidFill>
                  <a:srgbClr val="ffcc00"/>
                </a:solidFill>
                <a:latin typeface="HG丸ｺﾞｼｯｸM-PRO"/>
                <a:ea typeface="HG丸ｺﾞｼｯｸM-PRO"/>
              </a:rPr>
              <a:t>0</a:t>
            </a:r>
            <a:r>
              <a:rPr b="1" lang="zh-CN" sz="2000" spc="-1" strike="noStrike">
                <a:solidFill>
                  <a:srgbClr val="ffcc00"/>
                </a:solidFill>
                <a:latin typeface="HG丸ｺﾞｼｯｸM-PRO"/>
                <a:ea typeface="HG丸ｺﾞｼｯｸM-PRO"/>
              </a:rPr>
              <a:t>中間子は</a:t>
            </a:r>
            <a:r>
              <a:rPr b="1" lang="en-US" sz="2000" spc="-1" strike="noStrike">
                <a:solidFill>
                  <a:srgbClr val="ffcc00"/>
                </a:solidFill>
                <a:latin typeface="HG丸ｺﾞｼｯｸM-PRO"/>
                <a:ea typeface="HG丸ｺﾞｼｯｸM-PRO"/>
              </a:rPr>
              <a:t>98</a:t>
            </a:r>
            <a:r>
              <a:rPr b="1" lang="zh-CN" sz="2000" spc="-1" strike="noStrike">
                <a:solidFill>
                  <a:srgbClr val="ffcc00"/>
                </a:solidFill>
                <a:latin typeface="HG丸ｺﾞｼｯｸM-PRO"/>
                <a:ea typeface="HG丸ｺﾞｼｯｸM-PRO"/>
              </a:rPr>
              <a:t>％の確率で二つの</a:t>
            </a:r>
            <a:r>
              <a:rPr b="1" lang="en-US" sz="2000" spc="-1" strike="noStrike">
                <a:solidFill>
                  <a:srgbClr val="ffcc00"/>
                </a:solidFill>
                <a:latin typeface="HG丸ｺﾞｼｯｸM-PRO"/>
                <a:ea typeface="HG丸ｺﾞｼｯｸM-PRO"/>
              </a:rPr>
              <a:t>γ</a:t>
            </a:r>
            <a:r>
              <a:rPr b="1" lang="zh-CN" sz="2000" spc="-1" strike="noStrike">
                <a:solidFill>
                  <a:srgbClr val="ffcc00"/>
                </a:solidFill>
                <a:latin typeface="HG丸ｺﾞｼｯｸM-PRO"/>
                <a:ea typeface="HG丸ｺﾞｼｯｸM-PRO"/>
              </a:rPr>
              <a:t>に崩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979640" y="5950080"/>
                <a:ext cx="792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d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7051680" y="3249720"/>
            <a:ext cx="250920" cy="69840"/>
          </a:xfrm>
          <a:custGeom>
            <a:avLst/>
            <a:gdLst/>
            <a:ahLst/>
            <a:rect l="l" t="t" r="r" b="b"/>
            <a:pathLst>
              <a:path w="158" h="44">
                <a:moveTo>
                  <a:pt x="0" y="44"/>
                </a:moveTo>
                <a:cubicBezTo>
                  <a:pt x="12" y="38"/>
                  <a:pt x="45" y="10"/>
                  <a:pt x="71" y="5"/>
                </a:cubicBezTo>
                <a:cubicBezTo>
                  <a:pt x="97" y="0"/>
                  <a:pt x="140" y="11"/>
                  <a:pt x="15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4120" bIns="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21440" y="2997360"/>
            <a:ext cx="2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0A3-1691-4BDC-9FE5-7402286CF3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63480" y="422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解析手法</a:t>
            </a:r>
            <a:r>
              <a:rPr b="0" lang="en-US" sz="44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-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3284640"/>
            <a:ext cx="821844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c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Ｅｉ，Ｅｊ＞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0.15G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ｅＶ　　（低エネルギー粒子を排除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|(Ei-Ej)/(Ei+Ej)| &lt; 0.7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　　　　（エネルギーが大きく異なる粒子の組み合わせを排除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エネルギーによる場合わ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Ｅｉを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0.4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ＧｅＶごとに分け、崩壊粒子の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mass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をヒストグラム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8360" y="1557360"/>
            <a:ext cx="7858080" cy="1800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Mass=√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２＊Ｅｉ＊Ｅｊ＊（１－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osθ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Ｅ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：粒子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エネルギ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Ｅ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：粒子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エネルギ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t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：粒子の運動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18B-DAAA-4E06-A437-CCA4B78730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結果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-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Pass2-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4920" y="3213000"/>
            <a:ext cx="4537080" cy="30765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4500720" cy="30513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059280" y="6165720"/>
            <a:ext cx="1512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Ｘ軸</a:t>
            </a:r>
            <a:r>
              <a:rPr b="0" lang="ja-JP" sz="10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:EnergyAsyet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920" y="321300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Y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軸：個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775640" y="6237360"/>
            <a:ext cx="1368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Ｘ軸：Ｐｔ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[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Ｇ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e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Ｖ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/C</a:t>
            </a:r>
            <a:r>
              <a:rPr b="0" lang="en-US" sz="900" spc="-1" strike="noStrike" baseline="30000">
                <a:solidFill>
                  <a:srgbClr val="660000"/>
                </a:solidFill>
                <a:latin typeface="Verdana"/>
                <a:ea typeface="HG丸ｺﾞｼｯｸM-PRO"/>
              </a:rPr>
              <a:t>2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]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45080" y="3213000"/>
            <a:ext cx="718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Y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軸：個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57480" y="2708280"/>
            <a:ext cx="2162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EnergyAsy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33840" y="2708280"/>
            <a:ext cx="331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全</a:t>
            </a: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cluster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のエネルギー分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541-A6F2-4FCA-AF7D-8F4EB98039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479520" y="33336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結果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-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4000" y="13399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キャリブレーション前における各Ｅｉ値における崩壊粒子の質量分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920" y="2330280"/>
            <a:ext cx="2282760" cy="1548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290680" y="2330280"/>
            <a:ext cx="2282760" cy="15480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4541760" y="2330280"/>
            <a:ext cx="2284560" cy="15480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6826320" y="2330280"/>
            <a:ext cx="2282760" cy="15480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2290680" y="4581360"/>
            <a:ext cx="2282760" cy="15480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4545000" y="4581360"/>
            <a:ext cx="2281320" cy="1548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6826320" y="4581360"/>
            <a:ext cx="2282760" cy="15480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6480" y="4581360"/>
            <a:ext cx="2284200" cy="154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17600" y="200484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Ｅ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i≦0.4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Ｇ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0320" y="4237200"/>
            <a:ext cx="19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1.6&lt;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Ｅ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i≦2.0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Ｇ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5400" y="2004840"/>
            <a:ext cx="19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0.4&lt;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Ｅ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i≦0.8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Ｇ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738680" y="198900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0.8&lt;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Ｅ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i≦1.2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Ｇ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70680" y="198900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1.2&lt;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Ｅ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i≦1.6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Ｇ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84360" y="422100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2.0&lt;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Ｅ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i≦2.4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Ｇ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16360" y="422100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2.4&lt;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Ｅ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i≦2.8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Ｇ</a:t>
            </a: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16000" y="3860640"/>
            <a:ext cx="1368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Ｘ軸：ｍ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[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Ｇ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e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Ｖ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/C</a:t>
            </a:r>
            <a:r>
              <a:rPr b="0" lang="en-US" sz="900" spc="-1" strike="noStrike" baseline="30000">
                <a:solidFill>
                  <a:srgbClr val="660000"/>
                </a:solidFill>
                <a:latin typeface="Verdana"/>
                <a:ea typeface="HG丸ｺﾞｼｯｸM-PRO"/>
              </a:rPr>
              <a:t>2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]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6360" y="386064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Y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軸：個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453440" y="422100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2.8&lt;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2BE-B95F-429B-A6A8-D3967CBCFF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22280" y="442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結果</a:t>
            </a:r>
            <a:r>
              <a:rPr b="0" lang="en-US" sz="44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-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5280" y="112392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Fitting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π</a:t>
            </a:r>
            <a:r>
              <a:rPr b="0" lang="en-US" sz="2000" spc="-1" strike="noStrike" baseline="30000">
                <a:solidFill>
                  <a:srgbClr val="ffffff"/>
                </a:solidFill>
                <a:latin typeface="HG丸ｺﾞｼｯｸM-PRO"/>
                <a:ea typeface="HG丸ｺﾞｼｯｸM-PRO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mass</a:t>
            </a: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ピークが低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92720" y="1125360"/>
            <a:ext cx="3095640" cy="865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HG丸ｺﾞｼｯｸM-PRO"/>
                <a:ea typeface="HG丸ｺﾞｼｯｸM-PRO"/>
              </a:rPr>
              <a:t>青：バックグラウン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ff33"/>
                </a:solidFill>
                <a:latin typeface="HG丸ｺﾞｼｯｸM-PRO"/>
                <a:ea typeface="HG丸ｺﾞｼｯｸM-PRO"/>
              </a:rPr>
              <a:t>緑：</a:t>
            </a:r>
            <a:r>
              <a:rPr b="0" lang="en-US" sz="1400" spc="-1" strike="noStrike">
                <a:solidFill>
                  <a:srgbClr val="66ff33"/>
                </a:solidFill>
                <a:latin typeface="HG丸ｺﾞｼｯｸM-PRO"/>
                <a:ea typeface="HG丸ｺﾞｼｯｸM-PRO"/>
              </a:rPr>
              <a:t>π</a:t>
            </a:r>
            <a:r>
              <a:rPr b="0" lang="en-US" sz="1400" spc="-1" strike="noStrike" baseline="-25000">
                <a:solidFill>
                  <a:srgbClr val="66ff33"/>
                </a:solidFill>
                <a:latin typeface="HG丸ｺﾞｼｯｸM-PRO"/>
                <a:ea typeface="HG丸ｺﾞｼｯｸM-PRO"/>
              </a:rPr>
              <a:t>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赤；足し合わ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2048040"/>
            <a:ext cx="9144000" cy="433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38E-0CA2-4189-B9BE-EE489CBF4C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595760" cy="36403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57200" y="138420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キャリブレーション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結果</a:t>
            </a:r>
            <a:r>
              <a:rPr b="0" lang="en-US" sz="44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-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276640"/>
            <a:ext cx="4356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fitting</a:t>
            </a:r>
            <a:r>
              <a:rPr b="0" lang="zh-CN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関数</a:t>
            </a:r>
            <a:r>
              <a:rPr b="0" lang="en-US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GS教科書体"/>
                <a:ea typeface="HGS教科書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HGS教科書体"/>
                <a:ea typeface="HGS教科書体"/>
              </a:rPr>
              <a:t>-0.00868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HGS教科書体"/>
                <a:ea typeface="HGS教科書体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HGS教科書体"/>
                <a:ea typeface="HGS教科書体"/>
              </a:rPr>
              <a:t>+0.02652x+0.079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実際の中性</a:t>
            </a: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π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中間子の質量は</a:t>
            </a:r>
            <a:r>
              <a:rPr b="0" lang="en-US" sz="1800" spc="-1" strike="noStrike">
                <a:solidFill>
                  <a:srgbClr val="ffffff"/>
                </a:solidFill>
                <a:latin typeface="HGS教科書体"/>
                <a:ea typeface="HGS教科書体"/>
              </a:rPr>
              <a:t>0.135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ＧｅＶ程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実際より低い値が導出されてい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24000" y="5877000"/>
            <a:ext cx="576000" cy="431640"/>
          </a:xfrm>
          <a:custGeom>
            <a:avLst/>
            <a:gdLst>
              <a:gd name="textAreaLeft" fmla="*/ 0 w 576000"/>
              <a:gd name="textAreaRight" fmla="*/ 576000 w 57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59280" y="3500280"/>
            <a:ext cx="3673440" cy="0"/>
          </a:xfrm>
          <a:prstGeom prst="line">
            <a:avLst/>
          </a:prstGeom>
          <a:ln w="5724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66100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エネルギー較正を行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（較正をかけるのは基準粒子 </a:t>
            </a:r>
            <a:r>
              <a:rPr b="1" lang="en-US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i </a:t>
            </a:r>
            <a:r>
              <a:rPr b="1" lang="zh-CN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0AE-9D2C-4824-88D6-42C30C57C7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結果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-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8360" y="1341360"/>
            <a:ext cx="8218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Fitting</a:t>
            </a: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結果よりエネルギー較正を行っ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E i </a:t>
            </a: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（基準粒子）のみにエネルギー較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25280" y="2158920"/>
            <a:ext cx="8910720" cy="422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DC1-83B2-4FB3-8610-A4B40ED7B3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5092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結果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-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35280" y="1268280"/>
            <a:ext cx="1871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Verdana"/>
                <a:ea typeface="HG丸ｺﾞｼｯｸM-PRO"/>
              </a:rPr>
              <a:t>キャリブレーション無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291280" y="12682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ffff"/>
                </a:solidFill>
                <a:uFillTx/>
                <a:latin typeface="Verdana"/>
                <a:ea typeface="HG丸ｺﾞｼｯｸM-PRO"/>
              </a:rPr>
              <a:t>Ei</a:t>
            </a:r>
            <a:r>
              <a:rPr b="0" lang="ja-JP" sz="1200" spc="-1" strike="noStrike" u="sng">
                <a:solidFill>
                  <a:srgbClr val="ffffff"/>
                </a:solidFill>
                <a:uFillTx/>
                <a:latin typeface="Verdana"/>
                <a:ea typeface="HG丸ｺﾞｼｯｸM-PRO"/>
              </a:rPr>
              <a:t>のみにキャリブレーショ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183120" cy="25196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3181320" cy="25192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181320" cy="25196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4788000" y="4149720"/>
            <a:ext cx="3181320" cy="25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349-4B7F-42A7-87AD-4F910E6AC1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57200" y="684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まとめおよび課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68360" y="1203480"/>
            <a:ext cx="8229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■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EMCAL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において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π</a:t>
            </a:r>
            <a:r>
              <a:rPr b="0" lang="ja-JP" sz="2000" spc="-1" strike="noStrike" baseline="30000">
                <a:solidFill>
                  <a:srgbClr val="ffffff"/>
                </a:solidFill>
                <a:latin typeface="HG丸ｺﾞｼｯｸM-PRO"/>
                <a:ea typeface="HG丸ｺﾞｼｯｸM-PRO"/>
              </a:rPr>
              <a:t>0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の質量を基準として導出されるエネルギー値の補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■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EMCAL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でのエネルギーの非線形成を較正する手法を確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補正により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mass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分布の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π</a:t>
            </a:r>
            <a:r>
              <a:rPr b="0" lang="ja-JP" sz="2000" spc="-1" strike="noStrike" baseline="30000">
                <a:solidFill>
                  <a:srgbClr val="ffffff"/>
                </a:solidFill>
                <a:latin typeface="HG丸ｺﾞｼｯｸM-PRO"/>
                <a:ea typeface="HG丸ｺﾞｼｯｸM-PRO"/>
              </a:rPr>
              <a:t>０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と思われるピークを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0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．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1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２ＧｅＶ程度まで補正できた。しかし各エネルギー（Ｅ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i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）においてバラつが大き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理由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統計量の不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ＥＭＣＡＬの１チャンネルごとの較正が不十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今後の課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他の検出器を用いて、 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π</a:t>
            </a:r>
            <a:r>
              <a:rPr b="0" lang="ja-JP" sz="2000" spc="-1" strike="noStrike" baseline="30000">
                <a:solidFill>
                  <a:srgbClr val="ffffff"/>
                </a:solidFill>
                <a:latin typeface="HG丸ｺﾞｼｯｸM-PRO"/>
                <a:ea typeface="HG丸ｺﾞｼｯｸM-PRO"/>
              </a:rPr>
              <a:t>0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意外の粒子の影響を排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より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Ei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値を細かく設定することでの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fitting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の向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この過程を繰り返し行い、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π</a:t>
            </a:r>
            <a:r>
              <a:rPr b="0" lang="ja-JP" sz="2000" spc="-1" strike="noStrike" baseline="30000">
                <a:solidFill>
                  <a:srgbClr val="ffffff"/>
                </a:solidFill>
                <a:latin typeface="HG丸ｺﾞｼｯｸM-PRO"/>
                <a:ea typeface="HG丸ｺﾞｼｯｸM-PRO"/>
              </a:rPr>
              <a:t>0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のピークが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0.135</a:t>
            </a:r>
            <a:r>
              <a:rPr b="0" lang="ja-JP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ＧｅＶ程度になるまで補正を行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977-DF20-472D-A5F5-263884ECF2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おわ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C6B-F142-4A08-8B9E-823FB13ED3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11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28360" y="1699920"/>
            <a:ext cx="67676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研究目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イントロダクショ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・日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QG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光子物理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LH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ALI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EMC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解析手法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エネルギー較正方法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結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較正値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・比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まと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303-1408-4E1C-B746-ACE8FFCEEF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914560"/>
            <a:ext cx="4572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TPCTrack Quality Cut</a:t>
            </a:r>
            <a:r>
              <a:rPr b="0" lang="ja-JP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・・</a:t>
            </a:r>
            <a:r>
              <a:rPr b="0" lang="ja-JP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refit,</a:t>
            </a:r>
            <a:r>
              <a:rPr b="0" lang="ja-JP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クラスター数</a:t>
            </a:r>
            <a:r>
              <a:rPr b="0" lang="ja-JP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80</a:t>
            </a:r>
            <a:r>
              <a:rPr b="0" lang="ja-JP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Select Minimum Bias Tri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Z vertex cut</a:t>
            </a:r>
            <a:r>
              <a:rPr b="0" lang="ja-JP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・・</a:t>
            </a:r>
            <a:r>
              <a:rPr b="0" lang="ja-JP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20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14D-3FDC-4B21-8845-8DE5D36F94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8592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結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5920" y="13222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Ｅ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i,E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73080" y="2575080"/>
            <a:ext cx="4356000" cy="34495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4572000" y="2575080"/>
            <a:ext cx="4321080" cy="342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0C3-F7CE-48A7-BC55-B6A472F5E0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結果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-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8360" y="99072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Ei,Ej</a:t>
            </a:r>
            <a:r>
              <a:rPr b="0" lang="ja-JP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の両方にキャリブレーショ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638360"/>
            <a:ext cx="9144000" cy="433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24D-EF28-41F5-B6B1-EFD7FA6919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5092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結果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-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09720" y="1628640"/>
            <a:ext cx="1871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キャリブレーション無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6021360" y="2062080"/>
            <a:ext cx="2727360" cy="21589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3213000" y="2060640"/>
            <a:ext cx="2727360" cy="21589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404640" y="2060640"/>
            <a:ext cx="2725920" cy="2158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430440" y="1628640"/>
            <a:ext cx="208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i,Ej</a:t>
            </a: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にキャリブレーショ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64280" y="1628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j</a:t>
            </a: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のみにキャリブレーショ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216240" y="4292640"/>
            <a:ext cx="2724120" cy="2157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395280" y="4292640"/>
            <a:ext cx="2736720" cy="21686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6012000" y="4286160"/>
            <a:ext cx="2736720" cy="216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39F-48B9-4382-9EE4-26FA2EADE5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結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1557360"/>
            <a:ext cx="820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全粒子の</a:t>
            </a:r>
            <a:r>
              <a:rPr b="0" lang="en-US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mass</a:t>
            </a:r>
            <a:r>
              <a:rPr b="0" lang="zh-CN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分布の比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092400" y="2997360"/>
            <a:ext cx="2919600" cy="19792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900000" y="2536920"/>
            <a:ext cx="1871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キャリブレーション無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21080" y="253692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i,Ej</a:t>
            </a: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にキャリブレーショ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4560" y="253692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i</a:t>
            </a: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のみにキャリブレーショ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179280" y="3000240"/>
            <a:ext cx="2881440" cy="19544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6084720" y="2997360"/>
            <a:ext cx="2916360" cy="197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D8B-1BC9-4B2F-89FD-A3ED33602B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5092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結果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-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09720" y="1628640"/>
            <a:ext cx="1871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キャリブレーション無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213000" y="2060640"/>
            <a:ext cx="2727360" cy="21589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404640" y="2060640"/>
            <a:ext cx="2725920" cy="21589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30440" y="1628640"/>
            <a:ext cx="208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i,Ej</a:t>
            </a: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にキャリブレーショ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164280" y="1628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i</a:t>
            </a: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のみにキャリブレーショ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3216240" y="4292640"/>
            <a:ext cx="2724120" cy="21574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395280" y="4292640"/>
            <a:ext cx="2736720" cy="2168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6012000" y="4292640"/>
            <a:ext cx="2724120" cy="21574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6012000" y="2060640"/>
            <a:ext cx="2736720" cy="216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C14-4709-4E20-98CB-284062A9F3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539640" y="4777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結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5280" y="155736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崩壊粒子の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mass</a:t>
            </a: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分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87280" y="5300640"/>
            <a:ext cx="15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Cut</a:t>
            </a:r>
            <a:r>
              <a:rPr b="0" lang="zh-CN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無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940360" y="544500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Cut</a:t>
            </a:r>
            <a:r>
              <a:rPr b="0" lang="zh-CN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有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176720" cy="28335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4248360" cy="28810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132000" y="4797360"/>
            <a:ext cx="1368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Ｘ軸：Ｐｔ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[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Ｇ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e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Ｖ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/C</a:t>
            </a:r>
            <a:r>
              <a:rPr b="0" lang="en-US" sz="900" spc="-1" strike="noStrike" baseline="30000">
                <a:solidFill>
                  <a:srgbClr val="660000"/>
                </a:solidFill>
                <a:latin typeface="Verdana"/>
                <a:ea typeface="HG丸ｺﾞｼｯｸM-PRO"/>
              </a:rPr>
              <a:t>2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]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2060640"/>
            <a:ext cx="718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Y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軸：個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6360" y="4869000"/>
            <a:ext cx="1368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Ｘ軸：Ｐｔ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[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Ｇ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e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Ｖ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/C</a:t>
            </a:r>
            <a:r>
              <a:rPr b="0" lang="en-US" sz="900" spc="-1" strike="noStrike" baseline="30000">
                <a:solidFill>
                  <a:srgbClr val="660000"/>
                </a:solidFill>
                <a:latin typeface="Verdana"/>
                <a:ea typeface="HG丸ｺﾞｼｯｸM-PRO"/>
              </a:rPr>
              <a:t>2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]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16360" y="206064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Y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軸：個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AE1-6C3D-48A0-9607-9EDDC14B45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結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68360" y="1557360"/>
            <a:ext cx="820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全粒子の</a:t>
            </a:r>
            <a:r>
              <a:rPr b="0" lang="en-US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mass</a:t>
            </a:r>
            <a:r>
              <a:rPr b="0" lang="zh-CN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分布の比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76360" y="2536920"/>
            <a:ext cx="1871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キャリブレーション無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724360" y="253692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Ei</a:t>
            </a: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のみにキャリブレーショ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468360" y="3000240"/>
            <a:ext cx="4032360" cy="27338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3997080" cy="2711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3203640" y="5734080"/>
            <a:ext cx="1368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Ｘ軸：Ｐｔ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[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Ｇ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e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Ｖ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/C</a:t>
            </a:r>
            <a:r>
              <a:rPr b="0" lang="en-US" sz="900" spc="-1" strike="noStrike" baseline="30000">
                <a:solidFill>
                  <a:srgbClr val="660000"/>
                </a:solidFill>
                <a:latin typeface="Verdana"/>
                <a:ea typeface="HG丸ｺﾞｼｯｸM-PRO"/>
              </a:rPr>
              <a:t>2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]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8360" y="2997360"/>
            <a:ext cx="718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Y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軸：個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380360" y="5661000"/>
            <a:ext cx="1368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Ｘ軸：Ｐｔ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[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Ｇ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e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Ｖ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/C</a:t>
            </a:r>
            <a:r>
              <a:rPr b="0" lang="en-US" sz="900" spc="-1" strike="noStrike" baseline="30000">
                <a:solidFill>
                  <a:srgbClr val="660000"/>
                </a:solidFill>
                <a:latin typeface="Verdana"/>
                <a:ea typeface="HG丸ｺﾞｼｯｸM-PRO"/>
              </a:rPr>
              <a:t>2</a:t>
            </a: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]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88000" y="2997360"/>
            <a:ext cx="718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Y</a:t>
            </a:r>
            <a:r>
              <a:rPr b="0" lang="zh-CN" sz="900" spc="-1" strike="noStrike">
                <a:solidFill>
                  <a:srgbClr val="660000"/>
                </a:solidFill>
                <a:latin typeface="Verdana"/>
                <a:ea typeface="HG丸ｺﾞｼｯｸM-PRO"/>
              </a:rPr>
              <a:t>軸：個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8BF-CD29-4B30-B27D-9C875600C2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Snap ITC"/>
                <a:ea typeface="HG丸ｺﾞｼｯｸM-PRO"/>
              </a:rPr>
              <a:t>研究目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2637000"/>
            <a:ext cx="82296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LHC-ALICE</a:t>
            </a:r>
            <a:r>
              <a:rPr b="0" lang="zh-CN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実験にインストールされている</a:t>
            </a:r>
            <a:r>
              <a:rPr b="0" lang="en-US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EMCAL</a:t>
            </a:r>
            <a:r>
              <a:rPr b="0" lang="zh-CN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検出器において、中性</a:t>
            </a:r>
            <a:r>
              <a:rPr b="0" lang="en-US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π</a:t>
            </a:r>
            <a:r>
              <a:rPr b="0" lang="zh-CN" sz="2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中間子の質量を用いそのエネルギー較正を行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69E-576D-4202-B801-F9AAD65ED9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宇宙史実習‐日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4174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出国：２０１０年３月４日（現地時間）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到着：　　　同日　　　　（現地時間）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５ 　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金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アカウント作成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８   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月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プログラミング　　　　　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９   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火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１０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水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　　　　　　　　　　　　　　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１１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木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１２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金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１３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土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１４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日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１５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月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　　解析　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-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ＡＴＬＡＳ見学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１６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火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１７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水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　　　　　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-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ＡＬＩＣＥ見学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１８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木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　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１９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金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２０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土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２１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日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２２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月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　　報告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３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２３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(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火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)</a:t>
            </a:r>
            <a:r>
              <a:rPr b="0" lang="zh-CN" sz="15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　　帰国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2411280" y="2494080"/>
            <a:ext cx="0" cy="143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11280" y="4292640"/>
            <a:ext cx="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80000" y="270828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The Dark Side of the Universe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Dark Matter and Dark Energ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6000" y="191772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ffffff"/>
                </a:solidFill>
                <a:uFillTx/>
                <a:latin typeface="Verdana"/>
                <a:ea typeface="HG丸ｺﾞｼｯｸM-PRO"/>
              </a:rPr>
              <a:t>セミナー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285264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3357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708360" y="2852280"/>
            <a:ext cx="0" cy="505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08360" y="3284640"/>
            <a:ext cx="475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2708280"/>
            <a:ext cx="49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80000" y="2421000"/>
            <a:ext cx="46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ALICE RC  weekly meet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92360" y="306864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6308640"/>
            <a:ext cx="475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067280" y="6021360"/>
            <a:ext cx="45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CERN Heavy Ion Foru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92360" y="4869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708360" y="4867200"/>
            <a:ext cx="0" cy="144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5" descr="Cl0024"/>
          <p:cNvPicPr/>
          <p:nvPr/>
        </p:nvPicPr>
        <p:blipFill>
          <a:blip r:embed="rId1"/>
          <a:stretch/>
        </p:blipFill>
        <p:spPr>
          <a:xfrm>
            <a:off x="4578480" y="3860640"/>
            <a:ext cx="1722240" cy="20894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354" name="Text Box 7"/>
          <p:cNvSpPr/>
          <p:nvPr/>
        </p:nvSpPr>
        <p:spPr>
          <a:xfrm>
            <a:off x="4815000" y="3429000"/>
            <a:ext cx="357336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Mapping Dark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6" descr="mass_recon0024_500.jpg"/>
          <p:cNvPicPr/>
          <p:nvPr/>
        </p:nvPicPr>
        <p:blipFill>
          <a:blip r:embed="rId2"/>
          <a:stretch/>
        </p:blipFill>
        <p:spPr>
          <a:xfrm>
            <a:off x="6300720" y="3860640"/>
            <a:ext cx="2664000" cy="21114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3C8-77AB-4176-A9B5-153238506C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95120" y="3207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QGP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(Quark-Gluon Plasm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6280" y="1792440"/>
            <a:ext cx="8229600" cy="34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原子核を構成する陽子、中性子は</a:t>
            </a:r>
            <a:r>
              <a:rPr b="0" lang="ja-JP" sz="2000" spc="-1" strike="noStrike">
                <a:solidFill>
                  <a:srgbClr val="ffff00"/>
                </a:solidFill>
                <a:latin typeface="Verdana"/>
                <a:ea typeface="HG丸ｺﾞｼｯｸM-PRO"/>
              </a:rPr>
              <a:t>クォーク</a:t>
            </a:r>
            <a:r>
              <a:rPr b="0" lang="ja-JP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と</a:t>
            </a:r>
            <a:r>
              <a:rPr b="0" lang="ja-JP" sz="2000" spc="-1" strike="noStrike">
                <a:solidFill>
                  <a:srgbClr val="ffff00"/>
                </a:solidFill>
                <a:latin typeface="Verdana"/>
                <a:ea typeface="HG丸ｺﾞｼｯｸM-PRO"/>
              </a:rPr>
              <a:t>グルーオン</a:t>
            </a:r>
            <a:r>
              <a:rPr b="0" lang="ja-JP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から構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原子核が高エネルギー状態においてハドロン間の境界が薄く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クォークが比較的自由に飛びまわれる状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Verdana"/>
                <a:ea typeface="HG丸ｺﾞｼｯｸM-PRO"/>
              </a:rPr>
              <a:t>クォーク・グルーオンプラズ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（宇宙初期、ビックバン後の数</a:t>
            </a:r>
            <a:r>
              <a:rPr b="0" lang="ja-JP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μ</a:t>
            </a:r>
            <a:r>
              <a:rPr b="0" lang="ja-JP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ｓでの状態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ＱＧＰの物理を研究することで宇宙誕生や進化を解明する手がか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5" descr="QGP0000"/>
          <p:cNvPicPr/>
          <p:nvPr/>
        </p:nvPicPr>
        <p:blipFill>
          <a:blip r:embed="rId1"/>
          <a:stretch/>
        </p:blipFill>
        <p:spPr>
          <a:xfrm>
            <a:off x="4826160" y="5276880"/>
            <a:ext cx="3743280" cy="15811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252360" y="5589720"/>
            <a:ext cx="4248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ffff"/>
                </a:solidFill>
                <a:uFillTx/>
                <a:latin typeface="Verdana"/>
                <a:ea typeface="HG丸ｺﾞｼｯｸM-PRO"/>
              </a:rPr>
              <a:t>ＱＧＰ生成の手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　加速器による重イオン衝突実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63640" y="2276640"/>
            <a:ext cx="4680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60720" y="2276640"/>
            <a:ext cx="2073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HG丸ｺﾞｼｯｸM-PRO"/>
              </a:rPr>
              <a:t>高温・高密度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6094440"/>
            <a:ext cx="360360" cy="142920"/>
          </a:xfrm>
          <a:custGeom>
            <a:avLst/>
            <a:gdLst>
              <a:gd name="textAreaLeft" fmla="*/ 0 w 360360"/>
              <a:gd name="textAreaRight" fmla="*/ 360720 w 360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513-01AD-4489-96A7-B4A2E8AFE8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HG丸ｺﾞｼｯｸM-PRO"/>
              </a:rPr>
              <a:t>光子物理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Verdana"/>
                <a:ea typeface="HG丸ｺﾞｼｯｸM-PRO"/>
              </a:rPr>
              <a:t>ＱＧＰにおける光子測定の重要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■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重イオン衝突実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ＱＧＰの証拠：ジェット抑制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光子→非抑制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中性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π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中間子→抑制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□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同一検出器による測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直接的な比較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HG丸ｺﾞｼｯｸM-PRO"/>
              </a:rPr>
              <a:t>　ジェット抑制の解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ＥＭＣＡＬによる光子測定</a:t>
            </a: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　　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“</a:t>
            </a:r>
            <a:r>
              <a:rPr b="1" lang="zh-CN" sz="20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ＥＭＣＡＬのエネルギー較正が重要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238640" y="2151000"/>
            <a:ext cx="4581360" cy="3149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82560" y="5805360"/>
            <a:ext cx="504720" cy="358920"/>
          </a:xfrm>
          <a:custGeom>
            <a:avLst/>
            <a:gdLst>
              <a:gd name="textAreaLeft" fmla="*/ 0 w 504720"/>
              <a:gd name="textAreaRight" fmla="*/ 505080 w 5047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A53-7F04-46EE-86A4-B4B7DDF555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95360" y="2984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LHC</a:t>
            </a:r>
            <a:br>
              <a:rPr sz="4000"/>
            </a:br>
            <a:r>
              <a:rPr b="0" lang="ja-JP" sz="40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 (Large Hadron Collid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4200" y="1565280"/>
            <a:ext cx="82296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CERN(</a:t>
            </a: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欧州原子核研究機構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で建造された衝突型円形加速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14640" y="4330800"/>
            <a:ext cx="5878440" cy="2050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51000" y="2314440"/>
            <a:ext cx="3671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円周：約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７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ffff"/>
                </a:solidFill>
                <a:uFillTx/>
                <a:latin typeface="HG丸ｺﾞｼｯｸM-PRO"/>
                <a:ea typeface="HG丸ｺﾞｼｯｸM-PRO"/>
              </a:rPr>
              <a:t>最大衝突エネルギ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p-p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衝突＠１４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T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Pb-Pb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衝突＠５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５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T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実験施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-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ＣＭ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-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ＡＴＬＡ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HG丸ｺﾞｼｯｸM-PRO"/>
                <a:ea typeface="HG丸ｺﾞｼｯｸM-PRO"/>
              </a:rPr>
              <a:t>-</a:t>
            </a:r>
            <a:r>
              <a:rPr b="0" lang="ja-JP" sz="2400" spc="-1" strike="noStrike">
                <a:solidFill>
                  <a:srgbClr val="ffcc00"/>
                </a:solidFill>
                <a:latin typeface="HG丸ｺﾞｼｯｸM-PRO"/>
                <a:ea typeface="HG丸ｺﾞｼｯｸM-PRO"/>
              </a:rPr>
              <a:t>ＡＬＩＣ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-</a:t>
            </a: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ＬＨＣ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グループ化 12"/>
          <p:cNvGrpSpPr/>
          <p:nvPr/>
        </p:nvGrpSpPr>
        <p:grpSpPr>
          <a:xfrm>
            <a:off x="5394240" y="2060640"/>
            <a:ext cx="2922840" cy="2160360"/>
            <a:chOff x="5394240" y="2060640"/>
            <a:chExt cx="2922840" cy="2160360"/>
          </a:xfrm>
        </p:grpSpPr>
        <p:pic>
          <p:nvPicPr>
            <p:cNvPr id="372" name="Picture 2" descr="CERN加盟国"/>
            <p:cNvPicPr/>
            <p:nvPr/>
          </p:nvPicPr>
          <p:blipFill>
            <a:blip r:embed="rId2"/>
            <a:stretch/>
          </p:blipFill>
          <p:spPr>
            <a:xfrm>
              <a:off x="5394240" y="2471400"/>
              <a:ext cx="292284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4"/>
            <p:cNvSpPr/>
            <p:nvPr/>
          </p:nvSpPr>
          <p:spPr>
            <a:xfrm>
              <a:off x="7281720" y="2060640"/>
              <a:ext cx="730800" cy="34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400" rIns="104400" tIns="52200" bIns="52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HGP創英角ﾎﾟｯﾌﾟ体"/>
                  <a:ea typeface="HGP創英角ﾎﾟｯﾌﾟ体"/>
                </a:rPr>
                <a:t>CER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5"/>
            <p:cNvSpPr/>
            <p:nvPr/>
          </p:nvSpPr>
          <p:spPr>
            <a:xfrm flipH="1">
              <a:off x="7038360" y="2177280"/>
              <a:ext cx="20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 flipH="1">
              <a:off x="6856920" y="2177280"/>
              <a:ext cx="181080" cy="12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6796800" y="3410640"/>
              <a:ext cx="91080" cy="89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0C1-BFE5-4CA3-9749-20DC90B1F2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468360" y="460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ALICE</a:t>
            </a:r>
            <a:br>
              <a:rPr sz="3600"/>
            </a:br>
            <a:r>
              <a:rPr b="0" lang="ja-JP" sz="32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ja-JP" sz="32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A Large Ion Collider</a:t>
            </a:r>
            <a:r>
              <a:rPr b="0" lang="ja-JP" sz="32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　</a:t>
            </a:r>
            <a:r>
              <a:rPr b="0" lang="ja-JP" sz="32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Experiment </a:t>
            </a:r>
            <a:r>
              <a:rPr b="0" lang="ja-JP" sz="32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312920"/>
            <a:ext cx="88200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目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</a:t>
            </a:r>
            <a:r>
              <a:rPr b="0" lang="ja-JP" sz="23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p-p</a:t>
            </a:r>
            <a:r>
              <a:rPr b="0" lang="ja-JP" sz="23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衝突によるハドロン生成機構の解明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重イオン同士の衝突により発生する</a:t>
            </a:r>
            <a:r>
              <a:rPr b="0" lang="ja-JP" sz="23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QGP</a:t>
            </a:r>
            <a:r>
              <a:rPr b="0" lang="ja-JP" sz="23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物理の解明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dete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8000" y="3645000"/>
            <a:ext cx="208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＜飛跡検出器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T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T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3646440"/>
            <a:ext cx="2880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＜粒子識別検出器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T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T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ＴＯ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HG丸ｺﾞｼｯｸM-PRO"/>
                <a:ea typeface="HG丸ｺﾞｼｯｸM-PRO"/>
              </a:rPr>
              <a:t>・</a:t>
            </a:r>
            <a:r>
              <a:rPr b="0" lang="en-US" sz="2000" spc="-1" strike="noStrike">
                <a:solidFill>
                  <a:srgbClr val="ffcc00"/>
                </a:solidFill>
                <a:latin typeface="HG丸ｺﾞｼｯｸM-PRO"/>
                <a:ea typeface="HG丸ｺﾞｼｯｸM-PRO"/>
              </a:rPr>
              <a:t>EM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P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・ＨＭＰ</a:t>
            </a:r>
            <a:r>
              <a:rPr b="0" lang="en-US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4356000" y="2781360"/>
            <a:ext cx="4788000" cy="344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B33-CE8A-4FEA-AB35-C4013832E4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57200" y="115920"/>
            <a:ext cx="84358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EMCAL</a:t>
            </a:r>
            <a:br>
              <a:rPr sz="4000"/>
            </a:br>
            <a:r>
              <a:rPr b="0" lang="ja-JP" sz="2800" spc="-1" strike="noStrike">
                <a:solidFill>
                  <a:srgbClr val="ffff99"/>
                </a:solidFill>
                <a:latin typeface="HG丸ｺﾞｼｯｸM-PRO"/>
                <a:ea typeface="HG丸ｺﾞｼｯｸM-PRO"/>
              </a:rPr>
              <a:t>(Electro Magnetic CALorime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5280" y="1197000"/>
            <a:ext cx="8291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鉛板とプラスティックシンチレータのサンドウィッチ型サンプリング</a:t>
            </a: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EM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方位角方向：</a:t>
            </a: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80°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～</a:t>
            </a: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φ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～</a:t>
            </a: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190°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，｜</a:t>
            </a: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η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｜＜</a:t>
            </a: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cc00"/>
                </a:solidFill>
                <a:uFillTx/>
                <a:latin typeface="HG丸ｺﾞｼｯｸM-PRO"/>
                <a:ea typeface="HG丸ｺﾞｼｯｸM-PRO"/>
              </a:rPr>
              <a:t>ＥＭＣＡＬ内に入射してくる光子・電子のエネルギーを測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356000" y="4062240"/>
            <a:ext cx="4249800" cy="21034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6659640" y="4888080"/>
            <a:ext cx="2414520" cy="1780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716360" y="6237360"/>
            <a:ext cx="19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一列：１２ユニッ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4294080"/>
            <a:ext cx="3816360" cy="2519640"/>
          </a:xfrm>
          <a:prstGeom prst="flowChartProcess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71640" y="4941720"/>
            <a:ext cx="287964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69840" y="4941720"/>
            <a:ext cx="144720" cy="1368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90560" y="4941720"/>
            <a:ext cx="144720" cy="1368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09840" y="4941720"/>
            <a:ext cx="144360" cy="1368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0560" y="4941720"/>
            <a:ext cx="144360" cy="1368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16000" y="4941720"/>
            <a:ext cx="576360" cy="1368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16000" y="5230800"/>
            <a:ext cx="431640" cy="503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5280" y="4941720"/>
            <a:ext cx="576000" cy="1368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56000" y="4941720"/>
            <a:ext cx="576000" cy="1368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4941720"/>
            <a:ext cx="576360" cy="1368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187280" y="5446440"/>
            <a:ext cx="360360" cy="215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08000" y="6094440"/>
            <a:ext cx="216000" cy="14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979640" y="5878440"/>
            <a:ext cx="360360" cy="21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79640" y="5589720"/>
            <a:ext cx="28872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908000" y="5301720"/>
            <a:ext cx="142920" cy="289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7017600">
            <a:off x="734760" y="5267160"/>
            <a:ext cx="142560" cy="647640"/>
          </a:xfrm>
          <a:custGeom>
            <a:avLst/>
            <a:gdLst/>
            <a:ahLst/>
            <a:rect l="l" t="t" r="r" b="b"/>
            <a:pathLst>
              <a:path w="295" h="817">
                <a:moveTo>
                  <a:pt x="136" y="817"/>
                </a:moveTo>
                <a:cubicBezTo>
                  <a:pt x="124" y="786"/>
                  <a:pt x="113" y="756"/>
                  <a:pt x="136" y="726"/>
                </a:cubicBezTo>
                <a:cubicBezTo>
                  <a:pt x="159" y="696"/>
                  <a:pt x="295" y="673"/>
                  <a:pt x="272" y="635"/>
                </a:cubicBezTo>
                <a:cubicBezTo>
                  <a:pt x="249" y="597"/>
                  <a:pt x="0" y="537"/>
                  <a:pt x="0" y="499"/>
                </a:cubicBezTo>
                <a:cubicBezTo>
                  <a:pt x="0" y="461"/>
                  <a:pt x="272" y="446"/>
                  <a:pt x="272" y="408"/>
                </a:cubicBezTo>
                <a:cubicBezTo>
                  <a:pt x="272" y="370"/>
                  <a:pt x="0" y="310"/>
                  <a:pt x="0" y="272"/>
                </a:cubicBezTo>
                <a:cubicBezTo>
                  <a:pt x="0" y="234"/>
                  <a:pt x="249" y="212"/>
                  <a:pt x="272" y="182"/>
                </a:cubicBezTo>
                <a:cubicBezTo>
                  <a:pt x="295" y="152"/>
                  <a:pt x="159" y="121"/>
                  <a:pt x="136" y="91"/>
                </a:cubicBezTo>
                <a:cubicBezTo>
                  <a:pt x="113" y="61"/>
                  <a:pt x="136" y="15"/>
                  <a:pt x="136" y="0"/>
                </a:cubicBezTo>
              </a:path>
            </a:pathLst>
          </a:custGeom>
          <a:noFill/>
          <a:ln w="9360">
            <a:solidFill>
              <a:srgbClr val="6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7017600">
            <a:off x="1414800" y="5521680"/>
            <a:ext cx="147600" cy="720720"/>
          </a:xfrm>
          <a:custGeom>
            <a:avLst/>
            <a:gdLst/>
            <a:ahLst/>
            <a:rect l="l" t="t" r="r" b="b"/>
            <a:pathLst>
              <a:path w="295" h="817">
                <a:moveTo>
                  <a:pt x="136" y="817"/>
                </a:moveTo>
                <a:cubicBezTo>
                  <a:pt x="124" y="786"/>
                  <a:pt x="113" y="756"/>
                  <a:pt x="136" y="726"/>
                </a:cubicBezTo>
                <a:cubicBezTo>
                  <a:pt x="159" y="696"/>
                  <a:pt x="295" y="673"/>
                  <a:pt x="272" y="635"/>
                </a:cubicBezTo>
                <a:cubicBezTo>
                  <a:pt x="249" y="597"/>
                  <a:pt x="0" y="537"/>
                  <a:pt x="0" y="499"/>
                </a:cubicBezTo>
                <a:cubicBezTo>
                  <a:pt x="0" y="461"/>
                  <a:pt x="272" y="446"/>
                  <a:pt x="272" y="408"/>
                </a:cubicBezTo>
                <a:cubicBezTo>
                  <a:pt x="272" y="370"/>
                  <a:pt x="0" y="310"/>
                  <a:pt x="0" y="272"/>
                </a:cubicBezTo>
                <a:cubicBezTo>
                  <a:pt x="0" y="234"/>
                  <a:pt x="249" y="212"/>
                  <a:pt x="272" y="182"/>
                </a:cubicBezTo>
                <a:cubicBezTo>
                  <a:pt x="295" y="152"/>
                  <a:pt x="159" y="121"/>
                  <a:pt x="136" y="91"/>
                </a:cubicBezTo>
                <a:cubicBezTo>
                  <a:pt x="113" y="61"/>
                  <a:pt x="136" y="15"/>
                  <a:pt x="136" y="0"/>
                </a:cubicBezTo>
              </a:path>
            </a:pathLst>
          </a:custGeom>
          <a:noFill/>
          <a:ln w="9360">
            <a:solidFill>
              <a:srgbClr val="6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 rot="4794600">
            <a:off x="1425240" y="5340960"/>
            <a:ext cx="82440" cy="701640"/>
          </a:xfrm>
          <a:custGeom>
            <a:avLst/>
            <a:gdLst/>
            <a:ahLst/>
            <a:rect l="l" t="t" r="r" b="b"/>
            <a:pathLst>
              <a:path w="295" h="817">
                <a:moveTo>
                  <a:pt x="136" y="817"/>
                </a:moveTo>
                <a:cubicBezTo>
                  <a:pt x="124" y="786"/>
                  <a:pt x="113" y="756"/>
                  <a:pt x="136" y="726"/>
                </a:cubicBezTo>
                <a:cubicBezTo>
                  <a:pt x="159" y="696"/>
                  <a:pt x="295" y="673"/>
                  <a:pt x="272" y="635"/>
                </a:cubicBezTo>
                <a:cubicBezTo>
                  <a:pt x="249" y="597"/>
                  <a:pt x="0" y="537"/>
                  <a:pt x="0" y="499"/>
                </a:cubicBezTo>
                <a:cubicBezTo>
                  <a:pt x="0" y="461"/>
                  <a:pt x="272" y="446"/>
                  <a:pt x="272" y="408"/>
                </a:cubicBezTo>
                <a:cubicBezTo>
                  <a:pt x="272" y="370"/>
                  <a:pt x="0" y="310"/>
                  <a:pt x="0" y="272"/>
                </a:cubicBezTo>
                <a:cubicBezTo>
                  <a:pt x="0" y="234"/>
                  <a:pt x="249" y="212"/>
                  <a:pt x="272" y="182"/>
                </a:cubicBezTo>
                <a:cubicBezTo>
                  <a:pt x="295" y="152"/>
                  <a:pt x="159" y="121"/>
                  <a:pt x="136" y="91"/>
                </a:cubicBezTo>
                <a:cubicBezTo>
                  <a:pt x="113" y="61"/>
                  <a:pt x="136" y="15"/>
                  <a:pt x="136" y="0"/>
                </a:cubicBezTo>
              </a:path>
            </a:pathLst>
          </a:custGeom>
          <a:noFill/>
          <a:ln w="9360">
            <a:solidFill>
              <a:srgbClr val="6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6178800">
            <a:off x="2084760" y="5726520"/>
            <a:ext cx="179640" cy="762120"/>
          </a:xfrm>
          <a:custGeom>
            <a:avLst/>
            <a:gdLst/>
            <a:ahLst/>
            <a:rect l="l" t="t" r="r" b="b"/>
            <a:pathLst>
              <a:path w="295" h="817">
                <a:moveTo>
                  <a:pt x="136" y="817"/>
                </a:moveTo>
                <a:cubicBezTo>
                  <a:pt x="124" y="786"/>
                  <a:pt x="113" y="756"/>
                  <a:pt x="136" y="726"/>
                </a:cubicBezTo>
                <a:cubicBezTo>
                  <a:pt x="159" y="696"/>
                  <a:pt x="295" y="673"/>
                  <a:pt x="272" y="635"/>
                </a:cubicBezTo>
                <a:cubicBezTo>
                  <a:pt x="249" y="597"/>
                  <a:pt x="0" y="537"/>
                  <a:pt x="0" y="499"/>
                </a:cubicBezTo>
                <a:cubicBezTo>
                  <a:pt x="0" y="461"/>
                  <a:pt x="272" y="446"/>
                  <a:pt x="272" y="408"/>
                </a:cubicBezTo>
                <a:cubicBezTo>
                  <a:pt x="272" y="370"/>
                  <a:pt x="0" y="310"/>
                  <a:pt x="0" y="272"/>
                </a:cubicBezTo>
                <a:cubicBezTo>
                  <a:pt x="0" y="234"/>
                  <a:pt x="249" y="212"/>
                  <a:pt x="272" y="182"/>
                </a:cubicBezTo>
                <a:cubicBezTo>
                  <a:pt x="295" y="152"/>
                  <a:pt x="159" y="121"/>
                  <a:pt x="136" y="91"/>
                </a:cubicBezTo>
                <a:cubicBezTo>
                  <a:pt x="113" y="61"/>
                  <a:pt x="136" y="15"/>
                  <a:pt x="136" y="0"/>
                </a:cubicBezTo>
              </a:path>
            </a:pathLst>
          </a:custGeom>
          <a:noFill/>
          <a:ln w="9360">
            <a:solidFill>
              <a:srgbClr val="6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3885600">
            <a:off x="1973160" y="5294160"/>
            <a:ext cx="123840" cy="466560"/>
          </a:xfrm>
          <a:custGeom>
            <a:avLst/>
            <a:gdLst/>
            <a:ahLst/>
            <a:rect l="l" t="t" r="r" b="b"/>
            <a:pathLst>
              <a:path w="295" h="817">
                <a:moveTo>
                  <a:pt x="136" y="817"/>
                </a:moveTo>
                <a:cubicBezTo>
                  <a:pt x="124" y="786"/>
                  <a:pt x="113" y="756"/>
                  <a:pt x="136" y="726"/>
                </a:cubicBezTo>
                <a:cubicBezTo>
                  <a:pt x="159" y="696"/>
                  <a:pt x="295" y="673"/>
                  <a:pt x="272" y="635"/>
                </a:cubicBezTo>
                <a:cubicBezTo>
                  <a:pt x="249" y="597"/>
                  <a:pt x="0" y="537"/>
                  <a:pt x="0" y="499"/>
                </a:cubicBezTo>
                <a:cubicBezTo>
                  <a:pt x="0" y="461"/>
                  <a:pt x="272" y="446"/>
                  <a:pt x="272" y="408"/>
                </a:cubicBezTo>
                <a:cubicBezTo>
                  <a:pt x="272" y="370"/>
                  <a:pt x="0" y="310"/>
                  <a:pt x="0" y="272"/>
                </a:cubicBezTo>
                <a:cubicBezTo>
                  <a:pt x="0" y="234"/>
                  <a:pt x="249" y="212"/>
                  <a:pt x="272" y="182"/>
                </a:cubicBezTo>
                <a:cubicBezTo>
                  <a:pt x="295" y="152"/>
                  <a:pt x="159" y="121"/>
                  <a:pt x="136" y="91"/>
                </a:cubicBezTo>
                <a:cubicBezTo>
                  <a:pt x="113" y="61"/>
                  <a:pt x="136" y="15"/>
                  <a:pt x="136" y="0"/>
                </a:cubicBezTo>
              </a:path>
            </a:pathLst>
          </a:custGeom>
          <a:noFill/>
          <a:ln w="9360">
            <a:solidFill>
              <a:srgbClr val="6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08000" y="566244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HG丸ｺﾞｼｯｸM-PRO"/>
                <a:ea typeface="HG丸ｺﾞｼｯｸM-PRO"/>
              </a:rPr>
              <a:t>e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58920" y="494172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HG丸ｺﾞｼｯｸM-PRO"/>
                <a:ea typeface="HG丸ｺﾞｼｯｸM-PRO"/>
              </a:rPr>
              <a:t>e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04000" y="3645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１モジュール：２４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3000" y="2232000"/>
            <a:ext cx="90820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HG丸ｺﾞｼｯｸM-PRO"/>
                <a:ea typeface="HG丸ｺﾞｼｯｸM-PRO"/>
              </a:rPr>
              <a:t>検出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1. 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高エネルギー光子・電子が鉛板により電子シャワーを形成（対生成＋制動放射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2. 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シンチレーター内の電子、陽電子がシンチレータ光を放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3. APD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により光をシグナルに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4. 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シグナルよりエネルギーを導出（</a:t>
            </a:r>
            <a:r>
              <a:rPr b="0" lang="en-US" sz="1800" spc="-1" strike="noStrike">
                <a:solidFill>
                  <a:srgbClr val="ffcc00"/>
                </a:solidFill>
                <a:latin typeface="HG丸ｺﾞｼｯｸM-PRO"/>
                <a:ea typeface="HG丸ｺﾞｼｯｸM-PRO"/>
              </a:rPr>
              <a:t>←ここを較正</a:t>
            </a:r>
            <a:r>
              <a:rPr b="0" lang="zh-CN" sz="1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B18-1906-45F8-8783-ADEC3A1BCD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4:14:34Z</dcterms:created>
  <dc:creator> </dc:creator>
  <dc:description/>
  <dc:language>en-US</dc:language>
  <cp:lastModifiedBy> </cp:lastModifiedBy>
  <dcterms:modified xsi:type="dcterms:W3CDTF">2010-03-22T20:17:53Z</dcterms:modified>
  <cp:revision>42</cp:revision>
  <dc:subject/>
  <dc:title>スライド 1</dc:title>
</cp:coreProperties>
</file>