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564-1BD7-4B3F-8B9E-94CD4C5C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111-0B70-43A4-8133-E4E245E3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52D-B26E-4207-A8FF-A6D0F584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49C-48E9-4CF5-B39A-2CD1BE40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F81-C9F7-434E-92E7-7D0508C5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DFF-3463-431C-80C6-AE2303E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6CB-8371-4510-9040-ABE2AC9C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F28-5566-4ABE-8BF3-F1997774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9AF-5415-4A7A-A42B-700FF8B8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131-0AC8-4CA1-99C9-505B182C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307-7498-46A4-ABA7-AFE0A6ED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7EB-9AB0-4DAA-83BE-E826ADF4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1FB8-0211-4EA0-B81A-1B7C405B3AD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rimary vertex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トラック多重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宇宙史拠点実習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発表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深見智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方法概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3184560"/>
            <a:ext cx="4114800" cy="30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Ｍ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hy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ミニマムバイア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00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 ×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7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ベ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60840" y="3184560"/>
            <a:ext cx="4114800" cy="3052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TLA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実デ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00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3 ×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ベ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1015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N/d(et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布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N/dp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布をモンテカルロとデータで比較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れぞれ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ta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かけた場合も比較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パラメータな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分布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分布を出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 et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カットする場合はまず、カットのかかっ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布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布をつく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ヒストグラム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とに平均を出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とのトラックの数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幅で割っ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N/d(eta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分布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N/dp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分布を出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計算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との平均値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=η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たり）をプロッ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し、全イベントの積算なので、ＭＣとデータで縦軸の大きさが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133720"/>
            <a:ext cx="287280" cy="1873080"/>
          </a:xfrm>
          <a:prstGeom prst="downArrow">
            <a:avLst>
              <a:gd name="adj1" fmla="val 59120"/>
              <a:gd name="adj2" fmla="val 91733"/>
            </a:avLst>
          </a:prstGeom>
          <a:solidFill>
            <a:srgbClr val="0000ff">
              <a:alpha val="32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分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2009520" cy="20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8160" y="2846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040" y="5064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70240" y="1469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カットな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00040" y="1341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カットあ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40360" y="198900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516720" y="198900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140360" y="443700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516720" y="4365720"/>
            <a:ext cx="2009880" cy="200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79640" y="335772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1.3 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342252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7.2 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2720" y="3429000"/>
            <a:ext cx="208728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4.6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579924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2.3 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580536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1.4 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580536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1.0 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1700280"/>
            <a:ext cx="172728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T &gt; 500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61080" y="1700280"/>
            <a:ext cx="172728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T &gt; 700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413000"/>
            <a:ext cx="0" cy="4968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1413000"/>
            <a:ext cx="0" cy="4968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989000"/>
            <a:ext cx="8748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221000"/>
            <a:ext cx="8748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4720" y="227664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24720" y="465300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227664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469584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48360" y="2278080"/>
            <a:ext cx="0" cy="647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48360" y="4654440"/>
            <a:ext cx="0" cy="647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分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3640" y="199548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95640" y="199548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227640" y="199548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763640" y="429264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067280" y="429264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300720" y="4292640"/>
            <a:ext cx="2009880" cy="20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89320" y="1469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カットな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09600" y="1484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カットあ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342900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1.3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3080" y="342900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1.1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342900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8.6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572616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2.3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3080" y="573408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1.8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640" y="5734080"/>
            <a:ext cx="20876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ntry = 1.5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1700280"/>
            <a:ext cx="122400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η| &lt;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720" y="1700280"/>
            <a:ext cx="122400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η| &lt;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21440" y="3933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39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0720" y="61578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6237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0720" y="6237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8160" y="2874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441440"/>
            <a:ext cx="0" cy="4968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1441440"/>
            <a:ext cx="0" cy="4968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017800"/>
            <a:ext cx="8748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249800"/>
            <a:ext cx="8748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040" y="514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4508640"/>
            <a:ext cx="647640" cy="7207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4437000"/>
            <a:ext cx="647640" cy="7207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4508640"/>
            <a:ext cx="647640" cy="7207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0560" y="449424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92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272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04000" y="450864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N/dη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分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8800" y="1469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カットな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49080" y="1484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カットあ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28960" y="213984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334040" y="213984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637320" y="213984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036880" y="443700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427640" y="447984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732720" y="4479840"/>
            <a:ext cx="2009520" cy="2009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29080" y="1700280"/>
            <a:ext cx="172728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T &gt; 500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5440" y="1700280"/>
            <a:ext cx="172728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T &gt; 700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5294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1512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1000" y="2874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19200" y="1441440"/>
            <a:ext cx="0" cy="4968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441440"/>
            <a:ext cx="0" cy="4968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6840" y="2017800"/>
            <a:ext cx="8748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840" y="4249800"/>
            <a:ext cx="8748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4880" y="514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4800" y="29541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26320" y="524520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30480" y="316872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16080" y="513072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2955960"/>
            <a:ext cx="0" cy="647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4900680"/>
            <a:ext cx="0" cy="647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N/dpT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分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28800" y="1469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カットな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49080" y="1484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カットあ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24000" y="228276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84720" y="228276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16720" y="228276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124000" y="443700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356000" y="443700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6588000" y="4437000"/>
            <a:ext cx="2009880" cy="20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45080" y="1924200"/>
            <a:ext cx="122400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η| &lt;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1924200"/>
            <a:ext cx="122400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η| &lt;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4076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744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816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56720" y="63025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63025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6308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4145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5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3640" y="465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4600" y="30751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2800" y="1641600"/>
            <a:ext cx="0" cy="4968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32440" y="1641600"/>
            <a:ext cx="0" cy="4968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0440" y="2217600"/>
            <a:ext cx="8748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0440" y="4449600"/>
            <a:ext cx="8748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840" y="5349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ンテカルロ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TLA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実験データを用いて、トラック多重度を比較し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データで同様の分布と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分布に対す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カット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小さいイベントを落とす傾向が見られ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6040" y="443700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5229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ＭＣとデータの比較で定量的な評価を行うこ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布の形がカットのありなしで、変わっていないように見えるが、カットのかけ方の為なのか、他の要因なのか、原因を理解するこ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7:40:48Z</dcterms:created>
  <dc:creator>fukami tomoyo</dc:creator>
  <dc:description/>
  <dc:language>en-US</dc:language>
  <cp:lastModifiedBy>fukami tomoyo</cp:lastModifiedBy>
  <dcterms:modified xsi:type="dcterms:W3CDTF">2010-05-06T22:14:30Z</dcterms:modified>
  <cp:revision>25</cp:revision>
  <dc:subject/>
  <dc:title>Ks のハドロン同定</dc:title>
</cp:coreProperties>
</file>