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0813-C026-4CAE-9878-51DC6111D2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4515-4DAD-4410-8531-E13A4AF9FF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89DE-C088-4A1C-A4AF-79072AF987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AC6D-965D-4211-87E6-4E9EA327B7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4F6E-D83D-4DE6-929B-AA09B60D21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C9F6-E8DD-4C52-8EFB-08B33BCE10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6A61-5D07-4A32-8AFF-D7ED352FF7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082-521B-43A8-BB19-3AA95B9CD9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EE09-96C5-4CC4-B844-45E1BD2C51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372-AC10-4B2F-911C-1D646DF143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736B-811D-4003-B7C1-725853A70B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1A6C-3933-4764-8A32-EFDBDCC565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924D-9E7B-4E5E-8F1F-4C81729400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A1F1-AC6F-486D-9E02-795CB92F1A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7710-39E2-4E68-A4C4-9EB9A94624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FA7B-35F1-4C00-9561-86C0D7AFE7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8AEB-9B9C-41E6-A459-FB87CD7973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3968-8B9C-4B9D-B75A-D994EEC19C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FF7-1266-4255-ADBE-DC304AE2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FAE-4987-4D9B-A54F-6E7C06D3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837-4745-4710-92D7-E71C4EB9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78B-BF24-4BB6-A7D0-8E413C04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678-DF18-4F94-8067-21FFB07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A72-0E27-4896-A9A7-47C5D11D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7ED-D55E-40A6-A16A-C7D091C6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F57-E97B-42F4-A800-EB9E3A54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4EC-0943-4FD6-8469-E5AD34F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A13-FFBB-45B2-8F75-F31FB58F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AF6-2E73-434E-B64F-4F4AFBA4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0AF-C571-4353-999C-13FB8B53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EC0E-4CDF-4045-A1C5-CE1B49051E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シミュレーションサンプルを用いた光子コンバージョン再構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素粒子実験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黒川悠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コンバージョン点分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4200" y="1509840"/>
            <a:ext cx="4197600" cy="39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4230720" cy="4000680"/>
          </a:xfrm>
          <a:prstGeom prst="rect">
            <a:avLst/>
          </a:prstGeom>
          <a:ln w="0">
            <a:noFill/>
          </a:ln>
        </p:spPr>
      </p:pic>
      <p:sp>
        <p:nvSpPr>
          <p:cNvPr id="108" name="テキスト ボックス 6"/>
          <p:cNvSpPr/>
          <p:nvPr/>
        </p:nvSpPr>
        <p:spPr>
          <a:xfrm>
            <a:off x="642960" y="581508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 = 20G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7"/>
          <p:cNvSpPr/>
          <p:nvPr/>
        </p:nvSpPr>
        <p:spPr>
          <a:xfrm>
            <a:off x="5143680" y="57434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 = 2G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コンバージョン点分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5"/>
          <p:cNvSpPr/>
          <p:nvPr/>
        </p:nvSpPr>
        <p:spPr>
          <a:xfrm>
            <a:off x="1071720" y="571500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 = 20G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6"/>
          <p:cNvSpPr/>
          <p:nvPr/>
        </p:nvSpPr>
        <p:spPr>
          <a:xfrm>
            <a:off x="5572080" y="571500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 = 2G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4373640" cy="4135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643280" y="1500120"/>
            <a:ext cx="43578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コンバージョン点分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72080" y="1571760"/>
            <a:ext cx="4005360" cy="3786120"/>
          </a:xfrm>
          <a:prstGeom prst="rect">
            <a:avLst/>
          </a:prstGeom>
          <a:ln w="0">
            <a:noFill/>
          </a:ln>
        </p:spPr>
      </p:pic>
      <p:sp>
        <p:nvSpPr>
          <p:cNvPr id="117" name="テキスト ボックス 5"/>
          <p:cNvSpPr/>
          <p:nvPr/>
        </p:nvSpPr>
        <p:spPr>
          <a:xfrm>
            <a:off x="1214280" y="567216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 = 20G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6"/>
          <p:cNvSpPr/>
          <p:nvPr/>
        </p:nvSpPr>
        <p:spPr>
          <a:xfrm>
            <a:off x="5715000" y="5672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 = 2G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57120" y="1552680"/>
            <a:ext cx="4143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コンバージョン点分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71280" y="2141640"/>
            <a:ext cx="4424400" cy="416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4572000" y="2143080"/>
            <a:ext cx="4429080" cy="4165560"/>
          </a:xfrm>
          <a:prstGeom prst="rect">
            <a:avLst/>
          </a:prstGeom>
          <a:ln w="0">
            <a:noFill/>
          </a:ln>
        </p:spPr>
      </p:pic>
      <p:sp>
        <p:nvSpPr>
          <p:cNvPr id="123" name="テキスト ボックス 6"/>
          <p:cNvSpPr/>
          <p:nvPr/>
        </p:nvSpPr>
        <p:spPr>
          <a:xfrm>
            <a:off x="642960" y="63453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 = 20G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テキスト ボックス 7"/>
          <p:cNvSpPr/>
          <p:nvPr/>
        </p:nvSpPr>
        <p:spPr>
          <a:xfrm>
            <a:off x="5286240" y="63453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 = 2G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628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.5&lt;S&lt;1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1268280"/>
            <a:ext cx="33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hit 0,1,2 : -2.0&lt;S&lt;7.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: -0.4&lt;S&lt;0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コンバージョン点分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方向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GeV,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狭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テキスト ボックス 6"/>
          <p:cNvSpPr/>
          <p:nvPr/>
        </p:nvSpPr>
        <p:spPr>
          <a:xfrm>
            <a:off x="3564000" y="62373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 = 2G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27640" y="1773360"/>
          <a:ext cx="471636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773360"/>
                    <a:ext cx="471636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32360" y="2781360"/>
            <a:ext cx="331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hit 0 : -1.0&lt;S&lt;3.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 : -1.0&lt;S&lt;2.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: -0.1&lt;S&lt;0.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108000" y="1844640"/>
            <a:ext cx="4429080" cy="4165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03280" y="2852640"/>
            <a:ext cx="338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hit 0,1,2 : -2.0&lt;S&lt;7.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: -0.4&lt;S&lt;0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松隈さんの修士論文での研究「光子コンバージョン事象を用いた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LA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内部飛跡検出器の物質量評価」を引き継い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コードなどを出来る限り理解するよう努め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Photo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のシミュレーションデータを用いて、出せるプロットを出し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最後に、Ｒ方向のコンバージョン点分布については、２ＧｅＶのときのＳによるカットをより厳しくして見てみ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今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-Truth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との相関を調べ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→Ｓ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からＴｒｕｔｈにより近い値を出せるようになりた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コンバージョン点の定義を他に考え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　　　　　　　　　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0" descr="def_S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067280" y="4149720"/>
            <a:ext cx="3355920" cy="2144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 flipV="1">
            <a:off x="5508360" y="4579920"/>
            <a:ext cx="215640" cy="14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99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Ｂａｃｋ　Ｕ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LAS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検出器概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ATLAS"/>
          <p:cNvPicPr/>
          <p:nvPr/>
        </p:nvPicPr>
        <p:blipFill>
          <a:blip r:embed="rId1"/>
          <a:stretch/>
        </p:blipFill>
        <p:spPr>
          <a:xfrm>
            <a:off x="1490760" y="1600200"/>
            <a:ext cx="616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内部飛跡検出器の物質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599840"/>
            <a:ext cx="397188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シミュレーションに組み込まれている値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0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度方向で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4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86240" y="1500120"/>
            <a:ext cx="34005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Calibri"/>
              </a:rPr>
              <a:t>光子コンバージョン点を見つけることで、物質量の分布を確認することができ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InDetMaterial"/>
          <p:cNvPicPr/>
          <p:nvPr/>
        </p:nvPicPr>
        <p:blipFill>
          <a:blip r:embed="rId1"/>
          <a:srcRect l="0" t="0" r="3744" b="0"/>
          <a:stretch/>
        </p:blipFill>
        <p:spPr>
          <a:xfrm>
            <a:off x="285840" y="3000240"/>
            <a:ext cx="4608360" cy="321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1357200" y="6072120"/>
                <a:ext cx="1468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6000840" y="5643720"/>
                <a:ext cx="12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49" name="Picture 34" descr="F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572080" y="2928960"/>
            <a:ext cx="32338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はじめ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度は、松隈さんの修士論文での研究「光子コンバージョン事象を用いた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LA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内部飛跡検出器の物質量評価」を引き継ぐことになりまし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今回の宇宙史拠点実習では、コードなどを出来る限り理解するよう努め、出せるプロットを出してみまし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gle Phot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シミュレーションデータを用いて、光子コンバージョンの再構成を行いまし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bia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は理解が間に合いませんでし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内部飛跡検出器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Inner Detecto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1285920"/>
            <a:ext cx="857232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内部飛跡検出器は</a:t>
            </a:r>
            <a:r>
              <a:rPr b="0" lang="ja-JP" sz="2400" spc="-1" strike="noStrike">
                <a:solidFill>
                  <a:srgbClr val="ff0066"/>
                </a:solidFill>
                <a:latin typeface="Calibri"/>
              </a:rPr>
              <a:t>荷電粒子運動量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(e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,μ,π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Vertex poin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測定を行う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LA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では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xel,SCT,TR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つの検出器から構成されてい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79280" y="384480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olenoid Magnet  (2T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Calibri"/>
              </a:rPr>
              <a:t>・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ixel Detector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0" lang="en-US" sz="2400" spc="-1" strike="noStrike">
                <a:solidFill>
                  <a:srgbClr val="cc00ff"/>
                </a:solidFill>
                <a:latin typeface="Calibri"/>
              </a:rPr>
              <a:t>(1.4×108channels)</a:t>
            </a:r>
            <a:r>
              <a:rPr b="0" lang="ja-JP" sz="2400" spc="-1" strike="noStrike">
                <a:solidFill>
                  <a:srgbClr val="cc00ff"/>
                </a:solidFill>
                <a:latin typeface="Calibri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Calibri"/>
              </a:rPr>
              <a:t>・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licon Strip Detector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0" lang="en-US" sz="2400" spc="-1" strike="noStrike">
                <a:solidFill>
                  <a:srgbClr val="cc00ff"/>
                </a:solidFill>
                <a:latin typeface="Calibri"/>
              </a:rPr>
              <a:t>(6×106 chann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Calibri"/>
              </a:rPr>
              <a:t>・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ransition Radiation Track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400" spc="-1" strike="noStrike">
                <a:solidFill>
                  <a:srgbClr val="cc00ff"/>
                </a:solidFill>
                <a:latin typeface="Calibri"/>
              </a:rPr>
              <a:t>(4×105 chann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detector"/>
          <p:cNvPicPr/>
          <p:nvPr/>
        </p:nvPicPr>
        <p:blipFill>
          <a:blip r:embed="rId1"/>
          <a:stretch/>
        </p:blipFill>
        <p:spPr>
          <a:xfrm>
            <a:off x="1403280" y="2284560"/>
            <a:ext cx="1728720" cy="121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427640" y="2571840"/>
            <a:ext cx="4392360" cy="3641760"/>
          </a:xfrm>
          <a:prstGeom prst="rect">
            <a:avLst/>
          </a:prstGeom>
          <a:ln w="0">
            <a:noFill/>
          </a:ln>
        </p:spPr>
      </p:pic>
      <p:sp>
        <p:nvSpPr>
          <p:cNvPr id="57" name="Oval 13"/>
          <p:cNvSpPr/>
          <p:nvPr/>
        </p:nvSpPr>
        <p:spPr>
          <a:xfrm>
            <a:off x="2066760" y="2782800"/>
            <a:ext cx="505080" cy="28908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108000" y="3786120"/>
            <a:ext cx="249120" cy="2811600"/>
          </a:xfrm>
          <a:custGeom>
            <a:avLst/>
            <a:gdLst>
              <a:gd name="textAreaLeft" fmla="*/ 73080 w 249120"/>
              <a:gd name="textAreaRight" fmla="*/ 249480 w 249120"/>
              <a:gd name="textAreaTop" fmla="*/ 128160 h 2811600"/>
              <a:gd name="textAreaBottom" fmla="*/ 2683440 h 281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85"/>
                  <a:pt x="0" y="1970"/>
                </a:cubicBezTo>
                <a:lnTo>
                  <a:pt x="0" y="19630"/>
                </a:lnTo>
                <a:cubicBezTo>
                  <a:pt x="0" y="20615"/>
                  <a:pt x="108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正方形/長方形 12"/>
          <p:cNvSpPr/>
          <p:nvPr/>
        </p:nvSpPr>
        <p:spPr>
          <a:xfrm>
            <a:off x="4357800" y="6072120"/>
            <a:ext cx="5713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4284720" y="2500200"/>
            <a:ext cx="4680000" cy="3816360"/>
          </a:xfrm>
          <a:prstGeom prst="wedgeRoundRectCallout">
            <a:avLst>
              <a:gd name="adj1" fmla="val -87143"/>
              <a:gd name="adj2" fmla="val -39476"/>
              <a:gd name="adj3" fmla="val 16667"/>
            </a:avLst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コンバージョンの再構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400" y="1428480"/>
            <a:ext cx="8358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イベント内でのトラックを探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電荷が異なるトラックで対をつく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トラックを延長す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磁場中で荷電粒子は、曲率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円運動をす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         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 ⇒トラック対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面上で平行になるところを最近接距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定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曲率半径の比で内分する点→コンバージョン点候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XY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面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面上でコンバージョン点候補に最も近い飛跡上の点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中点をコンバージョン点候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Z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軸方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位置として決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336680"/>
            <a:ext cx="914400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85840" y="4786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ff"/>
                </a:solidFill>
                <a:latin typeface="Calibri"/>
              </a:rPr>
              <a:t>ソレノイド磁場中における曲率半径 </a:t>
            </a: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500040" y="5516640"/>
                <a:ext cx="2448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GeV/c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3486240" y="5500800"/>
                <a:ext cx="1942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3627360" y="48578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ff"/>
                </a:solidFill>
                <a:latin typeface="Calibri"/>
              </a:rPr>
              <a:t>最近接距離 </a:t>
            </a: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0" descr="def_S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500800" y="4713120"/>
            <a:ext cx="33559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k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χ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Nd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飛跡再構成精度の要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k Pair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Δcotθ|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ing ang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が小さいことを要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面において飛跡間が近づくことを要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ΔZ|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方向において飛跡間が近づくことを要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GeV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については、トラック対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XEL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層におけるヒット数の合計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ヒット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ヒット以上に区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en-US" sz="3200" spc="-1" strike="noStrike" baseline="5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20, 2GeV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）でのカット調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Ndf)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3081600" cy="288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838760" y="1000080"/>
            <a:ext cx="3019320" cy="2849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4857840" y="3857760"/>
            <a:ext cx="3022560" cy="285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214200" y="3865680"/>
            <a:ext cx="3143520" cy="2992320"/>
          </a:xfrm>
          <a:prstGeom prst="rect">
            <a:avLst/>
          </a:prstGeom>
          <a:ln w="0">
            <a:noFill/>
          </a:ln>
        </p:spPr>
      </p:pic>
      <p:sp>
        <p:nvSpPr>
          <p:cNvPr id="78" name="テキスト ボックス 10"/>
          <p:cNvSpPr/>
          <p:nvPr/>
        </p:nvSpPr>
        <p:spPr>
          <a:xfrm>
            <a:off x="6357960" y="2571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11"/>
          <p:cNvSpPr/>
          <p:nvPr/>
        </p:nvSpPr>
        <p:spPr>
          <a:xfrm>
            <a:off x="221472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12"/>
          <p:cNvSpPr/>
          <p:nvPr/>
        </p:nvSpPr>
        <p:spPr>
          <a:xfrm>
            <a:off x="6429240" y="5786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3"/>
          <p:cNvSpPr/>
          <p:nvPr/>
        </p:nvSpPr>
        <p:spPr>
          <a:xfrm>
            <a:off x="214308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Ge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en-US" sz="3200" spc="-1" strike="noStrike" baseline="5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20, 2GeV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）でのカット調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|Δcotθ|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90480" y="1214280"/>
            <a:ext cx="2881440" cy="2724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929120" y="1214280"/>
            <a:ext cx="2897280" cy="2740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240" y="3929040"/>
            <a:ext cx="2876760" cy="271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4929120" y="4000680"/>
            <a:ext cx="2857680" cy="270648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8"/>
          <p:cNvSpPr/>
          <p:nvPr/>
        </p:nvSpPr>
        <p:spPr>
          <a:xfrm>
            <a:off x="6929280" y="30718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9"/>
          <p:cNvSpPr/>
          <p:nvPr/>
        </p:nvSpPr>
        <p:spPr>
          <a:xfrm>
            <a:off x="2928960" y="2928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Ge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0"/>
          <p:cNvSpPr/>
          <p:nvPr/>
        </p:nvSpPr>
        <p:spPr>
          <a:xfrm>
            <a:off x="7000920" y="56437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1"/>
          <p:cNvSpPr/>
          <p:nvPr/>
        </p:nvSpPr>
        <p:spPr>
          <a:xfrm>
            <a:off x="2786040" y="5572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en-US" sz="3200" spc="-1" strike="noStrike" baseline="5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20, 2GeV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）でのカット調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357280" y="1141560"/>
            <a:ext cx="287820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357120" y="3786120"/>
            <a:ext cx="3143160" cy="296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4857840" y="3786120"/>
            <a:ext cx="314316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テキスト ボックス 9"/>
          <p:cNvSpPr/>
          <p:nvPr/>
        </p:nvSpPr>
        <p:spPr>
          <a:xfrm>
            <a:off x="7143840" y="5715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テキスト ボックス 10"/>
          <p:cNvSpPr/>
          <p:nvPr/>
        </p:nvSpPr>
        <p:spPr>
          <a:xfrm>
            <a:off x="2500200" y="5500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11"/>
          <p:cNvSpPr/>
          <p:nvPr/>
        </p:nvSpPr>
        <p:spPr>
          <a:xfrm>
            <a:off x="542916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en-US" sz="3200" spc="-1" strike="noStrike" baseline="5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20, 2GeV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）でのカット調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|dz|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643120" y="1143000"/>
            <a:ext cx="2928960" cy="27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63400" y="3857760"/>
            <a:ext cx="3019680" cy="2849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4643280" y="3929040"/>
            <a:ext cx="3006720" cy="2857680"/>
          </a:xfrm>
          <a:prstGeom prst="rect">
            <a:avLst/>
          </a:prstGeom>
          <a:ln w="0">
            <a:noFill/>
          </a:ln>
        </p:spPr>
      </p:pic>
      <p:sp>
        <p:nvSpPr>
          <p:cNvPr id="102" name="テキスト ボックス 7"/>
          <p:cNvSpPr/>
          <p:nvPr/>
        </p:nvSpPr>
        <p:spPr>
          <a:xfrm>
            <a:off x="4714920" y="28576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8"/>
          <p:cNvSpPr/>
          <p:nvPr/>
        </p:nvSpPr>
        <p:spPr>
          <a:xfrm>
            <a:off x="2714760" y="57862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テキスト ボックス 9"/>
          <p:cNvSpPr/>
          <p:nvPr/>
        </p:nvSpPr>
        <p:spPr>
          <a:xfrm>
            <a:off x="6786720" y="5786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GeV ,pixel hi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7:34:20Z</dcterms:created>
  <dc:creator>PCUser</dc:creator>
  <dc:description/>
  <dc:language>en-US</dc:language>
  <cp:lastModifiedBy>kurokawa</cp:lastModifiedBy>
  <dcterms:modified xsi:type="dcterms:W3CDTF">2010-05-07T01:42:28Z</dcterms:modified>
  <cp:revision>55</cp:revision>
  <dc:subject/>
  <dc:title>γコンバージョン事象を用いた　 ATLAS内部飛跡検出器の物質量評価</dc:title>
</cp:coreProperties>
</file>