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E476-EDED-4214-A37A-9A62DD53C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C0F9-0610-4422-94A8-F348F0ED2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C3F2-0BA2-4610-84FE-029AED190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「宇宙の晴れ上がり」の説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247C-4D14-4698-A887-9003A6C52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5B5C-766B-4ABE-92B3-F30F72794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51B4-0ED5-4E8C-BA51-BE398198C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EF1C-EF01-4A16-A2AD-2E6F714C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A2B5-70C8-43D1-85E8-0D71DC2DF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ED1D-246D-4380-90A4-8E65BD85E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F60E-7008-4778-911C-14B2C9EED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59D4-377B-4F02-B8D7-064B87E09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70AB-E5E2-4E88-B957-2BD4DE646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D99B8-3394-491D-AF89-3F6FD7068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399B-F9FA-4093-935B-6BB0992B9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B65E-4973-4051-99FE-11D37957A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D732-F076-4942-AC64-BB87F476D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0524-BE9C-476A-8E4E-870F038A6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8423-7610-4CCB-8563-FD4C0C167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7E19-E02C-4C64-9BCA-BC86D0409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BFBF-A1D4-414D-A9D7-CFD38DD38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平成１９年度　特別教育研究経費（教育改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505D-C437-42C0-805F-176BC89B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フッター プレースホルダ 3"/>
          <p:cNvSpPr/>
          <p:nvPr/>
        </p:nvSpPr>
        <p:spPr>
          <a:xfrm>
            <a:off x="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平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年度　特別教育研究経費（教育改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B047-7954-49E8-A876-74C234624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宇宙史一貫教育プログラム説明会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3733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１）宇宙史一貫教育プログラムの趣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履修のガイドライ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）拠点実習の様子　　（下村研究員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４）質疑応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５）参加者名簿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5190120" y="2057400"/>
            <a:ext cx="28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時；平成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４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場所；自然系棟Ｂ１１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本年度の宇宙史拠点実習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Ⅲ</a:t>
            </a: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のスケジュール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ff"/>
                </a:solidFill>
                <a:uFillTx/>
                <a:latin typeface="ヒラギノ丸ゴ Pro W4"/>
                <a:ea typeface="ヒラギノ丸ゴ Pro W4"/>
              </a:rPr>
              <a:t>CERN</a:t>
            </a:r>
            <a:r>
              <a:rPr b="0" lang="ja-JP" sz="1200" spc="-1" strike="noStrike" u="sng">
                <a:solidFill>
                  <a:srgbClr val="0000ff"/>
                </a:solidFill>
                <a:uFillTx/>
                <a:latin typeface="ヒラギノ丸ゴ Pro W4"/>
                <a:ea typeface="ヒラギノ丸ゴ Pro W4"/>
              </a:rPr>
              <a:t>研究所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　　　　　　現地対応者；下村研究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ff"/>
                </a:solidFill>
                <a:uFillTx/>
                <a:latin typeface="ヒラギノ丸ゴ Pro W4"/>
                <a:ea typeface="ヒラギノ丸ゴ Pro W4"/>
              </a:rPr>
              <a:t>フェルミ研究所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　　　　　現地対応者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ff"/>
                </a:solidFill>
                <a:uFillTx/>
                <a:latin typeface="ヒラギノ丸ゴ Pro W4"/>
                <a:ea typeface="ヒラギノ丸ゴ Pro W4"/>
              </a:rPr>
              <a:t>国土地理院</a:t>
            </a:r>
            <a:r>
              <a:rPr b="0" lang="ja-JP" sz="1200" spc="-1" strike="noStrike">
                <a:solidFill>
                  <a:srgbClr val="0000ff"/>
                </a:solidFill>
                <a:latin typeface="ヒラギノ丸ゴ Pro W4"/>
                <a:ea typeface="ヒラギノ丸ゴ Pro W4"/>
              </a:rPr>
              <a:t>　　　　　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　　現地対応者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A642-C656-4CEE-879A-CF8370FC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正方形/長方形 4"/>
          <p:cNvSpPr/>
          <p:nvPr/>
        </p:nvSpPr>
        <p:spPr>
          <a:xfrm>
            <a:off x="685800" y="1523880"/>
            <a:ext cx="8077320" cy="52020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拠点実習Ⅲ（１単位）：　専門科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後期課程１年次に</a:t>
            </a:r>
            <a:r>
              <a:rPr b="0" i="1" lang="ja-JP" sz="1400" spc="-1" strike="noStrike">
                <a:solidFill>
                  <a:srgbClr val="ff0000"/>
                </a:solidFill>
                <a:latin typeface="ヒラギノ丸ゴ Pro W4"/>
                <a:ea typeface="ヒラギノ丸ゴ Pro W4"/>
              </a:rPr>
              <a:t>「国際研究計画検討集会」へ派遣し、博士論文構想を策定</a:t>
            </a:r>
            <a:r>
              <a:rPr b="0" i="1" lang="ja-JP" sz="14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する。博士論文構想作成は口頭発表させ、これを宇宙史特別研究Ⅲの認定要件と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 rot="5400000">
            <a:off x="-2067120" y="2066760"/>
            <a:ext cx="6856560" cy="2722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rIns="13500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ビッグバン宇宙論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1066680"/>
            <a:ext cx="5329080" cy="5951520"/>
          </a:xfrm>
          <a:prstGeom prst="rect">
            <a:avLst/>
          </a:prstGeom>
          <a:noFill/>
          <a:ln w="0">
            <a:noFill/>
          </a:ln>
        </p:spPr>
        <p:txBody>
          <a:bodyPr rIns="135000" anchor="t">
            <a:normAutofit/>
          </a:bodyPr>
          <a:p>
            <a:pPr lvl="1" marL="1114560" indent="-406440">
              <a:lnSpc>
                <a:spcPct val="120000"/>
              </a:lnSpc>
              <a:spcBef>
                <a:spcPts val="751"/>
              </a:spcBef>
              <a:buClr>
                <a:srgbClr val="8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800000"/>
                </a:solidFill>
                <a:latin typeface="Arial"/>
              </a:rPr>
              <a:t>約１４０億年前に大爆発とともに私たちの宇宙が発生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1114560" indent="-406440">
              <a:lnSpc>
                <a:spcPct val="120000"/>
              </a:lnSpc>
              <a:spcBef>
                <a:spcPts val="751"/>
              </a:spcBef>
              <a:buClr>
                <a:srgbClr val="8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800000"/>
                </a:solidFill>
                <a:latin typeface="Arial"/>
              </a:rPr>
              <a:t>想像もつかない高温・高密度状態から膨張し、膨張と共に温度が低下してきた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539640" indent="-4824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宇宙の進化を遡る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3304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0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億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遠方銀河の赤方偏移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3" marL="2338560" indent="-330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b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3304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30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万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宇宙の晴れ上がり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3" marL="2338560" indent="-330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宇宙背景放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3304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3min)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元素合成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3" marL="2338560" indent="-330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元素の存在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338560" indent="-330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ビッグバン宇宙論を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持する証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872440" y="1143000"/>
            <a:ext cx="127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ＱＧＰ</a:t>
            </a:r>
            <a:r>
              <a:rPr b="0" lang="en-US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→</a:t>
            </a: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ハドロンガ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438280" y="22096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500" spc="-1" strike="noStrike">
                <a:solidFill>
                  <a:srgbClr val="fb100f"/>
                </a:solidFill>
                <a:latin typeface="Times New Roman"/>
                <a:ea typeface="Times New Roman"/>
              </a:rPr>
              <a:t>He</a:t>
            </a: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などの軽元素合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362320" y="2743200"/>
            <a:ext cx="1985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宇宙背景放射</a:t>
            </a:r>
            <a:br>
              <a:rPr sz="1500"/>
            </a:b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「宇宙の晴れ上がり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781000" y="4038480"/>
            <a:ext cx="8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原始銀河の形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362320" y="1600200"/>
            <a:ext cx="25905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宇宙背景ニュートリノ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2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(</a:t>
            </a:r>
            <a:r>
              <a:rPr b="0" lang="ja-JP" sz="12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ニュートリノフリーズアウト</a:t>
            </a:r>
            <a:r>
              <a:rPr b="0" lang="en-US" sz="12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639160" y="762120"/>
            <a:ext cx="11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質量起源</a:t>
            </a:r>
            <a:r>
              <a:rPr b="0" lang="en-US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Hig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 flipH="1" flipV="1">
            <a:off x="2133360" y="914040"/>
            <a:ext cx="409320" cy="353880"/>
          </a:xfrm>
          <a:prstGeom prst="line">
            <a:avLst/>
          </a:prstGeom>
          <a:ln w="25560">
            <a:solidFill>
              <a:srgbClr val="fb10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H="1" flipV="1">
            <a:off x="1752480" y="685800"/>
            <a:ext cx="790560" cy="201600"/>
          </a:xfrm>
          <a:prstGeom prst="line">
            <a:avLst/>
          </a:prstGeom>
          <a:ln w="25560">
            <a:solidFill>
              <a:srgbClr val="fb10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121560" y="5181480"/>
            <a:ext cx="145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銀河中心のブラックホー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590920" y="4495680"/>
            <a:ext cx="2819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超新星爆発における</a:t>
            </a:r>
            <a:br>
              <a:rPr sz="1500"/>
            </a:br>
            <a:r>
              <a:rPr b="0" lang="ja-JP" sz="1500" spc="-1" strike="noStrike">
                <a:solidFill>
                  <a:srgbClr val="fb100f"/>
                </a:solidFill>
                <a:latin typeface="ヒラギノ丸ゴ Pro W4"/>
                <a:ea typeface="ヒラギノ丸ゴ Pro W4"/>
              </a:rPr>
              <a:t>重元素合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フッター プレースホルダ 3"/>
          <p:cNvSpPr/>
          <p:nvPr/>
        </p:nvSpPr>
        <p:spPr>
          <a:xfrm>
            <a:off x="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平成１９年度　特別教育研究経費（教育改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719E-3B21-4FF0-900F-02E3EA1AD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bigbang2"/>
          <p:cNvPicPr/>
          <p:nvPr/>
        </p:nvPicPr>
        <p:blipFill>
          <a:blip r:embed="rId1"/>
          <a:stretch/>
        </p:blipFill>
        <p:spPr>
          <a:xfrm rot="16200000">
            <a:off x="3807360" y="-835560"/>
            <a:ext cx="1376640" cy="8839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2736720" y="-58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素粒子・原子核・宇宙物理学と宇宙史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Zapf Dingba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素粒子、原子核、宇宙物理学の抱える課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0000"/>
                </a:solidFill>
                <a:latin typeface="Arial"/>
              </a:rPr>
              <a:t>素粒子物理学；質量の起源、、、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0000"/>
                </a:solidFill>
                <a:latin typeface="Arial"/>
              </a:rPr>
              <a:t>原子核物理学；クォーク・グルオンプラズマ、宇宙元素合成、、、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0000"/>
                </a:solidFill>
                <a:latin typeface="Arial"/>
              </a:rPr>
              <a:t>宇宙物理学；銀河の進化、ブラックホール、最初の星・銀河、、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Zapf Dingba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れらの課題は宇宙の進化の歴史における重要なエポックを形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0" y="4495680"/>
            <a:ext cx="8699040" cy="789120"/>
            <a:chOff x="0" y="4495680"/>
            <a:chExt cx="8699040" cy="789120"/>
          </a:xfrm>
        </p:grpSpPr>
        <p:sp>
          <p:nvSpPr>
            <p:cNvPr id="72" name="Oval 7"/>
            <p:cNvSpPr/>
            <p:nvPr/>
          </p:nvSpPr>
          <p:spPr>
            <a:xfrm>
              <a:off x="0" y="4495680"/>
              <a:ext cx="2831760" cy="789120"/>
            </a:xfrm>
            <a:prstGeom prst="ellipse">
              <a:avLst/>
            </a:prstGeom>
            <a:gradFill rotWithShape="0">
              <a:gsLst>
                <a:gs pos="0">
                  <a:srgbClr val="1ca4d1"/>
                </a:gs>
                <a:gs pos="50000">
                  <a:srgbClr val="ffffff"/>
                </a:gs>
                <a:gs pos="100000">
                  <a:srgbClr val="1ca4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素粒子の拠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分室＠フェルミ研究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Arial"/>
                </a:rPr>
                <a:t>ＣＤＦ国際共同研究チー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8"/>
            <p:cNvSpPr/>
            <p:nvPr/>
          </p:nvSpPr>
          <p:spPr>
            <a:xfrm>
              <a:off x="2933640" y="4495680"/>
              <a:ext cx="2831400" cy="789120"/>
            </a:xfrm>
            <a:prstGeom prst="ellipse">
              <a:avLst/>
            </a:prstGeom>
            <a:gradFill rotWithShape="0">
              <a:gsLst>
                <a:gs pos="0">
                  <a:srgbClr val="1ca4d1"/>
                </a:gs>
                <a:gs pos="50000">
                  <a:srgbClr val="ffffff"/>
                </a:gs>
                <a:gs pos="100000">
                  <a:srgbClr val="1ca4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原子核の拠点</a:t>
              </a:r>
              <a:br>
                <a:rPr sz="1400"/>
              </a:b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分室＠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欧州共同原子核研究機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Arial"/>
                </a:rPr>
                <a:t>国際共同研究チー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9"/>
            <p:cNvSpPr/>
            <p:nvPr/>
          </p:nvSpPr>
          <p:spPr>
            <a:xfrm>
              <a:off x="5867280" y="4495680"/>
              <a:ext cx="2831760" cy="789120"/>
            </a:xfrm>
            <a:prstGeom prst="ellipse">
              <a:avLst/>
            </a:prstGeom>
            <a:gradFill rotWithShape="0">
              <a:gsLst>
                <a:gs pos="0">
                  <a:srgbClr val="1ca4d1"/>
                </a:gs>
                <a:gs pos="50000">
                  <a:srgbClr val="ffffff"/>
                </a:gs>
                <a:gs pos="100000">
                  <a:srgbClr val="1ca4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宇宙観測の拠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76" name="Line 11"/>
          <p:cNvSpPr/>
          <p:nvPr/>
        </p:nvSpPr>
        <p:spPr>
          <a:xfrm flipH="1">
            <a:off x="4495320" y="5257800"/>
            <a:ext cx="2667240" cy="1295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219320" y="5257800"/>
            <a:ext cx="5943600" cy="6858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990360" y="5257800"/>
            <a:ext cx="3276360" cy="6094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7162920" y="5257800"/>
            <a:ext cx="75960" cy="6858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990360" y="5257800"/>
            <a:ext cx="228600" cy="60948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267080" y="5257800"/>
            <a:ext cx="3657600" cy="6858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 flipH="1" flipV="1">
            <a:off x="914400" y="3504960"/>
            <a:ext cx="380880" cy="99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 flipH="1" flipV="1">
            <a:off x="1295280" y="3657600"/>
            <a:ext cx="281952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 flipH="1" flipV="1">
            <a:off x="5562720" y="3581280"/>
            <a:ext cx="1676160" cy="9144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D9E8-9E56-4841-8E3C-2D477A204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2209680" y="914400"/>
            <a:ext cx="6553440" cy="426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2133720" y="838080"/>
            <a:ext cx="4876560" cy="2057400"/>
          </a:xfrm>
          <a:prstGeom prst="ellipse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bigbang2"/>
          <p:cNvPicPr/>
          <p:nvPr/>
        </p:nvPicPr>
        <p:blipFill>
          <a:blip r:embed="rId1"/>
          <a:stretch/>
        </p:blipFill>
        <p:spPr>
          <a:xfrm>
            <a:off x="76320" y="685800"/>
            <a:ext cx="1833480" cy="594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宇宙史一貫教育の重要性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560" y="518112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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素粒子・原子核・宇宙物理学の課題は互いに重なり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宇宙史的自然観から統一的に理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日の「学際領域」が明日の「中心学問領域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新規課題にチャレンジ出来る力を養う（経験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917880" y="1752480"/>
            <a:ext cx="311400" cy="1220760"/>
          </a:xfrm>
          <a:custGeom>
            <a:avLst/>
            <a:gdLst>
              <a:gd name="textAreaLeft" fmla="*/ 0 w 311400"/>
              <a:gd name="textAreaRight" fmla="*/ 112320 w 311400"/>
              <a:gd name="textAreaTop" fmla="*/ 31680 h 1220760"/>
              <a:gd name="textAreaBottom" fmla="*/ 1189080 h 12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886200" y="205740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1523880" y="762120"/>
            <a:ext cx="685800" cy="5790960"/>
          </a:xfrm>
          <a:prstGeom prst="downArrow">
            <a:avLst>
              <a:gd name="adj1" fmla="val 50000"/>
              <a:gd name="adj2" fmla="val 131196"/>
            </a:avLst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ビッグバンから現在に至る宇宙と物質の進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3048120" y="2286000"/>
            <a:ext cx="4419360" cy="1676520"/>
          </a:xfrm>
          <a:prstGeom prst="ellipse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5486400" y="838080"/>
            <a:ext cx="3352680" cy="4419720"/>
          </a:xfrm>
          <a:prstGeom prst="ellipse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5486400" y="838080"/>
            <a:ext cx="3352680" cy="44197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2133720" y="838080"/>
            <a:ext cx="4876560" cy="20574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3048120" y="2286000"/>
            <a:ext cx="4419360" cy="16765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4050000" y="1139760"/>
            <a:ext cx="383400" cy="1067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超弦理論・超重力理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大統一理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質量の起源・ヒッグス粒子探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4817520" y="2971800"/>
            <a:ext cx="912240" cy="824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元素合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不安定原子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6534360" y="949320"/>
            <a:ext cx="1521720" cy="3987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ビッグバ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宇宙大域構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物質創成・進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銀河形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銀河中心ブラックホー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星間物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惑星形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886200" y="2406600"/>
            <a:ext cx="2666880" cy="337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クォーク・グルオン・プラズ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6224760" y="1324080"/>
            <a:ext cx="383400" cy="58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ダーク・マタ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80"/>
                </a:solidFill>
                <a:latin typeface="Arial"/>
              </a:rPr>
              <a:t>ダーク・エネルギ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 rot="711000">
            <a:off x="5167440" y="838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800080"/>
                </a:solidFill>
                <a:latin typeface="Arial"/>
              </a:rPr>
              <a:t>素粒子物理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 rot="1219800">
            <a:off x="3338280" y="3428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800080"/>
                </a:solidFill>
                <a:latin typeface="Arial"/>
              </a:rPr>
              <a:t>原子核物理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 rot="1013400">
            <a:off x="6497280" y="49525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800080"/>
                </a:solidFill>
                <a:latin typeface="Arial"/>
              </a:rPr>
              <a:t>宇宙物理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3735720" y="4518000"/>
            <a:ext cx="535680" cy="520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宇宙史一貫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B361-3F1A-442B-BACA-E2473877F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800000"/>
                </a:solidFill>
                <a:latin typeface="Arial"/>
              </a:rPr>
              <a:t>宇宙史一貫教育のメカニズム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5790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海外の３つの教育・研究拠点と筑波キャンパスを循環する人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宇宙の進化の過程としての統一的視点を養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多くの研究者、外国人研究者とのディスカッショ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976680" y="1295280"/>
            <a:ext cx="7465320" cy="4251600"/>
            <a:chOff x="976680" y="1295280"/>
            <a:chExt cx="7465320" cy="4251600"/>
          </a:xfrm>
        </p:grpSpPr>
        <p:grpSp>
          <p:nvGrpSpPr>
            <p:cNvPr id="112" name="Group 5"/>
            <p:cNvGrpSpPr/>
            <p:nvPr/>
          </p:nvGrpSpPr>
          <p:grpSpPr>
            <a:xfrm>
              <a:off x="1122120" y="1295280"/>
              <a:ext cx="7319880" cy="3992400"/>
              <a:chOff x="1122120" y="1295280"/>
              <a:chExt cx="7319880" cy="3992400"/>
            </a:xfrm>
          </p:grpSpPr>
          <p:sp>
            <p:nvSpPr>
              <p:cNvPr id="113" name="Oval 6"/>
              <p:cNvSpPr/>
              <p:nvPr/>
            </p:nvSpPr>
            <p:spPr>
              <a:xfrm>
                <a:off x="2985120" y="1295280"/>
                <a:ext cx="3061080" cy="1131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素粒子実験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米国フェルミ研究所・シカゴ大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ja-JP" sz="1600" spc="-1" strike="noStrike">
                    <a:solidFill>
                      <a:srgbClr val="000000"/>
                    </a:solidFill>
                    <a:latin typeface="Arial"/>
                  </a:rPr>
                  <a:t>ＣＤＦ国際共同研究チーム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ERN(</a:t>
                </a: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欧州共同原子核研究機構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ATLAS</a:t>
                </a:r>
                <a:r>
                  <a:rPr b="1" i="1" lang="ja-JP" sz="1600" spc="-1" strike="noStrike">
                    <a:solidFill>
                      <a:srgbClr val="000000"/>
                    </a:solidFill>
                    <a:latin typeface="Arial"/>
                  </a:rPr>
                  <a:t>国際共同研究チー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7"/>
              <p:cNvSpPr/>
              <p:nvPr/>
            </p:nvSpPr>
            <p:spPr>
              <a:xfrm>
                <a:off x="1122120" y="4156560"/>
                <a:ext cx="3060720" cy="1131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原子核実験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ERN(</a:t>
                </a: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欧州共同原子核研究機構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ALICE</a:t>
                </a:r>
                <a:r>
                  <a:rPr b="1" i="1" lang="ja-JP" sz="1600" spc="-1" strike="noStrike">
                    <a:solidFill>
                      <a:srgbClr val="000000"/>
                    </a:solidFill>
                    <a:latin typeface="Arial"/>
                  </a:rPr>
                  <a:t>国際共同研究チー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8"/>
              <p:cNvSpPr/>
              <p:nvPr/>
            </p:nvSpPr>
            <p:spPr>
              <a:xfrm>
                <a:off x="3783600" y="2892240"/>
                <a:ext cx="1330920" cy="9979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筑波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9"/>
              <p:cNvSpPr/>
              <p:nvPr/>
            </p:nvSpPr>
            <p:spPr>
              <a:xfrm>
                <a:off x="5380920" y="4156560"/>
                <a:ext cx="3061080" cy="1131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宇宙観測</a:t>
                </a:r>
                <a:br>
                  <a:rPr sz="1600"/>
                </a:b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国土地理院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ｍ電波望遠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AutoShape 10"/>
            <p:cNvSpPr/>
            <p:nvPr/>
          </p:nvSpPr>
          <p:spPr>
            <a:xfrm flipH="1" rot="17183400">
              <a:off x="1561680" y="2559600"/>
              <a:ext cx="1990800" cy="1167120"/>
            </a:xfrm>
            <a:prstGeom prst="pie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 flipV="1" rot="14737800">
              <a:off x="5329440" y="2488320"/>
              <a:ext cx="1990800" cy="1166760"/>
            </a:xfrm>
            <a:prstGeom prst="pie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2"/>
            <p:cNvSpPr/>
            <p:nvPr/>
          </p:nvSpPr>
          <p:spPr>
            <a:xfrm flipV="1" rot="21393000">
              <a:off x="3751200" y="4533480"/>
              <a:ext cx="1990800" cy="954000"/>
            </a:xfrm>
            <a:prstGeom prst="pie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3"/>
            <p:cNvSpPr/>
            <p:nvPr/>
          </p:nvSpPr>
          <p:spPr>
            <a:xfrm rot="18798600">
              <a:off x="5290920" y="3522240"/>
              <a:ext cx="617760" cy="852480"/>
            </a:xfrm>
            <a:prstGeom prst="upDownArrow">
              <a:avLst>
                <a:gd name="adj1" fmla="val 41991"/>
                <a:gd name="adj2" fmla="val 53505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4"/>
            <p:cNvSpPr/>
            <p:nvPr/>
          </p:nvSpPr>
          <p:spPr>
            <a:xfrm flipH="1" rot="2801400">
              <a:off x="3299760" y="3450240"/>
              <a:ext cx="617400" cy="852480"/>
            </a:xfrm>
            <a:prstGeom prst="upDownArrow">
              <a:avLst>
                <a:gd name="adj1" fmla="val 41991"/>
                <a:gd name="adj2" fmla="val 5353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5"/>
            <p:cNvSpPr/>
            <p:nvPr/>
          </p:nvSpPr>
          <p:spPr>
            <a:xfrm rot="21571200">
              <a:off x="4177800" y="2360160"/>
              <a:ext cx="617760" cy="665280"/>
            </a:xfrm>
            <a:prstGeom prst="upDownArrow">
              <a:avLst>
                <a:gd name="adj1" fmla="val 41991"/>
                <a:gd name="adj2" fmla="val 4175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7325280" y="2644920"/>
              <a:ext cx="668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先端知識</a:t>
              </a:r>
              <a:br>
                <a:rPr sz="1600"/>
              </a:b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「宇宙の構造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若手人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4389840" y="4343400"/>
              <a:ext cx="668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先端知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「宇宙の進化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若手人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976680" y="2666880"/>
              <a:ext cx="668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先端知識</a:t>
              </a:r>
              <a:br>
                <a:rPr sz="1600"/>
              </a:b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「質量の起源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</a:rPr>
                <a:t>若手人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48AD-2CF6-439A-8E93-AA4EBC1AC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教育研究拠点（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H22</a:t>
            </a: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29" name="Picture 6" descr="fnal-tevatron"/>
          <p:cNvPicPr/>
          <p:nvPr/>
        </p:nvPicPr>
        <p:blipFill>
          <a:blip r:embed="rId1"/>
          <a:stretch/>
        </p:blipFill>
        <p:spPr>
          <a:xfrm>
            <a:off x="3429000" y="762120"/>
            <a:ext cx="1901880" cy="1757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4091040" y="26668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素粒子実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250760" y="2590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宇宙観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国土地理院電波望遠鏡"/>
          <p:cNvPicPr/>
          <p:nvPr/>
        </p:nvPicPr>
        <p:blipFill>
          <a:blip r:embed="rId2"/>
          <a:stretch/>
        </p:blipFill>
        <p:spPr>
          <a:xfrm>
            <a:off x="6629400" y="990720"/>
            <a:ext cx="1901880" cy="1425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1042920" y="2819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原子核実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1974600" cy="145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4"/>
          <a:stretch/>
        </p:blipFill>
        <p:spPr>
          <a:xfrm>
            <a:off x="1600200" y="3809880"/>
            <a:ext cx="6095880" cy="2878200"/>
          </a:xfrm>
          <a:prstGeom prst="rect">
            <a:avLst/>
          </a:prstGeom>
          <a:ln w="0">
            <a:noFill/>
          </a:ln>
        </p:spPr>
      </p:pic>
      <p:sp>
        <p:nvSpPr>
          <p:cNvPr id="136" name="Line 19"/>
          <p:cNvSpPr/>
          <p:nvPr/>
        </p:nvSpPr>
        <p:spPr>
          <a:xfrm>
            <a:off x="1447920" y="3124080"/>
            <a:ext cx="76176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648320" y="2971800"/>
            <a:ext cx="205740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 flipH="1">
            <a:off x="4495680" y="2895480"/>
            <a:ext cx="2895840" cy="1828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4647960" y="2895480"/>
            <a:ext cx="2819160" cy="3048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 flipH="1">
            <a:off x="5562360" y="2895480"/>
            <a:ext cx="1904760" cy="1981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1612080" y="304812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ＡＬＩＣ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4955040" y="3048120"/>
            <a:ext cx="69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r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2209680" y="2971800"/>
            <a:ext cx="243864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3121920" y="3048120"/>
            <a:ext cx="8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E1E0-30C9-4321-BD08-200710918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宇宙史コース履修例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990720" y="990720"/>
            <a:ext cx="7086600" cy="580680"/>
            <a:chOff x="990720" y="990720"/>
            <a:chExt cx="7086600" cy="580680"/>
          </a:xfrm>
        </p:grpSpPr>
        <p:grpSp>
          <p:nvGrpSpPr>
            <p:cNvPr id="148" name="Group 4"/>
            <p:cNvGrpSpPr/>
            <p:nvPr/>
          </p:nvGrpSpPr>
          <p:grpSpPr>
            <a:xfrm>
              <a:off x="1113840" y="990720"/>
              <a:ext cx="6840720" cy="580680"/>
              <a:chOff x="1113840" y="990720"/>
              <a:chExt cx="6840720" cy="58068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1113840" y="990720"/>
                <a:ext cx="66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Ｈ１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２００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6"/>
              <p:cNvSpPr/>
              <p:nvPr/>
            </p:nvSpPr>
            <p:spPr>
              <a:xfrm>
                <a:off x="2657160" y="990720"/>
                <a:ext cx="66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Ｈ２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２００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7"/>
              <p:cNvSpPr/>
              <p:nvPr/>
            </p:nvSpPr>
            <p:spPr>
              <a:xfrm>
                <a:off x="4200120" y="990720"/>
                <a:ext cx="66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Ｈ２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２００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8"/>
              <p:cNvSpPr/>
              <p:nvPr/>
            </p:nvSpPr>
            <p:spPr>
              <a:xfrm>
                <a:off x="5743080" y="990720"/>
                <a:ext cx="66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Ｈ２２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２０１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9"/>
              <p:cNvSpPr/>
              <p:nvPr/>
            </p:nvSpPr>
            <p:spPr>
              <a:xfrm>
                <a:off x="7286040" y="990720"/>
                <a:ext cx="66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Ｈ２３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２０１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Line 10"/>
            <p:cNvSpPr/>
            <p:nvPr/>
          </p:nvSpPr>
          <p:spPr>
            <a:xfrm>
              <a:off x="990720" y="1523880"/>
              <a:ext cx="708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1"/>
          <p:cNvGrpSpPr/>
          <p:nvPr/>
        </p:nvGrpSpPr>
        <p:grpSpPr>
          <a:xfrm>
            <a:off x="838080" y="1676520"/>
            <a:ext cx="7467840" cy="457200"/>
            <a:chOff x="838080" y="1676520"/>
            <a:chExt cx="7467840" cy="457200"/>
          </a:xfrm>
        </p:grpSpPr>
        <p:sp>
          <p:nvSpPr>
            <p:cNvPr id="156" name="AutoShape 12"/>
            <p:cNvSpPr/>
            <p:nvPr/>
          </p:nvSpPr>
          <p:spPr>
            <a:xfrm>
              <a:off x="838080" y="1676520"/>
              <a:ext cx="1447920" cy="457200"/>
            </a:xfrm>
            <a:prstGeom prst="rightArrowCallout">
              <a:avLst>
                <a:gd name="adj1" fmla="val 50005"/>
                <a:gd name="adj2" fmla="val 25000"/>
                <a:gd name="adj3" fmla="val 41478"/>
                <a:gd name="adj4" fmla="val 8660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前期１年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200" spc="-1" strike="noStrike">
                  <a:solidFill>
                    <a:srgbClr val="000000"/>
                  </a:solidFill>
                  <a:latin typeface="Arial"/>
                </a:rPr>
                <a:t>基礎共通養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3"/>
            <p:cNvSpPr/>
            <p:nvPr/>
          </p:nvSpPr>
          <p:spPr>
            <a:xfrm>
              <a:off x="2343240" y="1676520"/>
              <a:ext cx="1447560" cy="457200"/>
            </a:xfrm>
            <a:prstGeom prst="rightArrowCallout">
              <a:avLst>
                <a:gd name="adj1" fmla="val 50005"/>
                <a:gd name="adj2" fmla="val 25000"/>
                <a:gd name="adj3" fmla="val 41468"/>
                <a:gd name="adj4" fmla="val 8660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前期２年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200" spc="-1" strike="noStrike">
                  <a:solidFill>
                    <a:srgbClr val="000000"/>
                  </a:solidFill>
                  <a:latin typeface="Arial"/>
                </a:rPr>
                <a:t>専門基礎訓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4"/>
            <p:cNvSpPr/>
            <p:nvPr/>
          </p:nvSpPr>
          <p:spPr>
            <a:xfrm>
              <a:off x="3848040" y="1676520"/>
              <a:ext cx="1447920" cy="457200"/>
            </a:xfrm>
            <a:prstGeom prst="rightArrowCallout">
              <a:avLst>
                <a:gd name="adj1" fmla="val 50005"/>
                <a:gd name="adj2" fmla="val 25000"/>
                <a:gd name="adj3" fmla="val 41478"/>
                <a:gd name="adj4" fmla="val 86606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後期１年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200" spc="-1" strike="noStrike">
                  <a:solidFill>
                    <a:srgbClr val="000000"/>
                  </a:solidFill>
                  <a:latin typeface="Arial"/>
                </a:rPr>
                <a:t>研究計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5"/>
            <p:cNvSpPr/>
            <p:nvPr/>
          </p:nvSpPr>
          <p:spPr>
            <a:xfrm>
              <a:off x="5353200" y="1676520"/>
              <a:ext cx="1447560" cy="457200"/>
            </a:xfrm>
            <a:prstGeom prst="rightArrowCallout">
              <a:avLst>
                <a:gd name="adj1" fmla="val 50005"/>
                <a:gd name="adj2" fmla="val 25000"/>
                <a:gd name="adj3" fmla="val 41468"/>
                <a:gd name="adj4" fmla="val 86606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後期２年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200" spc="-1" strike="noStrike">
                  <a:solidFill>
                    <a:srgbClr val="000000"/>
                  </a:solidFill>
                  <a:latin typeface="Arial"/>
                </a:rPr>
                <a:t>研究展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6858000" y="1676520"/>
              <a:ext cx="1447920" cy="457200"/>
            </a:xfrm>
            <a:prstGeom prst="rightArrowCallout">
              <a:avLst>
                <a:gd name="adj1" fmla="val 50005"/>
                <a:gd name="adj2" fmla="val 25000"/>
                <a:gd name="adj3" fmla="val 41478"/>
                <a:gd name="adj4" fmla="val 86606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後期３年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200" spc="-1" strike="noStrike">
                  <a:solidFill>
                    <a:srgbClr val="000000"/>
                  </a:solidFill>
                  <a:latin typeface="Arial"/>
                </a:rPr>
                <a:t>論文作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AutoShape 17"/>
          <p:cNvSpPr/>
          <p:nvPr/>
        </p:nvSpPr>
        <p:spPr>
          <a:xfrm>
            <a:off x="990720" y="6095880"/>
            <a:ext cx="2819160" cy="304920"/>
          </a:xfrm>
          <a:prstGeom prst="rightArrowCallout">
            <a:avLst>
              <a:gd name="adj1" fmla="val 50005"/>
              <a:gd name="adj2" fmla="val 25000"/>
              <a:gd name="adj3" fmla="val 121091"/>
              <a:gd name="adj4" fmla="val 86606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筑波キャンパス開講科目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単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1295280" y="3200400"/>
            <a:ext cx="1067040" cy="457200"/>
          </a:xfrm>
          <a:prstGeom prst="rect">
            <a:avLst/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宇宙史拠点実習ﾟ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素粒子実験実習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１単位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2514600" y="3200400"/>
            <a:ext cx="1066680" cy="457200"/>
          </a:xfrm>
          <a:prstGeom prst="rect">
            <a:avLst/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宇宙史拠点実習ﾟ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原子核実験実習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１単位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3962520" y="3124080"/>
            <a:ext cx="1371600" cy="533520"/>
          </a:xfrm>
          <a:prstGeom prst="rect">
            <a:avLst/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宇宙史拠点実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国際研究計画検討集会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１単位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8305920" y="5410080"/>
            <a:ext cx="30456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論文提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323640" y="2743200"/>
            <a:ext cx="60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研究指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536760" y="3733920"/>
            <a:ext cx="393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講義・セミナ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4"/>
          <p:cNvSpPr/>
          <p:nvPr/>
        </p:nvSpPr>
        <p:spPr>
          <a:xfrm>
            <a:off x="527040" y="3736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5"/>
          <p:cNvSpPr/>
          <p:nvPr/>
        </p:nvSpPr>
        <p:spPr>
          <a:xfrm>
            <a:off x="7924680" y="2971800"/>
            <a:ext cx="381240" cy="1066680"/>
          </a:xfrm>
          <a:prstGeom prst="upArrowCallout">
            <a:avLst>
              <a:gd name="adj1" fmla="val 25002"/>
              <a:gd name="adj2" fmla="val 25000"/>
              <a:gd name="adj3" fmla="val 46632"/>
              <a:gd name="adj4" fmla="val 419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予備審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>
            <a:off x="1371600" y="23623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191120" y="2362320"/>
            <a:ext cx="3657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4495680" y="26668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0" idx="0"/>
            <a:endCxn id="162" idx="1"/>
          </p:cNvCxnSpPr>
          <p:nvPr/>
        </p:nvCxnSpPr>
        <p:spPr>
          <a:xfrm rot="5400000">
            <a:off x="790200" y="2847960"/>
            <a:ext cx="1086480" cy="76680"/>
          </a:xfrm>
          <a:prstGeom prst="bentConnector4">
            <a:avLst>
              <a:gd name="adj1" fmla="val 57872"/>
              <a:gd name="adj2" fmla="val 106603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5" name="AutoShape 31"/>
          <p:cNvCxnSpPr>
            <a:endCxn id="162" idx="3"/>
          </p:cNvCxnSpPr>
          <p:nvPr/>
        </p:nvCxnSpPr>
        <p:spPr>
          <a:xfrm flipH="1" rot="16200000">
            <a:off x="1533600" y="2599920"/>
            <a:ext cx="1048320" cy="610560"/>
          </a:xfrm>
          <a:prstGeom prst="bentConnector4">
            <a:avLst>
              <a:gd name="adj1" fmla="val 54517"/>
              <a:gd name="adj2" fmla="val 99469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6" name="AutoShape 32"/>
          <p:cNvCxnSpPr>
            <a:endCxn id="163" idx="1"/>
          </p:cNvCxnSpPr>
          <p:nvPr/>
        </p:nvCxnSpPr>
        <p:spPr>
          <a:xfrm rot="5400000">
            <a:off x="2046960" y="2809800"/>
            <a:ext cx="1086480" cy="153000"/>
          </a:xfrm>
          <a:prstGeom prst="bentConnector4">
            <a:avLst>
              <a:gd name="adj1" fmla="val 49983"/>
              <a:gd name="adj2" fmla="val 100000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7" name="AutoShape 33"/>
          <p:cNvCxnSpPr>
            <a:endCxn id="163" idx="3"/>
          </p:cNvCxnSpPr>
          <p:nvPr/>
        </p:nvCxnSpPr>
        <p:spPr>
          <a:xfrm flipH="1" rot="16200000">
            <a:off x="2790000" y="2638440"/>
            <a:ext cx="1048320" cy="533880"/>
          </a:xfrm>
          <a:prstGeom prst="bentConnector4">
            <a:avLst>
              <a:gd name="adj1" fmla="val 49982"/>
              <a:gd name="adj2" fmla="val 97908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8" name="AutoShape 34"/>
          <p:cNvCxnSpPr>
            <a:stCxn id="173" idx="0"/>
            <a:endCxn id="164" idx="1"/>
          </p:cNvCxnSpPr>
          <p:nvPr/>
        </p:nvCxnSpPr>
        <p:spPr>
          <a:xfrm rot="5400000">
            <a:off x="3856680" y="2752560"/>
            <a:ext cx="743760" cy="533880"/>
          </a:xfrm>
          <a:prstGeom prst="bentConnector4">
            <a:avLst>
              <a:gd name="adj1" fmla="val 33317"/>
              <a:gd name="adj2" fmla="val 101147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9" name="AutoShape 35"/>
          <p:cNvCxnSpPr>
            <a:stCxn id="173" idx="1"/>
          </p:cNvCxnSpPr>
          <p:nvPr/>
        </p:nvCxnSpPr>
        <p:spPr>
          <a:xfrm flipH="1" rot="16200000">
            <a:off x="4829040" y="2733120"/>
            <a:ext cx="553320" cy="457920"/>
          </a:xfrm>
          <a:prstGeom prst="bentConnector3">
            <a:avLst>
              <a:gd name="adj1" fmla="val 31575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80" name="AutoShape 36"/>
          <p:cNvCxnSpPr>
            <a:stCxn id="172" idx="0"/>
          </p:cNvCxnSpPr>
          <p:nvPr/>
        </p:nvCxnSpPr>
        <p:spPr>
          <a:xfrm rot="5400000">
            <a:off x="3247560" y="3132720"/>
            <a:ext cx="1734120" cy="153360"/>
          </a:xfrm>
          <a:prstGeom prst="bentConnector4">
            <a:avLst>
              <a:gd name="adj1" fmla="val 71428"/>
              <a:gd name="adj2" fmla="val 249882"/>
            </a:avLst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81" name="AutoShape 37"/>
          <p:cNvCxnSpPr>
            <a:stCxn id="172" idx="1"/>
            <a:endCxn id="169" idx="0"/>
          </p:cNvCxnSpPr>
          <p:nvPr/>
        </p:nvCxnSpPr>
        <p:spPr>
          <a:xfrm flipH="1" rot="16200000">
            <a:off x="7685640" y="2543040"/>
            <a:ext cx="591120" cy="267120"/>
          </a:xfrm>
          <a:prstGeom prst="bentConnector3">
            <a:avLst>
              <a:gd name="adj1" fmla="val 48385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182" name="Text Box 38"/>
          <p:cNvSpPr/>
          <p:nvPr/>
        </p:nvSpPr>
        <p:spPr>
          <a:xfrm>
            <a:off x="6082200" y="2362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ff0000"/>
                </a:solidFill>
                <a:latin typeface="Arial"/>
              </a:rPr>
              <a:t>海外分室滞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9"/>
          <p:cNvSpPr/>
          <p:nvPr/>
        </p:nvSpPr>
        <p:spPr>
          <a:xfrm>
            <a:off x="2500920" y="2438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ff0000"/>
                </a:solidFill>
                <a:latin typeface="Arial"/>
              </a:rPr>
              <a:t>海外分室滞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0"/>
          <p:cNvSpPr/>
          <p:nvPr/>
        </p:nvSpPr>
        <p:spPr>
          <a:xfrm>
            <a:off x="1357560" y="21337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約１ヶ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2652840" y="21337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約１ヶ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2"/>
          <p:cNvSpPr/>
          <p:nvPr/>
        </p:nvSpPr>
        <p:spPr>
          <a:xfrm>
            <a:off x="4481640" y="243828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約１ヶ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5484240" y="2133720"/>
            <a:ext cx="79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約６ヶ月を２回程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5"/>
          <p:cNvSpPr/>
          <p:nvPr/>
        </p:nvSpPr>
        <p:spPr>
          <a:xfrm>
            <a:off x="1066680" y="4419720"/>
            <a:ext cx="2819520" cy="609480"/>
          </a:xfrm>
          <a:prstGeom prst="rightArrowCallout">
            <a:avLst>
              <a:gd name="adj1" fmla="val 50005"/>
              <a:gd name="adj2" fmla="val 25000"/>
              <a:gd name="adj3" fmla="val 60589"/>
              <a:gd name="adj4" fmla="val 86606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宇宙史特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関連分野基礎科目、関連技術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それぞれ１単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6"/>
          <p:cNvSpPr/>
          <p:nvPr/>
        </p:nvSpPr>
        <p:spPr>
          <a:xfrm>
            <a:off x="4038480" y="4419720"/>
            <a:ext cx="3962520" cy="609480"/>
          </a:xfrm>
          <a:prstGeom prst="rightArrowCallout">
            <a:avLst>
              <a:gd name="adj1" fmla="val 50005"/>
              <a:gd name="adj2" fmla="val 25000"/>
              <a:gd name="adj3" fmla="val 85151"/>
              <a:gd name="adj4" fmla="val 86606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宇宙史特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関連分野専門科目、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１単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990720" y="5486400"/>
            <a:ext cx="137160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宇宙史特別研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基礎技術の習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単位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2438280" y="5486400"/>
            <a:ext cx="1371600" cy="533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宇宙史特別研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基礎研究と論文作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単位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49"/>
          <p:cNvCxnSpPr>
            <a:stCxn id="169" idx="1"/>
            <a:endCxn id="165" idx="0"/>
          </p:cNvCxnSpPr>
          <p:nvPr/>
        </p:nvCxnSpPr>
        <p:spPr>
          <a:xfrm>
            <a:off x="8305560" y="3615840"/>
            <a:ext cx="153000" cy="179460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3" name="Text Box 51"/>
          <p:cNvSpPr/>
          <p:nvPr/>
        </p:nvSpPr>
        <p:spPr>
          <a:xfrm>
            <a:off x="3240" y="1981080"/>
            <a:ext cx="393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0000"/>
                </a:solidFill>
                <a:latin typeface="Arial"/>
              </a:rPr>
              <a:t>教育研究拠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2"/>
          <p:cNvSpPr/>
          <p:nvPr/>
        </p:nvSpPr>
        <p:spPr>
          <a:xfrm>
            <a:off x="3240" y="4876920"/>
            <a:ext cx="39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0000"/>
                </a:solidFill>
                <a:latin typeface="Arial"/>
              </a:rPr>
              <a:t>筑波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3"/>
          <p:cNvGrpSpPr/>
          <p:nvPr/>
        </p:nvGrpSpPr>
        <p:grpSpPr>
          <a:xfrm>
            <a:off x="4038480" y="3809880"/>
            <a:ext cx="3657600" cy="533520"/>
            <a:chOff x="4038480" y="3809880"/>
            <a:chExt cx="3657600" cy="533520"/>
          </a:xfrm>
        </p:grpSpPr>
        <p:sp>
          <p:nvSpPr>
            <p:cNvPr id="196" name="Rectangle 54"/>
            <p:cNvSpPr/>
            <p:nvPr/>
          </p:nvSpPr>
          <p:spPr>
            <a:xfrm>
              <a:off x="6553080" y="3809880"/>
              <a:ext cx="11430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宇宙史特別研究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論文作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単位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5"/>
            <p:cNvSpPr/>
            <p:nvPr/>
          </p:nvSpPr>
          <p:spPr>
            <a:xfrm>
              <a:off x="5295960" y="3809880"/>
              <a:ext cx="11430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宇宙史特別研究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研究展開・実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単位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6"/>
            <p:cNvSpPr/>
            <p:nvPr/>
          </p:nvSpPr>
          <p:spPr>
            <a:xfrm>
              <a:off x="4038480" y="3809880"/>
              <a:ext cx="11430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宇宙史特別研究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研究計画作成と立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単位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57"/>
          <p:cNvSpPr/>
          <p:nvPr/>
        </p:nvSpPr>
        <p:spPr>
          <a:xfrm>
            <a:off x="1129320" y="2514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ff0000"/>
                </a:solidFill>
                <a:latin typeface="Arial"/>
              </a:rPr>
              <a:t>海外分室滞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履修要領（前期課程）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 u="sng">
                <a:solidFill>
                  <a:srgbClr val="ff0000"/>
                </a:solidFill>
                <a:uFillTx/>
                <a:latin typeface="ヒラギノ丸ゴ Pro W4"/>
                <a:ea typeface="ヒラギノ丸ゴ Pro W4"/>
              </a:rPr>
              <a:t>宇宙史セミナー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通年１単位）、同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ヒラギノ丸ゴ Pro W4"/>
                <a:ea typeface="ヒラギノ丸ゴ Pro W4"/>
              </a:rPr>
              <a:t>Ⅱ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通年１単位）：　基礎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異なるグループが共同して、分野横断で修士論文中間報告を中心としたセミナー形式の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教育を行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 u="sng">
                <a:solidFill>
                  <a:srgbClr val="ff0000"/>
                </a:solidFill>
                <a:uFillTx/>
                <a:latin typeface="ヒラギノ丸ゴ Pro W4"/>
                <a:ea typeface="ヒラギノ丸ゴ Pro W4"/>
              </a:rPr>
              <a:t>宇宙史拠点実習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１単位）、同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ヒラギノ丸ゴ Pro W4"/>
                <a:ea typeface="ヒラギノ丸ゴ Pro W4"/>
              </a:rPr>
              <a:t>Ⅱ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１単位）：　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前期課程１，２年次にそれぞれ１ヶ月程度、</a:t>
            </a:r>
            <a:r>
              <a:rPr b="1" lang="ja-JP" sz="1200" spc="-1" strike="noStrike">
                <a:solidFill>
                  <a:srgbClr val="ff0000"/>
                </a:solidFill>
                <a:latin typeface="ヒラギノ丸ゴ Pro W4"/>
                <a:ea typeface="ヒラギノ丸ゴ Pro W4"/>
              </a:rPr>
              <a:t>海外拠点へ派遣し、関連分野の研究実習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を行う。事前事後の筑波キャンパスにおける指導・報告および現地での研究指導状況により単位を認定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 u="sng">
                <a:solidFill>
                  <a:srgbClr val="ff0000"/>
                </a:solidFill>
                <a:uFillTx/>
                <a:latin typeface="ヒラギノ丸ゴ Pro W4"/>
                <a:ea typeface="ヒラギノ丸ゴ Pro W4"/>
              </a:rPr>
              <a:t>宇宙観測実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１単位）：　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前期課程１，２年次のいづれかに、１週間程度、</a:t>
            </a:r>
            <a:r>
              <a:rPr b="1" lang="ja-JP" sz="1200" spc="-1" strike="noStrike">
                <a:solidFill>
                  <a:srgbClr val="ff0000"/>
                </a:solidFill>
                <a:latin typeface="ヒラギノ丸ゴ Pro W4"/>
                <a:ea typeface="ヒラギノ丸ゴ Pro W4"/>
              </a:rPr>
              <a:t>宇宙観測拠点において研究実習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を行う。事前事後の筑波キャンパスにおける指導・報告および現地での研究指導状況により単位を認定する。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宇宙史特講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１単位）、同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Ⅱ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１単位）：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研究についての非常勤講師による集中講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 u="sng">
                <a:solidFill>
                  <a:srgbClr val="ff0000"/>
                </a:solidFill>
                <a:uFillTx/>
                <a:latin typeface="ヒラギノ丸ゴ Pro W4"/>
                <a:ea typeface="ヒラギノ丸ゴ Pro W4"/>
              </a:rPr>
              <a:t>宇宙史特別研究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６単位）、同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ヒラギノ丸ゴ Pro W4"/>
                <a:ea typeface="ヒラギノ丸ゴ Pro W4"/>
              </a:rPr>
              <a:t>Ⅱ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ヒラギノ丸ゴ Pro W4"/>
                <a:ea typeface="ヒラギノ丸ゴ Pro W4"/>
              </a:rPr>
              <a:t>（６単位）：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では宇宙史研究の基礎となる実験観測の技術、データ処理、物理解析を習得し修士論文のための研究を行い、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Ⅱ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では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Ⅰ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に引き続き、同研究を発展させて修士論文としてまとめ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26C7-BAED-4E7F-BE05-46E64D529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雲形吹き出し 5"/>
          <p:cNvSpPr/>
          <p:nvPr/>
        </p:nvSpPr>
        <p:spPr>
          <a:xfrm>
            <a:off x="6858000" y="762120"/>
            <a:ext cx="2133720" cy="1523880"/>
          </a:xfrm>
          <a:prstGeom prst="cloudCallout">
            <a:avLst>
              <a:gd name="adj1" fmla="val -44777"/>
              <a:gd name="adj2" fmla="val 63055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d2d8a"/>
                </a:solidFill>
                <a:latin typeface="Arial"/>
              </a:rPr>
              <a:t>短期間に新しい知識・技術を学び、研究にまとめ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0000"/>
                </a:solidFill>
                <a:latin typeface="Arial"/>
              </a:rPr>
              <a:t>履修要領（後期課程）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拠点実習Ⅲ（１単位）：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後期課程１年次に</a:t>
            </a:r>
            <a:r>
              <a:rPr b="0" lang="ja-JP" sz="1200" spc="-1" strike="noStrike">
                <a:solidFill>
                  <a:srgbClr val="ff0000"/>
                </a:solidFill>
                <a:latin typeface="ヒラギノ丸ゴ Pro W4"/>
                <a:ea typeface="ヒラギノ丸ゴ Pro W4"/>
              </a:rPr>
              <a:t>「国際研究計画検討集会」へ派遣し、博士論文構想を策定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する。博士論文構想作成は口頭発表させ、これを宇宙史特別研究Ⅲの認定要件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特講Ⅲ（１単位）：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研究についての非常勤講師による集中講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宇宙史特別研究Ⅲ（６単位）、同Ⅳ（６単位）、同Ⅴ（６単位）：　専門科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ヒラギノ丸ゴ Pro W4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Ⅲ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 W4"/>
                <a:ea typeface="ヒラギノ丸ゴ Pro W4"/>
              </a:rPr>
              <a:t>では博士論文の研究計画作成と立案を行う。Ⅳでは約６ヶ月程度の拠点滞在によって研究展開・実施を行い、Ⅴでは約６ヶ月程度の拠点滞在によって論文作成を修了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スライド番号プレースホルダ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8469-89DE-4689-ADB1-F9ACE12BB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4:56:59Z</dcterms:created>
  <dc:creator>三明 康郎</dc:creator>
  <dc:description/>
  <dc:language>en-US</dc:language>
  <cp:lastModifiedBy>三明 康郎</cp:lastModifiedBy>
  <cp:lastPrinted>2007-01-18T07:21:50Z</cp:lastPrinted>
  <dcterms:modified xsi:type="dcterms:W3CDTF">2010-04-27T05:24:11Z</dcterms:modified>
  <cp:revision>302</cp:revision>
  <dc:subject/>
  <dc:title>宇宙史国際連携研究・教育プログラム</dc:title>
</cp:coreProperties>
</file>