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ct" ContentType="image/x-pict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D14-DE5C-4ACD-A96A-5F8039E9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599-0AC2-471F-B02F-83D62914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163-2B93-44FD-B197-9CE92936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326-3A76-4EB6-8BAD-55B3EF7B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240-C711-4FC9-95F9-4C5FD4BE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FAF-CF62-47CF-8541-F82465CA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153-D0B0-4550-8C28-B9F0C9E2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2E7-57D2-4D25-810D-992A1923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EAE-6D2B-42B7-B35E-C1A2E161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145-650A-4FF2-BA0B-909A56C9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C7C-A9F8-41D2-9C24-EEF41C05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F07-6565-4B7E-A65E-438577CD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B70C-2072-4003-9C83-6BC8B8E9A12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168560"/>
            <a:ext cx="8839440" cy="4903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flipH="1" rot="10800000">
            <a:off x="3048120" y="5391000"/>
            <a:ext cx="5943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4341600" cy="670572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3505320" y="380880"/>
            <a:ext cx="162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4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1,0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68600" y="609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5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0,1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58672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0600" y="762120"/>
            <a:ext cx="12596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0600" y="4181400"/>
            <a:ext cx="12596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505680" y="505944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5334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6427800" y="914400"/>
            <a:ext cx="2562120" cy="2513880"/>
            <a:chOff x="6427800" y="914400"/>
            <a:chExt cx="2562120" cy="2513880"/>
          </a:xfrm>
        </p:grpSpPr>
        <p:grpSp>
          <p:nvGrpSpPr>
            <p:cNvPr id="810" name=""/>
            <p:cNvGrpSpPr/>
            <p:nvPr/>
          </p:nvGrpSpPr>
          <p:grpSpPr>
            <a:xfrm>
              <a:off x="6635880" y="914400"/>
              <a:ext cx="1623960" cy="2513880"/>
              <a:chOff x="6635880" y="914400"/>
              <a:chExt cx="1623960" cy="251388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6635880" y="914400"/>
                <a:ext cx="1623960" cy="2513880"/>
                <a:chOff x="6635880" y="914400"/>
                <a:chExt cx="1623960" cy="2513880"/>
              </a:xfrm>
            </p:grpSpPr>
            <p:grpSp>
              <p:nvGrpSpPr>
                <p:cNvPr id="812" name=""/>
                <p:cNvGrpSpPr/>
                <p:nvPr/>
              </p:nvGrpSpPr>
              <p:grpSpPr>
                <a:xfrm>
                  <a:off x="7140960" y="1599840"/>
                  <a:ext cx="630720" cy="1255680"/>
                  <a:chOff x="7140960" y="1599840"/>
                  <a:chExt cx="630720" cy="125568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7140960" y="159984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4" name=""/>
                <p:cNvSpPr/>
                <p:nvPr/>
              </p:nvSpPr>
              <p:spPr>
                <a:xfrm>
                  <a:off x="6635880" y="221652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465680" y="91440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V="1">
                  <a:off x="6852240" y="150696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flipV="1">
                  <a:off x="6905520" y="150696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"/>
              <p:cNvSpPr/>
              <p:nvPr/>
            </p:nvSpPr>
            <p:spPr>
              <a:xfrm>
                <a:off x="7170840" y="134748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6750000" y="183168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712560" y="183168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170840" y="125028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469640" y="2969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707960" y="277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839360" y="25344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895160" y="2241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895160" y="1954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839360" y="169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707960" y="1434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469640" y="126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187040" y="126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984000" y="1434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42880" y="169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773040" y="1954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73040" y="2214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42880" y="24750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984000" y="2776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187040" y="2969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6427800" y="221472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265240" y="186804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4800600" y="6248520"/>
            <a:ext cx="1981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258160" y="1798560"/>
            <a:ext cx="86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-pl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soci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515720" y="3216240"/>
            <a:ext cx="134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 flipV="1">
            <a:off x="4213080" y="1523880"/>
            <a:ext cx="1044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2361960" y="1523880"/>
            <a:ext cx="2895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696080" y="1447920"/>
            <a:ext cx="538200" cy="1751040"/>
          </a:xfrm>
          <a:custGeom>
            <a:avLst/>
            <a:gdLst/>
            <a:ahLst/>
            <a:rect l="l" t="t" r="r" b="b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568600" y="1752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6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1,2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68600" y="2895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7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2,3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568600" y="4038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8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3,4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505320" y="1523880"/>
            <a:ext cx="167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3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2,-1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527280" y="27432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3,-2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527280" y="38862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4,-3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34120" y="76320"/>
            <a:ext cx="3311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rot="16200000">
            <a:off x="-308160" y="2004840"/>
            <a:ext cx="199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587920" y="4240080"/>
            <a:ext cx="998640" cy="160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270400" y="504504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086520" y="419256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6086520" y="4476240"/>
            <a:ext cx="772920" cy="56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5315040" y="5044680"/>
            <a:ext cx="771480" cy="56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 flipV="1">
            <a:off x="5314680" y="4901760"/>
            <a:ext cx="771480" cy="14292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5951160" y="5045040"/>
            <a:ext cx="135000" cy="80496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59400" y="4381560"/>
            <a:ext cx="576360" cy="663480"/>
          </a:xfrm>
          <a:custGeom>
            <a:avLst/>
            <a:gdLst/>
            <a:ahLst/>
            <a:rect l="l" t="t" r="r" b="b"/>
            <a:pathLst>
              <a:path w="609" h="672">
                <a:moveTo>
                  <a:pt x="0" y="0"/>
                </a:moveTo>
                <a:cubicBezTo>
                  <a:pt x="35" y="18"/>
                  <a:pt x="134" y="98"/>
                  <a:pt x="211" y="111"/>
                </a:cubicBezTo>
                <a:cubicBezTo>
                  <a:pt x="288" y="124"/>
                  <a:pt x="400" y="84"/>
                  <a:pt x="464" y="76"/>
                </a:cubicBezTo>
                <a:cubicBezTo>
                  <a:pt x="528" y="68"/>
                  <a:pt x="585" y="46"/>
                  <a:pt x="597" y="62"/>
                </a:cubicBezTo>
                <a:cubicBezTo>
                  <a:pt x="609" y="78"/>
                  <a:pt x="569" y="128"/>
                  <a:pt x="534" y="174"/>
                </a:cubicBezTo>
                <a:cubicBezTo>
                  <a:pt x="499" y="220"/>
                  <a:pt x="425" y="285"/>
                  <a:pt x="384" y="336"/>
                </a:cubicBezTo>
                <a:cubicBezTo>
                  <a:pt x="343" y="387"/>
                  <a:pt x="312" y="424"/>
                  <a:pt x="288" y="480"/>
                </a:cubicBezTo>
                <a:cubicBezTo>
                  <a:pt x="264" y="536"/>
                  <a:pt x="252" y="604"/>
                  <a:pt x="240" y="672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22880" y="4591080"/>
            <a:ext cx="1138320" cy="1352520"/>
          </a:xfrm>
          <a:custGeom>
            <a:avLst/>
            <a:gdLst/>
            <a:ahLst/>
            <a:rect l="l" t="t" r="r" b="b"/>
            <a:pathLst>
              <a:path w="717" h="852">
                <a:moveTo>
                  <a:pt x="271" y="0"/>
                </a:moveTo>
                <a:cubicBezTo>
                  <a:pt x="251" y="13"/>
                  <a:pt x="192" y="45"/>
                  <a:pt x="147" y="76"/>
                </a:cubicBezTo>
                <a:cubicBezTo>
                  <a:pt x="102" y="107"/>
                  <a:pt x="6" y="145"/>
                  <a:pt x="3" y="188"/>
                </a:cubicBezTo>
                <a:cubicBezTo>
                  <a:pt x="0" y="231"/>
                  <a:pt x="92" y="287"/>
                  <a:pt x="127" y="332"/>
                </a:cubicBezTo>
                <a:cubicBezTo>
                  <a:pt x="162" y="377"/>
                  <a:pt x="187" y="411"/>
                  <a:pt x="211" y="456"/>
                </a:cubicBezTo>
                <a:cubicBezTo>
                  <a:pt x="235" y="501"/>
                  <a:pt x="250" y="552"/>
                  <a:pt x="273" y="600"/>
                </a:cubicBezTo>
                <a:cubicBezTo>
                  <a:pt x="297" y="647"/>
                  <a:pt x="323" y="704"/>
                  <a:pt x="353" y="744"/>
                </a:cubicBezTo>
                <a:cubicBezTo>
                  <a:pt x="382" y="784"/>
                  <a:pt x="416" y="827"/>
                  <a:pt x="449" y="840"/>
                </a:cubicBezTo>
                <a:cubicBezTo>
                  <a:pt x="483" y="852"/>
                  <a:pt x="509" y="838"/>
                  <a:pt x="554" y="818"/>
                </a:cubicBezTo>
                <a:cubicBezTo>
                  <a:pt x="598" y="797"/>
                  <a:pt x="683" y="739"/>
                  <a:pt x="717" y="718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904080" y="4292640"/>
            <a:ext cx="183960" cy="279360"/>
          </a:xfrm>
          <a:custGeom>
            <a:avLst/>
            <a:gdLst/>
            <a:ahLst/>
            <a:rect l="l" t="t" r="r" b="b"/>
            <a:pathLst>
              <a:path w="116" h="176">
                <a:moveTo>
                  <a:pt x="0" y="0"/>
                </a:moveTo>
                <a:cubicBezTo>
                  <a:pt x="19" y="29"/>
                  <a:pt x="92" y="139"/>
                  <a:pt x="116" y="1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092560" y="4572000"/>
            <a:ext cx="471600" cy="679320"/>
          </a:xfrm>
          <a:custGeom>
            <a:avLst/>
            <a:gdLst/>
            <a:ahLst/>
            <a:rect l="l" t="t" r="r" b="b"/>
            <a:pathLst>
              <a:path w="297" h="428">
                <a:moveTo>
                  <a:pt x="297" y="0"/>
                </a:moveTo>
                <a:cubicBezTo>
                  <a:pt x="272" y="13"/>
                  <a:pt x="197" y="48"/>
                  <a:pt x="149" y="80"/>
                </a:cubicBezTo>
                <a:cubicBezTo>
                  <a:pt x="101" y="112"/>
                  <a:pt x="18" y="157"/>
                  <a:pt x="9" y="192"/>
                </a:cubicBezTo>
                <a:cubicBezTo>
                  <a:pt x="0" y="227"/>
                  <a:pt x="58" y="253"/>
                  <a:pt x="93" y="292"/>
                </a:cubicBezTo>
                <a:cubicBezTo>
                  <a:pt x="128" y="331"/>
                  <a:pt x="194" y="400"/>
                  <a:pt x="221" y="42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rot="21585000">
            <a:off x="5029200" y="3959280"/>
            <a:ext cx="2286000" cy="2211480"/>
          </a:xfrm>
          <a:prstGeom prst="ellipse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717160" y="589752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567560" y="4240080"/>
            <a:ext cx="998640" cy="160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50040" y="504504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066160" y="419256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85240" y="4152240"/>
            <a:ext cx="407880" cy="868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7678440" y="5020200"/>
            <a:ext cx="406800" cy="867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7321320" y="5031000"/>
            <a:ext cx="745920" cy="24300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067240" y="5029920"/>
            <a:ext cx="265320" cy="77184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077320" y="4079880"/>
            <a:ext cx="482400" cy="708120"/>
          </a:xfrm>
          <a:custGeom>
            <a:avLst/>
            <a:gdLst/>
            <a:ahLst/>
            <a:rect l="l" t="t" r="r" b="b"/>
            <a:pathLst>
              <a:path w="304" h="446">
                <a:moveTo>
                  <a:pt x="0" y="84"/>
                </a:moveTo>
                <a:cubicBezTo>
                  <a:pt x="19" y="83"/>
                  <a:pt x="77" y="84"/>
                  <a:pt x="112" y="77"/>
                </a:cubicBezTo>
                <a:cubicBezTo>
                  <a:pt x="147" y="70"/>
                  <a:pt x="182" y="54"/>
                  <a:pt x="211" y="42"/>
                </a:cubicBezTo>
                <a:cubicBezTo>
                  <a:pt x="240" y="30"/>
                  <a:pt x="275" y="0"/>
                  <a:pt x="288" y="7"/>
                </a:cubicBezTo>
                <a:cubicBezTo>
                  <a:pt x="301" y="14"/>
                  <a:pt x="289" y="50"/>
                  <a:pt x="288" y="86"/>
                </a:cubicBezTo>
                <a:cubicBezTo>
                  <a:pt x="287" y="122"/>
                  <a:pt x="284" y="185"/>
                  <a:pt x="284" y="226"/>
                </a:cubicBezTo>
                <a:cubicBezTo>
                  <a:pt x="284" y="267"/>
                  <a:pt x="285" y="293"/>
                  <a:pt x="288" y="330"/>
                </a:cubicBezTo>
                <a:cubicBezTo>
                  <a:pt x="291" y="367"/>
                  <a:pt x="301" y="422"/>
                  <a:pt x="304" y="44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315200" y="4851360"/>
            <a:ext cx="1225440" cy="1214640"/>
          </a:xfrm>
          <a:custGeom>
            <a:avLst/>
            <a:gdLst/>
            <a:ahLst/>
            <a:rect l="l" t="t" r="r" b="b"/>
            <a:pathLst>
              <a:path w="772" h="765">
                <a:moveTo>
                  <a:pt x="148" y="0"/>
                </a:moveTo>
                <a:cubicBezTo>
                  <a:pt x="138" y="21"/>
                  <a:pt x="107" y="83"/>
                  <a:pt x="84" y="128"/>
                </a:cubicBezTo>
                <a:cubicBezTo>
                  <a:pt x="61" y="173"/>
                  <a:pt x="0" y="230"/>
                  <a:pt x="8" y="268"/>
                </a:cubicBezTo>
                <a:cubicBezTo>
                  <a:pt x="16" y="306"/>
                  <a:pt x="93" y="322"/>
                  <a:pt x="132" y="356"/>
                </a:cubicBezTo>
                <a:cubicBezTo>
                  <a:pt x="171" y="390"/>
                  <a:pt x="196" y="425"/>
                  <a:pt x="240" y="472"/>
                </a:cubicBezTo>
                <a:cubicBezTo>
                  <a:pt x="284" y="519"/>
                  <a:pt x="343" y="594"/>
                  <a:pt x="396" y="636"/>
                </a:cubicBezTo>
                <a:cubicBezTo>
                  <a:pt x="449" y="678"/>
                  <a:pt x="504" y="707"/>
                  <a:pt x="556" y="724"/>
                </a:cubicBezTo>
                <a:cubicBezTo>
                  <a:pt x="608" y="741"/>
                  <a:pt x="674" y="765"/>
                  <a:pt x="708" y="740"/>
                </a:cubicBezTo>
                <a:cubicBezTo>
                  <a:pt x="742" y="715"/>
                  <a:pt x="749" y="649"/>
                  <a:pt x="760" y="576"/>
                </a:cubicBezTo>
                <a:cubicBezTo>
                  <a:pt x="771" y="503"/>
                  <a:pt x="770" y="361"/>
                  <a:pt x="772" y="304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416800" y="3936960"/>
            <a:ext cx="301680" cy="184320"/>
          </a:xfrm>
          <a:custGeom>
            <a:avLst/>
            <a:gdLst/>
            <a:ahLst/>
            <a:rect l="l" t="t" r="r" b="b"/>
            <a:pathLst>
              <a:path w="190" h="116">
                <a:moveTo>
                  <a:pt x="190" y="116"/>
                </a:moveTo>
                <a:cubicBezTo>
                  <a:pt x="159" y="97"/>
                  <a:pt x="40" y="2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981920" y="5416560"/>
            <a:ext cx="617400" cy="798480"/>
          </a:xfrm>
          <a:custGeom>
            <a:avLst/>
            <a:gdLst/>
            <a:ahLst/>
            <a:rect l="l" t="t" r="r" b="b"/>
            <a:pathLst>
              <a:path w="389" h="503">
                <a:moveTo>
                  <a:pt x="0" y="344"/>
                </a:moveTo>
                <a:cubicBezTo>
                  <a:pt x="26" y="359"/>
                  <a:pt x="101" y="406"/>
                  <a:pt x="156" y="428"/>
                </a:cubicBezTo>
                <a:cubicBezTo>
                  <a:pt x="211" y="450"/>
                  <a:pt x="291" y="503"/>
                  <a:pt x="328" y="476"/>
                </a:cubicBezTo>
                <a:cubicBezTo>
                  <a:pt x="365" y="449"/>
                  <a:pt x="371" y="347"/>
                  <a:pt x="380" y="268"/>
                </a:cubicBezTo>
                <a:cubicBezTo>
                  <a:pt x="389" y="189"/>
                  <a:pt x="383" y="56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rot="21585000">
            <a:off x="7237080" y="3806640"/>
            <a:ext cx="1825560" cy="2590560"/>
          </a:xfrm>
          <a:prstGeom prst="ellipse">
            <a:avLst/>
          </a:prstGeom>
          <a:noFill/>
          <a:ln w="2556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229880" y="6172200"/>
            <a:ext cx="18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ot significant com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systematic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952880" y="3124080"/>
            <a:ext cx="2057400" cy="94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strong preference of associate particle emission towards the in-plan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58760" y="1278000"/>
            <a:ext cx="287280" cy="2822400"/>
          </a:xfrm>
          <a:custGeom>
            <a:avLst/>
            <a:gdLst/>
            <a:ahLst/>
            <a:rect l="l" t="t" r="r" b="b"/>
            <a:pathLst>
              <a:path w="181" h="1778">
                <a:moveTo>
                  <a:pt x="174" y="1770"/>
                </a:moveTo>
                <a:cubicBezTo>
                  <a:pt x="173" y="1524"/>
                  <a:pt x="181" y="584"/>
                  <a:pt x="167" y="292"/>
                </a:cubicBezTo>
                <a:cubicBezTo>
                  <a:pt x="153" y="0"/>
                  <a:pt x="115" y="17"/>
                  <a:pt x="90" y="18"/>
                </a:cubicBezTo>
                <a:cubicBezTo>
                  <a:pt x="65" y="19"/>
                  <a:pt x="28" y="7"/>
                  <a:pt x="14" y="300"/>
                </a:cubicBezTo>
                <a:cubicBezTo>
                  <a:pt x="0" y="593"/>
                  <a:pt x="8" y="1470"/>
                  <a:pt x="7" y="177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rcRect l="0" t="3234" r="0" b="0"/>
          <a:stretch/>
        </p:blipFill>
        <p:spPr>
          <a:xfrm>
            <a:off x="152280" y="2097000"/>
            <a:ext cx="6477120" cy="43038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52080" y="1752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6280" y="586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密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5029200" y="0"/>
            <a:ext cx="4114440" cy="4647960"/>
            <a:chOff x="5029200" y="0"/>
            <a:chExt cx="4114440" cy="4647960"/>
          </a:xfrm>
        </p:grpSpPr>
        <p:sp>
          <p:nvSpPr>
            <p:cNvPr id="886" name=""/>
            <p:cNvSpPr/>
            <p:nvPr/>
          </p:nvSpPr>
          <p:spPr>
            <a:xfrm>
              <a:off x="5029200" y="0"/>
              <a:ext cx="4114440" cy="46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5053320" y="0"/>
              <a:ext cx="4089960" cy="4647600"/>
              <a:chOff x="5053320" y="0"/>
              <a:chExt cx="4089960" cy="4647600"/>
            </a:xfrm>
          </p:grpSpPr>
          <p:sp>
            <p:nvSpPr>
              <p:cNvPr id="888" name=""/>
              <p:cNvSpPr/>
              <p:nvPr/>
            </p:nvSpPr>
            <p:spPr>
              <a:xfrm>
                <a:off x="5306760" y="4237560"/>
                <a:ext cx="3836160" cy="41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89" name=""/>
              <p:cNvGraphicFramePr/>
              <p:nvPr/>
            </p:nvGraphicFramePr>
            <p:xfrm>
              <a:off x="5053320" y="0"/>
              <a:ext cx="4089960" cy="43743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89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053320" y="0"/>
                        <a:ext cx="4089960" cy="437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891" name=""/>
          <p:cNvSpPr/>
          <p:nvPr/>
        </p:nvSpPr>
        <p:spPr>
          <a:xfrm>
            <a:off x="252720" y="228600"/>
            <a:ext cx="5057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un10 Au+Au at RHIC-PHE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 GeV run (300475-310454) ---&gt; 8.2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62.4 GeV run (310698-313322) ---&gt; 700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9 GeV run (313591- 314994) ---&gt; 250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7.7 GeV run (315450-318946) ---&gt; 1.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7364" t="23256" r="12348" b="11632"/>
          <a:stretch/>
        </p:blipFill>
        <p:spPr>
          <a:xfrm>
            <a:off x="228600" y="1522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0" b="6753"/>
          <a:stretch/>
        </p:blipFill>
        <p:spPr>
          <a:xfrm>
            <a:off x="4289400" y="171360"/>
            <a:ext cx="4651560" cy="516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5120" y="3184560"/>
            <a:ext cx="2057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+p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jet+jet (STAR@RH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228600"/>
            <a:ext cx="19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u+Au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??? (STAR@RH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4560" y="4051440"/>
            <a:ext cx="4252320" cy="2644560"/>
            <a:chOff x="304560" y="4051440"/>
            <a:chExt cx="4252320" cy="2644560"/>
          </a:xfrm>
        </p:grpSpPr>
        <p:grpSp>
          <p:nvGrpSpPr>
            <p:cNvPr id="48" name=""/>
            <p:cNvGrpSpPr/>
            <p:nvPr/>
          </p:nvGrpSpPr>
          <p:grpSpPr>
            <a:xfrm>
              <a:off x="304560" y="5510520"/>
              <a:ext cx="1186200" cy="398880"/>
              <a:chOff x="304560" y="5510520"/>
              <a:chExt cx="1186200" cy="398880"/>
            </a:xfrm>
          </p:grpSpPr>
          <p:sp>
            <p:nvSpPr>
              <p:cNvPr id="49" name=""/>
              <p:cNvSpPr/>
              <p:nvPr/>
            </p:nvSpPr>
            <p:spPr>
              <a:xfrm>
                <a:off x="446040" y="5853240"/>
                <a:ext cx="1044720" cy="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560" y="5510520"/>
                <a:ext cx="98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nucle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3081240" y="5499360"/>
              <a:ext cx="1475640" cy="398880"/>
              <a:chOff x="3081240" y="5499360"/>
              <a:chExt cx="1475640" cy="398880"/>
            </a:xfrm>
          </p:grpSpPr>
          <p:sp>
            <p:nvSpPr>
              <p:cNvPr id="52" name=""/>
              <p:cNvSpPr/>
              <p:nvPr/>
            </p:nvSpPr>
            <p:spPr>
              <a:xfrm flipH="1" flipV="1">
                <a:off x="3081240" y="5837400"/>
                <a:ext cx="1044720" cy="14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568320" y="5499360"/>
                <a:ext cx="98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nucle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1335240" y="4993920"/>
              <a:ext cx="2093760" cy="1702080"/>
              <a:chOff x="1335240" y="4993920"/>
              <a:chExt cx="2093760" cy="1702080"/>
            </a:xfrm>
          </p:grpSpPr>
          <p:sp>
            <p:nvSpPr>
              <p:cNvPr id="55" name=""/>
              <p:cNvSpPr/>
              <p:nvPr/>
            </p:nvSpPr>
            <p:spPr>
              <a:xfrm>
                <a:off x="2043000" y="5581800"/>
                <a:ext cx="596880" cy="519120"/>
              </a:xfrm>
              <a:prstGeom prst="irregularSeal1">
                <a:avLst/>
              </a:prstGeom>
              <a:solidFill>
                <a:srgbClr val="ff9900"/>
              </a:solidFill>
              <a:ln w="158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1477800" y="5607000"/>
                <a:ext cx="1778040" cy="447480"/>
                <a:chOff x="1477800" y="5607000"/>
                <a:chExt cx="1778040" cy="447480"/>
              </a:xfrm>
            </p:grpSpPr>
            <p:sp>
              <p:nvSpPr>
                <p:cNvPr id="57" name=""/>
                <p:cNvSpPr/>
                <p:nvPr/>
              </p:nvSpPr>
              <p:spPr>
                <a:xfrm flipV="1">
                  <a:off x="1539720" y="5607000"/>
                  <a:ext cx="1716120" cy="2307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1477800" y="5707800"/>
                  <a:ext cx="1753200" cy="1443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477800" y="5852880"/>
                  <a:ext cx="1703160" cy="720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90040" y="5838120"/>
                  <a:ext cx="1591560" cy="2163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335240" y="5595480"/>
                <a:ext cx="1784160" cy="441360"/>
                <a:chOff x="1335240" y="5595480"/>
                <a:chExt cx="1784160" cy="441360"/>
              </a:xfrm>
            </p:grpSpPr>
            <p:sp>
              <p:nvSpPr>
                <p:cNvPr id="62" name=""/>
                <p:cNvSpPr/>
                <p:nvPr/>
              </p:nvSpPr>
              <p:spPr>
                <a:xfrm flipH="1">
                  <a:off x="1335240" y="5853960"/>
                  <a:ext cx="1721880" cy="1828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H="1">
                  <a:off x="1362960" y="5841000"/>
                  <a:ext cx="1756440" cy="957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H="1" flipV="1">
                  <a:off x="1418760" y="5722200"/>
                  <a:ext cx="1700640" cy="1184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flipV="1">
                  <a:off x="1521720" y="5595480"/>
                  <a:ext cx="1585080" cy="2595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 flipV="1">
                <a:off x="1978200" y="5751720"/>
                <a:ext cx="1450800" cy="61920"/>
              </a:xfrm>
              <a:prstGeom prst="line">
                <a:avLst/>
              </a:prstGeom>
              <a:ln cap="rnd" w="15840">
                <a:solidFill>
                  <a:srgbClr val="9900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1484280" y="5848200"/>
                <a:ext cx="8510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2338200" y="5846760"/>
                <a:ext cx="75564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2147400" y="5848920"/>
                <a:ext cx="175320" cy="847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2342520" y="4993920"/>
                <a:ext cx="89640" cy="860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308320" y="5994720"/>
                <a:ext cx="48960" cy="363240"/>
              </a:xfrm>
              <a:prstGeom prst="line">
                <a:avLst/>
              </a:prstGeom>
              <a:ln cap="rnd" w="15840">
                <a:solidFill>
                  <a:srgbClr val="9900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54480" y="5187960"/>
                <a:ext cx="83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ff0000"/>
                    </a:solidFill>
                    <a:latin typeface="Times New Roman"/>
                  </a:rPr>
                  <a:t>part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2276280" y="4051440"/>
              <a:ext cx="725040" cy="896760"/>
              <a:chOff x="2276280" y="4051440"/>
              <a:chExt cx="725040" cy="896760"/>
            </a:xfrm>
          </p:grpSpPr>
          <p:sp>
            <p:nvSpPr>
              <p:cNvPr id="74" name=""/>
              <p:cNvSpPr/>
              <p:nvPr/>
            </p:nvSpPr>
            <p:spPr>
              <a:xfrm flipV="1">
                <a:off x="2436840" y="4051440"/>
                <a:ext cx="100080" cy="892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2433600" y="4675320"/>
                <a:ext cx="131760" cy="27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flipV="1">
                <a:off x="2276280" y="4561200"/>
                <a:ext cx="152280" cy="38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2378160" y="4438440"/>
                <a:ext cx="54000" cy="500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567520" y="4395960"/>
                <a:ext cx="43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5680" y="1447920"/>
            <a:ext cx="40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ck-to-back jet su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-- 2 particle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correlation -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038480" y="3200400"/>
            <a:ext cx="5105520" cy="3429000"/>
            <a:chOff x="4038480" y="3200400"/>
            <a:chExt cx="5105520" cy="3429000"/>
          </a:xfrm>
        </p:grpSpPr>
        <p:sp>
          <p:nvSpPr>
            <p:cNvPr id="81" name=""/>
            <p:cNvSpPr/>
            <p:nvPr/>
          </p:nvSpPr>
          <p:spPr>
            <a:xfrm>
              <a:off x="4038480" y="3200400"/>
              <a:ext cx="5105520" cy="3429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191120" y="3376440"/>
              <a:ext cx="4800600" cy="312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5257800" y="151920"/>
            <a:ext cx="3162240" cy="2591280"/>
            <a:chOff x="5257800" y="151920"/>
            <a:chExt cx="3162240" cy="2591280"/>
          </a:xfrm>
        </p:grpSpPr>
        <p:sp>
          <p:nvSpPr>
            <p:cNvPr id="84" name=""/>
            <p:cNvSpPr/>
            <p:nvPr/>
          </p:nvSpPr>
          <p:spPr>
            <a:xfrm>
              <a:off x="5486400" y="1295280"/>
              <a:ext cx="2685960" cy="14335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67440" y="1295280"/>
              <a:ext cx="552600" cy="1432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57800" y="1295280"/>
              <a:ext cx="554040" cy="144792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24440" y="457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181640" y="533520"/>
              <a:ext cx="685800" cy="3808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181640" y="151920"/>
              <a:ext cx="609840" cy="7621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181640" y="151920"/>
              <a:ext cx="152640" cy="7621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46680" y="2004840"/>
              <a:ext cx="77760" cy="35748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190920" y="1952640"/>
              <a:ext cx="438120" cy="71424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038280" y="1952640"/>
              <a:ext cx="590760" cy="40968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05480" y="1488960"/>
              <a:ext cx="108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089480" y="1488960"/>
              <a:ext cx="1158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71800" y="1441440"/>
              <a:ext cx="304920" cy="663480"/>
            </a:xfrm>
            <a:prstGeom prst="line">
              <a:avLst/>
            </a:prstGeom>
            <a:ln w="38160">
              <a:solidFill>
                <a:srgbClr val="3366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10440" y="1332000"/>
              <a:ext cx="1522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2000" y="1351080"/>
              <a:ext cx="1522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800760" y="762120"/>
              <a:ext cx="457200" cy="7617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72160" y="1184400"/>
              <a:ext cx="541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57760" y="11872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15160" y="11872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76880" y="19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43760" y="19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85800" y="3628800"/>
            <a:ext cx="3048120" cy="2848320"/>
            <a:chOff x="685800" y="3628800"/>
            <a:chExt cx="3048120" cy="2848320"/>
          </a:xfrm>
        </p:grpSpPr>
        <p:sp>
          <p:nvSpPr>
            <p:cNvPr id="106" name=""/>
            <p:cNvSpPr/>
            <p:nvPr/>
          </p:nvSpPr>
          <p:spPr>
            <a:xfrm>
              <a:off x="2133720" y="37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362320" y="3879720"/>
              <a:ext cx="914400" cy="7336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311560" y="3628800"/>
              <a:ext cx="554040" cy="1035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286000" y="4032360"/>
              <a:ext cx="23760" cy="576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6280" y="5738760"/>
              <a:ext cx="153720" cy="6256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374480" y="5686560"/>
              <a:ext cx="523800" cy="7905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142640" y="5686560"/>
              <a:ext cx="755640" cy="5000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5200560"/>
              <a:ext cx="108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346120" y="5200560"/>
              <a:ext cx="1158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828440" y="5153040"/>
              <a:ext cx="304920" cy="7621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67080" y="5043600"/>
              <a:ext cx="1522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8640" y="5062680"/>
              <a:ext cx="15228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133720" y="4466880"/>
              <a:ext cx="304560" cy="6858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28800" y="4896000"/>
              <a:ext cx="541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46958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76720" y="46641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0" y="0"/>
            <a:ext cx="7086600" cy="3733920"/>
            <a:chOff x="0" y="0"/>
            <a:chExt cx="7086600" cy="373392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5105520" cy="3733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152280" y="149400"/>
              <a:ext cx="48006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58000" y="1524240"/>
              <a:ext cx="228600" cy="6793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21560" y="1219320"/>
              <a:ext cx="272556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Jet mod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--- at 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= 1~4 GeV/c --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0" y="3581280"/>
            <a:ext cx="4343400" cy="3048120"/>
            <a:chOff x="0" y="3581280"/>
            <a:chExt cx="4343400" cy="3048120"/>
          </a:xfrm>
        </p:grpSpPr>
        <p:sp>
          <p:nvSpPr>
            <p:cNvPr id="128" name=""/>
            <p:cNvSpPr/>
            <p:nvPr/>
          </p:nvSpPr>
          <p:spPr>
            <a:xfrm>
              <a:off x="0" y="3581280"/>
              <a:ext cx="4343400" cy="304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99040" y="3652920"/>
              <a:ext cx="2334960" cy="1523880"/>
              <a:chOff x="1499040" y="3652920"/>
              <a:chExt cx="2334960" cy="1523880"/>
            </a:xfrm>
          </p:grpSpPr>
          <p:sp>
            <p:nvSpPr>
              <p:cNvPr id="130" name=""/>
              <p:cNvSpPr/>
              <p:nvPr/>
            </p:nvSpPr>
            <p:spPr>
              <a:xfrm>
                <a:off x="1499040" y="3828600"/>
                <a:ext cx="1388160" cy="134820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75294"/>
                    </a:srgbClr>
                  </a:gs>
                  <a:gs pos="100000">
                    <a:srgbClr val="ffff66">
                      <a:alpha val="83137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880600">
                <a:off x="1928520" y="3865680"/>
                <a:ext cx="703800" cy="1098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81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366640" y="4122360"/>
                <a:ext cx="231120" cy="29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077560" y="4415040"/>
                <a:ext cx="23040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904760" y="4473360"/>
                <a:ext cx="17280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714040" y="3652920"/>
                <a:ext cx="403560" cy="351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2193120" y="4062960"/>
                <a:ext cx="46188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2714040" y="3770280"/>
                <a:ext cx="115560" cy="174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2655720" y="3887640"/>
                <a:ext cx="288720" cy="174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952360" y="3760560"/>
                <a:ext cx="881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Lead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hadr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14840" y="483912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Arial"/>
                  </a:rPr>
                  <a:t>Mediu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49400" y="5177520"/>
              <a:ext cx="1422720" cy="1306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98560" y="4741920"/>
              <a:ext cx="0" cy="72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973080" y="4959720"/>
              <a:ext cx="74880" cy="36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748440" y="4959360"/>
              <a:ext cx="74880" cy="43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1080" y="5468040"/>
              <a:ext cx="236880" cy="50796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56" y="0"/>
                  </a:moveTo>
                  <a:cubicBezTo>
                    <a:pt x="28" y="36"/>
                    <a:pt x="0" y="72"/>
                    <a:pt x="8" y="96"/>
                  </a:cubicBezTo>
                  <a:cubicBezTo>
                    <a:pt x="16" y="120"/>
                    <a:pt x="88" y="128"/>
                    <a:pt x="104" y="144"/>
                  </a:cubicBezTo>
                  <a:cubicBezTo>
                    <a:pt x="120" y="160"/>
                    <a:pt x="120" y="176"/>
                    <a:pt x="104" y="192"/>
                  </a:cubicBezTo>
                  <a:cubicBezTo>
                    <a:pt x="88" y="208"/>
                    <a:pt x="16" y="224"/>
                    <a:pt x="8" y="240"/>
                  </a:cubicBezTo>
                  <a:cubicBezTo>
                    <a:pt x="0" y="256"/>
                    <a:pt x="32" y="272"/>
                    <a:pt x="56" y="288"/>
                  </a:cubicBezTo>
                  <a:cubicBezTo>
                    <a:pt x="80" y="304"/>
                    <a:pt x="136" y="328"/>
                    <a:pt x="152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48320" y="5976000"/>
              <a:ext cx="524160" cy="36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2960" y="6193800"/>
              <a:ext cx="1494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97720" y="6048360"/>
              <a:ext cx="29952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70560" y="5177520"/>
              <a:ext cx="1422720" cy="1306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519720" y="4741920"/>
              <a:ext cx="0" cy="72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594600" y="4959720"/>
              <a:ext cx="74520" cy="36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369600" y="4959360"/>
              <a:ext cx="74520" cy="43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69120" y="5976000"/>
              <a:ext cx="524160" cy="36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93760" y="6193800"/>
              <a:ext cx="14976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19240" y="6048360"/>
              <a:ext cx="299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19720" y="5468040"/>
              <a:ext cx="0" cy="798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3680" y="6048360"/>
              <a:ext cx="149760" cy="1450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58800" y="5830560"/>
              <a:ext cx="299160" cy="30096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360" y="5540760"/>
              <a:ext cx="534960" cy="50940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44480" y="5685480"/>
              <a:ext cx="449280" cy="653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320" y="2743200"/>
            <a:ext cx="3581280" cy="3436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429000" y="2951280"/>
            <a:ext cx="5638680" cy="3525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657600" y="152280"/>
            <a:ext cx="5334120" cy="2857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1082520"/>
            <a:ext cx="27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structed J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t RH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520" y="5364000"/>
            <a:ext cx="19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preliminary (QM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181480" y="76320"/>
            <a:ext cx="3657600" cy="297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87480"/>
            <a:ext cx="1731960" cy="2579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757600" y="0"/>
            <a:ext cx="2043000" cy="2819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5715000" cy="2836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140520" y="3505320"/>
            <a:ext cx="2774880" cy="2763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14600" y="3200400"/>
            <a:ext cx="492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igh Tower Trigger (HT) : (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=(0.05x0.05)  E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gt;5.4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6248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HIC-AGS’09, J. Putsch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8920" y="28954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Jet - hadron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64080" y="1733400"/>
            <a:ext cx="1981080" cy="3200400"/>
          </a:xfrm>
          <a:prstGeom prst="ellipse">
            <a:avLst/>
          </a:prstGeom>
          <a:gradFill rotWithShape="0">
            <a:gsLst>
              <a:gs pos="0">
                <a:srgbClr val="ff0000">
                  <a:alpha val="82352"/>
                </a:srgbClr>
              </a:gs>
              <a:gs pos="100000">
                <a:srgbClr val="ff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96640" y="1293480"/>
            <a:ext cx="2837520" cy="1628280"/>
            <a:chOff x="3896640" y="1293480"/>
            <a:chExt cx="2837520" cy="1628280"/>
          </a:xfrm>
        </p:grpSpPr>
        <p:grpSp>
          <p:nvGrpSpPr>
            <p:cNvPr id="176" name=""/>
            <p:cNvGrpSpPr/>
            <p:nvPr/>
          </p:nvGrpSpPr>
          <p:grpSpPr>
            <a:xfrm>
              <a:off x="5202720" y="1350000"/>
              <a:ext cx="1447920" cy="882720"/>
              <a:chOff x="5202720" y="1350000"/>
              <a:chExt cx="1447920" cy="8827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202720" y="2051280"/>
                <a:ext cx="224640" cy="181440"/>
                <a:chOff x="5202720" y="2051280"/>
                <a:chExt cx="224640" cy="1814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5202720" y="2105640"/>
                  <a:ext cx="139320" cy="127080"/>
                  <a:chOff x="5202720" y="2105640"/>
                  <a:chExt cx="139320" cy="1270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rot="19850400">
                    <a:off x="5216040" y="21294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9850400">
                    <a:off x="5222160" y="21261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287680" y="2051280"/>
                  <a:ext cx="139680" cy="127440"/>
                  <a:chOff x="5287680" y="2051280"/>
                  <a:chExt cx="139680" cy="1274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V="1" rot="19850400">
                    <a:off x="5301000" y="20750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flipV="1" rot="19850400">
                    <a:off x="5306400" y="20714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4" name=""/>
              <p:cNvGrpSpPr/>
              <p:nvPr/>
            </p:nvGrpSpPr>
            <p:grpSpPr>
              <a:xfrm>
                <a:off x="5378400" y="1953360"/>
                <a:ext cx="225000" cy="181440"/>
                <a:chOff x="5378400" y="1953360"/>
                <a:chExt cx="225000" cy="18144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5378400" y="2007720"/>
                  <a:ext cx="139320" cy="127080"/>
                  <a:chOff x="5378400" y="2007720"/>
                  <a:chExt cx="139320" cy="1270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19850400">
                    <a:off x="5391720" y="20314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850400">
                    <a:off x="5397840" y="20282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463360" y="1953360"/>
                  <a:ext cx="140040" cy="127440"/>
                  <a:chOff x="5463360" y="1953360"/>
                  <a:chExt cx="140040" cy="1274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V="1" rot="19850400">
                    <a:off x="5476680" y="19771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flipV="1" rot="19850400">
                    <a:off x="5482440" y="19735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5551920" y="1850040"/>
                <a:ext cx="224640" cy="181440"/>
                <a:chOff x="5551920" y="1850040"/>
                <a:chExt cx="224640" cy="18144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5551920" y="1904400"/>
                  <a:ext cx="138960" cy="127080"/>
                  <a:chOff x="5551920" y="1904400"/>
                  <a:chExt cx="138960" cy="1270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19850400">
                    <a:off x="5565240" y="19281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19850400">
                    <a:off x="5571000" y="19249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5636520" y="1850040"/>
                  <a:ext cx="140040" cy="127440"/>
                  <a:chOff x="5636520" y="1850040"/>
                  <a:chExt cx="140040" cy="1274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V="1" rot="19850400">
                    <a:off x="5649840" y="18738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flipV="1" rot="19850400">
                    <a:off x="5655600" y="18702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5727600" y="1751760"/>
                <a:ext cx="224640" cy="181800"/>
                <a:chOff x="5727600" y="1751760"/>
                <a:chExt cx="224640" cy="18180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5727600" y="1806480"/>
                  <a:ext cx="138960" cy="127080"/>
                  <a:chOff x="5727600" y="1806480"/>
                  <a:chExt cx="138960" cy="1270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19850400">
                    <a:off x="5740920" y="18302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 rot="19850400">
                    <a:off x="5746680" y="18270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5812200" y="1751760"/>
                  <a:ext cx="140040" cy="127800"/>
                  <a:chOff x="5812200" y="1751760"/>
                  <a:chExt cx="140040" cy="1278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V="1" rot="19850400">
                    <a:off x="5825520" y="17758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 rot="19850400">
                    <a:off x="5831280" y="17719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5900760" y="1648800"/>
                <a:ext cx="225000" cy="181800"/>
                <a:chOff x="5900760" y="1648800"/>
                <a:chExt cx="225000" cy="18180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5900760" y="1703520"/>
                  <a:ext cx="139320" cy="127080"/>
                  <a:chOff x="5900760" y="1703520"/>
                  <a:chExt cx="139320" cy="1270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9850400">
                    <a:off x="5914080" y="17272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9850400">
                    <a:off x="5920200" y="17240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5985720" y="1648800"/>
                  <a:ext cx="140040" cy="127800"/>
                  <a:chOff x="5985720" y="1648800"/>
                  <a:chExt cx="140040" cy="1278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V="1" rot="19850400">
                    <a:off x="5999040" y="16729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flipV="1" rot="19850400">
                    <a:off x="6004800" y="16689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6076800" y="1550880"/>
                <a:ext cx="224640" cy="181440"/>
                <a:chOff x="6076800" y="1550880"/>
                <a:chExt cx="224640" cy="18144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6076800" y="1605240"/>
                  <a:ext cx="138960" cy="127080"/>
                  <a:chOff x="6076800" y="1605240"/>
                  <a:chExt cx="138960" cy="1270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9850400">
                    <a:off x="6090120" y="16290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19850400">
                    <a:off x="6095880" y="16257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161400" y="1550880"/>
                  <a:ext cx="140040" cy="127440"/>
                  <a:chOff x="6161400" y="1550880"/>
                  <a:chExt cx="140040" cy="1274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V="1" rot="19850400">
                    <a:off x="6174720" y="15746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19850400">
                    <a:off x="6180480" y="15710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6249960" y="1447920"/>
                <a:ext cx="224640" cy="181800"/>
                <a:chOff x="6249960" y="1447920"/>
                <a:chExt cx="224640" cy="1818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249960" y="1502280"/>
                  <a:ext cx="139320" cy="127440"/>
                  <a:chOff x="6249960" y="1502280"/>
                  <a:chExt cx="139320" cy="1274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9850400">
                    <a:off x="6263280" y="15264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19850400">
                    <a:off x="6269400" y="15228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334920" y="1447920"/>
                  <a:ext cx="139680" cy="127440"/>
                  <a:chOff x="6334920" y="1447920"/>
                  <a:chExt cx="139680" cy="1274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V="1" rot="19850400">
                    <a:off x="6348240" y="14716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flipV="1" rot="19850400">
                    <a:off x="6353640" y="14680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6425640" y="1350000"/>
                <a:ext cx="225000" cy="181440"/>
                <a:chOff x="6425640" y="1350000"/>
                <a:chExt cx="225000" cy="18144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6425640" y="1404360"/>
                  <a:ext cx="139320" cy="127080"/>
                  <a:chOff x="6425640" y="1404360"/>
                  <a:chExt cx="139320" cy="1270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19850400">
                    <a:off x="6438960" y="14281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9850400">
                    <a:off x="6445080" y="14248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510600" y="1350000"/>
                  <a:ext cx="140040" cy="127440"/>
                  <a:chOff x="6510600" y="1350000"/>
                  <a:chExt cx="140040" cy="12744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V="1" rot="19850400">
                    <a:off x="6523920" y="13737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flipV="1" rot="19850400">
                    <a:off x="6529680" y="13701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3" name=""/>
            <p:cNvSpPr/>
            <p:nvPr/>
          </p:nvSpPr>
          <p:spPr>
            <a:xfrm flipV="1">
              <a:off x="6630480" y="1293480"/>
              <a:ext cx="103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896640" y="2194920"/>
              <a:ext cx="1274040" cy="72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316400" y="2238840"/>
              <a:ext cx="76392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104720" y="2242080"/>
              <a:ext cx="97380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990240" y="2240640"/>
              <a:ext cx="109080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66160" y="2163960"/>
              <a:ext cx="618840" cy="104760"/>
              <a:chOff x="4466160" y="2163960"/>
              <a:chExt cx="618840" cy="10476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4716000" y="2170440"/>
                <a:ext cx="119160" cy="95040"/>
                <a:chOff x="4716000" y="2170440"/>
                <a:chExt cx="119160" cy="9504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4721040" y="2198880"/>
                  <a:ext cx="47160" cy="37800"/>
                  <a:chOff x="4721040" y="2198880"/>
                  <a:chExt cx="47160" cy="3780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H="1" rot="10813800">
                    <a:off x="4721040" y="21988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rot="10813800">
                    <a:off x="4723560" y="21988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4716000" y="2170440"/>
                  <a:ext cx="119160" cy="95040"/>
                  <a:chOff x="4716000" y="2170440"/>
                  <a:chExt cx="119160" cy="950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flipH="1" flipV="1" rot="10813800">
                    <a:off x="4715640" y="21704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 rot="10813800">
                    <a:off x="4723200" y="21704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" name=""/>
              <p:cNvGrpSpPr/>
              <p:nvPr/>
            </p:nvGrpSpPr>
            <p:grpSpPr>
              <a:xfrm>
                <a:off x="4653360" y="2167560"/>
                <a:ext cx="119160" cy="95040"/>
                <a:chOff x="4653360" y="2167560"/>
                <a:chExt cx="119160" cy="9504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4658400" y="2196360"/>
                  <a:ext cx="47160" cy="37800"/>
                  <a:chOff x="4658400" y="2196360"/>
                  <a:chExt cx="47160" cy="37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0813800">
                    <a:off x="4658400" y="2196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0813800">
                    <a:off x="4660920" y="2196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4653360" y="2167560"/>
                  <a:ext cx="119160" cy="95040"/>
                  <a:chOff x="4653360" y="2167560"/>
                  <a:chExt cx="119160" cy="9504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flipV="1" rot="10813800">
                    <a:off x="4653000" y="21675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V="1" rot="10813800">
                    <a:off x="4660560" y="21675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3" name=""/>
              <p:cNvGrpSpPr/>
              <p:nvPr/>
            </p:nvGrpSpPr>
            <p:grpSpPr>
              <a:xfrm>
                <a:off x="4591080" y="2167200"/>
                <a:ext cx="119160" cy="95040"/>
                <a:chOff x="4591080" y="2167200"/>
                <a:chExt cx="119160" cy="950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596120" y="2196000"/>
                  <a:ext cx="47160" cy="37800"/>
                  <a:chOff x="4596120" y="2196000"/>
                  <a:chExt cx="47160" cy="378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rot="10813800">
                    <a:off x="4596120" y="2196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0813800">
                    <a:off x="4598640" y="2196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4591080" y="2167200"/>
                  <a:ext cx="119160" cy="95040"/>
                  <a:chOff x="4591080" y="2167200"/>
                  <a:chExt cx="119160" cy="950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H="1" flipV="1" rot="10813800">
                    <a:off x="4590720" y="2167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 rot="10813800">
                    <a:off x="4598280" y="2167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" name=""/>
              <p:cNvGrpSpPr/>
              <p:nvPr/>
            </p:nvGrpSpPr>
            <p:grpSpPr>
              <a:xfrm>
                <a:off x="4528440" y="2164320"/>
                <a:ext cx="119160" cy="95400"/>
                <a:chOff x="4528440" y="2164320"/>
                <a:chExt cx="119160" cy="9540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4533480" y="2193120"/>
                  <a:ext cx="47160" cy="37800"/>
                  <a:chOff x="4533480" y="2193120"/>
                  <a:chExt cx="47160" cy="3780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flipH="1" rot="10813800">
                    <a:off x="4533480" y="2193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rot="10813800">
                    <a:off x="4536000" y="2193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4528440" y="2164320"/>
                  <a:ext cx="119160" cy="95400"/>
                  <a:chOff x="4528440" y="2164320"/>
                  <a:chExt cx="119160" cy="9540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flipH="1" flipV="1" rot="10813800">
                    <a:off x="4528080" y="21643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 rot="10813800">
                    <a:off x="4535640" y="2164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4965840" y="2173680"/>
                <a:ext cx="119160" cy="95040"/>
                <a:chOff x="4965840" y="2173680"/>
                <a:chExt cx="119160" cy="95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4970880" y="2202480"/>
                  <a:ext cx="47160" cy="37800"/>
                  <a:chOff x="4970880" y="2202480"/>
                  <a:chExt cx="47160" cy="37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0813800">
                    <a:off x="4970880" y="2202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10813800">
                    <a:off x="4973400" y="2202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4965840" y="2173680"/>
                  <a:ext cx="119160" cy="95040"/>
                  <a:chOff x="4965840" y="2173680"/>
                  <a:chExt cx="119160" cy="950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flipV="1" rot="10813800">
                    <a:off x="4965480" y="2173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 rot="10813800">
                    <a:off x="4973040" y="2173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4903560" y="2171160"/>
                <a:ext cx="119160" cy="95040"/>
                <a:chOff x="4903560" y="2171160"/>
                <a:chExt cx="119160" cy="9504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4908600" y="2199600"/>
                  <a:ext cx="47160" cy="38160"/>
                  <a:chOff x="4908600" y="2199600"/>
                  <a:chExt cx="47160" cy="381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H="1" rot="10813800">
                    <a:off x="4908600" y="2199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rot="10813800">
                    <a:off x="4911120" y="2199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4903560" y="2171160"/>
                  <a:ext cx="119160" cy="95040"/>
                  <a:chOff x="4903560" y="2171160"/>
                  <a:chExt cx="119160" cy="950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10813800">
                    <a:off x="4903200" y="2171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V="1" rot="10813800">
                    <a:off x="4910760" y="2171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1" name=""/>
              <p:cNvGrpSpPr/>
              <p:nvPr/>
            </p:nvGrpSpPr>
            <p:grpSpPr>
              <a:xfrm>
                <a:off x="4840920" y="2170800"/>
                <a:ext cx="119160" cy="95040"/>
                <a:chOff x="4840920" y="2170800"/>
                <a:chExt cx="119160" cy="95040"/>
              </a:xfrm>
            </p:grpSpPr>
            <p:grpSp>
              <p:nvGrpSpPr>
                <p:cNvPr id="282" name=""/>
                <p:cNvGrpSpPr/>
                <p:nvPr/>
              </p:nvGrpSpPr>
              <p:grpSpPr>
                <a:xfrm>
                  <a:off x="4845960" y="2199600"/>
                  <a:ext cx="47160" cy="37800"/>
                  <a:chOff x="4845960" y="2199600"/>
                  <a:chExt cx="47160" cy="378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flipH="1" rot="10813800">
                    <a:off x="4845960" y="2199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10813800">
                    <a:off x="4848480" y="2199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4840920" y="2170800"/>
                  <a:ext cx="119160" cy="95040"/>
                  <a:chOff x="4840920" y="2170800"/>
                  <a:chExt cx="119160" cy="950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H="1" flipV="1" rot="10813800">
                    <a:off x="4840560" y="21708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V="1" rot="10813800">
                    <a:off x="4848120" y="21708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8" name=""/>
              <p:cNvGrpSpPr/>
              <p:nvPr/>
            </p:nvGrpSpPr>
            <p:grpSpPr>
              <a:xfrm>
                <a:off x="4778280" y="2167920"/>
                <a:ext cx="119160" cy="95040"/>
                <a:chOff x="4778280" y="2167920"/>
                <a:chExt cx="119160" cy="95040"/>
              </a:xfrm>
            </p:grpSpPr>
            <p:grpSp>
              <p:nvGrpSpPr>
                <p:cNvPr id="289" name=""/>
                <p:cNvGrpSpPr/>
                <p:nvPr/>
              </p:nvGrpSpPr>
              <p:grpSpPr>
                <a:xfrm>
                  <a:off x="4783320" y="2196720"/>
                  <a:ext cx="47160" cy="37800"/>
                  <a:chOff x="4783320" y="2196720"/>
                  <a:chExt cx="47160" cy="378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flipH="1" rot="10813800">
                    <a:off x="4783320" y="21967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10813800">
                    <a:off x="4785840" y="21967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4778280" y="2167920"/>
                  <a:ext cx="119160" cy="95040"/>
                  <a:chOff x="4778280" y="2167920"/>
                  <a:chExt cx="119160" cy="9504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flipH="1" flipV="1" rot="10813800">
                    <a:off x="4777920" y="21679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V="1" rot="10813800">
                    <a:off x="4785480" y="21679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4466160" y="2163960"/>
                <a:ext cx="119160" cy="95040"/>
                <a:chOff x="4466160" y="2163960"/>
                <a:chExt cx="119160" cy="95040"/>
              </a:xfrm>
            </p:grpSpPr>
            <p:sp>
              <p:nvSpPr>
                <p:cNvPr id="296" name=""/>
                <p:cNvSpPr/>
                <p:nvPr/>
              </p:nvSpPr>
              <p:spPr>
                <a:xfrm flipH="1" flipV="1" rot="10813800">
                  <a:off x="4465800" y="216396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 rot="10813800">
                  <a:off x="4473360" y="216396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 flipV="1">
              <a:off x="5080320" y="2152800"/>
              <a:ext cx="14580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45400" y="2063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811040" y="3455640"/>
            <a:ext cx="2882880" cy="1576080"/>
            <a:chOff x="4811040" y="3455640"/>
            <a:chExt cx="2882880" cy="1576080"/>
          </a:xfrm>
        </p:grpSpPr>
        <p:sp>
          <p:nvSpPr>
            <p:cNvPr id="301" name=""/>
            <p:cNvSpPr/>
            <p:nvPr/>
          </p:nvSpPr>
          <p:spPr>
            <a:xfrm flipV="1">
              <a:off x="7514640" y="345564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11040" y="4304520"/>
              <a:ext cx="1274040" cy="72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30800" y="4348800"/>
              <a:ext cx="76392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019120" y="435204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904640" y="4350600"/>
              <a:ext cx="109080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380560" y="4274280"/>
              <a:ext cx="618840" cy="105120"/>
              <a:chOff x="5380560" y="4274280"/>
              <a:chExt cx="618840" cy="10512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630400" y="4280400"/>
                <a:ext cx="119160" cy="95760"/>
                <a:chOff x="5630400" y="4280400"/>
                <a:chExt cx="119160" cy="9576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5635440" y="4308480"/>
                  <a:ext cx="47160" cy="38520"/>
                  <a:chOff x="5635440" y="4308480"/>
                  <a:chExt cx="47160" cy="385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flipH="1" rot="10813800">
                    <a:off x="5635440" y="43084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10813800">
                    <a:off x="5637960" y="43084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5630400" y="4280400"/>
                  <a:ext cx="119160" cy="95760"/>
                  <a:chOff x="5630400" y="4280400"/>
                  <a:chExt cx="119160" cy="957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flipV="1" rot="10813800">
                    <a:off x="5630040" y="42804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V="1" rot="10813800">
                    <a:off x="5637600" y="42804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"/>
              <p:cNvGrpSpPr/>
              <p:nvPr/>
            </p:nvGrpSpPr>
            <p:grpSpPr>
              <a:xfrm>
                <a:off x="5567760" y="4277520"/>
                <a:ext cx="119160" cy="95760"/>
                <a:chOff x="5567760" y="4277520"/>
                <a:chExt cx="119160" cy="9576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572800" y="4305960"/>
                  <a:ext cx="47160" cy="38520"/>
                  <a:chOff x="5572800" y="4305960"/>
                  <a:chExt cx="47160" cy="3852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H="1" rot="10813800">
                    <a:off x="5572800" y="43059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10813800">
                    <a:off x="5575320" y="43059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567760" y="4277520"/>
                  <a:ext cx="119160" cy="95760"/>
                  <a:chOff x="5567760" y="4277520"/>
                  <a:chExt cx="119160" cy="957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flipH="1" flipV="1" rot="10813800">
                    <a:off x="5567400" y="42775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V="1" rot="10813800">
                    <a:off x="5574960" y="42775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1" name=""/>
              <p:cNvGrpSpPr/>
              <p:nvPr/>
            </p:nvGrpSpPr>
            <p:grpSpPr>
              <a:xfrm>
                <a:off x="5505480" y="4277160"/>
                <a:ext cx="119160" cy="95760"/>
                <a:chOff x="5505480" y="4277160"/>
                <a:chExt cx="119160" cy="9576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5510520" y="4305600"/>
                  <a:ext cx="47160" cy="38520"/>
                  <a:chOff x="5510520" y="4305600"/>
                  <a:chExt cx="47160" cy="3852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H="1" rot="10813800">
                    <a:off x="5510520" y="43056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0813800">
                    <a:off x="5513040" y="43056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5505480" y="4277160"/>
                  <a:ext cx="119160" cy="95760"/>
                  <a:chOff x="5505480" y="4277160"/>
                  <a:chExt cx="119160" cy="957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H="1" flipV="1" rot="10813800">
                    <a:off x="5505120" y="42771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V="1" rot="10813800">
                    <a:off x="5512680" y="42771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"/>
              <p:cNvGrpSpPr/>
              <p:nvPr/>
            </p:nvGrpSpPr>
            <p:grpSpPr>
              <a:xfrm>
                <a:off x="5442840" y="4274280"/>
                <a:ext cx="119160" cy="96120"/>
                <a:chOff x="5442840" y="4274280"/>
                <a:chExt cx="119160" cy="961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5447880" y="4302720"/>
                  <a:ext cx="47160" cy="38520"/>
                  <a:chOff x="5447880" y="4302720"/>
                  <a:chExt cx="47160" cy="3852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10813800">
                    <a:off x="5447880" y="430272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10813800">
                    <a:off x="5450400" y="430272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5442840" y="4274280"/>
                  <a:ext cx="119160" cy="96120"/>
                  <a:chOff x="5442840" y="4274280"/>
                  <a:chExt cx="119160" cy="961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flipV="1" rot="10813800">
                    <a:off x="5442480" y="42742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V="1" rot="10813800">
                    <a:off x="5450040" y="42746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5880240" y="4283640"/>
                <a:ext cx="119160" cy="95760"/>
                <a:chOff x="5880240" y="4283640"/>
                <a:chExt cx="119160" cy="9576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885280" y="4312080"/>
                  <a:ext cx="47160" cy="38520"/>
                  <a:chOff x="5885280" y="4312080"/>
                  <a:chExt cx="47160" cy="3852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rot="10813800">
                    <a:off x="5885280" y="43120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10813800">
                    <a:off x="5887800" y="43120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5880240" y="4283640"/>
                  <a:ext cx="119160" cy="95760"/>
                  <a:chOff x="5880240" y="4283640"/>
                  <a:chExt cx="119160" cy="957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flipV="1" rot="10813800">
                    <a:off x="5879880" y="42836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V="1" rot="10813800">
                    <a:off x="5887440" y="42836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2" name=""/>
              <p:cNvGrpSpPr/>
              <p:nvPr/>
            </p:nvGrpSpPr>
            <p:grpSpPr>
              <a:xfrm>
                <a:off x="5817960" y="4281120"/>
                <a:ext cx="119160" cy="95760"/>
                <a:chOff x="5817960" y="4281120"/>
                <a:chExt cx="119160" cy="957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5823000" y="4309200"/>
                  <a:ext cx="47160" cy="38880"/>
                  <a:chOff x="5823000" y="4309200"/>
                  <a:chExt cx="47160" cy="388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flipH="1" rot="10813800">
                    <a:off x="5823000" y="43092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10813800">
                    <a:off x="5825520" y="43095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5817960" y="4281120"/>
                  <a:ext cx="119160" cy="95760"/>
                  <a:chOff x="5817960" y="4281120"/>
                  <a:chExt cx="119160" cy="9576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flipV="1" rot="10813800">
                    <a:off x="5817600" y="42811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 rot="10813800">
                    <a:off x="5825160" y="42811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"/>
              <p:cNvGrpSpPr/>
              <p:nvPr/>
            </p:nvGrpSpPr>
            <p:grpSpPr>
              <a:xfrm>
                <a:off x="5755320" y="4280760"/>
                <a:ext cx="119160" cy="95760"/>
                <a:chOff x="5755320" y="4280760"/>
                <a:chExt cx="119160" cy="95760"/>
              </a:xfrm>
            </p:grpSpPr>
            <p:grpSp>
              <p:nvGrpSpPr>
                <p:cNvPr id="350" name=""/>
                <p:cNvGrpSpPr/>
                <p:nvPr/>
              </p:nvGrpSpPr>
              <p:grpSpPr>
                <a:xfrm>
                  <a:off x="5760360" y="4309200"/>
                  <a:ext cx="47160" cy="38520"/>
                  <a:chOff x="5760360" y="4309200"/>
                  <a:chExt cx="47160" cy="385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rot="10813800">
                    <a:off x="5760360" y="43092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0813800">
                    <a:off x="5762880" y="43092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5755320" y="4280760"/>
                  <a:ext cx="119160" cy="95760"/>
                  <a:chOff x="5755320" y="4280760"/>
                  <a:chExt cx="119160" cy="957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flipH="1" flipV="1" rot="10813800">
                    <a:off x="5754960" y="42807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 rot="10813800">
                    <a:off x="5762520" y="42807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6" name=""/>
              <p:cNvGrpSpPr/>
              <p:nvPr/>
            </p:nvGrpSpPr>
            <p:grpSpPr>
              <a:xfrm>
                <a:off x="5692680" y="4277880"/>
                <a:ext cx="119160" cy="95760"/>
                <a:chOff x="5692680" y="4277880"/>
                <a:chExt cx="119160" cy="9576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5697720" y="4306320"/>
                  <a:ext cx="47160" cy="38520"/>
                  <a:chOff x="5697720" y="4306320"/>
                  <a:chExt cx="47160" cy="385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10813800">
                    <a:off x="5697720" y="430632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rot="10813800">
                    <a:off x="5700240" y="430632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5692680" y="4277880"/>
                  <a:ext cx="119160" cy="95760"/>
                  <a:chOff x="5692680" y="4277880"/>
                  <a:chExt cx="119160" cy="9576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flipV="1" rot="10813800">
                    <a:off x="5692320" y="42778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 rot="10813800">
                    <a:off x="5699880" y="42778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5380560" y="4274280"/>
                <a:ext cx="119160" cy="95760"/>
                <a:chOff x="5380560" y="4274280"/>
                <a:chExt cx="119160" cy="95760"/>
              </a:xfrm>
            </p:grpSpPr>
            <p:sp>
              <p:nvSpPr>
                <p:cNvPr id="364" name=""/>
                <p:cNvSpPr/>
                <p:nvPr/>
              </p:nvSpPr>
              <p:spPr>
                <a:xfrm flipH="1" flipV="1" rot="10813800">
                  <a:off x="5380200" y="427428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 rot="10813800">
                  <a:off x="5387760" y="427428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 flipV="1">
              <a:off x="5994720" y="4262760"/>
              <a:ext cx="14580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104160" y="352548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51880" y="41799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201200" y="1884240"/>
            <a:ext cx="2882880" cy="1699560"/>
            <a:chOff x="4201200" y="1884240"/>
            <a:chExt cx="2882880" cy="1699560"/>
          </a:xfrm>
        </p:grpSpPr>
        <p:sp>
          <p:nvSpPr>
            <p:cNvPr id="370" name=""/>
            <p:cNvSpPr/>
            <p:nvPr/>
          </p:nvSpPr>
          <p:spPr>
            <a:xfrm flipV="1">
              <a:off x="6904800" y="200772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201200" y="2856960"/>
              <a:ext cx="1274040" cy="72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620600" y="2901240"/>
              <a:ext cx="76356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409280" y="290448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294080" y="2902680"/>
              <a:ext cx="109116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770720" y="2826000"/>
              <a:ext cx="618840" cy="104760"/>
              <a:chOff x="4770720" y="2826000"/>
              <a:chExt cx="618840" cy="1047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5020560" y="2832480"/>
                <a:ext cx="119160" cy="95040"/>
                <a:chOff x="5020560" y="2832480"/>
                <a:chExt cx="119160" cy="9504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5025600" y="2860920"/>
                  <a:ext cx="47160" cy="37800"/>
                  <a:chOff x="5025600" y="2860920"/>
                  <a:chExt cx="47160" cy="378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10813800">
                    <a:off x="5025600" y="28609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10813800">
                    <a:off x="5028120" y="28609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5020560" y="2832480"/>
                  <a:ext cx="119160" cy="95040"/>
                  <a:chOff x="5020560" y="2832480"/>
                  <a:chExt cx="119160" cy="9504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flipV="1" rot="10813800">
                    <a:off x="5020200" y="28324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V="1" rot="10813800">
                    <a:off x="5027760" y="28324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"/>
              <p:cNvGrpSpPr/>
              <p:nvPr/>
            </p:nvGrpSpPr>
            <p:grpSpPr>
              <a:xfrm>
                <a:off x="4957920" y="2829600"/>
                <a:ext cx="119160" cy="95040"/>
                <a:chOff x="4957920" y="2829600"/>
                <a:chExt cx="119160" cy="9504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4962960" y="2858400"/>
                  <a:ext cx="47160" cy="37800"/>
                  <a:chOff x="4962960" y="2858400"/>
                  <a:chExt cx="47160" cy="37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flipH="1" rot="10813800">
                    <a:off x="4962960" y="2858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0813800">
                    <a:off x="4965480" y="2858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4957920" y="2829600"/>
                  <a:ext cx="119160" cy="95040"/>
                  <a:chOff x="4957920" y="2829600"/>
                  <a:chExt cx="119160" cy="9504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flipH="1" flipV="1" rot="10813800">
                    <a:off x="4957560" y="28296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V="1" rot="10813800">
                    <a:off x="4965120" y="28296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4895640" y="2829240"/>
                <a:ext cx="119160" cy="95040"/>
                <a:chOff x="4895640" y="2829240"/>
                <a:chExt cx="119160" cy="9504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4900680" y="2858040"/>
                  <a:ext cx="47160" cy="37800"/>
                  <a:chOff x="4900680" y="2858040"/>
                  <a:chExt cx="47160" cy="3780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H="1" rot="10813800">
                    <a:off x="4900680" y="28580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0813800">
                    <a:off x="4903200" y="28580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4895640" y="2829240"/>
                  <a:ext cx="119160" cy="95040"/>
                  <a:chOff x="4895640" y="2829240"/>
                  <a:chExt cx="119160" cy="9504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H="1" flipV="1" rot="10813800">
                    <a:off x="4895280" y="28292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V="1" rot="10813800">
                    <a:off x="4902840" y="28292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4833000" y="2826360"/>
                <a:ext cx="119160" cy="95400"/>
                <a:chOff x="4833000" y="2826360"/>
                <a:chExt cx="119160" cy="9540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4838040" y="2855160"/>
                  <a:ext cx="47160" cy="37800"/>
                  <a:chOff x="4838040" y="2855160"/>
                  <a:chExt cx="47160" cy="378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0813800">
                    <a:off x="4838040" y="28551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10813800">
                    <a:off x="4840560" y="28551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4833000" y="2826360"/>
                  <a:ext cx="119160" cy="95400"/>
                  <a:chOff x="4833000" y="2826360"/>
                  <a:chExt cx="119160" cy="954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flipV="1" rot="10813800">
                    <a:off x="4832640" y="28263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V="1" rot="10813800">
                    <a:off x="4840200" y="2826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4" name=""/>
              <p:cNvGrpSpPr/>
              <p:nvPr/>
            </p:nvGrpSpPr>
            <p:grpSpPr>
              <a:xfrm>
                <a:off x="5270400" y="2835720"/>
                <a:ext cx="119160" cy="95040"/>
                <a:chOff x="5270400" y="2835720"/>
                <a:chExt cx="119160" cy="9504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5275440" y="2864520"/>
                  <a:ext cx="47160" cy="37800"/>
                  <a:chOff x="5275440" y="2864520"/>
                  <a:chExt cx="47160" cy="378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 rot="10813800">
                    <a:off x="5275440" y="28645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rot="10813800">
                    <a:off x="5277960" y="28645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5270400" y="2835720"/>
                  <a:ext cx="119160" cy="95040"/>
                  <a:chOff x="5270400" y="2835720"/>
                  <a:chExt cx="119160" cy="950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H="1" flipV="1" rot="10813800">
                    <a:off x="5270040" y="2835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V="1" rot="10813800">
                    <a:off x="5277600" y="2835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5208120" y="2833200"/>
                <a:ext cx="119160" cy="95040"/>
                <a:chOff x="5208120" y="2833200"/>
                <a:chExt cx="119160" cy="9504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5213160" y="2861640"/>
                  <a:ext cx="47160" cy="38160"/>
                  <a:chOff x="5213160" y="2861640"/>
                  <a:chExt cx="47160" cy="381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H="1" rot="10813800">
                    <a:off x="5213160" y="2861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0813800">
                    <a:off x="5215680" y="2862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5208120" y="2833200"/>
                  <a:ext cx="119160" cy="95040"/>
                  <a:chOff x="5208120" y="2833200"/>
                  <a:chExt cx="119160" cy="950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flipV="1" rot="10813800">
                    <a:off x="5207760" y="2833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V="1" rot="10813800">
                    <a:off x="5215320" y="2833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5145480" y="2832840"/>
                <a:ext cx="119160" cy="95040"/>
                <a:chOff x="5145480" y="2832840"/>
                <a:chExt cx="119160" cy="95040"/>
              </a:xfrm>
            </p:grpSpPr>
            <p:grpSp>
              <p:nvGrpSpPr>
                <p:cNvPr id="419" name=""/>
                <p:cNvGrpSpPr/>
                <p:nvPr/>
              </p:nvGrpSpPr>
              <p:grpSpPr>
                <a:xfrm>
                  <a:off x="5150520" y="2861640"/>
                  <a:ext cx="47160" cy="37800"/>
                  <a:chOff x="5150520" y="2861640"/>
                  <a:chExt cx="47160" cy="378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H="1" rot="10813800">
                    <a:off x="5150520" y="2861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10813800">
                    <a:off x="5153040" y="2861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5145480" y="2832840"/>
                  <a:ext cx="119160" cy="95040"/>
                  <a:chOff x="5145480" y="2832840"/>
                  <a:chExt cx="119160" cy="9504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H="1" flipV="1" rot="10813800">
                    <a:off x="5145120" y="28328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 rot="10813800">
                    <a:off x="5152680" y="28328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5082840" y="2829960"/>
                <a:ext cx="119160" cy="95040"/>
                <a:chOff x="5082840" y="2829960"/>
                <a:chExt cx="119160" cy="9504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5087880" y="2858760"/>
                  <a:ext cx="47160" cy="37800"/>
                  <a:chOff x="5087880" y="2858760"/>
                  <a:chExt cx="47160" cy="378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flipH="1" rot="10813800">
                    <a:off x="5087880" y="28587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10813800">
                    <a:off x="5090400" y="28587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5082840" y="2829960"/>
                  <a:ext cx="119160" cy="95040"/>
                  <a:chOff x="5082840" y="2829960"/>
                  <a:chExt cx="119160" cy="950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H="1" flipV="1" rot="10813800">
                    <a:off x="5082480" y="28299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 rot="10813800">
                    <a:off x="5090040" y="28299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4770720" y="2826000"/>
                <a:ext cx="119160" cy="95040"/>
                <a:chOff x="4770720" y="2826000"/>
                <a:chExt cx="119160" cy="95040"/>
              </a:xfrm>
            </p:grpSpPr>
            <p:sp>
              <p:nvSpPr>
                <p:cNvPr id="433" name=""/>
                <p:cNvSpPr/>
                <p:nvPr/>
              </p:nvSpPr>
              <p:spPr>
                <a:xfrm flipH="1" flipV="1" rot="10813800">
                  <a:off x="4770360" y="282600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 rot="10813800">
                  <a:off x="4777920" y="282600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5" name=""/>
            <p:cNvSpPr/>
            <p:nvPr/>
          </p:nvSpPr>
          <p:spPr>
            <a:xfrm flipV="1">
              <a:off x="5384520" y="2815200"/>
              <a:ext cx="14616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493960" y="207756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41680" y="27320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5486040" y="1972800"/>
              <a:ext cx="6098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86040" y="2887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20179800">
              <a:off x="6128640" y="1918800"/>
              <a:ext cx="3812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506120" y="2758680"/>
            <a:ext cx="2912760" cy="1587240"/>
            <a:chOff x="4506120" y="2758680"/>
            <a:chExt cx="2912760" cy="1587240"/>
          </a:xfrm>
        </p:grpSpPr>
        <p:sp>
          <p:nvSpPr>
            <p:cNvPr id="442" name=""/>
            <p:cNvSpPr/>
            <p:nvPr/>
          </p:nvSpPr>
          <p:spPr>
            <a:xfrm flipV="1">
              <a:off x="7239600" y="275868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506120" y="3618720"/>
              <a:ext cx="1274040" cy="72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4925520" y="3663000"/>
              <a:ext cx="76356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4714200" y="366624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599360" y="3664800"/>
              <a:ext cx="109080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5075640" y="3588480"/>
              <a:ext cx="618840" cy="105120"/>
              <a:chOff x="5075640" y="3588480"/>
              <a:chExt cx="618840" cy="1051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5325480" y="3594600"/>
                <a:ext cx="119160" cy="95760"/>
                <a:chOff x="5325480" y="3594600"/>
                <a:chExt cx="119160" cy="95760"/>
              </a:xfrm>
            </p:grpSpPr>
            <p:grpSp>
              <p:nvGrpSpPr>
                <p:cNvPr id="449" name=""/>
                <p:cNvGrpSpPr/>
                <p:nvPr/>
              </p:nvGrpSpPr>
              <p:grpSpPr>
                <a:xfrm>
                  <a:off x="5330520" y="3622680"/>
                  <a:ext cx="47160" cy="38520"/>
                  <a:chOff x="5330520" y="3622680"/>
                  <a:chExt cx="47160" cy="385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10813800">
                    <a:off x="5330520" y="36226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10813800">
                    <a:off x="5333040" y="36226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325480" y="3594600"/>
                  <a:ext cx="119160" cy="95760"/>
                  <a:chOff x="5325480" y="3594600"/>
                  <a:chExt cx="119160" cy="95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flipV="1" rot="10813800">
                    <a:off x="5325120" y="35946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 rot="10813800">
                    <a:off x="5332680" y="35946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5262840" y="3591720"/>
                <a:ext cx="119160" cy="95760"/>
                <a:chOff x="5262840" y="3591720"/>
                <a:chExt cx="119160" cy="957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5267880" y="3620160"/>
                  <a:ext cx="47160" cy="38520"/>
                  <a:chOff x="5267880" y="3620160"/>
                  <a:chExt cx="47160" cy="3852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flipH="1" rot="10813800">
                    <a:off x="5267880" y="36201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0813800">
                    <a:off x="5270400" y="36201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5262840" y="3591720"/>
                  <a:ext cx="119160" cy="95760"/>
                  <a:chOff x="5262840" y="3591720"/>
                  <a:chExt cx="119160" cy="9576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H="1" flipV="1" rot="10813800">
                    <a:off x="5262480" y="35917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V="1" rot="10813800">
                    <a:off x="5270040" y="35917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5200560" y="3591360"/>
                <a:ext cx="119160" cy="95760"/>
                <a:chOff x="5200560" y="3591360"/>
                <a:chExt cx="119160" cy="9576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5205600" y="3619800"/>
                  <a:ext cx="47160" cy="38520"/>
                  <a:chOff x="5205600" y="3619800"/>
                  <a:chExt cx="47160" cy="38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flipH="1" rot="10813800">
                    <a:off x="5205600" y="36198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10813800">
                    <a:off x="5208120" y="36198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5200560" y="3591360"/>
                  <a:ext cx="119160" cy="95760"/>
                  <a:chOff x="5200560" y="3591360"/>
                  <a:chExt cx="119160" cy="9576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H="1" flipV="1" rot="10813800">
                    <a:off x="5200200" y="35913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V="1" rot="10813800">
                    <a:off x="5207760" y="35913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5137920" y="3588480"/>
                <a:ext cx="119160" cy="96120"/>
                <a:chOff x="5137920" y="3588480"/>
                <a:chExt cx="119160" cy="9612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5142960" y="3616920"/>
                  <a:ext cx="47160" cy="38520"/>
                  <a:chOff x="5142960" y="3616920"/>
                  <a:chExt cx="47160" cy="385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 rot="10813800">
                    <a:off x="5142960" y="361692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10813800">
                    <a:off x="5145480" y="361692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137920" y="3588480"/>
                  <a:ext cx="119160" cy="96120"/>
                  <a:chOff x="5137920" y="3588480"/>
                  <a:chExt cx="119160" cy="961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flipV="1" rot="10813800">
                    <a:off x="5137560" y="35884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V="1" rot="10813800">
                    <a:off x="5145120" y="35888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5575320" y="3597840"/>
                <a:ext cx="119160" cy="95760"/>
                <a:chOff x="5575320" y="3597840"/>
                <a:chExt cx="119160" cy="9576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5580360" y="3626280"/>
                  <a:ext cx="47160" cy="38520"/>
                  <a:chOff x="5580360" y="3626280"/>
                  <a:chExt cx="47160" cy="3852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flipH="1" rot="10813800">
                    <a:off x="5580360" y="36262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0813800">
                    <a:off x="5582880" y="36262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5575320" y="3597840"/>
                  <a:ext cx="119160" cy="95760"/>
                  <a:chOff x="5575320" y="3597840"/>
                  <a:chExt cx="119160" cy="9576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H="1" flipV="1" rot="10813800">
                    <a:off x="5574960" y="35978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 rot="10813800">
                    <a:off x="5582520" y="35978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3" name=""/>
              <p:cNvGrpSpPr/>
              <p:nvPr/>
            </p:nvGrpSpPr>
            <p:grpSpPr>
              <a:xfrm>
                <a:off x="5513040" y="3595320"/>
                <a:ext cx="119160" cy="95760"/>
                <a:chOff x="5513040" y="3595320"/>
                <a:chExt cx="119160" cy="9576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5518080" y="3623400"/>
                  <a:ext cx="47160" cy="38880"/>
                  <a:chOff x="5518080" y="3623400"/>
                  <a:chExt cx="47160" cy="388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0813800">
                    <a:off x="5518080" y="36234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0813800">
                    <a:off x="5520600" y="36237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5513040" y="3595320"/>
                  <a:ext cx="119160" cy="95760"/>
                  <a:chOff x="5513040" y="3595320"/>
                  <a:chExt cx="119160" cy="9576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H="1" flipV="1" rot="10813800">
                    <a:off x="5512680" y="35953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V="1" rot="10813800">
                    <a:off x="5520240" y="35953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0" name=""/>
              <p:cNvGrpSpPr/>
              <p:nvPr/>
            </p:nvGrpSpPr>
            <p:grpSpPr>
              <a:xfrm>
                <a:off x="5450400" y="3594960"/>
                <a:ext cx="119160" cy="95760"/>
                <a:chOff x="5450400" y="3594960"/>
                <a:chExt cx="119160" cy="9576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5455440" y="3623400"/>
                  <a:ext cx="47160" cy="38520"/>
                  <a:chOff x="5455440" y="3623400"/>
                  <a:chExt cx="47160" cy="385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flipH="1" rot="10813800">
                    <a:off x="5455440" y="36234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10813800">
                    <a:off x="5457960" y="36234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5450400" y="3594960"/>
                  <a:ext cx="119160" cy="95760"/>
                  <a:chOff x="5450400" y="3594960"/>
                  <a:chExt cx="119160" cy="9576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flipH="1" flipV="1" rot="10813800">
                    <a:off x="5450040" y="35949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V="1" rot="10813800">
                    <a:off x="5457600" y="35949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7" name=""/>
              <p:cNvGrpSpPr/>
              <p:nvPr/>
            </p:nvGrpSpPr>
            <p:grpSpPr>
              <a:xfrm>
                <a:off x="5387760" y="3592080"/>
                <a:ext cx="119160" cy="95760"/>
                <a:chOff x="5387760" y="3592080"/>
                <a:chExt cx="119160" cy="95760"/>
              </a:xfrm>
            </p:grpSpPr>
            <p:grpSp>
              <p:nvGrpSpPr>
                <p:cNvPr id="498" name=""/>
                <p:cNvGrpSpPr/>
                <p:nvPr/>
              </p:nvGrpSpPr>
              <p:grpSpPr>
                <a:xfrm>
                  <a:off x="5392800" y="3620520"/>
                  <a:ext cx="47160" cy="38520"/>
                  <a:chOff x="5392800" y="3620520"/>
                  <a:chExt cx="47160" cy="385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flipH="1" rot="10813800">
                    <a:off x="5392800" y="362052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0813800">
                    <a:off x="5395320" y="362052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5387760" y="3592080"/>
                  <a:ext cx="119160" cy="95760"/>
                  <a:chOff x="5387760" y="3592080"/>
                  <a:chExt cx="119160" cy="9576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flipH="1" flipV="1" rot="10813800">
                    <a:off x="5387400" y="35920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 rot="10813800">
                    <a:off x="5394960" y="35920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4" name=""/>
              <p:cNvGrpSpPr/>
              <p:nvPr/>
            </p:nvGrpSpPr>
            <p:grpSpPr>
              <a:xfrm>
                <a:off x="5075640" y="3588480"/>
                <a:ext cx="119160" cy="95760"/>
                <a:chOff x="5075640" y="3588480"/>
                <a:chExt cx="119160" cy="95760"/>
              </a:xfrm>
            </p:grpSpPr>
            <p:sp>
              <p:nvSpPr>
                <p:cNvPr id="505" name=""/>
                <p:cNvSpPr/>
                <p:nvPr/>
              </p:nvSpPr>
              <p:spPr>
                <a:xfrm flipH="1" flipV="1" rot="10813800">
                  <a:off x="5075280" y="358848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 rot="10813800">
                  <a:off x="5082840" y="358848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5689440" y="3576960"/>
              <a:ext cx="14616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829120" y="282852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46600" y="34941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790960" y="333324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790960" y="3029040"/>
              <a:ext cx="76212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0198400">
              <a:off x="6553080" y="3028680"/>
              <a:ext cx="1522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 rot="19919400">
            <a:off x="7061400" y="345888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dron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9919400">
            <a:off x="6632280" y="272376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(small R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19919400">
            <a:off x="6422400" y="189072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(large R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19919400">
            <a:off x="6215400" y="127440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ma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7010280" y="819000"/>
            <a:ext cx="1447920" cy="2743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9980000">
            <a:off x="4798440" y="609840"/>
            <a:ext cx="24177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loser and clos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initial parton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9969200">
            <a:off x="6330240" y="4096080"/>
            <a:ext cx="27075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re and more surface 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iven by energy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2760" y="152280"/>
            <a:ext cx="24177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Jet,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- had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arisons 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e most importan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1440" y="2657520"/>
            <a:ext cx="533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et/multi-parti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rrela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ith 7TeV p+p at LHC-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reference for LHC A+A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high-multiplicity p+p ev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ith 200GeV Au+Au at RHIC-PHE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4267080" y="457200"/>
            <a:ext cx="4343400" cy="2867040"/>
            <a:chOff x="4267080" y="457200"/>
            <a:chExt cx="4343400" cy="28670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267080" y="533520"/>
              <a:ext cx="4343400" cy="27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267080" y="1905120"/>
              <a:ext cx="42674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477120" y="533520"/>
              <a:ext cx="0" cy="274320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98040" y="45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5840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20120" y="91440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24280" y="289548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715000" y="198072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162920" y="14479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07520" y="2819520"/>
              <a:ext cx="1686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deward flow (v</a:t>
              </a:r>
              <a:r>
                <a:rPr b="1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6858000" y="1676520"/>
              <a:ext cx="152280" cy="12189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5790960" y="2133720"/>
              <a:ext cx="1066680" cy="7617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23840" y="263520"/>
            <a:ext cx="3954960" cy="3107880"/>
            <a:chOff x="123840" y="263520"/>
            <a:chExt cx="3954960" cy="3107880"/>
          </a:xfrm>
        </p:grpSpPr>
        <p:grpSp>
          <p:nvGrpSpPr>
            <p:cNvPr id="536" name=""/>
            <p:cNvGrpSpPr/>
            <p:nvPr/>
          </p:nvGrpSpPr>
          <p:grpSpPr>
            <a:xfrm>
              <a:off x="123840" y="263520"/>
              <a:ext cx="3954960" cy="3107880"/>
              <a:chOff x="123840" y="263520"/>
              <a:chExt cx="3954960" cy="3107880"/>
            </a:xfrm>
          </p:grpSpPr>
          <p:sp>
            <p:nvSpPr>
              <p:cNvPr id="537" name=""/>
              <p:cNvSpPr/>
              <p:nvPr/>
            </p:nvSpPr>
            <p:spPr>
              <a:xfrm>
                <a:off x="2662560" y="2288520"/>
                <a:ext cx="1036080" cy="12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2998440" y="263520"/>
                <a:ext cx="560160" cy="68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267400">
                <a:off x="3194280" y="933840"/>
                <a:ext cx="407880" cy="344520"/>
              </a:xfrm>
              <a:custGeom>
                <a:avLst/>
                <a:gdLst/>
                <a:ahLst/>
                <a:rect l="l" t="t" r="r" b="b"/>
                <a:pathLst>
                  <a:path w="720" h="622">
                    <a:moveTo>
                      <a:pt x="430" y="0"/>
                    </a:moveTo>
                    <a:lnTo>
                      <a:pt x="177" y="379"/>
                    </a:lnTo>
                    <a:lnTo>
                      <a:pt x="0" y="379"/>
                    </a:lnTo>
                    <a:lnTo>
                      <a:pt x="168" y="622"/>
                    </a:lnTo>
                    <a:lnTo>
                      <a:pt x="631" y="379"/>
                    </a:lnTo>
                    <a:lnTo>
                      <a:pt x="465" y="382"/>
                    </a:lnTo>
                    <a:lnTo>
                      <a:pt x="720" y="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937080" y="1107000"/>
                <a:ext cx="839880" cy="9158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1275840" y="1150200"/>
                <a:ext cx="826920" cy="898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606320" y="1280160"/>
                <a:ext cx="2311920" cy="316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86360" y="2336040"/>
                <a:ext cx="1628280" cy="2224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467400">
                <a:off x="254520" y="1147320"/>
                <a:ext cx="3706920" cy="1981800"/>
              </a:xfrm>
              <a:prstGeom prst="parallelogram">
                <a:avLst>
                  <a:gd name="adj" fmla="val 69398"/>
                </a:avLst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123840" y="2509200"/>
                <a:ext cx="354600" cy="3873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1405440" y="1189080"/>
                <a:ext cx="1022760" cy="11131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 rot="11268000">
                <a:off x="1314720" y="2198160"/>
                <a:ext cx="291600" cy="794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1102680" y="2186640"/>
                <a:ext cx="754560" cy="8164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467400">
                <a:off x="3049920" y="234216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467400">
                <a:off x="2915280" y="3481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2392560" y="1000440"/>
                <a:ext cx="1291680" cy="1257480"/>
                <a:chOff x="2392560" y="1000440"/>
                <a:chExt cx="1291680" cy="1257480"/>
              </a:xfrm>
            </p:grpSpPr>
            <p:grpSp>
              <p:nvGrpSpPr>
                <p:cNvPr id="552" name=""/>
                <p:cNvGrpSpPr/>
                <p:nvPr/>
              </p:nvGrpSpPr>
              <p:grpSpPr>
                <a:xfrm>
                  <a:off x="2392560" y="1000440"/>
                  <a:ext cx="1291680" cy="1257480"/>
                  <a:chOff x="2392560" y="1000440"/>
                  <a:chExt cx="1291680" cy="12574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467400">
                    <a:off x="2489760" y="1072440"/>
                    <a:ext cx="112536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99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467400">
                    <a:off x="2490120" y="1071360"/>
                    <a:ext cx="1125360" cy="10918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rot="467400">
                    <a:off x="2432160" y="1513440"/>
                    <a:ext cx="1177200" cy="66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600">
                        <a:moveTo>
                          <a:pt x="43" y="123"/>
                        </a:moveTo>
                        <a:cubicBezTo>
                          <a:pt x="61" y="136"/>
                          <a:pt x="84" y="160"/>
                          <a:pt x="120" y="181"/>
                        </a:cubicBezTo>
                        <a:cubicBezTo>
                          <a:pt x="156" y="202"/>
                          <a:pt x="210" y="233"/>
                          <a:pt x="262" y="250"/>
                        </a:cubicBezTo>
                        <a:cubicBezTo>
                          <a:pt x="314" y="267"/>
                          <a:pt x="370" y="279"/>
                          <a:pt x="432" y="280"/>
                        </a:cubicBezTo>
                        <a:cubicBezTo>
                          <a:pt x="494" y="281"/>
                          <a:pt x="573" y="272"/>
                          <a:pt x="634" y="259"/>
                        </a:cubicBezTo>
                        <a:cubicBezTo>
                          <a:pt x="695" y="246"/>
                          <a:pt x="749" y="229"/>
                          <a:pt x="799" y="201"/>
                        </a:cubicBezTo>
                        <a:cubicBezTo>
                          <a:pt x="849" y="173"/>
                          <a:pt x="899" y="122"/>
                          <a:pt x="937" y="90"/>
                        </a:cubicBezTo>
                        <a:cubicBezTo>
                          <a:pt x="975" y="58"/>
                          <a:pt x="1012" y="0"/>
                          <a:pt x="1026" y="9"/>
                        </a:cubicBezTo>
                        <a:cubicBezTo>
                          <a:pt x="1021" y="13"/>
                          <a:pt x="1025" y="101"/>
                          <a:pt x="1019" y="144"/>
                        </a:cubicBezTo>
                        <a:cubicBezTo>
                          <a:pt x="1013" y="187"/>
                          <a:pt x="1007" y="227"/>
                          <a:pt x="992" y="267"/>
                        </a:cubicBezTo>
                        <a:cubicBezTo>
                          <a:pt x="978" y="307"/>
                          <a:pt x="952" y="351"/>
                          <a:pt x="929" y="384"/>
                        </a:cubicBezTo>
                        <a:cubicBezTo>
                          <a:pt x="907" y="417"/>
                          <a:pt x="886" y="440"/>
                          <a:pt x="857" y="467"/>
                        </a:cubicBezTo>
                        <a:cubicBezTo>
                          <a:pt x="827" y="493"/>
                          <a:pt x="790" y="521"/>
                          <a:pt x="749" y="542"/>
                        </a:cubicBezTo>
                        <a:cubicBezTo>
                          <a:pt x="708" y="562"/>
                          <a:pt x="659" y="580"/>
                          <a:pt x="610" y="588"/>
                        </a:cubicBezTo>
                        <a:cubicBezTo>
                          <a:pt x="561" y="596"/>
                          <a:pt x="505" y="600"/>
                          <a:pt x="455" y="594"/>
                        </a:cubicBezTo>
                        <a:cubicBezTo>
                          <a:pt x="404" y="588"/>
                          <a:pt x="353" y="572"/>
                          <a:pt x="310" y="553"/>
                        </a:cubicBezTo>
                        <a:cubicBezTo>
                          <a:pt x="267" y="533"/>
                          <a:pt x="229" y="510"/>
                          <a:pt x="193" y="479"/>
                        </a:cubicBezTo>
                        <a:cubicBezTo>
                          <a:pt x="157" y="448"/>
                          <a:pt x="121" y="408"/>
                          <a:pt x="95" y="368"/>
                        </a:cubicBezTo>
                        <a:cubicBezTo>
                          <a:pt x="69" y="328"/>
                          <a:pt x="52" y="286"/>
                          <a:pt x="36" y="237"/>
                        </a:cubicBezTo>
                        <a:cubicBezTo>
                          <a:pt x="20" y="188"/>
                          <a:pt x="0" y="92"/>
                          <a:pt x="1" y="73"/>
                        </a:cubicBezTo>
                        <a:lnTo>
                          <a:pt x="43" y="123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rot="467400">
                    <a:off x="2480400" y="1542240"/>
                    <a:ext cx="112284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979" h="257">
                        <a:moveTo>
                          <a:pt x="0" y="78"/>
                        </a:moveTo>
                        <a:cubicBezTo>
                          <a:pt x="17" y="92"/>
                          <a:pt x="57" y="134"/>
                          <a:pt x="101" y="160"/>
                        </a:cubicBezTo>
                        <a:cubicBezTo>
                          <a:pt x="145" y="186"/>
                          <a:pt x="213" y="216"/>
                          <a:pt x="263" y="232"/>
                        </a:cubicBezTo>
                        <a:cubicBezTo>
                          <a:pt x="313" y="248"/>
                          <a:pt x="347" y="255"/>
                          <a:pt x="404" y="256"/>
                        </a:cubicBezTo>
                        <a:cubicBezTo>
                          <a:pt x="461" y="257"/>
                          <a:pt x="542" y="254"/>
                          <a:pt x="608" y="238"/>
                        </a:cubicBezTo>
                        <a:cubicBezTo>
                          <a:pt x="674" y="222"/>
                          <a:pt x="738" y="200"/>
                          <a:pt x="800" y="160"/>
                        </a:cubicBezTo>
                        <a:cubicBezTo>
                          <a:pt x="862" y="120"/>
                          <a:pt x="942" y="33"/>
                          <a:pt x="979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"/>
                <p:cNvSpPr/>
                <p:nvPr/>
              </p:nvSpPr>
              <p:spPr>
                <a:xfrm rot="467400">
                  <a:off x="2487240" y="1166400"/>
                  <a:ext cx="288720" cy="795600"/>
                </a:xfrm>
                <a:custGeom>
                  <a:avLst/>
                  <a:gdLst/>
                  <a:ahLst/>
                  <a:rect l="l" t="t" r="r" b="b"/>
                  <a:pathLst>
                    <a:path w="252" h="715">
                      <a:moveTo>
                        <a:pt x="84" y="643"/>
                      </a:moveTo>
                      <a:cubicBezTo>
                        <a:pt x="64" y="611"/>
                        <a:pt x="38" y="568"/>
                        <a:pt x="24" y="519"/>
                      </a:cubicBezTo>
                      <a:cubicBezTo>
                        <a:pt x="10" y="470"/>
                        <a:pt x="0" y="403"/>
                        <a:pt x="1" y="351"/>
                      </a:cubicBezTo>
                      <a:cubicBezTo>
                        <a:pt x="2" y="299"/>
                        <a:pt x="14" y="251"/>
                        <a:pt x="30" y="205"/>
                      </a:cubicBezTo>
                      <a:cubicBezTo>
                        <a:pt x="46" y="159"/>
                        <a:pt x="77" y="106"/>
                        <a:pt x="100" y="73"/>
                      </a:cubicBezTo>
                      <a:cubicBezTo>
                        <a:pt x="123" y="40"/>
                        <a:pt x="163" y="0"/>
                        <a:pt x="166" y="4"/>
                      </a:cubicBezTo>
                      <a:cubicBezTo>
                        <a:pt x="198" y="57"/>
                        <a:pt x="212" y="120"/>
                        <a:pt x="225" y="171"/>
                      </a:cubicBezTo>
                      <a:cubicBezTo>
                        <a:pt x="239" y="226"/>
                        <a:pt x="246" y="280"/>
                        <a:pt x="249" y="337"/>
                      </a:cubicBezTo>
                      <a:cubicBezTo>
                        <a:pt x="252" y="394"/>
                        <a:pt x="249" y="464"/>
                        <a:pt x="241" y="514"/>
                      </a:cubicBezTo>
                      <a:cubicBezTo>
                        <a:pt x="233" y="564"/>
                        <a:pt x="216" y="603"/>
                        <a:pt x="199" y="636"/>
                      </a:cubicBezTo>
                      <a:cubicBezTo>
                        <a:pt x="182" y="669"/>
                        <a:pt x="142" y="715"/>
                        <a:pt x="142" y="712"/>
                      </a:cubicBezTo>
                      <a:cubicBezTo>
                        <a:pt x="142" y="711"/>
                        <a:pt x="104" y="675"/>
                        <a:pt x="84" y="6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1802880" y="1094400"/>
                <a:ext cx="954000" cy="1303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116080" y="1352160"/>
                <a:ext cx="683280" cy="936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22000" y="1479600"/>
                <a:ext cx="1355760" cy="1857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2343960" y="1575720"/>
                <a:ext cx="439560" cy="4798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44520" y="1666080"/>
                <a:ext cx="2314440" cy="3168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1116000" y="1226880"/>
                <a:ext cx="1623600" cy="17683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065240" y="1861200"/>
                <a:ext cx="2314080" cy="3168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1751760" y="1567080"/>
                <a:ext cx="594000" cy="1112760"/>
                <a:chOff x="1751760" y="1567080"/>
                <a:chExt cx="594000" cy="1112760"/>
              </a:xfrm>
            </p:grpSpPr>
            <p:sp>
              <p:nvSpPr>
                <p:cNvPr id="566" name=""/>
                <p:cNvSpPr/>
                <p:nvPr/>
              </p:nvSpPr>
              <p:spPr>
                <a:xfrm rot="100200">
                  <a:off x="1767600" y="1575720"/>
                  <a:ext cx="562320" cy="109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00200">
                  <a:off x="1759680" y="2098080"/>
                  <a:ext cx="563760" cy="573480"/>
                </a:xfrm>
                <a:custGeom>
                  <a:avLst/>
                  <a:gdLst/>
                  <a:ahLst/>
                  <a:rect l="l" t="t" r="r" b="b"/>
                  <a:pathLst>
                    <a:path w="489" h="515">
                      <a:moveTo>
                        <a:pt x="13" y="46"/>
                      </a:moveTo>
                      <a:cubicBezTo>
                        <a:pt x="24" y="55"/>
                        <a:pt x="47" y="72"/>
                        <a:pt x="65" y="81"/>
                      </a:cubicBezTo>
                      <a:cubicBezTo>
                        <a:pt x="83" y="90"/>
                        <a:pt x="103" y="92"/>
                        <a:pt x="121" y="97"/>
                      </a:cubicBezTo>
                      <a:cubicBezTo>
                        <a:pt x="139" y="102"/>
                        <a:pt x="156" y="109"/>
                        <a:pt x="176" y="112"/>
                      </a:cubicBezTo>
                      <a:cubicBezTo>
                        <a:pt x="196" y="115"/>
                        <a:pt x="218" y="115"/>
                        <a:pt x="241" y="114"/>
                      </a:cubicBezTo>
                      <a:cubicBezTo>
                        <a:pt x="264" y="113"/>
                        <a:pt x="289" y="109"/>
                        <a:pt x="313" y="103"/>
                      </a:cubicBezTo>
                      <a:cubicBezTo>
                        <a:pt x="337" y="97"/>
                        <a:pt x="362" y="90"/>
                        <a:pt x="385" y="78"/>
                      </a:cubicBezTo>
                      <a:cubicBezTo>
                        <a:pt x="408" y="66"/>
                        <a:pt x="435" y="41"/>
                        <a:pt x="452" y="29"/>
                      </a:cubicBezTo>
                      <a:cubicBezTo>
                        <a:pt x="469" y="17"/>
                        <a:pt x="479" y="0"/>
                        <a:pt x="485" y="7"/>
                      </a:cubicBezTo>
                      <a:cubicBezTo>
                        <a:pt x="483" y="11"/>
                        <a:pt x="489" y="40"/>
                        <a:pt x="487" y="70"/>
                      </a:cubicBezTo>
                      <a:cubicBezTo>
                        <a:pt x="485" y="100"/>
                        <a:pt x="481" y="151"/>
                        <a:pt x="474" y="190"/>
                      </a:cubicBezTo>
                      <a:cubicBezTo>
                        <a:pt x="467" y="229"/>
                        <a:pt x="455" y="272"/>
                        <a:pt x="444" y="304"/>
                      </a:cubicBezTo>
                      <a:cubicBezTo>
                        <a:pt x="433" y="336"/>
                        <a:pt x="423" y="359"/>
                        <a:pt x="408" y="385"/>
                      </a:cubicBezTo>
                      <a:cubicBezTo>
                        <a:pt x="394" y="411"/>
                        <a:pt x="376" y="438"/>
                        <a:pt x="356" y="458"/>
                      </a:cubicBezTo>
                      <a:cubicBezTo>
                        <a:pt x="336" y="478"/>
                        <a:pt x="313" y="495"/>
                        <a:pt x="289" y="503"/>
                      </a:cubicBezTo>
                      <a:cubicBezTo>
                        <a:pt x="265" y="511"/>
                        <a:pt x="238" y="515"/>
                        <a:pt x="214" y="509"/>
                      </a:cubicBezTo>
                      <a:cubicBezTo>
                        <a:pt x="189" y="503"/>
                        <a:pt x="164" y="488"/>
                        <a:pt x="143" y="469"/>
                      </a:cubicBezTo>
                      <a:cubicBezTo>
                        <a:pt x="122" y="450"/>
                        <a:pt x="104" y="427"/>
                        <a:pt x="87" y="397"/>
                      </a:cubicBezTo>
                      <a:cubicBezTo>
                        <a:pt x="69" y="367"/>
                        <a:pt x="52" y="328"/>
                        <a:pt x="39" y="289"/>
                      </a:cubicBezTo>
                      <a:cubicBezTo>
                        <a:pt x="27" y="250"/>
                        <a:pt x="17" y="204"/>
                        <a:pt x="10" y="161"/>
                      </a:cubicBezTo>
                      <a:cubicBezTo>
                        <a:pt x="4" y="118"/>
                        <a:pt x="0" y="47"/>
                        <a:pt x="0" y="28"/>
                      </a:cubicBezTo>
                      <a:lnTo>
                        <a:pt x="13" y="4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00200">
                  <a:off x="1766160" y="2100240"/>
                  <a:ext cx="561240" cy="1224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00200">
                  <a:off x="1767600" y="1575000"/>
                  <a:ext cx="562320" cy="10929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 flipH="1">
                <a:off x="2107800" y="1793160"/>
                <a:ext cx="1217160" cy="1330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779480" y="1827720"/>
                <a:ext cx="1148040" cy="12513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131920" y="2213280"/>
                <a:ext cx="1064520" cy="145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429920" y="2209680"/>
                <a:ext cx="768600" cy="8395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676520" y="2180520"/>
                <a:ext cx="187920" cy="2059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51080" y="2124360"/>
                <a:ext cx="540000" cy="741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397440" y="1935360"/>
                <a:ext cx="1278000" cy="1257480"/>
                <a:chOff x="397440" y="1935360"/>
                <a:chExt cx="1278000" cy="1257480"/>
              </a:xfrm>
            </p:grpSpPr>
            <p:sp>
              <p:nvSpPr>
                <p:cNvPr id="577" name=""/>
                <p:cNvSpPr/>
                <p:nvPr/>
              </p:nvSpPr>
              <p:spPr>
                <a:xfrm rot="467400">
                  <a:off x="484560" y="2007720"/>
                  <a:ext cx="1122120" cy="109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467400">
                  <a:off x="482040" y="2006280"/>
                  <a:ext cx="1121760" cy="1090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rot="467400">
                  <a:off x="436680" y="2457720"/>
                  <a:ext cx="1162800" cy="659160"/>
                </a:xfrm>
                <a:custGeom>
                  <a:avLst/>
                  <a:gdLst/>
                  <a:ahLst/>
                  <a:rect l="l" t="t" r="r" b="b"/>
                  <a:pathLst>
                    <a:path w="982" h="568">
                      <a:moveTo>
                        <a:pt x="22" y="106"/>
                      </a:moveTo>
                      <a:cubicBezTo>
                        <a:pt x="39" y="120"/>
                        <a:pt x="60" y="144"/>
                        <a:pt x="100" y="166"/>
                      </a:cubicBezTo>
                      <a:cubicBezTo>
                        <a:pt x="140" y="188"/>
                        <a:pt x="212" y="222"/>
                        <a:pt x="262" y="238"/>
                      </a:cubicBezTo>
                      <a:cubicBezTo>
                        <a:pt x="312" y="254"/>
                        <a:pt x="346" y="261"/>
                        <a:pt x="403" y="262"/>
                      </a:cubicBezTo>
                      <a:cubicBezTo>
                        <a:pt x="460" y="263"/>
                        <a:pt x="546" y="257"/>
                        <a:pt x="607" y="244"/>
                      </a:cubicBezTo>
                      <a:cubicBezTo>
                        <a:pt x="668" y="231"/>
                        <a:pt x="719" y="210"/>
                        <a:pt x="769" y="183"/>
                      </a:cubicBezTo>
                      <a:cubicBezTo>
                        <a:pt x="819" y="156"/>
                        <a:pt x="872" y="111"/>
                        <a:pt x="907" y="82"/>
                      </a:cubicBezTo>
                      <a:cubicBezTo>
                        <a:pt x="942" y="53"/>
                        <a:pt x="966" y="0"/>
                        <a:pt x="978" y="7"/>
                      </a:cubicBezTo>
                      <a:cubicBezTo>
                        <a:pt x="973" y="11"/>
                        <a:pt x="982" y="84"/>
                        <a:pt x="978" y="123"/>
                      </a:cubicBezTo>
                      <a:cubicBezTo>
                        <a:pt x="974" y="162"/>
                        <a:pt x="966" y="204"/>
                        <a:pt x="952" y="243"/>
                      </a:cubicBezTo>
                      <a:cubicBezTo>
                        <a:pt x="938" y="282"/>
                        <a:pt x="913" y="325"/>
                        <a:pt x="891" y="357"/>
                      </a:cubicBezTo>
                      <a:cubicBezTo>
                        <a:pt x="869" y="389"/>
                        <a:pt x="849" y="412"/>
                        <a:pt x="820" y="438"/>
                      </a:cubicBezTo>
                      <a:cubicBezTo>
                        <a:pt x="791" y="464"/>
                        <a:pt x="755" y="491"/>
                        <a:pt x="715" y="511"/>
                      </a:cubicBezTo>
                      <a:cubicBezTo>
                        <a:pt x="675" y="531"/>
                        <a:pt x="628" y="548"/>
                        <a:pt x="580" y="556"/>
                      </a:cubicBezTo>
                      <a:cubicBezTo>
                        <a:pt x="532" y="564"/>
                        <a:pt x="478" y="568"/>
                        <a:pt x="429" y="562"/>
                      </a:cubicBezTo>
                      <a:cubicBezTo>
                        <a:pt x="380" y="556"/>
                        <a:pt x="330" y="541"/>
                        <a:pt x="288" y="522"/>
                      </a:cubicBezTo>
                      <a:cubicBezTo>
                        <a:pt x="246" y="503"/>
                        <a:pt x="209" y="480"/>
                        <a:pt x="174" y="450"/>
                      </a:cubicBezTo>
                      <a:cubicBezTo>
                        <a:pt x="139" y="420"/>
                        <a:pt x="104" y="381"/>
                        <a:pt x="79" y="342"/>
                      </a:cubicBezTo>
                      <a:cubicBezTo>
                        <a:pt x="54" y="303"/>
                        <a:pt x="34" y="257"/>
                        <a:pt x="21" y="214"/>
                      </a:cubicBezTo>
                      <a:cubicBezTo>
                        <a:pt x="8" y="171"/>
                        <a:pt x="0" y="99"/>
                        <a:pt x="0" y="81"/>
                      </a:cubicBezTo>
                      <a:lnTo>
                        <a:pt x="22" y="10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V="1" rot="11267400">
                  <a:off x="1317600" y="2195640"/>
                  <a:ext cx="289080" cy="794520"/>
                </a:xfrm>
                <a:custGeom>
                  <a:avLst/>
                  <a:gdLst/>
                  <a:ahLst/>
                  <a:rect l="l" t="t" r="r" b="b"/>
                  <a:pathLst>
                    <a:path w="252" h="715">
                      <a:moveTo>
                        <a:pt x="84" y="643"/>
                      </a:moveTo>
                      <a:cubicBezTo>
                        <a:pt x="64" y="611"/>
                        <a:pt x="38" y="568"/>
                        <a:pt x="24" y="519"/>
                      </a:cubicBezTo>
                      <a:cubicBezTo>
                        <a:pt x="10" y="470"/>
                        <a:pt x="0" y="403"/>
                        <a:pt x="1" y="351"/>
                      </a:cubicBezTo>
                      <a:cubicBezTo>
                        <a:pt x="2" y="299"/>
                        <a:pt x="14" y="251"/>
                        <a:pt x="30" y="205"/>
                      </a:cubicBezTo>
                      <a:cubicBezTo>
                        <a:pt x="46" y="159"/>
                        <a:pt x="77" y="106"/>
                        <a:pt x="100" y="73"/>
                      </a:cubicBezTo>
                      <a:cubicBezTo>
                        <a:pt x="123" y="40"/>
                        <a:pt x="163" y="0"/>
                        <a:pt x="166" y="4"/>
                      </a:cubicBezTo>
                      <a:cubicBezTo>
                        <a:pt x="198" y="57"/>
                        <a:pt x="212" y="120"/>
                        <a:pt x="225" y="171"/>
                      </a:cubicBezTo>
                      <a:cubicBezTo>
                        <a:pt x="239" y="226"/>
                        <a:pt x="246" y="280"/>
                        <a:pt x="249" y="337"/>
                      </a:cubicBezTo>
                      <a:cubicBezTo>
                        <a:pt x="252" y="394"/>
                        <a:pt x="249" y="464"/>
                        <a:pt x="241" y="514"/>
                      </a:cubicBezTo>
                      <a:cubicBezTo>
                        <a:pt x="233" y="564"/>
                        <a:pt x="216" y="603"/>
                        <a:pt x="199" y="636"/>
                      </a:cubicBezTo>
                      <a:cubicBezTo>
                        <a:pt x="182" y="669"/>
                        <a:pt x="142" y="715"/>
                        <a:pt x="142" y="712"/>
                      </a:cubicBezTo>
                      <a:cubicBezTo>
                        <a:pt x="142" y="711"/>
                        <a:pt x="104" y="675"/>
                        <a:pt x="84" y="6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467400">
                  <a:off x="1290960" y="2176920"/>
                  <a:ext cx="130320" cy="809280"/>
                </a:xfrm>
                <a:custGeom>
                  <a:avLst/>
                  <a:gdLst/>
                  <a:ahLst/>
                  <a:rect l="l" t="t" r="r" b="b"/>
                  <a:pathLst>
                    <a:path w="114" h="728">
                      <a:moveTo>
                        <a:pt x="90" y="621"/>
                      </a:moveTo>
                      <a:cubicBezTo>
                        <a:pt x="86" y="592"/>
                        <a:pt x="86" y="572"/>
                        <a:pt x="84" y="540"/>
                      </a:cubicBezTo>
                      <a:cubicBezTo>
                        <a:pt x="82" y="508"/>
                        <a:pt x="78" y="467"/>
                        <a:pt x="78" y="426"/>
                      </a:cubicBezTo>
                      <a:cubicBezTo>
                        <a:pt x="78" y="385"/>
                        <a:pt x="80" y="339"/>
                        <a:pt x="81" y="291"/>
                      </a:cubicBezTo>
                      <a:cubicBezTo>
                        <a:pt x="82" y="243"/>
                        <a:pt x="83" y="185"/>
                        <a:pt x="84" y="138"/>
                      </a:cubicBezTo>
                      <a:cubicBezTo>
                        <a:pt x="85" y="91"/>
                        <a:pt x="95" y="0"/>
                        <a:pt x="86" y="6"/>
                      </a:cubicBezTo>
                      <a:cubicBezTo>
                        <a:pt x="54" y="59"/>
                        <a:pt x="40" y="122"/>
                        <a:pt x="27" y="173"/>
                      </a:cubicBezTo>
                      <a:cubicBezTo>
                        <a:pt x="13" y="228"/>
                        <a:pt x="6" y="282"/>
                        <a:pt x="3" y="339"/>
                      </a:cubicBezTo>
                      <a:cubicBezTo>
                        <a:pt x="0" y="396"/>
                        <a:pt x="3" y="465"/>
                        <a:pt x="11" y="516"/>
                      </a:cubicBezTo>
                      <a:cubicBezTo>
                        <a:pt x="19" y="567"/>
                        <a:pt x="35" y="608"/>
                        <a:pt x="52" y="643"/>
                      </a:cubicBezTo>
                      <a:cubicBezTo>
                        <a:pt x="69" y="678"/>
                        <a:pt x="108" y="728"/>
                        <a:pt x="114" y="724"/>
                      </a:cubicBezTo>
                      <a:cubicBezTo>
                        <a:pt x="114" y="723"/>
                        <a:pt x="95" y="642"/>
                        <a:pt x="90" y="621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467400">
                  <a:off x="470520" y="2549520"/>
                  <a:ext cx="903240" cy="198000"/>
                </a:xfrm>
                <a:custGeom>
                  <a:avLst/>
                  <a:gdLst/>
                  <a:ahLst/>
                  <a:rect l="l" t="t" r="r" b="b"/>
                  <a:pathLst>
                    <a:path w="790" h="179">
                      <a:moveTo>
                        <a:pt x="0" y="0"/>
                      </a:moveTo>
                      <a:cubicBezTo>
                        <a:pt x="17" y="14"/>
                        <a:pt x="57" y="56"/>
                        <a:pt x="101" y="82"/>
                      </a:cubicBezTo>
                      <a:cubicBezTo>
                        <a:pt x="145" y="108"/>
                        <a:pt x="213" y="138"/>
                        <a:pt x="263" y="154"/>
                      </a:cubicBezTo>
                      <a:cubicBezTo>
                        <a:pt x="313" y="170"/>
                        <a:pt x="347" y="177"/>
                        <a:pt x="404" y="178"/>
                      </a:cubicBezTo>
                      <a:cubicBezTo>
                        <a:pt x="461" y="179"/>
                        <a:pt x="556" y="169"/>
                        <a:pt x="608" y="160"/>
                      </a:cubicBezTo>
                      <a:cubicBezTo>
                        <a:pt x="660" y="151"/>
                        <a:pt x="687" y="140"/>
                        <a:pt x="714" y="123"/>
                      </a:cubicBezTo>
                      <a:cubicBezTo>
                        <a:pt x="741" y="106"/>
                        <a:pt x="755" y="73"/>
                        <a:pt x="768" y="60"/>
                      </a:cubicBezTo>
                      <a:cubicBezTo>
                        <a:pt x="781" y="47"/>
                        <a:pt x="785" y="46"/>
                        <a:pt x="790" y="4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 flipH="1">
                <a:off x="1410480" y="1963440"/>
                <a:ext cx="306720" cy="3330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85640" y="2339640"/>
                <a:ext cx="1433520" cy="1958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467400">
                <a:off x="1210320" y="2843280"/>
                <a:ext cx="1452600" cy="2520"/>
              </a:xfrm>
              <a:custGeom>
                <a:avLst/>
                <a:gdLst/>
                <a:ahLst/>
                <a:rect l="l" t="t" r="r" b="b"/>
                <a:pathLst>
                  <a:path w="1266" h="3">
                    <a:moveTo>
                      <a:pt x="0" y="3"/>
                    </a:moveTo>
                    <a:lnTo>
                      <a:pt x="1266" y="0"/>
                    </a:lnTo>
                  </a:path>
                </a:pathLst>
              </a:cu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339200" y="2544480"/>
                <a:ext cx="1514520" cy="2073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1100160" y="2378520"/>
                <a:ext cx="578160" cy="631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780120" y="2767320"/>
                <a:ext cx="191160" cy="208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460800" y="2681640"/>
                <a:ext cx="224640" cy="2476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5240" y="2883960"/>
                <a:ext cx="2263320" cy="309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467400">
                <a:off x="510840" y="2740680"/>
                <a:ext cx="407880" cy="344520"/>
              </a:xfrm>
              <a:custGeom>
                <a:avLst/>
                <a:gdLst/>
                <a:ahLst/>
                <a:rect l="l" t="t" r="r" b="b"/>
                <a:pathLst>
                  <a:path w="720" h="622">
                    <a:moveTo>
                      <a:pt x="430" y="0"/>
                    </a:moveTo>
                    <a:lnTo>
                      <a:pt x="177" y="379"/>
                    </a:lnTo>
                    <a:lnTo>
                      <a:pt x="0" y="379"/>
                    </a:lnTo>
                    <a:lnTo>
                      <a:pt x="168" y="622"/>
                    </a:lnTo>
                    <a:lnTo>
                      <a:pt x="631" y="379"/>
                    </a:lnTo>
                    <a:lnTo>
                      <a:pt x="465" y="382"/>
                    </a:lnTo>
                    <a:lnTo>
                      <a:pt x="720" y="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1396800" y="1728720"/>
                <a:ext cx="1339920" cy="451080"/>
                <a:chOff x="1396800" y="1728720"/>
                <a:chExt cx="1339920" cy="451080"/>
              </a:xfrm>
            </p:grpSpPr>
            <p:sp>
              <p:nvSpPr>
                <p:cNvPr id="593" name=""/>
                <p:cNvSpPr/>
                <p:nvPr/>
              </p:nvSpPr>
              <p:spPr>
                <a:xfrm flipV="1">
                  <a:off x="2138760" y="1863000"/>
                  <a:ext cx="95760" cy="100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2286360" y="1827360"/>
                  <a:ext cx="231480" cy="141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V="1">
                  <a:off x="2365200" y="2041200"/>
                  <a:ext cx="338040" cy="385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55480" y="2152080"/>
                  <a:ext cx="381240" cy="27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flipV="1">
                  <a:off x="1573920" y="1728720"/>
                  <a:ext cx="320400" cy="1828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 flipV="1">
                  <a:off x="1445040" y="1883520"/>
                  <a:ext cx="356760" cy="1339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1396800" y="2050200"/>
                  <a:ext cx="326160" cy="500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1705320" y="2034360"/>
                  <a:ext cx="231480" cy="55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1750320" y="1900800"/>
                  <a:ext cx="200160" cy="87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969200" y="1851840"/>
                  <a:ext cx="65520" cy="97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2215440" y="1975320"/>
                  <a:ext cx="148680" cy="28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191680" y="2085120"/>
                  <a:ext cx="236520" cy="180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 flipV="1">
                  <a:off x="1910520" y="2007720"/>
                  <a:ext cx="125640" cy="565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367640" y="2228400"/>
                <a:ext cx="1307160" cy="443160"/>
                <a:chOff x="1367640" y="2228400"/>
                <a:chExt cx="1307160" cy="443160"/>
              </a:xfrm>
            </p:grpSpPr>
            <p:sp>
              <p:nvSpPr>
                <p:cNvPr id="607" name=""/>
                <p:cNvSpPr/>
                <p:nvPr/>
              </p:nvSpPr>
              <p:spPr>
                <a:xfrm flipH="1">
                  <a:off x="1827360" y="2392200"/>
                  <a:ext cx="106560" cy="1364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1553400" y="2428200"/>
                  <a:ext cx="231480" cy="1432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1367640" y="2318400"/>
                  <a:ext cx="338400" cy="38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1465200" y="2228400"/>
                  <a:ext cx="251280" cy="176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176560" y="2487600"/>
                  <a:ext cx="320400" cy="1839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269080" y="2380680"/>
                  <a:ext cx="356040" cy="1342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349000" y="2295720"/>
                  <a:ext cx="325800" cy="500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135160" y="2307600"/>
                  <a:ext cx="231120" cy="5652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120760" y="2409840"/>
                  <a:ext cx="200160" cy="882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036880" y="2448360"/>
                  <a:ext cx="65520" cy="9792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>
                  <a:off x="1706400" y="2394720"/>
                  <a:ext cx="149040" cy="291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 flipV="1">
                  <a:off x="1644120" y="2294640"/>
                  <a:ext cx="236520" cy="176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034360" y="2332800"/>
                  <a:ext cx="125640" cy="56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347400" y="2648880"/>
                <a:ext cx="379080" cy="518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52400" y="1731240"/>
                <a:ext cx="281520" cy="388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3614760" y="1336680"/>
                <a:ext cx="135720" cy="1515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 flipV="1">
              <a:off x="2057040" y="7621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3920" y="609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480000">
              <a:off x="1307520" y="2895120"/>
              <a:ext cx="197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 Plane (R.P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419720" y="3657600"/>
            <a:ext cx="4504320" cy="2393640"/>
            <a:chOff x="4419720" y="3657600"/>
            <a:chExt cx="4504320" cy="2393640"/>
          </a:xfrm>
        </p:grpSpPr>
        <p:pic>
          <p:nvPicPr>
            <p:cNvPr id="627" name="" descr=""/>
            <p:cNvPicPr/>
            <p:nvPr/>
          </p:nvPicPr>
          <p:blipFill>
            <a:blip r:embed="rId2"/>
            <a:stretch/>
          </p:blipFill>
          <p:spPr>
            <a:xfrm>
              <a:off x="4495680" y="4038480"/>
              <a:ext cx="4419720" cy="17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4419720" y="3657600"/>
              <a:ext cx="4495680" cy="68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elliptic azimuthal event anisotro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low 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high 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65360" y="5715000"/>
              <a:ext cx="185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Verdana"/>
                </a:rPr>
                <a:t>particle</a:t>
              </a:r>
              <a:r>
                <a:rPr b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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Verdana"/>
                </a:rPr>
                <a:t>R.P.</a:t>
              </a:r>
              <a:r>
                <a:rPr b="1" lang="ja-JP" sz="1400" spc="-1" strike="noStrike">
                  <a:solidFill>
                    <a:srgbClr val="000000"/>
                  </a:solidFill>
                  <a:latin typeface="Verdana"/>
                </a:rPr>
                <a:t> (ra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2200" y="5668920"/>
              <a:ext cx="123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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86400" y="411480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76320" y="3276720"/>
            <a:ext cx="4800600" cy="3018960"/>
            <a:chOff x="76320" y="3276720"/>
            <a:chExt cx="4800600" cy="3018960"/>
          </a:xfrm>
        </p:grpSpPr>
        <p:sp>
          <p:nvSpPr>
            <p:cNvPr id="633" name=""/>
            <p:cNvSpPr/>
            <p:nvPr/>
          </p:nvSpPr>
          <p:spPr>
            <a:xfrm flipV="1">
              <a:off x="1871640" y="3429000"/>
              <a:ext cx="0" cy="2819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320" y="4899240"/>
              <a:ext cx="35812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28800" y="4264200"/>
              <a:ext cx="1279440" cy="12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25680" y="4264200"/>
              <a:ext cx="1279440" cy="12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1525680" y="4410360"/>
              <a:ext cx="426960" cy="2919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1525680" y="4483080"/>
              <a:ext cx="511200" cy="3654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1525680" y="4556160"/>
              <a:ext cx="596880" cy="438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1525680" y="4629240"/>
              <a:ext cx="682560" cy="511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1611360" y="4775400"/>
              <a:ext cx="596880" cy="438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1697040" y="4921200"/>
              <a:ext cx="511200" cy="3654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781280" y="5067360"/>
              <a:ext cx="426960" cy="29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757520" y="3826080"/>
              <a:ext cx="255600" cy="5112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2700000">
              <a:off x="2298960" y="3965400"/>
              <a:ext cx="352440" cy="682560"/>
            </a:xfrm>
            <a:prstGeom prst="upArrow">
              <a:avLst>
                <a:gd name="adj1" fmla="val 50000"/>
                <a:gd name="adj2" fmla="val 4841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5400000">
              <a:off x="2517840" y="4500720"/>
              <a:ext cx="511200" cy="768240"/>
            </a:xfrm>
            <a:prstGeom prst="upArrow">
              <a:avLst>
                <a:gd name="adj1" fmla="val 50000"/>
                <a:gd name="adj2" fmla="val 375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8100000">
              <a:off x="2257560" y="5160240"/>
              <a:ext cx="412560" cy="584280"/>
            </a:xfrm>
            <a:prstGeom prst="upArrow">
              <a:avLst>
                <a:gd name="adj1" fmla="val 50000"/>
                <a:gd name="adj2" fmla="val 35406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0800000">
              <a:off x="1733400" y="5432400"/>
              <a:ext cx="255600" cy="5112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8900000">
              <a:off x="1101240" y="3971520"/>
              <a:ext cx="412920" cy="584280"/>
            </a:xfrm>
            <a:prstGeom prst="upArrow">
              <a:avLst>
                <a:gd name="adj1" fmla="val 50000"/>
                <a:gd name="adj2" fmla="val 3537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704880" y="4500720"/>
              <a:ext cx="511200" cy="768240"/>
            </a:xfrm>
            <a:prstGeom prst="upArrow">
              <a:avLst>
                <a:gd name="adj1" fmla="val 50000"/>
                <a:gd name="adj2" fmla="val 375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3500000">
              <a:off x="1081800" y="5133240"/>
              <a:ext cx="353880" cy="682560"/>
            </a:xfrm>
            <a:prstGeom prst="upArrow">
              <a:avLst>
                <a:gd name="adj1" fmla="val 50000"/>
                <a:gd name="adj2" fmla="val 4822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5484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06920" y="327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20240" y="4191120"/>
              <a:ext cx="1480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liptic flow (v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81080" y="5715000"/>
              <a:ext cx="289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itial geometry</a:t>
              </a:r>
              <a:br>
                <a:rPr sz="1600"/>
              </a:br>
              <a:r>
                <a:rPr b="1" lang="en-US" sz="1600" spc="-1" strike="noStrike">
                  <a:solidFill>
                    <a:srgbClr val="00ff00"/>
                  </a:solidFill>
                  <a:latin typeface="Arial"/>
                </a:rPr>
                <a:t>final momentum anisotr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231120" y="15084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sotropic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002480" y="46864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N/d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3809880" y="82440"/>
            <a:ext cx="5334120" cy="33861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6738840" y="76320"/>
            <a:ext cx="225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hys. Rev. Lett. 99, 052301 (2007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486400" y="3594240"/>
            <a:ext cx="3505320" cy="295884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605480" y="3594240"/>
            <a:ext cx="804600" cy="213336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5548680" y="405144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STAR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096240" y="3733920"/>
            <a:ext cx="52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M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8160" y="304920"/>
            <a:ext cx="2769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artonic coll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particle identified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" y="1413000"/>
            <a:ext cx="35053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umber of constituent quark scaling in hadron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as well as multi-strange baryon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is already established during the quark phase before the hadronization. This seems to be true even for heavy quark like char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228600" y="3643200"/>
            <a:ext cx="4267080" cy="283392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3429000" y="34434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M08: A.D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5"/>
          <a:stretch/>
        </p:blipFill>
        <p:spPr>
          <a:xfrm>
            <a:off x="7315200" y="3776760"/>
            <a:ext cx="609480" cy="490320"/>
          </a:xfrm>
          <a:prstGeom prst="rect">
            <a:avLst/>
          </a:prstGeom>
          <a:ln w="0">
            <a:noFill/>
          </a:ln>
        </p:spPr>
      </p:pic>
      <p:grpSp>
        <p:nvGrpSpPr>
          <p:cNvPr id="669" name=""/>
          <p:cNvGrpSpPr/>
          <p:nvPr/>
        </p:nvGrpSpPr>
        <p:grpSpPr>
          <a:xfrm>
            <a:off x="3428640" y="2438280"/>
            <a:ext cx="3276720" cy="2133360"/>
            <a:chOff x="3428640" y="2438280"/>
            <a:chExt cx="3276720" cy="2133360"/>
          </a:xfrm>
        </p:grpSpPr>
        <p:sp>
          <p:nvSpPr>
            <p:cNvPr id="670" name=""/>
            <p:cNvSpPr/>
            <p:nvPr/>
          </p:nvSpPr>
          <p:spPr>
            <a:xfrm>
              <a:off x="3581280" y="2590560"/>
              <a:ext cx="2971800" cy="198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24280" y="3885840"/>
              <a:ext cx="152280" cy="15264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76560" y="3657240"/>
              <a:ext cx="152640" cy="15264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47960" y="281916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38480" y="403848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62160" y="3657240"/>
              <a:ext cx="152640" cy="15264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76560" y="419076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5000" y="39621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05160" y="289548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72200" y="380988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28191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90960" y="358128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38480" y="30477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419360" y="419076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19360" y="358128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95680" y="312408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657600" y="32763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33760" y="426708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57800" y="37335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029200" y="32763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62360" y="3200040"/>
              <a:ext cx="152640" cy="15264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943600" y="3200040"/>
              <a:ext cx="152280" cy="15264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43400" y="380988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67080" y="28191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33760" y="266688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24280" y="335268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33560" y="373356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72200" y="3428640"/>
              <a:ext cx="152280" cy="15264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81480" y="39621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10080" y="2971440"/>
              <a:ext cx="152280" cy="15264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38480" y="3428640"/>
              <a:ext cx="152280" cy="15264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43600" y="2971440"/>
              <a:ext cx="152280" cy="15264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00600" y="44193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560" y="4114440"/>
              <a:ext cx="152640" cy="152640"/>
            </a:xfrm>
            <a:prstGeom prst="smileyFace">
              <a:avLst>
                <a:gd name="adj" fmla="val 92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62360" y="350496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67080" y="30477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76560" y="2742840"/>
              <a:ext cx="152640" cy="15264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76560" y="304776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90760" y="358128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47960" y="4114440"/>
              <a:ext cx="152640" cy="15264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57800" y="3200040"/>
              <a:ext cx="152280" cy="15264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47960" y="358128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86400" y="380988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19560" y="358128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15000" y="30477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62160" y="3885840"/>
              <a:ext cx="152640" cy="15264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67080" y="401292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86200" y="2971440"/>
              <a:ext cx="152280" cy="15264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05160" y="3581280"/>
              <a:ext cx="152640" cy="152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38680" y="419076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00800" y="3428640"/>
              <a:ext cx="152280" cy="15264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05160" y="4343040"/>
              <a:ext cx="152640" cy="15264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52880" y="3885840"/>
              <a:ext cx="152280" cy="15264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4038480" y="327600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114440" y="358128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267080" y="388584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572000" y="40384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4495320" y="29710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4419360" y="3276000"/>
              <a:ext cx="533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3504960" y="3657240"/>
              <a:ext cx="533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3428640" y="319968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3809880" y="27424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3961800" y="426708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4572000" y="266688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5257800" y="243828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5486400" y="26665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867280" y="274248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6248160" y="31237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410080" y="3352320"/>
              <a:ext cx="457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48160" y="3657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86400" y="365724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095880" y="380988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943600" y="396216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403848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81480" y="419076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86400" y="426708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6781680" y="2133720"/>
            <a:ext cx="2209680" cy="2666880"/>
            <a:chOff x="6781680" y="2133720"/>
            <a:chExt cx="2209680" cy="2666880"/>
          </a:xfrm>
        </p:grpSpPr>
        <p:sp>
          <p:nvSpPr>
            <p:cNvPr id="747" name=""/>
            <p:cNvSpPr/>
            <p:nvPr/>
          </p:nvSpPr>
          <p:spPr>
            <a:xfrm>
              <a:off x="6781680" y="2133720"/>
              <a:ext cx="2209680" cy="2666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8" name="" descr=""/>
            <p:cNvPicPr/>
            <p:nvPr/>
          </p:nvPicPr>
          <p:blipFill>
            <a:blip r:embed="rId6"/>
            <a:stretch/>
          </p:blipFill>
          <p:spPr>
            <a:xfrm>
              <a:off x="6854760" y="2209680"/>
              <a:ext cx="20574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6857640" y="2286000"/>
              <a:ext cx="762120" cy="228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9440" y="2286000"/>
              <a:ext cx="80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Arial"/>
                </a:rPr>
                <a:t>Hadr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762120" y="1143000"/>
            <a:ext cx="175248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90720" y="1143000"/>
            <a:ext cx="1295280" cy="160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4952880" y="3006720"/>
            <a:ext cx="3429000" cy="324180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143000" y="1143000"/>
            <a:ext cx="990720" cy="1600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1143000"/>
            <a:ext cx="160020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57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57200" y="1143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8080" y="762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38280" y="762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943600" y="1143000"/>
            <a:ext cx="205740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248520" y="1143000"/>
            <a:ext cx="1447560" cy="160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77120" y="1143000"/>
            <a:ext cx="990360" cy="1600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143000"/>
            <a:ext cx="160020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7724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772400" y="1143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172200" y="762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772400" y="762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129480" y="68580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mmon init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ource geometry fr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entrality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129840" y="1600200"/>
            <a:ext cx="247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final source geome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from HBT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129120" y="2298600"/>
            <a:ext cx="23644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inal particle emi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isotropy fr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904760" y="990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9907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152800" y="182880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18288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33520" y="1143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57200" y="1828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5720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077320" y="1143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01000" y="1828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00100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837720" y="762120"/>
            <a:ext cx="1600200" cy="152280"/>
            <a:chOff x="837720" y="762120"/>
            <a:chExt cx="1600200" cy="152280"/>
          </a:xfrm>
        </p:grpSpPr>
        <p:sp>
          <p:nvSpPr>
            <p:cNvPr id="782" name=""/>
            <p:cNvSpPr/>
            <p:nvPr/>
          </p:nvSpPr>
          <p:spPr>
            <a:xfrm flipH="1">
              <a:off x="837720" y="838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1599480" y="7621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1523520" y="7621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171840" y="762120"/>
            <a:ext cx="1600200" cy="152280"/>
            <a:chOff x="6171840" y="762120"/>
            <a:chExt cx="1600200" cy="152280"/>
          </a:xfrm>
        </p:grpSpPr>
        <p:sp>
          <p:nvSpPr>
            <p:cNvPr id="786" name=""/>
            <p:cNvSpPr/>
            <p:nvPr/>
          </p:nvSpPr>
          <p:spPr>
            <a:xfrm flipH="1">
              <a:off x="6171840" y="838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933600" y="7621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857640" y="7621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"/>
          <p:cNvSpPr/>
          <p:nvPr/>
        </p:nvSpPr>
        <p:spPr>
          <a:xfrm flipH="1" flipV="1">
            <a:off x="2285640" y="22856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410080" y="23623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6400" y="76320"/>
            <a:ext cx="71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urce geometry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quantum interferometry via HBT correlation --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1981080"/>
            <a:ext cx="457200" cy="6098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00040" y="1143000"/>
            <a:ext cx="457200" cy="6094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86600" y="1905120"/>
            <a:ext cx="5335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705720" y="1143000"/>
            <a:ext cx="533160" cy="6094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18300000">
            <a:off x="7086240" y="685080"/>
            <a:ext cx="609480" cy="304920"/>
          </a:xfrm>
          <a:prstGeom prst="rightArrow">
            <a:avLst>
              <a:gd name="adj1" fmla="val 39870"/>
              <a:gd name="adj2" fmla="val 58946"/>
            </a:avLst>
          </a:prstGeom>
          <a:solidFill>
            <a:srgbClr val="ccffcc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 rot="19056000">
            <a:off x="7462800" y="-76320"/>
            <a:ext cx="614520" cy="68580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 rot="19056000">
            <a:off x="8305920" y="1980720"/>
            <a:ext cx="614160" cy="6858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 rot="600000">
            <a:off x="7695720" y="2209320"/>
            <a:ext cx="609840" cy="304920"/>
          </a:xfrm>
          <a:prstGeom prst="rightArrow">
            <a:avLst>
              <a:gd name="adj1" fmla="val 39870"/>
              <a:gd name="adj2" fmla="val 58981"/>
            </a:avLst>
          </a:prstGeom>
          <a:solidFill>
            <a:srgbClr val="ccffcc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4"/>
          <a:stretch/>
        </p:blipFill>
        <p:spPr>
          <a:xfrm>
            <a:off x="762120" y="3200400"/>
            <a:ext cx="3886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1:44:32Z</dcterms:created>
  <dc:creator>Esumi ShinIchi</dc:creator>
  <dc:description/>
  <dc:language>en-US</dc:language>
  <cp:lastModifiedBy>Esumi ShinIchi</cp:lastModifiedBy>
  <dcterms:modified xsi:type="dcterms:W3CDTF">2010-06-14T02:48:04Z</dcterms:modified>
  <cp:revision>7</cp:revision>
  <dc:subject/>
  <dc:title>PowerPoint プレゼンテーション</dc:title>
</cp:coreProperties>
</file>