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336-FD34-4A1D-A071-1FDFC16A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CFB-7920-4AB8-A8B9-EE4F3CE9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D26EDB-3C68-4E97-848C-552E345D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CB289B-E8A3-49E3-A21D-7043CBFA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913B43-3974-40FE-885E-63B68C65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9004B9-BDBA-4FE9-88A3-AA5BF5AC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2D2A23-0B43-46A6-A335-184ED32A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DB048F-327F-4F4D-941D-C872FB5B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520DBB-F7D9-41D3-81E8-1922CE15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23A9E7-715B-4CA7-9E48-18A1C2EF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C44453-3F71-41EB-AA1B-6D875E29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8EA21-FA2E-4C0B-B810-6AAE83AD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8A6-92AB-46C1-89F5-69188657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4CDE3-40F4-4DB1-B9B1-5FE6BD30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BA494-7696-4B91-BA93-211B9BAA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1256C-EBFE-4368-A043-A31358EE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41D81-B9A8-40E4-9DB7-8B75A347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5770D-8D8C-4401-AAA9-12EE1FC9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F6056-2A63-4882-8DA3-F513E7FF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BAA60-A594-498B-B112-A7AB0812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F0D85-04CC-4B59-8BFF-035C335E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13A8F-78BE-4E5A-A997-0BAA2F28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D8EDF-7554-46D9-8BB9-8790DFBE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2F0-2AFB-4695-9BF0-7601C6E7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96003-9FA0-4411-BE56-35A40C14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DC0D6-EAB9-4BE7-8486-B518331D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562A8-74FD-4500-94B6-172E1E9F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B8045-A805-4072-9228-E84575AA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49896-A4B3-4774-935C-55684FD7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06218-9C63-431B-94FF-A3456199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05158-5C2B-4EA6-83B5-744EBB28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2E69B-9C92-4C13-8B4D-018EDEE6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714D2-69EC-4E73-B6DD-F91550E0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8DFDD-572D-401F-8B61-26DC060C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7B27-F0D4-463D-9DCE-460A1720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60E55-0948-4991-B8A3-939C6EBF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40A25-1854-446D-AD94-993767FD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CFB4E-E1A0-45FC-870D-8C01FBBD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34F3D-8C73-434A-84A1-6B0A5A26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8D101-55D2-4332-AC31-E659F55C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F5A5D-C4A4-4A9A-8E00-27ED80AF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190E8-F551-43BA-842B-ECC7CF94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0201E-B598-406C-A551-DE3C1873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13E5E-D20B-4913-BA82-B0404D98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3AB20-CB7B-47B5-B664-1FB89F6C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5D5D-1E97-41D8-BEC3-5979AE20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E93B4-A722-4907-A624-C151856C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AE7A0-4CE6-4168-A829-34FD7B1A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3BE6A-704A-43ED-8C63-D1C6D80E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6C519-5FF8-4707-8207-9E23F5F3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E84C2-199E-43C8-9A65-813C92CA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23BC-D35D-4E2E-979D-89FD41DD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12D2-A3C8-4331-A4D7-D456A0AD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D92E-CB3D-4B5A-93E6-AD6DB388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D69C-B592-43BB-A0C2-D6F974E1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2E87-B4E4-4306-8F47-89232353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0F88-34AA-4182-860F-D31A2346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6BFB-A54A-4B87-82B6-CC4F42A7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9556-1D01-451C-9A3C-7C0AF52B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D9B9-B15C-4A04-94E6-0EEFE7A2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9002-73CA-4FCC-B793-1663253D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F8CC-1DA2-4F49-91C7-CC848C94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D3254-571C-498A-9EE6-8D547489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9A11F-9D6A-4D46-895C-E9FB87AA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59C5E-ED17-432D-ABC1-A0EF319D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7D322-BF1A-4A2A-BA5F-BCC14232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C9D72-6B98-442D-A64A-A4EB2284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A82-7448-4F3B-8199-EBCBC2D4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D2CE9-324D-40D9-9042-9B59624D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F0B04-CA44-4DC1-A8DF-1AFA1005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774AE-9A21-45C5-870B-DE97A91F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75535-7D1C-45F4-B586-4C1F9DBF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A8C8B-0EDD-4BFF-9FE2-3080AD47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BA370-C0C3-4CE3-8FBC-5C8D75D5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79CC4-8292-46CA-9BBB-710EC224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90035-AE10-4A59-911C-7EEB0866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6F444-191F-4E6A-B150-F00C4126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DE5E2-19DC-4DA3-A2BB-44DD71CD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FF4-3FF3-4ED8-813B-A0C2F0A8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1A20A-433B-4F97-B88D-30673998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63537-D7FB-4D37-99CD-2A979C7B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A84CA-EBF0-4B1C-998F-B58D6FF2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DC94D-1A8E-4256-9BEA-862DF145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3E141-9A0D-4462-BCAC-D70BBC8A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9D4D7-9F50-4C6E-99EB-4A67F04F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20618-CAAA-4CB7-BCCF-A81C3ECF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7441A-94E2-47EE-8A0E-34B6B1D3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F0749-AD1C-4470-B036-259753F2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6FC92-818A-46AB-803D-1E7D85FA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01E-CBCC-4F58-B795-26D73116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41E01-6F5F-4DAB-B368-F3D0562A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FA867-0704-4B6E-8B94-D2DCE86B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31B8D-788B-41E1-8172-C013AB7F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785E0-5E47-4F72-8D7D-E1299168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A169A-1610-470D-8E1F-CD77E1AB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0BA7C-F574-4BD7-9FCA-B279E5E7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AB481-5DF0-4CE9-A61E-AA3F956D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0AF4E-3B1C-4409-864D-394C6A01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1234F-0FE1-4399-AB0A-038044CF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84F04-FA89-457C-A678-12E1F606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D737-8372-4432-9030-1E956810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7C540-748E-4DA5-9EA5-B14818F0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4CC91-89D9-40C8-9EA8-F53723B7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C1BFB-D63E-4E6D-8409-97FA48D8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AC32B-D3AE-45D7-840B-ABE84338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86F72-3D4E-4911-9BC4-F01E53E6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28EFF-D96B-4D43-B124-8A36BC96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0961A-9EFE-4A17-8A7D-F6F16EBF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E1B0C-F95B-4922-BF1D-C8038A53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0689E-AEE3-4ECE-A5CC-60ABC298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784CA-E147-42B2-AFBA-EFD27964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E41A-DD33-499C-B1FC-3D0BE0C1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87948-4262-4594-BBD5-142AD1F2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B527A-1411-4838-BA43-EA379204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EF0CE-2920-4793-8AE7-1DB28B45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E4E9B-968E-4233-9A1A-D0FEF0BD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FAC85-3204-473A-9263-E0105FC5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837D4-5C80-4E3C-BE66-56D45FB9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E1C83-6434-4B9C-AA31-3EF5F449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28890-A3DF-4CC2-8421-AEB35861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E5325-545A-485B-A0B1-092AD060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6B7FD-4F19-4371-B896-AEFCDB98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3D4-06F7-4B33-AF76-C6650388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01AE1-0DBD-4C8A-9AE2-5709F0A3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4830F-90C4-4140-9A81-CEB90B42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05E10-1712-4834-8897-E7DD9E7B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A9380-D848-4C0F-8DE3-00D6B24E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69CC2-B687-48C3-895F-90151E2A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3D962-EF4E-48D4-8568-61C3EC38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B244B-C515-478E-ABCA-6B798BE6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4D51E-C788-42F3-9FD5-8886C985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135A1-7BBB-4EEE-AAEF-B929CADB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8377B-2F0F-4639-B953-B9A593FB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3BAC-EAFA-49A7-9C2D-EF37ABCA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0D8DB-3AF2-4E3C-92D7-FD48DFC9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B81AF-B3A5-4C6A-8C0B-F14225B1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E53E7-A40E-4B67-8530-F59E4A20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80C6F-5E7F-4BB1-A306-9E4B4583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489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5FB64-ECCE-4D35-B513-88CAA686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489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88AC4-7149-4070-9FA0-AB7B9464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489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8E0BB-E71F-4924-9E74-9CFD6EF6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7740B0-A693-4AF1-9B51-B96619EB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934B1F-FAF7-43DA-B447-E361F6F1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BBBFCF-C1E3-4C88-BCCE-985E19B5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4924A-0D71-4FCE-A159-EA85AA372303}" type="datetime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98520" y="-360"/>
            <a:ext cx="45007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宇宙史拠点実習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II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説明会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(6/16/2010, 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筑波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‐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CERN-FNA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A922C-B1D3-418E-9A6D-AAB1A9ED5EAB}" type="slidenum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図形グループ 1"/>
          <p:cNvGrpSpPr/>
          <p:nvPr/>
        </p:nvGrpSpPr>
        <p:grpSpPr>
          <a:xfrm>
            <a:off x="-28440" y="0"/>
            <a:ext cx="9171360" cy="6855480"/>
            <a:chOff x="-28440" y="0"/>
            <a:chExt cx="9171360" cy="6855480"/>
          </a:xfrm>
        </p:grpSpPr>
        <p:sp>
          <p:nvSpPr>
            <p:cNvPr id="4" name="フリーフォーム 17"/>
            <p:cNvSpPr/>
            <p:nvPr/>
          </p:nvSpPr>
          <p:spPr>
            <a:xfrm>
              <a:off x="-28440" y="5010120"/>
              <a:ext cx="5669640" cy="182196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フリーフォーム 18"/>
            <p:cNvSpPr/>
            <p:nvPr/>
          </p:nvSpPr>
          <p:spPr>
            <a:xfrm>
              <a:off x="4782240" y="0"/>
              <a:ext cx="3907800" cy="68554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フリーフォーム 19"/>
            <p:cNvSpPr/>
            <p:nvPr/>
          </p:nvSpPr>
          <p:spPr>
            <a:xfrm>
              <a:off x="0" y="0"/>
              <a:ext cx="9131040" cy="64738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フリーフォーム 21"/>
            <p:cNvSpPr/>
            <p:nvPr/>
          </p:nvSpPr>
          <p:spPr>
            <a:xfrm>
              <a:off x="16920" y="2575080"/>
              <a:ext cx="9126000" cy="398952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フリーフォーム 22"/>
            <p:cNvSpPr/>
            <p:nvPr/>
          </p:nvSpPr>
          <p:spPr>
            <a:xfrm>
              <a:off x="2408040" y="0"/>
              <a:ext cx="6533640" cy="68320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フリーフォーム 23"/>
            <p:cNvSpPr/>
            <p:nvPr/>
          </p:nvSpPr>
          <p:spPr>
            <a:xfrm>
              <a:off x="7448400" y="0"/>
              <a:ext cx="1694160" cy="149400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フリーフォーム 24"/>
            <p:cNvSpPr/>
            <p:nvPr/>
          </p:nvSpPr>
          <p:spPr>
            <a:xfrm>
              <a:off x="0" y="5877720"/>
              <a:ext cx="5439960" cy="95436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pic>
        <p:nvPicPr>
          <p:cNvPr id="13" name="図形グループ 2" descr=""/>
          <p:cNvPicPr/>
          <p:nvPr/>
        </p:nvPicPr>
        <p:blipFill>
          <a:blip r:embed="rId3"/>
          <a:stretch/>
        </p:blipFill>
        <p:spPr>
          <a:xfrm>
            <a:off x="8053560" y="5840280"/>
            <a:ext cx="1090440" cy="103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図形グループ 1"/>
          <p:cNvGrpSpPr/>
          <p:nvPr/>
        </p:nvGrpSpPr>
        <p:grpSpPr>
          <a:xfrm>
            <a:off x="-28440" y="0"/>
            <a:ext cx="9171360" cy="6855480"/>
            <a:chOff x="-28440" y="0"/>
            <a:chExt cx="9171360" cy="6855480"/>
          </a:xfrm>
        </p:grpSpPr>
        <p:sp>
          <p:nvSpPr>
            <p:cNvPr id="457" name="フリーフォーム 17"/>
            <p:cNvSpPr/>
            <p:nvPr/>
          </p:nvSpPr>
          <p:spPr>
            <a:xfrm>
              <a:off x="-28440" y="5010120"/>
              <a:ext cx="5669640" cy="182196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フリーフォーム 18"/>
            <p:cNvSpPr/>
            <p:nvPr/>
          </p:nvSpPr>
          <p:spPr>
            <a:xfrm>
              <a:off x="4782240" y="0"/>
              <a:ext cx="3907800" cy="68554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フリーフォーム 19"/>
            <p:cNvSpPr/>
            <p:nvPr/>
          </p:nvSpPr>
          <p:spPr>
            <a:xfrm>
              <a:off x="0" y="0"/>
              <a:ext cx="9131040" cy="64738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フリーフォーム 21"/>
            <p:cNvSpPr/>
            <p:nvPr/>
          </p:nvSpPr>
          <p:spPr>
            <a:xfrm>
              <a:off x="16920" y="2575080"/>
              <a:ext cx="9126000" cy="398952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フリーフォーム 22"/>
            <p:cNvSpPr/>
            <p:nvPr/>
          </p:nvSpPr>
          <p:spPr>
            <a:xfrm>
              <a:off x="2408040" y="0"/>
              <a:ext cx="6533640" cy="68320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フリーフォーム 23"/>
            <p:cNvSpPr/>
            <p:nvPr/>
          </p:nvSpPr>
          <p:spPr>
            <a:xfrm>
              <a:off x="7448400" y="0"/>
              <a:ext cx="1694160" cy="149400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フリーフォーム 24"/>
            <p:cNvSpPr/>
            <p:nvPr/>
          </p:nvSpPr>
          <p:spPr>
            <a:xfrm>
              <a:off x="0" y="5877720"/>
              <a:ext cx="5439960" cy="95436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4" name="図形グループ 2" descr=""/>
          <p:cNvPicPr/>
          <p:nvPr/>
        </p:nvPicPr>
        <p:blipFill>
          <a:blip r:embed="rId3"/>
          <a:stretch/>
        </p:blipFill>
        <p:spPr>
          <a:xfrm>
            <a:off x="8053560" y="5840280"/>
            <a:ext cx="1090440" cy="103680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-360" y="-360"/>
            <a:ext cx="2135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48074-76D6-4B7D-8E3B-DC0785C8021C}" type="datetime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2199960" y="-360"/>
            <a:ext cx="4498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宇宙史拠点実習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II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説明会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(6/16/2010, 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筑波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‐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CERN-FNA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A1139-D27C-461B-BD28-9E64204E6777}" type="slidenum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図形グループ 1"/>
          <p:cNvGrpSpPr/>
          <p:nvPr/>
        </p:nvGrpSpPr>
        <p:grpSpPr>
          <a:xfrm>
            <a:off x="-28440" y="0"/>
            <a:ext cx="9171360" cy="6855480"/>
            <a:chOff x="-28440" y="0"/>
            <a:chExt cx="9171360" cy="6855480"/>
          </a:xfrm>
        </p:grpSpPr>
        <p:sp>
          <p:nvSpPr>
            <p:cNvPr id="507" name="フリーフォーム 17"/>
            <p:cNvSpPr/>
            <p:nvPr/>
          </p:nvSpPr>
          <p:spPr>
            <a:xfrm>
              <a:off x="-28440" y="5010120"/>
              <a:ext cx="5669640" cy="182196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フリーフォーム 18"/>
            <p:cNvSpPr/>
            <p:nvPr/>
          </p:nvSpPr>
          <p:spPr>
            <a:xfrm>
              <a:off x="4782240" y="0"/>
              <a:ext cx="3907800" cy="68554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フリーフォーム 19"/>
            <p:cNvSpPr/>
            <p:nvPr/>
          </p:nvSpPr>
          <p:spPr>
            <a:xfrm>
              <a:off x="0" y="0"/>
              <a:ext cx="9131040" cy="64738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フリーフォーム 21"/>
            <p:cNvSpPr/>
            <p:nvPr/>
          </p:nvSpPr>
          <p:spPr>
            <a:xfrm>
              <a:off x="16920" y="2575080"/>
              <a:ext cx="9126000" cy="398952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フリーフォーム 22"/>
            <p:cNvSpPr/>
            <p:nvPr/>
          </p:nvSpPr>
          <p:spPr>
            <a:xfrm>
              <a:off x="2408040" y="0"/>
              <a:ext cx="6533640" cy="68320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フリーフォーム 23"/>
            <p:cNvSpPr/>
            <p:nvPr/>
          </p:nvSpPr>
          <p:spPr>
            <a:xfrm>
              <a:off x="7448400" y="0"/>
              <a:ext cx="1694160" cy="149400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フリーフォーム 24"/>
            <p:cNvSpPr/>
            <p:nvPr/>
          </p:nvSpPr>
          <p:spPr>
            <a:xfrm>
              <a:off x="0" y="5877720"/>
              <a:ext cx="5439960" cy="95436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4" name="図形グループ 2" descr=""/>
          <p:cNvPicPr/>
          <p:nvPr/>
        </p:nvPicPr>
        <p:blipFill>
          <a:blip r:embed="rId3"/>
          <a:stretch/>
        </p:blipFill>
        <p:spPr>
          <a:xfrm>
            <a:off x="8053560" y="5840280"/>
            <a:ext cx="1090440" cy="10368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-360" y="-36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70CD6-D4CD-47C3-81E0-C99B4196EB38}" type="datetime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2199960" y="-360"/>
            <a:ext cx="4498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宇宙史拠点実習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II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説明会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(6/16/2010, 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筑波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‐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CERN-FNA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D27A7-D7BF-4520-B033-5D1B5738659B}" type="slidenum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図形グループ 1"/>
          <p:cNvGrpSpPr/>
          <p:nvPr/>
        </p:nvGrpSpPr>
        <p:grpSpPr>
          <a:xfrm>
            <a:off x="-28440" y="0"/>
            <a:ext cx="9171360" cy="6855480"/>
            <a:chOff x="-28440" y="0"/>
            <a:chExt cx="9171360" cy="6855480"/>
          </a:xfrm>
        </p:grpSpPr>
        <p:sp>
          <p:nvSpPr>
            <p:cNvPr id="557" name="フリーフォーム 17"/>
            <p:cNvSpPr/>
            <p:nvPr/>
          </p:nvSpPr>
          <p:spPr>
            <a:xfrm>
              <a:off x="-28440" y="5010120"/>
              <a:ext cx="5669640" cy="182196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フリーフォーム 18"/>
            <p:cNvSpPr/>
            <p:nvPr/>
          </p:nvSpPr>
          <p:spPr>
            <a:xfrm>
              <a:off x="4782240" y="0"/>
              <a:ext cx="3907800" cy="68554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フリーフォーム 19"/>
            <p:cNvSpPr/>
            <p:nvPr/>
          </p:nvSpPr>
          <p:spPr>
            <a:xfrm>
              <a:off x="0" y="0"/>
              <a:ext cx="9131040" cy="64738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フリーフォーム 21"/>
            <p:cNvSpPr/>
            <p:nvPr/>
          </p:nvSpPr>
          <p:spPr>
            <a:xfrm>
              <a:off x="16920" y="2575080"/>
              <a:ext cx="9126000" cy="398952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フリーフォーム 22"/>
            <p:cNvSpPr/>
            <p:nvPr/>
          </p:nvSpPr>
          <p:spPr>
            <a:xfrm>
              <a:off x="2408040" y="0"/>
              <a:ext cx="6533640" cy="68320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フリーフォーム 23"/>
            <p:cNvSpPr/>
            <p:nvPr/>
          </p:nvSpPr>
          <p:spPr>
            <a:xfrm>
              <a:off x="7448400" y="0"/>
              <a:ext cx="1694160" cy="149400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フリーフォーム 24"/>
            <p:cNvSpPr/>
            <p:nvPr/>
          </p:nvSpPr>
          <p:spPr>
            <a:xfrm>
              <a:off x="0" y="5877720"/>
              <a:ext cx="5439960" cy="95436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4" name="図形グループ 2" descr=""/>
          <p:cNvPicPr/>
          <p:nvPr/>
        </p:nvPicPr>
        <p:blipFill>
          <a:blip r:embed="rId3"/>
          <a:stretch/>
        </p:blipFill>
        <p:spPr>
          <a:xfrm>
            <a:off x="8053560" y="5840280"/>
            <a:ext cx="1090440" cy="103680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-360" y="-36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BDB06-07DA-43A3-BB62-8879B8616251}" type="datetime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2199960" y="-360"/>
            <a:ext cx="4498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宇宙史拠点実習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II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説明会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(6/16/2010, 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筑波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‐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CERN-FNA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19345-5BA0-44E2-BF78-63EDE80DC69E}" type="slidenum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フリーフォーム 25"/>
          <p:cNvSpPr/>
          <p:nvPr/>
        </p:nvSpPr>
        <p:spPr>
          <a:xfrm>
            <a:off x="0" y="4040280"/>
            <a:ext cx="9134640" cy="490320"/>
          </a:xfrm>
          <a:prstGeom prst="pie">
            <a:avLst/>
          </a:prstGeom>
          <a:noFill/>
          <a:ln w="9360">
            <a:solidFill>
              <a:srgbClr val="fcd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26"/>
          <p:cNvSpPr/>
          <p:nvPr/>
        </p:nvSpPr>
        <p:spPr>
          <a:xfrm>
            <a:off x="0" y="3071880"/>
            <a:ext cx="9144000" cy="1116000"/>
          </a:xfrm>
          <a:prstGeom prst="pie">
            <a:avLst/>
          </a:prstGeom>
          <a:noFill/>
          <a:ln w="12600">
            <a:solidFill>
              <a:srgbClr val="de9e5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27"/>
          <p:cNvSpPr/>
          <p:nvPr/>
        </p:nvSpPr>
        <p:spPr>
          <a:xfrm>
            <a:off x="0" y="3952800"/>
            <a:ext cx="9144000" cy="368280"/>
          </a:xfrm>
          <a:prstGeom prst="pie">
            <a:avLst/>
          </a:prstGeom>
          <a:noFill/>
          <a:ln w="9360">
            <a:solidFill>
              <a:srgbClr val="f9ba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フリーフォーム 28"/>
          <p:cNvSpPr/>
          <p:nvPr/>
        </p:nvSpPr>
        <p:spPr>
          <a:xfrm>
            <a:off x="0" y="3809880"/>
            <a:ext cx="9144000" cy="490680"/>
          </a:xfrm>
          <a:prstGeom prst="pie">
            <a:avLst/>
          </a:prstGeom>
          <a:noFill/>
          <a:ln w="9360">
            <a:solidFill>
              <a:srgbClr val="f69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フリーフォーム 29"/>
          <p:cNvSpPr/>
          <p:nvPr/>
        </p:nvSpPr>
        <p:spPr>
          <a:xfrm>
            <a:off x="0" y="4091040"/>
            <a:ext cx="9144000" cy="480960"/>
          </a:xfrm>
          <a:prstGeom prst="pie">
            <a:avLst/>
          </a:prstGeom>
          <a:noFill/>
          <a:ln w="9360">
            <a:solidFill>
              <a:srgbClr val="f69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フリーフォーム 31"/>
          <p:cNvSpPr/>
          <p:nvPr/>
        </p:nvSpPr>
        <p:spPr>
          <a:xfrm>
            <a:off x="0" y="4325760"/>
            <a:ext cx="9144000" cy="552600"/>
          </a:xfrm>
          <a:prstGeom prst="pie">
            <a:avLst/>
          </a:prstGeom>
          <a:noFill/>
          <a:ln w="12600">
            <a:solidFill>
              <a:srgbClr val="f69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フリーフォーム 35"/>
          <p:cNvSpPr/>
          <p:nvPr/>
        </p:nvSpPr>
        <p:spPr>
          <a:xfrm>
            <a:off x="142920" y="4071960"/>
            <a:ext cx="9001080" cy="492120"/>
          </a:xfrm>
          <a:prstGeom prst="pie">
            <a:avLst/>
          </a:prstGeom>
          <a:noFill/>
          <a:ln w="9360">
            <a:solidFill>
              <a:srgbClr val="f69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フリーフォーム 36"/>
          <p:cNvSpPr/>
          <p:nvPr/>
        </p:nvSpPr>
        <p:spPr>
          <a:xfrm>
            <a:off x="152280" y="4019400"/>
            <a:ext cx="8991720" cy="481320"/>
          </a:xfrm>
          <a:prstGeom prst="pie">
            <a:avLst/>
          </a:prstGeom>
          <a:noFill/>
          <a:ln w="9360">
            <a:solidFill>
              <a:srgbClr val="fcd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フリーフォーム 37"/>
          <p:cNvSpPr/>
          <p:nvPr/>
        </p:nvSpPr>
        <p:spPr>
          <a:xfrm>
            <a:off x="142920" y="3714840"/>
            <a:ext cx="9001080" cy="492120"/>
          </a:xfrm>
          <a:prstGeom prst="pie">
            <a:avLst/>
          </a:prstGeom>
          <a:noFill/>
          <a:ln w="9360">
            <a:solidFill>
              <a:srgbClr val="fcd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フリーフォーム 38"/>
          <p:cNvSpPr/>
          <p:nvPr/>
        </p:nvSpPr>
        <p:spPr>
          <a:xfrm>
            <a:off x="152280" y="3881520"/>
            <a:ext cx="8991720" cy="480960"/>
          </a:xfrm>
          <a:prstGeom prst="pie">
            <a:avLst/>
          </a:prstGeom>
          <a:noFill/>
          <a:ln w="9360">
            <a:solidFill>
              <a:srgbClr val="f69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図形グループ 14" descr=""/>
          <p:cNvPicPr/>
          <p:nvPr/>
        </p:nvPicPr>
        <p:blipFill>
          <a:blip r:embed="rId3"/>
          <a:stretch/>
        </p:blipFill>
        <p:spPr>
          <a:xfrm>
            <a:off x="7523280" y="3865680"/>
            <a:ext cx="1554120" cy="1438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-360" y="-360"/>
            <a:ext cx="2135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456518-32D2-487E-8960-8334F881B823}" type="datetime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199960" y="-360"/>
            <a:ext cx="449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宇宙史拠点実習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II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説明会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(6/16/2010, 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筑波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‐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CERN-FNA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276D0-A5D5-4BB1-8144-F10D544E1888}" type="slidenum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図形グループ 1"/>
          <p:cNvGrpSpPr/>
          <p:nvPr/>
        </p:nvGrpSpPr>
        <p:grpSpPr>
          <a:xfrm>
            <a:off x="-28440" y="0"/>
            <a:ext cx="9171360" cy="6855480"/>
            <a:chOff x="-28440" y="0"/>
            <a:chExt cx="9171360" cy="6855480"/>
          </a:xfrm>
        </p:grpSpPr>
        <p:sp>
          <p:nvSpPr>
            <p:cNvPr id="103" name="フリーフォーム 17"/>
            <p:cNvSpPr/>
            <p:nvPr/>
          </p:nvSpPr>
          <p:spPr>
            <a:xfrm>
              <a:off x="-28440" y="5010120"/>
              <a:ext cx="5669640" cy="182196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フリーフォーム 18"/>
            <p:cNvSpPr/>
            <p:nvPr/>
          </p:nvSpPr>
          <p:spPr>
            <a:xfrm>
              <a:off x="4782240" y="0"/>
              <a:ext cx="3907800" cy="68554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フリーフォーム 19"/>
            <p:cNvSpPr/>
            <p:nvPr/>
          </p:nvSpPr>
          <p:spPr>
            <a:xfrm>
              <a:off x="0" y="0"/>
              <a:ext cx="9131040" cy="64738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フリーフォーム 21"/>
            <p:cNvSpPr/>
            <p:nvPr/>
          </p:nvSpPr>
          <p:spPr>
            <a:xfrm>
              <a:off x="16920" y="2575080"/>
              <a:ext cx="9126000" cy="398952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フリーフォーム 22"/>
            <p:cNvSpPr/>
            <p:nvPr/>
          </p:nvSpPr>
          <p:spPr>
            <a:xfrm>
              <a:off x="2408040" y="0"/>
              <a:ext cx="6533640" cy="68320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フリーフォーム 23"/>
            <p:cNvSpPr/>
            <p:nvPr/>
          </p:nvSpPr>
          <p:spPr>
            <a:xfrm>
              <a:off x="7448400" y="0"/>
              <a:ext cx="1694160" cy="149400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フリーフォーム 24"/>
            <p:cNvSpPr/>
            <p:nvPr/>
          </p:nvSpPr>
          <p:spPr>
            <a:xfrm>
              <a:off x="0" y="5877720"/>
              <a:ext cx="5439960" cy="95436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図形グループ 2" descr=""/>
          <p:cNvPicPr/>
          <p:nvPr/>
        </p:nvPicPr>
        <p:blipFill>
          <a:blip r:embed="rId3"/>
          <a:stretch/>
        </p:blipFill>
        <p:spPr>
          <a:xfrm>
            <a:off x="8053560" y="5840280"/>
            <a:ext cx="1090440" cy="1036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-360" y="-36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9120D-0C47-45EC-9DCE-1F5D47E4D807}" type="datetime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2199960" y="-360"/>
            <a:ext cx="449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宇宙史拠点実習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II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説明会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(6/16/2010, 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筑波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‐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CERN-FNA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141C3-A609-411C-ADBB-71C8BB9D10D7}" type="slidenum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図形グループ 25"/>
          <p:cNvGrpSpPr/>
          <p:nvPr/>
        </p:nvGrpSpPr>
        <p:grpSpPr>
          <a:xfrm>
            <a:off x="-15840" y="0"/>
            <a:ext cx="9144000" cy="6858000"/>
            <a:chOff x="-15840" y="0"/>
            <a:chExt cx="9144000" cy="6858000"/>
          </a:xfrm>
        </p:grpSpPr>
        <p:sp>
          <p:nvSpPr>
            <p:cNvPr id="153" name="フリーフォーム 26"/>
            <p:cNvSpPr/>
            <p:nvPr/>
          </p:nvSpPr>
          <p:spPr>
            <a:xfrm>
              <a:off x="-3960" y="0"/>
              <a:ext cx="8600760" cy="6442200"/>
            </a:xfrm>
            <a:prstGeom prst="pie">
              <a:avLst/>
            </a:prstGeom>
            <a:noFill/>
            <a:ln w="3240">
              <a:solidFill>
                <a:srgbClr val="f69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フリーフォーム 27"/>
            <p:cNvSpPr/>
            <p:nvPr/>
          </p:nvSpPr>
          <p:spPr>
            <a:xfrm>
              <a:off x="-15840" y="0"/>
              <a:ext cx="9144000" cy="6684480"/>
            </a:xfrm>
            <a:prstGeom prst="pie">
              <a:avLst/>
            </a:prstGeom>
            <a:noFill/>
            <a:ln w="3240">
              <a:solidFill>
                <a:srgbClr val="f69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フリーフォーム 28"/>
            <p:cNvSpPr/>
            <p:nvPr/>
          </p:nvSpPr>
          <p:spPr>
            <a:xfrm>
              <a:off x="-15840" y="2730240"/>
              <a:ext cx="9132120" cy="3804480"/>
            </a:xfrm>
            <a:prstGeom prst="pie">
              <a:avLst/>
            </a:prstGeom>
            <a:noFill/>
            <a:ln w="3240">
              <a:solidFill>
                <a:srgbClr val="f69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フリーフォーム 29"/>
            <p:cNvSpPr/>
            <p:nvPr/>
          </p:nvSpPr>
          <p:spPr>
            <a:xfrm>
              <a:off x="4966560" y="0"/>
              <a:ext cx="3792600" cy="6858000"/>
            </a:xfrm>
            <a:prstGeom prst="pie">
              <a:avLst/>
            </a:prstGeom>
            <a:noFill/>
            <a:ln w="3240">
              <a:solidFill>
                <a:srgbClr val="f69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フリーフォーム 31"/>
            <p:cNvSpPr/>
            <p:nvPr/>
          </p:nvSpPr>
          <p:spPr>
            <a:xfrm>
              <a:off x="6885360" y="3135240"/>
              <a:ext cx="2232360" cy="3722400"/>
            </a:xfrm>
            <a:prstGeom prst="pie">
              <a:avLst/>
            </a:prstGeom>
            <a:noFill/>
            <a:ln w="3240">
              <a:solidFill>
                <a:srgbClr val="f69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図形グループ 35" descr=""/>
          <p:cNvPicPr/>
          <p:nvPr/>
        </p:nvPicPr>
        <p:blipFill>
          <a:blip r:embed="rId3"/>
          <a:stretch/>
        </p:blipFill>
        <p:spPr>
          <a:xfrm>
            <a:off x="7265880" y="3865680"/>
            <a:ext cx="1554120" cy="1438200"/>
          </a:xfrm>
          <a:prstGeom prst="rect">
            <a:avLst/>
          </a:prstGeom>
          <a:ln w="0">
            <a:noFill/>
          </a:ln>
        </p:spPr>
      </p:pic>
      <p:pic>
        <p:nvPicPr>
          <p:cNvPr id="159" name="図形グループ 39" descr=""/>
          <p:cNvPicPr/>
          <p:nvPr/>
        </p:nvPicPr>
        <p:blipFill>
          <a:blip r:embed="rId4"/>
          <a:stretch/>
        </p:blipFill>
        <p:spPr>
          <a:xfrm>
            <a:off x="6321600" y="5010120"/>
            <a:ext cx="1090440" cy="1036800"/>
          </a:xfrm>
          <a:prstGeom prst="rect">
            <a:avLst/>
          </a:prstGeom>
          <a:ln w="0">
            <a:noFill/>
          </a:ln>
        </p:spPr>
      </p:pic>
      <p:sp>
        <p:nvSpPr>
          <p:cNvPr id="160" name="フリーフォーム 43"/>
          <p:cNvSpPr/>
          <p:nvPr/>
        </p:nvSpPr>
        <p:spPr>
          <a:xfrm>
            <a:off x="5842080" y="5857920"/>
            <a:ext cx="244440" cy="231840"/>
          </a:xfrm>
          <a:prstGeom prst="pie">
            <a:avLst/>
          </a:prstGeom>
          <a:gradFill rotWithShape="0">
            <a:gsLst>
              <a:gs pos="0">
                <a:srgbClr val="fcdccc"/>
              </a:gs>
              <a:gs pos="100000">
                <a:srgbClr val="e3560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フリーフォーム 44"/>
          <p:cNvSpPr/>
          <p:nvPr/>
        </p:nvSpPr>
        <p:spPr>
          <a:xfrm rot="5400000">
            <a:off x="7322040" y="5055480"/>
            <a:ext cx="1895400" cy="1677960"/>
          </a:xfrm>
          <a:prstGeom prst="pie">
            <a:avLst/>
          </a:pr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図形グループ 45" descr=""/>
          <p:cNvPicPr/>
          <p:nvPr/>
        </p:nvPicPr>
        <p:blipFill>
          <a:blip r:embed="rId5"/>
          <a:stretch/>
        </p:blipFill>
        <p:spPr>
          <a:xfrm>
            <a:off x="7278840" y="3865680"/>
            <a:ext cx="1554120" cy="1438200"/>
          </a:xfrm>
          <a:prstGeom prst="rect">
            <a:avLst/>
          </a:prstGeom>
          <a:ln w="0">
            <a:noFill/>
          </a:ln>
        </p:spPr>
      </p:pic>
      <p:pic>
        <p:nvPicPr>
          <p:cNvPr id="163" name="図形グループ 49" descr=""/>
          <p:cNvPicPr/>
          <p:nvPr/>
        </p:nvPicPr>
        <p:blipFill>
          <a:blip r:embed="rId6"/>
          <a:stretch/>
        </p:blipFill>
        <p:spPr>
          <a:xfrm>
            <a:off x="6340320" y="5010120"/>
            <a:ext cx="1090800" cy="1036800"/>
          </a:xfrm>
          <a:prstGeom prst="rect">
            <a:avLst/>
          </a:prstGeom>
          <a:ln w="0">
            <a:noFill/>
          </a:ln>
        </p:spPr>
      </p:pic>
      <p:sp>
        <p:nvSpPr>
          <p:cNvPr id="164" name="フリーフォーム 53"/>
          <p:cNvSpPr/>
          <p:nvPr/>
        </p:nvSpPr>
        <p:spPr>
          <a:xfrm>
            <a:off x="5857920" y="5857920"/>
            <a:ext cx="244440" cy="231840"/>
          </a:xfrm>
          <a:prstGeom prst="pie">
            <a:avLst/>
          </a:prstGeom>
          <a:gradFill rotWithShape="0">
            <a:gsLst>
              <a:gs pos="0">
                <a:srgbClr val="fcdccc"/>
              </a:gs>
              <a:gs pos="100000">
                <a:srgbClr val="e3560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-360" y="-36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F14A2-B482-41CA-92D7-8B222ADFFBB3}" type="datetime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2199960" y="-360"/>
            <a:ext cx="449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宇宙史拠点実習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II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説明会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(6/16/2010, 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筑波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‐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CERN-FNA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F6C80-057F-4ABF-8B5C-9E34DF3BB087}" type="slidenum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図形グループ 1"/>
          <p:cNvGrpSpPr/>
          <p:nvPr/>
        </p:nvGrpSpPr>
        <p:grpSpPr>
          <a:xfrm>
            <a:off x="-28440" y="0"/>
            <a:ext cx="9171360" cy="6855480"/>
            <a:chOff x="-28440" y="0"/>
            <a:chExt cx="9171360" cy="6855480"/>
          </a:xfrm>
        </p:grpSpPr>
        <p:sp>
          <p:nvSpPr>
            <p:cNvPr id="207" name="フリーフォーム 17"/>
            <p:cNvSpPr/>
            <p:nvPr/>
          </p:nvSpPr>
          <p:spPr>
            <a:xfrm>
              <a:off x="-28440" y="5010120"/>
              <a:ext cx="5669640" cy="182196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フリーフォーム 18"/>
            <p:cNvSpPr/>
            <p:nvPr/>
          </p:nvSpPr>
          <p:spPr>
            <a:xfrm>
              <a:off x="4782240" y="0"/>
              <a:ext cx="3907800" cy="68554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フリーフォーム 19"/>
            <p:cNvSpPr/>
            <p:nvPr/>
          </p:nvSpPr>
          <p:spPr>
            <a:xfrm>
              <a:off x="0" y="0"/>
              <a:ext cx="9131040" cy="64738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フリーフォーム 21"/>
            <p:cNvSpPr/>
            <p:nvPr/>
          </p:nvSpPr>
          <p:spPr>
            <a:xfrm>
              <a:off x="16920" y="2575080"/>
              <a:ext cx="9126000" cy="398952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フリーフォーム 22"/>
            <p:cNvSpPr/>
            <p:nvPr/>
          </p:nvSpPr>
          <p:spPr>
            <a:xfrm>
              <a:off x="2408040" y="0"/>
              <a:ext cx="6533640" cy="68320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フリーフォーム 23"/>
            <p:cNvSpPr/>
            <p:nvPr/>
          </p:nvSpPr>
          <p:spPr>
            <a:xfrm>
              <a:off x="7448400" y="0"/>
              <a:ext cx="1694160" cy="149400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フリーフォーム 24"/>
            <p:cNvSpPr/>
            <p:nvPr/>
          </p:nvSpPr>
          <p:spPr>
            <a:xfrm>
              <a:off x="0" y="5877720"/>
              <a:ext cx="5439960" cy="95436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図形グループ 2" descr=""/>
          <p:cNvPicPr/>
          <p:nvPr/>
        </p:nvPicPr>
        <p:blipFill>
          <a:blip r:embed="rId3"/>
          <a:stretch/>
        </p:blipFill>
        <p:spPr>
          <a:xfrm>
            <a:off x="8053560" y="5840280"/>
            <a:ext cx="1090440" cy="10368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-360" y="-360"/>
            <a:ext cx="2135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42983-AE1E-4688-9CF6-5A0AE50C3299}" type="datetime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2199960" y="-360"/>
            <a:ext cx="449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宇宙史拠点実習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II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説明会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(6/16/2010, 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筑波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‐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CERN-FNA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167EE-CCC9-40FA-8C8A-EA0ACF991720}" type="slidenum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図形グループ 1"/>
          <p:cNvGrpSpPr/>
          <p:nvPr/>
        </p:nvGrpSpPr>
        <p:grpSpPr>
          <a:xfrm>
            <a:off x="-28440" y="0"/>
            <a:ext cx="9171360" cy="6855480"/>
            <a:chOff x="-28440" y="0"/>
            <a:chExt cx="9171360" cy="6855480"/>
          </a:xfrm>
        </p:grpSpPr>
        <p:sp>
          <p:nvSpPr>
            <p:cNvPr id="257" name="フリーフォーム 17"/>
            <p:cNvSpPr/>
            <p:nvPr/>
          </p:nvSpPr>
          <p:spPr>
            <a:xfrm>
              <a:off x="-28440" y="5010120"/>
              <a:ext cx="5669640" cy="182196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フリーフォーム 18"/>
            <p:cNvSpPr/>
            <p:nvPr/>
          </p:nvSpPr>
          <p:spPr>
            <a:xfrm>
              <a:off x="4782240" y="0"/>
              <a:ext cx="3907800" cy="68554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フリーフォーム 19"/>
            <p:cNvSpPr/>
            <p:nvPr/>
          </p:nvSpPr>
          <p:spPr>
            <a:xfrm>
              <a:off x="0" y="0"/>
              <a:ext cx="9131040" cy="64738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フリーフォーム 21"/>
            <p:cNvSpPr/>
            <p:nvPr/>
          </p:nvSpPr>
          <p:spPr>
            <a:xfrm>
              <a:off x="16920" y="2575080"/>
              <a:ext cx="9126000" cy="398952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フリーフォーム 22"/>
            <p:cNvSpPr/>
            <p:nvPr/>
          </p:nvSpPr>
          <p:spPr>
            <a:xfrm>
              <a:off x="2408040" y="0"/>
              <a:ext cx="6533640" cy="68320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フリーフォーム 23"/>
            <p:cNvSpPr/>
            <p:nvPr/>
          </p:nvSpPr>
          <p:spPr>
            <a:xfrm>
              <a:off x="7448400" y="0"/>
              <a:ext cx="1694160" cy="149400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フリーフォーム 24"/>
            <p:cNvSpPr/>
            <p:nvPr/>
          </p:nvSpPr>
          <p:spPr>
            <a:xfrm>
              <a:off x="0" y="5877720"/>
              <a:ext cx="5439960" cy="95436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図形グループ 2" descr=""/>
          <p:cNvPicPr/>
          <p:nvPr/>
        </p:nvPicPr>
        <p:blipFill>
          <a:blip r:embed="rId3"/>
          <a:stretch/>
        </p:blipFill>
        <p:spPr>
          <a:xfrm>
            <a:off x="8053560" y="5840280"/>
            <a:ext cx="1090440" cy="10368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-360" y="-360"/>
            <a:ext cx="2135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06AD4-897A-4CB7-9F6F-12215A101F68}" type="datetime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2199960" y="-360"/>
            <a:ext cx="449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宇宙史拠点実習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II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説明会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(6/16/2010, 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筑波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‐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CERN-FNA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8EA45-90E7-4A2D-8241-1E09532D1A65}" type="slidenum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図形グループ 1"/>
          <p:cNvGrpSpPr/>
          <p:nvPr/>
        </p:nvGrpSpPr>
        <p:grpSpPr>
          <a:xfrm>
            <a:off x="-28440" y="0"/>
            <a:ext cx="9171360" cy="6855480"/>
            <a:chOff x="-28440" y="0"/>
            <a:chExt cx="9171360" cy="6855480"/>
          </a:xfrm>
        </p:grpSpPr>
        <p:sp>
          <p:nvSpPr>
            <p:cNvPr id="307" name="フリーフォーム 17"/>
            <p:cNvSpPr/>
            <p:nvPr/>
          </p:nvSpPr>
          <p:spPr>
            <a:xfrm>
              <a:off x="-28440" y="5010120"/>
              <a:ext cx="5669640" cy="182196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フリーフォーム 18"/>
            <p:cNvSpPr/>
            <p:nvPr/>
          </p:nvSpPr>
          <p:spPr>
            <a:xfrm>
              <a:off x="4782240" y="0"/>
              <a:ext cx="3907800" cy="68554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フリーフォーム 19"/>
            <p:cNvSpPr/>
            <p:nvPr/>
          </p:nvSpPr>
          <p:spPr>
            <a:xfrm>
              <a:off x="0" y="0"/>
              <a:ext cx="9131040" cy="64738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フリーフォーム 21"/>
            <p:cNvSpPr/>
            <p:nvPr/>
          </p:nvSpPr>
          <p:spPr>
            <a:xfrm>
              <a:off x="16920" y="2575080"/>
              <a:ext cx="9126000" cy="398952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フリーフォーム 22"/>
            <p:cNvSpPr/>
            <p:nvPr/>
          </p:nvSpPr>
          <p:spPr>
            <a:xfrm>
              <a:off x="2408040" y="0"/>
              <a:ext cx="6533640" cy="68320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フリーフォーム 23"/>
            <p:cNvSpPr/>
            <p:nvPr/>
          </p:nvSpPr>
          <p:spPr>
            <a:xfrm>
              <a:off x="7448400" y="0"/>
              <a:ext cx="1694160" cy="149400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フリーフォーム 24"/>
            <p:cNvSpPr/>
            <p:nvPr/>
          </p:nvSpPr>
          <p:spPr>
            <a:xfrm>
              <a:off x="0" y="5877720"/>
              <a:ext cx="5439960" cy="95436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図形グループ 2" descr=""/>
          <p:cNvPicPr/>
          <p:nvPr/>
        </p:nvPicPr>
        <p:blipFill>
          <a:blip r:embed="rId3"/>
          <a:stretch/>
        </p:blipFill>
        <p:spPr>
          <a:xfrm>
            <a:off x="8053560" y="5840280"/>
            <a:ext cx="1090440" cy="10368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-360" y="-36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EC261-F1EE-4C07-B521-93208F1F5A35}" type="datetime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2199960" y="-360"/>
            <a:ext cx="449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宇宙史拠点実習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II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説明会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(6/16/2010, 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筑波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‐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CERN-FNA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626A1-E6AA-4F3A-A3D7-17CC8F108D27}" type="slidenum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図形グループ 1"/>
          <p:cNvGrpSpPr/>
          <p:nvPr/>
        </p:nvGrpSpPr>
        <p:grpSpPr>
          <a:xfrm>
            <a:off x="-28440" y="0"/>
            <a:ext cx="9171360" cy="6855480"/>
            <a:chOff x="-28440" y="0"/>
            <a:chExt cx="9171360" cy="6855480"/>
          </a:xfrm>
        </p:grpSpPr>
        <p:sp>
          <p:nvSpPr>
            <p:cNvPr id="357" name="フリーフォーム 17"/>
            <p:cNvSpPr/>
            <p:nvPr/>
          </p:nvSpPr>
          <p:spPr>
            <a:xfrm>
              <a:off x="-28440" y="5010120"/>
              <a:ext cx="5669640" cy="182196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フリーフォーム 18"/>
            <p:cNvSpPr/>
            <p:nvPr/>
          </p:nvSpPr>
          <p:spPr>
            <a:xfrm>
              <a:off x="4782240" y="0"/>
              <a:ext cx="3907800" cy="68554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フリーフォーム 19"/>
            <p:cNvSpPr/>
            <p:nvPr/>
          </p:nvSpPr>
          <p:spPr>
            <a:xfrm>
              <a:off x="0" y="0"/>
              <a:ext cx="9131040" cy="64738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フリーフォーム 21"/>
            <p:cNvSpPr/>
            <p:nvPr/>
          </p:nvSpPr>
          <p:spPr>
            <a:xfrm>
              <a:off x="16920" y="2575080"/>
              <a:ext cx="9126000" cy="398952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フリーフォーム 22"/>
            <p:cNvSpPr/>
            <p:nvPr/>
          </p:nvSpPr>
          <p:spPr>
            <a:xfrm>
              <a:off x="2408040" y="0"/>
              <a:ext cx="6533640" cy="68320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フリーフォーム 23"/>
            <p:cNvSpPr/>
            <p:nvPr/>
          </p:nvSpPr>
          <p:spPr>
            <a:xfrm>
              <a:off x="7448400" y="0"/>
              <a:ext cx="1694160" cy="149400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フリーフォーム 24"/>
            <p:cNvSpPr/>
            <p:nvPr/>
          </p:nvSpPr>
          <p:spPr>
            <a:xfrm>
              <a:off x="0" y="5877720"/>
              <a:ext cx="5439960" cy="95436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図形グループ 2" descr=""/>
          <p:cNvPicPr/>
          <p:nvPr/>
        </p:nvPicPr>
        <p:blipFill>
          <a:blip r:embed="rId3"/>
          <a:stretch/>
        </p:blipFill>
        <p:spPr>
          <a:xfrm>
            <a:off x="8053560" y="5840280"/>
            <a:ext cx="1090440" cy="10368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2"/>
          </p:nvPr>
        </p:nvSpPr>
        <p:spPr>
          <a:xfrm>
            <a:off x="-360" y="-36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66E6C-A0AA-4385-AA91-FCAC14444F46}" type="datetime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3"/>
          </p:nvPr>
        </p:nvSpPr>
        <p:spPr>
          <a:xfrm>
            <a:off x="2199960" y="-360"/>
            <a:ext cx="449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宇宙史拠点実習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II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説明会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(6/16/2010, 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筑波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‐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CERN-FNA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4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EACC3-0F14-4213-B7C2-F3499620D4F2}" type="slidenum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図形グループ 1"/>
          <p:cNvGrpSpPr/>
          <p:nvPr/>
        </p:nvGrpSpPr>
        <p:grpSpPr>
          <a:xfrm>
            <a:off x="-28440" y="0"/>
            <a:ext cx="9171360" cy="6855480"/>
            <a:chOff x="-28440" y="0"/>
            <a:chExt cx="9171360" cy="6855480"/>
          </a:xfrm>
        </p:grpSpPr>
        <p:sp>
          <p:nvSpPr>
            <p:cNvPr id="407" name="フリーフォーム 17"/>
            <p:cNvSpPr/>
            <p:nvPr/>
          </p:nvSpPr>
          <p:spPr>
            <a:xfrm>
              <a:off x="-28440" y="5010120"/>
              <a:ext cx="5669640" cy="182196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フリーフォーム 18"/>
            <p:cNvSpPr/>
            <p:nvPr/>
          </p:nvSpPr>
          <p:spPr>
            <a:xfrm>
              <a:off x="4782240" y="0"/>
              <a:ext cx="3907800" cy="68554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フリーフォーム 19"/>
            <p:cNvSpPr/>
            <p:nvPr/>
          </p:nvSpPr>
          <p:spPr>
            <a:xfrm>
              <a:off x="0" y="0"/>
              <a:ext cx="9131040" cy="64738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フリーフォーム 21"/>
            <p:cNvSpPr/>
            <p:nvPr/>
          </p:nvSpPr>
          <p:spPr>
            <a:xfrm>
              <a:off x="16920" y="2575080"/>
              <a:ext cx="9126000" cy="398952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フリーフォーム 22"/>
            <p:cNvSpPr/>
            <p:nvPr/>
          </p:nvSpPr>
          <p:spPr>
            <a:xfrm>
              <a:off x="2408040" y="0"/>
              <a:ext cx="6533640" cy="683208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フリーフォーム 23"/>
            <p:cNvSpPr/>
            <p:nvPr/>
          </p:nvSpPr>
          <p:spPr>
            <a:xfrm>
              <a:off x="7448400" y="0"/>
              <a:ext cx="1694160" cy="149400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フリーフォーム 24"/>
            <p:cNvSpPr/>
            <p:nvPr/>
          </p:nvSpPr>
          <p:spPr>
            <a:xfrm>
              <a:off x="0" y="5877720"/>
              <a:ext cx="5439960" cy="954360"/>
            </a:xfrm>
            <a:prstGeom prst="pie">
              <a:avLst/>
            </a:prstGeom>
            <a:noFill/>
            <a:ln w="12600">
              <a:solidFill>
                <a:srgbClr val="e3560e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図形グループ 2" descr=""/>
          <p:cNvPicPr/>
          <p:nvPr/>
        </p:nvPicPr>
        <p:blipFill>
          <a:blip r:embed="rId3"/>
          <a:stretch/>
        </p:blipFill>
        <p:spPr>
          <a:xfrm>
            <a:off x="8053560" y="5840280"/>
            <a:ext cx="1090440" cy="10368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c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75c1e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e3560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e3560e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75c1e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-360" y="-36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AA648-D251-4F35-9A2C-E01493FE093A}" type="datetime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6"/>
          </p:nvPr>
        </p:nvSpPr>
        <p:spPr>
          <a:xfrm>
            <a:off x="7714800" y="-360"/>
            <a:ext cx="142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A23AE-B069-40C9-B7DC-16F9E61C5F54}" type="slidenum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27"/>
          </p:nvPr>
        </p:nvSpPr>
        <p:spPr>
          <a:xfrm>
            <a:off x="2199960" y="-360"/>
            <a:ext cx="449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宇宙史拠点実習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II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説明会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(6/16/2010, 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筑波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‐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CERN-FNA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タイトル 1"/>
          <p:cNvGrpSpPr/>
          <p:nvPr/>
        </p:nvGrpSpPr>
        <p:grpSpPr>
          <a:xfrm>
            <a:off x="853920" y="1206360"/>
            <a:ext cx="7369200" cy="1481400"/>
            <a:chOff x="853920" y="1206360"/>
            <a:chExt cx="7369200" cy="1481400"/>
          </a:xfrm>
        </p:grpSpPr>
        <p:pic>
          <p:nvPicPr>
            <p:cNvPr id="607" name="タイトル 1" descr=""/>
            <p:cNvPicPr/>
            <p:nvPr/>
          </p:nvPicPr>
          <p:blipFill>
            <a:blip r:embed="rId2"/>
            <a:stretch/>
          </p:blipFill>
          <p:spPr>
            <a:xfrm>
              <a:off x="853920" y="1206360"/>
              <a:ext cx="736920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857160" y="1214280"/>
              <a:ext cx="735804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300" spc="-1" strike="noStrike">
                  <a:solidFill>
                    <a:srgbClr val="975c1e"/>
                  </a:solidFill>
                  <a:latin typeface="Calibri"/>
                  <a:ea typeface="ＭＳ ゴシック"/>
                </a:rPr>
                <a:t>宇宙史拠点実習</a:t>
              </a:r>
              <a:r>
                <a:rPr b="0" lang="en-US" sz="4300" spc="-1" strike="noStrike">
                  <a:solidFill>
                    <a:srgbClr val="975c1e"/>
                  </a:solidFill>
                  <a:latin typeface="Calibri"/>
                  <a:ea typeface="ＭＳ ゴシック"/>
                </a:rPr>
                <a:t>Ⅱ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856800" y="2708280"/>
            <a:ext cx="7358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975c1e"/>
                </a:solidFill>
                <a:latin typeface="Corbel"/>
              </a:rPr>
              <a:t>期間</a:t>
            </a:r>
            <a:r>
              <a:rPr b="0" lang="en-US" sz="3000" spc="-1" strike="noStrike">
                <a:solidFill>
                  <a:srgbClr val="975c1e"/>
                </a:solidFill>
                <a:latin typeface="Corbel"/>
              </a:rPr>
              <a:t>:7/2/2010 ‒ 8/3/2010 </a:t>
            </a:r>
            <a:endParaRPr b="0" lang="en-US" sz="3000" spc="-1" strike="noStrike">
              <a:solidFill>
                <a:srgbClr val="975c1e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975c1e"/>
                </a:solidFill>
                <a:latin typeface="Corbel"/>
              </a:rPr>
              <a:t>実施場所</a:t>
            </a:r>
            <a:r>
              <a:rPr b="0" lang="en-US" sz="3000" spc="-1" strike="noStrike">
                <a:solidFill>
                  <a:srgbClr val="975c1e"/>
                </a:solidFill>
                <a:latin typeface="Corbel"/>
              </a:rPr>
              <a:t>:CERN</a:t>
            </a:r>
            <a:r>
              <a:rPr b="0" lang="ja-JP" sz="3000" spc="-1" strike="noStrike">
                <a:solidFill>
                  <a:srgbClr val="975c1e"/>
                </a:solidFill>
                <a:latin typeface="Corbel"/>
              </a:rPr>
              <a:t>研究所</a:t>
            </a:r>
            <a:r>
              <a:rPr b="0" lang="en-US" sz="3000" spc="-1" strike="noStrike">
                <a:solidFill>
                  <a:srgbClr val="975c1e"/>
                </a:solidFill>
                <a:latin typeface="Corbel"/>
              </a:rPr>
              <a:t>, France/Switzerland</a:t>
            </a:r>
            <a:endParaRPr b="0" lang="en-US" sz="30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10" name="テキスト ボックス 3"/>
          <p:cNvSpPr/>
          <p:nvPr/>
        </p:nvSpPr>
        <p:spPr>
          <a:xfrm>
            <a:off x="411120" y="6318360"/>
            <a:ext cx="59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975c1e"/>
                </a:solidFill>
                <a:latin typeface="Corbel"/>
                <a:ea typeface="ＭＳ ゴシック"/>
              </a:rPr>
              <a:t>宇宙史拠点実習</a:t>
            </a:r>
            <a:r>
              <a:rPr b="0" lang="en-US" sz="1800" spc="-1" strike="noStrike">
                <a:solidFill>
                  <a:srgbClr val="975c1e"/>
                </a:solidFill>
                <a:latin typeface="Corbel"/>
                <a:ea typeface="ＭＳ ゴシック"/>
              </a:rPr>
              <a:t>II</a:t>
            </a:r>
            <a:r>
              <a:rPr b="0" lang="ja-JP" sz="1800" spc="-1" strike="noStrike">
                <a:solidFill>
                  <a:srgbClr val="975c1e"/>
                </a:solidFill>
                <a:latin typeface="Corbel"/>
                <a:ea typeface="ＭＳ ゴシック"/>
              </a:rPr>
              <a:t>説明会</a:t>
            </a:r>
            <a:r>
              <a:rPr b="0" lang="en-US" sz="1800" spc="-1" strike="noStrike">
                <a:solidFill>
                  <a:srgbClr val="975c1e"/>
                </a:solidFill>
                <a:latin typeface="Corbel"/>
                <a:ea typeface="ＭＳ ゴシック"/>
              </a:rPr>
              <a:t>(6/16/2010, </a:t>
            </a:r>
            <a:r>
              <a:rPr b="0" lang="ja-JP" sz="1800" spc="-1" strike="noStrike">
                <a:solidFill>
                  <a:srgbClr val="975c1e"/>
                </a:solidFill>
                <a:latin typeface="Corbel"/>
                <a:ea typeface="ＭＳ ゴシック"/>
              </a:rPr>
              <a:t>筑波</a:t>
            </a:r>
            <a:r>
              <a:rPr b="0" lang="en-US" sz="1800" spc="-1" strike="noStrike">
                <a:solidFill>
                  <a:srgbClr val="975c1e"/>
                </a:solidFill>
                <a:latin typeface="Corbel"/>
                <a:ea typeface="ＭＳ ゴシック"/>
              </a:rPr>
              <a:t>‐</a:t>
            </a:r>
            <a:r>
              <a:rPr b="0" lang="en-US" sz="1800" spc="-1" strike="noStrike">
                <a:solidFill>
                  <a:srgbClr val="975c1e"/>
                </a:solidFill>
                <a:latin typeface="Corbel"/>
                <a:ea typeface="ＭＳ ゴシック"/>
              </a:rPr>
              <a:t>CERN-F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タイトル 1"/>
          <p:cNvGrpSpPr/>
          <p:nvPr/>
        </p:nvGrpSpPr>
        <p:grpSpPr>
          <a:xfrm>
            <a:off x="420840" y="378000"/>
            <a:ext cx="1950840" cy="403200"/>
            <a:chOff x="420840" y="378000"/>
            <a:chExt cx="1950840" cy="403200"/>
          </a:xfrm>
        </p:grpSpPr>
        <p:pic>
          <p:nvPicPr>
            <p:cNvPr id="612" name="タイトル 1" descr=""/>
            <p:cNvPicPr/>
            <p:nvPr/>
          </p:nvPicPr>
          <p:blipFill>
            <a:blip r:embed="rId2"/>
            <a:stretch/>
          </p:blipFill>
          <p:spPr>
            <a:xfrm>
              <a:off x="420840" y="378000"/>
              <a:ext cx="195084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428760" y="384120"/>
              <a:ext cx="193500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975c1e"/>
                  </a:solidFill>
                  <a:latin typeface="Calibri"/>
                  <a:ea typeface="ＭＳ ゴシック"/>
                </a:rPr>
                <a:t>実習情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 txBox="1"/>
          <p:nvPr/>
        </p:nvSpPr>
        <p:spPr>
          <a:xfrm>
            <a:off x="428760" y="1095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975c1e"/>
                </a:solidFill>
                <a:latin typeface="Corbel"/>
              </a:rPr>
              <a:t>参加者</a:t>
            </a:r>
            <a:r>
              <a:rPr b="0" lang="en-US" sz="2200" spc="-1" strike="noStrike">
                <a:solidFill>
                  <a:srgbClr val="975c1e"/>
                </a:solidFill>
                <a:latin typeface="Corbel"/>
              </a:rPr>
              <a:t>(ATLAS 7</a:t>
            </a:r>
            <a:r>
              <a:rPr b="0" lang="ja-JP" sz="2200" spc="-1" strike="noStrike">
                <a:solidFill>
                  <a:srgbClr val="975c1e"/>
                </a:solidFill>
                <a:latin typeface="Corbel"/>
              </a:rPr>
              <a:t>名、</a:t>
            </a:r>
            <a:r>
              <a:rPr b="0" lang="en-US" sz="2200" spc="-1" strike="noStrike">
                <a:solidFill>
                  <a:srgbClr val="975c1e"/>
                </a:solidFill>
                <a:latin typeface="Corbel"/>
              </a:rPr>
              <a:t>ALICE4</a:t>
            </a:r>
            <a:r>
              <a:rPr b="0" lang="ja-JP" sz="2200" spc="-1" strike="noStrike">
                <a:solidFill>
                  <a:srgbClr val="975c1e"/>
                </a:solidFill>
                <a:latin typeface="Corbel"/>
              </a:rPr>
              <a:t>名</a:t>
            </a:r>
            <a:r>
              <a:rPr b="0" lang="en-US" sz="2200" spc="-1" strike="noStrike">
                <a:solidFill>
                  <a:srgbClr val="975c1e"/>
                </a:solidFill>
                <a:latin typeface="Corbel"/>
              </a:rPr>
              <a:t>)</a:t>
            </a:r>
            <a:endParaRPr b="0" lang="en-US" sz="2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5c1e"/>
                </a:solidFill>
                <a:latin typeface="Corbel"/>
              </a:rPr>
              <a:t>ATLAS </a:t>
            </a:r>
            <a:endParaRPr b="0" lang="en-US" sz="20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素粒子実験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1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年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(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高橋、望月、小池、新庄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)4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名</a:t>
            </a:r>
            <a:endParaRPr b="0" lang="en-US" sz="17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素粒子実験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2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年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(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橋本、木内、濱崎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)3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名</a:t>
            </a:r>
            <a:endParaRPr b="0" lang="en-US" sz="17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5c1e"/>
                </a:solidFill>
                <a:latin typeface="Corbel"/>
              </a:rPr>
              <a:t>ALICE</a:t>
            </a:r>
            <a:endParaRPr b="0" lang="en-US" sz="20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原子核実験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1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年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(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窪田・近藤・水野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)3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名</a:t>
            </a:r>
            <a:endParaRPr b="0" lang="en-US" sz="17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宇宙観測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1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年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(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二瓶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)1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名</a:t>
            </a:r>
            <a:endParaRPr b="0" lang="en-US" sz="17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975c1e"/>
                </a:solidFill>
                <a:latin typeface="Corbel"/>
              </a:rPr>
              <a:t>手続き</a:t>
            </a:r>
            <a:endParaRPr b="0" lang="en-US" sz="2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975c1e"/>
                </a:solidFill>
                <a:latin typeface="Corbel"/>
              </a:rPr>
              <a:t>日本にて</a:t>
            </a:r>
            <a:endParaRPr b="0" lang="en-US" sz="20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出張手続き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(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物理事務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)</a:t>
            </a:r>
            <a:endParaRPr b="0" lang="en-US" sz="17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計算機アカウント申請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(CERN)</a:t>
            </a:r>
            <a:endParaRPr b="0" lang="en-US" sz="17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5c1e"/>
                </a:solidFill>
                <a:latin typeface="Corbel"/>
              </a:rPr>
              <a:t>CERN</a:t>
            </a:r>
            <a:r>
              <a:rPr b="0" lang="ja-JP" sz="2000" spc="-1" strike="noStrike">
                <a:solidFill>
                  <a:srgbClr val="975c1e"/>
                </a:solidFill>
                <a:latin typeface="Corbel"/>
              </a:rPr>
              <a:t>にて　</a:t>
            </a:r>
            <a:endParaRPr b="0" lang="en-US" sz="20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ユーザー登録（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CERN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ユーザーオフィス）</a:t>
            </a:r>
            <a:endParaRPr b="0" lang="en-US" sz="17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必要な書類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: 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パスポート、在学証明書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(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英文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)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、旅行保険証、及び、記入済みのユーザー登録フォーム 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=&gt; 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アクセスカードの取得</a:t>
            </a:r>
            <a:endParaRPr b="0" lang="en-US" sz="17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安全講習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(Web)</a:t>
            </a:r>
            <a:endParaRPr b="0" lang="en-US" sz="17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975c1e"/>
                </a:solidFill>
                <a:latin typeface="Corbel"/>
              </a:rPr>
              <a:t>現地対応者</a:t>
            </a:r>
            <a:endParaRPr b="0" lang="en-US" sz="2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5c1e"/>
                </a:solidFill>
                <a:latin typeface="Corbel"/>
              </a:rPr>
              <a:t>ALICE ---</a:t>
            </a:r>
            <a:r>
              <a:rPr b="0" lang="ja-JP" sz="2000" spc="-1" strike="noStrike">
                <a:solidFill>
                  <a:srgbClr val="975c1e"/>
                </a:solidFill>
                <a:latin typeface="Corbel"/>
              </a:rPr>
              <a:t>中條・江角・下村</a:t>
            </a:r>
            <a:endParaRPr b="0" lang="en-US" sz="20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15" name="フッター プレースホルダ 3"/>
          <p:cNvSpPr/>
          <p:nvPr/>
        </p:nvSpPr>
        <p:spPr>
          <a:xfrm>
            <a:off x="2200320" y="0"/>
            <a:ext cx="449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宇宙史拠点実習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II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説明会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(6/16/2010, 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筑波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‐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CERN-FNA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スライド番号プレースホルダ 4"/>
          <p:cNvSpPr/>
          <p:nvPr/>
        </p:nvSpPr>
        <p:spPr>
          <a:xfrm>
            <a:off x="7715160" y="0"/>
            <a:ext cx="1428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99B939-1B5A-4756-8DF9-A6A3DC133EA4}" type="slidenum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タイトル 1"/>
          <p:cNvGrpSpPr/>
          <p:nvPr/>
        </p:nvGrpSpPr>
        <p:grpSpPr>
          <a:xfrm>
            <a:off x="420840" y="378000"/>
            <a:ext cx="1950840" cy="403200"/>
            <a:chOff x="420840" y="378000"/>
            <a:chExt cx="1950840" cy="403200"/>
          </a:xfrm>
        </p:grpSpPr>
        <p:pic>
          <p:nvPicPr>
            <p:cNvPr id="618" name="タイトル 1" descr=""/>
            <p:cNvPicPr/>
            <p:nvPr/>
          </p:nvPicPr>
          <p:blipFill>
            <a:blip r:embed="rId2"/>
            <a:stretch/>
          </p:blipFill>
          <p:spPr>
            <a:xfrm>
              <a:off x="420840" y="378000"/>
              <a:ext cx="195084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428760" y="384120"/>
              <a:ext cx="193500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975c1e"/>
                  </a:solidFill>
                  <a:latin typeface="Calibri"/>
                  <a:ea typeface="ＭＳ ゴシック"/>
                </a:rPr>
                <a:t>実習情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"/>
          <p:cNvSpPr txBox="1"/>
          <p:nvPr/>
        </p:nvSpPr>
        <p:spPr>
          <a:xfrm>
            <a:off x="428760" y="1095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975c1e"/>
                </a:solidFill>
                <a:latin typeface="Corbel"/>
              </a:rPr>
              <a:t>宿泊先</a:t>
            </a:r>
            <a:endParaRPr b="0" lang="en-US" sz="27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975c1e"/>
                </a:solidFill>
                <a:latin typeface="Corbel"/>
              </a:rPr>
              <a:t>自炊可能なアパート </a:t>
            </a:r>
            <a:r>
              <a:rPr b="0" lang="en-US" sz="2400" spc="-1" strike="noStrike">
                <a:solidFill>
                  <a:srgbClr val="975c1e"/>
                </a:solidFill>
                <a:latin typeface="Corbel"/>
              </a:rPr>
              <a:t>(Prevessin)</a:t>
            </a:r>
            <a:endParaRPr b="0" lang="en-US" sz="24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975c1e"/>
                </a:solidFill>
                <a:latin typeface="Corbel"/>
              </a:rPr>
              <a:t>共同生活。</a:t>
            </a:r>
            <a:endParaRPr b="0" lang="en-US" sz="24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975c1e"/>
                </a:solidFill>
                <a:latin typeface="Corbel"/>
              </a:rPr>
              <a:t>移動</a:t>
            </a:r>
            <a:endParaRPr b="0" lang="en-US" sz="27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975c1e"/>
                </a:solidFill>
                <a:latin typeface="Corbel"/>
              </a:rPr>
              <a:t>レンタカーでの集団行動</a:t>
            </a:r>
            <a:endParaRPr b="0" lang="en-US" sz="24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975c1e"/>
                </a:solidFill>
                <a:latin typeface="Corbel"/>
              </a:rPr>
              <a:t>ホテルはフランス、研究所はスイス、実験室はフランス。 </a:t>
            </a:r>
            <a:endParaRPr b="0" lang="en-US" sz="24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6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975c1e"/>
                </a:solidFill>
                <a:latin typeface="Corbel"/>
              </a:rPr>
              <a:t>パスポートとアクセスカードを常時携行。</a:t>
            </a:r>
            <a:endParaRPr b="0" lang="en-US" sz="20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975c1e"/>
                </a:solidFill>
                <a:latin typeface="Corbel"/>
              </a:rPr>
              <a:t>国際免許証が必要。免許を持っている人は取ってください。（取得に時間がかかる場合もあるので早めに。）</a:t>
            </a:r>
            <a:endParaRPr b="0" lang="en-US" sz="24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975c1e"/>
                </a:solidFill>
                <a:latin typeface="Corbel"/>
              </a:rPr>
              <a:t>持ち物</a:t>
            </a:r>
            <a:endParaRPr b="0" lang="en-US" sz="27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75c1e"/>
                </a:solidFill>
                <a:latin typeface="Corbel"/>
              </a:rPr>
              <a:t>WEB</a:t>
            </a:r>
            <a:r>
              <a:rPr b="0" lang="ja-JP" sz="2400" spc="-1" strike="noStrike">
                <a:solidFill>
                  <a:srgbClr val="975c1e"/>
                </a:solidFill>
                <a:latin typeface="Corbel"/>
              </a:rPr>
              <a:t>のリストを参考に。</a:t>
            </a:r>
            <a:endParaRPr b="0" lang="en-US" sz="24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975c1e"/>
                </a:solidFill>
                <a:latin typeface="Corbel"/>
              </a:rPr>
              <a:t>各自ノート</a:t>
            </a:r>
            <a:r>
              <a:rPr b="0" lang="en-US" sz="2400" spc="-1" strike="noStrike">
                <a:solidFill>
                  <a:srgbClr val="975c1e"/>
                </a:solidFill>
                <a:latin typeface="Corbel"/>
              </a:rPr>
              <a:t>PC</a:t>
            </a:r>
            <a:r>
              <a:rPr b="0" lang="ja-JP" sz="2400" spc="-1" strike="noStrike">
                <a:solidFill>
                  <a:srgbClr val="975c1e"/>
                </a:solidFill>
                <a:latin typeface="Corbel"/>
              </a:rPr>
              <a:t>を持参すること。実習に使います。</a:t>
            </a:r>
            <a:endParaRPr b="0" lang="en-US" sz="24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975c1e"/>
                </a:solidFill>
                <a:latin typeface="Corbel"/>
              </a:rPr>
              <a:t>変換プラグも必要。</a:t>
            </a:r>
            <a:endParaRPr b="0" lang="en-US" sz="24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21" name="フッター プレースホルダ 3"/>
          <p:cNvSpPr/>
          <p:nvPr/>
        </p:nvSpPr>
        <p:spPr>
          <a:xfrm>
            <a:off x="2200320" y="0"/>
            <a:ext cx="449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宇宙史拠点実習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II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説明会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(6/16/2010, 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筑波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‐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CERN-FNA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スライド番号プレースホルダ 4"/>
          <p:cNvSpPr/>
          <p:nvPr/>
        </p:nvSpPr>
        <p:spPr>
          <a:xfrm>
            <a:off x="7715160" y="0"/>
            <a:ext cx="1428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69A06-B48D-46D0-856D-52A1273D598E}" type="slidenum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タイトル 1"/>
          <p:cNvGrpSpPr/>
          <p:nvPr/>
        </p:nvGrpSpPr>
        <p:grpSpPr>
          <a:xfrm>
            <a:off x="420840" y="378000"/>
            <a:ext cx="1950840" cy="403200"/>
            <a:chOff x="420840" y="378000"/>
            <a:chExt cx="1950840" cy="403200"/>
          </a:xfrm>
        </p:grpSpPr>
        <p:pic>
          <p:nvPicPr>
            <p:cNvPr id="624" name="タイトル 1" descr=""/>
            <p:cNvPicPr/>
            <p:nvPr/>
          </p:nvPicPr>
          <p:blipFill>
            <a:blip r:embed="rId2"/>
            <a:stretch/>
          </p:blipFill>
          <p:spPr>
            <a:xfrm>
              <a:off x="420840" y="378000"/>
              <a:ext cx="195084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428760" y="384120"/>
              <a:ext cx="193500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975c1e"/>
                  </a:solidFill>
                  <a:latin typeface="Calibri"/>
                  <a:ea typeface="ＭＳ ゴシック"/>
                </a:rPr>
                <a:t>実習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"/>
          <p:cNvSpPr txBox="1"/>
          <p:nvPr/>
        </p:nvSpPr>
        <p:spPr>
          <a:xfrm>
            <a:off x="582120" y="1228680"/>
            <a:ext cx="793116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975c1e"/>
                </a:solidFill>
                <a:latin typeface="Corbel"/>
              </a:rPr>
              <a:t>講義</a:t>
            </a:r>
            <a:endParaRPr b="0" lang="en-US" sz="2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5c1e"/>
                </a:solidFill>
                <a:latin typeface="Corbel"/>
              </a:rPr>
              <a:t>CERN Summer Student Lecture Program (</a:t>
            </a:r>
            <a:r>
              <a:rPr b="0" lang="ja-JP" sz="2000" spc="-1" strike="noStrike">
                <a:solidFill>
                  <a:srgbClr val="975c1e"/>
                </a:solidFill>
                <a:latin typeface="Corbel"/>
              </a:rPr>
              <a:t>午前中</a:t>
            </a:r>
            <a:r>
              <a:rPr b="0" lang="en-US" sz="2000" spc="-1" strike="noStrike">
                <a:solidFill>
                  <a:srgbClr val="975c1e"/>
                </a:solidFill>
                <a:latin typeface="Corbel"/>
              </a:rPr>
              <a:t>) </a:t>
            </a:r>
            <a:endParaRPr b="0" lang="en-US" sz="20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975c1e"/>
                </a:solidFill>
                <a:latin typeface="Wingdings"/>
                <a:ea typeface="Wingdings"/>
              </a:rPr>
              <a:t>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レポート提出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(8/31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〆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切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)</a:t>
            </a:r>
            <a:endParaRPr b="0" lang="en-US" sz="17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75c1e"/>
                </a:solidFill>
                <a:latin typeface="Corbel"/>
              </a:rPr>
              <a:t> </a:t>
            </a:r>
            <a:r>
              <a:rPr b="0" lang="ja-JP" sz="2200" spc="-1" strike="noStrike">
                <a:solidFill>
                  <a:srgbClr val="975c1e"/>
                </a:solidFill>
                <a:latin typeface="Corbel"/>
              </a:rPr>
              <a:t>実習</a:t>
            </a:r>
            <a:r>
              <a:rPr b="0" lang="en-US" sz="2200" spc="-1" strike="noStrike">
                <a:solidFill>
                  <a:srgbClr val="975c1e"/>
                </a:solidFill>
                <a:latin typeface="Corbel"/>
              </a:rPr>
              <a:t>(ALICE</a:t>
            </a:r>
            <a:r>
              <a:rPr b="0" lang="ja-JP" sz="2200" spc="-1" strike="noStrike">
                <a:solidFill>
                  <a:srgbClr val="975c1e"/>
                </a:solidFill>
                <a:latin typeface="Corbel"/>
              </a:rPr>
              <a:t>班と</a:t>
            </a:r>
            <a:r>
              <a:rPr b="0" lang="en-US" sz="2200" spc="-1" strike="noStrike">
                <a:solidFill>
                  <a:srgbClr val="975c1e"/>
                </a:solidFill>
                <a:latin typeface="Corbel"/>
              </a:rPr>
              <a:t>ALTAS</a:t>
            </a:r>
            <a:r>
              <a:rPr b="0" lang="ja-JP" sz="2200" spc="-1" strike="noStrike">
                <a:solidFill>
                  <a:srgbClr val="975c1e"/>
                </a:solidFill>
                <a:latin typeface="Corbel"/>
              </a:rPr>
              <a:t>班に別れて行う</a:t>
            </a:r>
            <a:r>
              <a:rPr b="0" lang="en-US" sz="2200" spc="-1" strike="noStrike">
                <a:solidFill>
                  <a:srgbClr val="975c1e"/>
                </a:solidFill>
                <a:latin typeface="Corbel"/>
              </a:rPr>
              <a:t>)</a:t>
            </a:r>
            <a:endParaRPr b="0" lang="en-US" sz="22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一人一つ課題を決めて取り組む</a:t>
            </a:r>
            <a:endParaRPr b="0" lang="en-US" sz="17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中間報告会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(7/16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頃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TV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会議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) </a:t>
            </a:r>
            <a:endParaRPr b="0" lang="en-US" sz="1700" spc="-1" strike="noStrike">
              <a:solidFill>
                <a:srgbClr val="975c1e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c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最終報告会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(7/30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頃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TV</a:t>
            </a:r>
            <a:r>
              <a:rPr b="0" lang="ja-JP" sz="1700" spc="-1" strike="noStrike">
                <a:solidFill>
                  <a:srgbClr val="975c1e"/>
                </a:solidFill>
                <a:latin typeface="Corbel"/>
              </a:rPr>
              <a:t>会議</a:t>
            </a:r>
            <a:r>
              <a:rPr b="0" lang="en-US" sz="1700" spc="-1" strike="noStrike">
                <a:solidFill>
                  <a:srgbClr val="975c1e"/>
                </a:solidFill>
                <a:latin typeface="Corbel"/>
              </a:rPr>
              <a:t>)</a:t>
            </a:r>
            <a:endParaRPr b="0" lang="en-US" sz="17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975c1e"/>
                </a:solidFill>
                <a:latin typeface="Corbel"/>
              </a:rPr>
              <a:t>実習課題例（</a:t>
            </a:r>
            <a:r>
              <a:rPr b="0" lang="en-US" sz="2000" spc="-1" strike="noStrike">
                <a:solidFill>
                  <a:srgbClr val="975c1e"/>
                </a:solidFill>
                <a:latin typeface="Corbel"/>
              </a:rPr>
              <a:t>ALICE</a:t>
            </a:r>
            <a:r>
              <a:rPr b="0" lang="ja-JP" sz="2000" spc="-1" strike="noStrike">
                <a:solidFill>
                  <a:srgbClr val="975c1e"/>
                </a:solidFill>
                <a:latin typeface="Corbel"/>
              </a:rPr>
              <a:t>班）</a:t>
            </a:r>
            <a:endParaRPr b="0" lang="en-US" sz="20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975c1e"/>
                </a:solidFill>
                <a:latin typeface="Corbel"/>
              </a:rPr>
              <a:t>課題１：</a:t>
            </a:r>
            <a:r>
              <a:rPr b="0" lang="en-US" sz="2000" spc="-1" strike="noStrike">
                <a:solidFill>
                  <a:srgbClr val="975c1e"/>
                </a:solidFill>
                <a:latin typeface="Corbel"/>
              </a:rPr>
              <a:t>EMC geometry calibration with TPC/EMC/TOF charged track matching</a:t>
            </a:r>
            <a:r>
              <a:rPr b="0" lang="ja-JP" sz="2000" spc="-1" strike="noStrike">
                <a:solidFill>
                  <a:srgbClr val="975c1e"/>
                </a:solidFill>
                <a:latin typeface="Corbel"/>
              </a:rPr>
              <a:t>　（中條）</a:t>
            </a:r>
            <a:endParaRPr b="0" lang="en-US" sz="20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975c1e"/>
                </a:solidFill>
                <a:latin typeface="Corbel"/>
              </a:rPr>
              <a:t>課題２：</a:t>
            </a:r>
            <a:r>
              <a:rPr b="0" lang="en-US" sz="2000" spc="-1" strike="noStrike">
                <a:solidFill>
                  <a:srgbClr val="975c1e"/>
                </a:solidFill>
                <a:latin typeface="Corbel"/>
              </a:rPr>
              <a:t>EMC tower-by-tower energy calibration with pi0n</a:t>
            </a:r>
            <a:r>
              <a:rPr b="0" lang="ja-JP" sz="2000" spc="-1" strike="noStrike">
                <a:solidFill>
                  <a:srgbClr val="975c1e"/>
                </a:solidFill>
                <a:latin typeface="Corbel"/>
              </a:rPr>
              <a:t>（中條・下村）</a:t>
            </a:r>
            <a:endParaRPr b="0" lang="en-US" sz="20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975c1e"/>
                </a:solidFill>
                <a:latin typeface="Corbel"/>
              </a:rPr>
              <a:t>課題３：</a:t>
            </a:r>
            <a:r>
              <a:rPr b="0" lang="en-US" sz="2000" spc="-1" strike="noStrike">
                <a:solidFill>
                  <a:srgbClr val="975c1e"/>
                </a:solidFill>
                <a:latin typeface="Corbel"/>
              </a:rPr>
              <a:t>TPC/ITS PIDed hadron spectra/ratio and/or strangeness reconstruction</a:t>
            </a:r>
            <a:r>
              <a:rPr b="0" lang="ja-JP" sz="2000" spc="-1" strike="noStrike">
                <a:solidFill>
                  <a:srgbClr val="975c1e"/>
                </a:solidFill>
                <a:latin typeface="Corbel"/>
              </a:rPr>
              <a:t>（中條）</a:t>
            </a:r>
            <a:endParaRPr b="0" lang="en-US" sz="20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975c1e"/>
                </a:solidFill>
                <a:latin typeface="Corbel"/>
              </a:rPr>
              <a:t>課題４：</a:t>
            </a:r>
            <a:r>
              <a:rPr b="0" lang="en-US" sz="2000" spc="-1" strike="noStrike">
                <a:solidFill>
                  <a:srgbClr val="975c1e"/>
                </a:solidFill>
                <a:latin typeface="Corbel"/>
              </a:rPr>
              <a:t>Jet reconstruction and/or hadron correlation</a:t>
            </a:r>
            <a:r>
              <a:rPr b="0" lang="ja-JP" sz="2000" spc="-1" strike="noStrike">
                <a:solidFill>
                  <a:srgbClr val="975c1e"/>
                </a:solidFill>
                <a:latin typeface="Corbel"/>
              </a:rPr>
              <a:t>（江角）</a:t>
            </a:r>
            <a:endParaRPr b="0" lang="en-US" sz="20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975c1e"/>
                </a:solidFill>
                <a:latin typeface="Corbel"/>
              </a:rPr>
              <a:t>課題５：</a:t>
            </a:r>
            <a:r>
              <a:rPr b="0" lang="en-US" sz="2000" spc="-1" strike="noStrike">
                <a:solidFill>
                  <a:srgbClr val="975c1e"/>
                </a:solidFill>
                <a:latin typeface="Corbel"/>
              </a:rPr>
              <a:t>PHENIX jet/flow/correlation analysis</a:t>
            </a:r>
            <a:r>
              <a:rPr b="0" lang="ja-JP" sz="2000" spc="-1" strike="noStrike">
                <a:solidFill>
                  <a:srgbClr val="975c1e"/>
                </a:solidFill>
                <a:latin typeface="Corbel"/>
              </a:rPr>
              <a:t>（江角・下村）</a:t>
            </a:r>
            <a:endParaRPr b="0" lang="en-US" sz="20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27" name="フッター プレースホルダ 3"/>
          <p:cNvSpPr/>
          <p:nvPr/>
        </p:nvSpPr>
        <p:spPr>
          <a:xfrm>
            <a:off x="2200320" y="0"/>
            <a:ext cx="449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宇宙史拠点実習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II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説明会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(6/16/2010, 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筑波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‐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CERN-FNA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スライド番号プレースホルダ 4"/>
          <p:cNvSpPr/>
          <p:nvPr/>
        </p:nvSpPr>
        <p:spPr>
          <a:xfrm>
            <a:off x="7715160" y="0"/>
            <a:ext cx="1428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69CA7-663A-42B7-B7B4-2B7BB4B9ED30}" type="slidenum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タイトル 1"/>
          <p:cNvGrpSpPr/>
          <p:nvPr/>
        </p:nvGrpSpPr>
        <p:grpSpPr>
          <a:xfrm>
            <a:off x="420840" y="378000"/>
            <a:ext cx="7613640" cy="403200"/>
            <a:chOff x="420840" y="378000"/>
            <a:chExt cx="7613640" cy="403200"/>
          </a:xfrm>
        </p:grpSpPr>
        <p:pic>
          <p:nvPicPr>
            <p:cNvPr id="630" name="タイトル 1" descr=""/>
            <p:cNvPicPr/>
            <p:nvPr/>
          </p:nvPicPr>
          <p:blipFill>
            <a:blip r:embed="rId2"/>
            <a:stretch/>
          </p:blipFill>
          <p:spPr>
            <a:xfrm>
              <a:off x="420840" y="378000"/>
              <a:ext cx="761364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428760" y="384120"/>
              <a:ext cx="75992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75c1e"/>
                  </a:solidFill>
                  <a:latin typeface="Calibri"/>
                  <a:ea typeface="ＭＳ ゴシック"/>
                </a:rPr>
                <a:t>CERN Summer Student Progra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"/>
          <p:cNvSpPr txBox="1"/>
          <p:nvPr/>
        </p:nvSpPr>
        <p:spPr>
          <a:xfrm>
            <a:off x="582120" y="1228680"/>
            <a:ext cx="793116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75c1e"/>
                </a:solidFill>
                <a:latin typeface="Corbel"/>
              </a:rPr>
              <a:t>CERN Summer Student Lecture Programme</a:t>
            </a:r>
            <a:endParaRPr b="0" lang="en-US" sz="2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5c1e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975c1e"/>
                </a:solidFill>
                <a:latin typeface="Corbel"/>
              </a:rPr>
              <a:t>7/7 (Wed.) – 8/13 (Fri.) </a:t>
            </a:r>
            <a:endParaRPr b="0" lang="en-US" sz="20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5c1e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975c1e"/>
                </a:solidFill>
                <a:latin typeface="Corbel"/>
              </a:rPr>
              <a:t>9:15 – 12:30</a:t>
            </a:r>
            <a:endParaRPr b="0" lang="en-US" sz="20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5c1e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975c1e"/>
                </a:solidFill>
                <a:latin typeface="Corbel"/>
              </a:rPr>
              <a:t>Weekdays</a:t>
            </a:r>
            <a:endParaRPr b="0" lang="en-US" sz="20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975c1e"/>
                </a:solidFill>
                <a:latin typeface="Corbel"/>
              </a:rPr>
              <a:t>講義内容は、とても充実している。</a:t>
            </a:r>
            <a:endParaRPr b="0" lang="en-US" sz="2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c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5c1e"/>
                </a:solidFill>
                <a:latin typeface="Corbel"/>
              </a:rPr>
              <a:t>Particle Physics, Nuclear Physics, Astroparticle physics, Cosmology, Accelerators, Detectors, Experimental techniques</a:t>
            </a:r>
            <a:r>
              <a:rPr b="0" lang="ja-JP" sz="2000" spc="-1" strike="noStrike">
                <a:solidFill>
                  <a:srgbClr val="975c1e"/>
                </a:solidFill>
                <a:latin typeface="Corbel"/>
              </a:rPr>
              <a:t>など</a:t>
            </a:r>
            <a:endParaRPr b="0" lang="en-US" sz="20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975c1e"/>
                </a:solidFill>
                <a:latin typeface="Corbel"/>
              </a:rPr>
              <a:t>プログラムは</a:t>
            </a:r>
            <a:r>
              <a:rPr b="0" lang="en-US" sz="2200" spc="-1" strike="noStrike">
                <a:solidFill>
                  <a:srgbClr val="975c1e"/>
                </a:solidFill>
                <a:latin typeface="Corbel"/>
              </a:rPr>
              <a:t>Web</a:t>
            </a:r>
            <a:r>
              <a:rPr b="0" lang="ja-JP" sz="2200" spc="-1" strike="noStrike">
                <a:solidFill>
                  <a:srgbClr val="975c1e"/>
                </a:solidFill>
                <a:latin typeface="Corbel"/>
              </a:rPr>
              <a:t>を参考に。</a:t>
            </a:r>
            <a:endParaRPr b="0" lang="en-US" sz="2200" spc="-1" strike="noStrike">
              <a:solidFill>
                <a:srgbClr val="975c1e"/>
              </a:solidFill>
              <a:latin typeface="Corbel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5c1e"/>
                </a:solidFill>
                <a:latin typeface="Corbel"/>
              </a:rPr>
              <a:t>http://indico.cern.ch/scripts/SSLPdisplay.py?stdate=2010-07-05&amp;nbweeks=7</a:t>
            </a:r>
            <a:endParaRPr b="0" lang="en-US" sz="18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975c1e"/>
                </a:solidFill>
                <a:latin typeface="Corbel"/>
              </a:rPr>
              <a:t>講義スライドは</a:t>
            </a:r>
            <a:r>
              <a:rPr b="0" lang="en-US" sz="2200" spc="-1" strike="noStrike">
                <a:solidFill>
                  <a:srgbClr val="975c1e"/>
                </a:solidFill>
                <a:latin typeface="Corbel"/>
              </a:rPr>
              <a:t>Web</a:t>
            </a:r>
            <a:r>
              <a:rPr b="0" lang="ja-JP" sz="2200" spc="-1" strike="noStrike">
                <a:solidFill>
                  <a:srgbClr val="975c1e"/>
                </a:solidFill>
                <a:latin typeface="Corbel"/>
              </a:rPr>
              <a:t>に置かれ、ダウンロード可能。 </a:t>
            </a:r>
            <a:endParaRPr b="0" lang="en-US" sz="22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975c1e"/>
                </a:solidFill>
                <a:latin typeface="Corbel"/>
              </a:rPr>
              <a:t>午前中の講義でよく分からなかった点を記録しておき、   午後それらについて文献に当たったり、自分で計算をすると理解が深まる。</a:t>
            </a:r>
            <a:endParaRPr b="0" lang="en-US" sz="22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c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75c1e"/>
              </a:solidFill>
              <a:latin typeface="Corbe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200" spc="-1" strike="noStrike">
                <a:solidFill>
                  <a:srgbClr val="ff0000"/>
                </a:solidFill>
                <a:latin typeface="Corbel"/>
              </a:rPr>
              <a:t>　セミナーや</a:t>
            </a:r>
            <a:r>
              <a:rPr b="1" i="1" lang="en-US" sz="2200" spc="-1" strike="noStrike">
                <a:solidFill>
                  <a:srgbClr val="ff0000"/>
                </a:solidFill>
                <a:latin typeface="Corbel"/>
              </a:rPr>
              <a:t>Summer Student Program</a:t>
            </a:r>
            <a:r>
              <a:rPr b="1" i="1" lang="ja-JP" sz="2200" spc="-1" strike="noStrike">
                <a:solidFill>
                  <a:srgbClr val="ff0000"/>
                </a:solidFill>
                <a:latin typeface="Corbel"/>
              </a:rPr>
              <a:t>など様々な 催しがあるので積極的に参加して視野を拡げる。</a:t>
            </a:r>
            <a:endParaRPr b="0" lang="en-US" sz="2200" spc="-1" strike="noStrike">
              <a:solidFill>
                <a:srgbClr val="975c1e"/>
              </a:solidFill>
              <a:latin typeface="Corbel"/>
            </a:endParaRPr>
          </a:p>
        </p:txBody>
      </p:sp>
      <p:sp>
        <p:nvSpPr>
          <p:cNvPr id="633" name="フッター プレースホルダ 3"/>
          <p:cNvSpPr/>
          <p:nvPr/>
        </p:nvSpPr>
        <p:spPr>
          <a:xfrm>
            <a:off x="2200320" y="0"/>
            <a:ext cx="449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宇宙史拠点実習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II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説明会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(6/16/2010, 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筑波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‐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CERN-FNA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スライド番号プレースホルダ 4"/>
          <p:cNvSpPr/>
          <p:nvPr/>
        </p:nvSpPr>
        <p:spPr>
          <a:xfrm>
            <a:off x="7715160" y="0"/>
            <a:ext cx="1428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F53C9-81C6-4EF7-B3BA-CCFC417F66AA}" type="slidenum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タイトル 1"/>
          <p:cNvGrpSpPr/>
          <p:nvPr/>
        </p:nvGrpSpPr>
        <p:grpSpPr>
          <a:xfrm>
            <a:off x="596880" y="2395440"/>
            <a:ext cx="7613640" cy="397080"/>
            <a:chOff x="596880" y="2395440"/>
            <a:chExt cx="7613640" cy="397080"/>
          </a:xfrm>
        </p:grpSpPr>
        <p:pic>
          <p:nvPicPr>
            <p:cNvPr id="636" name="タイトル 1" descr=""/>
            <p:cNvPicPr/>
            <p:nvPr/>
          </p:nvPicPr>
          <p:blipFill>
            <a:blip r:embed="rId2"/>
            <a:stretch/>
          </p:blipFill>
          <p:spPr>
            <a:xfrm>
              <a:off x="596880" y="2395440"/>
              <a:ext cx="761364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604800" y="2398680"/>
              <a:ext cx="76010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000" spc="-1" strike="noStrike">
                  <a:solidFill>
                    <a:srgbClr val="975c1e"/>
                  </a:solidFill>
                  <a:latin typeface="Calibri"/>
                  <a:ea typeface="ＭＳ ゴシック"/>
                </a:rPr>
                <a:t>以下、個別テーマの説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フッター プレースホルダ 3"/>
          <p:cNvSpPr/>
          <p:nvPr/>
        </p:nvSpPr>
        <p:spPr>
          <a:xfrm>
            <a:off x="2200320" y="0"/>
            <a:ext cx="449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宇宙史拠点実習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II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説明会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(6/16/2010, </a:t>
            </a:r>
            <a:r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筑波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‐</a:t>
            </a:r>
            <a:r>
              <a:rPr b="0" lang="en-US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CERN-FNA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スライド番号プレースホルダ 4"/>
          <p:cNvSpPr/>
          <p:nvPr/>
        </p:nvSpPr>
        <p:spPr>
          <a:xfrm>
            <a:off x="7715160" y="0"/>
            <a:ext cx="1428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68BF3-A338-4E8B-89B4-1FD5DC90FBB2}" type="slidenum">
              <a:rPr b="0" lang="ja-JP" sz="1200" spc="-1" strike="noStrike">
                <a:solidFill>
                  <a:srgbClr val="6e4113"/>
                </a:solidFill>
                <a:latin typeface="Corbel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12:56:07Z</dcterms:created>
  <dc:creator>下村 真弥</dc:creator>
  <dc:description/>
  <dc:language>en-US</dc:language>
  <cp:lastModifiedBy>下村 真弥</cp:lastModifiedBy>
  <cp:lastPrinted>2010-06-14T10:07:40Z</cp:lastPrinted>
  <dcterms:modified xsi:type="dcterms:W3CDTF">2010-06-14T10:27:48Z</dcterms:modified>
  <cp:revision>13</cp:revision>
  <dc:subject/>
  <dc:title>宇宙史拠点実習Ⅱ</dc:title>
</cp:coreProperties>
</file>