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30DE-722D-4A97-A1E6-EC5137B9459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E322-BDAA-4741-9C25-BAC132E38D7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0159-F515-408D-8223-21AF3AAB76D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C4D7-0F44-496B-A48F-5F3B3AE7A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6067-A8AC-409D-8339-167BCFB4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3D80-0848-4D8C-B7B9-647647B38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5ED3-1A64-4770-B643-23D218570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F4D9-B00E-4FEF-B87D-43258212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671A-9740-4114-92FC-5E588826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D6CB-E177-4A59-B603-D2462199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73C2-2E03-4504-AE37-E2B38051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596C-B7B3-4B91-ACDB-2864B9D9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90CC-E10D-40C7-AF19-E955C019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DF19-D339-4D7C-A8B2-772DDE03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B08D-8C31-4065-A3C7-11B45630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34160" y="662904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C27F-EAE9-4529-9E9D-5617EDC2AAEE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72680" y="168120"/>
            <a:ext cx="629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L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験で昨年末に取得した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900GeV p+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衝突実験デー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ジェット解析と反応平面を用いた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解析の粒子多重度依存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280" y="3276720"/>
            <a:ext cx="4451400" cy="3246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676520" y="1143000"/>
            <a:ext cx="5790960" cy="2019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495680" y="3429000"/>
            <a:ext cx="4496040" cy="289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666B-07FB-431E-AEC5-CEED2EB2E4A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5680" y="1447920"/>
            <a:ext cx="409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ack-to-back jet sup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--- 2 particle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correlation --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038480" y="3200400"/>
            <a:ext cx="5105520" cy="3429000"/>
            <a:chOff x="4038480" y="3200400"/>
            <a:chExt cx="5105520" cy="3429000"/>
          </a:xfrm>
        </p:grpSpPr>
        <p:sp>
          <p:nvSpPr>
            <p:cNvPr id="54" name=""/>
            <p:cNvSpPr/>
            <p:nvPr/>
          </p:nvSpPr>
          <p:spPr>
            <a:xfrm>
              <a:off x="4038480" y="3200400"/>
              <a:ext cx="5105520" cy="3429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4191120" y="3376440"/>
              <a:ext cx="4800600" cy="312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" name=""/>
          <p:cNvGrpSpPr/>
          <p:nvPr/>
        </p:nvGrpSpPr>
        <p:grpSpPr>
          <a:xfrm>
            <a:off x="5257800" y="151920"/>
            <a:ext cx="3162240" cy="2591280"/>
            <a:chOff x="5257800" y="151920"/>
            <a:chExt cx="3162240" cy="2591280"/>
          </a:xfrm>
        </p:grpSpPr>
        <p:sp>
          <p:nvSpPr>
            <p:cNvPr id="57" name=""/>
            <p:cNvSpPr/>
            <p:nvPr/>
          </p:nvSpPr>
          <p:spPr>
            <a:xfrm>
              <a:off x="5486400" y="1295280"/>
              <a:ext cx="2685960" cy="143352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867440" y="1295280"/>
              <a:ext cx="552600" cy="14320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257800" y="1295280"/>
              <a:ext cx="554040" cy="1447920"/>
            </a:xfrm>
            <a:prstGeom prst="ellipse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bbe0e3"/>
                </a:gs>
              </a:gsLst>
              <a:lin ang="10800000"/>
            </a:gradFill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724440" y="457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7181640" y="533520"/>
              <a:ext cx="685800" cy="38088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7181640" y="151920"/>
              <a:ext cx="609840" cy="76212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7181640" y="151920"/>
              <a:ext cx="152640" cy="76212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646680" y="2004840"/>
              <a:ext cx="77760" cy="357480"/>
            </a:xfrm>
            <a:prstGeom prst="line">
              <a:avLst/>
            </a:prstGeom>
            <a:ln w="38160">
              <a:solidFill>
                <a:srgbClr val="00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6190920" y="1952640"/>
              <a:ext cx="438120" cy="714240"/>
            </a:xfrm>
            <a:prstGeom prst="line">
              <a:avLst/>
            </a:prstGeom>
            <a:ln w="38160">
              <a:solidFill>
                <a:srgbClr val="00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6038280" y="1952640"/>
              <a:ext cx="590760" cy="409680"/>
            </a:xfrm>
            <a:prstGeom prst="line">
              <a:avLst/>
            </a:prstGeom>
            <a:ln w="38160">
              <a:solidFill>
                <a:srgbClr val="00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505480" y="1488960"/>
              <a:ext cx="108108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7089480" y="1488960"/>
              <a:ext cx="115884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6571800" y="1441440"/>
              <a:ext cx="304920" cy="663480"/>
            </a:xfrm>
            <a:prstGeom prst="line">
              <a:avLst/>
            </a:prstGeom>
            <a:ln w="38160">
              <a:solidFill>
                <a:srgbClr val="3366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110440" y="1332000"/>
              <a:ext cx="152280" cy="30456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472000" y="1351080"/>
              <a:ext cx="152280" cy="30456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6800760" y="762120"/>
              <a:ext cx="457200" cy="761760"/>
            </a:xfrm>
            <a:prstGeom prst="line">
              <a:avLst/>
            </a:prstGeom>
            <a:ln w="76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572160" y="1184400"/>
              <a:ext cx="541440" cy="626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657760" y="118728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715160" y="118728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276880" y="19051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943760" y="19051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85800" y="3628800"/>
            <a:ext cx="3048120" cy="2848320"/>
            <a:chOff x="685800" y="3628800"/>
            <a:chExt cx="3048120" cy="2848320"/>
          </a:xfrm>
        </p:grpSpPr>
        <p:sp>
          <p:nvSpPr>
            <p:cNvPr id="79" name=""/>
            <p:cNvSpPr/>
            <p:nvPr/>
          </p:nvSpPr>
          <p:spPr>
            <a:xfrm>
              <a:off x="2133720" y="37051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2362320" y="3879720"/>
              <a:ext cx="914400" cy="73368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311560" y="3628800"/>
              <a:ext cx="554040" cy="103500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 flipV="1">
              <a:off x="2286000" y="4032360"/>
              <a:ext cx="23760" cy="57600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916280" y="5738760"/>
              <a:ext cx="153720" cy="62568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1374480" y="5686560"/>
              <a:ext cx="523800" cy="79056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1142640" y="5686560"/>
              <a:ext cx="755640" cy="50004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62120" y="5200560"/>
              <a:ext cx="108108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2346120" y="5200560"/>
              <a:ext cx="115884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828440" y="5153040"/>
              <a:ext cx="304920" cy="762120"/>
            </a:xfrm>
            <a:prstGeom prst="line">
              <a:avLst/>
            </a:prstGeom>
            <a:ln w="76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67080" y="5043600"/>
              <a:ext cx="152280" cy="30456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28640" y="5062680"/>
              <a:ext cx="152280" cy="30456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133720" y="4466880"/>
              <a:ext cx="304560" cy="685800"/>
            </a:xfrm>
            <a:prstGeom prst="line">
              <a:avLst/>
            </a:prstGeom>
            <a:ln w="76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28800" y="4896000"/>
              <a:ext cx="541440" cy="626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5800" y="46958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276720" y="46641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0"/>
            <a:ext cx="7086600" cy="3733920"/>
            <a:chOff x="0" y="0"/>
            <a:chExt cx="7086600" cy="3733920"/>
          </a:xfrm>
        </p:grpSpPr>
        <p:sp>
          <p:nvSpPr>
            <p:cNvPr id="96" name=""/>
            <p:cNvSpPr/>
            <p:nvPr/>
          </p:nvSpPr>
          <p:spPr>
            <a:xfrm>
              <a:off x="0" y="0"/>
              <a:ext cx="5105520" cy="3733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152280" y="149400"/>
              <a:ext cx="480060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6858000" y="1524240"/>
              <a:ext cx="228600" cy="6793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21560" y="1219320"/>
              <a:ext cx="272556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Jet mod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--- at p</a:t>
              </a:r>
              <a:r>
                <a:rPr b="0" lang="ja-JP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 = 1~4 GeV/c ---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0" y="3581280"/>
            <a:ext cx="4343400" cy="3048120"/>
            <a:chOff x="0" y="3581280"/>
            <a:chExt cx="4343400" cy="3048120"/>
          </a:xfrm>
        </p:grpSpPr>
        <p:sp>
          <p:nvSpPr>
            <p:cNvPr id="101" name=""/>
            <p:cNvSpPr/>
            <p:nvPr/>
          </p:nvSpPr>
          <p:spPr>
            <a:xfrm>
              <a:off x="0" y="3581280"/>
              <a:ext cx="4343400" cy="304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1499040" y="3652920"/>
              <a:ext cx="2334960" cy="1523880"/>
              <a:chOff x="1499040" y="3652920"/>
              <a:chExt cx="2334960" cy="1523880"/>
            </a:xfrm>
          </p:grpSpPr>
          <p:sp>
            <p:nvSpPr>
              <p:cNvPr id="103" name=""/>
              <p:cNvSpPr/>
              <p:nvPr/>
            </p:nvSpPr>
            <p:spPr>
              <a:xfrm>
                <a:off x="1499040" y="3828600"/>
                <a:ext cx="1388160" cy="1348200"/>
              </a:xfrm>
              <a:prstGeom prst="ellipse">
                <a:avLst/>
              </a:prstGeom>
              <a:gradFill rotWithShape="0">
                <a:gsLst>
                  <a:gs pos="0">
                    <a:srgbClr val="ff0000">
                      <a:alpha val="75294"/>
                    </a:srgbClr>
                  </a:gs>
                  <a:gs pos="100000">
                    <a:srgbClr val="ffff66">
                      <a:alpha val="83137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2880600">
                <a:off x="1928520" y="3865680"/>
                <a:ext cx="703800" cy="10980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66"/>
                  </a:gs>
                </a:gsLst>
                <a:lin ang="8100000"/>
              </a:gra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2366640" y="4122360"/>
                <a:ext cx="231120" cy="29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2077560" y="4415040"/>
                <a:ext cx="230400" cy="5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1904760" y="4473360"/>
                <a:ext cx="172800" cy="11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2714040" y="3652920"/>
                <a:ext cx="403560" cy="351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2193120" y="4062960"/>
                <a:ext cx="461880" cy="29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2714040" y="3770280"/>
                <a:ext cx="115560" cy="1749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>
                <a:off x="2655720" y="3887640"/>
                <a:ext cx="288720" cy="1749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952360" y="3760560"/>
                <a:ext cx="8816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0000"/>
                    </a:solidFill>
                    <a:latin typeface="Arial"/>
                  </a:rPr>
                  <a:t>Lead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0000"/>
                    </a:solidFill>
                    <a:latin typeface="Arial"/>
                  </a:rPr>
                  <a:t>hadron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914840" y="4839120"/>
                <a:ext cx="94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0000"/>
                    </a:solidFill>
                    <a:latin typeface="Arial"/>
                  </a:rPr>
                  <a:t>Mediu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149400" y="5177520"/>
              <a:ext cx="1422720" cy="13060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898560" y="4741920"/>
              <a:ext cx="0" cy="725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973080" y="4959720"/>
              <a:ext cx="74880" cy="362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748440" y="4959360"/>
              <a:ext cx="74880" cy="435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11080" y="5468040"/>
              <a:ext cx="236880" cy="507960"/>
            </a:xfrm>
            <a:custGeom>
              <a:avLst/>
              <a:gdLst/>
              <a:ahLst/>
              <a:rect l="l" t="t" r="r" b="b"/>
              <a:pathLst>
                <a:path w="152" h="336">
                  <a:moveTo>
                    <a:pt x="56" y="0"/>
                  </a:moveTo>
                  <a:cubicBezTo>
                    <a:pt x="28" y="36"/>
                    <a:pt x="0" y="72"/>
                    <a:pt x="8" y="96"/>
                  </a:cubicBezTo>
                  <a:cubicBezTo>
                    <a:pt x="16" y="120"/>
                    <a:pt x="88" y="128"/>
                    <a:pt x="104" y="144"/>
                  </a:cubicBezTo>
                  <a:cubicBezTo>
                    <a:pt x="120" y="160"/>
                    <a:pt x="120" y="176"/>
                    <a:pt x="104" y="192"/>
                  </a:cubicBezTo>
                  <a:cubicBezTo>
                    <a:pt x="88" y="208"/>
                    <a:pt x="16" y="224"/>
                    <a:pt x="8" y="240"/>
                  </a:cubicBezTo>
                  <a:cubicBezTo>
                    <a:pt x="0" y="256"/>
                    <a:pt x="32" y="272"/>
                    <a:pt x="56" y="288"/>
                  </a:cubicBezTo>
                  <a:cubicBezTo>
                    <a:pt x="80" y="304"/>
                    <a:pt x="136" y="328"/>
                    <a:pt x="152" y="33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48320" y="5976000"/>
              <a:ext cx="524160" cy="36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72960" y="6193800"/>
              <a:ext cx="14940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97720" y="6048360"/>
              <a:ext cx="299520" cy="1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770560" y="5177520"/>
              <a:ext cx="1422720" cy="13060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3519720" y="4741920"/>
              <a:ext cx="0" cy="725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3594600" y="4959720"/>
              <a:ext cx="74520" cy="362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3369600" y="4959360"/>
              <a:ext cx="74520" cy="435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69120" y="5976000"/>
              <a:ext cx="524160" cy="36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93760" y="6193800"/>
              <a:ext cx="14976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19240" y="6048360"/>
              <a:ext cx="299160" cy="1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19720" y="5468040"/>
              <a:ext cx="0" cy="7981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33680" y="6048360"/>
              <a:ext cx="149760" cy="145080"/>
            </a:xfrm>
            <a:prstGeom prst="ellipse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8800" y="5830560"/>
              <a:ext cx="299160" cy="300960"/>
            </a:xfrm>
            <a:prstGeom prst="ellipse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40360" y="5540760"/>
              <a:ext cx="534960" cy="509400"/>
            </a:xfrm>
            <a:prstGeom prst="ellipse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444480" y="5685480"/>
              <a:ext cx="449280" cy="6530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EE4A-3427-4706-A4B4-24234E80DA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rcRect l="17364" t="23256" r="12348" b="11632"/>
          <a:stretch/>
        </p:blipFill>
        <p:spPr>
          <a:xfrm>
            <a:off x="228600" y="152280"/>
            <a:ext cx="3809880" cy="38102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rcRect l="0" t="0" r="0" b="6753"/>
          <a:stretch/>
        </p:blipFill>
        <p:spPr>
          <a:xfrm>
            <a:off x="4289400" y="171360"/>
            <a:ext cx="4651560" cy="5162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905120" y="3184560"/>
            <a:ext cx="2057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p+p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jet+jet (STAR@RH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56000" y="228600"/>
            <a:ext cx="19814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Au+Au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??? (STAR@RH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04560" y="4051440"/>
            <a:ext cx="4252320" cy="2644560"/>
            <a:chOff x="304560" y="4051440"/>
            <a:chExt cx="4252320" cy="2644560"/>
          </a:xfrm>
        </p:grpSpPr>
        <p:grpSp>
          <p:nvGrpSpPr>
            <p:cNvPr id="139" name=""/>
            <p:cNvGrpSpPr/>
            <p:nvPr/>
          </p:nvGrpSpPr>
          <p:grpSpPr>
            <a:xfrm>
              <a:off x="304560" y="5510520"/>
              <a:ext cx="1186200" cy="398880"/>
              <a:chOff x="304560" y="5510520"/>
              <a:chExt cx="1186200" cy="398880"/>
            </a:xfrm>
          </p:grpSpPr>
          <p:sp>
            <p:nvSpPr>
              <p:cNvPr id="140" name=""/>
              <p:cNvSpPr/>
              <p:nvPr/>
            </p:nvSpPr>
            <p:spPr>
              <a:xfrm>
                <a:off x="446040" y="5853240"/>
                <a:ext cx="1044720" cy="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04560" y="5510520"/>
                <a:ext cx="98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8080"/>
                    </a:solidFill>
                    <a:latin typeface="Times New Roman"/>
                  </a:rPr>
                  <a:t>nucle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3081240" y="5499360"/>
              <a:ext cx="1475640" cy="398880"/>
              <a:chOff x="3081240" y="5499360"/>
              <a:chExt cx="1475640" cy="398880"/>
            </a:xfrm>
          </p:grpSpPr>
          <p:sp>
            <p:nvSpPr>
              <p:cNvPr id="143" name=""/>
              <p:cNvSpPr/>
              <p:nvPr/>
            </p:nvSpPr>
            <p:spPr>
              <a:xfrm flipH="1" flipV="1">
                <a:off x="3081240" y="5837400"/>
                <a:ext cx="1044720" cy="144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568320" y="5499360"/>
                <a:ext cx="98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8080"/>
                    </a:solidFill>
                    <a:latin typeface="Times New Roman"/>
                  </a:rPr>
                  <a:t>nucle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1335240" y="4993920"/>
              <a:ext cx="2093760" cy="1702080"/>
              <a:chOff x="1335240" y="4993920"/>
              <a:chExt cx="2093760" cy="1702080"/>
            </a:xfrm>
          </p:grpSpPr>
          <p:sp>
            <p:nvSpPr>
              <p:cNvPr id="146" name=""/>
              <p:cNvSpPr/>
              <p:nvPr/>
            </p:nvSpPr>
            <p:spPr>
              <a:xfrm>
                <a:off x="2043000" y="5581800"/>
                <a:ext cx="596880" cy="519120"/>
              </a:xfrm>
              <a:prstGeom prst="irregularSeal1">
                <a:avLst/>
              </a:prstGeom>
              <a:solidFill>
                <a:srgbClr val="ff9900"/>
              </a:solidFill>
              <a:ln w="158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1477800" y="5607000"/>
                <a:ext cx="1778040" cy="447480"/>
                <a:chOff x="1477800" y="5607000"/>
                <a:chExt cx="1778040" cy="447480"/>
              </a:xfrm>
            </p:grpSpPr>
            <p:sp>
              <p:nvSpPr>
                <p:cNvPr id="148" name=""/>
                <p:cNvSpPr/>
                <p:nvPr/>
              </p:nvSpPr>
              <p:spPr>
                <a:xfrm flipV="1">
                  <a:off x="1539720" y="5607000"/>
                  <a:ext cx="1716120" cy="23076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V="1">
                  <a:off x="1477800" y="5707800"/>
                  <a:ext cx="1753200" cy="14436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477800" y="5852880"/>
                  <a:ext cx="1703160" cy="7200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490040" y="5838120"/>
                  <a:ext cx="1591560" cy="21636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1335240" y="5595480"/>
                <a:ext cx="1784160" cy="441360"/>
                <a:chOff x="1335240" y="5595480"/>
                <a:chExt cx="1784160" cy="441360"/>
              </a:xfrm>
            </p:grpSpPr>
            <p:sp>
              <p:nvSpPr>
                <p:cNvPr id="153" name=""/>
                <p:cNvSpPr/>
                <p:nvPr/>
              </p:nvSpPr>
              <p:spPr>
                <a:xfrm flipH="1">
                  <a:off x="1335240" y="5853960"/>
                  <a:ext cx="1721880" cy="18288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H="1">
                  <a:off x="1362960" y="5841000"/>
                  <a:ext cx="1756440" cy="9576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H="1" flipV="1">
                  <a:off x="1418760" y="5722200"/>
                  <a:ext cx="1700640" cy="11844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H="1" flipV="1">
                  <a:off x="1521720" y="5595480"/>
                  <a:ext cx="1585080" cy="25956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 flipV="1">
                <a:off x="1978200" y="5751720"/>
                <a:ext cx="1450800" cy="61920"/>
              </a:xfrm>
              <a:prstGeom prst="line">
                <a:avLst/>
              </a:prstGeom>
              <a:ln cap="rnd" w="15840">
                <a:solidFill>
                  <a:srgbClr val="990099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1484280" y="5848200"/>
                <a:ext cx="8510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2338200" y="5846760"/>
                <a:ext cx="75564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2147400" y="5848920"/>
                <a:ext cx="175320" cy="847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2342520" y="4993920"/>
                <a:ext cx="89640" cy="8604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308320" y="5994720"/>
                <a:ext cx="48960" cy="363240"/>
              </a:xfrm>
              <a:prstGeom prst="line">
                <a:avLst/>
              </a:prstGeom>
              <a:ln cap="rnd" w="15840">
                <a:solidFill>
                  <a:srgbClr val="990099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454480" y="5187960"/>
                <a:ext cx="833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ff0000"/>
                    </a:solidFill>
                    <a:latin typeface="Times New Roman"/>
                  </a:rPr>
                  <a:t>part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2276280" y="4051440"/>
              <a:ext cx="725040" cy="896760"/>
              <a:chOff x="2276280" y="4051440"/>
              <a:chExt cx="725040" cy="896760"/>
            </a:xfrm>
          </p:grpSpPr>
          <p:sp>
            <p:nvSpPr>
              <p:cNvPr id="165" name=""/>
              <p:cNvSpPr/>
              <p:nvPr/>
            </p:nvSpPr>
            <p:spPr>
              <a:xfrm flipV="1">
                <a:off x="2436840" y="4051440"/>
                <a:ext cx="100080" cy="892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433600" y="4675320"/>
                <a:ext cx="131760" cy="27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 flipV="1">
                <a:off x="2276280" y="4561200"/>
                <a:ext cx="152280" cy="382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 flipV="1">
                <a:off x="2378160" y="4438440"/>
                <a:ext cx="54000" cy="5000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567520" y="4395960"/>
                <a:ext cx="43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je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CDCE-CEF2-4BD4-85FE-5035997CE0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534520" cy="5614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762120" y="1364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h-h correlation at “p+p 200GeV” vs “Au+Au 200GeV central 0-20%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29760" y="457200"/>
            <a:ext cx="232344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associate p</a:t>
            </a:r>
            <a:r>
              <a:rPr b="0" lang="ja-JP" sz="18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 window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685800"/>
            <a:ext cx="5257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6200000">
            <a:off x="-685440" y="1338120"/>
            <a:ext cx="200628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trigger p</a:t>
            </a:r>
            <a:r>
              <a:rPr b="0" lang="ja-JP" sz="18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 window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2982960"/>
            <a:ext cx="0" cy="3200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49840" y="792000"/>
            <a:ext cx="23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. Rev. C 78, 014901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7AD8-F253-462D-A5F0-7D0E56C139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4267080" y="457200"/>
            <a:ext cx="4343400" cy="2867040"/>
            <a:chOff x="4267080" y="457200"/>
            <a:chExt cx="4343400" cy="2867040"/>
          </a:xfrm>
        </p:grpSpPr>
        <p:pic>
          <p:nvPicPr>
            <p:cNvPr id="178" name="" descr=""/>
            <p:cNvPicPr/>
            <p:nvPr/>
          </p:nvPicPr>
          <p:blipFill>
            <a:blip r:embed="rId1"/>
            <a:stretch/>
          </p:blipFill>
          <p:spPr>
            <a:xfrm>
              <a:off x="4267080" y="533520"/>
              <a:ext cx="4343400" cy="27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4267080" y="1905120"/>
              <a:ext cx="4267440" cy="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477120" y="533520"/>
              <a:ext cx="0" cy="274320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98040" y="457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258400" y="1905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20120" y="914400"/>
              <a:ext cx="533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24280" y="289548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5715000" y="1980720"/>
              <a:ext cx="0" cy="381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162920" y="144792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707520" y="2819520"/>
              <a:ext cx="1686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ideward flow (v</a:t>
              </a:r>
              <a:r>
                <a:rPr b="1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6858000" y="1676520"/>
              <a:ext cx="152280" cy="121896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 flipV="1">
              <a:off x="5790960" y="2133720"/>
              <a:ext cx="1066680" cy="76176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23840" y="263520"/>
            <a:ext cx="3954960" cy="3107880"/>
            <a:chOff x="123840" y="263520"/>
            <a:chExt cx="3954960" cy="3107880"/>
          </a:xfrm>
        </p:grpSpPr>
        <p:grpSp>
          <p:nvGrpSpPr>
            <p:cNvPr id="191" name=""/>
            <p:cNvGrpSpPr/>
            <p:nvPr/>
          </p:nvGrpSpPr>
          <p:grpSpPr>
            <a:xfrm>
              <a:off x="123840" y="263520"/>
              <a:ext cx="3954960" cy="3107880"/>
              <a:chOff x="123840" y="263520"/>
              <a:chExt cx="3954960" cy="3107880"/>
            </a:xfrm>
          </p:grpSpPr>
          <p:sp>
            <p:nvSpPr>
              <p:cNvPr id="192" name=""/>
              <p:cNvSpPr/>
              <p:nvPr/>
            </p:nvSpPr>
            <p:spPr>
              <a:xfrm>
                <a:off x="2662560" y="2288520"/>
                <a:ext cx="1036080" cy="12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2998440" y="263520"/>
                <a:ext cx="560160" cy="68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1267400">
                <a:off x="3194280" y="933840"/>
                <a:ext cx="407880" cy="344520"/>
              </a:xfrm>
              <a:custGeom>
                <a:avLst/>
                <a:gdLst/>
                <a:ahLst/>
                <a:rect l="l" t="t" r="r" b="b"/>
                <a:pathLst>
                  <a:path w="720" h="622">
                    <a:moveTo>
                      <a:pt x="430" y="0"/>
                    </a:moveTo>
                    <a:lnTo>
                      <a:pt x="177" y="379"/>
                    </a:lnTo>
                    <a:lnTo>
                      <a:pt x="0" y="379"/>
                    </a:lnTo>
                    <a:lnTo>
                      <a:pt x="168" y="622"/>
                    </a:lnTo>
                    <a:lnTo>
                      <a:pt x="631" y="379"/>
                    </a:lnTo>
                    <a:lnTo>
                      <a:pt x="465" y="382"/>
                    </a:lnTo>
                    <a:lnTo>
                      <a:pt x="720" y="0"/>
                    </a:lnTo>
                    <a:lnTo>
                      <a:pt x="430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937080" y="1107000"/>
                <a:ext cx="839880" cy="91584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1275840" y="1150200"/>
                <a:ext cx="826920" cy="89820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606320" y="1280160"/>
                <a:ext cx="2311920" cy="31608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386360" y="2336040"/>
                <a:ext cx="1628280" cy="22248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467400">
                <a:off x="254520" y="1147320"/>
                <a:ext cx="3706920" cy="1981800"/>
              </a:xfrm>
              <a:prstGeom prst="parallelogram">
                <a:avLst>
                  <a:gd name="adj" fmla="val 69398"/>
                </a:avLst>
              </a:prstGeom>
              <a:noFill/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123840" y="2509200"/>
                <a:ext cx="354600" cy="38736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1405440" y="1189080"/>
                <a:ext cx="1022760" cy="111312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 rot="11268000">
                <a:off x="1314720" y="2198160"/>
                <a:ext cx="291600" cy="794160"/>
              </a:xfrm>
              <a:custGeom>
                <a:avLst/>
                <a:gdLst/>
                <a:ahLst/>
                <a:rect l="l" t="t" r="r" b="b"/>
                <a:pathLst>
                  <a:path w="252" h="715">
                    <a:moveTo>
                      <a:pt x="84" y="643"/>
                    </a:moveTo>
                    <a:cubicBezTo>
                      <a:pt x="64" y="611"/>
                      <a:pt x="38" y="568"/>
                      <a:pt x="24" y="519"/>
                    </a:cubicBezTo>
                    <a:cubicBezTo>
                      <a:pt x="10" y="470"/>
                      <a:pt x="0" y="403"/>
                      <a:pt x="1" y="351"/>
                    </a:cubicBezTo>
                    <a:cubicBezTo>
                      <a:pt x="2" y="299"/>
                      <a:pt x="14" y="251"/>
                      <a:pt x="30" y="205"/>
                    </a:cubicBezTo>
                    <a:cubicBezTo>
                      <a:pt x="46" y="159"/>
                      <a:pt x="77" y="106"/>
                      <a:pt x="100" y="73"/>
                    </a:cubicBezTo>
                    <a:cubicBezTo>
                      <a:pt x="123" y="40"/>
                      <a:pt x="163" y="0"/>
                      <a:pt x="166" y="4"/>
                    </a:cubicBezTo>
                    <a:cubicBezTo>
                      <a:pt x="198" y="57"/>
                      <a:pt x="212" y="120"/>
                      <a:pt x="225" y="171"/>
                    </a:cubicBezTo>
                    <a:cubicBezTo>
                      <a:pt x="239" y="226"/>
                      <a:pt x="246" y="280"/>
                      <a:pt x="249" y="337"/>
                    </a:cubicBezTo>
                    <a:cubicBezTo>
                      <a:pt x="252" y="394"/>
                      <a:pt x="249" y="464"/>
                      <a:pt x="241" y="514"/>
                    </a:cubicBezTo>
                    <a:cubicBezTo>
                      <a:pt x="233" y="564"/>
                      <a:pt x="216" y="603"/>
                      <a:pt x="199" y="636"/>
                    </a:cubicBezTo>
                    <a:cubicBezTo>
                      <a:pt x="182" y="669"/>
                      <a:pt x="142" y="715"/>
                      <a:pt x="142" y="712"/>
                    </a:cubicBezTo>
                    <a:cubicBezTo>
                      <a:pt x="142" y="711"/>
                      <a:pt x="104" y="675"/>
                      <a:pt x="84" y="6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1102680" y="2186640"/>
                <a:ext cx="754560" cy="81648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467400">
                <a:off x="3049920" y="2342160"/>
                <a:ext cx="58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467400">
                <a:off x="2915280" y="3481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z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2392560" y="1000440"/>
                <a:ext cx="1291680" cy="1257480"/>
                <a:chOff x="2392560" y="1000440"/>
                <a:chExt cx="1291680" cy="1257480"/>
              </a:xfrm>
            </p:grpSpPr>
            <p:grpSp>
              <p:nvGrpSpPr>
                <p:cNvPr id="207" name=""/>
                <p:cNvGrpSpPr/>
                <p:nvPr/>
              </p:nvGrpSpPr>
              <p:grpSpPr>
                <a:xfrm>
                  <a:off x="2392560" y="1000440"/>
                  <a:ext cx="1291680" cy="1257480"/>
                  <a:chOff x="2392560" y="1000440"/>
                  <a:chExt cx="1291680" cy="125748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 rot="467400">
                    <a:off x="2489760" y="1072440"/>
                    <a:ext cx="1125360" cy="1091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333399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rot="467400">
                    <a:off x="2490120" y="1071360"/>
                    <a:ext cx="1125360" cy="109188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 rot="467400">
                    <a:off x="2432160" y="1513440"/>
                    <a:ext cx="1177200" cy="667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26" h="600">
                        <a:moveTo>
                          <a:pt x="43" y="123"/>
                        </a:moveTo>
                        <a:cubicBezTo>
                          <a:pt x="61" y="136"/>
                          <a:pt x="84" y="160"/>
                          <a:pt x="120" y="181"/>
                        </a:cubicBezTo>
                        <a:cubicBezTo>
                          <a:pt x="156" y="202"/>
                          <a:pt x="210" y="233"/>
                          <a:pt x="262" y="250"/>
                        </a:cubicBezTo>
                        <a:cubicBezTo>
                          <a:pt x="314" y="267"/>
                          <a:pt x="370" y="279"/>
                          <a:pt x="432" y="280"/>
                        </a:cubicBezTo>
                        <a:cubicBezTo>
                          <a:pt x="494" y="281"/>
                          <a:pt x="573" y="272"/>
                          <a:pt x="634" y="259"/>
                        </a:cubicBezTo>
                        <a:cubicBezTo>
                          <a:pt x="695" y="246"/>
                          <a:pt x="749" y="229"/>
                          <a:pt x="799" y="201"/>
                        </a:cubicBezTo>
                        <a:cubicBezTo>
                          <a:pt x="849" y="173"/>
                          <a:pt x="899" y="122"/>
                          <a:pt x="937" y="90"/>
                        </a:cubicBezTo>
                        <a:cubicBezTo>
                          <a:pt x="975" y="58"/>
                          <a:pt x="1012" y="0"/>
                          <a:pt x="1026" y="9"/>
                        </a:cubicBezTo>
                        <a:cubicBezTo>
                          <a:pt x="1021" y="13"/>
                          <a:pt x="1025" y="101"/>
                          <a:pt x="1019" y="144"/>
                        </a:cubicBezTo>
                        <a:cubicBezTo>
                          <a:pt x="1013" y="187"/>
                          <a:pt x="1007" y="227"/>
                          <a:pt x="992" y="267"/>
                        </a:cubicBezTo>
                        <a:cubicBezTo>
                          <a:pt x="978" y="307"/>
                          <a:pt x="952" y="351"/>
                          <a:pt x="929" y="384"/>
                        </a:cubicBezTo>
                        <a:cubicBezTo>
                          <a:pt x="907" y="417"/>
                          <a:pt x="886" y="440"/>
                          <a:pt x="857" y="467"/>
                        </a:cubicBezTo>
                        <a:cubicBezTo>
                          <a:pt x="827" y="493"/>
                          <a:pt x="790" y="521"/>
                          <a:pt x="749" y="542"/>
                        </a:cubicBezTo>
                        <a:cubicBezTo>
                          <a:pt x="708" y="562"/>
                          <a:pt x="659" y="580"/>
                          <a:pt x="610" y="588"/>
                        </a:cubicBezTo>
                        <a:cubicBezTo>
                          <a:pt x="561" y="596"/>
                          <a:pt x="505" y="600"/>
                          <a:pt x="455" y="594"/>
                        </a:cubicBezTo>
                        <a:cubicBezTo>
                          <a:pt x="404" y="588"/>
                          <a:pt x="353" y="572"/>
                          <a:pt x="310" y="553"/>
                        </a:cubicBezTo>
                        <a:cubicBezTo>
                          <a:pt x="267" y="533"/>
                          <a:pt x="229" y="510"/>
                          <a:pt x="193" y="479"/>
                        </a:cubicBezTo>
                        <a:cubicBezTo>
                          <a:pt x="157" y="448"/>
                          <a:pt x="121" y="408"/>
                          <a:pt x="95" y="368"/>
                        </a:cubicBezTo>
                        <a:cubicBezTo>
                          <a:pt x="69" y="328"/>
                          <a:pt x="52" y="286"/>
                          <a:pt x="36" y="237"/>
                        </a:cubicBezTo>
                        <a:cubicBezTo>
                          <a:pt x="20" y="188"/>
                          <a:pt x="0" y="92"/>
                          <a:pt x="1" y="73"/>
                        </a:cubicBezTo>
                        <a:lnTo>
                          <a:pt x="43" y="123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rot="467400">
                    <a:off x="2480400" y="1542240"/>
                    <a:ext cx="1122840" cy="285840"/>
                  </a:xfrm>
                  <a:custGeom>
                    <a:avLst/>
                    <a:gdLst/>
                    <a:ahLst/>
                    <a:rect l="l" t="t" r="r" b="b"/>
                    <a:pathLst>
                      <a:path w="979" h="257">
                        <a:moveTo>
                          <a:pt x="0" y="78"/>
                        </a:moveTo>
                        <a:cubicBezTo>
                          <a:pt x="17" y="92"/>
                          <a:pt x="57" y="134"/>
                          <a:pt x="101" y="160"/>
                        </a:cubicBezTo>
                        <a:cubicBezTo>
                          <a:pt x="145" y="186"/>
                          <a:pt x="213" y="216"/>
                          <a:pt x="263" y="232"/>
                        </a:cubicBezTo>
                        <a:cubicBezTo>
                          <a:pt x="313" y="248"/>
                          <a:pt x="347" y="255"/>
                          <a:pt x="404" y="256"/>
                        </a:cubicBezTo>
                        <a:cubicBezTo>
                          <a:pt x="461" y="257"/>
                          <a:pt x="542" y="254"/>
                          <a:pt x="608" y="238"/>
                        </a:cubicBezTo>
                        <a:cubicBezTo>
                          <a:pt x="674" y="222"/>
                          <a:pt x="738" y="200"/>
                          <a:pt x="800" y="160"/>
                        </a:cubicBezTo>
                        <a:cubicBezTo>
                          <a:pt x="862" y="120"/>
                          <a:pt x="942" y="33"/>
                          <a:pt x="979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2" name=""/>
                <p:cNvSpPr/>
                <p:nvPr/>
              </p:nvSpPr>
              <p:spPr>
                <a:xfrm rot="467400">
                  <a:off x="2487240" y="1166400"/>
                  <a:ext cx="288720" cy="795600"/>
                </a:xfrm>
                <a:custGeom>
                  <a:avLst/>
                  <a:gdLst/>
                  <a:ahLst/>
                  <a:rect l="l" t="t" r="r" b="b"/>
                  <a:pathLst>
                    <a:path w="252" h="715">
                      <a:moveTo>
                        <a:pt x="84" y="643"/>
                      </a:moveTo>
                      <a:cubicBezTo>
                        <a:pt x="64" y="611"/>
                        <a:pt x="38" y="568"/>
                        <a:pt x="24" y="519"/>
                      </a:cubicBezTo>
                      <a:cubicBezTo>
                        <a:pt x="10" y="470"/>
                        <a:pt x="0" y="403"/>
                        <a:pt x="1" y="351"/>
                      </a:cubicBezTo>
                      <a:cubicBezTo>
                        <a:pt x="2" y="299"/>
                        <a:pt x="14" y="251"/>
                        <a:pt x="30" y="205"/>
                      </a:cubicBezTo>
                      <a:cubicBezTo>
                        <a:pt x="46" y="159"/>
                        <a:pt x="77" y="106"/>
                        <a:pt x="100" y="73"/>
                      </a:cubicBezTo>
                      <a:cubicBezTo>
                        <a:pt x="123" y="40"/>
                        <a:pt x="163" y="0"/>
                        <a:pt x="166" y="4"/>
                      </a:cubicBezTo>
                      <a:cubicBezTo>
                        <a:pt x="198" y="57"/>
                        <a:pt x="212" y="120"/>
                        <a:pt x="225" y="171"/>
                      </a:cubicBezTo>
                      <a:cubicBezTo>
                        <a:pt x="239" y="226"/>
                        <a:pt x="246" y="280"/>
                        <a:pt x="249" y="337"/>
                      </a:cubicBezTo>
                      <a:cubicBezTo>
                        <a:pt x="252" y="394"/>
                        <a:pt x="249" y="464"/>
                        <a:pt x="241" y="514"/>
                      </a:cubicBezTo>
                      <a:cubicBezTo>
                        <a:pt x="233" y="564"/>
                        <a:pt x="216" y="603"/>
                        <a:pt x="199" y="636"/>
                      </a:cubicBezTo>
                      <a:cubicBezTo>
                        <a:pt x="182" y="669"/>
                        <a:pt x="142" y="715"/>
                        <a:pt x="142" y="712"/>
                      </a:cubicBezTo>
                      <a:cubicBezTo>
                        <a:pt x="142" y="711"/>
                        <a:pt x="104" y="675"/>
                        <a:pt x="84" y="6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57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3" name=""/>
              <p:cNvSpPr/>
              <p:nvPr/>
            </p:nvSpPr>
            <p:spPr>
              <a:xfrm>
                <a:off x="1802880" y="1094400"/>
                <a:ext cx="954000" cy="1303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116080" y="1352160"/>
                <a:ext cx="683280" cy="9360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422000" y="1479600"/>
                <a:ext cx="1355760" cy="18576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2343960" y="1575720"/>
                <a:ext cx="439560" cy="47988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244520" y="1666080"/>
                <a:ext cx="2314440" cy="31680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1116000" y="1226880"/>
                <a:ext cx="1623600" cy="176832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065240" y="1861200"/>
                <a:ext cx="2314080" cy="31680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0" name=""/>
              <p:cNvGrpSpPr/>
              <p:nvPr/>
            </p:nvGrpSpPr>
            <p:grpSpPr>
              <a:xfrm>
                <a:off x="1751760" y="1567080"/>
                <a:ext cx="594000" cy="1112760"/>
                <a:chOff x="1751760" y="1567080"/>
                <a:chExt cx="594000" cy="1112760"/>
              </a:xfrm>
            </p:grpSpPr>
            <p:sp>
              <p:nvSpPr>
                <p:cNvPr id="221" name=""/>
                <p:cNvSpPr/>
                <p:nvPr/>
              </p:nvSpPr>
              <p:spPr>
                <a:xfrm rot="100200">
                  <a:off x="1767600" y="1575720"/>
                  <a:ext cx="562320" cy="1092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00200">
                  <a:off x="1759680" y="2098080"/>
                  <a:ext cx="563760" cy="573480"/>
                </a:xfrm>
                <a:custGeom>
                  <a:avLst/>
                  <a:gdLst/>
                  <a:ahLst/>
                  <a:rect l="l" t="t" r="r" b="b"/>
                  <a:pathLst>
                    <a:path w="489" h="515">
                      <a:moveTo>
                        <a:pt x="13" y="46"/>
                      </a:moveTo>
                      <a:cubicBezTo>
                        <a:pt x="24" y="55"/>
                        <a:pt x="47" y="72"/>
                        <a:pt x="65" y="81"/>
                      </a:cubicBezTo>
                      <a:cubicBezTo>
                        <a:pt x="83" y="90"/>
                        <a:pt x="103" y="92"/>
                        <a:pt x="121" y="97"/>
                      </a:cubicBezTo>
                      <a:cubicBezTo>
                        <a:pt x="139" y="102"/>
                        <a:pt x="156" y="109"/>
                        <a:pt x="176" y="112"/>
                      </a:cubicBezTo>
                      <a:cubicBezTo>
                        <a:pt x="196" y="115"/>
                        <a:pt x="218" y="115"/>
                        <a:pt x="241" y="114"/>
                      </a:cubicBezTo>
                      <a:cubicBezTo>
                        <a:pt x="264" y="113"/>
                        <a:pt x="289" y="109"/>
                        <a:pt x="313" y="103"/>
                      </a:cubicBezTo>
                      <a:cubicBezTo>
                        <a:pt x="337" y="97"/>
                        <a:pt x="362" y="90"/>
                        <a:pt x="385" y="78"/>
                      </a:cubicBezTo>
                      <a:cubicBezTo>
                        <a:pt x="408" y="66"/>
                        <a:pt x="435" y="41"/>
                        <a:pt x="452" y="29"/>
                      </a:cubicBezTo>
                      <a:cubicBezTo>
                        <a:pt x="469" y="17"/>
                        <a:pt x="479" y="0"/>
                        <a:pt x="485" y="7"/>
                      </a:cubicBezTo>
                      <a:cubicBezTo>
                        <a:pt x="483" y="11"/>
                        <a:pt x="489" y="40"/>
                        <a:pt x="487" y="70"/>
                      </a:cubicBezTo>
                      <a:cubicBezTo>
                        <a:pt x="485" y="100"/>
                        <a:pt x="481" y="151"/>
                        <a:pt x="474" y="190"/>
                      </a:cubicBezTo>
                      <a:cubicBezTo>
                        <a:pt x="467" y="229"/>
                        <a:pt x="455" y="272"/>
                        <a:pt x="444" y="304"/>
                      </a:cubicBezTo>
                      <a:cubicBezTo>
                        <a:pt x="433" y="336"/>
                        <a:pt x="423" y="359"/>
                        <a:pt x="408" y="385"/>
                      </a:cubicBezTo>
                      <a:cubicBezTo>
                        <a:pt x="394" y="411"/>
                        <a:pt x="376" y="438"/>
                        <a:pt x="356" y="458"/>
                      </a:cubicBezTo>
                      <a:cubicBezTo>
                        <a:pt x="336" y="478"/>
                        <a:pt x="313" y="495"/>
                        <a:pt x="289" y="503"/>
                      </a:cubicBezTo>
                      <a:cubicBezTo>
                        <a:pt x="265" y="511"/>
                        <a:pt x="238" y="515"/>
                        <a:pt x="214" y="509"/>
                      </a:cubicBezTo>
                      <a:cubicBezTo>
                        <a:pt x="189" y="503"/>
                        <a:pt x="164" y="488"/>
                        <a:pt x="143" y="469"/>
                      </a:cubicBezTo>
                      <a:cubicBezTo>
                        <a:pt x="122" y="450"/>
                        <a:pt x="104" y="427"/>
                        <a:pt x="87" y="397"/>
                      </a:cubicBezTo>
                      <a:cubicBezTo>
                        <a:pt x="69" y="367"/>
                        <a:pt x="52" y="328"/>
                        <a:pt x="39" y="289"/>
                      </a:cubicBezTo>
                      <a:cubicBezTo>
                        <a:pt x="27" y="250"/>
                        <a:pt x="17" y="204"/>
                        <a:pt x="10" y="161"/>
                      </a:cubicBezTo>
                      <a:cubicBezTo>
                        <a:pt x="4" y="118"/>
                        <a:pt x="0" y="47"/>
                        <a:pt x="0" y="28"/>
                      </a:cubicBezTo>
                      <a:lnTo>
                        <a:pt x="13" y="46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rot="100200">
                  <a:off x="1766160" y="2100240"/>
                  <a:ext cx="561240" cy="122400"/>
                </a:xfrm>
                <a:custGeom>
                  <a:avLst/>
                  <a:gdLst/>
                  <a:ahLst/>
                  <a:rect l="l" t="t" r="r" b="b"/>
                  <a:pathLst>
                    <a:path w="979" h="257">
                      <a:moveTo>
                        <a:pt x="0" y="78"/>
                      </a:moveTo>
                      <a:cubicBezTo>
                        <a:pt x="17" y="92"/>
                        <a:pt x="57" y="134"/>
                        <a:pt x="101" y="160"/>
                      </a:cubicBezTo>
                      <a:cubicBezTo>
                        <a:pt x="145" y="186"/>
                        <a:pt x="213" y="216"/>
                        <a:pt x="263" y="232"/>
                      </a:cubicBezTo>
                      <a:cubicBezTo>
                        <a:pt x="313" y="248"/>
                        <a:pt x="347" y="255"/>
                        <a:pt x="404" y="256"/>
                      </a:cubicBezTo>
                      <a:cubicBezTo>
                        <a:pt x="461" y="257"/>
                        <a:pt x="542" y="254"/>
                        <a:pt x="608" y="238"/>
                      </a:cubicBezTo>
                      <a:cubicBezTo>
                        <a:pt x="674" y="222"/>
                        <a:pt x="738" y="200"/>
                        <a:pt x="800" y="160"/>
                      </a:cubicBezTo>
                      <a:cubicBezTo>
                        <a:pt x="862" y="120"/>
                        <a:pt x="942" y="33"/>
                        <a:pt x="979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rot="100200">
                  <a:off x="1767600" y="1575000"/>
                  <a:ext cx="562320" cy="10929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5" name=""/>
              <p:cNvSpPr/>
              <p:nvPr/>
            </p:nvSpPr>
            <p:spPr>
              <a:xfrm flipH="1">
                <a:off x="2107800" y="1793160"/>
                <a:ext cx="1217160" cy="133020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1779480" y="1827720"/>
                <a:ext cx="1148040" cy="125136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131920" y="2213280"/>
                <a:ext cx="1064520" cy="14544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1429920" y="2209680"/>
                <a:ext cx="768600" cy="83952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1676520" y="2180520"/>
                <a:ext cx="187920" cy="20592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351080" y="2124360"/>
                <a:ext cx="540000" cy="7416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397440" y="1935360"/>
                <a:ext cx="1278000" cy="1257480"/>
                <a:chOff x="397440" y="1935360"/>
                <a:chExt cx="1278000" cy="1257480"/>
              </a:xfrm>
            </p:grpSpPr>
            <p:sp>
              <p:nvSpPr>
                <p:cNvPr id="232" name=""/>
                <p:cNvSpPr/>
                <p:nvPr/>
              </p:nvSpPr>
              <p:spPr>
                <a:xfrm rot="467400">
                  <a:off x="484560" y="2007720"/>
                  <a:ext cx="1122120" cy="109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467400">
                  <a:off x="482040" y="2006280"/>
                  <a:ext cx="1121760" cy="10900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rot="467400">
                  <a:off x="436680" y="2457720"/>
                  <a:ext cx="1162800" cy="659160"/>
                </a:xfrm>
                <a:custGeom>
                  <a:avLst/>
                  <a:gdLst/>
                  <a:ahLst/>
                  <a:rect l="l" t="t" r="r" b="b"/>
                  <a:pathLst>
                    <a:path w="982" h="568">
                      <a:moveTo>
                        <a:pt x="22" y="106"/>
                      </a:moveTo>
                      <a:cubicBezTo>
                        <a:pt x="39" y="120"/>
                        <a:pt x="60" y="144"/>
                        <a:pt x="100" y="166"/>
                      </a:cubicBezTo>
                      <a:cubicBezTo>
                        <a:pt x="140" y="188"/>
                        <a:pt x="212" y="222"/>
                        <a:pt x="262" y="238"/>
                      </a:cubicBezTo>
                      <a:cubicBezTo>
                        <a:pt x="312" y="254"/>
                        <a:pt x="346" y="261"/>
                        <a:pt x="403" y="262"/>
                      </a:cubicBezTo>
                      <a:cubicBezTo>
                        <a:pt x="460" y="263"/>
                        <a:pt x="546" y="257"/>
                        <a:pt x="607" y="244"/>
                      </a:cubicBezTo>
                      <a:cubicBezTo>
                        <a:pt x="668" y="231"/>
                        <a:pt x="719" y="210"/>
                        <a:pt x="769" y="183"/>
                      </a:cubicBezTo>
                      <a:cubicBezTo>
                        <a:pt x="819" y="156"/>
                        <a:pt x="872" y="111"/>
                        <a:pt x="907" y="82"/>
                      </a:cubicBezTo>
                      <a:cubicBezTo>
                        <a:pt x="942" y="53"/>
                        <a:pt x="966" y="0"/>
                        <a:pt x="978" y="7"/>
                      </a:cubicBezTo>
                      <a:cubicBezTo>
                        <a:pt x="973" y="11"/>
                        <a:pt x="982" y="84"/>
                        <a:pt x="978" y="123"/>
                      </a:cubicBezTo>
                      <a:cubicBezTo>
                        <a:pt x="974" y="162"/>
                        <a:pt x="966" y="204"/>
                        <a:pt x="952" y="243"/>
                      </a:cubicBezTo>
                      <a:cubicBezTo>
                        <a:pt x="938" y="282"/>
                        <a:pt x="913" y="325"/>
                        <a:pt x="891" y="357"/>
                      </a:cubicBezTo>
                      <a:cubicBezTo>
                        <a:pt x="869" y="389"/>
                        <a:pt x="849" y="412"/>
                        <a:pt x="820" y="438"/>
                      </a:cubicBezTo>
                      <a:cubicBezTo>
                        <a:pt x="791" y="464"/>
                        <a:pt x="755" y="491"/>
                        <a:pt x="715" y="511"/>
                      </a:cubicBezTo>
                      <a:cubicBezTo>
                        <a:pt x="675" y="531"/>
                        <a:pt x="628" y="548"/>
                        <a:pt x="580" y="556"/>
                      </a:cubicBezTo>
                      <a:cubicBezTo>
                        <a:pt x="532" y="564"/>
                        <a:pt x="478" y="568"/>
                        <a:pt x="429" y="562"/>
                      </a:cubicBezTo>
                      <a:cubicBezTo>
                        <a:pt x="380" y="556"/>
                        <a:pt x="330" y="541"/>
                        <a:pt x="288" y="522"/>
                      </a:cubicBezTo>
                      <a:cubicBezTo>
                        <a:pt x="246" y="503"/>
                        <a:pt x="209" y="480"/>
                        <a:pt x="174" y="450"/>
                      </a:cubicBezTo>
                      <a:cubicBezTo>
                        <a:pt x="139" y="420"/>
                        <a:pt x="104" y="381"/>
                        <a:pt x="79" y="342"/>
                      </a:cubicBezTo>
                      <a:cubicBezTo>
                        <a:pt x="54" y="303"/>
                        <a:pt x="34" y="257"/>
                        <a:pt x="21" y="214"/>
                      </a:cubicBezTo>
                      <a:cubicBezTo>
                        <a:pt x="8" y="171"/>
                        <a:pt x="0" y="99"/>
                        <a:pt x="0" y="81"/>
                      </a:cubicBezTo>
                      <a:lnTo>
                        <a:pt x="22" y="106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V="1" rot="11267400">
                  <a:off x="1317600" y="2195640"/>
                  <a:ext cx="289080" cy="794520"/>
                </a:xfrm>
                <a:custGeom>
                  <a:avLst/>
                  <a:gdLst/>
                  <a:ahLst/>
                  <a:rect l="l" t="t" r="r" b="b"/>
                  <a:pathLst>
                    <a:path w="252" h="715">
                      <a:moveTo>
                        <a:pt x="84" y="643"/>
                      </a:moveTo>
                      <a:cubicBezTo>
                        <a:pt x="64" y="611"/>
                        <a:pt x="38" y="568"/>
                        <a:pt x="24" y="519"/>
                      </a:cubicBezTo>
                      <a:cubicBezTo>
                        <a:pt x="10" y="470"/>
                        <a:pt x="0" y="403"/>
                        <a:pt x="1" y="351"/>
                      </a:cubicBezTo>
                      <a:cubicBezTo>
                        <a:pt x="2" y="299"/>
                        <a:pt x="14" y="251"/>
                        <a:pt x="30" y="205"/>
                      </a:cubicBezTo>
                      <a:cubicBezTo>
                        <a:pt x="46" y="159"/>
                        <a:pt x="77" y="106"/>
                        <a:pt x="100" y="73"/>
                      </a:cubicBezTo>
                      <a:cubicBezTo>
                        <a:pt x="123" y="40"/>
                        <a:pt x="163" y="0"/>
                        <a:pt x="166" y="4"/>
                      </a:cubicBezTo>
                      <a:cubicBezTo>
                        <a:pt x="198" y="57"/>
                        <a:pt x="212" y="120"/>
                        <a:pt x="225" y="171"/>
                      </a:cubicBezTo>
                      <a:cubicBezTo>
                        <a:pt x="239" y="226"/>
                        <a:pt x="246" y="280"/>
                        <a:pt x="249" y="337"/>
                      </a:cubicBezTo>
                      <a:cubicBezTo>
                        <a:pt x="252" y="394"/>
                        <a:pt x="249" y="464"/>
                        <a:pt x="241" y="514"/>
                      </a:cubicBezTo>
                      <a:cubicBezTo>
                        <a:pt x="233" y="564"/>
                        <a:pt x="216" y="603"/>
                        <a:pt x="199" y="636"/>
                      </a:cubicBezTo>
                      <a:cubicBezTo>
                        <a:pt x="182" y="669"/>
                        <a:pt x="142" y="715"/>
                        <a:pt x="142" y="712"/>
                      </a:cubicBezTo>
                      <a:cubicBezTo>
                        <a:pt x="142" y="711"/>
                        <a:pt x="104" y="675"/>
                        <a:pt x="84" y="6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rot="467400">
                  <a:off x="1290960" y="2176920"/>
                  <a:ext cx="130320" cy="809280"/>
                </a:xfrm>
                <a:custGeom>
                  <a:avLst/>
                  <a:gdLst/>
                  <a:ahLst/>
                  <a:rect l="l" t="t" r="r" b="b"/>
                  <a:pathLst>
                    <a:path w="114" h="728">
                      <a:moveTo>
                        <a:pt x="90" y="621"/>
                      </a:moveTo>
                      <a:cubicBezTo>
                        <a:pt x="86" y="592"/>
                        <a:pt x="86" y="572"/>
                        <a:pt x="84" y="540"/>
                      </a:cubicBezTo>
                      <a:cubicBezTo>
                        <a:pt x="82" y="508"/>
                        <a:pt x="78" y="467"/>
                        <a:pt x="78" y="426"/>
                      </a:cubicBezTo>
                      <a:cubicBezTo>
                        <a:pt x="78" y="385"/>
                        <a:pt x="80" y="339"/>
                        <a:pt x="81" y="291"/>
                      </a:cubicBezTo>
                      <a:cubicBezTo>
                        <a:pt x="82" y="243"/>
                        <a:pt x="83" y="185"/>
                        <a:pt x="84" y="138"/>
                      </a:cubicBezTo>
                      <a:cubicBezTo>
                        <a:pt x="85" y="91"/>
                        <a:pt x="95" y="0"/>
                        <a:pt x="86" y="6"/>
                      </a:cubicBezTo>
                      <a:cubicBezTo>
                        <a:pt x="54" y="59"/>
                        <a:pt x="40" y="122"/>
                        <a:pt x="27" y="173"/>
                      </a:cubicBezTo>
                      <a:cubicBezTo>
                        <a:pt x="13" y="228"/>
                        <a:pt x="6" y="282"/>
                        <a:pt x="3" y="339"/>
                      </a:cubicBezTo>
                      <a:cubicBezTo>
                        <a:pt x="0" y="396"/>
                        <a:pt x="3" y="465"/>
                        <a:pt x="11" y="516"/>
                      </a:cubicBezTo>
                      <a:cubicBezTo>
                        <a:pt x="19" y="567"/>
                        <a:pt x="35" y="608"/>
                        <a:pt x="52" y="643"/>
                      </a:cubicBezTo>
                      <a:cubicBezTo>
                        <a:pt x="69" y="678"/>
                        <a:pt x="108" y="728"/>
                        <a:pt x="114" y="724"/>
                      </a:cubicBezTo>
                      <a:cubicBezTo>
                        <a:pt x="114" y="723"/>
                        <a:pt x="95" y="642"/>
                        <a:pt x="90" y="621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rot="467400">
                  <a:off x="470520" y="2549520"/>
                  <a:ext cx="903240" cy="198000"/>
                </a:xfrm>
                <a:custGeom>
                  <a:avLst/>
                  <a:gdLst/>
                  <a:ahLst/>
                  <a:rect l="l" t="t" r="r" b="b"/>
                  <a:pathLst>
                    <a:path w="790" h="179">
                      <a:moveTo>
                        <a:pt x="0" y="0"/>
                      </a:moveTo>
                      <a:cubicBezTo>
                        <a:pt x="17" y="14"/>
                        <a:pt x="57" y="56"/>
                        <a:pt x="101" y="82"/>
                      </a:cubicBezTo>
                      <a:cubicBezTo>
                        <a:pt x="145" y="108"/>
                        <a:pt x="213" y="138"/>
                        <a:pt x="263" y="154"/>
                      </a:cubicBezTo>
                      <a:cubicBezTo>
                        <a:pt x="313" y="170"/>
                        <a:pt x="347" y="177"/>
                        <a:pt x="404" y="178"/>
                      </a:cubicBezTo>
                      <a:cubicBezTo>
                        <a:pt x="461" y="179"/>
                        <a:pt x="556" y="169"/>
                        <a:pt x="608" y="160"/>
                      </a:cubicBezTo>
                      <a:cubicBezTo>
                        <a:pt x="660" y="151"/>
                        <a:pt x="687" y="140"/>
                        <a:pt x="714" y="123"/>
                      </a:cubicBezTo>
                      <a:cubicBezTo>
                        <a:pt x="741" y="106"/>
                        <a:pt x="755" y="73"/>
                        <a:pt x="768" y="60"/>
                      </a:cubicBezTo>
                      <a:cubicBezTo>
                        <a:pt x="781" y="47"/>
                        <a:pt x="785" y="46"/>
                        <a:pt x="790" y="4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 flipH="1">
                <a:off x="1410480" y="1963440"/>
                <a:ext cx="306720" cy="33300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385640" y="2339640"/>
                <a:ext cx="1433520" cy="19584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467400">
                <a:off x="1210320" y="2843280"/>
                <a:ext cx="1452600" cy="2520"/>
              </a:xfrm>
              <a:custGeom>
                <a:avLst/>
                <a:gdLst/>
                <a:ahLst/>
                <a:rect l="l" t="t" r="r" b="b"/>
                <a:pathLst>
                  <a:path w="1266" h="3">
                    <a:moveTo>
                      <a:pt x="0" y="3"/>
                    </a:moveTo>
                    <a:lnTo>
                      <a:pt x="1266" y="0"/>
                    </a:lnTo>
                  </a:path>
                </a:pathLst>
              </a:custGeom>
              <a:noFill/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339200" y="2544480"/>
                <a:ext cx="1514520" cy="20736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1100160" y="2378520"/>
                <a:ext cx="578160" cy="63108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780120" y="2767320"/>
                <a:ext cx="191160" cy="20844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460800" y="2681640"/>
                <a:ext cx="224640" cy="24768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65240" y="2883960"/>
                <a:ext cx="2263320" cy="30960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467400">
                <a:off x="510840" y="2740680"/>
                <a:ext cx="407880" cy="344520"/>
              </a:xfrm>
              <a:custGeom>
                <a:avLst/>
                <a:gdLst/>
                <a:ahLst/>
                <a:rect l="l" t="t" r="r" b="b"/>
                <a:pathLst>
                  <a:path w="720" h="622">
                    <a:moveTo>
                      <a:pt x="430" y="0"/>
                    </a:moveTo>
                    <a:lnTo>
                      <a:pt x="177" y="379"/>
                    </a:lnTo>
                    <a:lnTo>
                      <a:pt x="0" y="379"/>
                    </a:lnTo>
                    <a:lnTo>
                      <a:pt x="168" y="622"/>
                    </a:lnTo>
                    <a:lnTo>
                      <a:pt x="631" y="379"/>
                    </a:lnTo>
                    <a:lnTo>
                      <a:pt x="465" y="382"/>
                    </a:lnTo>
                    <a:lnTo>
                      <a:pt x="720" y="0"/>
                    </a:lnTo>
                    <a:lnTo>
                      <a:pt x="430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1396800" y="1728720"/>
                <a:ext cx="1339920" cy="451080"/>
                <a:chOff x="1396800" y="1728720"/>
                <a:chExt cx="1339920" cy="451080"/>
              </a:xfrm>
            </p:grpSpPr>
            <p:sp>
              <p:nvSpPr>
                <p:cNvPr id="248" name=""/>
                <p:cNvSpPr/>
                <p:nvPr/>
              </p:nvSpPr>
              <p:spPr>
                <a:xfrm flipV="1">
                  <a:off x="2138760" y="1863000"/>
                  <a:ext cx="95760" cy="10080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V="1">
                  <a:off x="2286360" y="1827360"/>
                  <a:ext cx="231480" cy="14184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flipV="1">
                  <a:off x="2365200" y="2041200"/>
                  <a:ext cx="338040" cy="3852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355480" y="2152080"/>
                  <a:ext cx="381240" cy="2772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flipH="1" flipV="1">
                  <a:off x="1573920" y="1728720"/>
                  <a:ext cx="320400" cy="18288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flipH="1" flipV="1">
                  <a:off x="1445040" y="1883520"/>
                  <a:ext cx="356760" cy="13392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 flipV="1">
                  <a:off x="1396800" y="2050200"/>
                  <a:ext cx="326160" cy="5004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 flipV="1">
                  <a:off x="1705320" y="2034360"/>
                  <a:ext cx="231480" cy="5580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flipH="1" flipV="1">
                  <a:off x="1750320" y="1900800"/>
                  <a:ext cx="200160" cy="8784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H="1" flipV="1">
                  <a:off x="1969200" y="1851840"/>
                  <a:ext cx="65520" cy="975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V="1">
                  <a:off x="2215440" y="1975320"/>
                  <a:ext cx="148680" cy="2880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191680" y="2085120"/>
                  <a:ext cx="236520" cy="1800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flipH="1" flipV="1">
                  <a:off x="1910520" y="2007720"/>
                  <a:ext cx="125640" cy="5652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1367640" y="2228400"/>
                <a:ext cx="1307160" cy="443160"/>
                <a:chOff x="1367640" y="2228400"/>
                <a:chExt cx="1307160" cy="443160"/>
              </a:xfrm>
            </p:grpSpPr>
            <p:sp>
              <p:nvSpPr>
                <p:cNvPr id="262" name=""/>
                <p:cNvSpPr/>
                <p:nvPr/>
              </p:nvSpPr>
              <p:spPr>
                <a:xfrm flipH="1">
                  <a:off x="1827360" y="2392200"/>
                  <a:ext cx="106560" cy="1364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H="1">
                  <a:off x="1553400" y="2428200"/>
                  <a:ext cx="231480" cy="1432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>
                  <a:off x="1367640" y="2318400"/>
                  <a:ext cx="338400" cy="38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465200" y="2228400"/>
                  <a:ext cx="251280" cy="176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2176560" y="2487600"/>
                  <a:ext cx="320400" cy="18396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2269080" y="2380680"/>
                  <a:ext cx="356040" cy="1342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2349000" y="2295720"/>
                  <a:ext cx="325800" cy="500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135160" y="2307600"/>
                  <a:ext cx="231120" cy="5652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2120760" y="2409840"/>
                  <a:ext cx="200160" cy="8820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036880" y="2448360"/>
                  <a:ext cx="65520" cy="9792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H="1">
                  <a:off x="1706400" y="2394720"/>
                  <a:ext cx="149040" cy="2916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 flipV="1">
                  <a:off x="1644120" y="2294640"/>
                  <a:ext cx="236520" cy="176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034360" y="2332800"/>
                  <a:ext cx="125640" cy="56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5" name=""/>
              <p:cNvSpPr/>
              <p:nvPr/>
            </p:nvSpPr>
            <p:spPr>
              <a:xfrm>
                <a:off x="347400" y="2648880"/>
                <a:ext cx="379080" cy="5184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452400" y="1731240"/>
                <a:ext cx="281520" cy="3888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3614760" y="1336680"/>
                <a:ext cx="135720" cy="15156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 flipV="1">
              <a:off x="2057040" y="7621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753920" y="6094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480000">
              <a:off x="1307520" y="2895120"/>
              <a:ext cx="197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action Plane (R.P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4419720" y="3657600"/>
            <a:ext cx="4495680" cy="2393640"/>
            <a:chOff x="4419720" y="3657600"/>
            <a:chExt cx="4495680" cy="2393640"/>
          </a:xfrm>
        </p:grpSpPr>
        <p:pic>
          <p:nvPicPr>
            <p:cNvPr id="282" name="" descr=""/>
            <p:cNvPicPr/>
            <p:nvPr/>
          </p:nvPicPr>
          <p:blipFill>
            <a:blip r:embed="rId2"/>
            <a:stretch/>
          </p:blipFill>
          <p:spPr>
            <a:xfrm>
              <a:off x="4495680" y="4038480"/>
              <a:ext cx="4419720" cy="170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4419720" y="3657600"/>
              <a:ext cx="4495680" cy="68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Arial"/>
                </a:rPr>
                <a:t>elliptic azimuthal event anisotrop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low p</a:t>
              </a:r>
              <a:r>
                <a:rPr b="0" lang="ja-JP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high p</a:t>
              </a:r>
              <a:r>
                <a:rPr b="0" lang="ja-JP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29880" y="5715000"/>
              <a:ext cx="1529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1" lang="ja-JP" sz="1400" spc="-1" strike="noStrike" baseline="-25000">
                  <a:solidFill>
                    <a:srgbClr val="000000"/>
                  </a:solidFill>
                  <a:latin typeface="Verdana"/>
                </a:rPr>
                <a:t>particle</a:t>
              </a:r>
              <a:r>
                <a:rPr b="1" lang="ja-JP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</a:t>
              </a:r>
              <a:r>
                <a:rPr b="1" lang="ja-JP" sz="1400" spc="-1" strike="noStrike" baseline="-25000">
                  <a:solidFill>
                    <a:srgbClr val="000000"/>
                  </a:solidFill>
                  <a:latin typeface="Verdana"/>
                </a:rPr>
                <a:t>R.P.</a:t>
              </a:r>
              <a:r>
                <a:rPr b="1" lang="ja-JP" sz="1400" spc="-1" strike="noStrike">
                  <a:solidFill>
                    <a:srgbClr val="000000"/>
                  </a:solidFill>
                  <a:latin typeface="Verdana"/>
                </a:rPr>
                <a:t> (rad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182200" y="5668920"/>
              <a:ext cx="123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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486400" y="4114800"/>
              <a:ext cx="2209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76320" y="3276720"/>
            <a:ext cx="4800600" cy="3018960"/>
            <a:chOff x="76320" y="3276720"/>
            <a:chExt cx="4800600" cy="3018960"/>
          </a:xfrm>
        </p:grpSpPr>
        <p:sp>
          <p:nvSpPr>
            <p:cNvPr id="288" name=""/>
            <p:cNvSpPr/>
            <p:nvPr/>
          </p:nvSpPr>
          <p:spPr>
            <a:xfrm flipV="1">
              <a:off x="1871640" y="3429000"/>
              <a:ext cx="0" cy="281952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6320" y="4899240"/>
              <a:ext cx="358128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928800" y="4264200"/>
              <a:ext cx="1279440" cy="124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525680" y="4264200"/>
              <a:ext cx="1279440" cy="124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525680" y="4410360"/>
              <a:ext cx="426960" cy="2919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1525680" y="4483080"/>
              <a:ext cx="511200" cy="3654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1525680" y="4556160"/>
              <a:ext cx="596880" cy="4381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1525680" y="4629240"/>
              <a:ext cx="682560" cy="5112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611360" y="4775400"/>
              <a:ext cx="596880" cy="4381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1697040" y="4921200"/>
              <a:ext cx="511200" cy="3654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1781280" y="5067360"/>
              <a:ext cx="426960" cy="2923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757520" y="3826080"/>
              <a:ext cx="255600" cy="51120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2700000">
              <a:off x="2298960" y="3965400"/>
              <a:ext cx="352440" cy="682560"/>
            </a:xfrm>
            <a:prstGeom prst="upArrow">
              <a:avLst>
                <a:gd name="adj1" fmla="val 50000"/>
                <a:gd name="adj2" fmla="val 4841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5400000">
              <a:off x="2517840" y="4500720"/>
              <a:ext cx="511200" cy="768240"/>
            </a:xfrm>
            <a:prstGeom prst="upArrow">
              <a:avLst>
                <a:gd name="adj1" fmla="val 50000"/>
                <a:gd name="adj2" fmla="val 375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8100000">
              <a:off x="2257560" y="5160240"/>
              <a:ext cx="412560" cy="584280"/>
            </a:xfrm>
            <a:prstGeom prst="upArrow">
              <a:avLst>
                <a:gd name="adj1" fmla="val 50000"/>
                <a:gd name="adj2" fmla="val 35406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0800000">
              <a:off x="1733400" y="5432400"/>
              <a:ext cx="255600" cy="51120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8900000">
              <a:off x="1101240" y="3971520"/>
              <a:ext cx="412920" cy="584280"/>
            </a:xfrm>
            <a:prstGeom prst="upArrow">
              <a:avLst>
                <a:gd name="adj1" fmla="val 50000"/>
                <a:gd name="adj2" fmla="val 3537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16200000">
              <a:off x="704880" y="4500720"/>
              <a:ext cx="511200" cy="768240"/>
            </a:xfrm>
            <a:prstGeom prst="upArrow">
              <a:avLst>
                <a:gd name="adj1" fmla="val 50000"/>
                <a:gd name="adj2" fmla="val 375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13500000">
              <a:off x="1081800" y="5133240"/>
              <a:ext cx="353880" cy="682560"/>
            </a:xfrm>
            <a:prstGeom prst="upArrow">
              <a:avLst>
                <a:gd name="adj1" fmla="val 50000"/>
                <a:gd name="adj2" fmla="val 4822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354840" y="487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906920" y="3276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820240" y="4191120"/>
              <a:ext cx="1480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liptic flow (v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981080" y="5715000"/>
              <a:ext cx="2895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initial geometry</a:t>
              </a:r>
              <a:br>
                <a:rPr sz="1600"/>
              </a:br>
              <a:r>
                <a:rPr b="1" lang="en-US" sz="1600" spc="-1" strike="noStrike">
                  <a:solidFill>
                    <a:srgbClr val="00ff00"/>
                  </a:solidFill>
                  <a:latin typeface="Arial"/>
                </a:rPr>
                <a:t>final momentum anisotrop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231120" y="150840"/>
            <a:ext cx="23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sotropic fl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4002480" y="4686480"/>
            <a:ext cx="7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N/d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7435-C920-4422-9857-6C2C74B770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3962520" cy="301608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4648320" y="334800"/>
            <a:ext cx="4114800" cy="298620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pic>
        <p:nvPicPr>
          <p:cNvPr id="315" name="" descr=""/>
          <p:cNvPicPr/>
          <p:nvPr/>
        </p:nvPicPr>
        <p:blipFill>
          <a:blip r:embed="rId3"/>
          <a:stretch/>
        </p:blipFill>
        <p:spPr>
          <a:xfrm>
            <a:off x="457200" y="3549600"/>
            <a:ext cx="3962520" cy="287820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pic>
        <p:nvPicPr>
          <p:cNvPr id="316" name="" descr=""/>
          <p:cNvPicPr/>
          <p:nvPr/>
        </p:nvPicPr>
        <p:blipFill>
          <a:blip r:embed="rId4"/>
          <a:stretch/>
        </p:blipFill>
        <p:spPr>
          <a:xfrm>
            <a:off x="4651200" y="3549600"/>
            <a:ext cx="3730680" cy="279576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EB97-BAFA-4555-95AB-B8A3E7B6FA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02:06:28Z</dcterms:created>
  <dc:creator>Esumi ShinIchi</dc:creator>
  <dc:description/>
  <dc:language>en-US</dc:language>
  <cp:lastModifiedBy>Esumi ShinIchi</cp:lastModifiedBy>
  <dcterms:modified xsi:type="dcterms:W3CDTF">2010-03-02T02:42:23Z</dcterms:modified>
  <cp:revision>5</cp:revision>
  <dc:subject/>
  <dc:title>PowerPoint プレゼンテーション</dc:title>
</cp:coreProperties>
</file>