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EAFB-B0FC-4356-B9FC-612137972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78AD-CC1F-4417-AA52-300305D2A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4FF2-F67F-4463-BD64-8E799760B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CA38-A38D-499F-904F-62F0327EF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CCFE-BAAA-4134-8EEC-EC400043B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E02B-D463-43C0-9B4B-25A8A7A57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AC2E-0EC7-42B7-B646-B9EC0D4C3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7AEF-24FB-44F3-B253-162EB746E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2FF0-BC86-4A65-B4EE-36D3D9F99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A04A-6DF7-459D-9272-D7DABDC54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5409-0769-4B0B-8B37-C2B8C6B75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C9A1-16A7-436D-B8F2-2E40F5142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F0444-A48F-4AA7-81D9-7862524A2E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スライド番号プレースホルダ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BA95C-0D3A-439D-BC36-3F906B7526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246960" y="228600"/>
            <a:ext cx="5371560" cy="5814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Cal Simulation with Geant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7537320" y="152280"/>
            <a:ext cx="153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/31/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. Kon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52560" y="1676520"/>
            <a:ext cx="20574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3695760" y="1676520"/>
            <a:ext cx="53352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2"/>
          <p:cNvSpPr/>
          <p:nvPr/>
        </p:nvSpPr>
        <p:spPr>
          <a:xfrm>
            <a:off x="230040" y="1030320"/>
            <a:ext cx="13161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e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3"/>
          <p:cNvSpPr/>
          <p:nvPr/>
        </p:nvSpPr>
        <p:spPr>
          <a:xfrm>
            <a:off x="952560" y="37339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4"/>
          <p:cNvSpPr/>
          <p:nvPr/>
        </p:nvSpPr>
        <p:spPr>
          <a:xfrm>
            <a:off x="723960" y="16765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5"/>
          <p:cNvSpPr/>
          <p:nvPr/>
        </p:nvSpPr>
        <p:spPr>
          <a:xfrm>
            <a:off x="1333440" y="3781440"/>
            <a:ext cx="14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 cm (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6"/>
          <p:cNvSpPr/>
          <p:nvPr/>
        </p:nvSpPr>
        <p:spPr>
          <a:xfrm rot="16200000">
            <a:off x="-239760" y="21553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 cm (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7"/>
          <p:cNvSpPr/>
          <p:nvPr/>
        </p:nvSpPr>
        <p:spPr>
          <a:xfrm>
            <a:off x="3009960" y="16765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8"/>
          <p:cNvSpPr/>
          <p:nvPr/>
        </p:nvSpPr>
        <p:spPr>
          <a:xfrm>
            <a:off x="3009960" y="35053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9"/>
          <p:cNvSpPr/>
          <p:nvPr/>
        </p:nvSpPr>
        <p:spPr>
          <a:xfrm>
            <a:off x="3695760" y="3733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0"/>
          <p:cNvSpPr/>
          <p:nvPr/>
        </p:nvSpPr>
        <p:spPr>
          <a:xfrm>
            <a:off x="3637080" y="3794040"/>
            <a:ext cx="1284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 cm 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75 c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3"/>
          <p:cNvSpPr/>
          <p:nvPr/>
        </p:nvSpPr>
        <p:spPr>
          <a:xfrm>
            <a:off x="3848040" y="1676520"/>
            <a:ext cx="76320" cy="1828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42"/>
          <p:cNvGrpSpPr/>
          <p:nvPr/>
        </p:nvGrpSpPr>
        <p:grpSpPr>
          <a:xfrm>
            <a:off x="1720440" y="4419720"/>
            <a:ext cx="1547640" cy="2377440"/>
            <a:chOff x="1720440" y="4419720"/>
            <a:chExt cx="1547640" cy="2377440"/>
          </a:xfrm>
        </p:grpSpPr>
        <p:sp>
          <p:nvSpPr>
            <p:cNvPr id="57" name="Rectangle 31"/>
            <p:cNvSpPr/>
            <p:nvPr/>
          </p:nvSpPr>
          <p:spPr>
            <a:xfrm>
              <a:off x="2095200" y="4419720"/>
              <a:ext cx="380880" cy="15998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32"/>
            <p:cNvSpPr/>
            <p:nvPr/>
          </p:nvSpPr>
          <p:spPr>
            <a:xfrm>
              <a:off x="2476440" y="4419720"/>
              <a:ext cx="151920" cy="15998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37"/>
            <p:cNvSpPr/>
            <p:nvPr/>
          </p:nvSpPr>
          <p:spPr>
            <a:xfrm flipV="1">
              <a:off x="2095200" y="6171840"/>
              <a:ext cx="380880" cy="1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38"/>
            <p:cNvSpPr/>
            <p:nvPr/>
          </p:nvSpPr>
          <p:spPr>
            <a:xfrm>
              <a:off x="1720440" y="6216480"/>
              <a:ext cx="924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.7 c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1.2 cm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40"/>
            <p:cNvSpPr/>
            <p:nvPr/>
          </p:nvSpPr>
          <p:spPr>
            <a:xfrm>
              <a:off x="2476440" y="6172200"/>
              <a:ext cx="22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41"/>
            <p:cNvSpPr/>
            <p:nvPr/>
          </p:nvSpPr>
          <p:spPr>
            <a:xfrm>
              <a:off x="2477880" y="621648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.3 c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63" name="AutoShape 48"/>
          <p:cNvCxnSpPr>
            <a:stCxn id="55" idx="1"/>
            <a:endCxn id="58" idx="3"/>
          </p:cNvCxnSpPr>
          <p:nvPr/>
        </p:nvCxnSpPr>
        <p:spPr>
          <a:xfrm flipV="1" rot="10800000">
            <a:off x="2628360" y="2590920"/>
            <a:ext cx="1220040" cy="2629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Line 49"/>
          <p:cNvSpPr/>
          <p:nvPr/>
        </p:nvSpPr>
        <p:spPr>
          <a:xfrm>
            <a:off x="1486080" y="518148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0"/>
          <p:cNvSpPr/>
          <p:nvPr/>
        </p:nvSpPr>
        <p:spPr>
          <a:xfrm>
            <a:off x="477000" y="4540320"/>
            <a:ext cx="120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orb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b or F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51"/>
          <p:cNvSpPr/>
          <p:nvPr/>
        </p:nvSpPr>
        <p:spPr>
          <a:xfrm flipH="1" flipV="1">
            <a:off x="2552760" y="5791320"/>
            <a:ext cx="419040" cy="4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2"/>
          <p:cNvSpPr/>
          <p:nvPr/>
        </p:nvSpPr>
        <p:spPr>
          <a:xfrm>
            <a:off x="2974680" y="563868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intil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3"/>
          <p:cNvSpPr/>
          <p:nvPr/>
        </p:nvSpPr>
        <p:spPr>
          <a:xfrm>
            <a:off x="3286440" y="4638600"/>
            <a:ext cx="210708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50 lay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layer = 1.0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.5 c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4"/>
          <p:cNvSpPr/>
          <p:nvPr/>
        </p:nvSpPr>
        <p:spPr>
          <a:xfrm>
            <a:off x="5897160" y="1295280"/>
            <a:ext cx="2867760" cy="49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artic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0.5-100 Ge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roces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Dec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EM inte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Hadronic intera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odel: LHEP_BER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te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Energy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&lt;E&gt;, resol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Shower pro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ransver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55"/>
          <p:cNvSpPr/>
          <p:nvPr/>
        </p:nvSpPr>
        <p:spPr>
          <a:xfrm>
            <a:off x="5562720" y="114300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スライド番号プレースホルダ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9D783-FAC3-482D-B274-E92ACAE69A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172800" y="152280"/>
            <a:ext cx="44020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-2. Shower profile - dE/dr vs.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1005840" y="4800600"/>
            <a:ext cx="33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bsorber: Pb,  12 m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5043960" y="4800600"/>
            <a:ext cx="32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bsorber: Fe, 12 m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図 9" descr="dedr_vs_r_pb_12mm.gif"/>
          <p:cNvPicPr/>
          <p:nvPr/>
        </p:nvPicPr>
        <p:blipFill>
          <a:blip r:embed="rId1"/>
          <a:stretch/>
        </p:blipFill>
        <p:spPr>
          <a:xfrm>
            <a:off x="0" y="1066680"/>
            <a:ext cx="4572000" cy="3286080"/>
          </a:xfrm>
          <a:prstGeom prst="rect">
            <a:avLst/>
          </a:prstGeom>
          <a:ln w="0">
            <a:noFill/>
          </a:ln>
        </p:spPr>
      </p:pic>
      <p:pic>
        <p:nvPicPr>
          <p:cNvPr id="131" name="図 11" descr="dedr_vs_r_fe_12mm.gif"/>
          <p:cNvPicPr/>
          <p:nvPr/>
        </p:nvPicPr>
        <p:blipFill>
          <a:blip r:embed="rId2"/>
          <a:stretch/>
        </p:blipFill>
        <p:spPr>
          <a:xfrm>
            <a:off x="4572000" y="1066680"/>
            <a:ext cx="457200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スライド番号プレースホルダ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89EFF-CADB-46A6-A695-9F92C1E938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182880" y="152280"/>
            <a:ext cx="4199400" cy="510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-1. Shower profile – R vs.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1825200" y="5362560"/>
            <a:ext cx="548424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adius not changing much with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nergy loss is cen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 other words, a long tail seen around the ce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(Fe) &lt; R(P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図 7" descr="R_vs_ein_comp_7mm.gif"/>
          <p:cNvPicPr/>
          <p:nvPr/>
        </p:nvPicPr>
        <p:blipFill>
          <a:blip r:embed="rId1"/>
          <a:stretch/>
        </p:blipFill>
        <p:spPr>
          <a:xfrm>
            <a:off x="1143000" y="731880"/>
            <a:ext cx="6934320" cy="46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スライド番号プレースホルダ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DAC75-1902-4610-98CC-AAAC7FB67C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182880" y="152280"/>
            <a:ext cx="4199400" cy="510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-2. Shower profile – R vs.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1825200" y="5362560"/>
            <a:ext cx="548424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adius not changing much with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nergy loss is cen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 other words, a long tail seen around the ce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(Fe) &lt; R(P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図 5" descr="R_vs_ein_comp_12mm.gif"/>
          <p:cNvPicPr/>
          <p:nvPr/>
        </p:nvPicPr>
        <p:blipFill>
          <a:blip r:embed="rId1"/>
          <a:stretch/>
        </p:blipFill>
        <p:spPr>
          <a:xfrm>
            <a:off x="1143000" y="685800"/>
            <a:ext cx="694368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153720" y="152280"/>
            <a:ext cx="19944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 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555120" y="914400"/>
            <a:ext cx="772272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nergy loss (&lt;E&gt;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and efficiency 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 different between two absorbers Pb and F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cy: ~85% for absorber length = 35 cm (0.7 cm x 50 lay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cy: ~95% for absorber length = 60 cm (1.2 cm x 50 lay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8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e, 12mm): ~12 cm,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8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b, 12mm): ~21 c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(Fe) &lt; R(P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1368720" y="4327560"/>
            <a:ext cx="5854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ut EMCal in front of H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Introduce the photon detection 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y the segmentation in YZ pla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PYTHIA jet information as Pb+Pb colli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 the materials and geometry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fit in ALICE det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y to use other hadronic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6"/>
          <p:cNvSpPr/>
          <p:nvPr/>
        </p:nvSpPr>
        <p:spPr>
          <a:xfrm>
            <a:off x="1447920" y="3809880"/>
            <a:ext cx="632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841680" y="388620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ext to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図 18" descr=""/>
          <p:cNvPicPr/>
          <p:nvPr/>
        </p:nvPicPr>
        <p:blipFill>
          <a:blip r:embed="rId1"/>
          <a:stretch/>
        </p:blipFill>
        <p:spPr>
          <a:xfrm>
            <a:off x="5370480" y="1670040"/>
            <a:ext cx="2478240" cy="4114800"/>
          </a:xfrm>
          <a:prstGeom prst="rect">
            <a:avLst/>
          </a:prstGeom>
          <a:ln w="0">
            <a:noFill/>
          </a:ln>
        </p:spPr>
      </p:pic>
      <p:pic>
        <p:nvPicPr>
          <p:cNvPr id="72" name="図 17" descr=""/>
          <p:cNvPicPr/>
          <p:nvPr/>
        </p:nvPicPr>
        <p:blipFill>
          <a:blip r:embed="rId2"/>
          <a:stretch/>
        </p:blipFill>
        <p:spPr>
          <a:xfrm>
            <a:off x="1111320" y="1670040"/>
            <a:ext cx="3581280" cy="41212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6"/>
          <p:cNvSpPr/>
          <p:nvPr/>
        </p:nvSpPr>
        <p:spPr>
          <a:xfrm>
            <a:off x="189000" y="228600"/>
            <a:ext cx="22471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Particle Sh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6037560" y="228600"/>
            <a:ext cx="2674080" cy="87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parti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,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0 Ge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1"/>
          <p:cNvSpPr/>
          <p:nvPr/>
        </p:nvSpPr>
        <p:spPr>
          <a:xfrm flipV="1">
            <a:off x="882720" y="2736360"/>
            <a:ext cx="4190760" cy="17528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2754360" y="279360"/>
            <a:ext cx="274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bsorber: Fe, 12 m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直線矢印コネクタ 20"/>
          <p:cNvCxnSpPr/>
          <p:nvPr/>
        </p:nvCxnSpPr>
        <p:spPr>
          <a:xfrm>
            <a:off x="5181480" y="3657600"/>
            <a:ext cx="2896560" cy="21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図 17" descr="eloss_log_fe_12mm.gif"/>
          <p:cNvPicPr/>
          <p:nvPr/>
        </p:nvPicPr>
        <p:blipFill>
          <a:blip r:embed="rId1"/>
          <a:stretch/>
        </p:blipFill>
        <p:spPr>
          <a:xfrm>
            <a:off x="4952880" y="1676520"/>
            <a:ext cx="4114800" cy="2957400"/>
          </a:xfrm>
          <a:prstGeom prst="rect">
            <a:avLst/>
          </a:prstGeom>
          <a:ln w="0">
            <a:noFill/>
          </a:ln>
        </p:spPr>
      </p:pic>
      <p:pic>
        <p:nvPicPr>
          <p:cNvPr id="79" name="図 16" descr="eloss_fe_12mm.gif"/>
          <p:cNvPicPr/>
          <p:nvPr/>
        </p:nvPicPr>
        <p:blipFill>
          <a:blip r:embed="rId2"/>
          <a:stretch/>
        </p:blipFill>
        <p:spPr>
          <a:xfrm>
            <a:off x="0" y="1066680"/>
            <a:ext cx="5302080" cy="3810240"/>
          </a:xfrm>
          <a:prstGeom prst="rect">
            <a:avLst/>
          </a:prstGeom>
          <a:ln w="0">
            <a:noFill/>
          </a:ln>
        </p:spPr>
      </p:pic>
      <p:sp>
        <p:nvSpPr>
          <p:cNvPr id="80" name="スライド番号プレースホルダ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B1C45-BA83-4A9F-945B-97EF1C9F20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153720" y="152280"/>
            <a:ext cx="40258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Energy loss in calori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4509360" y="228600"/>
            <a:ext cx="247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bsorber: Fe, 12 m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9"/>
          <p:cNvCxnSpPr/>
          <p:nvPr/>
        </p:nvCxnSpPr>
        <p:spPr>
          <a:xfrm flipH="1" flipV="1">
            <a:off x="6171480" y="3733560"/>
            <a:ext cx="610200" cy="167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" name="TextBox 20"/>
          <p:cNvSpPr/>
          <p:nvPr/>
        </p:nvSpPr>
        <p:spPr>
          <a:xfrm>
            <a:off x="5879880" y="5486400"/>
            <a:ext cx="22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 tail s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1"/>
          <p:cNvSpPr/>
          <p:nvPr/>
        </p:nvSpPr>
        <p:spPr>
          <a:xfrm>
            <a:off x="5502600" y="1523880"/>
            <a:ext cx="26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ame data in log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スライド番号プレースホルダ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8F2DC-C8CB-4A83-8E9C-1642323B84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153360" y="152280"/>
            <a:ext cx="35366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Efficiency (for show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図 8" descr="eff_comp_7mm.gif"/>
          <p:cNvPicPr/>
          <p:nvPr/>
        </p:nvPicPr>
        <p:blipFill>
          <a:blip r:embed="rId1"/>
          <a:stretch/>
        </p:blipFill>
        <p:spPr>
          <a:xfrm>
            <a:off x="76320" y="1295280"/>
            <a:ext cx="4572000" cy="3084480"/>
          </a:xfrm>
          <a:prstGeom prst="rect">
            <a:avLst/>
          </a:prstGeom>
          <a:ln w="0">
            <a:noFill/>
          </a:ln>
        </p:spPr>
      </p:pic>
      <p:pic>
        <p:nvPicPr>
          <p:cNvPr id="89" name="図 9" descr="eff_comp_12mm.gif"/>
          <p:cNvPicPr/>
          <p:nvPr/>
        </p:nvPicPr>
        <p:blipFill>
          <a:blip r:embed="rId2"/>
          <a:stretch/>
        </p:blipFill>
        <p:spPr>
          <a:xfrm>
            <a:off x="4495680" y="1295280"/>
            <a:ext cx="4572000" cy="3084480"/>
          </a:xfrm>
          <a:prstGeom prst="rect">
            <a:avLst/>
          </a:prstGeom>
          <a:ln w="0">
            <a:noFill/>
          </a:ln>
        </p:spPr>
      </p:pic>
      <p:cxnSp>
        <p:nvCxnSpPr>
          <p:cNvPr id="90" name="直線矢印コネクタ 11"/>
          <p:cNvCxnSpPr/>
          <p:nvPr/>
        </p:nvCxnSpPr>
        <p:spPr>
          <a:xfrm flipV="1">
            <a:off x="1371600" y="2133360"/>
            <a:ext cx="457920" cy="25912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" name="直線矢印コネクタ 12"/>
          <p:cNvCxnSpPr/>
          <p:nvPr/>
        </p:nvCxnSpPr>
        <p:spPr>
          <a:xfrm flipV="1">
            <a:off x="5867280" y="1904760"/>
            <a:ext cx="457920" cy="25912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2" name="TextBox 13"/>
          <p:cNvSpPr/>
          <p:nvPr/>
        </p:nvSpPr>
        <p:spPr>
          <a:xfrm>
            <a:off x="772200" y="4795920"/>
            <a:ext cx="2344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85 % for 7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4"/>
          <p:cNvSpPr/>
          <p:nvPr/>
        </p:nvSpPr>
        <p:spPr>
          <a:xfrm>
            <a:off x="5116680" y="4572000"/>
            <a:ext cx="25138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95 % for 12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スライド番号プレースホルダ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19E94-C3DD-43D3-A8D6-DC419F5BAC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195840" y="152280"/>
            <a:ext cx="4062240" cy="510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Energy loss (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o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50Me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759600" y="4952880"/>
            <a:ext cx="367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Secondary particles flow ou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図 10" descr="eloss_vs_ein_comp_7mm.gif"/>
          <p:cNvPicPr/>
          <p:nvPr/>
        </p:nvPicPr>
        <p:blipFill>
          <a:blip r:embed="rId1"/>
          <a:stretch/>
        </p:blipFill>
        <p:spPr>
          <a:xfrm>
            <a:off x="152280" y="1219320"/>
            <a:ext cx="4572000" cy="3084480"/>
          </a:xfrm>
          <a:prstGeom prst="rect">
            <a:avLst/>
          </a:prstGeom>
          <a:ln w="0">
            <a:noFill/>
          </a:ln>
        </p:spPr>
      </p:pic>
      <p:pic>
        <p:nvPicPr>
          <p:cNvPr id="98" name="図 11" descr="eloss_vs_ein_comp_12mm.gif"/>
          <p:cNvPicPr/>
          <p:nvPr/>
        </p:nvPicPr>
        <p:blipFill>
          <a:blip r:embed="rId2"/>
          <a:stretch/>
        </p:blipFill>
        <p:spPr>
          <a:xfrm>
            <a:off x="4495680" y="1258920"/>
            <a:ext cx="457200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スライド番号プレースホルダ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49CB6-8E13-4794-88B2-D046CBA8DA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299880" y="152280"/>
            <a:ext cx="6535800" cy="510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Energy resolution (RMS/Mean,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o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50Me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2969640" y="4684680"/>
            <a:ext cx="3266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Only small fraction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cle energy measu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’s not the total ener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図 6" descr="res_vs_ein_comp_7mm.gif"/>
          <p:cNvPicPr/>
          <p:nvPr/>
        </p:nvPicPr>
        <p:blipFill>
          <a:blip r:embed="rId1"/>
          <a:stretch/>
        </p:blipFill>
        <p:spPr>
          <a:xfrm>
            <a:off x="152280" y="1219320"/>
            <a:ext cx="4572000" cy="3084480"/>
          </a:xfrm>
          <a:prstGeom prst="rect">
            <a:avLst/>
          </a:prstGeom>
          <a:ln w="0">
            <a:noFill/>
          </a:ln>
        </p:spPr>
      </p:pic>
      <p:pic>
        <p:nvPicPr>
          <p:cNvPr id="103" name="図 7" descr="res_vs_ein_comp_12mm.gif"/>
          <p:cNvPicPr/>
          <p:nvPr/>
        </p:nvPicPr>
        <p:blipFill>
          <a:blip r:embed="rId2"/>
          <a:stretch/>
        </p:blipFill>
        <p:spPr>
          <a:xfrm>
            <a:off x="4419720" y="1219320"/>
            <a:ext cx="457200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スライド番号プレースホルダ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84B3C-F2C6-4022-9FAF-4A727F07BD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174240" y="152280"/>
            <a:ext cx="45028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-1. Shower profile - dE/dx vs.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1004400" y="4800600"/>
            <a:ext cx="30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bsorber: Pb,  7m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5043600" y="4800600"/>
            <a:ext cx="30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bsorber: Fe, 7 m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2819880" y="5699160"/>
            <a:ext cx="358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The dE/dx distributions 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between Pb and F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5713920" y="228600"/>
            <a:ext cx="228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eam direction: 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図 14" descr="dedx_vs_x_pb_7mm.gif"/>
          <p:cNvPicPr/>
          <p:nvPr/>
        </p:nvPicPr>
        <p:blipFill>
          <a:blip r:embed="rId1"/>
          <a:stretch/>
        </p:blipFill>
        <p:spPr>
          <a:xfrm>
            <a:off x="0" y="1295280"/>
            <a:ext cx="4572000" cy="3286080"/>
          </a:xfrm>
          <a:prstGeom prst="rect">
            <a:avLst/>
          </a:prstGeom>
          <a:ln w="0">
            <a:noFill/>
          </a:ln>
        </p:spPr>
      </p:pic>
      <p:pic>
        <p:nvPicPr>
          <p:cNvPr id="111" name="図 15" descr="dedx_vs_x_fe_7mm.gif"/>
          <p:cNvPicPr/>
          <p:nvPr/>
        </p:nvPicPr>
        <p:blipFill>
          <a:blip r:embed="rId2"/>
          <a:stretch/>
        </p:blipFill>
        <p:spPr>
          <a:xfrm>
            <a:off x="4495680" y="1295280"/>
            <a:ext cx="457200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スライド番号プレースホルダ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FCAA2-14AE-4959-A487-8CE4875B2B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174240" y="152280"/>
            <a:ext cx="45028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-2. Shower profile - dE/dx vs.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1005840" y="4800600"/>
            <a:ext cx="33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bsorber: Pb,  12 m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5043960" y="4800600"/>
            <a:ext cx="32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bsorber: Fe, 12 m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2819880" y="5699160"/>
            <a:ext cx="358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The dE/dx distributions 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between Pb and F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5333040" y="228600"/>
            <a:ext cx="228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eam direction: 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図 9" descr="dedx_vs_x_pb_12mm.gif"/>
          <p:cNvPicPr/>
          <p:nvPr/>
        </p:nvPicPr>
        <p:blipFill>
          <a:blip r:embed="rId1"/>
          <a:stretch/>
        </p:blipFill>
        <p:spPr>
          <a:xfrm>
            <a:off x="0" y="1285920"/>
            <a:ext cx="4572000" cy="3286080"/>
          </a:xfrm>
          <a:prstGeom prst="rect">
            <a:avLst/>
          </a:prstGeom>
          <a:ln w="0">
            <a:noFill/>
          </a:ln>
        </p:spPr>
      </p:pic>
      <p:pic>
        <p:nvPicPr>
          <p:cNvPr id="119" name="図 10" descr="dedx_vs_x_fe_12mm.gif"/>
          <p:cNvPicPr/>
          <p:nvPr/>
        </p:nvPicPr>
        <p:blipFill>
          <a:blip r:embed="rId2"/>
          <a:stretch/>
        </p:blipFill>
        <p:spPr>
          <a:xfrm>
            <a:off x="4572000" y="1295280"/>
            <a:ext cx="457200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スライド番号プレースホルダ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260C1-5501-4155-BE6C-EAC3958CB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172800" y="152280"/>
            <a:ext cx="44020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-1. Shower profile - dE/dr vs.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図 11" descr="dedr_vs_r_pb_7mm.gif"/>
          <p:cNvPicPr/>
          <p:nvPr/>
        </p:nvPicPr>
        <p:blipFill>
          <a:blip r:embed="rId1"/>
          <a:stretch/>
        </p:blipFill>
        <p:spPr>
          <a:xfrm>
            <a:off x="0" y="1219320"/>
            <a:ext cx="4572000" cy="3047760"/>
          </a:xfrm>
          <a:prstGeom prst="rect">
            <a:avLst/>
          </a:prstGeom>
          <a:ln w="0">
            <a:noFill/>
          </a:ln>
        </p:spPr>
      </p:pic>
      <p:pic>
        <p:nvPicPr>
          <p:cNvPr id="123" name="図 12" descr="dedr_vs_r_fe_7mm.gif"/>
          <p:cNvPicPr/>
          <p:nvPr/>
        </p:nvPicPr>
        <p:blipFill>
          <a:blip r:embed="rId2"/>
          <a:stretch/>
        </p:blipFill>
        <p:spPr>
          <a:xfrm>
            <a:off x="4572000" y="1209600"/>
            <a:ext cx="4572000" cy="32860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1004400" y="4800600"/>
            <a:ext cx="30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bsorber: Pb,  7m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5043600" y="4800600"/>
            <a:ext cx="30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bsorber: Fe, 7 m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3:51:18Z</dcterms:created>
  <dc:creator>三明 康郎</dc:creator>
  <dc:description/>
  <dc:language>en-US</dc:language>
  <cp:lastModifiedBy>金野 正裕</cp:lastModifiedBy>
  <dcterms:modified xsi:type="dcterms:W3CDTF">2008-03-31T05:43:31Z</dcterms:modified>
  <cp:revision>39</cp:revision>
  <dc:subject/>
  <dc:title>PowerPoint プレゼンテーション</dc:title>
</cp:coreProperties>
</file>