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E3E-EC86-4413-91F1-9D12F5C3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5974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0FF-765D-4D85-BEF5-7B6A0DD9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E08-A071-4567-AB8D-24F406CB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4479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4479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597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597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597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9CB-B61F-41E7-9608-23A39FC6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E00-B802-4599-BC1E-AE84405F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5F8-67A9-4274-B968-E5B1731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560-8EC4-4EA1-8683-3741355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0CA-62E5-46C7-9FD0-2AA0BC62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0769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419-8975-4C6E-A202-1789780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CC2-496A-474E-96E8-E2B3555D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90A-1BE3-4199-ADCF-E3D87A0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AB3-4F8F-4D44-A245-87B3BA6F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Oct / 10 / 2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18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Susumu S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33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2D5-DA69-48B2-8201-750A8BF04A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85800"/>
            <a:ext cx="8305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3480" y="39204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PHENIX upgrade meeting (high-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838080"/>
            <a:ext cx="5867640" cy="533520"/>
          </a:xfrm>
          <a:prstGeom prst="rect">
            <a:avLst/>
          </a:prstGeom>
          <a:solidFill>
            <a:srgbClr val="dbfff6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K test beam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Planed in D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sking one week of test beam at KEK-PS pi2 beam line; 1 - 4 GeV/c)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Prototyp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-A; 12 x 12 w/ 3” PMT (B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-B; 20 x 20 w/ 3” PM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-C; 20 x 20 w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68720" y="4572000"/>
            <a:ext cx="762120" cy="533520"/>
          </a:xfrm>
          <a:prstGeom prst="flowChartProcess">
            <a:avLst/>
          </a:prstGeom>
          <a:solidFill>
            <a:srgbClr val="dbfff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11520" y="4724280"/>
            <a:ext cx="457200" cy="30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0840" y="4724280"/>
            <a:ext cx="457200" cy="30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349960" y="426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69080" y="5257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21560" y="4495680"/>
            <a:ext cx="533160" cy="762120"/>
          </a:xfrm>
          <a:prstGeom prst="flowChartProcess">
            <a:avLst/>
          </a:prstGeom>
          <a:solidFill>
            <a:srgbClr val="dbfff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021440" y="3962160"/>
            <a:ext cx="46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40920" y="5257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88760" y="4038480"/>
            <a:ext cx="106560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64360" y="4038480"/>
            <a:ext cx="457200" cy="30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156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6760" y="49896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51200" y="4343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) Items to be tes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Times New Roman"/>
              </a:rPr>
              <a:t>Base idea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http://utkhii.px.tuskuba.ac.jp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# of p.e. vs. momentum (0.4 - 4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# of p.e. vs. thick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osition of 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ir between Aerogel and 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irection of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Times New Roman"/>
              </a:rPr>
              <a:t>Other examples of idea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raised from personal discussions with K.Ozaw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# of p.e. vs. indices (1.007, 1.015, 1.0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ifferent PMTs (What is the situation of Russian PMT?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ifferent product companies of 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ffect of reflector (use millpore, black paper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Using PID (e/</a:t>
            </a:r>
            <a:r>
              <a:rPr b="0" lang="ja-JP" sz="2000" spc="-1" strike="noStrike">
                <a:solidFill>
                  <a:srgbClr val="000000"/>
                </a:solidFill>
                <a:latin typeface="MT Symbol"/>
                <a:ea typeface="MT 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by gas Cherenkov, Scintillation light(?) might exis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Any other ide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1:20:03Z</dcterms:created>
  <dc:creator>佐藤 進</dc:creator>
  <dc:description/>
  <dc:language>en-US</dc:language>
  <cp:lastModifiedBy>佐藤 進</cp:lastModifiedBy>
  <dcterms:modified xsi:type="dcterms:W3CDTF">2001-10-10T09:30:48Z</dcterms:modified>
  <cp:revision>17</cp:revision>
  <dc:subject/>
  <dc:title>Test Experiment at KEK.</dc:title>
</cp:coreProperties>
</file>