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7541-AA1A-4219-8349-48A5B31C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0831-8C0D-4EC6-B63B-B4EF4364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90B4-E9DE-44D8-976B-4E2B1CE3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F857-4B52-4D7D-8DA7-5618A416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33F6-C026-4C0E-89B0-046C3B94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9E89-4B3F-49FE-8DFE-EB76EA75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892D-C998-4C9D-97C1-607BC4EB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E2F0-3BB9-4E7D-8A06-FB765F1B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E1B3-EC5D-4136-9533-BAE171DD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1F66-48D2-4D51-82E3-8D7B5944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BE11-5AA7-42B1-9BAE-46175BE9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C180-A235-4FB0-A829-57F8B305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6F32-44F4-4AC5-8A0E-7B17B5B0A0B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ean_aerogel_v1" descr=""/>
          <p:cNvPicPr/>
          <p:nvPr/>
        </p:nvPicPr>
        <p:blipFill>
          <a:blip r:embed="rId1"/>
          <a:stretch/>
        </p:blipFill>
        <p:spPr>
          <a:xfrm>
            <a:off x="1301760" y="685800"/>
            <a:ext cx="7391520" cy="4398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257960" y="6172200"/>
            <a:ext cx="381240" cy="380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76320"/>
            <a:ext cx="8610480" cy="609480"/>
          </a:xfrm>
          <a:prstGeom prst="rect">
            <a:avLst/>
          </a:prstGeom>
          <a:solidFill>
            <a:srgbClr val="d1ffd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9280" y="27288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00"/>
                </a:solidFill>
                <a:uFillTx/>
                <a:latin typeface="Times New Roman"/>
              </a:rPr>
              <a:t>By Sean STO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1522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ial measurements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just after Oct/8’s mee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27680" y="457200"/>
            <a:ext cx="30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8000"/>
                </a:solidFill>
                <a:uFillTx/>
                <a:latin typeface="Times New Roman"/>
              </a:rPr>
              <a:t>High-pt upgrade meeting (Oct/10/2001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5637240"/>
            <a:ext cx="144792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24360" y="5256360"/>
            <a:ext cx="144792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Aero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48040" y="5180040"/>
            <a:ext cx="1600200" cy="763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48040" y="6018120"/>
            <a:ext cx="1600200" cy="763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067200" y="5789160"/>
            <a:ext cx="857160" cy="18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48600" y="5334120"/>
            <a:ext cx="123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Spectr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Photo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(be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05280" y="5791320"/>
            <a:ext cx="1523880" cy="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5480" y="5638680"/>
            <a:ext cx="3049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05480" y="5867280"/>
            <a:ext cx="3049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43800" y="53546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5880" y="58356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29360" y="5410080"/>
            <a:ext cx="7621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53400" y="5715000"/>
            <a:ext cx="228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29360" y="5715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29360" y="5867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42800" y="5210280"/>
            <a:ext cx="11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Integra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Spheri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70480" y="6095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2936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29160" y="6248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85080" y="5985000"/>
            <a:ext cx="33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57360" y="4952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71760" y="51814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62280" y="5943600"/>
            <a:ext cx="1219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676680" y="60958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24360" y="6095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05280" y="6248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46920" y="6095880"/>
            <a:ext cx="646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05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34280" y="5334120"/>
            <a:ext cx="228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3428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6288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34280" y="6095880"/>
            <a:ext cx="2286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34280" y="6172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62880" y="6172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182000" y="556236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15160" y="5638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53200" y="5791320"/>
            <a:ext cx="175248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7105320" y="59436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182000" y="5486400"/>
            <a:ext cx="75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34280" y="5486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7410600" y="5715000"/>
            <a:ext cx="304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95800" y="5562720"/>
            <a:ext cx="38088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524400" y="5028840"/>
            <a:ext cx="0" cy="76212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24400" y="5029200"/>
            <a:ext cx="3962160" cy="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86560" y="5029200"/>
            <a:ext cx="0" cy="38088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49280" y="62164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2840" y="5384880"/>
            <a:ext cx="1410480" cy="824040"/>
          </a:xfrm>
          <a:prstGeom prst="rect">
            <a:avLst/>
          </a:prstGeom>
          <a:solidFill>
            <a:srgbClr val="ffcdf2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Set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- A 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ean_aerogel_v2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238880" cy="4167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920" y="76320"/>
            <a:ext cx="8610480" cy="609480"/>
          </a:xfrm>
          <a:prstGeom prst="rect">
            <a:avLst/>
          </a:prstGeom>
          <a:solidFill>
            <a:srgbClr val="d1ffd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3040" y="1969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00"/>
                </a:solidFill>
                <a:uFillTx/>
                <a:latin typeface="Times New Roman"/>
              </a:rPr>
              <a:t>By Sean STO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763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ial measurements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just after Oct/8’s mee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03640" y="380880"/>
            <a:ext cx="30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8000"/>
                </a:solidFill>
                <a:uFillTx/>
                <a:latin typeface="Times New Roman"/>
              </a:rPr>
              <a:t>High-pt upgrade meeting (Oct/10/2001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4057560" y="5827680"/>
            <a:ext cx="144792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4342320" y="6058800"/>
            <a:ext cx="106812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Aero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4020840" y="6248520"/>
            <a:ext cx="1066680" cy="759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4489200" y="6248520"/>
            <a:ext cx="1066680" cy="759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200400" y="5598720"/>
            <a:ext cx="1371600" cy="32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800" y="5143680"/>
            <a:ext cx="123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Spectr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Photo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(be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5600880"/>
            <a:ext cx="380880" cy="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5600880"/>
            <a:ext cx="213372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105520" y="5448240"/>
            <a:ext cx="30456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5676840"/>
            <a:ext cx="30456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65800" y="564516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65800" y="52196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776000" y="5029200"/>
            <a:ext cx="107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Integ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Spheri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529596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5089680"/>
            <a:ext cx="336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266720" y="613404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613404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64382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76840" y="529596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581280" y="4876560"/>
            <a:ext cx="0" cy="68580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4876920"/>
            <a:ext cx="3962520" cy="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086600" y="5127480"/>
            <a:ext cx="838080" cy="1218960"/>
            <a:chOff x="7086600" y="5127480"/>
            <a:chExt cx="838080" cy="1218960"/>
          </a:xfrm>
        </p:grpSpPr>
        <p:sp>
          <p:nvSpPr>
            <p:cNvPr id="120" name=""/>
            <p:cNvSpPr/>
            <p:nvPr/>
          </p:nvSpPr>
          <p:spPr>
            <a:xfrm>
              <a:off x="7162920" y="52416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91520" y="5965560"/>
              <a:ext cx="380880" cy="3808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162920" y="5203440"/>
              <a:ext cx="761760" cy="762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86600" y="5508360"/>
              <a:ext cx="2286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62920" y="55083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62920" y="566064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67480" y="5127480"/>
              <a:ext cx="2286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67480" y="52034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96080" y="52034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5889240"/>
              <a:ext cx="2286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67480" y="5965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96080" y="5965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7315200" y="5355720"/>
              <a:ext cx="533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48720" y="5432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7238880" y="5736960"/>
              <a:ext cx="6098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315200" y="5279760"/>
              <a:ext cx="763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67480" y="527976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7543440" y="5508360"/>
              <a:ext cx="304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7543800" y="4876920"/>
            <a:ext cx="0" cy="38088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429000" y="5334120"/>
            <a:ext cx="38088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706520" y="60199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2680" y="5181480"/>
            <a:ext cx="1410480" cy="824040"/>
          </a:xfrm>
          <a:prstGeom prst="rect">
            <a:avLst/>
          </a:prstGeom>
          <a:solidFill>
            <a:srgbClr val="ffcdf2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Set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- B 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4920" y="152280"/>
            <a:ext cx="8610480" cy="609840"/>
          </a:xfrm>
          <a:prstGeom prst="rect">
            <a:avLst/>
          </a:prstGeom>
          <a:solidFill>
            <a:srgbClr val="d1ffd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1522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ial measurements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just after Oct/8’s mee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sean_aerogel_v3" descr=""/>
          <p:cNvPicPr/>
          <p:nvPr/>
        </p:nvPicPr>
        <p:blipFill>
          <a:blip r:embed="rId1"/>
          <a:stretch/>
        </p:blipFill>
        <p:spPr>
          <a:xfrm>
            <a:off x="762120" y="938160"/>
            <a:ext cx="7619760" cy="5614920"/>
          </a:xfrm>
          <a:prstGeom prst="rect">
            <a:avLst/>
          </a:prstGeom>
          <a:ln w="0">
            <a:noFill/>
          </a:ln>
        </p:spPr>
      </p:pic>
      <p:pic>
        <p:nvPicPr>
          <p:cNvPr id="145" name="sean_aerogel_v4" descr=""/>
          <p:cNvPicPr/>
          <p:nvPr/>
        </p:nvPicPr>
        <p:blipFill>
          <a:blip r:embed="rId2"/>
          <a:stretch/>
        </p:blipFill>
        <p:spPr>
          <a:xfrm>
            <a:off x="1828800" y="1895400"/>
            <a:ext cx="3657600" cy="270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59360" y="3049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00"/>
                </a:solidFill>
                <a:uFillTx/>
                <a:latin typeface="Times New Roman"/>
              </a:rPr>
              <a:t>By Sean STO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57560" y="457200"/>
            <a:ext cx="30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8000"/>
                </a:solidFill>
                <a:uFillTx/>
                <a:latin typeface="Times New Roman"/>
              </a:rPr>
              <a:t>High-pt upgrade meeting (Oct/10/2001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5070600"/>
            <a:ext cx="2895840" cy="83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00"/>
                </a:solidFill>
                <a:latin typeface="Times New Roman"/>
              </a:rPr>
              <a:t>Attenuation leng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6600"/>
                </a:solidFill>
                <a:latin typeface="Times New Roman"/>
              </a:rPr>
              <a:t>L=</a:t>
            </a:r>
            <a:r>
              <a:rPr b="0" lang="ja-JP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</a:t>
            </a:r>
            <a:r>
              <a:rPr b="0" lang="ja-JP" sz="2400" spc="-1" strike="noStrike">
                <a:solidFill>
                  <a:srgbClr val="006600"/>
                </a:solidFill>
                <a:latin typeface="Times New Roman"/>
              </a:rPr>
              <a:t>(x</a:t>
            </a:r>
            <a:r>
              <a:rPr b="0" lang="ja-JP" sz="2400" spc="-1" strike="noStrike" baseline="-10000">
                <a:solidFill>
                  <a:srgbClr val="006600"/>
                </a:solidFill>
                <a:latin typeface="Times New Roman"/>
              </a:rPr>
              <a:t>1</a:t>
            </a:r>
            <a:r>
              <a:rPr b="0" lang="ja-JP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x</a:t>
            </a:r>
            <a:r>
              <a:rPr b="0" lang="ja-JP" sz="2400" spc="-1" strike="noStrike" baseline="-10000">
                <a:solidFill>
                  <a:srgbClr val="006600"/>
                </a:solidFill>
                <a:latin typeface="Times New Roman"/>
                <a:ea typeface="Times New Roman"/>
              </a:rPr>
              <a:t>2</a:t>
            </a:r>
            <a:r>
              <a:rPr b="0" lang="ja-JP" sz="2400" spc="-1" strike="noStrike">
                <a:solidFill>
                  <a:srgbClr val="006600"/>
                </a:solidFill>
                <a:latin typeface="Times New Roman"/>
              </a:rPr>
              <a:t>)/ln (T</a:t>
            </a:r>
            <a:r>
              <a:rPr b="0" lang="ja-JP" sz="2400" spc="-1" strike="noStrike" baseline="-10000">
                <a:solidFill>
                  <a:srgbClr val="006600"/>
                </a:solidFill>
                <a:latin typeface="Times New Roman"/>
              </a:rPr>
              <a:t>1</a:t>
            </a:r>
            <a:r>
              <a:rPr b="0" lang="ja-JP" sz="2400" spc="-1" strike="noStrike">
                <a:solidFill>
                  <a:srgbClr val="006600"/>
                </a:solidFill>
                <a:latin typeface="Times New Roman"/>
              </a:rPr>
              <a:t>/T</a:t>
            </a:r>
            <a:r>
              <a:rPr b="0" lang="ja-JP" sz="2400" spc="-1" strike="noStrike" baseline="-10000">
                <a:solidFill>
                  <a:srgbClr val="0066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10:03:31Z</dcterms:created>
  <dc:creator>佐藤 進</dc:creator>
  <dc:description/>
  <dc:language>en-US</dc:language>
  <cp:lastModifiedBy>佐藤 進</cp:lastModifiedBy>
  <dcterms:modified xsi:type="dcterms:W3CDTF">2001-10-11T19:48:41Z</dcterms:modified>
  <cp:revision>24</cp:revision>
  <dc:subject/>
  <dc:title>PowerPoint プレゼンテーション</dc:title>
</cp:coreProperties>
</file>