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67500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1473-AAAB-41F1-98DA-44BF8C23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EAE1-CE09-4697-BD42-D8573099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55CB-8879-4C69-8CC8-1983C7BFE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8AB7-2C7F-48F7-8A20-09210202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65FC-264A-4E95-834E-4BC6854F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FE44-C145-4E61-AEA6-2FC502B6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275C-9D8E-4563-9EE6-9EF1E479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1FC4-BAA7-4C30-8D4F-325F6F89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D67F-F1CA-497A-83BB-4DB4CB3E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47EE-63E1-476E-9A83-75A98D91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8FC3-7169-4B7B-914C-0F409C1F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7DE0-78AD-46BE-82C3-32D4B9C8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38F8-EDEF-4A38-BD9F-92F448D2148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es-belle" descr=""/>
          <p:cNvPicPr/>
          <p:nvPr/>
        </p:nvPicPr>
        <p:blipFill>
          <a:blip r:embed="rId1"/>
          <a:stretch/>
        </p:blipFill>
        <p:spPr>
          <a:xfrm>
            <a:off x="1528920" y="131760"/>
            <a:ext cx="6105240" cy="6116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3520" y="2482920"/>
            <a:ext cx="21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5x15x15 (c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(thickness can be 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144756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e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7080" y="5486400"/>
            <a:ext cx="18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Area 225 cm</a:t>
            </a:r>
            <a:r>
              <a:rPr b="0" lang="ja-JP" sz="1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/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Total 392 PM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0480" y="15228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.Taka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gel counter configu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3255-9500-4021-84FB-D11C534565D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Dec/2002 S.Esu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es-inte1" descr=""/>
          <p:cNvPicPr/>
          <p:nvPr/>
        </p:nvPicPr>
        <p:blipFill>
          <a:blip r:embed="rId1"/>
          <a:stretch/>
        </p:blipFill>
        <p:spPr>
          <a:xfrm>
            <a:off x="1508040" y="111240"/>
            <a:ext cx="6126120" cy="6137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.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520" y="2482920"/>
            <a:ext cx="224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5x15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5(thick:12)+15(int: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7080" y="5486400"/>
            <a:ext cx="18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Area 225 cm</a:t>
            </a:r>
            <a:r>
              <a:rPr b="0" lang="ja-JP" sz="1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/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Total 392 PM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480" y="15228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.Taka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gel counter configu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AD22-8D0A-44B3-B819-5F4209C3A0F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Dec/2002 S.Esu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es-inte2" descr=""/>
          <p:cNvPicPr/>
          <p:nvPr/>
        </p:nvPicPr>
        <p:blipFill>
          <a:blip r:embed="rId1"/>
          <a:stretch/>
        </p:blipFill>
        <p:spPr>
          <a:xfrm>
            <a:off x="1508040" y="111240"/>
            <a:ext cx="6126120" cy="6137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16002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Int.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520" y="2482920"/>
            <a:ext cx="224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5x15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5(thick:12)+15(int: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7080" y="5486400"/>
            <a:ext cx="18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Area 225 cm</a:t>
            </a:r>
            <a:r>
              <a:rPr b="0" lang="ja-JP" sz="1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/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Total 392 PM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0480" y="15228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.Taka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gel counter configu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ADD9-0FA9-4A19-A9BD-B08976442F1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Dec/2002 S.Esu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zolin2-1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37832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27760" y="220680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1x22 (height can be 18)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1(thick:12)+11(int: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13716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Sta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2520" y="5486400"/>
            <a:ext cx="24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Area 242 (198) cm</a:t>
            </a:r>
            <a:r>
              <a:rPr b="0" lang="ja-JP" sz="1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/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Total 380 (456) PM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971800" y="3808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480" y="4046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1+11 (c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10666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4240" y="28432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1+11 (c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123720" y="35812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6200" y="368136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1 (c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772160" y="6858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31800" y="5414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1 (c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21360" y="48243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1x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35760" y="48243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1x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518148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162560" y="518148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gel counter configu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3EAD-14FC-4948-B362-2A602000148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Dec/2002 S.Esu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zolin2-2" descr=""/>
          <p:cNvPicPr/>
          <p:nvPr/>
        </p:nvPicPr>
        <p:blipFill>
          <a:blip r:embed="rId1"/>
          <a:stretch/>
        </p:blipFill>
        <p:spPr>
          <a:xfrm>
            <a:off x="1868400" y="576360"/>
            <a:ext cx="5675400" cy="5446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14479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gel counter configu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4935-02A2-4A4A-9BB5-89E7863C4FF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Dec/2002 S.Esu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zolin3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753320" cy="38098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3360" y="5052960"/>
            <a:ext cx="29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1x22x11(thick:12)+11(int: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990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10120" y="10378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43800" y="1828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360" y="5572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1+11 (c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10640" y="10144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1+11 (c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79360" y="253836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1 (c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1447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6200" y="101448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1 (c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0720" y="5486400"/>
            <a:ext cx="18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Area 242 cm</a:t>
            </a:r>
            <a:r>
              <a:rPr b="0" lang="ja-JP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/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Total 380 PM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gel counter configu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CBF3-354D-4D93-9DE7-8A7A416DC62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Dec/2002 S.Esum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8T18:25:02Z</dcterms:created>
  <dc:creator>江角晋一</dc:creator>
  <dc:description/>
  <dc:language>en-US</dc:language>
  <cp:lastModifiedBy>三明 康郎</cp:lastModifiedBy>
  <dcterms:modified xsi:type="dcterms:W3CDTF">2002-12-13T06:10:30Z</dcterms:modified>
  <cp:revision>6</cp:revision>
  <dc:subject/>
  <dc:title>PowerPoint プレゼンテーション  -  Belle</dc:title>
</cp:coreProperties>
</file>