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14.pct" ContentType="image/x-pict"/>
  <Override PartName="/ppt/media/image3.png" ContentType="image/png"/>
  <Override PartName="/ppt/media/image4.png" ContentType="image/png"/>
  <Override PartName="/ppt/media/image11.pct" ContentType="image/x-pict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23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3886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1640" y="4020840"/>
            <a:ext cx="3886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23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1896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62800" y="1752120"/>
            <a:ext cx="1896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1640" y="4020840"/>
            <a:ext cx="1896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62800" y="4020840"/>
            <a:ext cx="1896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23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125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885640" y="1752120"/>
            <a:ext cx="125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99640" y="1752120"/>
            <a:ext cx="125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1640" y="4020840"/>
            <a:ext cx="125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885640" y="4020840"/>
            <a:ext cx="125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99640" y="4020840"/>
            <a:ext cx="125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19C2-13F7-4DBE-97EB-D67FD3C2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23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1640" y="175212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9DB-7B55-4DDC-B31E-B0880BE0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23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3579-CFFC-495C-A386-D9857132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23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1896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562800" y="1752120"/>
            <a:ext cx="1896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C3E0-7CD7-4C8F-9FB5-6D5CBA0C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23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FABD-777D-4E84-B657-0B10AABB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210-BA1E-4B9F-B72A-AF8056C8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23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1896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562800" y="1752120"/>
            <a:ext cx="1896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1640" y="4020840"/>
            <a:ext cx="1896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7170-7222-4DBC-8116-5EEC1BCD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23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1640" y="175212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23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1896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62800" y="1752120"/>
            <a:ext cx="1896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62800" y="4020840"/>
            <a:ext cx="1896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C6CD-588D-4571-8DD6-1E3EF56F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23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1896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62800" y="1752120"/>
            <a:ext cx="1896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1640" y="4020840"/>
            <a:ext cx="3886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096-F60A-4BE3-979A-C2F3555E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23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3886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1640" y="4020840"/>
            <a:ext cx="3886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5D33-D2E0-4A58-AFD7-BD00C315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23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1896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562800" y="1752120"/>
            <a:ext cx="1896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1640" y="4020840"/>
            <a:ext cx="1896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562800" y="4020840"/>
            <a:ext cx="1896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7FC3-C0C3-480C-B61A-97C6547A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23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125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885640" y="1752120"/>
            <a:ext cx="125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199640" y="1752120"/>
            <a:ext cx="125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1640" y="4020840"/>
            <a:ext cx="125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5885640" y="4020840"/>
            <a:ext cx="125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199640" y="4020840"/>
            <a:ext cx="125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362B-0389-4EA9-A571-F5DB11B6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23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23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1896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562800" y="1752120"/>
            <a:ext cx="1896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23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23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1896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562800" y="1752120"/>
            <a:ext cx="1896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1640" y="4020840"/>
            <a:ext cx="1896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23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1896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562800" y="1752120"/>
            <a:ext cx="1896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62800" y="4020840"/>
            <a:ext cx="1896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23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1896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62800" y="1752120"/>
            <a:ext cx="1896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1640" y="4020840"/>
            <a:ext cx="3886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1640" y="175212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22320"/>
            <a:ext cx="1905120" cy="6667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62120" y="1219320"/>
            <a:ext cx="7467480" cy="1728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87640" y="6508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D38F-A1A4-4C46-8570-29B87CB5B73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36520" y="6553080"/>
            <a:ext cx="26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asuo MIAKE, Univ. of Tsuku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9544-44FC-4F2E-B0C1-AF8D4D6F5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28195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19520" y="2895480"/>
            <a:ext cx="3606840" cy="12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aco"/>
              </a:rPr>
              <a:t>Status &amp; Go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752120"/>
            <a:ext cx="834084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LOI approved on Oct. 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Monaco"/>
                <a:ea typeface="Osaka"/>
              </a:rPr>
              <a:t>“</a:t>
            </a:r>
            <a:r>
              <a:rPr b="0" lang="ja-JP" sz="1800" spc="-1" strike="noStrike">
                <a:solidFill>
                  <a:srgbClr val="000000"/>
                </a:solidFill>
                <a:latin typeface="Monaco"/>
                <a:ea typeface="Osaka"/>
              </a:rPr>
              <a:t>proceeding as rapidly as possible to a full implementation, ideally in time for Run-4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Next Step; Conceptual Design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Fix design, makeup mechanical drawings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Homeworks (simulation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Monaco"/>
                <a:ea typeface="Osaka"/>
              </a:rPr>
              <a:t>Detailed PID scheme (M. Shimomu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Monaco"/>
                <a:ea typeface="Osaka"/>
              </a:rPr>
              <a:t>Rate estimates and triggers (K.Ozawa/S.Sa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Monaco"/>
                <a:ea typeface="Osaka"/>
              </a:rPr>
              <a:t>Effects on EMCal (S. Takagi with ?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Osaka"/>
              </a:rPr>
              <a:t>Which sector on the West A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Monaco"/>
                <a:ea typeface="Osaka"/>
              </a:rPr>
              <a:t>Plan to submit CDR by Feb 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Monaco"/>
                <a:ea typeface="Osaka"/>
              </a:rPr>
              <a:t>Aim to install the aerogel before RUN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Monaco"/>
                <a:ea typeface="Osaka"/>
              </a:rPr>
              <a:t>Run-4 will be the major Au-Au run at full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sector to be install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302000" y="4157280"/>
            <a:ext cx="4842000" cy="24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cal sec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hanically 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metric&amp; Full  acceptance for + &amp; - char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be difficult to inst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to be settled at BNL with team of P.Kr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07880" y="1531800"/>
            <a:ext cx="3754440" cy="500544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4214880" y="1373040"/>
            <a:ext cx="4081320" cy="2760840"/>
            <a:chOff x="4214880" y="1373040"/>
            <a:chExt cx="4081320" cy="276084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4214880" y="1373040"/>
              <a:ext cx="4081320" cy="276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037120" y="2592000"/>
              <a:ext cx="0" cy="45648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52960" y="3139920"/>
              <a:ext cx="196560" cy="4107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 of West 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30880" y="1414080"/>
            <a:ext cx="291312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Monaco"/>
              </a:rPr>
              <a:t>upper limit on the depth of a new detector - 330mm is probably entirely due to the space in the towers available for insertion of the detector (if done through the tower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Monaco"/>
              </a:rPr>
              <a:t>1.5m(Z) x 4.33*0.15(theta) = 1.5 x 1.5 m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836720"/>
            <a:ext cx="6197760" cy="4648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H="1" flipV="1">
            <a:off x="3877920" y="5046480"/>
            <a:ext cx="965160" cy="1523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of this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74640" y="1820880"/>
            <a:ext cx="627408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decision on the configur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plan towards mass produ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up “To do lists” for CDR with nam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fun at part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of 15 x 15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85720" y="1515960"/>
            <a:ext cx="5172120" cy="50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rogel/Integ ; 12/12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 ; 17 p.e. at center, 15 p.e. cor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ward; 14 p.e.~ 14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rogel.Integ; 12/ 9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; 18 p.e.(center) - 18 (3,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ward; 16 p.e. ~ 14 p.e.(6,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rogel/Integ ; 9/10 cm (Small B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; 13 p.e. ~ 12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ward ; 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rogel/Integ; 9/9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 ; 15 p.e. ~ 14 p.e. (x,y)=(6,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ward ; 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rogel/Integ; 6/9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 ; 13 p.e. ~ 11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ward ; 11 p.e. ~ 10 p.e. (cor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9600" y="2044800"/>
            <a:ext cx="260172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li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5 (Hor) x 17 (Ver)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rogel/Integ ; 11/11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; 18 p.e. @center ~ 18 p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ward ; 15 p.e. @center ~ 15 p.e.@(4,4.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84320" y="2184480"/>
            <a:ext cx="1422360" cy="2946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89240" y="2489040"/>
            <a:ext cx="863280" cy="863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92600"/>
            <a:ext cx="863640" cy="863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" y="2895480"/>
            <a:ext cx="262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lin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rogel/Integ ; 12/9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(Hor) x 11 (ver)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rogel/Integ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; 16 p.e.(Center) ~ 17 p.e.(Edge)~ 13 p.e.(Cor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ward; 10 p.e. (center) ~ 10 p.e.(Cor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 Rai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73080" y="1752120"/>
            <a:ext cx="4784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 90 ohm impedance instead of 50 o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in of pre-Am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e need pre-amp re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ing Threshold at ~1p.e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D pu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uminum Thickness ; 0.2 - 0.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al analysis Need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3800" y="1733040"/>
            <a:ext cx="36954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ose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; Zolin II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; 15 x 15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firm the results tomor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sion before X’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hanic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uctural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ength/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. Afanasiev at Dub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Drawings by Jan 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ion/Feedback from P. Kroon team in Jan 0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033800" y="1752120"/>
            <a:ext cx="4424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-amp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ee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otype Test In Jan 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Monaco"/>
                <a:ea typeface="Osaka"/>
              </a:rPr>
              <a:t>Detailed PID scheme (M. Shimomu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Monac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Monaco"/>
                <a:ea typeface="Osaka"/>
              </a:rPr>
              <a:t>Rate estimates and triggers</a:t>
            </a:r>
            <a:r>
              <a:rPr b="0" lang="ja-JP" sz="1600" spc="-1" strike="noStrike">
                <a:solidFill>
                  <a:srgbClr val="000000"/>
                </a:solidFill>
                <a:latin typeface="Monaco"/>
                <a:ea typeface="Osaka"/>
              </a:rPr>
              <a:t> </a:t>
            </a:r>
            <a:r>
              <a:rPr b="0" lang="ja-JP" sz="1600" spc="-1" strike="noStrike">
                <a:solidFill>
                  <a:srgbClr val="ff0000"/>
                </a:solidFill>
                <a:latin typeface="Monaco"/>
                <a:ea typeface="Osaka"/>
              </a:rPr>
              <a:t>(K.Ozawa/S.Sa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Monaco"/>
                <a:ea typeface="Osaka"/>
              </a:rPr>
              <a:t>Effects on EMCal (S. Takagi with ?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  <a:ea typeface="Osaka"/>
              </a:rPr>
              <a:t>Which sector on the West 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58080" y="5938920"/>
            <a:ext cx="38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ubmit CDR by the end of Feb 03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s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8800" y="1736280"/>
            <a:ext cx="3695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ibration (Tsukub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eeder (Tsukub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ting in March 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rog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lity Control (Tsukub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ial delivery in sp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by Aug 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RETEX Refl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nerbox (Tsukub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kyo C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752120"/>
            <a:ext cx="3780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hanical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x Construction (Dub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erogel cut ? (Dubna? KEK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g structure (BN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A rout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aco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098960" y="1515600"/>
            <a:ext cx="469728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of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ough seg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ccupancy &lt;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ough # of photoelec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least 10 - 15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t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dead space in betw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erogel at the same radial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ground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renkov emission at pmt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ntillation Emiss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ta-ra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s on detectors behind u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-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d Cha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79600" y="1450800"/>
            <a:ext cx="2601720" cy="260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17400" y="4062240"/>
            <a:ext cx="2575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aco"/>
              </a:rPr>
              <a:t>Config. with Belle-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490760"/>
            <a:ext cx="5113440" cy="5113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400" spc="-1" strike="noStrike">
              <a:solidFill>
                <a:srgbClr val="000000"/>
              </a:solidFill>
              <a:latin typeface="Times New Roman"/>
              <a:ea typeface="Osa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aco"/>
              </a:rPr>
              <a:t>Config. with Integration-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400" spc="-1" strike="noStrike">
              <a:solidFill>
                <a:srgbClr val="000000"/>
              </a:solidFill>
              <a:latin typeface="Times New Roman"/>
              <a:ea typeface="Osak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525680"/>
            <a:ext cx="4606920" cy="4618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64080" y="1539720"/>
            <a:ext cx="45799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aco"/>
              </a:rPr>
              <a:t>Other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35240" y="1752480"/>
            <a:ext cx="622296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olin II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x 1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ier preparation of aero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icated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olin III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 x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cut of aerogel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i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make decision on the configuration from this test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# of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t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ing 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&amp; Purchase of PM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” PMT; R6233-01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in ; &gt; 2.7 x 10**5 with 2-2-1-… bleeder at 1k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.E. ; 30 % (ty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.O. of 320 PMT’s sub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37800yen(~$3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 delivered by March 0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4160" y="1641600"/>
            <a:ext cx="399888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&amp; Purchase of Aerog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30640" y="1752120"/>
            <a:ext cx="50133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phobic is a “mus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sush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of 1.007, 1.015 &amp; 1.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is key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under negotiation with Matsushita for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will be ~ 1.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400 liter will be delivered before August 0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 cost may be significantly higher than $400/l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467000"/>
            <a:ext cx="4249800" cy="29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 on the West 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0" y="153144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ough radial space for Aerogel + TO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 inches of fre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3 cm ? - 48.26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0680" y="1546200"/>
            <a:ext cx="3749760" cy="5000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092480" y="3070080"/>
            <a:ext cx="505152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28440">
            <a:solidFill>
              <a:srgbClr val="009c75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Sector on the We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1640" y="4833720"/>
            <a:ext cx="4156200" cy="12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ossible loca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en or b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351320" y="1438200"/>
            <a:ext cx="4538520" cy="3070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8280" y="1573200"/>
            <a:ext cx="43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it looks like when installed on 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39400" y="1951200"/>
            <a:ext cx="3876840" cy="4645080"/>
            <a:chOff x="239400" y="1951200"/>
            <a:chExt cx="3876840" cy="4645080"/>
          </a:xfrm>
        </p:grpSpPr>
        <p:pic>
          <p:nvPicPr>
            <p:cNvPr id="114" name="tof_at_bnl99sep13" descr=""/>
            <p:cNvPicPr/>
            <p:nvPr/>
          </p:nvPicPr>
          <p:blipFill>
            <a:blip r:embed="rId2"/>
            <a:stretch/>
          </p:blipFill>
          <p:spPr>
            <a:xfrm>
              <a:off x="1087200" y="1951200"/>
              <a:ext cx="3029040" cy="40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49480" y="6197400"/>
              <a:ext cx="2896560" cy="398880"/>
            </a:xfrm>
            <a:prstGeom prst="rect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F 1 panel ; 0.5 m x 2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38120" y="4727160"/>
              <a:ext cx="627120" cy="1490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95600" y="3016080"/>
              <a:ext cx="996840" cy="1180440"/>
            </a:xfrm>
            <a:custGeom>
              <a:avLst/>
              <a:gdLst/>
              <a:ahLst/>
              <a:rect l="l" t="t" r="r" b="b"/>
              <a:pathLst>
                <a:path w="628" h="744">
                  <a:moveTo>
                    <a:pt x="96" y="28"/>
                  </a:moveTo>
                  <a:lnTo>
                    <a:pt x="0" y="744"/>
                  </a:lnTo>
                  <a:lnTo>
                    <a:pt x="504" y="616"/>
                  </a:lnTo>
                  <a:lnTo>
                    <a:pt x="628" y="0"/>
                  </a:lnTo>
                  <a:lnTo>
                    <a:pt x="96" y="28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9400" y="2118960"/>
              <a:ext cx="188460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ero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 m x 2 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~180 segmen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74480" y="2847600"/>
              <a:ext cx="1371600" cy="590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265720" y="2793960"/>
            <a:ext cx="0" cy="50796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83360" y="3403440"/>
            <a:ext cx="218880" cy="4572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7T02:33:36Z</dcterms:created>
  <dc:creator>Tatsuya Chujo</dc:creator>
  <dc:description/>
  <dc:language>en-US</dc:language>
  <cp:lastModifiedBy>三明 康郎</cp:lastModifiedBy>
  <cp:lastPrinted>2002-12-09T01:53:27Z</cp:lastPrinted>
  <dcterms:modified xsi:type="dcterms:W3CDTF">2002-12-13T02:50:12Z</dcterms:modified>
  <cp:revision>682</cp:revision>
  <dc:subject>JPS (RHIC symposium), 3/27, 2001, Tokyo</dc:subject>
  <dc:title>PowerPoint プレゼンテーション  -  High pt upgrade</dc:title>
</cp:coreProperties>
</file>