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848-D17D-4AEB-AFB0-EB0D7947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E28-7D78-43C2-BDF9-EF27055D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B94-E5FD-4AC8-83E7-1517B286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550-7DE6-4950-A841-D1013208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F5C-DA2F-422B-BD7E-537FB1F6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505-7B52-4649-8AFC-DCD3215D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0F5-FC21-4794-BE66-5E6E4F36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664-A52B-490E-8ED8-770EA130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090-43D6-4CEA-A317-0B0E418D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4C0-C56A-41E4-A75E-9BDFE72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5C3-257D-4BA5-9C19-DCC532DB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EE5-7451-4355-912B-72BB0206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E79D-4E2B-4403-8CDA-2DD2D47A2D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4240" y="609480"/>
            <a:ext cx="67950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erogel counter Prototype Beam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531 in KEK-PS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ommon i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eam; +2GeV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erogel; Matsushita SP-15 (n=1.01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MT; HAMAMATSU R6233(3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rototype; Integration Spher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article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ight Yield (Number of photoelectr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iming property of ACC (Zolin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. Hit Position information by ACC itself (Zolin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2931_TDChist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343400" cy="3036960"/>
          </a:xfrm>
          <a:prstGeom prst="rect">
            <a:avLst/>
          </a:prstGeom>
          <a:ln w="0">
            <a:noFill/>
          </a:ln>
        </p:spPr>
      </p:pic>
      <p:pic>
        <p:nvPicPr>
          <p:cNvPr id="138" name="2931_ADChist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4267080" cy="3166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43920" y="6858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1.7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114300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14300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11400">
            <a:off x="1713600" y="3237480"/>
            <a:ext cx="154080" cy="228600"/>
          </a:xfrm>
          <a:custGeom>
            <a:avLst/>
            <a:gdLst>
              <a:gd name="textAreaLeft" fmla="*/ 98640 w 154080"/>
              <a:gd name="textAreaRight" fmla="*/ 154440 w 1540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2670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8480" y="4495680"/>
            <a:ext cx="11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450 p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7200" y="3859200"/>
            <a:ext cx="15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pposit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~2 p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2280" y="4572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 in this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81080" y="16002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7600" y="1371600"/>
            <a:ext cx="208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on PMT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z3-1-b-0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151" name="Propagation_time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2884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5800" y="22860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Hit Position information by ACC itself (Zolin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Ratio_PT_X" descr=""/>
          <p:cNvPicPr/>
          <p:nvPr/>
        </p:nvPicPr>
        <p:blipFill>
          <a:blip r:embed="rId3"/>
          <a:stretch/>
        </p:blipFill>
        <p:spPr>
          <a:xfrm>
            <a:off x="4495680" y="365760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Ratio_Npe_X" descr=""/>
          <p:cNvPicPr/>
          <p:nvPr/>
        </p:nvPicPr>
        <p:blipFill>
          <a:blip r:embed="rId4"/>
          <a:stretch/>
        </p:blipFill>
        <p:spPr>
          <a:xfrm>
            <a:off x="4495680" y="838080"/>
            <a:ext cx="4343400" cy="2590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11520" y="396252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pag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4400" y="10666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ght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4440" y="11430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Ratio of N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76440" y="396252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atio of Propag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1640" y="22860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Error bar ; rms of distr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X_Ratio_Npe_X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572000" cy="2776680"/>
          </a:xfrm>
          <a:prstGeom prst="rect">
            <a:avLst/>
          </a:prstGeom>
          <a:ln w="0">
            <a:noFill/>
          </a:ln>
        </p:spPr>
      </p:pic>
      <p:pic>
        <p:nvPicPr>
          <p:cNvPr id="161" name="delta_PT_X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449568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160" y="289548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Combination of Npe and P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2280" y="609588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 difference of PMT1 and PM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422_ACC_TOF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876920" cy="4648320"/>
          </a:xfrm>
          <a:prstGeom prst="rect">
            <a:avLst/>
          </a:prstGeom>
          <a:ln w="0">
            <a:noFill/>
          </a:ln>
        </p:spPr>
      </p:pic>
      <p:pic>
        <p:nvPicPr>
          <p:cNvPr id="43" name="2792_hist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3280" y="1981080"/>
            <a:ext cx="278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article selection by 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2GeV/c, posi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680" y="22860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. Particle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4800" y="99072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Cherenkov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8600" y="1752480"/>
          <a:ext cx="8458200" cy="2254320"/>
        </p:xfrm>
        <a:graphic>
          <a:graphicData uri="http://schemas.openxmlformats.org/drawingml/2006/table">
            <a:tbl>
              <a:tblPr/>
              <a:tblGrid>
                <a:gridCol w="1523880"/>
                <a:gridCol w="990720"/>
                <a:gridCol w="1219320"/>
                <a:gridCol w="761760"/>
                <a:gridCol w="762120"/>
                <a:gridCol w="838080"/>
                <a:gridCol w="838440"/>
                <a:gridCol w="15238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ss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cm x 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ro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enu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x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x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x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x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2860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Light Yield (Number of photoelectr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4360" y="1143000"/>
            <a:ext cx="1797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15 x 15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2120" y="419112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 Npe,F for Forward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Npe,B for Backward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6960" y="3276720"/>
            <a:ext cx="169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olin3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6960" y="685800"/>
            <a:ext cx="169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olin2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295280"/>
          <a:ext cx="7086600" cy="1590840"/>
        </p:xfrm>
        <a:graphic>
          <a:graphicData uri="http://schemas.openxmlformats.org/drawingml/2006/table">
            <a:tbl>
              <a:tblPr/>
              <a:tblGrid>
                <a:gridCol w="1524240"/>
                <a:gridCol w="990360"/>
                <a:gridCol w="1219320"/>
                <a:gridCol w="838080"/>
                <a:gridCol w="762120"/>
                <a:gridCol w="914400"/>
                <a:gridCol w="8380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ss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cm x 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ro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x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x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393320" y="19810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3320" y="2438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3886200"/>
          <a:ext cx="8305920" cy="2038320"/>
        </p:xfrm>
        <a:graphic>
          <a:graphicData uri="http://schemas.openxmlformats.org/drawingml/2006/table">
            <a:tbl>
              <a:tblPr/>
              <a:tblGrid>
                <a:gridCol w="1524240"/>
                <a:gridCol w="990360"/>
                <a:gridCol w="1219320"/>
                <a:gridCol w="762120"/>
                <a:gridCol w="761760"/>
                <a:gridCol w="838440"/>
                <a:gridCol w="838080"/>
                <a:gridCol w="13716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ss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cm x 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ro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e,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enu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x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x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x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-2-f-0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419112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s-2-f-n6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28292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s-2-f-p6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7920" y="1219320"/>
            <a:ext cx="12189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600200"/>
            <a:ext cx="76212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1600200"/>
            <a:ext cx="76212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590920"/>
            <a:ext cx="304560" cy="30456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057400" y="914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868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816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3400" y="25146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2720" y="182880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1219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2666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920" y="274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920" y="1600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5360" y="16765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M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4280" y="16765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M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040" y="152280"/>
            <a:ext cx="1797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15 x 15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z2-1-f-0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4190760" cy="3203640"/>
          </a:xfrm>
          <a:prstGeom prst="rect">
            <a:avLst/>
          </a:prstGeom>
          <a:ln w="0">
            <a:noFill/>
          </a:ln>
        </p:spPr>
      </p:pic>
      <p:pic>
        <p:nvPicPr>
          <p:cNvPr id="78" name="z2-1-f-n85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359240" cy="3382920"/>
          </a:xfrm>
          <a:prstGeom prst="rect">
            <a:avLst/>
          </a:prstGeom>
          <a:ln w="0">
            <a:noFill/>
          </a:ln>
        </p:spPr>
      </p:pic>
      <p:pic>
        <p:nvPicPr>
          <p:cNvPr id="79" name="z2-1-f-p75" descr=""/>
          <p:cNvPicPr/>
          <p:nvPr/>
        </p:nvPicPr>
        <p:blipFill>
          <a:blip r:embed="rId3"/>
          <a:stretch/>
        </p:blipFill>
        <p:spPr>
          <a:xfrm>
            <a:off x="4572000" y="152280"/>
            <a:ext cx="428292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47920" y="685800"/>
            <a:ext cx="914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1905120"/>
            <a:ext cx="76176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914400"/>
            <a:ext cx="76212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66688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05120" y="762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604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5360" y="144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2520" y="25909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2720" y="16765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685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920" y="28954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1.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720" y="1447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4480" y="1981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M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7960" y="990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M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6960" y="152280"/>
            <a:ext cx="169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olin2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z3-1-f-0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4343400" cy="3203280"/>
          </a:xfrm>
          <a:prstGeom prst="rect">
            <a:avLst/>
          </a:prstGeom>
          <a:ln w="0">
            <a:noFill/>
          </a:ln>
        </p:spPr>
      </p:pic>
      <p:pic>
        <p:nvPicPr>
          <p:cNvPr id="98" name="z3-1-f-n4" descr=""/>
          <p:cNvPicPr/>
          <p:nvPr/>
        </p:nvPicPr>
        <p:blipFill>
          <a:blip r:embed="rId2"/>
          <a:stretch/>
        </p:blipFill>
        <p:spPr>
          <a:xfrm>
            <a:off x="4114800" y="3478320"/>
            <a:ext cx="4876920" cy="3230280"/>
          </a:xfrm>
          <a:prstGeom prst="rect">
            <a:avLst/>
          </a:prstGeom>
          <a:ln w="0">
            <a:noFill/>
          </a:ln>
        </p:spPr>
      </p:pic>
      <p:pic>
        <p:nvPicPr>
          <p:cNvPr id="99" name="z3-1-f-p4" descr=""/>
          <p:cNvPicPr/>
          <p:nvPr/>
        </p:nvPicPr>
        <p:blipFill>
          <a:blip r:embed="rId3"/>
          <a:stretch/>
        </p:blipFill>
        <p:spPr>
          <a:xfrm>
            <a:off x="4191120" y="152280"/>
            <a:ext cx="4814640" cy="329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4400" y="1295280"/>
            <a:ext cx="19051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676520"/>
            <a:ext cx="76212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1676520"/>
            <a:ext cx="76176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2514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512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604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4044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7080" y="2438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4120" y="19051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295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8640" y="274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8320" y="1676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2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7640" y="17524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M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760" y="17524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M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6960" y="152280"/>
            <a:ext cx="169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olin3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2794_scat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26708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2813_TDChist" descr=""/>
          <p:cNvPicPr/>
          <p:nvPr/>
        </p:nvPicPr>
        <p:blipFill>
          <a:blip r:embed="rId2"/>
          <a:stretch/>
        </p:blipFill>
        <p:spPr>
          <a:xfrm>
            <a:off x="4876920" y="1143000"/>
            <a:ext cx="3352680" cy="4130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9760" y="15228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iming property of ACC (Zolin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6360" y="525780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ing Resolution ~ 1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36576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552720" y="365760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920" y="548640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lation of TDC and 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DCshape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537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7920" y="601992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DC distribution (Zolin3, counter edge; X=-12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525780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Red; P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Blue; Pr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33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920" y="152280"/>
            <a:ext cx="248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herenkov from Aero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962520" y="2514600"/>
            <a:ext cx="3808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4120" y="2362320"/>
            <a:ext cx="208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on PMT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572000" y="52578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5029200"/>
            <a:ext cx="1936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MT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53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0680" y="15228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~8 ns (Propagation time of Cherenkov l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533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33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7T06:03:34Z</dcterms:created>
  <dc:creator>konno</dc:creator>
  <dc:description/>
  <dc:language>en-US</dc:language>
  <cp:lastModifiedBy>三明 康郎</cp:lastModifiedBy>
  <dcterms:modified xsi:type="dcterms:W3CDTF">2003-01-03T02:49:34Z</dcterms:modified>
  <cp:revision>4</cp:revision>
  <dc:subject/>
  <dc:title>PowerPoint プレゼンテーション</dc:title>
</cp:coreProperties>
</file>