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6B6-3F7C-4EB8-984E-BD32B923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9AA-F399-451E-9AAE-9B6A929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FC2-1625-49E9-9A09-6EEB45B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32B-6F65-4B5C-B016-B1ACBFA5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C9B-2123-456F-853B-C7D84572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0C3-FA44-409B-9D31-06FBB6A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145-4DDA-4DC8-A8A1-E6D3C94A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126-AB6B-46A5-A1A2-109A961C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6DE-F15A-4B38-AB32-F298B01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6A0-66B2-4F61-A5AC-9977562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AE9-86D9-43FB-BE2F-753DDA8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56E-DAA6-4D78-9F4D-6695774A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718B-B783-4D75-A7BF-037F5FFE09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5320" y="168120"/>
            <a:ext cx="442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tatus of Aerogel det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for high pT upgrade at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1560"/>
            <a:ext cx="601992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udget from US-J project for next two yea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1) 400 liters of 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2) 600 photomultiplier tub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3) read-out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4) detecto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5) one additional TOF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reliminar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2x12x10 c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 300 segmentations, 2 tubes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x2 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(4 TOF panels) at r=4.5m in west 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Laser test for Aerogel optical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bsorption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scattering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or the diffe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wave length and the index of 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eam test with several prototypes at KEK-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elle type (2 PMTs directly on both sides of Aero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irror type (mirror and PMT behind of Aero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flective material, thickness, position,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nd momentum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imulation study with 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% occupancy with Hijing central Au+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20% for all the charged tra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160020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752480"/>
            <a:ext cx="91440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90512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05740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209680"/>
            <a:ext cx="91440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914400"/>
            <a:ext cx="304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1371600" y="912600"/>
            <a:ext cx="485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0020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8600" y="274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4160" y="1523880"/>
            <a:ext cx="15228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7012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22760" y="1905120"/>
            <a:ext cx="685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4880" y="18781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03640" y="2286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103640" y="1447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209680" y="15998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523880"/>
            <a:ext cx="83808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900000">
            <a:off x="5544000" y="11455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900000">
            <a:off x="5541480" y="1134720"/>
            <a:ext cx="76212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33412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8900000">
            <a:off x="4950000" y="996480"/>
            <a:ext cx="933480" cy="104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1" y="13"/>
                </a:moveTo>
                <a:arcTo wR="10800" hR="10800" stAng="-5571621" swAng="5644404"/>
                <a:lnTo>
                  <a:pt x="10800" y="10800"/>
                </a:lnTo>
                <a:close/>
              </a:path>
              <a:path fill="none" w="21600" h="21600">
                <a:moveTo>
                  <a:pt x="10261" y="13"/>
                </a:moveTo>
                <a:arcTo wR="10800" hR="10800" stAng="-5571621" swAng="5644404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700000">
            <a:off x="5253120" y="1346760"/>
            <a:ext cx="934200" cy="10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1" y="13"/>
                </a:moveTo>
                <a:arcTo wR="10800" hR="10800" stAng="-5571621" swAng="5644404"/>
                <a:lnTo>
                  <a:pt x="10800" y="10800"/>
                </a:lnTo>
                <a:close/>
              </a:path>
              <a:path fill="none" w="21600" h="21600">
                <a:moveTo>
                  <a:pt x="10261" y="13"/>
                </a:moveTo>
                <a:arcTo wR="10800" hR="10800" stAng="-5571621" swAng="5644404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160" y="380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ransmission-laser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5791320" cy="3530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75600" y="2286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0" y="2286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60200" y="2286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33360" y="6248520"/>
            <a:ext cx="4481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(a) for different wav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8640" y="7467480"/>
            <a:ext cx="5519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measurements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ptical monte-car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Times New Roman"/>
              </a:rPr>
              <a:t>absorption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Times New Roman"/>
              </a:rPr>
              <a:t>scatt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n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762120"/>
            <a:ext cx="1676520" cy="2438280"/>
          </a:xfrm>
          <a:prstGeom prst="wedgeRoundRectCallout">
            <a:avLst>
              <a:gd name="adj1" fmla="val 23296"/>
              <a:gd name="adj2" fmla="val 6634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F-ACC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38080" y="3276720"/>
            <a:ext cx="5105520" cy="492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080" y="68580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test at KEK-PS, 2001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etup3" descr=""/>
          <p:cNvPicPr/>
          <p:nvPr/>
        </p:nvPicPr>
        <p:blipFill>
          <a:blip r:embed="rId2"/>
          <a:stretch/>
        </p:blipFill>
        <p:spPr>
          <a:xfrm>
            <a:off x="685800" y="1352520"/>
            <a:ext cx="5410080" cy="1619280"/>
          </a:xfrm>
          <a:prstGeom prst="rect">
            <a:avLst/>
          </a:prstGeom>
          <a:ln w="0">
            <a:noFill/>
          </a:ln>
        </p:spPr>
      </p:pic>
      <p:pic>
        <p:nvPicPr>
          <p:cNvPr id="76" name="ADC_ACC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3352680" y="56386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04960" y="5826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03680" y="678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981080"/>
            <a:ext cx="5486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3440" y="20718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000" y="37339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* logZ 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04920" y="2209680"/>
          <a:ext cx="6248160" cy="3498840"/>
        </p:xfrm>
        <a:graphic>
          <a:graphicData uri="http://schemas.openxmlformats.org/drawingml/2006/table">
            <a:tbl>
              <a:tblPr/>
              <a:tblGrid>
                <a:gridCol w="1079280"/>
                <a:gridCol w="925560"/>
                <a:gridCol w="771480"/>
                <a:gridCol w="617760"/>
                <a:gridCol w="1406520"/>
                <a:gridCol w="14475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l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m. (Ge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hoto-ele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MT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6233.1500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hoto-ele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MT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6233.1500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ret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p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v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l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v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arabol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v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530440" y="979560"/>
            <a:ext cx="6094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3184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2520" y="11779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9920" y="113184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41360" y="11779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3000" y="1143000"/>
            <a:ext cx="6094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89480" y="63972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685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98960" y="457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51200" y="1589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172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18440" y="457200"/>
            <a:ext cx="9136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10040" y="522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ll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5073480" y="9140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irror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6320" y="1679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omentum-dep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04920" y="5867280"/>
            <a:ext cx="4419360" cy="286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19720" y="6754680"/>
            <a:ext cx="21333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escribed by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xpected Ch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adiation given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he index and pion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0640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640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640" y="110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908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Hit-Position-Gor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257800" cy="3863880"/>
          </a:xfrm>
          <a:prstGeom prst="rect">
            <a:avLst/>
          </a:prstGeom>
          <a:ln w="0">
            <a:noFill/>
          </a:ln>
        </p:spPr>
      </p:pic>
      <p:pic>
        <p:nvPicPr>
          <p:cNvPr id="105" name="Hit-Position-Mirror" descr=""/>
          <p:cNvPicPr/>
          <p:nvPr/>
        </p:nvPicPr>
        <p:blipFill>
          <a:blip r:embed="rId2"/>
          <a:stretch/>
        </p:blipFill>
        <p:spPr>
          <a:xfrm>
            <a:off x="762120" y="4527720"/>
            <a:ext cx="5257800" cy="347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63760" y="1066680"/>
            <a:ext cx="19288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elle type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oretex ref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3760" y="5105520"/>
            <a:ext cx="1879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irror type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yvek ref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8948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89480" y="762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henix_detector1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05320" y="3429000"/>
            <a:ext cx="1904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1905120"/>
            <a:ext cx="380880" cy="685800"/>
          </a:xfrm>
          <a:prstGeom prst="wedgeRoundRectCallout">
            <a:avLst>
              <a:gd name="adj1" fmla="val -176666"/>
              <a:gd name="adj2" fmla="val 15509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914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914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37920" y="2495520"/>
            <a:ext cx="304920" cy="30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638280" y="1955880"/>
            <a:ext cx="304560" cy="30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1920" y="2063880"/>
            <a:ext cx="718920" cy="71892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2640" y="2244600"/>
            <a:ext cx="719280" cy="71928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2640" y="1704960"/>
            <a:ext cx="719280" cy="71928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1920" y="1523880"/>
            <a:ext cx="718920" cy="71928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1358640" y="2495520"/>
            <a:ext cx="304920" cy="30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359000" y="1955880"/>
            <a:ext cx="304560" cy="30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717200" y="2495520"/>
            <a:ext cx="304920" cy="304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2280" y="2244600"/>
            <a:ext cx="718920" cy="71928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1717200" y="1955520"/>
            <a:ext cx="304560" cy="304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437920" y="2495520"/>
            <a:ext cx="304920" cy="304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62280" y="1704960"/>
            <a:ext cx="718920" cy="71928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437920" y="1955520"/>
            <a:ext cx="304560" cy="304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hit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2514600" cy="2012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3480" y="434340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% occupancy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ijing central Au+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960" y="5562720"/>
            <a:ext cx="22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fired block /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kg1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2819520" cy="2351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762120" y="5943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845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25640" y="71128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822960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647712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ackground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or tracks which h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ny of Aerogel bloc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ny events overla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76201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440" y="784872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CH mi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840" y="76960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65530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360" y="62485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beam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676520" y="7467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14600" y="7238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7467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960" y="30492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ISA simulation with Aer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hoto01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48" name="photo019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149" name="aero22" descr=""/>
          <p:cNvPicPr/>
          <p:nvPr/>
        </p:nvPicPr>
        <p:blipFill>
          <a:blip r:embed="rId3"/>
          <a:stretch/>
        </p:blipFill>
        <p:spPr>
          <a:xfrm>
            <a:off x="434880" y="3124080"/>
            <a:ext cx="2662200" cy="2743200"/>
          </a:xfrm>
          <a:prstGeom prst="rect">
            <a:avLst/>
          </a:prstGeom>
          <a:ln w="0">
            <a:noFill/>
          </a:ln>
        </p:spPr>
      </p:pic>
      <p:pic>
        <p:nvPicPr>
          <p:cNvPr id="150" name="aero24" descr=""/>
          <p:cNvPicPr/>
          <p:nvPr/>
        </p:nvPicPr>
        <p:blipFill>
          <a:blip r:embed="rId4"/>
          <a:stretch/>
        </p:blipFill>
        <p:spPr>
          <a:xfrm>
            <a:off x="457200" y="6019920"/>
            <a:ext cx="2597040" cy="28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37040" y="533520"/>
            <a:ext cx="219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erogel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rototype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est beam lin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KEK-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1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1320" y="58672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erogel in a Belle prototyp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7280" y="25146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no, Oh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7400" y="7010280"/>
            <a:ext cx="2155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erogel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aka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47760"/>
            <a:ext cx="6172200" cy="84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ummary of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definition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 enhance PID capability of PHE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upto 10GeV/c with Aerogel, TOF and R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~400 liters of Aerogel with ~300 segment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hich is 4 TOF panels 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2) Detector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2001/Dec test experiment  at KEK-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Belle/mirror types are tested, the best result (&gt;20p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s with Belle type with 3”PMT and Goetex refl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Next test beam is planned before 2002/Sum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Detailed study for the absorption and scatter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s a function of wave length with laser and spectrome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s in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3) PISA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PISA simulation activity has been started at Tsukub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~300 Aerogel counters have been installed in west a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Occupancy and background studies have been star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4) Budget and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Purchase of Aerogel and PMTs with US-J budget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be started in 2002 and finished in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Dubna may be interested in the construction of detec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Y.Miake will visit Dubna in March for further discu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5) Issues and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2 TOF panels will be moved from east arm to west. 1 sp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anel exists at BNL. 1 panel will be newly bui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Read-out electronics designed for RICH will be copi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but it needs to be studied in deta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01:16:57Z</dcterms:created>
  <dc:creator>江角晋一</dc:creator>
  <dc:description/>
  <dc:language>en-US</dc:language>
  <cp:lastModifiedBy>Yasuo MIAKE</cp:lastModifiedBy>
  <dcterms:modified xsi:type="dcterms:W3CDTF">2002-02-15T08:47:15Z</dcterms:modified>
  <cp:revision>8</cp:revision>
  <dc:subject/>
  <dc:title>PowerPoint プレゼンテーション  -  Status Report at upgrade DC mtg</dc:title>
</cp:coreProperties>
</file>