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55A-5BA2-4A14-942A-554FCB19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3990-7DED-4982-A322-3FA9CC08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DB0-E5B8-43AF-A0FC-3D1CD43D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EDE-BFD1-400B-814F-6EC5F2FE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A1C-0EA9-462A-8CE7-8E26D61E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990-FBEA-4EC9-96F2-73FAC7FE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8D2-0671-450A-A137-46C2E673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DDD-1274-4349-91B5-E88D025D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513-6AFE-4DB3-A5AC-EACBE2DC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EB2-D06F-42D7-9EBA-4FFD95E7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4D7-4B3D-4322-BF88-12ECEA5B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E40-0FAB-41EC-9134-57BC6311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6E51-266C-4FBD-89E2-EEC8912B98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eating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64480" cy="601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0920" y="1522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heating-xlog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86720" cy="601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0920" y="1522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issipation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10480" cy="5859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0920" y="1522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issipation-fit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586720" cy="593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0920" y="1522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3:11:01Z</dcterms:created>
  <dc:creator>konno</dc:creator>
  <dc:description/>
  <dc:language>en-US</dc:language>
  <cp:lastModifiedBy>三明 康郎</cp:lastModifiedBy>
  <dcterms:modified xsi:type="dcterms:W3CDTF">2003-04-24T08:39:51Z</dcterms:modified>
  <cp:revision>2</cp:revision>
  <dc:subject/>
  <dc:title>PowerPoint プレゼンテーション</dc:title>
</cp:coreProperties>
</file>