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6DA-45A6-4DDA-B908-9618FB6A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4EB-B01D-453B-9CCB-2C0E45D9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E4E-A6EF-4927-BA3C-0C4EA21A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3D7-479C-4072-8AD7-139DDB29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863-2FC7-430E-8A3C-911E06D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9F6-FEBF-4897-98DE-004AB5B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8C1-E9CC-48B7-B0CC-6C47720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642-F1CF-44EE-82FE-4046AED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DC1-9047-4D07-887D-33C9AB1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7AE-81A3-4227-9A42-09112B2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7C8-25CF-4F22-9BB5-89A61548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63F-7A7C-4D0A-8773-0DB997E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A564-0A3D-47EA-95FA-3428F4C872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360" y="1981080"/>
            <a:ext cx="570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Magnetic Field Eff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with LED puls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3160" y="3657600"/>
            <a:ext cx="23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r 23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. Ko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adc-97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267080" cy="2892600"/>
          </a:xfrm>
          <a:prstGeom prst="rect">
            <a:avLst/>
          </a:prstGeom>
          <a:ln w="0">
            <a:noFill/>
          </a:ln>
        </p:spPr>
      </p:pic>
      <p:pic>
        <p:nvPicPr>
          <p:cNvPr id="44" name="ladc-96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4282920" cy="290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1800" y="1015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w-Gain ADC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LED: ~10 p.e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858000" y="1447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7086600" y="2133720"/>
            <a:ext cx="4572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44640" y="1066680"/>
            <a:ext cx="537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0280" y="1828800"/>
            <a:ext cx="4856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adc-98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419720" cy="2997360"/>
          </a:xfrm>
          <a:prstGeom prst="rect">
            <a:avLst/>
          </a:prstGeom>
          <a:ln w="0">
            <a:noFill/>
          </a:ln>
        </p:spPr>
      </p:pic>
      <p:pic>
        <p:nvPicPr>
          <p:cNvPr id="51" name="ladc-99" descr=""/>
          <p:cNvPicPr/>
          <p:nvPr/>
        </p:nvPicPr>
        <p:blipFill>
          <a:blip r:embed="rId4"/>
          <a:stretch/>
        </p:blipFill>
        <p:spPr>
          <a:xfrm>
            <a:off x="4572000" y="3581280"/>
            <a:ext cx="42051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19320" y="838080"/>
          <a:ext cx="6095880" cy="42814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f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f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3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85920" y="1522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w-Gain ADC (at -1.4k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0600" y="5257800"/>
            <a:ext cx="4196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in decrease : ~2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5040" y="61722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5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81960" y="6095880"/>
            <a:ext cx="32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~7 pC of charg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9320" y="15228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ming 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ime-96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267080" cy="2749680"/>
          </a:xfrm>
          <a:prstGeom prst="rect">
            <a:avLst/>
          </a:prstGeom>
          <a:ln w="0">
            <a:noFill/>
          </a:ln>
        </p:spPr>
      </p:pic>
      <p:pic>
        <p:nvPicPr>
          <p:cNvPr id="59" name="time-97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42670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time-98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4191120" cy="2841480"/>
          </a:xfrm>
          <a:prstGeom prst="rect">
            <a:avLst/>
          </a:prstGeom>
          <a:ln w="0">
            <a:noFill/>
          </a:ln>
        </p:spPr>
      </p:pic>
      <p:pic>
        <p:nvPicPr>
          <p:cNvPr id="61" name="time-99" descr=""/>
          <p:cNvPicPr/>
          <p:nvPr/>
        </p:nvPicPr>
        <p:blipFill>
          <a:blip r:embed="rId4"/>
          <a:stretch/>
        </p:blipFill>
        <p:spPr>
          <a:xfrm>
            <a:off x="4419720" y="3657600"/>
            <a:ext cx="4343400" cy="294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715000" y="990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095880" y="1523880"/>
            <a:ext cx="4572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7960" y="609480"/>
            <a:ext cx="537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9560" y="1295280"/>
            <a:ext cx="4856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990720"/>
          <a:ext cx="6096240" cy="4281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f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f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1600" y="22860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ming 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20280" y="56386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 ch = 35 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9880" y="5562720"/>
            <a:ext cx="4038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~10 nsec shift ob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6172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he stray magnetic fiel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me-ladc-97-off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4038480" cy="4876920"/>
          </a:xfrm>
          <a:prstGeom prst="rect">
            <a:avLst/>
          </a:prstGeom>
          <a:ln w="0">
            <a:noFill/>
          </a:ln>
        </p:spPr>
      </p:pic>
      <p:pic>
        <p:nvPicPr>
          <p:cNvPr id="72" name="time-ladc-97-on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480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4120" y="228600"/>
            <a:ext cx="55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Correlation of TDC and ADC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(ch. 97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0" y="1371600"/>
            <a:ext cx="9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6800" y="5486400"/>
            <a:ext cx="10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51600" y="5486400"/>
            <a:ext cx="10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4880" y="1371600"/>
            <a:ext cx="9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1920" y="1447920"/>
            <a:ext cx="1029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63040" y="1523880"/>
            <a:ext cx="96264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0:53:51Z</dcterms:created>
  <dc:creator>konno</dc:creator>
  <dc:description/>
  <dc:language>en-US</dc:language>
  <cp:lastModifiedBy>三明 康郎</cp:lastModifiedBy>
  <dcterms:modified xsi:type="dcterms:W3CDTF">2003-04-24T08:44:45Z</dcterms:modified>
  <cp:revision>10</cp:revision>
  <dc:subject/>
  <dc:title>PowerPoint プレゼンテーション</dc:title>
</cp:coreProperties>
</file>