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9E2-6776-4A19-B049-BB2B042A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25E-B5F8-42CF-A86F-97422748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708-32D6-47D2-8C3B-64D0C497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FEC-E65D-4932-8DB2-C817E10B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84D-FEB3-4A52-9F77-49962758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6CC-4091-4816-94C8-54A221D3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51B-65B8-458C-8E86-546EF153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D57-41DE-422B-A2D6-6BFCB4E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827-A3E3-47D2-8A3A-7212E5E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ABE-8075-4854-BB11-4B880EFE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6DE-0636-4CF7-BB67-28CA2A0E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324-CBCE-4E83-A61A-172BA617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9D1B-3A12-4C01-BDE7-0FBAABB461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1800" y="1600200"/>
            <a:ext cx="68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Prototype test results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Run 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88080" y="2743200"/>
            <a:ext cx="23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 23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. Ko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2FB-D511-4C04-938D-B3C5AFF8EC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5399-t99t97-no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6019920" cy="359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2920" y="152280"/>
            <a:ext cx="361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iming 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85399-t97-hist" descr=""/>
          <p:cNvPicPr/>
          <p:nvPr/>
        </p:nvPicPr>
        <p:blipFill>
          <a:blip r:embed="rId2"/>
          <a:stretch/>
        </p:blipFill>
        <p:spPr>
          <a:xfrm>
            <a:off x="6248520" y="2971800"/>
            <a:ext cx="289548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85399-t99-hist" descr=""/>
          <p:cNvPicPr/>
          <p:nvPr/>
        </p:nvPicPr>
        <p:blipFill>
          <a:blip r:embed="rId3"/>
          <a:stretch/>
        </p:blipFill>
        <p:spPr>
          <a:xfrm>
            <a:off x="6248520" y="990720"/>
            <a:ext cx="2895480" cy="1919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2743200"/>
            <a:ext cx="76212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200400"/>
            <a:ext cx="83808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71600"/>
            <a:ext cx="380880" cy="2514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3962520"/>
            <a:ext cx="327672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743200" y="2362320"/>
            <a:ext cx="3808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6240" y="2133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5240" y="15238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ysics (coinci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52120" y="1981080"/>
            <a:ext cx="6858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914040" y="3962520"/>
            <a:ext cx="22860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371600" y="4267080"/>
            <a:ext cx="3049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2240" y="47242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ysics (uncorre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5400" y="44197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DC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2880" y="10666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DC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1720" y="5638680"/>
            <a:ext cx="63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nce probability : 56 % (=111/1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70000" y="114300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DC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70000" y="31240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DC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8840" y="35053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111 c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6120" y="35812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199 c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50160" y="160020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197 c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91E-1236-48FA-88DF-88D7F639E5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85399-l97-cor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978360" cy="2590920"/>
          </a:xfrm>
          <a:prstGeom prst="rect">
            <a:avLst/>
          </a:prstGeom>
          <a:ln w="0">
            <a:noFill/>
          </a:ln>
        </p:spPr>
      </p:pic>
      <p:pic>
        <p:nvPicPr>
          <p:cNvPr id="67" name="85399-l97-uncor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3886200" cy="2635200"/>
          </a:xfrm>
          <a:prstGeom prst="rect">
            <a:avLst/>
          </a:prstGeom>
          <a:ln w="0">
            <a:noFill/>
          </a:ln>
        </p:spPr>
      </p:pic>
      <p:pic>
        <p:nvPicPr>
          <p:cNvPr id="68" name="85399-l99-cor" descr=""/>
          <p:cNvPicPr/>
          <p:nvPr/>
        </p:nvPicPr>
        <p:blipFill>
          <a:blip r:embed="rId3"/>
          <a:stretch/>
        </p:blipFill>
        <p:spPr>
          <a:xfrm>
            <a:off x="4724280" y="83808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85399-l99-uncor" descr=""/>
          <p:cNvPicPr/>
          <p:nvPr/>
        </p:nvPicPr>
        <p:blipFill>
          <a:blip r:embed="rId4"/>
          <a:stretch/>
        </p:blipFill>
        <p:spPr>
          <a:xfrm>
            <a:off x="4724280" y="4038480"/>
            <a:ext cx="3962520" cy="2648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3280" y="358128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ysics (uncorrelated), ch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5440" y="358128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ysics (uncorrelated), ch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1000" y="45720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ysics (coincidence), ch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5800" y="45720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hysics (coincidence), ch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0840" y="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 ADC vs. TDC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514600"/>
            <a:ext cx="914400" cy="762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752480"/>
            <a:ext cx="83808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2666880"/>
            <a:ext cx="83808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6095880"/>
            <a:ext cx="29718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6095880"/>
            <a:ext cx="29718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7680" y="1371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866920" y="167652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32B-DFCC-41ED-95A3-FDEE42E380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32560" y="15228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mplitude 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85399-l99l97-no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215040" cy="401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819520" y="2743200"/>
            <a:ext cx="137160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114800" y="342864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7480" y="35053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4191120"/>
            <a:ext cx="83808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1320" y="5410080"/>
            <a:ext cx="24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hysics (coincid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76160" y="502920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429000"/>
            <a:ext cx="6094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505320"/>
            <a:ext cx="4572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9000" y="3276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166-C228-4115-B3DF-ECE9A4533F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0:53:51Z</dcterms:created>
  <dc:creator>konno</dc:creator>
  <dc:description/>
  <dc:language>en-US</dc:language>
  <cp:lastModifiedBy>三明 康郎</cp:lastModifiedBy>
  <dcterms:modified xsi:type="dcterms:W3CDTF">2003-04-24T08:43:05Z</dcterms:modified>
  <cp:revision>11</cp:revision>
  <dc:subject/>
  <dc:title>PowerPoint プレゼンテーション</dc:title>
</cp:coreProperties>
</file>