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2ED5-7EC1-45BF-A79D-F806E1D9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0428-C507-4BC8-9668-1E4DAA60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02BE-8D36-47F1-977D-F3898E8F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61EE-B185-4ABE-8ED0-40F74FBA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668A-2FCB-4B6D-8BB5-F5086B42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5FA5-8893-4763-AB73-DAD4119C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D4CD-367E-489B-BE97-41DF8D75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D70E-9D2B-48C8-B531-1B9CB51A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3357-643F-4495-8AFD-52402632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33DD-FADC-40FB-8E07-56029BAF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0D8E-A885-4E0F-8EB5-E7EB3F28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6AB-8482-4D70-9CAA-779F04B6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4/23/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. of Tsuku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roshi Mas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1AE7-EB34-4AF7-A4E8-FA224A484FD0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preparation for AC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oshi Masui (University of Tsuku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status of ACCP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e first version for prototype counter have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mmitted into cvs reposi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aw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VS : offline/packages/ac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ccpRaw , Accp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co mod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VS : offline/framework/preco/AccpReco.h (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 AccpRaw Node will be available in DST(uDST?) 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ext nightly rebuild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ngs to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monitorin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bration modul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to Run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monitoring, calib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lin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9:14:26Z</dcterms:created>
  <dc:creator>益井　宙</dc:creator>
  <dc:description/>
  <dc:language>en-US</dc:language>
  <cp:lastModifiedBy>三明 康郎</cp:lastModifiedBy>
  <dcterms:modified xsi:type="dcterms:W3CDTF">2003-04-24T08:35:40Z</dcterms:modified>
  <cp:revision>22</cp:revision>
  <dc:subject/>
  <dc:title>PowerPoint プレゼンテーション  -  Current status for ACCP software</dc:title>
</cp:coreProperties>
</file>