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B588-F487-42ED-9FBC-7FB904C2867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axis is ADC mean and Y-axis is Number of Photo-electr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slope of each line means  the Gain of PMT for each B-field (0-14G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 want to say here is that there are certain difference between using a shield and not using a shiel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cide what kind of my-metal shield is best, we will see the comparison of following components to Magnetic field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axis is Magnetic field and Y-axis is Number of Photo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5F19-06EF-45C6-8B7F-7EED62920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38BF-82A1-41E5-AF73-E6FB57F4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5C3B-76E3-47E6-81CB-430A1681F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DAD1-B224-43E8-8FEC-D4B93ABCF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FAAF-A1FC-4529-8DA3-BC48AA85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5AB2-6F62-46F3-9A2D-76ECB7EF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D22C-4AEF-4EE3-A6D2-5D9AED9D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98BB-DBC9-4E2E-8AD2-071E4564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E5D8-34FE-40C0-B9A8-9BB68E35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D506-70E3-4307-879D-1498A6D2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BA46-74C5-44BA-A627-B80E021F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0B6C-3890-4049-A165-8F3E3B8A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F533-FDF7-4D29-A1B6-9187A22F35E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Mu-metal shield for PMT </a:t>
            </a:r>
            <a:br>
              <a:rPr sz="4400"/>
            </a:b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of Aerogel coun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3733920"/>
            <a:ext cx="31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Maya SHIMOMU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Satoshi TAKA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Yoshihiko NAG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75600" y="522288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il 24,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447C-E998-497E-B751-38E9D7E4D6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Times New Roman"/>
              </a:rPr>
              <a:t>BACK UP SLID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6744-B450-4E12-9DDF-6258C53E8B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shield at parallel B-fie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no_shield_parallel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165800" cy="485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336F-3FB5-442B-8E72-E92B10D46C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MAMATSU-shield at parallel B-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HAMAMATSU_parallel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7534080" cy="535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2E49-FD95-4055-83F6-3F9384DA6C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hield at Vertical B-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no_shield_vertical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158240" cy="485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1287-8D64-411C-A318-40B1463D99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MAMATSU-shield at Vertical B-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HAMAMATSU_vertical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186680" cy="4873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AC21-9178-4E94-8EA9-05FA8A49AE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Magnetic field(parallel) vs Conversion 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MG_parallel_Conv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581960" cy="582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4256-54E0-4EFB-8F0B-9352D84E24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Magnetic field(vertical) vs Conversion 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MG_vertical_Conv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581960" cy="582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7A14-9A5E-4B76-A5FA-90A7CC5FD3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Magnetic field(vertical) vs ADC m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MG_Vertical_ADCmean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7581960" cy="582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2F3A-F024-452B-A825-B7A608C5A0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182880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Magnetic field (parallel) vs ADC m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MG_parallel_ADCmean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581960" cy="582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E1E8-512C-45C3-A529-C53FE3FFF8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8cm(Length)-0.5mm(thickness) shield ,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-filed: forwar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8cm_0.5mm_forward1_allgraph1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772400" cy="464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3406-6962-41AE-91CF-769B848769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50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nch test set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14640" y="761760"/>
            <a:ext cx="3429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Helmholtz co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Gauss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Myu-metal shie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Light gu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DSC00353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54" name="DSC00355" descr=""/>
          <p:cNvPicPr/>
          <p:nvPr/>
        </p:nvPicPr>
        <p:blipFill>
          <a:blip r:embed="rId2"/>
          <a:stretch/>
        </p:blipFill>
        <p:spPr>
          <a:xfrm>
            <a:off x="762120" y="4114800"/>
            <a:ext cx="358128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DSC00376" descr=""/>
          <p:cNvPicPr/>
          <p:nvPr/>
        </p:nvPicPr>
        <p:blipFill>
          <a:blip r:embed="rId3"/>
          <a:stretch/>
        </p:blipFill>
        <p:spPr>
          <a:xfrm>
            <a:off x="4648320" y="4114800"/>
            <a:ext cx="3327120" cy="2286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97120" y="3753000"/>
            <a:ext cx="3030480" cy="581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-field : parall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2480" y="3809880"/>
            <a:ext cx="3009240" cy="581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-field : ver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676160" y="6019920"/>
            <a:ext cx="1447560" cy="0"/>
          </a:xfrm>
          <a:prstGeom prst="line">
            <a:avLst/>
          </a:prstGeom>
          <a:ln w="7632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867280" y="6019920"/>
            <a:ext cx="1447920" cy="0"/>
          </a:xfrm>
          <a:prstGeom prst="line">
            <a:avLst/>
          </a:prstGeom>
          <a:ln w="76320">
            <a:solidFill>
              <a:srgbClr val="ff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7800" y="62784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6280" y="62784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514600" y="2819160"/>
            <a:ext cx="3124080" cy="15228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90600" y="2647800"/>
            <a:ext cx="304920" cy="304920"/>
          </a:xfrm>
          <a:prstGeom prst="ellipse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14C8-0DE2-45B6-A84A-E684B9D733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8cm(Length)-0.2mm(thickness) shield ,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-filed: for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8cm_02mm_forward2_allgraph1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172360" cy="48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9808-B4A1-4C9F-AB0F-9B56CF5CB6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cm(Length)-0.2mm(thickness) 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tape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hield 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-filed: for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8cmcut_forward1_0.2mm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172720" cy="488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D092-F47A-4366-8B69-F26ADBF620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HAMAMATSU_parallel" descr=""/>
          <p:cNvPicPr/>
          <p:nvPr/>
        </p:nvPicPr>
        <p:blipFill>
          <a:blip r:embed="rId1"/>
          <a:stretch/>
        </p:blipFill>
        <p:spPr>
          <a:xfrm>
            <a:off x="4572000" y="2038320"/>
            <a:ext cx="4267080" cy="3371760"/>
          </a:xfrm>
          <a:prstGeom prst="rect">
            <a:avLst/>
          </a:prstGeom>
          <a:ln w="0">
            <a:noFill/>
          </a:ln>
        </p:spPr>
      </p:pic>
      <p:pic>
        <p:nvPicPr>
          <p:cNvPr id="65" name="no_shield_parallel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4360680" cy="32958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N.P.E. vs ADC mean at parallel B-fie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5791320"/>
            <a:ext cx="52578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3300"/>
                </a:solidFill>
                <a:latin typeface="Times New Roman"/>
              </a:rPr>
              <a:t>Myu-metal shield is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77960" y="152388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hie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79440" y="154296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MAMATSU sh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24480" y="1066680"/>
            <a:ext cx="218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ef.BACK UP SLI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9920" y="243828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33cc"/>
                </a:solidFill>
                <a:latin typeface="Times New Roman"/>
              </a:rPr>
              <a:t>0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4800" y="24382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33cc"/>
                </a:solidFill>
                <a:latin typeface="Times New Roman"/>
              </a:rPr>
              <a:t>14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752120" y="2514600"/>
            <a:ext cx="2133720" cy="0"/>
          </a:xfrm>
          <a:prstGeom prst="line">
            <a:avLst/>
          </a:prstGeom>
          <a:ln w="9360">
            <a:solidFill>
              <a:srgbClr val="ff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0C0D-D149-4878-8383-F7D3A3A424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What will be shown next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Number of Photoelectron vs Magnetic field (vertic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The ratio of ADC mean vs Magnetic field (vertic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Number of Photoelectron vs Magnetic field (parall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The ratio of ADC mean vs Magnetic field (parall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F752-74BC-45E2-87C7-557DFD948D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14240" y="380880"/>
            <a:ext cx="3429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DSC00378" descr=""/>
          <p:cNvPicPr/>
          <p:nvPr/>
        </p:nvPicPr>
        <p:blipFill>
          <a:blip r:embed="rId1"/>
          <a:stretch/>
        </p:blipFill>
        <p:spPr>
          <a:xfrm>
            <a:off x="5867280" y="16002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78" name="DSC00364" descr=""/>
          <p:cNvPicPr/>
          <p:nvPr/>
        </p:nvPicPr>
        <p:blipFill>
          <a:blip r:embed="rId2"/>
          <a:stretch/>
        </p:blipFill>
        <p:spPr>
          <a:xfrm>
            <a:off x="685800" y="5086440"/>
            <a:ext cx="1600200" cy="1200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19920" y="3276720"/>
            <a:ext cx="26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8cm tapered sh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46280" y="1133640"/>
            <a:ext cx="77119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Following myu-met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shield-conditions  were tes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no-shie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4cm(Length)- 0.2mm(thickn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4cm(Length)- 0.5mmm(thickn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8cm(Length)- 0.2mm(thickn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8cm(Length)- 0.5mm(thickn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apered 8cm(Length)- 0.2mm(thickn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HAMAMATSU made -1.0mm(thickn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DSC00377" descr=""/>
          <p:cNvPicPr/>
          <p:nvPr/>
        </p:nvPicPr>
        <p:blipFill>
          <a:blip r:embed="rId3"/>
          <a:stretch/>
        </p:blipFill>
        <p:spPr>
          <a:xfrm>
            <a:off x="2819520" y="4724280"/>
            <a:ext cx="2336760" cy="175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56CD-76C4-4810-A444-B4A5D28BEB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Magnetic field(vertical) vs Number of Photoelec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MG_vertical_NPE" descr=""/>
          <p:cNvPicPr/>
          <p:nvPr/>
        </p:nvPicPr>
        <p:blipFill>
          <a:blip r:embed="rId1"/>
          <a:stretch/>
        </p:blipFill>
        <p:spPr>
          <a:xfrm>
            <a:off x="781200" y="514440"/>
            <a:ext cx="7581600" cy="582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9E33-D7F9-4322-A123-08D619BC03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Magnetic field(vertical) vs the ratio of ADC m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MG_vertical_ratioADCmean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581960" cy="582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6066-00B8-440A-9D13-C841D977C9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Magnetic field(parallel) vs Number of Photoelect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MG_parallel_NPE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581960" cy="582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1BCF-E11F-49DF-9711-04CAB308E6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Magnetic field(parallel) vs the ratio of ADC 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MG_parallel_ratioADCmean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7581960" cy="582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EFD6-16CD-4B86-AB10-39B77D327C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22:42:07Z</dcterms:created>
  <dc:creator>Maya SHIMOMURA</dc:creator>
  <dc:description/>
  <dc:language>en-US</dc:language>
  <cp:lastModifiedBy>三明 康郎</cp:lastModifiedBy>
  <dcterms:modified xsi:type="dcterms:W3CDTF">2003-04-24T08:37:49Z</dcterms:modified>
  <cp:revision>23</cp:revision>
  <dc:subject/>
  <dc:title>PowerPoint プレゼンテーション  -  Myu  metal shield for PMT  at Aerogel counter</dc:title>
</cp:coreProperties>
</file>