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CD9-F1DC-4560-97F3-78BF3425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6BA-58F7-4ED3-9E39-B3726F14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C59-1F70-4682-B0D7-55DE4128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3AA-A16D-4C5C-93A5-5412D3D1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131-A25D-4467-B9FE-4379E07D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D8F-7622-40ED-842E-D0851DDE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701-61E3-461B-8ABA-6ED930A6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F19-D338-429E-95EA-023E6D8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2E4-537D-420C-936E-80170309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DF4-EDBD-4611-B6C9-579C14D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A79-10C2-4AD1-B9F0-A64205B0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3AB-3BF4-4D74-B40F-E4C8457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F4C-06FA-49F1-8368-F25D948C49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680" y="304920"/>
            <a:ext cx="38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erogel read out circui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20" y="914400"/>
            <a:ext cx="692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amp  :  Prototype production will done  5/2-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ll go back to Japan to tes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       :  Production had started this Mon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ill finish about 2 month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  :  Trigger module circuit is now in thinking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ll talk to Chiu about the trigger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505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4800" y="4038480"/>
            <a:ext cx="515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o place preamp ca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PC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by FEE r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connect signal cable to pream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81480" y="2238480"/>
          <a:ext cx="23810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2238480"/>
                    <a:ext cx="23810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381480" y="2238480"/>
          <a:ext cx="2381040" cy="23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1480" y="2238480"/>
                    <a:ext cx="23810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381480" y="2238480"/>
          <a:ext cx="2381040" cy="23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1480" y="2238480"/>
                    <a:ext cx="23810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800600" y="2209680"/>
          <a:ext cx="4143240" cy="394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09680"/>
                    <a:ext cx="414324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04920" y="2286000"/>
          <a:ext cx="4190760" cy="393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2286000"/>
                    <a:ext cx="41907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590920" y="1295280"/>
            <a:ext cx="35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rototype PreAMP  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21:54:59Z</dcterms:created>
  <dc:creator>narumi</dc:creator>
  <dc:description/>
  <dc:language>en-US</dc:language>
  <cp:lastModifiedBy>三明 康郎</cp:lastModifiedBy>
  <dcterms:modified xsi:type="dcterms:W3CDTF">2003-04-24T08:45:46Z</dcterms:modified>
  <cp:revision>4</cp:revision>
  <dc:subject/>
  <dc:title>PowerPoint プレゼンテーション</dc:title>
</cp:coreProperties>
</file>