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13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9.wmf" ContentType="image/x-wmf"/>
  <Override PartName="/ppt/media/image40.wmf" ContentType="image/x-wmf"/>
  <Override PartName="/ppt/media/image18.png" ContentType="image/png"/>
  <Override PartName="/ppt/media/image1.png" ContentType="image/png"/>
  <Override PartName="/ppt/media/image68.png" ContentType="image/png"/>
  <Override PartName="/ppt/media/image29.wmf" ContentType="image/x-wmf"/>
  <Override PartName="/ppt/media/image24.png" ContentType="image/png"/>
  <Override PartName="/ppt/media/image64.wmf" ContentType="image/x-wmf"/>
  <Override PartName="/ppt/media/image6.wmf" ContentType="image/x-wmf"/>
  <Override PartName="/ppt/media/image58.wmf" ContentType="image/x-wmf"/>
  <Override PartName="/ppt/media/image57.wmf" ContentType="image/x-wmf"/>
  <Override PartName="/ppt/media/image20.wmf" ContentType="image/x-wmf"/>
  <Override PartName="/ppt/media/image21.png" ContentType="image/png"/>
  <Override PartName="/ppt/media/image6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5.png" ContentType="image/png"/>
  <Override PartName="/ppt/media/image27.wmf" ContentType="image/x-wmf"/>
  <Override PartName="/ppt/media/image15.wmf" ContentType="image/x-wmf"/>
  <Override PartName="/ppt/media/image3.wmf" ContentType="image/x-wmf"/>
  <Override PartName="/ppt/media/image73.wmf" ContentType="image/x-wmf"/>
  <Override PartName="/ppt/media/image33.png" ContentType="image/png"/>
  <Override PartName="/ppt/media/image76.png" ContentType="image/png"/>
  <Override PartName="/ppt/media/image19.wmf" ContentType="image/x-wmf"/>
  <Override PartName="/ppt/media/image7.wmf" ContentType="image/x-wmf"/>
  <Override PartName="/ppt/media/image72.wmf" ContentType="image/x-wmf"/>
  <Override PartName="/ppt/media/image69.wmf" ContentType="image/x-wmf"/>
  <Override PartName="/ppt/media/image75.png" ContentType="image/png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6.png" ContentType="image/png"/>
  <Override PartName="/ppt/media/image77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4.wmf" ContentType="image/x-wmf"/>
  <Override PartName="/ppt/media/image16.wmf" ContentType="image/x-wmf"/>
  <Override PartName="/ppt/media/image60.wmf" ContentType="image/x-wmf"/>
  <Override PartName="/ppt/media/image38.png" ContentType="image/png"/>
  <Override PartName="/ppt/media/image8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25.png" ContentType="image/png"/>
  <Override PartName="/ppt/media/image10.wmf" ContentType="image/x-wmf"/>
  <Override PartName="/ppt/media/image47.wmf" ContentType="image/x-wmf"/>
  <Override PartName="/ppt/media/image34.png" ContentType="image/png"/>
  <Override PartName="/ppt/media/image36.png" ContentType="image/png"/>
  <Override PartName="/ppt/media/image3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1075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871200" cy="68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5586480" y="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222720" y="523800"/>
            <a:ext cx="3427200" cy="25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1760" y="3260880"/>
            <a:ext cx="7267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651996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5586480" y="651996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2BB1849-2182-45A3-88CD-7F14C02E7E0A}" type="slidenum"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3222720" y="523800"/>
            <a:ext cx="3427200" cy="25704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01760" y="3260880"/>
            <a:ext cx="7267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I am Susumu SATO from Univ. of  Tsukuba, Jap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And I will pres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or WA9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 contents i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I will explain about th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98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In the Next,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delta+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ield measurement and its contribution to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low m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hanc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In third  I will show you th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reeze ou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measurements using high statistics of pi0 measurement using electromagnetic calo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nd at last I will pres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surement of K+ and π+ at mid-rapid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3222720" y="523800"/>
            <a:ext cx="3427200" cy="25704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1301760" y="3260880"/>
            <a:ext cx="7267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Nraw=1,069,569, Ndelta=3,26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mix=9,803,353, Sum(Nmix,i^2)=1,583,327,5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hilda=0.108769316, echilda^2=0.01183076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of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=(1,188,815.156)/Nmix^2=1.23698676E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rm=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1,069,569(50.0%), 2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imes New Roman"/>
                <a:ea typeface="ＭＳ Ｐゴシック"/>
              </a:rPr>
              <a:t>n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term=1,066,304(49.9%), 3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imes New Roman"/>
                <a:ea typeface="ＭＳ Ｐゴシック"/>
              </a:rPr>
              <a:t>r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=19.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rror^2=1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imes New Roman"/>
                <a:ea typeface="ＭＳ Ｐゴシック"/>
              </a:rPr>
              <a:t>s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+2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imes New Roman"/>
                <a:ea typeface="ＭＳ Ｐゴシック"/>
              </a:rPr>
              <a:t>n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+3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imes New Roman"/>
                <a:ea typeface="ＭＳ Ｐゴシック"/>
              </a:rPr>
              <a:t>r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=2,135,892.58, Error=14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9173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3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47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3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47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68580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103680" indent="-39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5984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22392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8800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8800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8800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4920" y="6324120"/>
            <a:ext cx="6629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cc00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CERN-SPS-WA98                                                                        Susumu</a:t>
            </a: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　</a:t>
            </a: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S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00200" y="533520"/>
            <a:ext cx="6172200" cy="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324480"/>
            <a:ext cx="6324480" cy="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0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00200" y="17524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28280" y="304920"/>
            <a:ext cx="60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Century"/>
              </a:rPr>
              <a:t>Study of </a:t>
            </a:r>
            <a:r>
              <a:rPr b="1" lang="en-US" sz="12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 baseline="30000">
                <a:solidFill>
                  <a:srgbClr val="00cc00"/>
                </a:solidFill>
                <a:latin typeface="Century"/>
              </a:rPr>
              <a:t>++</a:t>
            </a:r>
            <a:r>
              <a:rPr b="1" lang="en-US" sz="1200" spc="-1" strike="noStrike">
                <a:solidFill>
                  <a:srgbClr val="00cc00"/>
                </a:solidFill>
                <a:latin typeface="Century"/>
              </a:rPr>
              <a:t> Resonance Abundance in 158 AGeV Pb + Pb Collisions at CERN-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60680" y="281952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sumu 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352680"/>
            <a:ext cx="66294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1) 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~ Relativistic heavy ion collision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2) Thesis motiv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surement ~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3) Experimental set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WA98 at CERN-SPS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4)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corrections and errors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5) Experimental 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spectra &amp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6) Discu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low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ment of inclusi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um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752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y of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Resonance Abundance in 158 AGeV Pb + Pb Collisions at CERN-SP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thors Contribut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94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373040"/>
            <a:ext cx="71625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sig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experimental det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of-Flight (TOF)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al alignment of chambers in magnetic spect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est, installation, and operation of det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F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er tube tracking (STD)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ming of control and reconstruc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V control for T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ine monitoring for TOF, S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mentum 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on and proton single spectr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ield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232) reson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+ </a:t>
            </a:r>
            <a:r>
              <a:rPr b="1" lang="zh-CN" sz="3200" spc="-1" strike="noStrike" baseline="30000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onan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66760" y="1146240"/>
            <a:ext cx="7048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Lowest resonance of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nuc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~ 1232MeV (in Breit-Wigner functi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~ 1.8 fm; 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~111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ospin3/2,  Spin 3/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ecay into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pion and pro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with &gt;99% branch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4840" y="3424320"/>
            <a:ext cx="380880" cy="457200"/>
          </a:xfrm>
          <a:prstGeom prst="ellipse">
            <a:avLst/>
          </a:prstGeom>
          <a:solidFill>
            <a:srgbClr val="e7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3424320"/>
            <a:ext cx="381240" cy="457200"/>
          </a:xfrm>
          <a:prstGeom prst="ellipse">
            <a:avLst/>
          </a:prstGeom>
          <a:solidFill>
            <a:srgbClr val="e7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14640" y="3352680"/>
          <a:ext cx="2403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3352680"/>
                    <a:ext cx="2403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724120" y="3962520"/>
          <a:ext cx="2305080" cy="19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3962520"/>
                    <a:ext cx="2305080" cy="1939680"/>
                  </a:xfrm>
                  <a:prstGeom prst="rect">
                    <a:avLst/>
                  </a:prstGeom>
                  <a:ln w="9360">
                    <a:solidFill>
                      <a:srgbClr val="d5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66760" y="5867280"/>
            <a:ext cx="66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on gives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e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524560" y="3524400"/>
            <a:ext cx="2819160" cy="2311200"/>
            <a:chOff x="5524560" y="3524400"/>
            <a:chExt cx="2819160" cy="2311200"/>
          </a:xfrm>
        </p:grpSpPr>
        <p:pic>
          <p:nvPicPr>
            <p:cNvPr id="175" name="decay_kinematics_c" descr=""/>
            <p:cNvPicPr/>
            <p:nvPr/>
          </p:nvPicPr>
          <p:blipFill>
            <a:blip r:embed="rId5"/>
            <a:stretch/>
          </p:blipFill>
          <p:spPr>
            <a:xfrm>
              <a:off x="5670360" y="3679920"/>
              <a:ext cx="26672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24560" y="5558040"/>
              <a:ext cx="281916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94400" y="3603600"/>
              <a:ext cx="30456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6680" y="3524400"/>
              <a:ext cx="2514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998120" y="5356080"/>
            <a:ext cx="333000" cy="45972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5080" y="3527280"/>
            <a:ext cx="1579680" cy="39888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23160" y="547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8240" y="5486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788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96200" y="535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1880" y="4594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43560" y="3984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407360" y="3886200"/>
            <a:ext cx="564480" cy="459720"/>
            <a:chOff x="7407360" y="3886200"/>
            <a:chExt cx="564480" cy="459720"/>
          </a:xfrm>
        </p:grpSpPr>
        <p:sp>
          <p:nvSpPr>
            <p:cNvPr id="188" name=""/>
            <p:cNvSpPr/>
            <p:nvPr/>
          </p:nvSpPr>
          <p:spPr>
            <a:xfrm>
              <a:off x="7445880" y="4003560"/>
              <a:ext cx="498240" cy="304920"/>
            </a:xfrm>
            <a:prstGeom prst="ellipse">
              <a:avLst/>
            </a:prstGeom>
            <a:solidFill>
              <a:srgbClr val="ffeb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07360" y="38862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443720" y="4378320"/>
            <a:ext cx="513000" cy="304920"/>
          </a:xfrm>
          <a:prstGeom prst="ellipse">
            <a:avLst/>
          </a:prstGeom>
          <a:solidFill>
            <a:srgbClr val="ebfffa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25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40480" y="4842000"/>
            <a:ext cx="579600" cy="304560"/>
          </a:xfrm>
          <a:prstGeom prst="ellipse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00240" y="47242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51600" y="4267080"/>
            <a:ext cx="0" cy="99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143000" y="685800"/>
            <a:ext cx="7238880" cy="4091040"/>
            <a:chOff x="1143000" y="685800"/>
            <a:chExt cx="7238880" cy="4091040"/>
          </a:xfrm>
        </p:grpSpPr>
        <p:pic>
          <p:nvPicPr>
            <p:cNvPr id="196" name="wa98_birdview" descr=""/>
            <p:cNvPicPr/>
            <p:nvPr/>
          </p:nvPicPr>
          <p:blipFill>
            <a:blip r:embed="rId1"/>
            <a:stretch/>
          </p:blipFill>
          <p:spPr>
            <a:xfrm>
              <a:off x="1143000" y="685800"/>
              <a:ext cx="6400800" cy="40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19800000">
              <a:off x="2057040" y="1888920"/>
              <a:ext cx="14479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1281240"/>
              <a:ext cx="25905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5000" y="1447920"/>
              <a:ext cx="1752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1981440"/>
              <a:ext cx="1981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0" y="1219320"/>
              <a:ext cx="2514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3720" y="3657600"/>
              <a:ext cx="16002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1219320"/>
              <a:ext cx="6858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800000">
              <a:off x="5022360" y="2528640"/>
              <a:ext cx="908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700000">
              <a:off x="3524040" y="313200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057400"/>
              <a:ext cx="180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AD Cha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52480" y="3353040"/>
              <a:ext cx="838440" cy="457200"/>
            </a:xfrm>
            <a:prstGeom prst="line">
              <a:avLst/>
            </a:prstGeom>
            <a:ln w="114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3733920"/>
              <a:ext cx="205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08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b:158AG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9320" y="2514600"/>
              <a:ext cx="1143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ag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19320" y="2971800"/>
              <a:ext cx="76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tar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1143000"/>
              <a:ext cx="2514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OF (Stop coun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1600200"/>
              <a:ext cx="2514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treamer  Tube D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6880" y="3276720"/>
              <a:ext cx="838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666520" y="2286000"/>
              <a:ext cx="3812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666880" y="2285640"/>
              <a:ext cx="5335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276720" y="198108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276360" y="1904760"/>
              <a:ext cx="1522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1067040"/>
              <a:ext cx="2286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LEDA(EM.Cal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029200" y="1295640"/>
              <a:ext cx="1066680" cy="45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38680" y="1752840"/>
              <a:ext cx="4572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733920"/>
              <a:ext cx="2133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P.ball, SP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5880" y="251460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P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1584360"/>
              <a:ext cx="2286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ZDC(Had.Cal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2286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MIRAC(Had.Cal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2210040"/>
              <a:ext cx="83844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52680" y="2514240"/>
              <a:ext cx="22860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0040000">
              <a:off x="4413240" y="2934000"/>
              <a:ext cx="13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21.5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1480" y="2362320"/>
              <a:ext cx="1526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13716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438280" y="3504960"/>
              <a:ext cx="7632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505320" y="1371240"/>
              <a:ext cx="38088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209680" y="2743200"/>
              <a:ext cx="609840" cy="76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1905120" y="3200400"/>
              <a:ext cx="45720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2057400"/>
              <a:ext cx="609480" cy="152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720" y="373392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rg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08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b: 0.239mg/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6248520" cy="1752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acterize Fireball from various aspec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Hadron] momentum + PID; w/Mag. Spectr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[Photon] E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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w/EM.Cal.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[Hadron] global E</a:t>
            </a:r>
            <a:r>
              <a:rPr b="1" lang="en-US" sz="2000" spc="-1" strike="noStrike" baseline="-10000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 E</a:t>
            </a:r>
            <a:r>
              <a:rPr b="1" lang="en-US" sz="2000" spc="-1" strike="noStrike" baseline="-10000">
                <a:solidFill>
                  <a:srgbClr val="0099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w/Had.Cal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[Photon] mult. distr.; w/PMD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[Charged particle] mult. distr.; w/SPMD, P.bal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599840" y="574560"/>
            <a:ext cx="617220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98 experimental setup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920" y="571500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gnetic spectrometer is in good oper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9" name="mom_resolutioｎ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33720" y="3886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1%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at 2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8006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     1    2     3     4     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3120" y="44956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4290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635040" y="1422000"/>
            <a:ext cx="1068480" cy="5101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/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2860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962520"/>
            <a:ext cx="838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19520"/>
            <a:ext cx="838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res_start" descr=""/>
          <p:cNvPicPr/>
          <p:nvPr/>
        </p:nvPicPr>
        <p:blipFill>
          <a:blip r:embed="rId2"/>
          <a:stretch/>
        </p:blipFill>
        <p:spPr>
          <a:xfrm>
            <a:off x="5257800" y="990720"/>
            <a:ext cx="2647800" cy="2133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411160" y="28195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84680" y="283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40320" y="2819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2300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3064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85280" y="1136520"/>
            <a:ext cx="400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1219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520" y="1143000"/>
            <a:ext cx="11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3244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tector resolutions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T</a:t>
            </a:r>
            <a:r>
              <a:rPr b="1" lang="en-US" sz="3200" spc="-1" strike="noStrike" baseline="-10000">
                <a:solidFill>
                  <a:srgbClr val="3333cc"/>
                </a:solidFill>
                <a:latin typeface="Times New Roman"/>
              </a:rPr>
              <a:t>star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T</a:t>
            </a:r>
            <a:r>
              <a:rPr b="1" lang="en-US" sz="3200" spc="-1" strike="noStrike" baseline="-10000">
                <a:solidFill>
                  <a:srgbClr val="3333cc"/>
                </a:solidFill>
                <a:latin typeface="Times New Roman"/>
              </a:rPr>
              <a:t>to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58" name="res_stop" descr=""/>
          <p:cNvPicPr/>
          <p:nvPr/>
        </p:nvPicPr>
        <p:blipFill>
          <a:blip r:embed="rId3"/>
          <a:stretch/>
        </p:blipFill>
        <p:spPr>
          <a:xfrm>
            <a:off x="5181480" y="3114720"/>
            <a:ext cx="2592360" cy="2219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38600" y="4867200"/>
            <a:ext cx="136800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55560" y="2438280"/>
            <a:ext cx="887760" cy="3682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 baseline="-5000">
                <a:solidFill>
                  <a:srgbClr val="000000"/>
                </a:solidFill>
                <a:latin typeface="Times New Roman"/>
              </a:rPr>
              <a:t>dif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29360" y="4572000"/>
            <a:ext cx="889200" cy="3682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5000">
                <a:solidFill>
                  <a:srgbClr val="000000"/>
                </a:solidFill>
                <a:latin typeface="Times New Roman"/>
              </a:rPr>
              <a:t>t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85280" y="2989440"/>
            <a:ext cx="400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23000" y="3352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4680" y="411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8560" y="50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7360" y="5029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1160" y="504360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-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3276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5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3120" y="33526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22000" y="1339920"/>
            <a:ext cx="3053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1800" spc="-1" strike="noStrike" baseline="-5000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~1.3mm,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1800" spc="-1" strike="noStrike" baseline="-5000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~2.1mm (PAD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b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1800" spc="-1" strike="noStrike" baseline="-5000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~2.6mm,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1800" spc="-1" strike="noStrike" baseline="-5000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~7.0mm(STD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d_c_pos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2933640" cy="259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716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ear Particle Identification by ToF method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81080" y="4800600"/>
          <a:ext cx="2484720" cy="7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800600"/>
                    <a:ext cx="2484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mass_resolution" descr=""/>
          <p:cNvPicPr/>
          <p:nvPr/>
        </p:nvPicPr>
        <p:blipFill>
          <a:blip r:embed="rId4"/>
          <a:stretch/>
        </p:blipFill>
        <p:spPr>
          <a:xfrm>
            <a:off x="5105520" y="1371600"/>
            <a:ext cx="3016080" cy="3886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715000" y="23335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0.02 (GeV/c</a:t>
            </a:r>
            <a:r>
              <a:rPr b="1" lang="ja-JP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ja-JP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t 2GeV/c for 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3640" y="4648320"/>
            <a:ext cx="788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33526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49528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6000" y="49528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0384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3480" y="49528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9528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6880" y="495288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124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38098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0" y="4343400"/>
            <a:ext cx="2514600" cy="45972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eV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/c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51200" y="4343400"/>
            <a:ext cx="2514600" cy="1219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91640" y="4952880"/>
            <a:ext cx="136800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7936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8040" y="38862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8904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37320" y="38862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53600" y="1908360"/>
            <a:ext cx="138096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8640" y="1568520"/>
            <a:ext cx="5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5238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20720" y="2111400"/>
            <a:ext cx="5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zh-CN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5480" y="167652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1840" y="1695600"/>
            <a:ext cx="468360" cy="426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2133720"/>
            <a:ext cx="457200" cy="3808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rticle Identific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4232160" y="1811160"/>
            <a:ext cx="1603080" cy="875880"/>
          </a:xfrm>
          <a:prstGeom prst="rect">
            <a:avLst/>
          </a:prstGeom>
          <a:solidFill>
            <a:srgbClr val="e7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σ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eV/c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975280" y="4648320"/>
            <a:ext cx="1568520" cy="99036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89440" y="3657600"/>
            <a:ext cx="914400" cy="10666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124080"/>
            <a:ext cx="762120" cy="68580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5257800"/>
            <a:ext cx="533520" cy="5335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876920" y="2666880"/>
          <a:ext cx="28242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28242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9840" y="720360"/>
            <a:ext cx="6172200" cy="80316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arameterization [1]</a:t>
            </a:r>
            <a:br>
              <a:rPr sz="2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p single particle spectra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1752480"/>
            <a:ext cx="3276720" cy="8254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inema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765440" y="4343400"/>
          <a:ext cx="2666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4343400"/>
                    <a:ext cx="2666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600200" y="3200400"/>
          <a:ext cx="30160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200400"/>
                    <a:ext cx="3016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368360" y="26668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3240" y="3886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ngitud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ap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76520" y="5334120"/>
          <a:ext cx="38088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808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2054160" y="52578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Lorentz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1752480"/>
            <a:ext cx="3124440" cy="8254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orentz invari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ifferential yiel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752480"/>
            <a:ext cx="32767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1752480"/>
            <a:ext cx="3124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2600" y="48448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47920" y="5486040"/>
            <a:ext cx="632448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aroun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d-rapidity,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ere hot fireball is expected the mo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2" name="Acceptance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3733920" y="121896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21480" y="4952880"/>
            <a:ext cx="521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←y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target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0)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  y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Times New Roman"/>
              </a:rPr>
              <a:t>cm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=2.9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5.8 →)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46483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876920" y="4648320"/>
          <a:ext cx="45720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648320"/>
                    <a:ext cx="457200" cy="4032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38" name="AA_after_collison_birdview" descr=""/>
          <p:cNvPicPr/>
          <p:nvPr/>
        </p:nvPicPr>
        <p:blipFill>
          <a:blip r:embed="rId4"/>
          <a:stretch/>
        </p:blipFill>
        <p:spPr>
          <a:xfrm>
            <a:off x="5257800" y="1711440"/>
            <a:ext cx="2514600" cy="2174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1219320" y="7621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676160" y="609480"/>
            <a:ext cx="601956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ometrical Acceptan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26760" y="3267000"/>
            <a:ext cx="11318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r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180720" y="1728720"/>
            <a:ext cx="16225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-m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Data selec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adc_adc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114720" cy="3200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575520" y="1752480"/>
            <a:ext cx="52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nt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eam 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DC</a:t>
            </a:r>
            <a:r>
              <a:rPr b="1" lang="en-US" sz="2400" spc="-1" strike="noStrike" baseline="-5000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 linear region (5.7% in T</a:t>
            </a:r>
            <a:r>
              <a:rPr b="1" lang="en-US" sz="2400" spc="-1" strike="noStrike" baseline="-5000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fter-chamber-spark (0.8sec)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438280" y="2361960"/>
            <a:ext cx="1600200" cy="144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3691080"/>
            <a:ext cx="45720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52040" y="5105520"/>
            <a:ext cx="194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ja-JP" sz="2400" spc="-1" strike="noStrike" baseline="-5000">
                <a:solidFill>
                  <a:srgbClr val="000000"/>
                </a:solidFill>
                <a:latin typeface="Times New Roman"/>
              </a:rPr>
              <a:t>star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 [c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-493920" y="2905200"/>
            <a:ext cx="200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ja-JP" sz="2400" spc="-1" strike="noStrike" baseline="-5000">
                <a:solidFill>
                  <a:srgbClr val="000000"/>
                </a:solidFill>
                <a:latin typeface="Times New Roman"/>
              </a:rPr>
              <a:t>star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 [c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42400" y="3352680"/>
            <a:ext cx="50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ck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n target 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B</a:t>
            </a:r>
            <a:r>
              <a:rPr b="0" lang="en-US" sz="2400" spc="-1" strike="noStrike" baseline="-5000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n TOF2 (2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2-D pl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91360" y="4724280"/>
            <a:ext cx="26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ID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371600" y="2286000"/>
            <a:ext cx="2057040" cy="1676160"/>
            <a:chOff x="1371600" y="2286000"/>
            <a:chExt cx="2057040" cy="1676160"/>
          </a:xfrm>
        </p:grpSpPr>
        <p:pic>
          <p:nvPicPr>
            <p:cNvPr id="353" name="pi_accfac" descr=""/>
            <p:cNvPicPr/>
            <p:nvPr/>
          </p:nvPicPr>
          <p:blipFill>
            <a:blip r:embed="rId1"/>
            <a:stretch/>
          </p:blipFill>
          <p:spPr>
            <a:xfrm>
              <a:off x="1371600" y="2286000"/>
              <a:ext cx="20570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577160" y="2371680"/>
              <a:ext cx="41148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447920" y="3809880"/>
            <a:ext cx="1828440" cy="1523880"/>
            <a:chOff x="1447920" y="3809880"/>
            <a:chExt cx="1828440" cy="1523880"/>
          </a:xfrm>
        </p:grpSpPr>
        <p:pic>
          <p:nvPicPr>
            <p:cNvPr id="356" name="p_accfac" descr=""/>
            <p:cNvPicPr/>
            <p:nvPr/>
          </p:nvPicPr>
          <p:blipFill>
            <a:blip r:embed="rId2"/>
            <a:stretch/>
          </p:blipFill>
          <p:spPr>
            <a:xfrm>
              <a:off x="1447920" y="3809880"/>
              <a:ext cx="1828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630800" y="3886920"/>
              <a:ext cx="45684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762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ometrical acceptance and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fficiency correc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59" name="effmap" descr=""/>
          <p:cNvPicPr/>
          <p:nvPr/>
        </p:nvPicPr>
        <p:blipFill>
          <a:blip r:embed="rId3"/>
          <a:stretch/>
        </p:blipFill>
        <p:spPr>
          <a:xfrm>
            <a:off x="3429000" y="2209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477120" y="3657600"/>
            <a:ext cx="1295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veraged ef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1600" spc="-1" strike="noStrike" baseline="-5000">
                <a:solidFill>
                  <a:srgbClr val="000000"/>
                </a:solidFill>
                <a:latin typeface="Times New Roman"/>
              </a:rPr>
              <a:t>PAD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83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1600" spc="-1" strike="noStrike" baseline="-5000">
                <a:solidFill>
                  <a:srgbClr val="000000"/>
                </a:solidFill>
                <a:latin typeface="Times New Roman"/>
              </a:rPr>
              <a:t>PAD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80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1600" spc="-1" strike="noStrike" baseline="-5000">
                <a:solidFill>
                  <a:srgbClr val="000000"/>
                </a:solidFill>
                <a:latin typeface="Times New Roman"/>
              </a:rPr>
              <a:t>STD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1600" spc="-1" strike="noStrike" baseline="-5000">
                <a:solidFill>
                  <a:srgbClr val="000000"/>
                </a:solidFill>
                <a:latin typeface="Times New Roman"/>
              </a:rPr>
              <a:t>STD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9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371600" y="1523880"/>
          <a:ext cx="651204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1523880"/>
                    <a:ext cx="65120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 flipV="1">
            <a:off x="2362320" y="5638320"/>
            <a:ext cx="5331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1828800" y="54864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362320" y="54100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791320" y="5281560"/>
            <a:ext cx="152280" cy="609480"/>
            <a:chOff x="5791320" y="5281560"/>
            <a:chExt cx="152280" cy="609480"/>
          </a:xfrm>
        </p:grpSpPr>
        <p:sp>
          <p:nvSpPr>
            <p:cNvPr id="367" name=""/>
            <p:cNvSpPr/>
            <p:nvPr/>
          </p:nvSpPr>
          <p:spPr>
            <a:xfrm>
              <a:off x="5791320" y="5281560"/>
              <a:ext cx="1522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867280" y="543384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371600" y="2209680"/>
            <a:ext cx="1981080" cy="3733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1905120"/>
            <a:ext cx="7632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1905120"/>
            <a:ext cx="22860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209680"/>
            <a:ext cx="4267080" cy="3733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286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6560" y="3795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30800" y="2147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504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7392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55040" y="2133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8640" y="1847880"/>
            <a:ext cx="35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the Monte Carlo Simulation (GEANT3.15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943600" y="5257800"/>
            <a:ext cx="533160" cy="401040"/>
            <a:chOff x="5943600" y="5257800"/>
            <a:chExt cx="533160" cy="401040"/>
          </a:xfrm>
        </p:grpSpPr>
        <p:sp>
          <p:nvSpPr>
            <p:cNvPr id="381" name=""/>
            <p:cNvSpPr/>
            <p:nvPr/>
          </p:nvSpPr>
          <p:spPr>
            <a:xfrm>
              <a:off x="5966640" y="5257800"/>
              <a:ext cx="440280" cy="38124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3600" y="5321160"/>
              <a:ext cx="5331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5867280" y="5714640"/>
            <a:ext cx="609840" cy="176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257440" y="5562720"/>
            <a:ext cx="609480" cy="328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5527800"/>
            <a:ext cx="380880" cy="416520"/>
            <a:chOff x="6477120" y="5527800"/>
            <a:chExt cx="380880" cy="416520"/>
          </a:xfrm>
        </p:grpSpPr>
        <p:sp>
          <p:nvSpPr>
            <p:cNvPr id="386" name=""/>
            <p:cNvSpPr/>
            <p:nvPr/>
          </p:nvSpPr>
          <p:spPr>
            <a:xfrm>
              <a:off x="6502680" y="5527800"/>
              <a:ext cx="355320" cy="38088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56372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19520" y="5391000"/>
            <a:ext cx="609480" cy="400320"/>
            <a:chOff x="2819520" y="5391000"/>
            <a:chExt cx="609480" cy="400320"/>
          </a:xfrm>
        </p:grpSpPr>
        <p:sp>
          <p:nvSpPr>
            <p:cNvPr id="389" name=""/>
            <p:cNvSpPr/>
            <p:nvPr/>
          </p:nvSpPr>
          <p:spPr>
            <a:xfrm>
              <a:off x="2895480" y="5391000"/>
              <a:ext cx="439200" cy="40032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9520" y="54673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362320" y="5181480"/>
            <a:ext cx="456840" cy="381240"/>
            <a:chOff x="2362320" y="5181480"/>
            <a:chExt cx="456840" cy="381240"/>
          </a:xfrm>
        </p:grpSpPr>
        <p:sp>
          <p:nvSpPr>
            <p:cNvPr id="392" name=""/>
            <p:cNvSpPr/>
            <p:nvPr/>
          </p:nvSpPr>
          <p:spPr>
            <a:xfrm>
              <a:off x="2382120" y="5181480"/>
              <a:ext cx="377280" cy="38124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62320" y="524484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523880" y="5313240"/>
            <a:ext cx="380880" cy="401760"/>
            <a:chOff x="1523880" y="5313240"/>
            <a:chExt cx="380880" cy="401760"/>
          </a:xfrm>
        </p:grpSpPr>
        <p:sp>
          <p:nvSpPr>
            <p:cNvPr id="395" name=""/>
            <p:cNvSpPr/>
            <p:nvPr/>
          </p:nvSpPr>
          <p:spPr>
            <a:xfrm>
              <a:off x="1535040" y="5313240"/>
              <a:ext cx="293400" cy="40176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53704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76920" y="5504040"/>
            <a:ext cx="380880" cy="440280"/>
            <a:chOff x="4876920" y="5504040"/>
            <a:chExt cx="380880" cy="440280"/>
          </a:xfrm>
        </p:grpSpPr>
        <p:sp>
          <p:nvSpPr>
            <p:cNvPr id="398" name=""/>
            <p:cNvSpPr/>
            <p:nvPr/>
          </p:nvSpPr>
          <p:spPr>
            <a:xfrm>
              <a:off x="4888080" y="5504040"/>
              <a:ext cx="369720" cy="401040"/>
            </a:xfrm>
            <a:prstGeom prst="ellipse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6920" y="56372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790560"/>
            <a:ext cx="2057400" cy="609480"/>
          </a:xfrm>
          <a:prstGeom prst="rect">
            <a:avLst/>
          </a:prstGeom>
          <a:solidFill>
            <a:srgbClr val="d1ffd5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hey_hey_wa98absolute_colo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19920" cy="6019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43434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ngle spectra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529240" y="1523880"/>
          <a:ext cx="2700360" cy="3276720"/>
        </p:xfrm>
        <a:graphic>
          <a:graphicData uri="http://schemas.openxmlformats.org/drawingml/2006/table">
            <a:tbl>
              <a:tblPr/>
              <a:tblGrid>
                <a:gridCol w="874800"/>
                <a:gridCol w="987480"/>
                <a:gridCol w="838080"/>
              </a:tblGrid>
              <a:tr h="82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l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±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±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in p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5792040" y="48006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) Nucl.Phys.610(96)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5334120"/>
            <a:ext cx="1600200" cy="457200"/>
          </a:xfrm>
          <a:prstGeom prst="rect">
            <a:avLst/>
          </a:prstGeom>
          <a:solidFill>
            <a:srgbClr val="b9fdb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m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579132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52120" y="5866920"/>
            <a:ext cx="571500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sistent shapes with other experiment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172200" cy="8384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icture of Relativistic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avy Ion collis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5334120"/>
            <a:ext cx="6324480" cy="9144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To understand fireball,                                     need picture during “cooling with expansion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6" name="AA_birdview" descr=""/>
          <p:cNvPicPr/>
          <p:nvPr/>
        </p:nvPicPr>
        <p:blipFill>
          <a:blip r:embed="rId1"/>
          <a:stretch/>
        </p:blipFill>
        <p:spPr>
          <a:xfrm>
            <a:off x="1143000" y="1557360"/>
            <a:ext cx="23446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27800" y="1424160"/>
            <a:ext cx="485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[1: Before collision 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~17 at SPS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rentz contra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395440"/>
            <a:ext cx="45720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[2: During collision (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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~1fm/c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opping/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ot/dense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fireba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538440"/>
            <a:ext cx="472428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[3: After collis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thermal/chemical equilibr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→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cooling with expans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al/chemical freeze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adrons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K,p,…), e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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…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4641840"/>
            <a:ext cx="995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nvmass_example_real_c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048120" cy="33145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172200" cy="762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arameterization [2]</a:t>
            </a:r>
            <a:br>
              <a:rPr sz="24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yield by invariant mass metho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633760" y="1582560"/>
          <a:ext cx="5554440" cy="10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3760" y="1582560"/>
                    <a:ext cx="55544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344840" y="3505320"/>
          <a:ext cx="3430800" cy="168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4840" y="3505320"/>
                    <a:ext cx="3430800" cy="16840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600200" y="1447920"/>
            <a:ext cx="213840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variant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87880" y="3048120"/>
            <a:ext cx="37339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ariant mass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3520" y="5715000"/>
            <a:ext cx="632484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ould be evaluat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981080" y="5783400"/>
          <a:ext cx="2743200" cy="46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5783400"/>
                    <a:ext cx="27432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803240" y="5181480"/>
            <a:ext cx="2311560" cy="368280"/>
          </a:xfrm>
          <a:prstGeom prst="rect">
            <a:avLst/>
          </a:prstGeom>
          <a:solidFill>
            <a:srgbClr val="e1ffe3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variant mass (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nvmass_example_mixed_c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63760" cy="3336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609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xed Event techniqu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47920" y="5334120"/>
            <a:ext cx="6324480" cy="9144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binatorial background is assumed to be proportional to mixed even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325520" y="1141560"/>
          <a:ext cx="6338880" cy="7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5520" y="1141560"/>
                    <a:ext cx="63388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870440" y="4282920"/>
            <a:ext cx="287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xed ev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different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ed in 100 ever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03240" y="2454120"/>
            <a:ext cx="14821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EVENT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029200" y="30574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29200" y="3438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3819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3133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3133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029200" y="313380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029200" y="3514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029200" y="320976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36560" y="2448000"/>
            <a:ext cx="14061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EV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p       </a:t>
            </a:r>
            <a:r>
              <a:rPr b="0" lang="ja-JP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629400" y="306360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444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3825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29400" y="3139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29400" y="313992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629400" y="31395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629400" y="352116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629400" y="321588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800" y="20574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714640" y="3063960"/>
            <a:ext cx="609480" cy="75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714640" y="3063960"/>
            <a:ext cx="60948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714640" y="3063960"/>
            <a:ext cx="609480" cy="761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5714640" y="3139560"/>
            <a:ext cx="6094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714640" y="344484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714640" y="3444840"/>
            <a:ext cx="60948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714640" y="3444840"/>
            <a:ext cx="60948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14640" y="382572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29200" y="2835360"/>
            <a:ext cx="91440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43600" y="2835360"/>
            <a:ext cx="106668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600" y="2835360"/>
            <a:ext cx="106668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43600" y="2835360"/>
            <a:ext cx="114300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444840"/>
            <a:ext cx="83808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67280" y="3139920"/>
            <a:ext cx="11430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67280" y="3444480"/>
            <a:ext cx="114300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3825360"/>
            <a:ext cx="121932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3825720"/>
            <a:ext cx="99072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019920" y="3139560"/>
            <a:ext cx="99036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19920" y="3521160"/>
            <a:ext cx="99036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019920" y="3902040"/>
            <a:ext cx="990360" cy="533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876920"/>
            <a:ext cx="2311560" cy="368280"/>
          </a:xfrm>
          <a:prstGeom prst="rect">
            <a:avLst/>
          </a:prstGeom>
          <a:solidFill>
            <a:srgbClr val="e1ffe3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variant mass (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wo normalization method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47920" y="571500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Two methods should be consist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52578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relative momentum of the pair in its C.M. frame,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180M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981080" y="4267080"/>
          <a:ext cx="5867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267080"/>
                    <a:ext cx="5867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679284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4056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invm_2method" descr=""/>
          <p:cNvPicPr/>
          <p:nvPr/>
        </p:nvPicPr>
        <p:blipFill>
          <a:blip r:embed="rId3"/>
          <a:stretch/>
        </p:blipFill>
        <p:spPr>
          <a:xfrm>
            <a:off x="1066680" y="1371600"/>
            <a:ext cx="2667240" cy="28558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74" name=""/>
          <p:cNvSpPr/>
          <p:nvPr/>
        </p:nvSpPr>
        <p:spPr>
          <a:xfrm>
            <a:off x="3813480" y="1371600"/>
            <a:ext cx="1960920" cy="398880"/>
          </a:xfrm>
          <a:prstGeom prst="rect">
            <a:avLst/>
          </a:prstGeom>
          <a:solidFill>
            <a:srgbClr val="e7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99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Tai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9120" y="1828800"/>
            <a:ext cx="46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only in higher m</a:t>
            </a:r>
            <a:r>
              <a:rPr b="0" lang="en-US" sz="2400" spc="-1" strike="noStrike" baseline="-5000">
                <a:solidFill>
                  <a:srgbClr val="000000"/>
                </a:solidFill>
                <a:latin typeface="Times New Roman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51960" y="2413080"/>
            <a:ext cx="4595760" cy="703800"/>
          </a:xfrm>
          <a:prstGeom prst="rect">
            <a:avLst/>
          </a:prstGeom>
          <a:solidFill>
            <a:srgbClr val="e7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(2) Breit-Wigner + 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23200" y="3138480"/>
            <a:ext cx="3705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in any m</a:t>
            </a:r>
            <a:r>
              <a:rPr b="0" lang="en-US" sz="2400" spc="-1" strike="noStrike" baseline="-5000">
                <a:solidFill>
                  <a:srgbClr val="000000"/>
                </a:solidFill>
                <a:latin typeface="Times New Roman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ield</a:t>
            </a:r>
            <a:r>
              <a:rPr b="0" i="1" lang="en-US" sz="2400" spc="-1" strike="noStrike" baseline="-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5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ll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istic Breit-W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3800" y="3886200"/>
            <a:ext cx="21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PRL79(’97)435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59040" y="3778200"/>
            <a:ext cx="1417680" cy="139680"/>
          </a:xfrm>
          <a:prstGeom prst="rect">
            <a:avLst/>
          </a:prstGeom>
          <a:solidFill>
            <a:srgbClr val="e1ffe3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Invariant      Mass (GeV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82920" y="3005280"/>
            <a:ext cx="61920" cy="957240"/>
          </a:xfrm>
          <a:prstGeom prst="rect">
            <a:avLst/>
          </a:prstGeom>
          <a:solidFill>
            <a:srgbClr val="005800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599840" y="57150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ear yield can be extract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y tail metho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1599840" y="574560"/>
            <a:ext cx="617220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il method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295280" y="1066680"/>
            <a:ext cx="6629400" cy="4495680"/>
            <a:chOff x="1295280" y="1066680"/>
            <a:chExt cx="6629400" cy="4495680"/>
          </a:xfrm>
        </p:grpSpPr>
        <p:grpSp>
          <p:nvGrpSpPr>
            <p:cNvPr id="484" name=""/>
            <p:cNvGrpSpPr/>
            <p:nvPr/>
          </p:nvGrpSpPr>
          <p:grpSpPr>
            <a:xfrm>
              <a:off x="1295280" y="1066680"/>
              <a:ext cx="6629400" cy="4495680"/>
              <a:chOff x="1295280" y="1066680"/>
              <a:chExt cx="6629400" cy="4495680"/>
            </a:xfrm>
          </p:grpSpPr>
          <p:pic>
            <p:nvPicPr>
              <p:cNvPr id="485" name="delta_tail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066680"/>
                <a:ext cx="6248520" cy="44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295280" y="5281200"/>
                <a:ext cx="66294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791320" y="1981080"/>
              <a:ext cx="1562040" cy="776520"/>
              <a:chOff x="5791320" y="1981080"/>
              <a:chExt cx="1562040" cy="776520"/>
            </a:xfrm>
          </p:grpSpPr>
          <p:sp>
            <p:nvSpPr>
              <p:cNvPr id="488" name=""/>
              <p:cNvSpPr/>
              <p:nvPr/>
            </p:nvSpPr>
            <p:spPr>
              <a:xfrm>
                <a:off x="5791320" y="198108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29480" y="2057400"/>
                <a:ext cx="15238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7280" y="2438280"/>
                <a:ext cx="14479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937120" y="2266920"/>
                <a:ext cx="1371600" cy="2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.086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96960" y="2514600"/>
                <a:ext cx="645480" cy="2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GeV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43600" y="2057400"/>
                <a:ext cx="137160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=1.237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5610600" y="5292720"/>
            <a:ext cx="2062800" cy="337320"/>
          </a:xfrm>
          <a:prstGeom prst="rect">
            <a:avLst/>
          </a:prstGeom>
          <a:solidFill>
            <a:srgbClr val="e1ffe3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Invariant mass (G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066680" y="1066680"/>
            <a:ext cx="7162920" cy="4605480"/>
            <a:chOff x="1066680" y="1066680"/>
            <a:chExt cx="7162920" cy="4605480"/>
          </a:xfrm>
        </p:grpSpPr>
        <p:pic>
          <p:nvPicPr>
            <p:cNvPr id="496" name="delta_bwbg" descr="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647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066680" y="5367240"/>
              <a:ext cx="7162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593280"/>
            <a:ext cx="6553080" cy="39708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eit-Wigner + Background method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720" y="5800680"/>
            <a:ext cx="72388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lear yield can be extract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y B.W.+BG. metho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51800" y="5410080"/>
            <a:ext cx="2062800" cy="337320"/>
          </a:xfrm>
          <a:prstGeom prst="rect">
            <a:avLst/>
          </a:prstGeom>
          <a:solidFill>
            <a:srgbClr val="e1ffe3"/>
          </a:solidFill>
          <a:ln w="9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Invariant mass (G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752480" y="2971800"/>
            <a:ext cx="449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3)Local multiplicity (N</a:t>
            </a:r>
            <a:r>
              <a:rPr b="0" lang="ja-JP" sz="2400" spc="-1" strike="noStrike" baseline="-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on 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7472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24852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ystematic error of N</a:t>
            </a:r>
            <a:r>
              <a:rPr b="1" lang="en-US" sz="3000" spc="-1" strike="noStrike" baseline="-5000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/ ev. </a:t>
            </a:r>
            <a:br>
              <a:rPr sz="3000"/>
            </a:b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 extraction method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640080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ss dependence on extraction parameter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2362320"/>
            <a:ext cx="3353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Tail method:     </a:t>
            </a:r>
            <a:r>
              <a:rPr b="0" i="1" lang="ja-JP" sz="2400" spc="-1" strike="noStrike">
                <a:solidFill>
                  <a:srgbClr val="ff3300"/>
                </a:solidFill>
                <a:latin typeface="Times New Roman"/>
              </a:rPr>
              <a:t>0.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5000" y="152388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it-Wig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.G. method: 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0.0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8080" y="3733920"/>
            <a:ext cx="7391160" cy="1953000"/>
            <a:chOff x="838080" y="3733920"/>
            <a:chExt cx="7391160" cy="1953000"/>
          </a:xfrm>
        </p:grpSpPr>
        <p:grpSp>
          <p:nvGrpSpPr>
            <p:cNvPr id="508" name=""/>
            <p:cNvGrpSpPr/>
            <p:nvPr/>
          </p:nvGrpSpPr>
          <p:grpSpPr>
            <a:xfrm>
              <a:off x="1371240" y="3733920"/>
              <a:ext cx="6781680" cy="1716120"/>
              <a:chOff x="1371240" y="3733920"/>
              <a:chExt cx="6781680" cy="1716120"/>
            </a:xfrm>
          </p:grpSpPr>
          <p:pic>
            <p:nvPicPr>
              <p:cNvPr id="509" name="tail_Mthreshold_npi_dependence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240" y="3773520"/>
                <a:ext cx="678168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1371240" y="3733920"/>
                <a:ext cx="16765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23920" y="5221440"/>
                <a:ext cx="34290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285640" y="400212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38440" y="4040280"/>
                <a:ext cx="83808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52720" y="4032360"/>
                <a:ext cx="9907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16200000">
              <a:off x="451440" y="4336920"/>
              <a:ext cx="1122840" cy="349920"/>
            </a:xfrm>
            <a:prstGeom prst="rect">
              <a:avLst/>
            </a:prstGeom>
            <a:solidFill>
              <a:srgbClr val="e7ffeb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5000">
                  <a:solidFill>
                    <a:srgbClr val="008000"/>
                  </a:solidFill>
                  <a:latin typeface="Symbol"/>
                  <a:ea typeface="Symbol"/>
                </a:rPr>
                <a:t>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/ e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8880" y="5145120"/>
              <a:ext cx="990360" cy="541800"/>
            </a:xfrm>
            <a:prstGeom prst="rect">
              <a:avLst/>
            </a:prstGeom>
            <a:solidFill>
              <a:srgbClr val="e7ffeb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1" lang="ja-JP" sz="1800" spc="-1" strike="noStrike">
                  <a:solidFill>
                    <a:srgbClr val="008000"/>
                  </a:solidFill>
                  <a:latin typeface="Times New Roman"/>
                </a:rPr>
                <a:t>th. (G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37920" y="3857760"/>
              <a:ext cx="3049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33560" y="3860640"/>
              <a:ext cx="26676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06880" y="3860640"/>
              <a:ext cx="29376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7240" y="5164200"/>
              <a:ext cx="2229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1.4    1.5    1.6    1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27080" y="5164200"/>
              <a:ext cx="2229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1.4    1.5    1.6    1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4280" y="5164200"/>
              <a:ext cx="10767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1.4    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96720" y="4948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4080" y="438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4080" y="37735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01680" y="42670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ff3300"/>
                  </a:solidFill>
                  <a:latin typeface="Times New Roman"/>
                </a:rPr>
                <a:t>0.0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79680" y="42670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ff3300"/>
                  </a:solidFill>
                  <a:latin typeface="Times New Roman"/>
                </a:rPr>
                <a:t>0.0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45080" y="42670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ff3300"/>
                  </a:solidFill>
                  <a:latin typeface="Times New Roman"/>
                </a:rPr>
                <a:t>0.0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0360" y="39402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66480" y="39402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76160" y="39402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076800" y="1317600"/>
            <a:ext cx="1924200" cy="2574360"/>
            <a:chOff x="6076800" y="1317600"/>
            <a:chExt cx="1924200" cy="2574360"/>
          </a:xfrm>
        </p:grpSpPr>
        <p:pic>
          <p:nvPicPr>
            <p:cNvPr id="533" name="npi_poisson" descr=""/>
            <p:cNvPicPr/>
            <p:nvPr/>
          </p:nvPicPr>
          <p:blipFill>
            <a:blip r:embed="rId2"/>
            <a:stretch/>
          </p:blipFill>
          <p:spPr>
            <a:xfrm>
              <a:off x="6324480" y="1352520"/>
              <a:ext cx="1676520" cy="23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172200" y="1317600"/>
              <a:ext cx="76212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21400" y="142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521400" y="1406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6104880" y="1409760"/>
              <a:ext cx="647640" cy="703800"/>
            </a:xfrm>
            <a:prstGeom prst="rect">
              <a:avLst/>
            </a:prstGeom>
            <a:solidFill>
              <a:srgbClr val="e7ffeb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Nev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10280" y="1438200"/>
              <a:ext cx="770040" cy="9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81680" y="1447920"/>
              <a:ext cx="1002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3300"/>
                  </a:solidFill>
                  <a:latin typeface="Times New Roman"/>
                </a:rPr>
                <a:t>Pois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&lt;N</a:t>
              </a:r>
              <a:r>
                <a:rPr b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=2.6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97760" y="2124000"/>
              <a:ext cx="30456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18280" y="326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7680" y="265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7680" y="2013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77120" y="3505320"/>
              <a:ext cx="10666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04120" y="3505320"/>
              <a:ext cx="533520" cy="307080"/>
            </a:xfrm>
            <a:prstGeom prst="rect">
              <a:avLst/>
            </a:prstGeom>
            <a:solidFill>
              <a:srgbClr val="e7ffeb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944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535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34200" y="343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0" y="1066680"/>
            <a:ext cx="1143000" cy="60984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640160" y="1066680"/>
            <a:ext cx="5100120" cy="581040"/>
            <a:chOff x="1640160" y="1066680"/>
            <a:chExt cx="5100120" cy="581040"/>
          </a:xfrm>
        </p:grpSpPr>
        <p:graphicFrame>
          <p:nvGraphicFramePr>
            <p:cNvPr id="552" name=""/>
            <p:cNvGraphicFramePr/>
            <p:nvPr/>
          </p:nvGraphicFramePr>
          <p:xfrm>
            <a:off x="2286000" y="1143000"/>
            <a:ext cx="4227480" cy="50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1143000"/>
                      <a:ext cx="422748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1640160" y="1066680"/>
              <a:ext cx="51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                                                         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828800" y="2139840"/>
            <a:ext cx="762120" cy="60984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711440" y="1978200"/>
          <a:ext cx="6899040" cy="35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1978200"/>
                    <a:ext cx="68990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17220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Statistical Error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81532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jor contribution of error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 Combinatorial Back Groun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45560" y="1600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propagation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8680" y="21607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3333cc"/>
                </a:solidFill>
                <a:latin typeface="Times New Roman"/>
              </a:rPr>
              <a:t>( 50.0%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20440" y="281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 49.9%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97080" y="419112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 &lt; 0.1%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5340240" y="2133720"/>
          <a:ext cx="273708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40240" y="2133720"/>
                    <a:ext cx="2737080" cy="5331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ospin consider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ctor   from N</a:t>
            </a:r>
            <a:r>
              <a:rPr b="0" lang="en-US" sz="2400" spc="-1" strike="noStrike" baseline="-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N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to N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Times New Roman"/>
              </a:rPr>
              <a:t>nucle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N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is 2.0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78168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Yield summary tabl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19320" y="5866920"/>
            <a:ext cx="678168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 SP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delta yield is,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the first time, direct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easured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219320" y="1066680"/>
          <a:ext cx="6781680" cy="3265560"/>
        </p:xfrm>
        <a:graphic>
          <a:graphicData uri="http://schemas.openxmlformats.org/drawingml/2006/table">
            <a:tbl>
              <a:tblPr/>
              <a:tblGrid>
                <a:gridCol w="3593880"/>
                <a:gridCol w="1282680"/>
                <a:gridCol w="1905120"/>
              </a:tblGrid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and Statistical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spectrometer /ev. (ra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 / spectrometer/ev. (ra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.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proton  (ra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tr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or4cha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P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proton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trk 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PI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 baseline="-5000">
                          <a:solidFill>
                            <a:srgbClr val="000000"/>
                          </a:solidFill>
                          <a:latin typeface="Times New Roman"/>
                        </a:rPr>
                        <a:t>ge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c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ucleon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sospin correc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28 (stat.) 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219320" y="4419720"/>
          <a:ext cx="6781680" cy="1379520"/>
        </p:xfrm>
        <a:graphic>
          <a:graphicData uri="http://schemas.openxmlformats.org/drawingml/2006/table">
            <a:tbl>
              <a:tblPr/>
              <a:tblGrid>
                <a:gridCol w="4876560"/>
                <a:gridCol w="1905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tic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ertainty of Tracking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6 (sys.) 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ce in normalization 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2 (sys.) 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ce for different local multipl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08 (sys.) 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aa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447920" y="571500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population is seen at SPS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74" name="ratio_vs_benergy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114800" cy="4113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514600" y="4800600"/>
            <a:ext cx="304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85040" y="121932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B477 (2000) 37-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19520" y="1744560"/>
            <a:ext cx="1143000" cy="152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1295280"/>
            <a:ext cx="60948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785880" y="1728360"/>
            <a:ext cx="1905120" cy="119124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Δ(1232)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c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1180080" y="1487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600200"/>
            <a:ext cx="304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5120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588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88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5884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798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70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8360" y="472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81560" y="5095800"/>
            <a:ext cx="177768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 baseline="-5000">
                <a:solidFill>
                  <a:srgbClr val="3333cc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opulation ratio: Δ/ nucle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608280"/>
            <a:ext cx="266688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d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spin corr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f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705720" y="4303800"/>
          <a:ext cx="838080" cy="49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4303800"/>
                    <a:ext cx="8380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676520"/>
            <a:ext cx="1066680" cy="1828800"/>
          </a:xfrm>
          <a:prstGeom prst="rect">
            <a:avLst/>
          </a:prstGeom>
          <a:solidFill>
            <a:srgbClr val="ddf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qrt23_pp_mtscaling_pkpiPCT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410080" cy="579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90720" y="1752480"/>
          <a:ext cx="98100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9810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400800" y="5181480"/>
            <a:ext cx="1903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586728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3880" y="5829480"/>
            <a:ext cx="601992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t-scaling in proton – proton collis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066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599840" y="557280"/>
            <a:ext cx="6172200" cy="9144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ngle Particle Spectra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p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collisions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248520" y="1828800"/>
          <a:ext cx="117000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828800"/>
                    <a:ext cx="1170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15600" y="21337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cl.Phys.B100(75)2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160" y="2743200"/>
            <a:ext cx="21481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mil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p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mil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alle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cal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hey_hey_absolute_only_pi+_wa98_color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828800" y="1600200"/>
            <a:ext cx="6094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524664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1066320" y="5638680"/>
            <a:ext cx="6705720" cy="609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m</a:t>
            </a:r>
            <a:r>
              <a:rPr b="1" lang="en-US" sz="2400" spc="-1" strike="noStrike" baseline="-10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nhancement is seen 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ocal m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slope (Next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53920" y="4724280"/>
            <a:ext cx="189216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641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572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2152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7360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08440" y="2286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27160" y="335268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1676520"/>
            <a:ext cx="1441440" cy="12952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09480" y="1819440"/>
          <a:ext cx="1447920" cy="10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19440"/>
                    <a:ext cx="14479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5354280" y="1676520"/>
            <a:ext cx="5724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1981080"/>
            <a:ext cx="53316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743200"/>
            <a:ext cx="761760" cy="7621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00400" y="2362320"/>
            <a:ext cx="53352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952880" y="2819160"/>
            <a:ext cx="1676520" cy="6094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267080" y="2819160"/>
            <a:ext cx="2362320" cy="1522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2590920"/>
            <a:ext cx="2819520" cy="2286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73720" y="2622600"/>
            <a:ext cx="23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oin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03480" y="441972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7400" y="914400"/>
            <a:ext cx="380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400800" cy="609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hancement in Pb + Pb (1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08440" y="12952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0732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217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1600200"/>
            <a:ext cx="53352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200400"/>
            <a:ext cx="838080" cy="8380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24280" y="3581280"/>
            <a:ext cx="1600200" cy="15242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2133720"/>
            <a:ext cx="3200400" cy="685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791320" y="2819520"/>
            <a:ext cx="761760" cy="8380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1752480"/>
            <a:ext cx="3657600" cy="10670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os_pi_wa98_central_lslope_paw_color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600200" y="5455800"/>
            <a:ext cx="5867280" cy="79236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</a:t>
            </a:r>
            <a:r>
              <a:rPr b="0" lang="en-US" sz="3200" spc="-1" strike="noStrike" baseline="-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enhancement is seen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10000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000" spc="-1" strike="noStrike" baseline="10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ectrum in Pb + Pb collis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312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7880" y="4797360"/>
            <a:ext cx="3062880" cy="6058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of f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in 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20760" y="2480760"/>
            <a:ext cx="2451600" cy="3499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lope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4008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m</a:t>
            </a:r>
            <a:r>
              <a:rPr b="1" lang="en-US" sz="3200" spc="-1" strike="noStrike" baseline="-2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 baseline="-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hancement in Pb + Pb (2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71240" y="5715000"/>
            <a:ext cx="66294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llision is described well 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exponential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920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05120" y="752400"/>
            <a:ext cx="5029200" cy="4496040"/>
            <a:chOff x="1905120" y="752400"/>
            <a:chExt cx="5029200" cy="449604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tretch/>
          </p:blipFill>
          <p:spPr>
            <a:xfrm>
              <a:off x="1981440" y="752400"/>
              <a:ext cx="4952880" cy="44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905120" y="887400"/>
              <a:ext cx="4419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10040" y="4867200"/>
              <a:ext cx="41148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74480" y="4952880"/>
            <a:ext cx="189216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p collisions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03480" y="143820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55760" y="281952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364120" y="418140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38080" y="1295280"/>
            <a:ext cx="1301760" cy="1305000"/>
            <a:chOff x="838080" y="1295280"/>
            <a:chExt cx="1301760" cy="1305000"/>
          </a:xfrm>
        </p:grpSpPr>
        <p:sp>
          <p:nvSpPr>
            <p:cNvPr id="648" name=""/>
            <p:cNvSpPr/>
            <p:nvPr/>
          </p:nvSpPr>
          <p:spPr>
            <a:xfrm>
              <a:off x="838080" y="1304640"/>
              <a:ext cx="1295280" cy="1295640"/>
            </a:xfrm>
            <a:prstGeom prst="rect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9" name=""/>
            <p:cNvGraphicFramePr/>
            <p:nvPr/>
          </p:nvGraphicFramePr>
          <p:xfrm>
            <a:off x="914400" y="1295280"/>
            <a:ext cx="1143000" cy="1000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1295280"/>
                      <a:ext cx="114300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1" name=""/>
            <p:cNvGraphicFramePr/>
            <p:nvPr/>
          </p:nvGraphicFramePr>
          <p:xfrm>
            <a:off x="844560" y="2219040"/>
            <a:ext cx="1295280" cy="381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44560" y="2219040"/>
                      <a:ext cx="129528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3" name=""/>
          <p:cNvSpPr/>
          <p:nvPr/>
        </p:nvSpPr>
        <p:spPr>
          <a:xfrm>
            <a:off x="2457720" y="479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45200" y="4791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03880" y="4791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22800" y="4791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49240" y="273384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ting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(-x/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8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0.153±0.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.d.f=8.8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6248520" y="1295280"/>
          <a:ext cx="1752480" cy="41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1295280"/>
                    <a:ext cx="17524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630864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71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ucl.Phys.B100(’75)2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19560" y="1523880"/>
            <a:ext cx="5144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2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245640" y="167652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mid-rap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66294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Candidates of low mt enhancemen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47920" y="5791320"/>
            <a:ext cx="63244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more than one candidates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9000" y="1371600"/>
            <a:ext cx="2811240" cy="459720"/>
          </a:xfrm>
          <a:prstGeom prst="rect">
            <a:avLst/>
          </a:prstGeom>
          <a:solidFill>
            <a:srgbClr val="d3fed2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(1) Collective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4680" y="2362320"/>
            <a:ext cx="2521440" cy="45972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(2) Coulomb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70720" y="3594240"/>
            <a:ext cx="2722680" cy="459720"/>
          </a:xfrm>
          <a:prstGeom prst="rect">
            <a:avLst/>
          </a:prstGeom>
          <a:solidFill>
            <a:srgbClr val="ffeb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3) Resonance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AA_after_collison_birdview" descr=""/>
          <p:cNvPicPr/>
          <p:nvPr/>
        </p:nvPicPr>
        <p:blipFill>
          <a:blip r:embed="rId1"/>
          <a:stretch/>
        </p:blipFill>
        <p:spPr>
          <a:xfrm>
            <a:off x="0" y="2163600"/>
            <a:ext cx="2895480" cy="25066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066680" y="2666880"/>
            <a:ext cx="609840" cy="152424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8e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88680" y="2209680"/>
            <a:ext cx="453240" cy="459720"/>
            <a:chOff x="688680" y="2209680"/>
            <a:chExt cx="453240" cy="459720"/>
          </a:xfrm>
        </p:grpSpPr>
        <p:sp>
          <p:nvSpPr>
            <p:cNvPr id="672" name=""/>
            <p:cNvSpPr/>
            <p:nvPr/>
          </p:nvSpPr>
          <p:spPr>
            <a:xfrm>
              <a:off x="688680" y="2327400"/>
              <a:ext cx="381240" cy="304560"/>
            </a:xfrm>
            <a:prstGeom prst="ellipse">
              <a:avLst/>
            </a:prstGeom>
            <a:solidFill>
              <a:srgbClr val="ebfff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440" y="220968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990720" y="2666880"/>
            <a:ext cx="30456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083600" y="3581280"/>
            <a:ext cx="564480" cy="459720"/>
            <a:chOff x="1083600" y="3581280"/>
            <a:chExt cx="564480" cy="459720"/>
          </a:xfrm>
        </p:grpSpPr>
        <p:sp>
          <p:nvSpPr>
            <p:cNvPr id="676" name=""/>
            <p:cNvSpPr/>
            <p:nvPr/>
          </p:nvSpPr>
          <p:spPr>
            <a:xfrm>
              <a:off x="1152360" y="3698640"/>
              <a:ext cx="436320" cy="304920"/>
            </a:xfrm>
            <a:prstGeom prst="ellipse">
              <a:avLst/>
            </a:prstGeom>
            <a:solidFill>
              <a:srgbClr val="ffeb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83600" y="358128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3290400" y="17524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ollective radial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48360" y="28195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lsion/Attraction from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05840" y="4419720"/>
            <a:ext cx="447480" cy="459720"/>
            <a:chOff x="1905840" y="4419720"/>
            <a:chExt cx="447480" cy="459720"/>
          </a:xfrm>
        </p:grpSpPr>
        <p:sp>
          <p:nvSpPr>
            <p:cNvPr id="681" name=""/>
            <p:cNvSpPr/>
            <p:nvPr/>
          </p:nvSpPr>
          <p:spPr>
            <a:xfrm>
              <a:off x="1916280" y="4537080"/>
              <a:ext cx="436680" cy="304920"/>
            </a:xfrm>
            <a:prstGeom prst="ellipse">
              <a:avLst/>
            </a:prstGeom>
            <a:solidFill>
              <a:srgbClr val="ffeb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05840" y="441972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447920" y="4038480"/>
            <a:ext cx="3808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3880" y="411480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27560" y="413712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g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721480" y="3371760"/>
            <a:ext cx="2819160" cy="2311200"/>
            <a:chOff x="5721480" y="3371760"/>
            <a:chExt cx="2819160" cy="2311200"/>
          </a:xfrm>
        </p:grpSpPr>
        <p:pic>
          <p:nvPicPr>
            <p:cNvPr id="687" name="decay_kinematics_c" descr=""/>
            <p:cNvPicPr/>
            <p:nvPr/>
          </p:nvPicPr>
          <p:blipFill>
            <a:blip r:embed="rId2"/>
            <a:stretch/>
          </p:blipFill>
          <p:spPr>
            <a:xfrm>
              <a:off x="5867280" y="3527280"/>
              <a:ext cx="26672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5721480" y="5405400"/>
              <a:ext cx="281916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91320" y="3450960"/>
              <a:ext cx="30456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43600" y="3371760"/>
              <a:ext cx="2514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8194680" y="5203800"/>
            <a:ext cx="333000" cy="45972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42000" y="3375000"/>
            <a:ext cx="1579680" cy="39888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2008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75160" y="5334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89480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93120" y="520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08800" y="4441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40480" y="3832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7604280" y="3733920"/>
            <a:ext cx="564480" cy="459720"/>
            <a:chOff x="7604280" y="3733920"/>
            <a:chExt cx="564480" cy="459720"/>
          </a:xfrm>
        </p:grpSpPr>
        <p:sp>
          <p:nvSpPr>
            <p:cNvPr id="700" name=""/>
            <p:cNvSpPr/>
            <p:nvPr/>
          </p:nvSpPr>
          <p:spPr>
            <a:xfrm>
              <a:off x="7642800" y="3851280"/>
              <a:ext cx="498600" cy="304920"/>
            </a:xfrm>
            <a:prstGeom prst="ellipse">
              <a:avLst/>
            </a:prstGeom>
            <a:solidFill>
              <a:srgbClr val="ffeb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04280" y="373392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640640" y="4226040"/>
            <a:ext cx="512640" cy="304560"/>
          </a:xfrm>
          <a:prstGeom prst="ellipse">
            <a:avLst/>
          </a:prstGeom>
          <a:solidFill>
            <a:srgbClr val="ebfffa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21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37400" y="4689360"/>
            <a:ext cx="579600" cy="304920"/>
          </a:xfrm>
          <a:prstGeom prst="ellipse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96800" y="45720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4114800"/>
            <a:ext cx="0" cy="99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695600" y="4730760"/>
            <a:ext cx="436320" cy="459720"/>
            <a:chOff x="1695600" y="4730760"/>
            <a:chExt cx="436320" cy="459720"/>
          </a:xfrm>
        </p:grpSpPr>
        <p:sp>
          <p:nvSpPr>
            <p:cNvPr id="708" name=""/>
            <p:cNvSpPr/>
            <p:nvPr/>
          </p:nvSpPr>
          <p:spPr>
            <a:xfrm>
              <a:off x="1695600" y="4842000"/>
              <a:ext cx="436320" cy="304560"/>
            </a:xfrm>
            <a:prstGeom prst="ellipse">
              <a:avLst/>
            </a:prstGeom>
            <a:solidFill>
              <a:srgbClr val="ffeb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41680" y="4730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hydro_mt_pikp_w_expnt_axisau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2666880" y="5029200"/>
            <a:ext cx="2895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120" y="1523880"/>
            <a:ext cx="60948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315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ective motion (Thermal+expansion)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295280" y="5715000"/>
            <a:ext cx="68580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ectr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hape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ittl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ffected by Collective mo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432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92000" y="3352680"/>
            <a:ext cx="16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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28800" y="3048120"/>
            <a:ext cx="1447920" cy="1143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2666880"/>
            <a:ext cx="2666880" cy="990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1371600"/>
            <a:ext cx="2438280" cy="20566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bing well for different particle species except low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fected by collective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3960" y="121932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L80(’98)34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84000" y="4317840"/>
            <a:ext cx="1969920" cy="100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wo parti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T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7033680" y="408888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30508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33720" y="5105520"/>
            <a:ext cx="173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shed l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onential for eye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8600" y="1600200"/>
            <a:ext cx="1143000" cy="12952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87280" y="1676520"/>
          <a:ext cx="1084320" cy="123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280" y="1676520"/>
                    <a:ext cx="108432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3963960" y="5029200"/>
            <a:ext cx="1903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coulomb_effect_color" descr=""/>
          <p:cNvPicPr/>
          <p:nvPr/>
        </p:nvPicPr>
        <p:blipFill>
          <a:blip r:embed="rId1"/>
          <a:stretch/>
        </p:blipFill>
        <p:spPr>
          <a:xfrm>
            <a:off x="1228680" y="228600"/>
            <a:ext cx="54658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5978880" y="1219320"/>
            <a:ext cx="2479320" cy="4419360"/>
            <a:chOff x="5978880" y="1219320"/>
            <a:chExt cx="2479320" cy="4419360"/>
          </a:xfrm>
        </p:grpSpPr>
        <p:pic>
          <p:nvPicPr>
            <p:cNvPr id="731" name="pipiratio" descr=""/>
            <p:cNvPicPr/>
            <p:nvPr/>
          </p:nvPicPr>
          <p:blipFill>
            <a:blip r:embed="rId2"/>
            <a:stretch/>
          </p:blipFill>
          <p:spPr>
            <a:xfrm>
              <a:off x="6096240" y="1295280"/>
              <a:ext cx="22096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6324840" y="4572000"/>
              <a:ext cx="21333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61320" y="1295280"/>
              <a:ext cx="38088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53440" y="1523880"/>
              <a:ext cx="16002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24800" y="1289160"/>
              <a:ext cx="1581120" cy="685800"/>
            </a:xfrm>
            <a:prstGeom prst="rect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6" name=""/>
            <p:cNvGraphicFramePr/>
            <p:nvPr/>
          </p:nvGraphicFramePr>
          <p:xfrm>
            <a:off x="6729480" y="1219320"/>
            <a:ext cx="1519200" cy="67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29480" y="1219320"/>
                      <a:ext cx="151920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8" name=""/>
            <p:cNvSpPr/>
            <p:nvPr/>
          </p:nvSpPr>
          <p:spPr>
            <a:xfrm>
              <a:off x="6339240" y="453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920" y="45338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36120" y="45338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740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78880" y="3200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78880" y="2057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20480" y="2335320"/>
              <a:ext cx="1384560" cy="398880"/>
            </a:xfrm>
            <a:prstGeom prst="rect">
              <a:avLst/>
            </a:prstGeom>
            <a:solidFill>
              <a:srgbClr val="ffe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w/Coulom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83400" y="3657600"/>
              <a:ext cx="1317600" cy="642600"/>
            </a:xfrm>
            <a:prstGeom prst="rect">
              <a:avLst/>
            </a:prstGeom>
            <a:solidFill>
              <a:srgbClr val="efffef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Times New Roman"/>
                </a:rPr>
                <a:t>No Coulo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440" y="2806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78640" y="297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86640" y="31561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38920" y="3276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10640" y="3298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2280" y="3327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71000" y="33354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23280" y="33386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96440" y="33465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48720" y="33465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1000" y="33465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53440" y="3417840"/>
              <a:ext cx="160020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V="1">
            <a:off x="2209680" y="1676520"/>
            <a:ext cx="0" cy="3808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09680" y="1523880"/>
            <a:ext cx="0" cy="228600"/>
          </a:xfrm>
          <a:prstGeom prst="line">
            <a:avLst/>
          </a:prstGeom>
          <a:ln w="64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7520" y="1981080"/>
            <a:ext cx="1317600" cy="825480"/>
          </a:xfrm>
          <a:prstGeom prst="rect">
            <a:avLst/>
          </a:prstGeom>
          <a:solidFill>
            <a:srgbClr val="efffe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Low m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95880" y="4952880"/>
            <a:ext cx="2362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95680" y="1305000"/>
            <a:ext cx="1600200" cy="67608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495680" y="1380960"/>
          <a:ext cx="1600200" cy="5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1380960"/>
                    <a:ext cx="160020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4648320" y="548640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7720" y="5562360"/>
            <a:ext cx="762012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nhancement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en in both char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and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lomb effect appears as difference between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609480"/>
            <a:ext cx="1447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ulomb effec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3200" y="1447920"/>
            <a:ext cx="1316160" cy="459720"/>
          </a:xfrm>
          <a:prstGeom prst="rect">
            <a:avLst/>
          </a:prstGeom>
          <a:solidFill>
            <a:srgbClr val="ffe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u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952880"/>
            <a:ext cx="1903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model_comparison_large_color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762120" y="57456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09880" y="5257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5105520" y="1785960"/>
          <a:ext cx="3276360" cy="16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785960"/>
                    <a:ext cx="32763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17220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ribution of Δ Resonan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447920" y="5451120"/>
            <a:ext cx="6324480" cy="808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source” + “Δ resonance decay” i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th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low-m</a:t>
            </a:r>
            <a:r>
              <a:rPr b="0" lang="en-US" sz="2400" spc="-1" strike="noStrike" baseline="-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enhancement of π</a:t>
            </a:r>
            <a:r>
              <a:rPr b="0" lang="zh-CN" sz="2400" spc="-1" strike="noStrike" baseline="30000">
                <a:solidFill>
                  <a:srgbClr val="ff33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05520" y="1066680"/>
            <a:ext cx="3276360" cy="309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Δ( invariant mass)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factor (1+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 wit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4191120"/>
            <a:ext cx="2971800" cy="112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m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=139 Me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〉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4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29560" y="4191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33720" y="1066680"/>
            <a:ext cx="2846160" cy="398880"/>
          </a:xfrm>
          <a:prstGeom prst="rect">
            <a:avLst/>
          </a:prstGeom>
          <a:solidFill>
            <a:srgbClr val="ffeb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clude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00400" y="4952880"/>
            <a:ext cx="19051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80880" y="1371600"/>
            <a:ext cx="990360" cy="932400"/>
            <a:chOff x="380880" y="1371600"/>
            <a:chExt cx="990360" cy="932400"/>
          </a:xfrm>
        </p:grpSpPr>
        <p:sp>
          <p:nvSpPr>
            <p:cNvPr id="784" name=""/>
            <p:cNvSpPr/>
            <p:nvPr/>
          </p:nvSpPr>
          <p:spPr>
            <a:xfrm>
              <a:off x="380880" y="1371600"/>
              <a:ext cx="990360" cy="914400"/>
            </a:xfrm>
            <a:prstGeom prst="rect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56840" y="1371600"/>
            <a:ext cx="86544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6840" y="1371600"/>
                      <a:ext cx="8654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532800" y="19051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.u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172200" cy="3812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66680" y="1141560"/>
            <a:ext cx="701064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or the systematic study of hadron production in 158 A GeV Pb + Pb collision,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magnetic spectrometer with good PID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capability is constru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t 158 A GeV Pb + Pb collisions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and p inclusive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single m</a:t>
            </a:r>
            <a:r>
              <a:rPr b="0" lang="ja-JP" sz="2000" spc="-1" strike="noStrike" baseline="-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spectr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are measured.  Inverse slopes are 142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3 MeV (fitting region: mt – m &gt; 0.2 GeV) for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2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and 251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25 MeV for proton. In the pion spectrum, clear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low m</a:t>
            </a:r>
            <a:r>
              <a:rPr b="0" lang="ja-JP" sz="2000" spc="-1" strike="noStrike" baseline="-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 enhancemen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is observ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 158 AGe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Pb + P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collisions,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resonance yield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s,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for the first time, measured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directly.  Th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nucleon ratio is 0.62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0.28 (stat.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0.16 (sys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4) Spectrum shape with consideration of 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 decay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on thermal expanding fireball follows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low-m</a:t>
            </a:r>
            <a:r>
              <a:rPr b="0" lang="ja-JP" sz="2000" spc="-1" strike="noStrike" baseline="-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enhancement of π</a:t>
            </a:r>
            <a:r>
              <a:rPr b="0" lang="ja-JP" sz="2000" spc="-1" strike="noStrike" baseline="30000">
                <a:solidFill>
                  <a:srgbClr val="ff3300"/>
                </a:solidFill>
                <a:latin typeface="Times New Roman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. The additional factor is consistent with a cascade simulation that gives contribution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decay with re-scattered pro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ags_dndy_arc" descr=""/>
          <p:cNvPicPr/>
          <p:nvPr/>
        </p:nvPicPr>
        <p:blipFill>
          <a:blip r:embed="rId1"/>
          <a:stretch/>
        </p:blipFill>
        <p:spPr>
          <a:xfrm>
            <a:off x="0" y="30481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791" name="ags_mt_rqmd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2819160" cy="2268360"/>
          </a:xfrm>
          <a:prstGeom prst="rect">
            <a:avLst/>
          </a:prstGeom>
          <a:ln w="0">
            <a:noFill/>
          </a:ln>
        </p:spPr>
      </p:pic>
      <p:pic>
        <p:nvPicPr>
          <p:cNvPr id="792" name="mespid_agssps" descr=""/>
          <p:cNvPicPr/>
          <p:nvPr/>
        </p:nvPicPr>
        <p:blipFill>
          <a:blip r:embed="rId3"/>
          <a:stretch/>
        </p:blipFill>
        <p:spPr>
          <a:xfrm>
            <a:off x="1600200" y="1371600"/>
            <a:ext cx="5867280" cy="160020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990360" y="5715000"/>
            <a:ext cx="739116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SPS,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is not measure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hile AGS tells its importanc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94" name="pi_RQMD_lowmt" descr=""/>
          <p:cNvPicPr/>
          <p:nvPr/>
        </p:nvPicPr>
        <p:blipFill>
          <a:blip r:embed="rId4"/>
          <a:stretch/>
        </p:blipFill>
        <p:spPr>
          <a:xfrm>
            <a:off x="5486400" y="2819520"/>
            <a:ext cx="3048120" cy="26463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5267520" y="5410080"/>
            <a:ext cx="31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Times New Roman"/>
              </a:rPr>
              <a:t>At AG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, good description with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dec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6858000" y="4267080"/>
            <a:ext cx="53352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3152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91520" y="396252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Q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69280" y="289548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B351(95)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553080" cy="762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 AG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(not directly measured) an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asured PI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 SP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1480" y="230184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a44_pospikp_negpikp_pbpb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4800600" cy="4487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19920" y="5181480"/>
            <a:ext cx="1903320" cy="459720"/>
          </a:xfrm>
          <a:prstGeom prst="rect">
            <a:avLst/>
          </a:prstGeom>
          <a:solidFill>
            <a:srgbClr val="e7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 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586728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066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172200" cy="9144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ngle Particle Spectra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ucleus - nucleu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collisions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985000" y="1839960"/>
          <a:ext cx="1697040" cy="3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5000" y="1839960"/>
                    <a:ext cx="16970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975640" y="213372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cl.Phys.A610(96)175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2880" y="2743200"/>
            <a:ext cx="23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p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676520"/>
            <a:ext cx="5335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752480"/>
          <a:ext cx="882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752480"/>
                    <a:ext cx="882720" cy="11052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19520" y="57150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5715000"/>
            <a:ext cx="63244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ape and slope are observed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32484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wo particle HBT correl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5867280"/>
            <a:ext cx="63244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urce size as a function of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lativ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mentu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0" name="schematic_drawing_HBT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954520" cy="1923840"/>
          </a:xfrm>
          <a:prstGeom prst="rect">
            <a:avLst/>
          </a:prstGeom>
          <a:ln w="0">
            <a:noFill/>
          </a:ln>
        </p:spPr>
      </p:pic>
      <p:pic>
        <p:nvPicPr>
          <p:cNvPr id="91" name="example_HBT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22068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1219320" y="3809880"/>
          <a:ext cx="39002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9880"/>
                    <a:ext cx="39002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596240" y="10666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tum interference to measure source size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752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440" y="209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7960" y="3124080"/>
            <a:ext cx="438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tection probability of two partic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moment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9600" y="502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=6fm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particle HBT correlation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nucleus nucleus collision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5715000"/>
            <a:ext cx="670572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urce size as a function also of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mentu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3395520"/>
          <a:ext cx="44704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95520"/>
                    <a:ext cx="44704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HBT_KT_dependence" descr=""/>
          <p:cNvPicPr/>
          <p:nvPr/>
        </p:nvPicPr>
        <p:blipFill>
          <a:blip r:embed="rId3"/>
          <a:stretch/>
        </p:blipFill>
        <p:spPr>
          <a:xfrm>
            <a:off x="5410080" y="3200400"/>
            <a:ext cx="2743200" cy="2403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1600200" y="220968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00200" y="19051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124080"/>
            <a:ext cx="36576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00200" y="1676520"/>
            <a:ext cx="0" cy="175248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12408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am Direction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8720" y="1673280"/>
            <a:ext cx="7290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rection 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 rot="10800000">
          <a:off x="3417840" y="2361960"/>
          <a:ext cx="31608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0800000">
                    <a:off x="3417840" y="2361960"/>
                    <a:ext cx="316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00200" y="2273400"/>
          <a:ext cx="39384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273400"/>
                    <a:ext cx="393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flipV="1">
            <a:off x="2209680" y="1828800"/>
            <a:ext cx="2590920" cy="380880"/>
          </a:xfrm>
          <a:prstGeom prst="line">
            <a:avLst/>
          </a:prstGeom>
          <a:ln w="28440">
            <a:solidFill>
              <a:srgbClr val="00b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00200" y="205704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0" y="2209680"/>
          <a:ext cx="38088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0" y="22096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666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78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312444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144792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09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828800"/>
            <a:ext cx="2590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 rot="10800000">
          <a:off x="1828800" y="1676160"/>
          <a:ext cx="395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0800000">
                    <a:off x="1828800" y="1676160"/>
                    <a:ext cx="3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447920" y="2971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9718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50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6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9720" y="3078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.Phys.J. C2(98)6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55308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anding Fireball Model (1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676520"/>
            <a:ext cx="4343400" cy="402480"/>
          </a:xfrm>
          <a:prstGeom prst="rect">
            <a:avLst/>
          </a:prstGeom>
          <a:solidFill>
            <a:srgbClr val="ffdde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dependence of m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tra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2438280"/>
            <a:ext cx="5028840" cy="3047760"/>
            <a:chOff x="685800" y="2438280"/>
            <a:chExt cx="5028840" cy="3047760"/>
          </a:xfrm>
        </p:grpSpPr>
        <p:pic>
          <p:nvPicPr>
            <p:cNvPr id="136" name="slope_vs_mass" descr=""/>
            <p:cNvPicPr/>
            <p:nvPr/>
          </p:nvPicPr>
          <p:blipFill>
            <a:blip r:embed="rId1"/>
            <a:stretch/>
          </p:blipFill>
          <p:spPr>
            <a:xfrm>
              <a:off x="685800" y="2438280"/>
              <a:ext cx="50288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566800" y="267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0200" y="3596400"/>
              <a:ext cx="67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zh-CN" sz="1800" spc="-1" strike="noStrike" baseline="30000">
                  <a:solidFill>
                    <a:srgbClr val="3333cc"/>
                  </a:solidFill>
                  <a:latin typeface="Times New Roman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18800" y="2676600"/>
              <a:ext cx="44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1" lang="zh-CN" sz="1800" spc="-1" strike="noStrike" baseline="30000">
                  <a:solidFill>
                    <a:srgbClr val="3333cc"/>
                  </a:solidFill>
                  <a:latin typeface="Times New Roman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0280" y="34632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30348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1000" y="301356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zh-CN" sz="1800" spc="-1" strike="noStrike" baseline="30000">
                  <a:solidFill>
                    <a:srgbClr val="3333cc"/>
                  </a:solidFill>
                  <a:latin typeface="Times New Roman"/>
                </a:rPr>
                <a:t>－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55920" y="4699080"/>
              <a:ext cx="1643760" cy="11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7040" y="4699080"/>
              <a:ext cx="1740600" cy="11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5791320"/>
            <a:ext cx="563868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ively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ansion Fireba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pplicable 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7120" y="22860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A610(96)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666880"/>
            <a:ext cx="2819160" cy="26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ma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ma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〈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〉</a:t>
            </a:r>
            <a:r>
              <a:rPr b="1" lang="en-US" sz="2400" spc="-1" strike="noStrike" baseline="46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181480"/>
            <a:ext cx="2590560" cy="45972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(GeV/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-63720" y="3651480"/>
            <a:ext cx="1654560" cy="459720"/>
          </a:xfrm>
          <a:prstGeom prst="rect">
            <a:avLst/>
          </a:prstGeom>
          <a:solidFill>
            <a:srgbClr val="ebfff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pe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78168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panding Fireball Model (2)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~ example of good parameterization ~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4952520"/>
            <a:ext cx="6858000" cy="12956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od explanation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th for singles and two particle correlation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 using lower m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reg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4796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hydro_mt_pikp_axisau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43000" y="1371600"/>
            <a:ext cx="4495680" cy="1194120"/>
          </a:xfrm>
          <a:prstGeom prst="rect">
            <a:avLst/>
          </a:prstGeom>
          <a:solidFill>
            <a:srgbClr val="ffdde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ingle spect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ransverse kinetic energy (m</a:t>
            </a:r>
            <a:r>
              <a:rPr b="0" lang="ja-JP" sz="2000" spc="-1" strike="noStrike" baseline="-1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PRL80(98)34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2400" y="2241720"/>
            <a:ext cx="400680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rameterizatio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fferent particle 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~139MeV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〉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~0.42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011400"/>
            <a:ext cx="609480" cy="533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403440"/>
            <a:ext cx="4495680" cy="703800"/>
          </a:xfrm>
          <a:prstGeom prst="rect">
            <a:avLst/>
          </a:prstGeom>
          <a:solidFill>
            <a:srgbClr val="ffdde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) Two particle HBT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Habilitation(’97/T.Peitzma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4680" y="4114800"/>
            <a:ext cx="4292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ost invariance fo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〉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~ 0.43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16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5791320"/>
            <a:ext cx="327672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83808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sis Motivat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080" y="1905120"/>
            <a:ext cx="88599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Measurement of particle production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 new particle spe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→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23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58 A GeV Pb + Pb central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A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asic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nderst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ingle particle spectra and HBT correl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w mt pion enhan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bserv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using the resul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men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on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ibution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ow m</a:t>
            </a:r>
            <a:r>
              <a:rPr b="0" lang="en-US" sz="2400" spc="-1" strike="noStrike" baseline="-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hancement is acquir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aim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get footing of the valid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expanding fireball mod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28:51Z</dcterms:created>
  <dc:creator>Susumu SATO</dc:creator>
  <dc:description/>
  <dc:language>en-US</dc:language>
  <cp:lastModifiedBy>Susumu SATO</cp:lastModifiedBy>
  <dcterms:modified xsi:type="dcterms:W3CDTF">2000-12-30T01:40:55Z</dcterms:modified>
  <cp:revision>606</cp:revision>
  <dc:subject/>
  <dc:title>PowerPoint プレゼンテーション</dc:title>
</cp:coreProperties>
</file>