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871075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871200" cy="68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8472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5586480" y="0"/>
            <a:ext cx="428472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222720" y="523800"/>
            <a:ext cx="3427200" cy="25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1760" y="3260880"/>
            <a:ext cx="72676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6519960"/>
            <a:ext cx="4284720" cy="3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5586480" y="6519960"/>
            <a:ext cx="4284720" cy="3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C9A6887-6BA7-496E-AF44-7AB52E7C281D}" type="slidenum"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22720" y="523800"/>
            <a:ext cx="3427200" cy="2570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01760" y="3260880"/>
            <a:ext cx="72676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I am Susumu SATO from Univ. of  Tsukuba, Jap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And I will pres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or WA9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The contents i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I will explain about th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98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In the Next,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delta+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ield measurement and its contribution to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low m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hanc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In third  I will show you th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reeze ou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measurements using high statistics of pi0 measurement using electromagnetic calo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And at last I will pres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asurement of K+ and π+ at mid-rapid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591732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59173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9000" y="59173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320" y="56386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24720" y="56386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59173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320" y="59173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24720" y="59173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685800"/>
            <a:ext cx="6172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59173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9000" y="59173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6620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9000" y="56386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591732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617220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103680" indent="-39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59840" indent="-316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223920" indent="-316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88000" indent="-31680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88000" indent="-316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88000" indent="-316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4920" y="6324120"/>
            <a:ext cx="6629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00cc00"/>
                </a:solidFill>
                <a:latin typeface="Centur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00"/>
                </a:solidFill>
                <a:latin typeface="Century"/>
              </a:rPr>
              <a:t>CERN-SPS-WA98                                                                        Susumu</a:t>
            </a:r>
            <a:r>
              <a:rPr b="1" lang="ja-JP" sz="1400" spc="-1" strike="noStrike">
                <a:solidFill>
                  <a:srgbClr val="00cc00"/>
                </a:solidFill>
                <a:latin typeface="Century"/>
              </a:rPr>
              <a:t>　</a:t>
            </a:r>
            <a:r>
              <a:rPr b="1" lang="ja-JP" sz="1400" spc="-1" strike="noStrike">
                <a:solidFill>
                  <a:srgbClr val="00cc00"/>
                </a:solidFill>
                <a:latin typeface="Century"/>
              </a:rPr>
              <a:t>S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00200" y="533520"/>
            <a:ext cx="6172200" cy="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324480"/>
            <a:ext cx="6324480" cy="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06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00200" y="17524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28280" y="304920"/>
            <a:ext cx="60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Century"/>
              </a:rPr>
              <a:t>Study of </a:t>
            </a:r>
            <a:r>
              <a:rPr b="1" lang="en-US" sz="12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 baseline="30000">
                <a:solidFill>
                  <a:srgbClr val="00cc00"/>
                </a:solidFill>
                <a:latin typeface="Century"/>
              </a:rPr>
              <a:t>++</a:t>
            </a:r>
            <a:r>
              <a:rPr b="1" lang="en-US" sz="1200" spc="-1" strike="noStrike">
                <a:solidFill>
                  <a:srgbClr val="00cc00"/>
                </a:solidFill>
                <a:latin typeface="Century"/>
              </a:rPr>
              <a:t> Resonance Abundance in 158 AGeV Pb + Pb Collisions at CERN-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60680" y="281952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sumu 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352680"/>
            <a:ext cx="6629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7528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udy of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Resonance Abundance in 158 AGeV Pb + Pb Collisions at CERN-SP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553080" cy="12193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（４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５）　熱膨張模型における</a:t>
            </a:r>
            <a:br>
              <a:rPr sz="2700"/>
            </a:b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single spectra 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評価方法の記述、及び</a:t>
            </a:r>
            <a:br>
              <a:rPr sz="2700"/>
            </a:b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陽子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spectrum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の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fit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の妥当性の検討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その１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1" lang="en-US" sz="2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→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陽子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spectrum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WA98)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について、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fitting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を行う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5" name="item4a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952880" cy="3583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0400" y="2438280"/>
            <a:ext cx="43434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8240" y="2057400"/>
            <a:ext cx="1849680" cy="82548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85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Expres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657600"/>
            <a:ext cx="91440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438280"/>
            <a:ext cx="2286000" cy="579600"/>
          </a:xfrm>
          <a:prstGeom prst="rect">
            <a:avLst/>
          </a:prstGeom>
          <a:solidFill>
            <a:srgbClr val="e1f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As a function of 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T, </a:t>
            </a:r>
            <a:r>
              <a:rPr b="0" i="1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ja-JP" sz="28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97600" y="4013280"/>
            <a:ext cx="1544760" cy="703800"/>
          </a:xfrm>
          <a:prstGeom prst="rect">
            <a:avLst/>
          </a:prstGeom>
          <a:solidFill>
            <a:srgbClr val="e1f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ur.Phys.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2(1998)6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248520" cy="8384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（１）　</a:t>
            </a: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13</a:t>
            </a: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頁の（重イオン衝突の特徴の）</a:t>
            </a:r>
            <a:br>
              <a:rPr sz="3000"/>
            </a:b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記述の修正　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5" name="item1b" descr=""/>
          <p:cNvPicPr/>
          <p:nvPr/>
        </p:nvPicPr>
        <p:blipFill>
          <a:blip r:embed="rId1"/>
          <a:stretch/>
        </p:blipFill>
        <p:spPr>
          <a:xfrm>
            <a:off x="2286000" y="2441520"/>
            <a:ext cx="655308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item1a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5943600" cy="106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1480" y="4397400"/>
            <a:ext cx="18288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39400" y="5051520"/>
            <a:ext cx="7237080" cy="1241640"/>
          </a:xfrm>
          <a:prstGeom prst="rect">
            <a:avLst/>
          </a:prstGeom>
          <a:solidFill>
            <a:srgbClr val="e1f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mong two distinctive features of 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pec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relativistic heavy ion collis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ly the form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ne is owing to the expansion of firebal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1480" y="1523880"/>
            <a:ext cx="1399680" cy="82548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11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９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~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１１行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1523880"/>
            <a:ext cx="22860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1523880"/>
            <a:ext cx="167652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3352680"/>
            <a:ext cx="4632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659480"/>
            <a:ext cx="198108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na44_pospikp_negpikp_pbpb" descr=""/>
          <p:cNvPicPr/>
          <p:nvPr/>
        </p:nvPicPr>
        <p:blipFill>
          <a:blip r:embed="rId3"/>
          <a:stretch/>
        </p:blipFill>
        <p:spPr>
          <a:xfrm>
            <a:off x="152280" y="2438280"/>
            <a:ext cx="2362320" cy="2206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4648320"/>
            <a:ext cx="1752840" cy="398880"/>
          </a:xfrm>
          <a:prstGeom prst="rect">
            <a:avLst/>
          </a:prstGeom>
          <a:solidFill>
            <a:srgbClr val="e1f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g.4: m</a:t>
            </a:r>
            <a:r>
              <a:rPr b="0" i="1" lang="en-US" sz="2000" spc="-1" strike="noStrike" baseline="-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tem2b" descr=""/>
          <p:cNvPicPr/>
          <p:nvPr/>
        </p:nvPicPr>
        <p:blipFill>
          <a:blip r:embed="rId1"/>
          <a:stretch/>
        </p:blipFill>
        <p:spPr>
          <a:xfrm>
            <a:off x="990720" y="4073400"/>
            <a:ext cx="7315200" cy="13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400800" cy="10670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（２）　運動量分解能の運動量依存</a:t>
            </a:r>
            <a:br>
              <a:rPr sz="3200"/>
            </a:b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の定性的記述の追加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5486040"/>
            <a:ext cx="7620120" cy="7621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mentum, mainly becaus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e scatterin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mentum, mainly due 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osition resolu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9" name="mom_resolutioｎ" descr=""/>
          <p:cNvPicPr/>
          <p:nvPr/>
        </p:nvPicPr>
        <p:blipFill>
          <a:blip r:embed="rId2"/>
          <a:stretch/>
        </p:blipFill>
        <p:spPr>
          <a:xfrm>
            <a:off x="1066680" y="1828800"/>
            <a:ext cx="287496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item2a" descr=""/>
          <p:cNvPicPr/>
          <p:nvPr/>
        </p:nvPicPr>
        <p:blipFill>
          <a:blip r:embed="rId3"/>
          <a:stretch/>
        </p:blipFill>
        <p:spPr>
          <a:xfrm>
            <a:off x="4114800" y="2209680"/>
            <a:ext cx="3809880" cy="287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72200" y="4535640"/>
            <a:ext cx="20574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5105520"/>
            <a:ext cx="175248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13040" y="3130560"/>
            <a:ext cx="1082880" cy="82548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45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6~9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行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6781680" cy="9907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（３）　</a:t>
            </a: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mt</a:t>
            </a: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分布の誤差に関して</a:t>
            </a:r>
            <a:br>
              <a:rPr sz="3000"/>
            </a:b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アクセプタンスの</a:t>
            </a: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y, pt</a:t>
            </a:r>
            <a:r>
              <a:rPr b="1" lang="ja-JP" sz="3000" spc="-1" strike="noStrike">
                <a:solidFill>
                  <a:srgbClr val="3333cc"/>
                </a:solidFill>
                <a:latin typeface="Times New Roman"/>
              </a:rPr>
              <a:t>相関の影響の考察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5334120"/>
            <a:ext cx="7391160" cy="914400"/>
          </a:xfrm>
          <a:prstGeom prst="rect">
            <a:avLst/>
          </a:prstGeom>
          <a:solidFill>
            <a:srgbClr val="e1f9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ile geometrical acceptance has y-pt (or mt) correlation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effect is smaller (~2.5%) in the pion mt-spectru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6" name="item3a" descr=""/>
          <p:cNvPicPr/>
          <p:nvPr/>
        </p:nvPicPr>
        <p:blipFill>
          <a:blip r:embed="rId1"/>
          <a:stretch/>
        </p:blipFill>
        <p:spPr>
          <a:xfrm>
            <a:off x="1066680" y="1692360"/>
            <a:ext cx="6782040" cy="1431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14360" y="3282840"/>
            <a:ext cx="1387800" cy="82548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77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14~17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行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514600"/>
            <a:ext cx="45720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na49_dndy_pi_posneg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504960" cy="2156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00800" y="3624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67344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334656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367020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tem4a_update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553080" cy="12193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（４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５）　熱膨張模型における</a:t>
            </a:r>
            <a:br>
              <a:rPr sz="2700"/>
            </a:b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single spectra 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評価方法の記述、及び</a:t>
            </a:r>
            <a:br>
              <a:rPr sz="2700"/>
            </a:b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陽子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spectrum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の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fit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の妥当性の検討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その１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1" lang="en-US" sz="2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571500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→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陽子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spectrum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WA98)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について、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fitting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を行う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2362320"/>
            <a:ext cx="4800600" cy="232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8240" y="2057400"/>
            <a:ext cx="1849680" cy="82548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85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Expres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0532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2362320"/>
            <a:ext cx="2209680" cy="388800"/>
          </a:xfrm>
          <a:prstGeom prst="rect">
            <a:avLst/>
          </a:prstGeom>
          <a:solidFill>
            <a:srgbClr val="e1f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3333cc"/>
                </a:solidFill>
                <a:latin typeface="Times New Roman"/>
              </a:rPr>
              <a:t>As a function of </a:t>
            </a:r>
            <a:r>
              <a:rPr b="0" i="1" lang="ja-JP" sz="1700" spc="-1" strike="noStrike">
                <a:solidFill>
                  <a:srgbClr val="3333cc"/>
                </a:solidFill>
                <a:latin typeface="Times New Roman"/>
              </a:rPr>
              <a:t>T, </a:t>
            </a:r>
            <a:r>
              <a:rPr b="0" i="1" lang="ja-JP" sz="17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ja-JP" sz="17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54800" y="3976560"/>
            <a:ext cx="1544760" cy="703800"/>
          </a:xfrm>
          <a:prstGeom prst="rect">
            <a:avLst/>
          </a:prstGeom>
          <a:solidFill>
            <a:srgbClr val="e1f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ur.Phys.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2(1998)6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705720" cy="129564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（４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５）　熱膨張模型における</a:t>
            </a:r>
            <a:br>
              <a:rPr sz="2700"/>
            </a:b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single spectra 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評価方法の記述、及び</a:t>
            </a:r>
            <a:br>
              <a:rPr sz="2700"/>
            </a:b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陽子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spectrum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の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fit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の妥当性の検討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その</a:t>
            </a:r>
            <a:r>
              <a:rPr b="1" lang="ja-JP" sz="2700" spc="-1" strike="noStrike">
                <a:solidFill>
                  <a:srgbClr val="3333cc"/>
                </a:solidFill>
                <a:latin typeface="Times New Roman"/>
              </a:rPr>
              <a:t>2)</a:t>
            </a:r>
            <a:endParaRPr b="1" lang="en-US" sz="27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5" name="proton_wa98_fit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87172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item5a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518148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item5b" descr=""/>
          <p:cNvPicPr/>
          <p:nvPr/>
        </p:nvPicPr>
        <p:blipFill>
          <a:blip r:embed="rId3"/>
          <a:stretch/>
        </p:blipFill>
        <p:spPr>
          <a:xfrm>
            <a:off x="533520" y="5257800"/>
            <a:ext cx="510516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3120" y="1981080"/>
            <a:ext cx="2297160" cy="45972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76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19~21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行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5791320"/>
            <a:ext cx="7772400" cy="4572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ja-JP" sz="2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ja-JP" sz="2200" spc="-1" strike="noStrike">
                <a:solidFill>
                  <a:srgbClr val="ff0000"/>
                </a:solidFill>
                <a:latin typeface="Times New Roman"/>
              </a:rPr>
              <a:t>143±8MeV</a:t>
            </a:r>
            <a:r>
              <a:rPr b="0" lang="ja-JP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ja-JP" sz="2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ja-JP" sz="2800" spc="-1" strike="noStrike" baseline="-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ja-JP" sz="2200" spc="-1" strike="noStrike">
                <a:solidFill>
                  <a:srgbClr val="3333cc"/>
                </a:solidFill>
                <a:latin typeface="Times New Roman"/>
              </a:rPr>
              <a:t> =</a:t>
            </a:r>
            <a:r>
              <a:rPr b="0" lang="ja-JP" sz="2200" spc="-1" strike="noStrike">
                <a:solidFill>
                  <a:srgbClr val="ff0000"/>
                </a:solidFill>
                <a:latin typeface="Times New Roman"/>
              </a:rPr>
              <a:t>0.40c±0.05c</a:t>
            </a:r>
            <a:r>
              <a:rPr b="0" lang="ja-JP" sz="2200" spc="-1" strike="noStrike">
                <a:solidFill>
                  <a:srgbClr val="3333cc"/>
                </a:solidFill>
                <a:latin typeface="Times New Roman"/>
              </a:rPr>
              <a:t>→consistent with NA44 results</a:t>
            </a:r>
            <a:endParaRPr b="0" lang="en-US" sz="2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981080"/>
            <a:ext cx="1905120" cy="45972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45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、図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2590920"/>
            <a:ext cx="83808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048120"/>
            <a:ext cx="90648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622600"/>
            <a:ext cx="1227240" cy="17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838080"/>
            <a:ext cx="5943600" cy="9907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（６）　</a:t>
            </a: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Mixed Event </a:t>
            </a: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法の</a:t>
            </a:r>
            <a:br>
              <a:rPr sz="3200"/>
            </a:b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正当性の記述の追加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4724280"/>
            <a:ext cx="6248520" cy="13716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Times New Roman"/>
              </a:rPr>
              <a:t>●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Dominated by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combinatorial background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Times New Roman"/>
              </a:rPr>
              <a:t>●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Effect of two-track separation are evaluated to be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smal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( Chamber resolution (~some mm)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&lt; Nominal track distance (~few tens cm) 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6" name="item6a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57160" y="2362320"/>
            <a:ext cx="1235160" cy="82548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55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6~12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行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733920"/>
            <a:ext cx="495324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4065480"/>
            <a:ext cx="342900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4382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763720"/>
            <a:ext cx="51814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079800"/>
            <a:ext cx="457200" cy="33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943600" cy="7621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（７）陽子、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π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中間子の</a:t>
            </a:r>
            <a:br>
              <a:rPr sz="2800"/>
            </a:br>
            <a:r>
              <a:rPr b="1" i="1" lang="ja-JP" sz="2800" spc="-1" strike="noStrike">
                <a:solidFill>
                  <a:srgbClr val="3333cc"/>
                </a:solidFill>
                <a:latin typeface="Times New Roman"/>
              </a:rPr>
              <a:t>dN/dy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の 値を追加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5562360"/>
            <a:ext cx="5867280" cy="68580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3333cc"/>
                </a:solidFill>
                <a:latin typeface="Times New Roman"/>
              </a:rPr>
              <a:t>dN</a:t>
            </a:r>
            <a:r>
              <a:rPr b="1" i="1" lang="ja-JP" sz="2400" spc="-1" strike="noStrike" baseline="-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ja-JP" sz="2400" spc="-1" strike="noStrike">
                <a:solidFill>
                  <a:srgbClr val="3333cc"/>
                </a:solidFill>
                <a:latin typeface="Times New Roman"/>
              </a:rPr>
              <a:t>/dy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25±6, dN</a:t>
            </a:r>
            <a:r>
              <a:rPr b="0" lang="ja-JP" sz="2400" spc="-1" strike="noStrike" baseline="-5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-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/dy 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138±16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　　　　　　（←</a:t>
            </a: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consistent with other experiment</a:t>
            </a: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5" name="item7a" descr=""/>
          <p:cNvPicPr/>
          <p:nvPr/>
        </p:nvPicPr>
        <p:blipFill>
          <a:blip r:embed="rId1"/>
          <a:stretch/>
        </p:blipFill>
        <p:spPr>
          <a:xfrm>
            <a:off x="2362320" y="2313000"/>
            <a:ext cx="5867280" cy="3173400"/>
          </a:xfrm>
          <a:prstGeom prst="rect">
            <a:avLst/>
          </a:prstGeom>
          <a:ln w="0">
            <a:noFill/>
          </a:ln>
        </p:spPr>
      </p:pic>
      <p:pic>
        <p:nvPicPr>
          <p:cNvPr id="116" name="item7b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6019920" cy="838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79120" y="1600200"/>
            <a:ext cx="1235160" cy="825480"/>
          </a:xfrm>
          <a:prstGeom prst="rect">
            <a:avLst/>
          </a:prstGeom>
          <a:solidFill>
            <a:srgbClr val="d1fff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70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2~18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行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5105520"/>
            <a:ext cx="198108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129528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89480" y="2514600"/>
            <a:ext cx="12589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652680"/>
            <a:ext cx="6172200" cy="6001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ff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920" y="5638680"/>
            <a:ext cx="6324480" cy="533520"/>
          </a:xfrm>
          <a:prstGeom prst="rect">
            <a:avLst/>
          </a:prstGeom>
          <a:solidFill>
            <a:srgbClr val="e7ffff"/>
          </a:solidFill>
          <a:ln w="19080">
            <a:solidFill>
              <a:srgbClr val="3333cc"/>
            </a:solidFill>
            <a:miter/>
          </a:ln>
        </p:spPr>
        <p:txBody>
          <a:bodyPr lIns="99360" rIns="99360" tIns="56160" bIns="56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28:51Z</dcterms:created>
  <dc:creator>Susumu SATO</dc:creator>
  <dc:description/>
  <dc:language>en-US</dc:language>
  <cp:lastModifiedBy>Susumu SATO</cp:lastModifiedBy>
  <dcterms:modified xsi:type="dcterms:W3CDTF">2001-01-15T06:31:40Z</dcterms:modified>
  <cp:revision>649</cp:revision>
  <dc:subject/>
  <dc:title>PowerPoint プレゼンテーション</dc:title>
</cp:coreProperties>
</file>