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359-BFB0-4614-87F6-CA9E79F6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A3F-20F6-4B4C-A992-4E5186FE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F98-B4EE-41C2-A57E-A973D2FC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38E-2DD9-4081-AF2A-47A7FD8E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830-582D-4CEF-9D1E-AA914ABC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077-7983-443D-B7FB-22E79E81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3C4-5641-4A1C-97DF-5B0ECC3B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BF9-4D49-4A9F-82C8-53E5B1DD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E01-51FA-4789-ABDD-A2973145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319-9F52-486A-9CBE-C8B92D06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308-1D6D-4ED6-9E3B-BE5664AC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8E2-5D10-44E8-93B4-6B024D5A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ECA4-F17A-4694-8B13-81B01F887C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6858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3333cc"/>
                </a:solidFill>
                <a:latin typeface="Times New Roman"/>
              </a:rPr>
              <a:t>相対論的重イオン衝突における</a:t>
            </a:r>
            <a:br>
              <a:rPr sz="3600"/>
            </a:br>
            <a:r>
              <a:rPr b="1" lang="ja-JP" sz="3600" spc="-1" strike="noStrike">
                <a:solidFill>
                  <a:srgbClr val="3333cc"/>
                </a:solidFill>
                <a:latin typeface="Times New Roman"/>
              </a:rPr>
              <a:t>楕円形集団的運動の解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8862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学群　自然学類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970362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進藤　美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39960" y="5791320"/>
            <a:ext cx="53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指導教官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三明　康郎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江角　晋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rackloc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5715000" cy="54403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5829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PHENIX</a:t>
            </a:r>
            <a:r>
              <a:rPr b="1" lang="ja-JP" sz="3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検出器につい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7086600"/>
            <a:ext cx="4724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位置検出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Acceptance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は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360°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覆ってい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39520" y="6629400"/>
            <a:ext cx="35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MB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276720" y="4648320"/>
            <a:ext cx="761760" cy="198108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4648320"/>
            <a:ext cx="457200" cy="198108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572000" y="74674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entury"/>
                <a:ea typeface="MS UI Gothic"/>
              </a:rPr>
              <a:t>Ｍｕｌｔｉｐｌｉｃｉｔ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582948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PHENIX</a:t>
            </a:r>
            <a:r>
              <a:rPr b="1" lang="ja-JP" sz="3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実験</a:t>
            </a:r>
            <a:r>
              <a:rPr b="1" lang="ja-JP" sz="3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DAT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hx_data_npc1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943600" cy="54104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V="1">
            <a:off x="1752480" y="3962160"/>
            <a:ext cx="0" cy="2895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590920" y="4266720"/>
            <a:ext cx="0" cy="2667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7162920"/>
            <a:ext cx="83844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7391520"/>
            <a:ext cx="30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3300"/>
                </a:solidFill>
                <a:latin typeface="Times New Roman"/>
              </a:rPr>
              <a:t>解析に使用した</a:t>
            </a:r>
            <a:r>
              <a:rPr b="1" i="1" lang="ja-JP" sz="2400" spc="-1" strike="noStrike">
                <a:solidFill>
                  <a:srgbClr val="ff3300"/>
                </a:solidFill>
                <a:latin typeface="Times New Roman"/>
              </a:rPr>
              <a:t>ＤＡＴ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72388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hx_flat_rcsrt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6248160" cy="41148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85800" y="1676520"/>
            <a:ext cx="54100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2e2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82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PHENIX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実験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DATA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の解析結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6560" y="1752480"/>
            <a:ext cx="51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Reaction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plane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の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Flattening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による解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6360" y="83808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0&lt;Multiplicity&lt;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45360" y="121932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PAD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　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CHAMBER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１で検出された荷電粒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03880" y="27590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523880" y="6934320"/>
                <a:ext cx="48006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Fitting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0" y="6400800"/>
            <a:ext cx="33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分解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733920" y="6248520"/>
                <a:ext cx="19000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28600" y="7315200"/>
            <a:ext cx="1066680" cy="914400"/>
          </a:xfrm>
          <a:prstGeom prst="rightArrow">
            <a:avLst>
              <a:gd name="adj1" fmla="val 52778"/>
              <a:gd name="adj2" fmla="val 3235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2600" y="7467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解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hx_2par_rm" descr=""/>
          <p:cNvPicPr/>
          <p:nvPr/>
        </p:nvPicPr>
        <p:blipFill>
          <a:blip r:embed="rId1"/>
          <a:stretch/>
        </p:blipFill>
        <p:spPr>
          <a:xfrm>
            <a:off x="76320" y="2514600"/>
            <a:ext cx="662940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85800" y="1752480"/>
            <a:ext cx="54100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2e2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228960" y="3045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PHENIX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実験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DATA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の解析結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90512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２粒子ペアの方位角差の分布による解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9840" y="83808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0&lt;Multiplicity&lt;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21320" y="121932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PAD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　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CHAMBER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１で検出された荷電粒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514600" y="6858000"/>
                <a:ext cx="1752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962520" y="7491240"/>
                <a:ext cx="274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04920" y="7550280"/>
                <a:ext cx="2352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990720" y="8153280"/>
                <a:ext cx="1752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724280" y="8177040"/>
                <a:ext cx="198144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3048120" y="81532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731520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beamv2" descr=""/>
          <p:cNvPicPr/>
          <p:nvPr/>
        </p:nvPicPr>
        <p:blipFill>
          <a:blip r:embed="rId1"/>
          <a:stretch/>
        </p:blipFill>
        <p:spPr>
          <a:xfrm>
            <a:off x="0" y="1657440"/>
            <a:ext cx="6781680" cy="51339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15520" y="818640"/>
            <a:ext cx="5751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000000"/>
                </a:solidFill>
                <a:uFillTx/>
                <a:latin typeface="Times New Roman"/>
                <a:ea typeface="MS UI Gothic"/>
              </a:rPr>
              <a:t>Beam</a:t>
            </a:r>
            <a:r>
              <a:rPr b="1" lang="ja-JP" sz="2800" spc="-1" strike="noStrike" u="sng">
                <a:solidFill>
                  <a:srgbClr val="000000"/>
                </a:solidFill>
                <a:uFillTx/>
                <a:latin typeface="Times New Roman"/>
                <a:ea typeface="MS UI Gothic"/>
              </a:rPr>
              <a:t>エネルギーと</a:t>
            </a:r>
            <a:r>
              <a:rPr b="1" lang="ja-JP" sz="2800" spc="-1" strike="noStrike" u="sng">
                <a:solidFill>
                  <a:srgbClr val="000000"/>
                </a:solidFill>
                <a:uFillTx/>
                <a:latin typeface="Times New Roman"/>
                <a:ea typeface="MS UI Gothic"/>
              </a:rPr>
              <a:t>Elliptic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6280" y="3125880"/>
            <a:ext cx="136440" cy="136440"/>
          </a:xfrm>
          <a:prstGeom prst="flowChartConnector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26280" y="3506760"/>
            <a:ext cx="136440" cy="136440"/>
          </a:xfrm>
          <a:prstGeom prst="flowChartConnector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46600" y="2822400"/>
            <a:ext cx="601920" cy="225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249960" y="3664080"/>
            <a:ext cx="150840" cy="5270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76040" y="2370240"/>
            <a:ext cx="234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66cc"/>
                </a:solidFill>
                <a:latin typeface="Times New Roman"/>
              </a:rPr>
              <a:t>Reaction</a:t>
            </a:r>
            <a:r>
              <a:rPr b="1" lang="ja-JP" sz="2000" spc="-1" strike="noStrike">
                <a:solidFill>
                  <a:srgbClr val="ff66cc"/>
                </a:solidFill>
                <a:latin typeface="Times New Roman"/>
              </a:rPr>
              <a:t>　</a:t>
            </a:r>
            <a:r>
              <a:rPr b="1" lang="ja-JP" sz="2000" spc="-1" strike="noStrike">
                <a:solidFill>
                  <a:srgbClr val="ff66cc"/>
                </a:solidFill>
                <a:latin typeface="Times New Roman"/>
              </a:rPr>
              <a:t>Plane</a:t>
            </a:r>
            <a:r>
              <a:rPr b="1" lang="ja-JP" sz="2000" spc="-1" strike="noStrike">
                <a:solidFill>
                  <a:srgbClr val="ff66cc"/>
                </a:solidFill>
                <a:latin typeface="Times New Roman"/>
              </a:rPr>
              <a:t>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66cc"/>
                </a:solidFill>
                <a:latin typeface="Times New Roman"/>
              </a:rPr>
              <a:t>Flatt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12320" y="419580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66cc"/>
                </a:solidFill>
                <a:latin typeface="Times New Roman"/>
              </a:rPr>
              <a:t>2</a:t>
            </a:r>
            <a:r>
              <a:rPr b="1" lang="ja-JP" sz="2000" spc="-1" strike="noStrike">
                <a:solidFill>
                  <a:srgbClr val="ff66cc"/>
                </a:solidFill>
                <a:latin typeface="Times New Roman"/>
              </a:rPr>
              <a:t>粒子の方位角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920" y="67564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つの解析方法の違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7391520"/>
            <a:ext cx="61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Ｒｅａｃｔｉｏｎ　ｐｌａｎｅのＦｌａｔｔｅｎｉｎｇの解析による　　の方が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２粒子の方位角差の分布からの解析から得られた　　よ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大きい値になってい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7315200"/>
                <a:ext cx="406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334120" y="7620120"/>
                <a:ext cx="4064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hx_mult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6705360" cy="45831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000000"/>
                </a:solidFill>
                <a:uFillTx/>
                <a:latin typeface="Times New Roman"/>
                <a:ea typeface="MS UI Gothic"/>
              </a:rPr>
              <a:t>Multiplicity</a:t>
            </a:r>
            <a:r>
              <a:rPr b="1" lang="ja-JP" sz="2800" spc="-1" strike="noStrike" u="sng">
                <a:solidFill>
                  <a:srgbClr val="000000"/>
                </a:solidFill>
                <a:uFillTx/>
                <a:latin typeface="Times New Roman"/>
                <a:ea typeface="MS UI Gothic"/>
              </a:rPr>
              <a:t>と</a:t>
            </a:r>
            <a:r>
              <a:rPr b="1" lang="ja-JP" sz="2800" spc="-1" strike="noStrike" u="sng">
                <a:solidFill>
                  <a:srgbClr val="000000"/>
                </a:solidFill>
                <a:uFillTx/>
                <a:latin typeface="Times New Roman"/>
                <a:ea typeface="MS UI Gothic"/>
              </a:rPr>
              <a:t>Elliptic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280" y="4267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6095880"/>
            <a:ext cx="509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両解析方法とも、Ｍｕｌｔｉｐｌｉｃｉｔｙが大きくなる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Ｅｌｌｉｐｔｉｃ　Ｆｌｏｗの大きさは小さくなってい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48006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cc"/>
                </a:solidFill>
                <a:latin typeface="MS UI Gothic"/>
                <a:ea typeface="MS UI Gothic"/>
              </a:rPr>
              <a:t>2</a:t>
            </a:r>
            <a:r>
              <a:rPr b="1" lang="ja-JP" sz="2000" spc="-1" strike="noStrike">
                <a:solidFill>
                  <a:srgbClr val="3333cc"/>
                </a:solidFill>
                <a:latin typeface="MS UI Gothic"/>
                <a:ea typeface="MS UI Gothic"/>
              </a:rPr>
              <a:t>粒子の方位角差から解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76680" y="2286000"/>
            <a:ext cx="40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cc"/>
                </a:solidFill>
                <a:latin typeface="Times New Roman"/>
                <a:ea typeface="MS UI Gothic"/>
              </a:rPr>
              <a:t>Ｒｅａｃｔｉｏｎ　ｐｌａｎｅのＦｌａｔｔｅｎｉｎ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815328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57400" y="7924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MS UI Gothic"/>
                <a:ea typeface="MS UI Gothic"/>
              </a:rPr>
              <a:t>Flow</a:t>
            </a:r>
            <a:r>
              <a:rPr b="1" lang="ja-JP" sz="2400" spc="-1" strike="noStrike">
                <a:solidFill>
                  <a:srgbClr val="ff3300"/>
                </a:solidFill>
                <a:latin typeface="MS UI Gothic"/>
                <a:ea typeface="MS UI Gothic"/>
              </a:rPr>
              <a:t>以外の効果に感度があ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8640" y="7236000"/>
            <a:ext cx="20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解析方法による違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7240" y="5410080"/>
            <a:ext cx="6800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＜１の解析法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が決まるので、粒子識別可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　なら各粒子ごとの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Elliptic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の値　　　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　得られて有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の解析法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Even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Mixing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という簡単な方法で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　の影響を取り除く事ができるため有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2895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209680"/>
            <a:ext cx="608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Flattening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による解析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粒子間の方位角差からの解析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257800" y="6019920"/>
                <a:ext cx="466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533520" y="3581280"/>
            <a:ext cx="976320" cy="533520"/>
          </a:xfrm>
          <a:prstGeom prst="rightArrow">
            <a:avLst>
              <a:gd name="adj1" fmla="val 43454"/>
              <a:gd name="adj2" fmla="val 3898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2720" y="1143000"/>
            <a:ext cx="411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cc"/>
                </a:solidFill>
                <a:latin typeface="Times New Roman"/>
              </a:rPr>
              <a:t>Simulation</a:t>
            </a:r>
            <a:r>
              <a:rPr b="1" lang="ja-JP" sz="2800" spc="-1" strike="noStrike">
                <a:solidFill>
                  <a:srgbClr val="3333cc"/>
                </a:solidFill>
                <a:latin typeface="Times New Roman"/>
              </a:rPr>
              <a:t>による</a:t>
            </a:r>
            <a:r>
              <a:rPr b="1" lang="ja-JP" sz="2800" spc="-1" strike="noStrike">
                <a:solidFill>
                  <a:srgbClr val="3333cc"/>
                </a:solidFill>
                <a:latin typeface="Times New Roman"/>
              </a:rPr>
              <a:t>Data</a:t>
            </a:r>
            <a:r>
              <a:rPr b="1" lang="ja-JP" sz="2800" spc="-1" strike="noStrike">
                <a:solidFill>
                  <a:srgbClr val="3333cc"/>
                </a:solidFill>
                <a:latin typeface="Times New Roman"/>
              </a:rPr>
              <a:t>の解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cc"/>
                </a:solidFill>
                <a:latin typeface="Times New Roman"/>
              </a:rPr>
              <a:t>PHENIX</a:t>
            </a:r>
            <a:r>
              <a:rPr b="1" lang="ja-JP" sz="2800" spc="-1" strike="noStrike">
                <a:solidFill>
                  <a:srgbClr val="3333cc"/>
                </a:solidFill>
                <a:latin typeface="Times New Roman"/>
              </a:rPr>
              <a:t>実験</a:t>
            </a:r>
            <a:r>
              <a:rPr b="1" lang="ja-JP" sz="2800" spc="-1" strike="noStrike">
                <a:solidFill>
                  <a:srgbClr val="3333cc"/>
                </a:solidFill>
                <a:latin typeface="Times New Roman"/>
              </a:rPr>
              <a:t>Data</a:t>
            </a:r>
            <a:r>
              <a:rPr b="1" lang="ja-JP" sz="2800" spc="-1" strike="noStrike">
                <a:solidFill>
                  <a:srgbClr val="3333cc"/>
                </a:solidFill>
                <a:latin typeface="Times New Roman"/>
              </a:rPr>
              <a:t>の解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96640" y="3505320"/>
            <a:ext cx="30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：両解析法とも一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実験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：両解析法に違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29120" y="441972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00"/>
                </a:solidFill>
                <a:latin typeface="Times New Roman"/>
              </a:rPr>
              <a:t>Flow</a:t>
            </a:r>
            <a:r>
              <a:rPr b="1" lang="ja-JP" sz="2800" spc="-1" strike="noStrike">
                <a:solidFill>
                  <a:srgbClr val="ff3300"/>
                </a:solidFill>
                <a:latin typeface="Times New Roman"/>
              </a:rPr>
              <a:t>以外の物理に感度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7010280"/>
            <a:ext cx="548640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5829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相対論的重イオン衝突実験とＱＧ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657440"/>
            <a:ext cx="320400" cy="62712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f6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133720"/>
            <a:ext cx="320760" cy="627120"/>
          </a:xfrm>
          <a:prstGeom prst="ellipse">
            <a:avLst/>
          </a:prstGeom>
          <a:gradFill rotWithShape="0">
            <a:gsLst>
              <a:gs pos="0">
                <a:srgbClr val="00e78a"/>
              </a:gs>
              <a:gs pos="100000">
                <a:srgbClr val="00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33160" y="2133720"/>
            <a:ext cx="1407960" cy="1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828800"/>
            <a:ext cx="485640" cy="236520"/>
          </a:xfrm>
          <a:prstGeom prst="rightArrow">
            <a:avLst>
              <a:gd name="adj1" fmla="val 50000"/>
              <a:gd name="adj2" fmla="val 51332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438280"/>
            <a:ext cx="454320" cy="204840"/>
          </a:xfrm>
          <a:prstGeom prst="leftArrow">
            <a:avLst>
              <a:gd name="adj1" fmla="val 50000"/>
              <a:gd name="adj2" fmla="val 55448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133720"/>
            <a:ext cx="479520" cy="457200"/>
          </a:xfrm>
          <a:prstGeom prst="ellipse">
            <a:avLst/>
          </a:prstGeom>
          <a:gradFill rotWithShape="0">
            <a:gsLst>
              <a:gs pos="0">
                <a:srgbClr val="2346b1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1676520"/>
            <a:ext cx="304920" cy="61272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ef8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2362320"/>
            <a:ext cx="304920" cy="685800"/>
          </a:xfrm>
          <a:prstGeom prst="ellipse">
            <a:avLst/>
          </a:prstGeom>
          <a:gradFill rotWithShape="0">
            <a:gsLst>
              <a:gs pos="0">
                <a:srgbClr val="00df85"/>
              </a:gs>
              <a:gs pos="100000">
                <a:srgbClr val="00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2303640"/>
            <a:ext cx="4791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38680" y="2133720"/>
            <a:ext cx="560520" cy="31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1752480"/>
            <a:ext cx="399960" cy="214560"/>
          </a:xfrm>
          <a:prstGeom prst="rightArrow">
            <a:avLst>
              <a:gd name="adj1" fmla="val 50000"/>
              <a:gd name="adj2" fmla="val 46602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2743200"/>
            <a:ext cx="446040" cy="228600"/>
          </a:xfrm>
          <a:prstGeom prst="leftArrow">
            <a:avLst>
              <a:gd name="adj1" fmla="val 50000"/>
              <a:gd name="adj2" fmla="val 4878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486040" y="2590920"/>
            <a:ext cx="399960" cy="287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657600"/>
            <a:ext cx="62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ビッグバン直後の宇宙創生初期状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QGP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（クオーク　グルーオンプラズマ）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が存在したと推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1905120"/>
            <a:ext cx="1905120" cy="715680"/>
          </a:xfrm>
          <a:prstGeom prst="rightArrow">
            <a:avLst>
              <a:gd name="adj1" fmla="val 50000"/>
              <a:gd name="adj2" fmla="val 66549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衝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87692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648320"/>
            <a:ext cx="61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加速器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RHIC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（２００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GeV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）で金原子核同士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相対論的重イオン衝突実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（反応中心部で２～６　　　　　　　）ＱＧＰ生成の可能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124080" y="5334120"/>
                <a:ext cx="1067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e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1436040" y="632448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9900"/>
                </a:solidFill>
                <a:latin typeface="Times New Roman"/>
              </a:rPr>
              <a:t>QGP</a:t>
            </a:r>
            <a:r>
              <a:rPr b="1" lang="ja-JP" sz="2400" spc="-1" strike="noStrike">
                <a:solidFill>
                  <a:srgbClr val="009900"/>
                </a:solidFill>
                <a:latin typeface="Times New Roman"/>
              </a:rPr>
              <a:t>生成のシグナルを検出する事を目指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2760" y="28954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反応関与部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5943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9900"/>
                </a:solidFill>
                <a:latin typeface="Times New Roman"/>
                <a:ea typeface="MS UI Gothic"/>
              </a:rPr>
              <a:t>ＰＨＥＮＩＸ実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70866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衝突後の生成ハドロン放出におけ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集団的運動（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Flow)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に対する影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486400"/>
            <a:ext cx="2895840" cy="1295280"/>
          </a:xfrm>
          <a:prstGeom prst="wedgeEllipseCallout">
            <a:avLst>
              <a:gd name="adj1" fmla="val 65513"/>
              <a:gd name="adj2" fmla="val -11643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56707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圧力勾配最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の方向に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発生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9528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エネルギー増分に対して圧力上昇は小さ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1520" y="6934320"/>
            <a:ext cx="43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3333cc"/>
                </a:solidFill>
                <a:latin typeface="Times New Roman"/>
              </a:rPr>
              <a:t>Flow</a:t>
            </a:r>
            <a:r>
              <a:rPr b="1" i="1" lang="ja-JP" sz="3200" spc="-1" strike="noStrike">
                <a:solidFill>
                  <a:srgbClr val="3333cc"/>
                </a:solidFill>
                <a:latin typeface="Times New Roman"/>
              </a:rPr>
              <a:t>の大きさが減少するので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1600" y="3100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相転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93400" y="302256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3333cc"/>
                </a:solidFill>
                <a:latin typeface="Times New Roman"/>
              </a:rPr>
              <a:t>ハドロン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72640" y="3124080"/>
            <a:ext cx="132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3333cc"/>
                </a:solidFill>
                <a:latin typeface="Times New Roman"/>
              </a:rPr>
              <a:t>QGP</a:t>
            </a:r>
            <a:r>
              <a:rPr b="1" lang="ja-JP" sz="3000" spc="-1" strike="noStrike">
                <a:solidFill>
                  <a:srgbClr val="3333cc"/>
                </a:solidFill>
                <a:latin typeface="Times New Roman"/>
              </a:rPr>
              <a:t>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95280" y="39099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潜熱にエネルギーを消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4495680"/>
            <a:ext cx="761760" cy="457200"/>
          </a:xfrm>
          <a:prstGeom prst="downArrow">
            <a:avLst>
              <a:gd name="adj1" fmla="val 38935"/>
              <a:gd name="adj2" fmla="val 52778"/>
            </a:avLst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133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00"/>
                </a:solidFill>
                <a:latin typeface="Times New Roman"/>
              </a:rPr>
              <a:t>エネルギー密度上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58294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Flow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と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QG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24120" y="2895480"/>
            <a:ext cx="1523880" cy="83844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666880"/>
            <a:ext cx="486000" cy="381240"/>
          </a:xfrm>
          <a:prstGeom prst="downArrow">
            <a:avLst>
              <a:gd name="adj1" fmla="val 50324"/>
              <a:gd name="adj2" fmla="val 475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5715000"/>
            <a:ext cx="762120" cy="838080"/>
          </a:xfrm>
          <a:prstGeom prst="downArrow">
            <a:avLst>
              <a:gd name="adj1" fmla="val 38750"/>
              <a:gd name="adj2" fmla="val 43737"/>
            </a:avLst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3429000"/>
            <a:ext cx="662940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124080"/>
            <a:ext cx="5943600" cy="53352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124080"/>
            <a:ext cx="59436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ccfe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ハドロン放出における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Elliptic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　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20574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衝突後放出されるハドロン粒子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ビーム軸に対する方位角方向の偏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52280" y="3809880"/>
                <a:ext cx="6705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）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32004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imes New Roman"/>
              </a:rPr>
              <a:t>方位角</a:t>
            </a:r>
            <a:r>
              <a:rPr b="1" lang="ja-JP" sz="2000" spc="-1" strike="noStrike">
                <a:solidFill>
                  <a:srgbClr val="ffffff"/>
                </a:solidFill>
                <a:latin typeface="Times New Roman"/>
              </a:rPr>
              <a:t>Φ</a:t>
            </a:r>
            <a:r>
              <a:rPr b="1" lang="ja-JP" sz="2000" spc="-1" strike="noStrike">
                <a:solidFill>
                  <a:srgbClr val="ffffff"/>
                </a:solidFill>
                <a:latin typeface="Times New Roman"/>
              </a:rPr>
              <a:t>方向に放出された粒子数をフーリエ展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5257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095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705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67816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629400"/>
            <a:ext cx="3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9436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472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5867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bfef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5638680"/>
            <a:ext cx="685800" cy="6098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00b2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38080" y="5486040"/>
            <a:ext cx="1905120" cy="10666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736200">
            <a:off x="1239120" y="5477400"/>
            <a:ext cx="1369080" cy="138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99" y="1334"/>
                </a:moveTo>
                <a:arcTo wR="10800" hR="10800" stAng="-3673265" swAng="2512526"/>
                <a:lnTo>
                  <a:pt x="10800" y="10800"/>
                </a:lnTo>
                <a:close/>
              </a:path>
              <a:path fill="none" w="21600" h="21600">
                <a:moveTo>
                  <a:pt x="15999" y="1334"/>
                </a:moveTo>
                <a:arcTo wR="10800" hR="10800" stAng="-3673265" swAng="2512526"/>
              </a:path>
            </a:pathLst>
          </a:custGeom>
          <a:noFill/>
          <a:ln w="223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79640" y="550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819520" y="5334120"/>
                <a:ext cx="635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 rot="19665000">
            <a:off x="1829160" y="4876560"/>
            <a:ext cx="22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action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523880" y="5943240"/>
            <a:ext cx="381240" cy="2286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0840" y="685800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Beam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軸方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22840" y="6095880"/>
            <a:ext cx="181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40120" y="6019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581280" y="5333760"/>
            <a:ext cx="2210040" cy="1447560"/>
          </a:xfrm>
          <a:prstGeom prst="line">
            <a:avLst/>
          </a:prstGeom>
          <a:ln w="3168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9563600">
            <a:off x="3784680" y="5752800"/>
            <a:ext cx="1676160" cy="685800"/>
          </a:xfrm>
          <a:prstGeom prst="ellipse">
            <a:avLst/>
          </a:prstGeom>
          <a:noFill/>
          <a:ln w="25560">
            <a:solidFill>
              <a:srgbClr val="33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584600" y="5562360"/>
            <a:ext cx="368280" cy="533160"/>
          </a:xfrm>
          <a:prstGeom prst="line">
            <a:avLst/>
          </a:prstGeom>
          <a:ln w="190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84600" y="5562360"/>
            <a:ext cx="685800" cy="533160"/>
          </a:xfrm>
          <a:prstGeom prst="line">
            <a:avLst/>
          </a:prstGeom>
          <a:ln w="190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584600" y="5943240"/>
            <a:ext cx="673200" cy="152280"/>
          </a:xfrm>
          <a:prstGeom prst="line">
            <a:avLst/>
          </a:prstGeom>
          <a:ln w="190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431960" y="5791320"/>
            <a:ext cx="152280" cy="304560"/>
          </a:xfrm>
          <a:prstGeom prst="line">
            <a:avLst/>
          </a:prstGeom>
          <a:ln w="190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962520" y="6095880"/>
            <a:ext cx="622080" cy="152640"/>
          </a:xfrm>
          <a:prstGeom prst="line">
            <a:avLst/>
          </a:prstGeom>
          <a:ln w="190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14440" y="6095880"/>
            <a:ext cx="469800" cy="533520"/>
          </a:xfrm>
          <a:prstGeom prst="line">
            <a:avLst/>
          </a:prstGeom>
          <a:ln w="19080">
            <a:solidFill>
              <a:srgbClr val="00cc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84600" y="6095880"/>
            <a:ext cx="139680" cy="381240"/>
          </a:xfrm>
          <a:prstGeom prst="line">
            <a:avLst/>
          </a:prstGeom>
          <a:ln w="190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0920" y="6934320"/>
            <a:ext cx="24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lliptic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48006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105160" y="480060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8336400">
            <a:off x="3969720" y="1739160"/>
            <a:ext cx="3282480" cy="296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50" y="237"/>
                </a:moveTo>
                <a:arcTo wR="10800" hR="10800" stAng="-4678426" swAng="3999799"/>
                <a:lnTo>
                  <a:pt x="10800" y="10800"/>
                </a:lnTo>
                <a:close/>
              </a:path>
              <a:path fill="none" w="21600" h="21600">
                <a:moveTo>
                  <a:pt x="13050" y="237"/>
                </a:moveTo>
                <a:arcTo wR="10800" hR="10800" stAng="-4678426" swAng="399979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1523880"/>
            <a:ext cx="63244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295280"/>
            <a:ext cx="1219320" cy="457200"/>
          </a:xfrm>
          <a:prstGeom prst="flowChartTerminator">
            <a:avLst/>
          </a:prstGeom>
          <a:gradFill rotWithShape="0">
            <a:gsLst>
              <a:gs pos="0">
                <a:srgbClr val="eaea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3048120"/>
            <a:ext cx="1219320" cy="457200"/>
          </a:xfrm>
          <a:prstGeom prst="flowChartTerminator">
            <a:avLst/>
          </a:prstGeom>
          <a:gradFill rotWithShape="0">
            <a:gsLst>
              <a:gs pos="0">
                <a:srgbClr val="e5e5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6705720"/>
            <a:ext cx="434340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6400800"/>
            <a:ext cx="990720" cy="380880"/>
          </a:xfrm>
          <a:prstGeom prst="downArrow">
            <a:avLst>
              <a:gd name="adj1" fmla="val 46472"/>
              <a:gd name="adj2" fmla="val 4762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5791320"/>
            <a:ext cx="434340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486400"/>
            <a:ext cx="1067040" cy="457200"/>
          </a:xfrm>
          <a:prstGeom prst="downArrow">
            <a:avLst>
              <a:gd name="adj1" fmla="val 46722"/>
              <a:gd name="adj2" fmla="val 44792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5486400"/>
            <a:ext cx="1066680" cy="457200"/>
          </a:xfrm>
          <a:prstGeom prst="downArrow">
            <a:avLst>
              <a:gd name="adj1" fmla="val 50000"/>
              <a:gd name="adj2" fmla="val 4765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419720"/>
            <a:ext cx="5639040" cy="106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58294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研究の目的と流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2840" y="1676520"/>
            <a:ext cx="451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によって　　を評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PHENIX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実験のデータから　　を解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809880" y="1523880"/>
                <a:ext cx="46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970920" y="4446720"/>
            <a:ext cx="47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atten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43520" y="4952880"/>
            <a:ext cx="38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粒子の間の方位角差分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77600" y="586728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　を評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800600" y="1905120"/>
                <a:ext cx="466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549000" y="1295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9000" y="3048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流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90920" y="5791320"/>
                <a:ext cx="46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143000" y="6781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Beam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エネルギーと　　の関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7162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Multiplicity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依存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581280"/>
            <a:ext cx="2971800" cy="990720"/>
          </a:xfrm>
          <a:prstGeom prst="downArrowCallout">
            <a:avLst>
              <a:gd name="adj1" fmla="val 74998"/>
              <a:gd name="adj2" fmla="val 74991"/>
              <a:gd name="adj3" fmla="val 16667"/>
              <a:gd name="adj4" fmla="val 6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3581280"/>
            <a:ext cx="2895840" cy="990720"/>
          </a:xfrm>
          <a:prstGeom prst="downArrowCallout">
            <a:avLst>
              <a:gd name="adj1" fmla="val 73081"/>
              <a:gd name="adj2" fmla="val 73074"/>
              <a:gd name="adj3" fmla="val 16667"/>
              <a:gd name="adj4" fmla="val 6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7920" y="373392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による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7200" y="3733920"/>
            <a:ext cx="25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PHENIX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実験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9880" y="6705720"/>
                <a:ext cx="46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hxacc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49" name="flat_c2_01_r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3416400" cy="3333960"/>
          </a:xfrm>
          <a:prstGeom prst="rect">
            <a:avLst/>
          </a:prstGeom>
          <a:ln w="0">
            <a:noFill/>
          </a:ln>
        </p:spPr>
      </p:pic>
      <p:pic>
        <p:nvPicPr>
          <p:cNvPr id="150" name="correction" descr=""/>
          <p:cNvPicPr/>
          <p:nvPr/>
        </p:nvPicPr>
        <p:blipFill>
          <a:blip r:embed="rId3"/>
          <a:stretch/>
        </p:blipFill>
        <p:spPr>
          <a:xfrm>
            <a:off x="228600" y="457200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657600" y="1330200"/>
            <a:ext cx="2971800" cy="685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6934320"/>
            <a:ext cx="2971800" cy="685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4530600"/>
            <a:ext cx="6629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2701800"/>
            <a:ext cx="1371600" cy="1371600"/>
          </a:xfrm>
          <a:prstGeom prst="downArrow">
            <a:avLst>
              <a:gd name="adj1" fmla="val 47917"/>
              <a:gd name="adj2" fmla="val 32394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8088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Reaction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plane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の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Flattening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による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25600" y="981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362320" y="430200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514600" y="3006720"/>
                <a:ext cx="674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fla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44360" y="845820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　　　　と　　　　の関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7200" y="8381880"/>
                <a:ext cx="685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ψ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371600" y="8305920"/>
                <a:ext cx="606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33920" y="1330200"/>
                <a:ext cx="2887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09880" y="6934320"/>
                <a:ext cx="26672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fla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Δψ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4056120" y="2778120"/>
            <a:ext cx="5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Times New Roman"/>
              </a:rPr>
              <a:t>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Times New Roman"/>
              </a:rPr>
              <a:t>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657600" y="4226040"/>
                <a:ext cx="32004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ψ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limLow>
                          <m:e/>
                          <m:lim>
                            <m:r>
                              <m:t xml:space="preserve">n</m:t>
                            </m:r>
                          </m:lim>
                        </m:limLow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nψ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886200" y="5257800"/>
                <a:ext cx="2514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n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al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809880" y="5978520"/>
                <a:ext cx="2667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n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al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0" y="6172200"/>
                <a:ext cx="762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ψ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228600" y="548604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981080" y="7848720"/>
                <a:ext cx="555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2666880" y="815328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45306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8985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PHENIX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検出器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PAD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　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CHAMBER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１の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Accep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648320" y="4724280"/>
                <a:ext cx="2209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nψ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62120" y="2168640"/>
                <a:ext cx="618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1219320" y="247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590560" y="346392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67720" y="20923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Times New Roman"/>
              </a:rPr>
              <a:t>本来一様な分布になるは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6600" y="3616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2666880"/>
            <a:ext cx="990360" cy="9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019920" y="2666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5790960" y="27432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6019920" y="32000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638680" y="32000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flat_rcsrt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5790960" cy="3657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62120" y="7696080"/>
            <a:ext cx="541008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52280" y="53352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Reaction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plane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の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Flattening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による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Simulation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結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838080" y="4952880"/>
                <a:ext cx="5050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581280" y="6400800"/>
                <a:ext cx="3048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Fitting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esolution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80880" y="5486400"/>
            <a:ext cx="36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の分解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600200" y="5867280"/>
                <a:ext cx="3902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flat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203200" y="1295280"/>
            <a:ext cx="24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　　　で再構成した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分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905120" y="1219320"/>
                <a:ext cx="674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fla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286000" y="6400800"/>
            <a:ext cx="1066680" cy="914400"/>
          </a:xfrm>
          <a:prstGeom prst="rightArrow">
            <a:avLst>
              <a:gd name="adj1" fmla="val 52778"/>
              <a:gd name="adj2" fmla="val 3235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438280" y="3581280"/>
                <a:ext cx="18288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fla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5410080" y="4876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72200" y="4572000"/>
                <a:ext cx="333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 flipV="1">
            <a:off x="1295280" y="26668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143000" y="1905120"/>
                <a:ext cx="422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1638720" y="198108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で再構成した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分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752480" y="2209680"/>
                <a:ext cx="333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12408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6553080"/>
                <a:ext cx="18352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2506320" y="6553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解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05880" y="77724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発生させた　　　は、解析後の値に一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38280" y="7696080"/>
                <a:ext cx="5954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09880" y="5437080"/>
            <a:ext cx="2819520" cy="1524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v101_2mix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3124080" cy="2895480"/>
          </a:xfrm>
          <a:prstGeom prst="rect">
            <a:avLst/>
          </a:prstGeom>
          <a:ln w="0">
            <a:noFill/>
          </a:ln>
        </p:spPr>
      </p:pic>
      <p:pic>
        <p:nvPicPr>
          <p:cNvPr id="209" name="v101_2rm" descr=""/>
          <p:cNvPicPr/>
          <p:nvPr/>
        </p:nvPicPr>
        <p:blipFill>
          <a:blip r:embed="rId2"/>
          <a:stretch/>
        </p:blipFill>
        <p:spPr>
          <a:xfrm>
            <a:off x="0" y="4599000"/>
            <a:ext cx="3733920" cy="3429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粒子の方位角差分布を用いる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79440" y="759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9480" y="8077320"/>
                <a:ext cx="5220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81280" y="7570800"/>
                <a:ext cx="6858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609480" y="9144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PHENIX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検出器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CHAMBER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１の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v101_2real" descr=""/>
          <p:cNvPicPr/>
          <p:nvPr/>
        </p:nvPicPr>
        <p:blipFill>
          <a:blip r:embed="rId3"/>
          <a:stretch/>
        </p:blipFill>
        <p:spPr>
          <a:xfrm>
            <a:off x="0" y="1752480"/>
            <a:ext cx="327672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902040" y="5700600"/>
                <a:ext cx="2533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62120" y="3352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al 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800" y="335268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ixed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08360" y="6221520"/>
                <a:ext cx="17924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1055880" y="708660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a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／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57200" y="3809880"/>
                <a:ext cx="2666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φ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886200" y="3809880"/>
                <a:ext cx="25909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φ</m:t>
                        </m:r>
                      </m:e>
                      <m:sup/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74680" y="1295280"/>
                <a:ext cx="11732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600200" y="1295280"/>
                <a:ext cx="1219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v2-v2plot" descr=""/>
          <p:cNvPicPr/>
          <p:nvPr/>
        </p:nvPicPr>
        <p:blipFill>
          <a:blip r:embed="rId1"/>
          <a:stretch/>
        </p:blipFill>
        <p:spPr>
          <a:xfrm>
            <a:off x="0" y="990720"/>
            <a:ext cx="6858000" cy="64926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981080" y="7467480"/>
            <a:ext cx="31244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粒子の方位角差を用いる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Simulation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の結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6934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と　　　の関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819520" y="6781680"/>
                <a:ext cx="46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828800" y="6781680"/>
                <a:ext cx="466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286000" y="7467480"/>
                <a:ext cx="2514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2168640" y="824544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　を計算すれば、　　の値が得ら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43000" y="8153280"/>
                <a:ext cx="466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505320" y="8153280"/>
                <a:ext cx="523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-18720" y="1219320"/>
            <a:ext cx="64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67816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28600" y="175212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4120" y="708660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15:22:10Z</dcterms:created>
  <dc:creator>進藤　美紀</dc:creator>
  <dc:description/>
  <dc:language>en-US</dc:language>
  <cp:lastModifiedBy>進藤　美紀</cp:lastModifiedBy>
  <dcterms:modified xsi:type="dcterms:W3CDTF">2001-02-16T17:24:03Z</dcterms:modified>
  <cp:revision>72</cp:revision>
  <dc:subject/>
  <dc:title>相対論的重イオン衝突実験における 集団的運動の解析方法の評価</dc:title>
</cp:coreProperties>
</file>