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png" ContentType="image/png"/>
  <Override PartName="/ppt/media/image31.wmf" ContentType="image/x-wmf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35.wmf" ContentType="image/x-wmf"/>
  <Override PartName="/ppt/media/image15.png" ContentType="image/png"/>
  <Override PartName="/ppt/media/image32.wmf" ContentType="image/x-wmf"/>
  <Override PartName="/ppt/media/image12.png" ContentType="image/png"/>
  <Override PartName="/ppt/media/image30.jpeg" ContentType="image/jpeg"/>
  <Override PartName="/ppt/media/image37.wmf" ContentType="image/x-wmf"/>
  <Override PartName="/ppt/media/image33.jpeg" ContentType="image/jpeg"/>
  <Override PartName="/ppt/media/image34.wmf" ContentType="image/x-wmf"/>
  <Override PartName="/ppt/media/image9.wmf" ContentType="image/x-wmf"/>
  <Override PartName="/ppt/media/image14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38.wmf" ContentType="image/x-wmf"/>
  <Override PartName="/ppt/media/image18.png" ContentType="image/png"/>
  <Override PartName="/ppt/media/image20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11.wmf" ContentType="image/x-wmf"/>
  <Override PartName="/ppt/media/image5.jpeg" ContentType="image/jpeg"/>
  <Override PartName="/ppt/media/image4.png" ContentType="image/png"/>
  <Override PartName="/ppt/media/image24.png" ContentType="image/png"/>
  <Override PartName="/ppt/media/image17.wmf" ContentType="image/x-wmf"/>
  <Override PartName="/ppt/media/image19.png" ContentType="image/png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6234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40B0-0BB0-4AAE-A4EE-3921B465F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09440"/>
            <a:ext cx="853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280" y="3902760"/>
            <a:ext cx="88394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DDF3-3BFA-4410-8E95-A3218FEC3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9440"/>
            <a:ext cx="853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280" y="3902760"/>
            <a:ext cx="4313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3902760"/>
            <a:ext cx="4313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7D10-570E-4CF3-A3B9-2973EACE6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09440"/>
            <a:ext cx="853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2846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41000" y="837720"/>
            <a:ext cx="2846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0080" y="837720"/>
            <a:ext cx="2846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280" y="3902760"/>
            <a:ext cx="2846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41000" y="3902760"/>
            <a:ext cx="2846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0080" y="3902760"/>
            <a:ext cx="2846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425C-F566-4BE8-A127-9AB52460AC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09440"/>
            <a:ext cx="853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280" y="837720"/>
            <a:ext cx="8839440" cy="58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E3A5-9B95-4B5A-938C-24984C8269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09440"/>
            <a:ext cx="853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F6AF-51A2-4B26-AD5A-B7F102670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09440"/>
            <a:ext cx="853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D12F-D482-4AD0-BDB3-61E37C58F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9440"/>
            <a:ext cx="853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53A7-6E73-45F3-AF9D-0C4901C88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171360"/>
            <a:ext cx="85341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2D56-40EA-4894-BD89-87167F121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09440"/>
            <a:ext cx="853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280" y="3902760"/>
            <a:ext cx="4313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5F665-114B-4D11-9A3A-D7A1D2394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09440"/>
            <a:ext cx="853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3902760"/>
            <a:ext cx="4313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CC7F-614A-42C2-AA9B-3F37AE53A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09440"/>
            <a:ext cx="853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280" y="3902760"/>
            <a:ext cx="88394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854D-ADE8-4CCB-AEA5-0AEACAA43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837720"/>
            <a:ext cx="88394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E727-03EE-4176-B1B7-672A9D9CE56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核子当たり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158GeV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の鉛･鉛衝突における</a:t>
            </a:r>
            <a:br>
              <a:rPr sz="3200"/>
            </a:b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π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中間子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K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中間子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陽子の一粒子包括測定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"/>
          <p:cNvSpPr/>
          <p:nvPr/>
        </p:nvSpPr>
        <p:spPr>
          <a:xfrm>
            <a:off x="4572000" y="2514600"/>
            <a:ext cx="426708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理工学研究科２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学籍番号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9932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氏　名　　　相澤美智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指導教官 　三明康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補正係数の算出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152388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80880" y="609480"/>
            <a:ext cx="8610840" cy="6149160"/>
            <a:chOff x="380880" y="609480"/>
            <a:chExt cx="8610840" cy="6149160"/>
          </a:xfrm>
        </p:grpSpPr>
        <p:pic>
          <p:nvPicPr>
            <p:cNvPr id="353" name="gen" descr=""/>
            <p:cNvPicPr/>
            <p:nvPr/>
          </p:nvPicPr>
          <p:blipFill>
            <a:blip r:embed="rId1"/>
            <a:stretch/>
          </p:blipFill>
          <p:spPr>
            <a:xfrm>
              <a:off x="2438280" y="685800"/>
              <a:ext cx="2286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80880" y="609480"/>
              <a:ext cx="4800600" cy="1447920"/>
            </a:xfrm>
            <a:prstGeom prst="foldedCorner">
              <a:avLst>
                <a:gd name="adj" fmla="val 125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14400" y="1523880"/>
              <a:ext cx="152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ja-JP" sz="2400" spc="-1" strike="noStrike" baseline="-25000">
                  <a:solidFill>
                    <a:srgbClr val="000000"/>
                  </a:solidFill>
                  <a:latin typeface="Times New Roman"/>
                </a:rPr>
                <a:t>gen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(m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, 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9480" y="685800"/>
              <a:ext cx="16765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発生させ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粒子数分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38080" y="6172200"/>
              <a:ext cx="167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ja-JP" sz="2400" spc="-1" strike="noStrike" baseline="-25000">
                  <a:solidFill>
                    <a:srgbClr val="000000"/>
                  </a:solidFill>
                  <a:latin typeface="Times New Roman"/>
                </a:rPr>
                <a:t>rec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(m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, 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3520" y="5257800"/>
              <a:ext cx="1523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得られ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粒子数分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34120" y="54864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補正係数を実験で検出された生の粒子数に掛けて、補正を行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10080" y="3733920"/>
              <a:ext cx="3353040" cy="167616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62720" y="37339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補正係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5562720" y="4267080"/>
                  <a:ext cx="3047760" cy="106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ε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,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gen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,y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c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,y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63" name=""/>
            <p:cNvSpPr/>
            <p:nvPr/>
          </p:nvSpPr>
          <p:spPr>
            <a:xfrm>
              <a:off x="1219320" y="2209680"/>
              <a:ext cx="3429000" cy="914400"/>
            </a:xfrm>
            <a:prstGeom prst="leftArrowCallout">
              <a:avLst>
                <a:gd name="adj1" fmla="val 25002"/>
                <a:gd name="adj2" fmla="val 25000"/>
                <a:gd name="adj3" fmla="val 51823"/>
                <a:gd name="adj4" fmla="val 79276"/>
              </a:avLst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09480" y="2209680"/>
              <a:ext cx="4114800" cy="824760"/>
            </a:xfrm>
            <a:prstGeom prst="leftArrowCallout">
              <a:avLst>
                <a:gd name="adj1" fmla="val 25002"/>
                <a:gd name="adj2" fmla="val 25000"/>
                <a:gd name="adj3" fmla="val 83151"/>
                <a:gd name="adj4" fmla="val 666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モンテカル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シミュレーショ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4495680" y="1828800"/>
              <a:ext cx="4151160" cy="1523880"/>
              <a:chOff x="4495680" y="1828800"/>
              <a:chExt cx="4151160" cy="1523880"/>
            </a:xfrm>
          </p:grpSpPr>
          <p:sp>
            <p:nvSpPr>
              <p:cNvPr id="366" name=""/>
              <p:cNvSpPr/>
              <p:nvPr/>
            </p:nvSpPr>
            <p:spPr>
              <a:xfrm>
                <a:off x="4495680" y="1828800"/>
                <a:ext cx="4151160" cy="1523880"/>
              </a:xfrm>
              <a:prstGeom prst="leftArrowCallout">
                <a:avLst>
                  <a:gd name="adj1" fmla="val 19668"/>
                  <a:gd name="adj2" fmla="val 25000"/>
                  <a:gd name="adj3" fmla="val 35615"/>
                  <a:gd name="adj4" fmla="val 76845"/>
                </a:avLst>
              </a:prstGeom>
              <a:solidFill>
                <a:srgbClr val="ffff99">
                  <a:alpha val="50000"/>
                </a:srgbClr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433560" y="1967040"/>
                <a:ext cx="140004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000" spc="-1" strike="noStrike">
                    <a:solidFill>
                      <a:srgbClr val="000000"/>
                    </a:solidFill>
                    <a:latin typeface="Arial"/>
                    <a:ea typeface="ＭＳ ゴシック"/>
                  </a:rPr>
                  <a:t>検出器の幾何学的配置､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000" spc="-1" strike="noStrike">
                    <a:solidFill>
                      <a:srgbClr val="000000"/>
                    </a:solidFill>
                    <a:latin typeface="Arial"/>
                    <a:ea typeface="ＭＳ ゴシック"/>
                  </a:rPr>
                  <a:t>多重散乱、粒子の崩壊、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000" spc="-1" strike="noStrike">
                    <a:solidFill>
                      <a:srgbClr val="000000"/>
                    </a:solidFill>
                    <a:latin typeface="Arial"/>
                    <a:ea typeface="ＭＳ ゴシック"/>
                  </a:rPr>
                  <a:t>検出器の分解能､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000" spc="-1" strike="noStrike">
                    <a:solidFill>
                      <a:srgbClr val="000000"/>
                    </a:solidFill>
                    <a:latin typeface="Arial"/>
                    <a:ea typeface="ＭＳ ゴシック"/>
                  </a:rPr>
                  <a:t>検出器の検出効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1295280" y="4038480"/>
              <a:ext cx="3810240" cy="914400"/>
            </a:xfrm>
            <a:prstGeom prst="leftArrowCallout">
              <a:avLst>
                <a:gd name="adj1" fmla="val 20511"/>
                <a:gd name="adj2" fmla="val 25000"/>
                <a:gd name="adj3" fmla="val 53302"/>
                <a:gd name="adj4" fmla="val 83623"/>
              </a:avLst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370320" y="4114800"/>
              <a:ext cx="33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飛跡再構成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運動量測定･粒子識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7200" y="3276720"/>
              <a:ext cx="4038480" cy="609480"/>
            </a:xfrm>
            <a:prstGeom prst="foldedCorner">
              <a:avLst>
                <a:gd name="adj" fmla="val 12500"/>
              </a:avLst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3520" y="335268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検出器から得られる位置情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4400" y="2057400"/>
              <a:ext cx="380880" cy="1219320"/>
            </a:xfrm>
            <a:prstGeom prst="downArrow">
              <a:avLst>
                <a:gd name="adj1" fmla="val 50000"/>
                <a:gd name="adj2" fmla="val 80033"/>
              </a:avLst>
            </a:prstGeom>
            <a:solidFill>
              <a:srgbClr val="99cc00">
                <a:alpha val="50000"/>
              </a:srgbClr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14400" y="3886200"/>
              <a:ext cx="380880" cy="1219320"/>
            </a:xfrm>
            <a:prstGeom prst="downArrow">
              <a:avLst>
                <a:gd name="adj1" fmla="val 50000"/>
                <a:gd name="adj2" fmla="val 80033"/>
              </a:avLst>
            </a:prstGeom>
            <a:solidFill>
              <a:srgbClr val="99cc00">
                <a:alpha val="50000"/>
              </a:srgbClr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4" name="rec" descr=""/>
            <p:cNvPicPr/>
            <p:nvPr/>
          </p:nvPicPr>
          <p:blipFill>
            <a:blip r:embed="rId2"/>
            <a:stretch/>
          </p:blipFill>
          <p:spPr>
            <a:xfrm>
              <a:off x="2362320" y="5181480"/>
              <a:ext cx="228600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380880" y="5105520"/>
              <a:ext cx="4724640" cy="1600200"/>
            </a:xfrm>
            <a:prstGeom prst="foldedCorner">
              <a:avLst>
                <a:gd name="adj" fmla="val 125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2209320" y="5562720"/>
              <a:ext cx="114300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276720" y="6095880"/>
              <a:ext cx="121896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62520" y="6019920"/>
              <a:ext cx="457200" cy="9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57600" y="624852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-m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09680" y="5181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flipV="1">
              <a:off x="2209320" y="1066680"/>
              <a:ext cx="685800" cy="152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3200400" y="1500120"/>
              <a:ext cx="1371600" cy="405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1600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-m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0" y="609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257800" y="3581280"/>
              <a:ext cx="3733920" cy="3124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Background track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4419720" y="2362320"/>
          <a:ext cx="4267080" cy="34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267080" cy="34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0" y="6095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3hits track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4hits track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とで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ackground track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出現確率に違い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" y="9907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実験には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ackground hi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がある。また再構成されなかった飛跡の位置情報もある。このような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hi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が偶然に飛跡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background track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構成してしまう可能性が考えられる。そこで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ackground track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出現確率を考察し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2438280"/>
            <a:ext cx="4572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backgroun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の出現確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それぞれの検出器に同じ多重度の異な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eve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h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を入れ、飛跡再構成し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0880" y="3809880"/>
            <a:ext cx="3733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もともと入れた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even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飛跡の数に対し、構成された飛跡は次のようになっ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3hits background track: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最大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7.5% 4hits background track: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最大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0.0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得られた一粒子分布（補正後）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4hits track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みを用いて解析した場合､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3hits track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みを用いて解析した場合､　両方用いた場合について、それぞれ一粒子分布を求め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mt_ppik_cen_new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4649760" cy="4419720"/>
          </a:xfrm>
          <a:prstGeom prst="rect">
            <a:avLst/>
          </a:prstGeom>
          <a:ln w="0">
            <a:noFill/>
          </a:ln>
        </p:spPr>
      </p:pic>
      <p:pic>
        <p:nvPicPr>
          <p:cNvPr id="396" name="pion_comp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227400" cy="292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7" name=""/>
          <p:cNvGraphicFramePr/>
          <p:nvPr/>
        </p:nvGraphicFramePr>
        <p:xfrm>
          <a:off x="6800760" y="2438280"/>
          <a:ext cx="209520" cy="1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0760" y="2438280"/>
                    <a:ext cx="209520" cy="1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6781680" y="2819520"/>
          <a:ext cx="162000" cy="19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1680" y="2819520"/>
                    <a:ext cx="162000" cy="19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6781680" y="3165480"/>
          <a:ext cx="152640" cy="18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81680" y="3165480"/>
                    <a:ext cx="152640" cy="1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3" name=""/>
          <p:cNvGrpSpPr/>
          <p:nvPr/>
        </p:nvGrpSpPr>
        <p:grpSpPr>
          <a:xfrm>
            <a:off x="2209680" y="2362320"/>
            <a:ext cx="1676520" cy="922320"/>
            <a:chOff x="2209680" y="2362320"/>
            <a:chExt cx="1676520" cy="922320"/>
          </a:xfrm>
        </p:grpSpPr>
        <p:pic>
          <p:nvPicPr>
            <p:cNvPr id="404" name="pi_4cham" descr=""/>
            <p:cNvPicPr/>
            <p:nvPr/>
          </p:nvPicPr>
          <p:blipFill>
            <a:blip r:embed="rId9"/>
            <a:stretch/>
          </p:blipFill>
          <p:spPr>
            <a:xfrm>
              <a:off x="2209680" y="2366640"/>
              <a:ext cx="228600" cy="263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05" name=""/>
            <p:cNvGraphicFramePr/>
            <p:nvPr/>
          </p:nvGraphicFramePr>
          <p:xfrm>
            <a:off x="2209680" y="3046320"/>
            <a:ext cx="228600" cy="1908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209680" y="3046320"/>
                      <a:ext cx="228600" cy="19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07" name="pi_3n4" descr=""/>
            <p:cNvPicPr/>
            <p:nvPr/>
          </p:nvPicPr>
          <p:blipFill>
            <a:blip r:embed="rId12"/>
            <a:stretch/>
          </p:blipFill>
          <p:spPr>
            <a:xfrm>
              <a:off x="2209680" y="2618640"/>
              <a:ext cx="228600" cy="15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2438280" y="2362320"/>
              <a:ext cx="96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hits t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38280" y="2977560"/>
              <a:ext cx="96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hits t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38280" y="256716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hits track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＆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hits t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7086600" y="2286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中間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08660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Ｋ中間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6600" y="26510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陽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38080" y="1523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中間子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2280" y="5105520"/>
            <a:ext cx="44197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3hits track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と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4hits track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の両方を用いたときから、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±10%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以内に他の解析結果があった｡　そこでこの値を系統誤差とし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90920" y="4648320"/>
            <a:ext cx="251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G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609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π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ＭＳ ゴシック"/>
              </a:rPr>
              <a:t>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中間子、Ｋ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ＭＳ ゴシック"/>
              </a:rPr>
              <a:t>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中間子､陽子の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横質量分布が求められた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280" y="17136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単位ラピディティー当たりの粒子生成量：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dN/dy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5960" y="76176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粒子生成量の横質量分布が指数関数形であると仮定し､横質量分布を積分し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dN/d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を求めた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085760" y="1447920"/>
          <a:ext cx="697248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5760" y="1447920"/>
                    <a:ext cx="69724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304920" y="6095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の粒子生成量がどのようなモデルで説明されるか考察する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モデル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1 : 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核子･核子衝突の重ねあわせ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28600" y="2677320"/>
            <a:ext cx="3429000" cy="3212280"/>
            <a:chOff x="228600" y="2677320"/>
            <a:chExt cx="3429000" cy="3212280"/>
          </a:xfrm>
        </p:grpSpPr>
        <p:sp>
          <p:nvSpPr>
            <p:cNvPr id="425" name=""/>
            <p:cNvSpPr/>
            <p:nvPr/>
          </p:nvSpPr>
          <p:spPr>
            <a:xfrm>
              <a:off x="838080" y="3505320"/>
              <a:ext cx="1371600" cy="16765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8080" y="4191120"/>
              <a:ext cx="1371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8080" y="4496040"/>
              <a:ext cx="1371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87440" y="4191120"/>
              <a:ext cx="273240" cy="30492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660680" y="4191120"/>
              <a:ext cx="274320" cy="30492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35000" y="4191120"/>
              <a:ext cx="274680" cy="30492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112760" y="4191120"/>
              <a:ext cx="274680" cy="30492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38080" y="4191120"/>
              <a:ext cx="274680" cy="30492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86000" y="4038840"/>
              <a:ext cx="1371600" cy="167616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590920" y="4191120"/>
              <a:ext cx="761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62320" y="4496040"/>
              <a:ext cx="12189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19520" y="4191120"/>
              <a:ext cx="288720" cy="30492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4080" y="4191120"/>
              <a:ext cx="274680" cy="30492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14600" y="4191120"/>
              <a:ext cx="274680" cy="30492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990720" y="3031920"/>
              <a:ext cx="1676520" cy="1161000"/>
              <a:chOff x="990720" y="3031920"/>
              <a:chExt cx="1676520" cy="1161000"/>
            </a:xfrm>
          </p:grpSpPr>
          <p:cxnSp>
            <p:nvCxnSpPr>
              <p:cNvPr id="440" name=""/>
              <p:cNvCxnSpPr>
                <a:stCxn id="430" idx="0"/>
                <a:endCxn id="438" idx="0"/>
              </p:cNvCxnSpPr>
              <p:nvPr/>
            </p:nvCxnSpPr>
            <p:spPr>
              <a:xfrm flipH="1" rot="16200000">
                <a:off x="2376000" y="3902040"/>
                <a:ext cx="2160" cy="579960"/>
              </a:xfrm>
              <a:prstGeom prst="curvedConnector5">
                <a:avLst>
                  <a:gd name="adj1" fmla="val -13200000"/>
                  <a:gd name="adj2" fmla="val 50000"/>
                  <a:gd name="adj3" fmla="val -13200000"/>
                </a:avLst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441" name=""/>
              <p:cNvCxnSpPr>
                <a:stCxn id="429" idx="0"/>
                <a:endCxn id="438" idx="0"/>
              </p:cNvCxnSpPr>
              <p:nvPr/>
            </p:nvCxnSpPr>
            <p:spPr>
              <a:xfrm flipH="1" rot="16200000">
                <a:off x="2238840" y="3764880"/>
                <a:ext cx="2160" cy="854280"/>
              </a:xfrm>
              <a:prstGeom prst="curvedConnector5">
                <a:avLst>
                  <a:gd name="adj1" fmla="val -21200000"/>
                  <a:gd name="adj2" fmla="val 50000"/>
                  <a:gd name="adj3" fmla="val -21200000"/>
                </a:avLst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442" name=""/>
              <p:cNvCxnSpPr>
                <a:stCxn id="428" idx="0"/>
                <a:endCxn id="438" idx="0"/>
              </p:cNvCxnSpPr>
              <p:nvPr/>
            </p:nvCxnSpPr>
            <p:spPr>
              <a:xfrm flipH="1" rot="16200000">
                <a:off x="2101680" y="3627360"/>
                <a:ext cx="2160" cy="1128960"/>
              </a:xfrm>
              <a:prstGeom prst="curvedConnector5">
                <a:avLst>
                  <a:gd name="adj1" fmla="val -34700000"/>
                  <a:gd name="adj2" fmla="val 49984"/>
                  <a:gd name="adj3" fmla="val -34700000"/>
                </a:avLst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443" name=""/>
              <p:cNvCxnSpPr>
                <a:stCxn id="431" idx="0"/>
                <a:endCxn id="438" idx="0"/>
              </p:cNvCxnSpPr>
              <p:nvPr/>
            </p:nvCxnSpPr>
            <p:spPr>
              <a:xfrm flipH="1" rot="16200000">
                <a:off x="1964880" y="3490920"/>
                <a:ext cx="2160" cy="1402200"/>
              </a:xfrm>
              <a:prstGeom prst="curvedConnector5">
                <a:avLst>
                  <a:gd name="adj1" fmla="val -45900000"/>
                  <a:gd name="adj2" fmla="val 50000"/>
                  <a:gd name="adj3" fmla="val -45900000"/>
                </a:avLst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444" name=""/>
              <p:cNvCxnSpPr>
                <a:stCxn id="432" idx="0"/>
                <a:endCxn id="438" idx="0"/>
              </p:cNvCxnSpPr>
              <p:nvPr/>
            </p:nvCxnSpPr>
            <p:spPr>
              <a:xfrm flipH="1" rot="16200000">
                <a:off x="1828080" y="3353400"/>
                <a:ext cx="2160" cy="1676880"/>
              </a:xfrm>
              <a:prstGeom prst="curvedConnector5">
                <a:avLst>
                  <a:gd name="adj1" fmla="val -64400000"/>
                  <a:gd name="adj2" fmla="val 49989"/>
                  <a:gd name="adj3" fmla="val -64400000"/>
                </a:avLst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445" name=""/>
            <p:cNvGrpSpPr/>
            <p:nvPr/>
          </p:nvGrpSpPr>
          <p:grpSpPr>
            <a:xfrm>
              <a:off x="990720" y="2677320"/>
              <a:ext cx="2253960" cy="1557360"/>
              <a:chOff x="990720" y="2677320"/>
              <a:chExt cx="2253960" cy="1557360"/>
            </a:xfrm>
          </p:grpSpPr>
          <p:cxnSp>
            <p:nvCxnSpPr>
              <p:cNvPr id="446" name=""/>
              <p:cNvCxnSpPr/>
              <p:nvPr/>
            </p:nvCxnSpPr>
            <p:spPr>
              <a:xfrm flipH="1" rot="16200000">
                <a:off x="2649240" y="3646080"/>
                <a:ext cx="2160" cy="1128960"/>
              </a:xfrm>
              <a:prstGeom prst="curvedConnector5">
                <a:avLst>
                  <a:gd name="adj1" fmla="val -34700000"/>
                  <a:gd name="adj2" fmla="val 49984"/>
                  <a:gd name="adj3" fmla="val -34700000"/>
                </a:avLst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</p:cxnSp>
          <p:cxnSp>
            <p:nvCxnSpPr>
              <p:cNvPr id="447" name=""/>
              <p:cNvCxnSpPr/>
              <p:nvPr/>
            </p:nvCxnSpPr>
            <p:spPr>
              <a:xfrm flipH="1" rot="16200000">
                <a:off x="2512800" y="3509640"/>
                <a:ext cx="2160" cy="1401840"/>
              </a:xfrm>
              <a:prstGeom prst="curvedConnector5">
                <a:avLst>
                  <a:gd name="adj1" fmla="val -45900000"/>
                  <a:gd name="adj2" fmla="val 49987"/>
                  <a:gd name="adj3" fmla="val -45900000"/>
                </a:avLst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</p:cxnSp>
          <p:cxnSp>
            <p:nvCxnSpPr>
              <p:cNvPr id="448" name=""/>
              <p:cNvCxnSpPr/>
              <p:nvPr/>
            </p:nvCxnSpPr>
            <p:spPr>
              <a:xfrm flipH="1" rot="16200000">
                <a:off x="2375280" y="3372480"/>
                <a:ext cx="2160" cy="1676520"/>
              </a:xfrm>
              <a:prstGeom prst="curvedConnector5">
                <a:avLst>
                  <a:gd name="adj1" fmla="val -64400000"/>
                  <a:gd name="adj2" fmla="val 50000"/>
                  <a:gd name="adj3" fmla="val -64400000"/>
                </a:avLst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</p:cxnSp>
          <p:cxnSp>
            <p:nvCxnSpPr>
              <p:cNvPr id="449" name=""/>
              <p:cNvCxnSpPr/>
              <p:nvPr/>
            </p:nvCxnSpPr>
            <p:spPr>
              <a:xfrm flipH="1" rot="16200000">
                <a:off x="2238120" y="3204720"/>
                <a:ext cx="2160" cy="2011680"/>
              </a:xfrm>
              <a:prstGeom prst="curvedConnector5">
                <a:avLst>
                  <a:gd name="adj1" fmla="val -75500000"/>
                  <a:gd name="adj2" fmla="val 49991"/>
                  <a:gd name="adj3" fmla="val -75500000"/>
                </a:avLst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</p:cxnSp>
          <p:cxnSp>
            <p:nvCxnSpPr>
              <p:cNvPr id="450" name=""/>
              <p:cNvCxnSpPr>
                <a:stCxn id="432" idx="0"/>
                <a:endCxn id="437" idx="1"/>
              </p:cNvCxnSpPr>
              <p:nvPr/>
            </p:nvCxnSpPr>
            <p:spPr>
              <a:xfrm flipH="1" rot="16200000">
                <a:off x="2062080" y="3118320"/>
                <a:ext cx="45000" cy="2188080"/>
              </a:xfrm>
              <a:prstGeom prst="curvedConnector5">
                <a:avLst>
                  <a:gd name="adj1" fmla="val -3388709"/>
                  <a:gd name="adj2" fmla="val 49991"/>
                  <a:gd name="adj3" fmla="val -3388709"/>
                </a:avLst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</p:cxnSp>
        </p:grpSp>
        <p:grpSp>
          <p:nvGrpSpPr>
            <p:cNvPr id="451" name=""/>
            <p:cNvGrpSpPr/>
            <p:nvPr/>
          </p:nvGrpSpPr>
          <p:grpSpPr>
            <a:xfrm>
              <a:off x="989640" y="4495680"/>
              <a:ext cx="1996920" cy="1393920"/>
              <a:chOff x="989640" y="4495680"/>
              <a:chExt cx="1996920" cy="1393920"/>
            </a:xfrm>
          </p:grpSpPr>
          <p:cxnSp>
            <p:nvCxnSpPr>
              <p:cNvPr id="452" name=""/>
              <p:cNvCxnSpPr/>
              <p:nvPr/>
            </p:nvCxnSpPr>
            <p:spPr>
              <a:xfrm flipH="1" flipV="1" rot="5400000">
                <a:off x="2555640" y="4069080"/>
                <a:ext cx="2160" cy="855000"/>
              </a:xfrm>
              <a:prstGeom prst="curvedConnector5">
                <a:avLst>
                  <a:gd name="adj1" fmla="val -21200000"/>
                  <a:gd name="adj2" fmla="val 50000"/>
                  <a:gd name="adj3" fmla="val -21200000"/>
                </a:avLst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453" name=""/>
              <p:cNvCxnSpPr/>
              <p:nvPr/>
            </p:nvCxnSpPr>
            <p:spPr>
              <a:xfrm flipH="1" flipV="1" rot="5400000">
                <a:off x="2417760" y="3931920"/>
                <a:ext cx="2160" cy="1129680"/>
              </a:xfrm>
              <a:prstGeom prst="curvedConnector5">
                <a:avLst>
                  <a:gd name="adj1" fmla="val -34700000"/>
                  <a:gd name="adj2" fmla="val 49984"/>
                  <a:gd name="adj3" fmla="val -34700000"/>
                </a:avLst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454" name=""/>
              <p:cNvCxnSpPr/>
              <p:nvPr/>
            </p:nvCxnSpPr>
            <p:spPr>
              <a:xfrm flipH="1" flipV="1" rot="5400000">
                <a:off x="2281320" y="3795480"/>
                <a:ext cx="2160" cy="1402560"/>
              </a:xfrm>
              <a:prstGeom prst="curvedConnector5">
                <a:avLst>
                  <a:gd name="adj1" fmla="val -45900000"/>
                  <a:gd name="adj2" fmla="val 49987"/>
                  <a:gd name="adj3" fmla="val -45900000"/>
                </a:avLst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455" name=""/>
              <p:cNvCxnSpPr/>
              <p:nvPr/>
            </p:nvCxnSpPr>
            <p:spPr>
              <a:xfrm flipH="1" flipV="1" rot="5400000">
                <a:off x="2147040" y="3659760"/>
                <a:ext cx="2160" cy="1676880"/>
              </a:xfrm>
              <a:prstGeom prst="curvedConnector5">
                <a:avLst>
                  <a:gd name="adj1" fmla="val -64400000"/>
                  <a:gd name="adj2" fmla="val 49989"/>
                  <a:gd name="adj3" fmla="val -64400000"/>
                </a:avLst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456" name=""/>
              <p:cNvCxnSpPr>
                <a:stCxn id="432" idx="4"/>
                <a:endCxn id="436" idx="4"/>
              </p:cNvCxnSpPr>
              <p:nvPr/>
            </p:nvCxnSpPr>
            <p:spPr>
              <a:xfrm flipH="1" rot="16200000">
                <a:off x="1982520" y="3523320"/>
                <a:ext cx="2160" cy="1987920"/>
              </a:xfrm>
              <a:prstGeom prst="curvedConnector5">
                <a:avLst>
                  <a:gd name="adj1" fmla="val 76280000"/>
                  <a:gd name="adj2" fmla="val 49990"/>
                  <a:gd name="adj3" fmla="val 76280000"/>
                </a:avLst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</p:cxnSp>
        </p:grpSp>
        <p:sp>
          <p:nvSpPr>
            <p:cNvPr id="457" name=""/>
            <p:cNvSpPr/>
            <p:nvPr/>
          </p:nvSpPr>
          <p:spPr>
            <a:xfrm>
              <a:off x="228600" y="4191120"/>
              <a:ext cx="533520" cy="30492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3962520" y="2666880"/>
            <a:ext cx="5029200" cy="3200400"/>
          </a:xfrm>
          <a:prstGeom prst="rect">
            <a:avLst/>
          </a:prstGeom>
          <a:solidFill>
            <a:srgbClr val="ffff99">
              <a:alpha val="50000"/>
            </a:srgbClr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14800" y="32004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核子は原子核･原子核衝突の間､エネルギーを失わずに相手の核子と次々に衝突する。衝突回数は､原子核の幾何学的配置によ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14800" y="4876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衝突のたびに､核子･核子衝突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回分の粒子を発生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603576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のモデルに従うならば､核子･核子衝突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回あたり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N/d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、同じエネルギーの陽子･陽子衝突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N/d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と同じになるはず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33720" y="2362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核子･核子衝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860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原子核の大きさ＞＞ド・ブロイ波長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入射核の核子は、相手の核子を見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1441440"/>
            <a:ext cx="95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衝突時間＜＜核の固有時間　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衝突の間に､核内核子の運動は無視でき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8600" y="1828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粒子の生成時間　～１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m/c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粒子生成前に何度も核子･核子衝突を起こ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6858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高エネルギー原子核･原子核実験の特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2743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モデル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75960" y="53352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中間子は周辺衝突で陽子･陽子衝突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dN/d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に近い値である。Ｋ中間子は陽子･陽子衝突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dN/d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に近い値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ゴシック"/>
              </a:rPr>
              <a:t>このモデルは実験値より多く計算される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核子･核子衝突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1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回あたりの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dN/dy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0" name=""/>
          <p:cNvSpPr/>
          <p:nvPr/>
        </p:nvSpPr>
        <p:spPr>
          <a:xfrm>
            <a:off x="685800" y="4572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周辺衝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304920" y="3657600"/>
            <a:ext cx="1447560" cy="762120"/>
            <a:chOff x="304920" y="3657600"/>
            <a:chExt cx="1447560" cy="762120"/>
          </a:xfrm>
        </p:grpSpPr>
        <p:sp>
          <p:nvSpPr>
            <p:cNvPr id="472" name=""/>
            <p:cNvSpPr/>
            <p:nvPr/>
          </p:nvSpPr>
          <p:spPr>
            <a:xfrm>
              <a:off x="304920" y="3657600"/>
              <a:ext cx="761760" cy="76212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90720" y="3657600"/>
              <a:ext cx="761760" cy="76212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708660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中心衝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0120" y="3657600"/>
            <a:ext cx="761760" cy="7621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772400" y="3657600"/>
            <a:ext cx="762120" cy="7621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05704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6172200" y="121932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6400800" y="2895480"/>
            <a:ext cx="3808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4876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05720" y="2133720"/>
            <a:ext cx="190476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陽子･陽子衝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Ｋ中間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858000" y="2486160"/>
                <a:ext cx="15238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s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Ge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3" name=""/>
          <p:cNvGrpSpPr/>
          <p:nvPr/>
        </p:nvGrpSpPr>
        <p:grpSpPr>
          <a:xfrm>
            <a:off x="6934320" y="457200"/>
            <a:ext cx="1828800" cy="761760"/>
            <a:chOff x="6934320" y="457200"/>
            <a:chExt cx="1828800" cy="761760"/>
          </a:xfrm>
        </p:grpSpPr>
        <p:sp>
          <p:nvSpPr>
            <p:cNvPr id="484" name=""/>
            <p:cNvSpPr/>
            <p:nvPr/>
          </p:nvSpPr>
          <p:spPr>
            <a:xfrm>
              <a:off x="6934320" y="457200"/>
              <a:ext cx="18288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陽子･陽子衝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π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中間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7086600" y="891360"/>
                  <a:ext cx="1295640" cy="32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s</m:t>
                          </m:r>
                        </m:e>
                      </m:ra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3</m:t>
                      </m:r>
                      <m:r>
                        <m:rPr>
                          <m:lit/>
                          <m:nor/>
                        </m:rPr>
                        <m:t xml:space="preserve">Ge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6" name=""/>
          <p:cNvSpPr/>
          <p:nvPr/>
        </p:nvSpPr>
        <p:spPr>
          <a:xfrm>
            <a:off x="2573280" y="40384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73280" y="4238640"/>
            <a:ext cx="39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86000" y="4238640"/>
            <a:ext cx="7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377040" y="423864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95880" y="423864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47840" y="4573440"/>
            <a:ext cx="31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反応関与部核子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59552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676520" y="533520"/>
          <a:ext cx="6181560" cy="467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33520"/>
                    <a:ext cx="618156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temp2" descr=""/>
          <p:cNvPicPr/>
          <p:nvPr/>
        </p:nvPicPr>
        <p:blipFill>
          <a:blip r:embed="rId1"/>
          <a:stretch/>
        </p:blipFill>
        <p:spPr>
          <a:xfrm>
            <a:off x="4800600" y="3352680"/>
            <a:ext cx="3276720" cy="31244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6781680" y="3429000"/>
            <a:ext cx="21337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320" y="2438280"/>
            <a:ext cx="8839080" cy="83844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モデル２：核子･核子衝突毎にエネルギーを失う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中間子についてモデ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が合わない理由としては､核子当た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158GeV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のエネルギーは、粒子生成に使われるエネルギーを無視できるほど高くはないことが考えられる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そこで次のモデルを考え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モデル２：核子が核子と衝突するとき､次の衝突の前にその核子･核子衝突で粒子が生成する分だけエネルギーを落と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19320" y="3429000"/>
            <a:ext cx="533160" cy="609480"/>
          </a:xfrm>
          <a:prstGeom prst="ellipse">
            <a:avLst/>
          </a:prstGeom>
          <a:solidFill>
            <a:srgbClr val="ff99cc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05120" y="35812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3429000"/>
            <a:ext cx="533520" cy="609480"/>
          </a:xfrm>
          <a:prstGeom prst="ellipse">
            <a:avLst/>
          </a:prstGeom>
          <a:solidFill>
            <a:srgbClr val="99cc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48120" y="3429000"/>
            <a:ext cx="533160" cy="609480"/>
          </a:xfrm>
          <a:prstGeom prst="ellipse">
            <a:avLst/>
          </a:prstGeom>
          <a:solidFill>
            <a:srgbClr val="99cc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581280" y="3429000"/>
            <a:ext cx="533520" cy="609480"/>
          </a:xfrm>
          <a:prstGeom prst="ellipse">
            <a:avLst/>
          </a:prstGeom>
          <a:solidFill>
            <a:srgbClr val="99cc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2280" y="3429000"/>
            <a:ext cx="533520" cy="609480"/>
          </a:xfrm>
          <a:prstGeom prst="ellipse">
            <a:avLst/>
          </a:prstGeom>
          <a:solidFill>
            <a:srgbClr val="ff99cc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3429000"/>
            <a:ext cx="533520" cy="609480"/>
          </a:xfrm>
          <a:prstGeom prst="ellipse">
            <a:avLst/>
          </a:prstGeom>
          <a:solidFill>
            <a:srgbClr val="ff99cc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743200" y="4648320"/>
            <a:ext cx="533520" cy="609480"/>
          </a:xfrm>
          <a:custGeom>
            <a:avLst/>
            <a:gdLst>
              <a:gd name="textAreaLeft" fmla="*/ 121680 w 533520"/>
              <a:gd name="textAreaRight" fmla="*/ 411840 w 53352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8120" y="4648320"/>
            <a:ext cx="533160" cy="609480"/>
          </a:xfrm>
          <a:prstGeom prst="ellipse">
            <a:avLst/>
          </a:prstGeom>
          <a:solidFill>
            <a:srgbClr val="99cc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4648320"/>
            <a:ext cx="533520" cy="609480"/>
          </a:xfrm>
          <a:prstGeom prst="ellipse">
            <a:avLst/>
          </a:prstGeom>
          <a:solidFill>
            <a:srgbClr val="99cc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09680" y="4648320"/>
            <a:ext cx="533520" cy="609480"/>
          </a:xfrm>
          <a:prstGeom prst="ellipse">
            <a:avLst/>
          </a:prstGeom>
          <a:solidFill>
            <a:srgbClr val="ff99cc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4648320"/>
            <a:ext cx="533160" cy="609480"/>
          </a:xfrm>
          <a:prstGeom prst="ellipse">
            <a:avLst/>
          </a:prstGeom>
          <a:solidFill>
            <a:srgbClr val="ff99cc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819160" y="5410080"/>
            <a:ext cx="75960" cy="3049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048120" y="5334120"/>
            <a:ext cx="304560" cy="228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437920" y="5334120"/>
            <a:ext cx="304920" cy="228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2437920" y="4343040"/>
            <a:ext cx="304920" cy="228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2895480" y="4266720"/>
            <a:ext cx="0" cy="3049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3048120" y="4419360"/>
            <a:ext cx="304560" cy="152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14600" y="4648320"/>
            <a:ext cx="533520" cy="609480"/>
          </a:xfrm>
          <a:custGeom>
            <a:avLst/>
            <a:gdLst>
              <a:gd name="textAreaLeft" fmla="*/ 121680 w 533520"/>
              <a:gd name="textAreaRight" fmla="*/ 411840 w 53352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0880" y="5715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運動量を持った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中間子をつくるためのエネルギーを放出して失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0" y="3505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一個の核子が衝突を起こす回数の分布（計算による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2280" y="3429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52280" y="4038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38280" y="34290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514600" y="4038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95280" y="46483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95280" y="52578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15000" y="4572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周辺衝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781680" y="5638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中心衝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620120" y="64612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衝突回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5409720" y="48006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6400800" y="5791320"/>
            <a:ext cx="3808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モデル２における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dN/dy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の計算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3" name=""/>
          <p:cNvSpPr/>
          <p:nvPr/>
        </p:nvSpPr>
        <p:spPr>
          <a:xfrm>
            <a:off x="762120" y="3048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9548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28240" y="60912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生成され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中間子の運動量分布を以下のように仮定し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219320" y="2590920"/>
            <a:ext cx="1523880" cy="45720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981080" y="2209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29718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90720" y="2971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" y="38098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単位ラピディティー当たりの平均横質量    ＜ｍＴ＞＝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0.3[Ge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90720" y="1981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N/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66760" y="4876920"/>
            <a:ext cx="43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陽子･陽子衝突のエネルギー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ultiplicit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関係から､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回目の衝突でのエネルギー放出量と粒子生成量を求めた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971800" y="2057400"/>
                <a:ext cx="17524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09480" y="1447920"/>
                <a:ext cx="324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5" name=""/>
          <p:cNvSpPr/>
          <p:nvPr/>
        </p:nvSpPr>
        <p:spPr>
          <a:xfrm>
            <a:off x="914400" y="1523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は次のような分布とす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9144000" y="5029200"/>
                <a:ext cx="1762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47" name=""/>
          <p:cNvGraphicFramePr/>
          <p:nvPr/>
        </p:nvGraphicFramePr>
        <p:xfrm>
          <a:off x="5334120" y="4343400"/>
          <a:ext cx="3352680" cy="235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343400"/>
                    <a:ext cx="335268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"/>
          <p:cNvSpPr/>
          <p:nvPr/>
        </p:nvSpPr>
        <p:spPr>
          <a:xfrm>
            <a:off x="5638680" y="403848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陽子･陽子衝突における生成粒子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docu0049" descr=""/>
          <p:cNvPicPr/>
          <p:nvPr/>
        </p:nvPicPr>
        <p:blipFill>
          <a:blip r:embed="rId3"/>
          <a:stretch/>
        </p:blipFill>
        <p:spPr>
          <a:xfrm>
            <a:off x="5662440" y="609480"/>
            <a:ext cx="284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4648320" y="990720"/>
          <a:ext cx="3911400" cy="31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990720"/>
                    <a:ext cx="3911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0" y="838080"/>
          <a:ext cx="4597560" cy="3337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838080"/>
                    <a:ext cx="4597560" cy="33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中間子は､モデ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計算値は実験値より多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Ｋ中間子は、モデル２の計算値は実験値より少ない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中間子では､モデ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も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ver estim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ているが、Ｋ中間子で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nder estim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モデル２と実験値の比較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57" name=""/>
          <p:cNvSpPr/>
          <p:nvPr/>
        </p:nvSpPr>
        <p:spPr>
          <a:xfrm>
            <a:off x="3657600" y="210492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モデル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による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中間子の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dN/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09480" y="374976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24080" y="37497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05120" y="3733920"/>
            <a:ext cx="6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143000" y="4267080"/>
            <a:ext cx="20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反応関与部核子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3827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543800" y="38098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248520" y="3809880"/>
            <a:ext cx="7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638680" y="4267080"/>
            <a:ext cx="21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反応関与部核子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57600" y="114300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モデル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による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中間子の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dN/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001000" y="304812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モデル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による　　Ｋ中間子の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dN/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924680" y="114300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モデル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による　　Ｋ中間子の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dN/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001000" y="213372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Ｋ中間子の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dN/dy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（実験値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505320" y="1295280"/>
            <a:ext cx="152280" cy="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772400" y="1295280"/>
            <a:ext cx="152280" cy="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05320" y="2209680"/>
            <a:ext cx="2286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772400" y="3200400"/>
            <a:ext cx="2286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320040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中間子の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dN/dy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（実験値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848720" y="2286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581280" y="3276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モデル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3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：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Wounded Nucleon Model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8" name=""/>
          <p:cNvSpPr/>
          <p:nvPr/>
        </p:nvSpPr>
        <p:spPr>
          <a:xfrm>
            <a:off x="304920" y="8398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52280" y="7621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核子・核子衝突と原子核同士の衝突では違いがあることが考えられる。そこで次に､核子・原子核衝突の実験値をよく説明する「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ounded Nucleon Mode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」を考え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2280" y="1981080"/>
            <a:ext cx="8686800" cy="28195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1295280" y="2514600"/>
            <a:ext cx="1257480" cy="1477800"/>
            <a:chOff x="1295280" y="2514600"/>
            <a:chExt cx="1257480" cy="1477800"/>
          </a:xfrm>
        </p:grpSpPr>
        <p:sp>
          <p:nvSpPr>
            <p:cNvPr id="582" name=""/>
            <p:cNvSpPr/>
            <p:nvPr/>
          </p:nvSpPr>
          <p:spPr>
            <a:xfrm>
              <a:off x="1295280" y="2514600"/>
              <a:ext cx="1257480" cy="147780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295280" y="3119040"/>
              <a:ext cx="125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295280" y="3387600"/>
              <a:ext cx="125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98920" y="3119040"/>
              <a:ext cx="249840" cy="26820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049120" y="3119040"/>
              <a:ext cx="251640" cy="26820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300760" y="3119040"/>
              <a:ext cx="251640" cy="26820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546920" y="3119040"/>
              <a:ext cx="251640" cy="26820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295280" y="3119040"/>
              <a:ext cx="251640" cy="26820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609480" y="3119400"/>
            <a:ext cx="489240" cy="268200"/>
          </a:xfrm>
          <a:custGeom>
            <a:avLst/>
            <a:gdLst>
              <a:gd name="textAreaLeft" fmla="*/ 76320 w 489240"/>
              <a:gd name="textAreaRight" fmla="*/ 448560 w 489240"/>
              <a:gd name="textAreaTop" fmla="*/ 89280 h 268200"/>
              <a:gd name="textAreaBottom" fmla="*/ 178920 h 268200"/>
            </a:gdLst>
            <a:ahLst/>
            <a:rect l="textAreaLeft" t="textAreaTop" r="textAreaRight" b="textAreaBottom"/>
            <a:pathLst>
              <a:path w="21600" h="21600">
                <a:moveTo>
                  <a:pt x="3375" y="7200"/>
                </a:moveTo>
                <a:lnTo>
                  <a:pt x="16200" y="72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4400"/>
                </a:lnTo>
                <a:lnTo>
                  <a:pt x="3375" y="14400"/>
                </a:lnTo>
                <a:close/>
              </a:path>
              <a:path w="21600" h="21600">
                <a:moveTo>
                  <a:pt x="0" y="7200"/>
                </a:moveTo>
                <a:lnTo>
                  <a:pt x="675" y="7200"/>
                </a:lnTo>
                <a:lnTo>
                  <a:pt x="675" y="14400"/>
                </a:lnTo>
                <a:lnTo>
                  <a:pt x="0" y="14400"/>
                </a:lnTo>
                <a:close/>
              </a:path>
              <a:path w="21600" h="21600">
                <a:moveTo>
                  <a:pt x="1350" y="7200"/>
                </a:moveTo>
                <a:lnTo>
                  <a:pt x="2700" y="7200"/>
                </a:lnTo>
                <a:lnTo>
                  <a:pt x="2700" y="14400"/>
                </a:lnTo>
                <a:lnTo>
                  <a:pt x="1350" y="14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3119400"/>
            <a:ext cx="250920" cy="26820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440" y="19810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nded Nucle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666880" y="254484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核子･原子核衝突における生成粒子数は何個の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Wounded Nucleon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作ったかにより決定され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505320" y="3657600"/>
                <a:ext cx="21333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∝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2629080" y="4062240"/>
                <a:ext cx="1143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6" name=""/>
          <p:cNvSpPr/>
          <p:nvPr/>
        </p:nvSpPr>
        <p:spPr>
          <a:xfrm>
            <a:off x="3886200" y="42670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入射粒子が衝突した標的核子の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52280" y="4952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れを原子核･原子核衝突に拡張して考えると、次のようにな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6320" y="5410080"/>
            <a:ext cx="8839080" cy="114300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920" y="5486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モデル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：生成粒子数は､反応関与部の核子数で決まる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2819520" y="5943600"/>
                <a:ext cx="27129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∝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rticipa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01" name=""/>
          <p:cNvGrpSpPr/>
          <p:nvPr/>
        </p:nvGrpSpPr>
        <p:grpSpPr>
          <a:xfrm>
            <a:off x="6477120" y="2209680"/>
            <a:ext cx="2666880" cy="2057400"/>
            <a:chOff x="6477120" y="2209680"/>
            <a:chExt cx="2666880" cy="2057400"/>
          </a:xfrm>
        </p:grpSpPr>
        <p:sp>
          <p:nvSpPr>
            <p:cNvPr id="602" name=""/>
            <p:cNvSpPr/>
            <p:nvPr/>
          </p:nvSpPr>
          <p:spPr>
            <a:xfrm>
              <a:off x="6477120" y="3886200"/>
              <a:ext cx="25146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934320" y="3962520"/>
              <a:ext cx="22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Busza et al. PRL 34, 836(’7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4" name="docu0051" descr=""/>
            <p:cNvPicPr/>
            <p:nvPr/>
          </p:nvPicPr>
          <p:blipFill>
            <a:blip r:embed="rId1"/>
            <a:stretch/>
          </p:blipFill>
          <p:spPr>
            <a:xfrm>
              <a:off x="6477120" y="2209680"/>
              <a:ext cx="2514600" cy="1754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高エネルギー原子核･原子核衝突実験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高エネルギー原子核･原子核衝突実験の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高温･高密度相の生成と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衝突の様相を見る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衝突反応によって生成した粒子を測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粒子生成量、生成比､運動量分布を他の実験や理論計算と比較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粒子生成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的な測定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様々なエネルギー・粒子の衝突について測定されて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2057400"/>
            <a:ext cx="4266720" cy="1447200"/>
            <a:chOff x="304920" y="2057400"/>
            <a:chExt cx="4266720" cy="1447200"/>
          </a:xfrm>
        </p:grpSpPr>
        <p:sp>
          <p:nvSpPr>
            <p:cNvPr id="44" name=""/>
            <p:cNvSpPr/>
            <p:nvPr/>
          </p:nvSpPr>
          <p:spPr>
            <a:xfrm>
              <a:off x="1202400" y="2057400"/>
              <a:ext cx="171720" cy="9640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32280" y="2540520"/>
              <a:ext cx="171720" cy="9640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4480" y="2379600"/>
              <a:ext cx="513720" cy="322200"/>
            </a:xfrm>
            <a:prstGeom prst="rightArrow">
              <a:avLst>
                <a:gd name="adj1" fmla="val 50000"/>
                <a:gd name="adj2" fmla="val 3986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0813800">
              <a:off x="2460240" y="2941920"/>
              <a:ext cx="570240" cy="322200"/>
            </a:xfrm>
            <a:prstGeom prst="rightArrow">
              <a:avLst>
                <a:gd name="adj1" fmla="val 50000"/>
                <a:gd name="adj2" fmla="val 44246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2184120"/>
              <a:ext cx="127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原子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91840" y="2817720"/>
              <a:ext cx="127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原子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333400" y="1981080"/>
            <a:ext cx="3125160" cy="1599480"/>
            <a:chOff x="5333400" y="1981080"/>
            <a:chExt cx="3125160" cy="1599480"/>
          </a:xfrm>
        </p:grpSpPr>
        <p:sp>
          <p:nvSpPr>
            <p:cNvPr id="51" name=""/>
            <p:cNvSpPr/>
            <p:nvPr/>
          </p:nvSpPr>
          <p:spPr>
            <a:xfrm>
              <a:off x="7723080" y="1981080"/>
              <a:ext cx="183600" cy="106560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824440" y="2337120"/>
              <a:ext cx="182160" cy="106560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38760" y="2514960"/>
              <a:ext cx="612720" cy="106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02040" y="2071440"/>
              <a:ext cx="550800" cy="88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43520" y="2602440"/>
              <a:ext cx="244080" cy="356040"/>
            </a:xfrm>
            <a:prstGeom prst="ellipse">
              <a:avLst/>
            </a:prstGeom>
            <a:solidFill>
              <a:srgbClr val="ff66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865920" y="2336760"/>
              <a:ext cx="59760" cy="356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7010280" y="2562120"/>
              <a:ext cx="306000" cy="177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6497640" y="2336760"/>
              <a:ext cx="245520" cy="356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87960" y="2780640"/>
              <a:ext cx="428400" cy="87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926040" y="2868480"/>
              <a:ext cx="183960" cy="267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6497640" y="2868480"/>
              <a:ext cx="306000" cy="267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6803640" y="2780640"/>
              <a:ext cx="61560" cy="356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313320" y="2780640"/>
              <a:ext cx="429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13800">
              <a:off x="5333760" y="3046320"/>
              <a:ext cx="483840" cy="271080"/>
            </a:xfrm>
            <a:prstGeom prst="rightArrow">
              <a:avLst>
                <a:gd name="adj1" fmla="val 50000"/>
                <a:gd name="adj2" fmla="val 44622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800">
              <a:off x="7907040" y="2179440"/>
              <a:ext cx="550800" cy="312120"/>
            </a:xfrm>
            <a:prstGeom prst="rightArrow">
              <a:avLst>
                <a:gd name="adj1" fmla="val 50000"/>
                <a:gd name="adj2" fmla="val 44118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7086600" y="3124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粒子生成･放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494240" y="2057400"/>
            <a:ext cx="4680" cy="152388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206600">
            <a:off x="4242240" y="2462760"/>
            <a:ext cx="735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実験値との比較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52578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中間子は反応関与部核子数に比例するので、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ounded Nucleon Mode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良く合うといえ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Ｋ中間子は比例からややずれる傾向が見え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8600" y="8380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N/d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が反応関与部核子数に比例するかどうかを調べ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93824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410080" y="41911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0                    200                  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609480" y="1447920"/>
          <a:ext cx="4038840" cy="339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403884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4724280" y="1600200"/>
          <a:ext cx="3772080" cy="329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600200"/>
                    <a:ext cx="377208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4" name=""/>
          <p:cNvGraphicFramePr/>
          <p:nvPr/>
        </p:nvGraphicFramePr>
        <p:xfrm>
          <a:off x="1828800" y="990720"/>
          <a:ext cx="5486400" cy="426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90720"/>
                    <a:ext cx="548640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533520" y="2286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反応関与部核子１個あたりの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dN/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53341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中間子は一定であり、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N/d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反応関与部核子数に比例しているといえ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Ｋ中間子は一定では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Intra Nuclear Cascade Model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との比較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9" name=""/>
          <p:cNvSpPr/>
          <p:nvPr/>
        </p:nvSpPr>
        <p:spPr>
          <a:xfrm>
            <a:off x="380880" y="9907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核子・核子散乱だけでなく、生成粒子の２次散乱等の効果を入れたカスケード計算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RQMD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と比較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8600" y="59436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中間子、Ｋ中間子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N/d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実験値により近い値となってい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4648320" y="1981080"/>
          <a:ext cx="3911400" cy="31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9114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0" y="1828800"/>
          <a:ext cx="4597560" cy="3336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828800"/>
                    <a:ext cx="4597560" cy="33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3809880" y="304812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モデル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による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中間子の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dN/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480" y="474012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24080" y="4740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05120" y="4724280"/>
            <a:ext cx="6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43000" y="5257800"/>
            <a:ext cx="20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反応関与部核子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29200" y="48182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543800" y="480060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248520" y="4800600"/>
            <a:ext cx="7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638680" y="5257800"/>
            <a:ext cx="21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反応関与部核子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09880" y="208584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モデル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による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中間子の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dN/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001000" y="40384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モデル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による　　Ｋ中間子の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dN/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924680" y="213372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モデル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による　　Ｋ中間子の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dN/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001000" y="312408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Ｋ中間子の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dN/dy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（実験値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657600" y="2238480"/>
            <a:ext cx="152280" cy="144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772400" y="2286000"/>
            <a:ext cx="152280" cy="144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657600" y="3152880"/>
            <a:ext cx="228600" cy="14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772400" y="4191120"/>
            <a:ext cx="228600" cy="14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86200" y="414324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中間子の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dN/dy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（実験値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848720" y="3276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733920" y="421956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657600" y="5028840"/>
            <a:ext cx="457200" cy="28440"/>
          </a:xfrm>
          <a:prstGeom prst="line">
            <a:avLst/>
          </a:prstGeom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38480" y="4876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Q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620120" y="1828800"/>
            <a:ext cx="457200" cy="0"/>
          </a:xfrm>
          <a:prstGeom prst="line">
            <a:avLst/>
          </a:prstGeom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001000" y="16765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Q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まとめ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核子当た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58GeV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鉛･鉛原子核衝突におけ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中間子､ Ｋ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中間子、陽子の不変微分断面積の横質量分布を求め､その分布からそれぞれ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N/d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求め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求められ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N/d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もとに､高エネルギー原子核･原子核衝突の基本的な描像を考察した｡その結果､次のことがわかった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 algn="just">
              <a:spcBef>
                <a:spcPts val="499"/>
              </a:spcBef>
              <a:buNone/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モデル１：核子･核子衝突の重ねあわ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 algn="just">
              <a:spcBef>
                <a:spcPts val="499"/>
              </a:spcBef>
              <a:buNone/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中間子は中心衝突になるに連れて、核子･核子衝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回当たり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N/d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減少し、モデ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実験値よ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ver estima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 algn="just">
              <a:spcBef>
                <a:spcPts val="499"/>
              </a:spcBef>
              <a:buNone/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モデル２：核子･核子衝突を基本とし、衝突毎にエネルギーを失っていく反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 algn="just">
              <a:spcBef>
                <a:spcPts val="499"/>
              </a:spcBef>
              <a:buNone/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中間子ではま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ver estima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しているが、Ｋ中間子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nder estima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 algn="just">
              <a:spcBef>
                <a:spcPts val="499"/>
              </a:spcBef>
              <a:buNone/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モデル３：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Wounded nucle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 algn="just">
              <a:spcBef>
                <a:spcPts val="499"/>
              </a:spcBef>
              <a:buNone/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中間子は､モデルの予想と良く合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 algn="just">
              <a:spcBef>
                <a:spcPts val="499"/>
              </a:spcBef>
              <a:buNone/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917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核子当たり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58GeV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の鉛･鉛原子核衝突実験における粒子生成量を求め、衝突反応機構を考察する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次のことを方針として解析した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１．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π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ＭＳ ゴシック"/>
              </a:rPr>
              <a:t>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中間子、Ｋ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ＭＳ ゴシック"/>
              </a:rPr>
              <a:t>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中間子､陽子の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一粒子生成量を　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中心衝突度毎に求め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２．求められた粒子生成量を、基本的な模型と比較　　検討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核子･核子衝突の重ね合わ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Wounded nucleon mod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WA98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実験による測定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609120"/>
            <a:ext cx="85726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WA98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実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30168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核子あた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158GeV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の鉛・鉛衝突実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検出器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setup_1996_small" descr=""/>
          <p:cNvPicPr/>
          <p:nvPr/>
        </p:nvPicPr>
        <p:blipFill>
          <a:blip r:embed="rId1"/>
          <a:stretch/>
        </p:blipFill>
        <p:spPr>
          <a:xfrm>
            <a:off x="3505320" y="2133720"/>
            <a:ext cx="548640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2286000"/>
            <a:ext cx="358164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Spect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位置検出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ad chamber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×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treamer tube detector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×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飛行時間測定器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JTOF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ero Degree Calorimete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d Rapidity Calorimete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で中心衝突度を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5369040" y="304920"/>
            <a:ext cx="3622680" cy="3467160"/>
            <a:chOff x="5369040" y="304920"/>
            <a:chExt cx="3622680" cy="3467160"/>
          </a:xfrm>
        </p:grpSpPr>
        <p:pic>
          <p:nvPicPr>
            <p:cNvPr id="76" name="miracvszdc" descr=""/>
            <p:cNvPicPr/>
            <p:nvPr/>
          </p:nvPicPr>
          <p:blipFill>
            <a:blip r:embed="rId1"/>
            <a:stretch/>
          </p:blipFill>
          <p:spPr>
            <a:xfrm>
              <a:off x="6172200" y="304920"/>
              <a:ext cx="2679840" cy="34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7162920" y="2971800"/>
              <a:ext cx="1828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ZDC(GeV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69040" y="990720"/>
              <a:ext cx="103356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MIRAC(GeV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中心衝突度の決定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80" name="mirac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4191120" cy="2400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24080" y="3505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中心衝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276720" y="3962520"/>
            <a:ext cx="761400" cy="609480"/>
            <a:chOff x="3276720" y="3962520"/>
            <a:chExt cx="761400" cy="609480"/>
          </a:xfrm>
        </p:grpSpPr>
        <p:sp>
          <p:nvSpPr>
            <p:cNvPr id="83" name=""/>
            <p:cNvSpPr/>
            <p:nvPr/>
          </p:nvSpPr>
          <p:spPr>
            <a:xfrm>
              <a:off x="3276720" y="3962520"/>
              <a:ext cx="634320" cy="6094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03440" y="3962520"/>
              <a:ext cx="634680" cy="6094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4479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5257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1    2     3    4   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04920" y="3962520"/>
            <a:ext cx="1142640" cy="609480"/>
            <a:chOff x="304920" y="3962520"/>
            <a:chExt cx="1142640" cy="609480"/>
          </a:xfrm>
        </p:grpSpPr>
        <p:sp>
          <p:nvSpPr>
            <p:cNvPr id="92" name=""/>
            <p:cNvSpPr/>
            <p:nvPr/>
          </p:nvSpPr>
          <p:spPr>
            <a:xfrm>
              <a:off x="304920" y="3962520"/>
              <a:ext cx="601200" cy="6094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46360" y="3962520"/>
              <a:ext cx="601200" cy="6094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648320" y="56386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本研究では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Mid Rapidity Calorimeter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測定値を中心衝突度の物差しとし、中心衝突度を５段階に分けて解析を行っ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3505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周辺衝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42670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05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35812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ZDC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IRAC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で 相補的な測定を行ってい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45720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(MIRAC)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∝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6095880"/>
            <a:ext cx="3505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0199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0    100    200   300   400  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6248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IRAC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測定値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8320" y="4648320"/>
            <a:ext cx="911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イベント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33280" y="609480"/>
            <a:ext cx="3652920" cy="2806920"/>
            <a:chOff x="233280" y="609480"/>
            <a:chExt cx="3652920" cy="2806920"/>
          </a:xfrm>
        </p:grpSpPr>
        <p:pic>
          <p:nvPicPr>
            <p:cNvPr id="105" name="nspec" descr=""/>
            <p:cNvPicPr/>
            <p:nvPr/>
          </p:nvPicPr>
          <p:blipFill>
            <a:blip r:embed="rId3"/>
            <a:stretch/>
          </p:blipFill>
          <p:spPr>
            <a:xfrm>
              <a:off x="304560" y="609480"/>
              <a:ext cx="3429000" cy="25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33280" y="609480"/>
              <a:ext cx="42372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umber of spectator nucle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95280" y="304812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mpact parameter b (f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" y="281952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imes New Roman"/>
                </a:rPr>
                <a:t>0     2      4       6      8     10    12    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962520" y="4572000"/>
            <a:ext cx="3808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35053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54100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19810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実験値　　　　幾何学的描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4382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1981080"/>
            <a:ext cx="160020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990720"/>
            <a:ext cx="635040" cy="60948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990720"/>
            <a:ext cx="635040" cy="60948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1295280"/>
            <a:ext cx="53316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6094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9907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ZDC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測定値は、衝突の幾何学的描像と合ってい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2438280"/>
            <a:ext cx="350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</a:rPr>
              <a:t>ZDC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∝N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</a:rPr>
              <a:t>spect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生成粒子数の測定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飛跡再構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066680" y="5715000"/>
                <a:ext cx="25020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of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4724280" y="121932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位置検出器上の位置情報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(hit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を直線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f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して飛跡を得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1219320"/>
            <a:ext cx="73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1219320"/>
            <a:ext cx="73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1219320"/>
            <a:ext cx="73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219320"/>
            <a:ext cx="73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33520" y="1447560"/>
            <a:ext cx="304776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1498680"/>
            <a:ext cx="7128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1447920"/>
            <a:ext cx="7308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1447920"/>
            <a:ext cx="7128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1828800"/>
            <a:ext cx="7128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1752480"/>
            <a:ext cx="7164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1676520"/>
            <a:ext cx="7128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1600200"/>
            <a:ext cx="7128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09480" y="1599840"/>
            <a:ext cx="29718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1905120"/>
            <a:ext cx="7128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676520"/>
            <a:ext cx="2971800" cy="380880"/>
          </a:xfrm>
          <a:prstGeom prst="line">
            <a:avLst/>
          </a:prstGeom>
          <a:ln w="381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1676520"/>
            <a:ext cx="7128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1523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hits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1066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hits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26971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磁場中での飛跡の曲率を計算して運動量を得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4800600"/>
            <a:ext cx="411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運動量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、飛行時間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to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、飛跡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を用いて粒子質量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を計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-204840" y="209160"/>
            <a:ext cx="4700160" cy="4060440"/>
            <a:chOff x="-204840" y="209160"/>
            <a:chExt cx="4700160" cy="4060440"/>
          </a:xfrm>
        </p:grpSpPr>
        <p:sp>
          <p:nvSpPr>
            <p:cNvPr id="147" name=""/>
            <p:cNvSpPr/>
            <p:nvPr/>
          </p:nvSpPr>
          <p:spPr>
            <a:xfrm>
              <a:off x="1752480" y="3047760"/>
              <a:ext cx="990360" cy="1066320"/>
            </a:xfrm>
            <a:prstGeom prst="ellipse">
              <a:avLst/>
            </a:prstGeom>
            <a:solidFill>
              <a:srgbClr val="33cccc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080" y="3581280"/>
              <a:ext cx="3200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09480" y="3428640"/>
              <a:ext cx="114264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520" y="3504960"/>
              <a:ext cx="7596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3200" y="3809880"/>
              <a:ext cx="152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g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2590560" y="3733560"/>
              <a:ext cx="30456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915280" y="2390040"/>
              <a:ext cx="1352160" cy="946800"/>
              <a:chOff x="2915280" y="2390040"/>
              <a:chExt cx="1352160" cy="946800"/>
            </a:xfrm>
          </p:grpSpPr>
          <p:sp>
            <p:nvSpPr>
              <p:cNvPr id="154" name=""/>
              <p:cNvSpPr/>
              <p:nvPr/>
            </p:nvSpPr>
            <p:spPr>
              <a:xfrm rot="20364000">
                <a:off x="3009600" y="2799720"/>
                <a:ext cx="49680" cy="545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364000">
                <a:off x="3380760" y="2660400"/>
                <a:ext cx="49320" cy="545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0364000">
                <a:off x="3740040" y="2525400"/>
                <a:ext cx="49680" cy="545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364000">
                <a:off x="4123440" y="2381040"/>
                <a:ext cx="49320" cy="545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 flipV="1">
              <a:off x="2590560" y="2437920"/>
              <a:ext cx="1904760" cy="761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47560" y="2971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68680" y="304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7400" y="3504960"/>
              <a:ext cx="68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5350200">
              <a:off x="64440" y="-10440"/>
              <a:ext cx="3199680" cy="36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94" y="5471"/>
                  </a:moveTo>
                  <a:arcTo wR="10800" hR="10800" stAng="-1773983" swAng="1559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94" y="5471"/>
                  </a:moveTo>
                  <a:arcTo wR="10800" hR="10800" stAng="-1773983" swAng="1559924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76160" y="3352680"/>
              <a:ext cx="152280" cy="151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4600" y="3124080"/>
              <a:ext cx="147240" cy="151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124080" y="3276720"/>
                <a:ext cx="1803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=</m:t>
                    </m:r>
                    <m:r>
                      <m:t xml:space="preserve">q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B</m:t>
                        </m:r>
                        <m:r>
                          <m:t xml:space="preserve">×</m:t>
                        </m:r>
                        <m: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22860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運動量測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0760" y="4267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粒子識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D" descr=""/>
          <p:cNvPicPr/>
          <p:nvPr/>
        </p:nvPicPr>
        <p:blipFill>
          <a:blip r:embed="rId1"/>
          <a:stretch/>
        </p:blipFill>
        <p:spPr>
          <a:xfrm>
            <a:off x="5257800" y="3822840"/>
            <a:ext cx="32004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3048120"/>
            <a:ext cx="8458200" cy="137160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検出された生の粒子数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44956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1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検出された粒子数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y-m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分布が得ら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の粒子数には、測定法に依存する様々な効果が含まれており、本来の粒子生成量を表してい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補正が必要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0440" y="266076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ja-JP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中間子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1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2590920" cy="1801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H="1">
            <a:off x="1523880" y="1967040"/>
            <a:ext cx="1371600" cy="73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09480" y="1071720"/>
            <a:ext cx="990720" cy="406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1722600"/>
            <a:ext cx="609480" cy="244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05120" y="25351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m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8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ka1" descr=""/>
          <p:cNvPicPr/>
          <p:nvPr/>
        </p:nvPicPr>
        <p:blipFill>
          <a:blip r:embed="rId2"/>
          <a:stretch/>
        </p:blipFill>
        <p:spPr>
          <a:xfrm>
            <a:off x="3352680" y="838080"/>
            <a:ext cx="2743200" cy="1803600"/>
          </a:xfrm>
          <a:prstGeom prst="rect">
            <a:avLst/>
          </a:prstGeom>
          <a:ln w="0">
            <a:noFill/>
          </a:ln>
        </p:spPr>
      </p:pic>
      <p:pic>
        <p:nvPicPr>
          <p:cNvPr id="180" name="pro1" descr=""/>
          <p:cNvPicPr/>
          <p:nvPr/>
        </p:nvPicPr>
        <p:blipFill>
          <a:blip r:embed="rId3"/>
          <a:stretch/>
        </p:blipFill>
        <p:spPr>
          <a:xfrm>
            <a:off x="6324480" y="838080"/>
            <a:ext cx="2362320" cy="1676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809880" y="2651040"/>
            <a:ext cx="20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Ｋ</a:t>
            </a:r>
            <a:r>
              <a:rPr b="1" lang="ja-JP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中間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96160" y="26510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陽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838080" y="3200400"/>
                <a:ext cx="2286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E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553080" y="32004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運動量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,y,φ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で表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3048120"/>
            <a:ext cx="8458200" cy="13716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14400" y="1981080"/>
            <a:ext cx="914400" cy="53352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20574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00"/>
                </a:solidFill>
                <a:latin typeface="Times New Roman"/>
              </a:rPr>
              <a:t>y</a:t>
            </a:r>
            <a:r>
              <a:rPr b="0" lang="ja-JP" sz="2800" spc="-1" strike="noStrike" baseline="-25000">
                <a:solidFill>
                  <a:srgbClr val="ff9900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276720" y="1599840"/>
            <a:ext cx="1295280" cy="6858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205740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00"/>
                </a:solidFill>
                <a:latin typeface="Times New Roman"/>
              </a:rPr>
              <a:t>y</a:t>
            </a:r>
            <a:r>
              <a:rPr b="0" lang="ja-JP" sz="2800" spc="-1" strike="noStrike" baseline="-25000">
                <a:solidFill>
                  <a:srgbClr val="ff9900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19051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00"/>
                </a:solidFill>
                <a:latin typeface="Times New Roman"/>
              </a:rPr>
              <a:t>y</a:t>
            </a:r>
            <a:r>
              <a:rPr b="0" lang="ja-JP" sz="2800" spc="-1" strike="noStrike" baseline="-25000">
                <a:solidFill>
                  <a:srgbClr val="ff9900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095880" y="1447560"/>
            <a:ext cx="1295640" cy="6858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190512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16765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1752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12193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1066680"/>
            <a:ext cx="54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610480" y="16765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86600" y="1143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458200" y="190512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198108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0120" y="23623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809520" y="3886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3886200"/>
            <a:ext cx="106704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0384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05320" y="3886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4290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3886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ビーム軸方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038480" y="3505320"/>
            <a:ext cx="609840" cy="380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35053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3505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3505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3581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988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885480" y="3657600"/>
            <a:ext cx="152280" cy="152280"/>
          </a:xfrm>
          <a:custGeom>
            <a:avLst/>
            <a:gdLst>
              <a:gd name="textAreaLeft" fmla="*/ -360 w 152280"/>
              <a:gd name="textAreaRight" fmla="*/ 15228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8428415"/>
                <a:lnTo>
                  <a:pt x="2470" y="3927"/>
                </a:lnTo>
                <a:arcTo wR="10800" hR="10800" stAng="-8428415" swAng="8428415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3352680"/>
            <a:ext cx="15264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2971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0" y="2666880"/>
          <a:ext cx="2819520" cy="23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281952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3124080" y="2662200"/>
          <a:ext cx="2819520" cy="236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662200"/>
                    <a:ext cx="281952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095880" y="2666880"/>
          <a:ext cx="2819520" cy="23623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2666880"/>
                    <a:ext cx="28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pi2" descr=""/>
          <p:cNvPicPr/>
          <p:nvPr/>
        </p:nvPicPr>
        <p:blipFill>
          <a:blip r:embed="rId7"/>
          <a:stretch/>
        </p:blipFill>
        <p:spPr>
          <a:xfrm>
            <a:off x="609480" y="5334120"/>
            <a:ext cx="1447920" cy="1274760"/>
          </a:xfrm>
          <a:prstGeom prst="rect">
            <a:avLst/>
          </a:prstGeom>
          <a:ln w="0">
            <a:noFill/>
          </a:ln>
        </p:spPr>
      </p:pic>
      <p:pic>
        <p:nvPicPr>
          <p:cNvPr id="227" name="pro2" descr=""/>
          <p:cNvPicPr/>
          <p:nvPr/>
        </p:nvPicPr>
        <p:blipFill>
          <a:blip r:embed="rId8"/>
          <a:stretch/>
        </p:blipFill>
        <p:spPr>
          <a:xfrm>
            <a:off x="6858000" y="5334120"/>
            <a:ext cx="1447920" cy="1344600"/>
          </a:xfrm>
          <a:prstGeom prst="rect">
            <a:avLst/>
          </a:prstGeom>
          <a:ln w="0">
            <a:noFill/>
          </a:ln>
        </p:spPr>
      </p:pic>
      <p:pic>
        <p:nvPicPr>
          <p:cNvPr id="228" name="ka2" descr=""/>
          <p:cNvPicPr/>
          <p:nvPr/>
        </p:nvPicPr>
        <p:blipFill>
          <a:blip r:embed="rId9"/>
          <a:stretch/>
        </p:blipFill>
        <p:spPr>
          <a:xfrm>
            <a:off x="3505320" y="5334120"/>
            <a:ext cx="1523880" cy="1349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85800" y="152280"/>
            <a:ext cx="5029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(y, m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(p, θ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対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762120"/>
            <a:ext cx="3048120" cy="2007720"/>
            <a:chOff x="228600" y="762120"/>
            <a:chExt cx="3048120" cy="2007720"/>
          </a:xfrm>
        </p:grpSpPr>
        <p:sp>
          <p:nvSpPr>
            <p:cNvPr id="231" name=""/>
            <p:cNvSpPr/>
            <p:nvPr/>
          </p:nvSpPr>
          <p:spPr>
            <a:xfrm flipH="1">
              <a:off x="533160" y="16005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2120" y="1600560"/>
              <a:ext cx="10666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762120" y="9907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8600" y="1600560"/>
              <a:ext cx="4572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1240" y="762120"/>
              <a:ext cx="533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00200" y="11433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47920" y="16005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3333cc"/>
                  </a:solidFill>
                  <a:latin typeface="Times New Roman"/>
                </a:rPr>
                <a:t>ビーム軸方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762120" y="1295280"/>
              <a:ext cx="5335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36960" y="1295640"/>
              <a:ext cx="58680" cy="507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5120" y="1449720"/>
              <a:ext cx="3038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47920" y="762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1218960" y="1143360"/>
              <a:ext cx="304920" cy="380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191120" y="914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97120" y="104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76920" y="121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02400" y="81288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05520" y="9907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62720" y="12096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7524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+m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+ p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os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38680" y="120960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+m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  p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os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486400" y="752400"/>
            <a:ext cx="1066320" cy="380880"/>
            <a:chOff x="5486400" y="752400"/>
            <a:chExt cx="1066320" cy="380880"/>
          </a:xfrm>
        </p:grpSpPr>
        <p:sp>
          <p:nvSpPr>
            <p:cNvPr id="252" name=""/>
            <p:cNvSpPr/>
            <p:nvPr/>
          </p:nvSpPr>
          <p:spPr>
            <a:xfrm>
              <a:off x="5604480" y="752400"/>
              <a:ext cx="94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545440" y="752400"/>
              <a:ext cx="590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0" y="1056960"/>
              <a:ext cx="590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486400" y="1285920"/>
            <a:ext cx="1142640" cy="380880"/>
            <a:chOff x="5486400" y="1285920"/>
            <a:chExt cx="1142640" cy="380880"/>
          </a:xfrm>
        </p:grpSpPr>
        <p:sp>
          <p:nvSpPr>
            <p:cNvPr id="256" name=""/>
            <p:cNvSpPr/>
            <p:nvPr/>
          </p:nvSpPr>
          <p:spPr>
            <a:xfrm>
              <a:off x="5613120" y="1285920"/>
              <a:ext cx="10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549400" y="1285920"/>
              <a:ext cx="6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86400" y="1590480"/>
              <a:ext cx="633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136040" y="2057400"/>
            <a:ext cx="111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 m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2920" y="2133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15000" y="2057400"/>
            <a:ext cx="31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inθ)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+m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65760" y="2057400"/>
            <a:ext cx="2235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5715000" y="2057400"/>
            <a:ext cx="63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2438280"/>
            <a:ext cx="13968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4520" y="266688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θ= 2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30400" y="327672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θ= 2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58600" y="297180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θ= 2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735320" y="388620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θ= 1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63520" y="380988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θ= 1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15400" y="342900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θ= 1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63120" y="312408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θ= 15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83040" y="365760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θ= 15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11240" y="342900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θ= 15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92080" y="380988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θ= 5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12000" y="419112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θ= 5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16160" y="411480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θ= 5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720" y="297180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p=10(Ge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34640" y="297180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=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82760" y="304812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=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3200" y="3657600"/>
            <a:ext cx="4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82760" y="3886200"/>
            <a:ext cx="4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87280" y="3809880"/>
            <a:ext cx="4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6880" y="4114800"/>
            <a:ext cx="4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58680" y="4191120"/>
            <a:ext cx="4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78200" y="4191120"/>
            <a:ext cx="4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7960" y="4952880"/>
            <a:ext cx="2658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中間子　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=0.14(G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71200" y="4952880"/>
            <a:ext cx="249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Ｋ中間子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=0.49 (G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4952880"/>
            <a:ext cx="228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陽子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=0.94 (G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68320" y="434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07360" y="633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82520" y="633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4320" y="633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783640" y="4572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2760" y="4572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240" y="5410080"/>
            <a:ext cx="76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84440" y="5410080"/>
            <a:ext cx="76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31760" y="5410080"/>
            <a:ext cx="76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03560" y="2590920"/>
            <a:ext cx="76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36320" y="2514600"/>
            <a:ext cx="76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4520" y="2514600"/>
            <a:ext cx="76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-36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7628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検出器のアクセプタン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多重散乱・粒子の崩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検出器の位置分解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検出器の検出効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補正が必要な効果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3" name=""/>
          <p:cNvSpPr/>
          <p:nvPr/>
        </p:nvSpPr>
        <p:spPr>
          <a:xfrm>
            <a:off x="4267080" y="24382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多重散乱や粒子の崩壊によって､飛跡が再構成されない場合や、ずれて再構成される場合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67080" y="12193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検出されない方位角方向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14400" y="1294920"/>
            <a:ext cx="2819520" cy="762120"/>
            <a:chOff x="914400" y="1294920"/>
            <a:chExt cx="2819520" cy="762120"/>
          </a:xfrm>
        </p:grpSpPr>
        <p:grpSp>
          <p:nvGrpSpPr>
            <p:cNvPr id="306" name=""/>
            <p:cNvGrpSpPr/>
            <p:nvPr/>
          </p:nvGrpSpPr>
          <p:grpSpPr>
            <a:xfrm>
              <a:off x="1326960" y="1458360"/>
              <a:ext cx="1718640" cy="598680"/>
              <a:chOff x="1326960" y="1458360"/>
              <a:chExt cx="1718640" cy="598680"/>
            </a:xfrm>
          </p:grpSpPr>
          <p:sp>
            <p:nvSpPr>
              <p:cNvPr id="307" name=""/>
              <p:cNvSpPr/>
              <p:nvPr/>
            </p:nvSpPr>
            <p:spPr>
              <a:xfrm>
                <a:off x="1326960" y="1458360"/>
                <a:ext cx="68760" cy="598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876680" y="1458360"/>
                <a:ext cx="68760" cy="598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427120" y="1458360"/>
                <a:ext cx="68400" cy="598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76840" y="1458360"/>
                <a:ext cx="68760" cy="598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 flipV="1">
              <a:off x="914400" y="1294920"/>
              <a:ext cx="1994040" cy="435240"/>
            </a:xfrm>
            <a:prstGeom prst="line">
              <a:avLst/>
            </a:prstGeom>
            <a:ln w="57240">
              <a:solidFill>
                <a:srgbClr val="33cc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914400" y="1567440"/>
              <a:ext cx="2819520" cy="2721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267080" y="38862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検出器の位置分解能により､飛跡が再構成されない場合や、ずれた飛跡が再構成される場合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85800" y="4419720"/>
            <a:ext cx="3124080" cy="685800"/>
            <a:chOff x="685800" y="4419720"/>
            <a:chExt cx="3124080" cy="685800"/>
          </a:xfrm>
        </p:grpSpPr>
        <p:sp>
          <p:nvSpPr>
            <p:cNvPr id="315" name=""/>
            <p:cNvSpPr/>
            <p:nvPr/>
          </p:nvSpPr>
          <p:spPr>
            <a:xfrm>
              <a:off x="1371600" y="4419720"/>
              <a:ext cx="7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05120" y="4419720"/>
              <a:ext cx="7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14600" y="4419720"/>
              <a:ext cx="7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24080" y="4419720"/>
              <a:ext cx="7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685800" y="4648320"/>
              <a:ext cx="3124080" cy="61920"/>
            </a:xfrm>
            <a:prstGeom prst="line">
              <a:avLst/>
            </a:prstGeom>
            <a:ln w="28440">
              <a:solidFill>
                <a:srgbClr val="33cc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71600" y="4724280"/>
              <a:ext cx="71280" cy="6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124080" y="4648320"/>
              <a:ext cx="71640" cy="6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14600" y="4648320"/>
              <a:ext cx="73080" cy="6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05120" y="4724280"/>
              <a:ext cx="7920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762120" y="5791320"/>
            <a:ext cx="3124080" cy="685800"/>
            <a:chOff x="762120" y="5791320"/>
            <a:chExt cx="3124080" cy="685800"/>
          </a:xfrm>
        </p:grpSpPr>
        <p:sp>
          <p:nvSpPr>
            <p:cNvPr id="325" name=""/>
            <p:cNvSpPr/>
            <p:nvPr/>
          </p:nvSpPr>
          <p:spPr>
            <a:xfrm>
              <a:off x="1295640" y="5791320"/>
              <a:ext cx="7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76680" y="5791320"/>
              <a:ext cx="7272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38640" y="5791320"/>
              <a:ext cx="7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38760" y="5791320"/>
              <a:ext cx="7272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762120" y="6019920"/>
              <a:ext cx="3124080" cy="6192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95640" y="6019920"/>
              <a:ext cx="71280" cy="6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38640" y="6019920"/>
              <a:ext cx="73080" cy="6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33520" y="2590920"/>
            <a:ext cx="3581280" cy="1066680"/>
            <a:chOff x="533520" y="2590920"/>
            <a:chExt cx="3581280" cy="1066680"/>
          </a:xfrm>
        </p:grpSpPr>
        <p:sp>
          <p:nvSpPr>
            <p:cNvPr id="333" name=""/>
            <p:cNvSpPr/>
            <p:nvPr/>
          </p:nvSpPr>
          <p:spPr>
            <a:xfrm>
              <a:off x="1371600" y="2976480"/>
              <a:ext cx="68400" cy="681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2976480"/>
              <a:ext cx="69840" cy="681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2976480"/>
              <a:ext cx="69840" cy="681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24080" y="2976480"/>
              <a:ext cx="68400" cy="681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3520" y="3162240"/>
              <a:ext cx="3305160" cy="185760"/>
            </a:xfrm>
            <a:custGeom>
              <a:avLst/>
              <a:gdLst/>
              <a:ahLst/>
              <a:rect l="l" t="t" r="r" b="b"/>
              <a:pathLst>
                <a:path w="1920" h="288">
                  <a:moveTo>
                    <a:pt x="0" y="288"/>
                  </a:moveTo>
                  <a:lnTo>
                    <a:pt x="336" y="144"/>
                  </a:lnTo>
                  <a:lnTo>
                    <a:pt x="432" y="192"/>
                  </a:lnTo>
                  <a:lnTo>
                    <a:pt x="576" y="144"/>
                  </a:lnTo>
                  <a:lnTo>
                    <a:pt x="768" y="192"/>
                  </a:lnTo>
                  <a:lnTo>
                    <a:pt x="960" y="96"/>
                  </a:lnTo>
                  <a:lnTo>
                    <a:pt x="1056" y="96"/>
                  </a:lnTo>
                  <a:lnTo>
                    <a:pt x="1152" y="96"/>
                  </a:lnTo>
                  <a:lnTo>
                    <a:pt x="1296" y="48"/>
                  </a:lnTo>
                  <a:cubicBezTo>
                    <a:pt x="1375" y="52"/>
                    <a:pt x="1453" y="55"/>
                    <a:pt x="1532" y="59"/>
                  </a:cubicBezTo>
                  <a:lnTo>
                    <a:pt x="1680" y="0"/>
                  </a:lnTo>
                  <a:lnTo>
                    <a:pt x="1920" y="0"/>
                  </a:lnTo>
                </a:path>
              </a:pathLst>
            </a:custGeom>
            <a:noFill/>
            <a:ln w="50760">
              <a:solidFill>
                <a:srgbClr val="33cc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70280" y="3162240"/>
              <a:ext cx="34452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33520" y="3100320"/>
              <a:ext cx="3581280" cy="2476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43000" y="3048120"/>
              <a:ext cx="117000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2286000" y="2590920"/>
              <a:ext cx="914400" cy="43344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86000" y="3048120"/>
              <a:ext cx="762120" cy="60948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14600" y="3200400"/>
              <a:ext cx="73080" cy="6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24080" y="3124080"/>
              <a:ext cx="73080" cy="6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905120" y="3276720"/>
              <a:ext cx="73080" cy="6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371600" y="3276720"/>
              <a:ext cx="73080" cy="6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71600" y="3048120"/>
              <a:ext cx="73080" cy="6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05120" y="3048120"/>
              <a:ext cx="73080" cy="6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4267080" y="54100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検出器の検出効率により､飛跡が再構成されない場合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9T06:04:09Z</dcterms:created>
  <dc:creator>Heavy ion experiment group</dc:creator>
  <dc:description/>
  <dc:language>en-US</dc:language>
  <cp:lastModifiedBy>Masaya Ono</cp:lastModifiedBy>
  <dcterms:modified xsi:type="dcterms:W3CDTF">2001-02-18T20:47:18Z</dcterms:modified>
  <cp:revision>95</cp:revision>
  <dc:subject/>
  <dc:title>高エネルギー原子核・原子核衝突実験</dc:title>
</cp:coreProperties>
</file>