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27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-454025" cy="-45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高エネルギー原子核実験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のための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Pestov Spark Counter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の試作と評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理工学研究科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学籍番号　９９３４３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箱崎　大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出力の立ち上が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Pestov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は、従来のカウンターより、立ち上がり時間が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３倍速い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4952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esto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立ち上がり時間は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00p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。　　　　　　　　　　　　　　　プラスチック・シンチレーションカウンターは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00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990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(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6240" y="44197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(a.u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74800" y="1066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 　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 　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  　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698480" y="380880"/>
            <a:ext cx="5080320" cy="4673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587560" y="152388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estov Spark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プラスチック・シンチレーションカウンタ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63244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57720" y="6248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時間特性に優れ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カウンター効率と測定時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111960" y="2705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7616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測定時間（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38160" y="5638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カウンター効率は測定時間と共に減少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6172200" cy="5257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694680" y="1600200"/>
            <a:ext cx="33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s=9b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.V.=4.5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測定後のカソードの表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測定後のカソード表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808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6172200"/>
            <a:ext cx="62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測定によって、カソード上に付着物が作ら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40800" y="11430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効率の減少の原因を探るため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測定後の電極板の状態を顕微鏡撮影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測定前のカソード表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58720" y="533412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3615840" y="355824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04560" y="533412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6668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541008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58200" y="26668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8187840" y="363420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06680" y="541008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0" y="2709720"/>
          <a:ext cx="3733920" cy="262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709720"/>
                    <a:ext cx="3733920" cy="26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80880" y="2743200"/>
          <a:ext cx="3353040" cy="25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743200"/>
                    <a:ext cx="33530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895480" y="56386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99"/>
                </a:solidFill>
                <a:latin typeface="Times New Roman"/>
              </a:rPr>
              <a:t>緑　良い状態　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青　付着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効率の減少は付着物が原因なのか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9600" y="4876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測定時間（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53341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カソード表面の付着物を洗浄することによって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検出器は再生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-344880" y="2705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63244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06760" y="6172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付着物が原因で効率が減少すると考えら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06040" y="990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カソードをアセトンで洗浄して付着物を取り除き再度測定を行な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010640" cy="466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352680" y="1600200"/>
            <a:ext cx="0" cy="32767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1600200"/>
            <a:ext cx="0" cy="32767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794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洗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845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洗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05120" y="2057400"/>
            <a:ext cx="16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s=9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.V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5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効率は何に依存するの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-647280" y="239796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fficiency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912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31280" y="40384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測定時間（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16640" y="685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（２）印加電圧依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91040" y="40384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印加電圧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依存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3124080" cy="3336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75360" y="685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（１）ガスのみでの影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71440" y="685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（３）ガス流れの依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7960" y="603576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効率は、付着物形成のパラメーターとして考えら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放電とガスの流れに依存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4038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ガスの強制対流の大きさに依存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343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ガスのみで影響は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19320" y="4952880"/>
          <a:ext cx="6705360" cy="1076400"/>
        </p:xfrm>
        <a:graphic>
          <a:graphicData uri="http://schemas.openxmlformats.org/drawingml/2006/table">
            <a:tbl>
              <a:tblPr/>
              <a:tblGrid>
                <a:gridCol w="1293480"/>
                <a:gridCol w="947880"/>
                <a:gridCol w="830160"/>
                <a:gridCol w="914400"/>
                <a:gridCol w="271944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k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kV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ガスを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時間置く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時間の効率（％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124080" y="914400"/>
            <a:ext cx="2989440" cy="3352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6095880" y="914400"/>
            <a:ext cx="3048120" cy="33526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 flipV="1">
            <a:off x="8458200" y="2133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74120" y="1752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強制対流の大き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付着物の化学的解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分析センターの鹿島先生に解析を依頼し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１）クロロホルム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溶けることから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有機物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6640" y="16002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２）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</a:rPr>
              <a:t>核磁気共鳴による測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41200" y="15238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３）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</a:rPr>
              <a:t>紫外光領域での吸収波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743200"/>
            <a:ext cx="33847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2428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029200" y="1981080"/>
          <a:ext cx="352440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1981080"/>
                    <a:ext cx="3524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5570280" y="4724280"/>
            <a:ext cx="25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200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～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220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ｎｍ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領域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ピークを持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638680"/>
            <a:ext cx="51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反応しやすい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エチレン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イソプレ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放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変化すると考えら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70680" y="58672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紫外光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二次電子なだれ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減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8153280" y="1981080"/>
            <a:ext cx="0" cy="24386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55680" y="2286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アルミの仕事関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38080" y="1981080"/>
            <a:ext cx="2638440" cy="2886120"/>
            <a:chOff x="838080" y="1981080"/>
            <a:chExt cx="2638440" cy="2886120"/>
          </a:xfrm>
        </p:grpSpPr>
        <p:graphicFrame>
          <p:nvGraphicFramePr>
            <p:cNvPr id="276" name=""/>
            <p:cNvGraphicFramePr/>
            <p:nvPr/>
          </p:nvGraphicFramePr>
          <p:xfrm>
            <a:off x="838080" y="2057400"/>
            <a:ext cx="2638440" cy="2809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38080" y="2057400"/>
                      <a:ext cx="2638440" cy="28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2675880" y="3429000"/>
              <a:ext cx="69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85520" y="1981080"/>
              <a:ext cx="69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9480" y="472428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つのピークは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0" lang="ja-JP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0" lang="ja-JP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55627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の時間分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4880" y="5410080"/>
            <a:ext cx="413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igm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.965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99±1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スタートカウンターの時間分解能は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99p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な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29520" y="4800600"/>
            <a:ext cx="36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1-Ts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371600" y="1066680"/>
          <a:ext cx="586728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66680"/>
                    <a:ext cx="5867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時間分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-11520" y="4952880"/>
            <a:ext cx="406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pestov‐star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30±7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　 ＝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star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99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pesto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4±10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65440" y="3436920"/>
            <a:ext cx="4429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4800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24000" y="1066680"/>
          <a:ext cx="4248000" cy="30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066680"/>
                    <a:ext cx="424800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703600" y="1828800"/>
            <a:ext cx="17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9ba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.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1520" y="419112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pestov-start(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ch=25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5040" y="411480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pestov-start(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34400" y="4952880"/>
            <a:ext cx="251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プラスチック・シンチレーションカウンタ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時間分解能は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70p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程度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同程度の性能が得られ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572000" y="1066680"/>
          <a:ext cx="426708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066680"/>
                    <a:ext cx="4267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6890400" y="167652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効率と時間分布の広が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1000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5257800"/>
            <a:ext cx="56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効率の減少と共に時間分布は広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以下の原因が考えら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（１）出力波高低下による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Slewing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（２）放電形成の変化による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Timing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のズ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1280" y="47242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192200">
            <a:off x="189360" y="20217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045040" y="121932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0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電荷と効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812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04880" y="528948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効率の減少と共に電荷は減少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時間分布は、出力の波高の低下に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Slewing Effect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の影響がある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3680" y="48769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324480" y="1371600"/>
          <a:ext cx="245916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1371600"/>
                    <a:ext cx="24591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6491520" y="4648320"/>
            <a:ext cx="24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DC Mea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03520" y="91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荷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-469440" y="2617920"/>
            <a:ext cx="24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DC Mea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02760" y="2057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効率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685800" y="-76320"/>
            <a:ext cx="55119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高エネルギー原子核実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目的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QG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生成と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衝突の様子を知るために粒子識別が必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特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生成粒子の多重度が高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検出器の粒子密度が大きくな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4800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検出器は、粒子密度が高い中で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十分な位置・時間分解能を持つことが要求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時間分布の広がりは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Slewing Effect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なの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-1459440" y="2799720"/>
            <a:ext cx="41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pestov-star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ch=25p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5305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効率が減少すると電荷の低い所では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遅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成分があるが、電荷が同じなのに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ズレ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出力波高の低下による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Slewing Effect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の影響だけでは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838080" y="1295280"/>
          <a:ext cx="708660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5280"/>
                    <a:ext cx="7086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4519080" y="15238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青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h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効率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赤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~24h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効率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5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75280" y="5105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荷（ｃ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13716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電荷の違いと時間分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06760" y="556272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電荷の高い所では、測定初期と後期の時間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に変化はないと考えら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-275400" y="26924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/N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03400" y="502920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pestov-star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ch=25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0" y="1066680"/>
          <a:ext cx="4114800" cy="392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066680"/>
                    <a:ext cx="4114800" cy="39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"/>
          <p:cNvGrpSpPr/>
          <p:nvPr/>
        </p:nvGrpSpPr>
        <p:grpSpPr>
          <a:xfrm>
            <a:off x="6480000" y="1447920"/>
            <a:ext cx="1978560" cy="1186560"/>
            <a:chOff x="6480000" y="1447920"/>
            <a:chExt cx="1978560" cy="1186560"/>
          </a:xfrm>
        </p:grpSpPr>
        <p:sp>
          <p:nvSpPr>
            <p:cNvPr id="335" name=""/>
            <p:cNvSpPr/>
            <p:nvPr/>
          </p:nvSpPr>
          <p:spPr>
            <a:xfrm>
              <a:off x="6568920" y="2057040"/>
              <a:ext cx="60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68920" y="1676160"/>
              <a:ext cx="60912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69760" y="1447920"/>
              <a:ext cx="128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～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4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～</a:t>
              </a: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24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80000" y="21747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7ch&lt;A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533520" y="1066680"/>
          <a:ext cx="3886200" cy="388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066680"/>
                    <a:ext cx="3886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2355480" y="1295280"/>
            <a:ext cx="1950120" cy="1221840"/>
            <a:chOff x="2355480" y="1295280"/>
            <a:chExt cx="1950120" cy="1221840"/>
          </a:xfrm>
        </p:grpSpPr>
        <p:sp>
          <p:nvSpPr>
            <p:cNvPr id="342" name=""/>
            <p:cNvSpPr/>
            <p:nvPr/>
          </p:nvSpPr>
          <p:spPr>
            <a:xfrm>
              <a:off x="2415960" y="1904760"/>
              <a:ext cx="60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15960" y="1523880"/>
              <a:ext cx="60912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6800" y="1295280"/>
              <a:ext cx="128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～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4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～</a:t>
              </a: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24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5480" y="2057400"/>
              <a:ext cx="170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C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1532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効率の減少と時間分布の広がりの</a:t>
            </a: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原因は何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2720" y="140976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放電形成が変化すると考えられ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付着物の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ギャップ長の減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カソードの仕事関数の増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初期電子数の減少、紫外光の減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紫外光による二次電子なだれの減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30080" y="60199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ストリーマー放電に至る過程の変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05240" y="53341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05240" y="23623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80988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なぜ効率の減少と時間の広がりが起こる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85440" y="3886200"/>
            <a:ext cx="292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ストリーマー放電のパタ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（１）一次電子なだ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（２）一次電子なだれ＋二次電子なだ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（３）二次電子なだれ＋二次電子なだ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6680" y="12398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付着物形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58560" y="12952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付着物形成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60760" y="5202360"/>
            <a:ext cx="245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１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放電が起こり難くなり、効率は減少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２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測定初期は、（１）のパターンにより、出力を得るが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　 測定後期では、（１）では得られず、（２）、（３）で得る状態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　 作られて時間が広がる。（カスケード模型で（２）は（１）より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200ps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遅い）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75800" y="8380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出力は、ストリーマー放電に達しないと得られ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3040" y="4267080"/>
            <a:ext cx="68580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3040" y="4572000"/>
            <a:ext cx="685800" cy="0"/>
          </a:xfrm>
          <a:prstGeom prst="line">
            <a:avLst/>
          </a:prstGeom>
          <a:ln cap="rnd" w="284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72680" y="48769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94000" y="403848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一次電子なだ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二次電子なだ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紫外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2160" y="1863720"/>
            <a:ext cx="4114800" cy="27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8120" y="3578400"/>
            <a:ext cx="4114800" cy="27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853920" y="2136600"/>
            <a:ext cx="609840" cy="1167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9560" y="2617920"/>
            <a:ext cx="304560" cy="823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0800000">
            <a:off x="2149560" y="2206800"/>
            <a:ext cx="761760" cy="13204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43840" y="1828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１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63160" y="1828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1844280" y="2136240"/>
            <a:ext cx="685800" cy="8240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87840" y="1863720"/>
            <a:ext cx="4038480" cy="27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87840" y="3578400"/>
            <a:ext cx="4038480" cy="274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0800000">
            <a:off x="3521160" y="2206800"/>
            <a:ext cx="761760" cy="13204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0800000">
            <a:off x="3292560" y="2206800"/>
            <a:ext cx="761760" cy="13204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16240" y="3303720"/>
            <a:ext cx="38088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92560" y="3166920"/>
            <a:ext cx="53316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8440" y="1828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３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0800000">
            <a:off x="5121360" y="2136240"/>
            <a:ext cx="380880" cy="8240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21360" y="3166920"/>
            <a:ext cx="380880" cy="411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92960" y="3166920"/>
            <a:ext cx="380880" cy="411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0800000">
            <a:off x="6339960" y="2136240"/>
            <a:ext cx="381240" cy="4813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68920" y="2411280"/>
            <a:ext cx="152640" cy="7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797160" y="2892600"/>
            <a:ext cx="228960" cy="206280"/>
            <a:chOff x="6797160" y="2892600"/>
            <a:chExt cx="228960" cy="206280"/>
          </a:xfrm>
        </p:grpSpPr>
        <p:sp>
          <p:nvSpPr>
            <p:cNvPr id="383" name=""/>
            <p:cNvSpPr/>
            <p:nvPr/>
          </p:nvSpPr>
          <p:spPr>
            <a:xfrm>
              <a:off x="6797520" y="2892600"/>
              <a:ext cx="22860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797160" y="2892600"/>
              <a:ext cx="22860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7864560" y="2754360"/>
            <a:ext cx="304560" cy="41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16840" y="3166920"/>
            <a:ext cx="380880" cy="411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8092800" y="2960640"/>
            <a:ext cx="228960" cy="206280"/>
            <a:chOff x="8092800" y="2960640"/>
            <a:chExt cx="228960" cy="206280"/>
          </a:xfrm>
        </p:grpSpPr>
        <p:sp>
          <p:nvSpPr>
            <p:cNvPr id="388" name=""/>
            <p:cNvSpPr/>
            <p:nvPr/>
          </p:nvSpPr>
          <p:spPr>
            <a:xfrm>
              <a:off x="8093160" y="2960640"/>
              <a:ext cx="22860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092800" y="2960640"/>
              <a:ext cx="22860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6340320" y="2411280"/>
            <a:ext cx="152640" cy="11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0800000">
            <a:off x="6111720" y="2206800"/>
            <a:ext cx="533520" cy="13204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59640" y="3029040"/>
            <a:ext cx="228600" cy="480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0800000">
            <a:off x="7482960" y="2136240"/>
            <a:ext cx="762120" cy="1459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8640" y="1828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１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25680" y="1828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２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9560" y="1828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３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今後の安定化への展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99072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混合ガスの中で反応しやすい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エチレン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イソプレン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使わ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カソードの仕事関数を上げ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ルミ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.2e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変えて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窒化アルミニウ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.7e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を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イソブタンとエチレンに変えて</a:t>
            </a: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ｼﾞメチルエチル（</a:t>
            </a: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DME</a:t>
            </a: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79320" y="251460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カソードに付着物を付着させなくする。（化学系の鹿島先生提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カソードを暖める。容器内のガスをどこか冷たいところに流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391520" y="3809880"/>
            <a:ext cx="13716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91520" y="4724280"/>
            <a:ext cx="1371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5880" y="4114800"/>
            <a:ext cx="6858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85764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857640" y="4572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1956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高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19360" y="426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低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50160" y="5078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カソー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797240" y="3505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アノー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7808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ガスの流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85764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6200" y="4114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D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57200" y="3352680"/>
          <a:ext cx="54864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352680"/>
                    <a:ext cx="5486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3160800" y="5257800"/>
            <a:ext cx="649080" cy="633240"/>
          </a:xfrm>
          <a:custGeom>
            <a:avLst/>
            <a:gdLst/>
            <a:ahLst/>
            <a:rect l="l" t="t" r="r" b="b"/>
            <a:pathLst>
              <a:path w="409" h="399">
                <a:moveTo>
                  <a:pt x="409" y="399"/>
                </a:moveTo>
                <a:cubicBezTo>
                  <a:pt x="403" y="357"/>
                  <a:pt x="403" y="314"/>
                  <a:pt x="389" y="274"/>
                </a:cubicBezTo>
                <a:cubicBezTo>
                  <a:pt x="387" y="259"/>
                  <a:pt x="386" y="243"/>
                  <a:pt x="383" y="228"/>
                </a:cubicBezTo>
                <a:cubicBezTo>
                  <a:pt x="382" y="221"/>
                  <a:pt x="377" y="215"/>
                  <a:pt x="376" y="208"/>
                </a:cubicBezTo>
                <a:cubicBezTo>
                  <a:pt x="367" y="158"/>
                  <a:pt x="375" y="123"/>
                  <a:pt x="343" y="89"/>
                </a:cubicBezTo>
                <a:cubicBezTo>
                  <a:pt x="334" y="61"/>
                  <a:pt x="326" y="32"/>
                  <a:pt x="317" y="4"/>
                </a:cubicBezTo>
                <a:cubicBezTo>
                  <a:pt x="295" y="6"/>
                  <a:pt x="271" y="0"/>
                  <a:pt x="251" y="10"/>
                </a:cubicBezTo>
                <a:cubicBezTo>
                  <a:pt x="213" y="29"/>
                  <a:pt x="240" y="52"/>
                  <a:pt x="192" y="70"/>
                </a:cubicBezTo>
                <a:cubicBezTo>
                  <a:pt x="159" y="100"/>
                  <a:pt x="159" y="135"/>
                  <a:pt x="145" y="175"/>
                </a:cubicBezTo>
                <a:cubicBezTo>
                  <a:pt x="106" y="116"/>
                  <a:pt x="117" y="225"/>
                  <a:pt x="106" y="241"/>
                </a:cubicBezTo>
                <a:cubicBezTo>
                  <a:pt x="101" y="248"/>
                  <a:pt x="89" y="246"/>
                  <a:pt x="80" y="248"/>
                </a:cubicBezTo>
                <a:cubicBezTo>
                  <a:pt x="72" y="269"/>
                  <a:pt x="60" y="281"/>
                  <a:pt x="47" y="300"/>
                </a:cubicBezTo>
                <a:cubicBezTo>
                  <a:pt x="31" y="285"/>
                  <a:pt x="21" y="281"/>
                  <a:pt x="0" y="28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572000"/>
            <a:ext cx="376200" cy="1235160"/>
          </a:xfrm>
          <a:custGeom>
            <a:avLst/>
            <a:gdLst/>
            <a:ahLst/>
            <a:rect l="l" t="t" r="r" b="b"/>
            <a:pathLst>
              <a:path w="237" h="778">
                <a:moveTo>
                  <a:pt x="230" y="778"/>
                </a:moveTo>
                <a:cubicBezTo>
                  <a:pt x="222" y="624"/>
                  <a:pt x="237" y="702"/>
                  <a:pt x="217" y="640"/>
                </a:cubicBezTo>
                <a:cubicBezTo>
                  <a:pt x="211" y="620"/>
                  <a:pt x="197" y="581"/>
                  <a:pt x="197" y="581"/>
                </a:cubicBezTo>
                <a:cubicBezTo>
                  <a:pt x="180" y="392"/>
                  <a:pt x="197" y="603"/>
                  <a:pt x="184" y="185"/>
                </a:cubicBezTo>
                <a:cubicBezTo>
                  <a:pt x="183" y="140"/>
                  <a:pt x="187" y="56"/>
                  <a:pt x="145" y="27"/>
                </a:cubicBezTo>
                <a:cubicBezTo>
                  <a:pt x="123" y="87"/>
                  <a:pt x="134" y="80"/>
                  <a:pt x="118" y="0"/>
                </a:cubicBezTo>
                <a:cubicBezTo>
                  <a:pt x="108" y="33"/>
                  <a:pt x="111" y="55"/>
                  <a:pt x="85" y="79"/>
                </a:cubicBezTo>
                <a:cubicBezTo>
                  <a:pt x="78" y="102"/>
                  <a:pt x="68" y="109"/>
                  <a:pt x="52" y="126"/>
                </a:cubicBezTo>
                <a:cubicBezTo>
                  <a:pt x="43" y="154"/>
                  <a:pt x="26" y="179"/>
                  <a:pt x="13" y="205"/>
                </a:cubicBezTo>
                <a:cubicBezTo>
                  <a:pt x="2" y="226"/>
                  <a:pt x="14" y="224"/>
                  <a:pt x="0" y="2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23880" y="3581280"/>
            <a:ext cx="1528920" cy="2062440"/>
          </a:xfrm>
          <a:custGeom>
            <a:avLst/>
            <a:gdLst/>
            <a:ahLst/>
            <a:rect l="l" t="t" r="r" b="b"/>
            <a:pathLst>
              <a:path w="963" h="1299">
                <a:moveTo>
                  <a:pt x="963" y="1299"/>
                </a:moveTo>
                <a:cubicBezTo>
                  <a:pt x="955" y="1201"/>
                  <a:pt x="948" y="1097"/>
                  <a:pt x="923" y="1002"/>
                </a:cubicBezTo>
                <a:cubicBezTo>
                  <a:pt x="916" y="928"/>
                  <a:pt x="905" y="850"/>
                  <a:pt x="884" y="778"/>
                </a:cubicBezTo>
                <a:cubicBezTo>
                  <a:pt x="879" y="667"/>
                  <a:pt x="883" y="641"/>
                  <a:pt x="844" y="560"/>
                </a:cubicBezTo>
                <a:cubicBezTo>
                  <a:pt x="842" y="536"/>
                  <a:pt x="842" y="512"/>
                  <a:pt x="838" y="488"/>
                </a:cubicBezTo>
                <a:cubicBezTo>
                  <a:pt x="836" y="474"/>
                  <a:pt x="824" y="448"/>
                  <a:pt x="824" y="448"/>
                </a:cubicBezTo>
                <a:cubicBezTo>
                  <a:pt x="815" y="369"/>
                  <a:pt x="805" y="340"/>
                  <a:pt x="752" y="283"/>
                </a:cubicBezTo>
                <a:cubicBezTo>
                  <a:pt x="750" y="277"/>
                  <a:pt x="750" y="269"/>
                  <a:pt x="745" y="264"/>
                </a:cubicBezTo>
                <a:cubicBezTo>
                  <a:pt x="740" y="259"/>
                  <a:pt x="732" y="260"/>
                  <a:pt x="726" y="257"/>
                </a:cubicBezTo>
                <a:cubicBezTo>
                  <a:pt x="695" y="238"/>
                  <a:pt x="676" y="209"/>
                  <a:pt x="640" y="198"/>
                </a:cubicBezTo>
                <a:cubicBezTo>
                  <a:pt x="618" y="165"/>
                  <a:pt x="586" y="143"/>
                  <a:pt x="561" y="112"/>
                </a:cubicBezTo>
                <a:cubicBezTo>
                  <a:pt x="541" y="87"/>
                  <a:pt x="527" y="63"/>
                  <a:pt x="495" y="53"/>
                </a:cubicBezTo>
                <a:cubicBezTo>
                  <a:pt x="451" y="24"/>
                  <a:pt x="415" y="11"/>
                  <a:pt x="363" y="0"/>
                </a:cubicBezTo>
                <a:cubicBezTo>
                  <a:pt x="306" y="2"/>
                  <a:pt x="249" y="1"/>
                  <a:pt x="192" y="7"/>
                </a:cubicBezTo>
                <a:cubicBezTo>
                  <a:pt x="177" y="9"/>
                  <a:pt x="171" y="30"/>
                  <a:pt x="159" y="40"/>
                </a:cubicBezTo>
                <a:cubicBezTo>
                  <a:pt x="139" y="57"/>
                  <a:pt x="117" y="77"/>
                  <a:pt x="93" y="86"/>
                </a:cubicBezTo>
                <a:cubicBezTo>
                  <a:pt x="76" y="131"/>
                  <a:pt x="99" y="86"/>
                  <a:pt x="20" y="119"/>
                </a:cubicBezTo>
                <a:cubicBezTo>
                  <a:pt x="7" y="125"/>
                  <a:pt x="0" y="158"/>
                  <a:pt x="0" y="1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3581280"/>
            <a:ext cx="1753920" cy="1613160"/>
          </a:xfrm>
          <a:custGeom>
            <a:avLst/>
            <a:gdLst/>
            <a:ahLst/>
            <a:rect l="l" t="t" r="r" b="b"/>
            <a:pathLst>
              <a:path w="1105" h="1016">
                <a:moveTo>
                  <a:pt x="0" y="240"/>
                </a:moveTo>
                <a:cubicBezTo>
                  <a:pt x="18" y="242"/>
                  <a:pt x="37" y="254"/>
                  <a:pt x="53" y="247"/>
                </a:cubicBezTo>
                <a:cubicBezTo>
                  <a:pt x="59" y="245"/>
                  <a:pt x="98" y="179"/>
                  <a:pt x="112" y="168"/>
                </a:cubicBezTo>
                <a:cubicBezTo>
                  <a:pt x="117" y="164"/>
                  <a:pt x="126" y="164"/>
                  <a:pt x="132" y="161"/>
                </a:cubicBezTo>
                <a:cubicBezTo>
                  <a:pt x="146" y="153"/>
                  <a:pt x="157" y="140"/>
                  <a:pt x="172" y="135"/>
                </a:cubicBezTo>
                <a:cubicBezTo>
                  <a:pt x="185" y="131"/>
                  <a:pt x="211" y="122"/>
                  <a:pt x="211" y="122"/>
                </a:cubicBezTo>
                <a:cubicBezTo>
                  <a:pt x="223" y="114"/>
                  <a:pt x="239" y="110"/>
                  <a:pt x="251" y="102"/>
                </a:cubicBezTo>
                <a:cubicBezTo>
                  <a:pt x="265" y="92"/>
                  <a:pt x="276" y="79"/>
                  <a:pt x="290" y="69"/>
                </a:cubicBezTo>
                <a:cubicBezTo>
                  <a:pt x="338" y="0"/>
                  <a:pt x="514" y="48"/>
                  <a:pt x="548" y="49"/>
                </a:cubicBezTo>
                <a:cubicBezTo>
                  <a:pt x="568" y="70"/>
                  <a:pt x="574" y="89"/>
                  <a:pt x="594" y="109"/>
                </a:cubicBezTo>
                <a:cubicBezTo>
                  <a:pt x="603" y="139"/>
                  <a:pt x="626" y="152"/>
                  <a:pt x="646" y="175"/>
                </a:cubicBezTo>
                <a:cubicBezTo>
                  <a:pt x="663" y="195"/>
                  <a:pt x="674" y="216"/>
                  <a:pt x="693" y="234"/>
                </a:cubicBezTo>
                <a:cubicBezTo>
                  <a:pt x="695" y="254"/>
                  <a:pt x="693" y="274"/>
                  <a:pt x="699" y="293"/>
                </a:cubicBezTo>
                <a:cubicBezTo>
                  <a:pt x="704" y="308"/>
                  <a:pt x="726" y="333"/>
                  <a:pt x="726" y="333"/>
                </a:cubicBezTo>
                <a:cubicBezTo>
                  <a:pt x="745" y="395"/>
                  <a:pt x="714" y="304"/>
                  <a:pt x="752" y="372"/>
                </a:cubicBezTo>
                <a:cubicBezTo>
                  <a:pt x="783" y="427"/>
                  <a:pt x="735" y="377"/>
                  <a:pt x="772" y="412"/>
                </a:cubicBezTo>
                <a:cubicBezTo>
                  <a:pt x="781" y="451"/>
                  <a:pt x="802" y="484"/>
                  <a:pt x="811" y="524"/>
                </a:cubicBezTo>
                <a:cubicBezTo>
                  <a:pt x="824" y="582"/>
                  <a:pt x="830" y="639"/>
                  <a:pt x="851" y="695"/>
                </a:cubicBezTo>
                <a:cubicBezTo>
                  <a:pt x="858" y="753"/>
                  <a:pt x="877" y="810"/>
                  <a:pt x="890" y="867"/>
                </a:cubicBezTo>
                <a:cubicBezTo>
                  <a:pt x="892" y="893"/>
                  <a:pt x="884" y="923"/>
                  <a:pt x="897" y="946"/>
                </a:cubicBezTo>
                <a:cubicBezTo>
                  <a:pt x="902" y="956"/>
                  <a:pt x="920" y="945"/>
                  <a:pt x="930" y="939"/>
                </a:cubicBezTo>
                <a:cubicBezTo>
                  <a:pt x="950" y="928"/>
                  <a:pt x="957" y="879"/>
                  <a:pt x="969" y="860"/>
                </a:cubicBezTo>
                <a:cubicBezTo>
                  <a:pt x="976" y="799"/>
                  <a:pt x="986" y="793"/>
                  <a:pt x="1002" y="742"/>
                </a:cubicBezTo>
                <a:cubicBezTo>
                  <a:pt x="1015" y="778"/>
                  <a:pt x="1008" y="814"/>
                  <a:pt x="1029" y="847"/>
                </a:cubicBezTo>
                <a:cubicBezTo>
                  <a:pt x="1031" y="854"/>
                  <a:pt x="1031" y="861"/>
                  <a:pt x="1035" y="867"/>
                </a:cubicBezTo>
                <a:cubicBezTo>
                  <a:pt x="1038" y="872"/>
                  <a:pt x="1046" y="874"/>
                  <a:pt x="1049" y="880"/>
                </a:cubicBezTo>
                <a:cubicBezTo>
                  <a:pt x="1056" y="894"/>
                  <a:pt x="1057" y="911"/>
                  <a:pt x="1062" y="926"/>
                </a:cubicBezTo>
                <a:cubicBezTo>
                  <a:pt x="1069" y="948"/>
                  <a:pt x="1066" y="975"/>
                  <a:pt x="1082" y="992"/>
                </a:cubicBezTo>
                <a:cubicBezTo>
                  <a:pt x="1105" y="1016"/>
                  <a:pt x="1101" y="982"/>
                  <a:pt x="1101" y="1012"/>
                </a:cubicBezTo>
              </a:path>
            </a:pathLst>
          </a:custGeom>
          <a:noFill/>
          <a:ln cap="rnd" w="5724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3581280"/>
            <a:ext cx="932040" cy="1594080"/>
          </a:xfrm>
          <a:custGeom>
            <a:avLst/>
            <a:gdLst/>
            <a:ahLst/>
            <a:rect l="l" t="t" r="r" b="b"/>
            <a:pathLst>
              <a:path w="587" h="1004">
                <a:moveTo>
                  <a:pt x="0" y="1004"/>
                </a:moveTo>
                <a:cubicBezTo>
                  <a:pt x="18" y="977"/>
                  <a:pt x="17" y="948"/>
                  <a:pt x="26" y="918"/>
                </a:cubicBezTo>
                <a:cubicBezTo>
                  <a:pt x="30" y="869"/>
                  <a:pt x="14" y="778"/>
                  <a:pt x="73" y="760"/>
                </a:cubicBezTo>
                <a:cubicBezTo>
                  <a:pt x="105" y="770"/>
                  <a:pt x="83" y="758"/>
                  <a:pt x="99" y="786"/>
                </a:cubicBezTo>
                <a:cubicBezTo>
                  <a:pt x="107" y="800"/>
                  <a:pt x="125" y="826"/>
                  <a:pt x="125" y="826"/>
                </a:cubicBezTo>
                <a:cubicBezTo>
                  <a:pt x="132" y="824"/>
                  <a:pt x="143" y="826"/>
                  <a:pt x="145" y="819"/>
                </a:cubicBezTo>
                <a:cubicBezTo>
                  <a:pt x="158" y="783"/>
                  <a:pt x="151" y="739"/>
                  <a:pt x="165" y="701"/>
                </a:cubicBezTo>
                <a:cubicBezTo>
                  <a:pt x="169" y="648"/>
                  <a:pt x="161" y="568"/>
                  <a:pt x="191" y="522"/>
                </a:cubicBezTo>
                <a:cubicBezTo>
                  <a:pt x="193" y="463"/>
                  <a:pt x="194" y="403"/>
                  <a:pt x="198" y="344"/>
                </a:cubicBezTo>
                <a:cubicBezTo>
                  <a:pt x="201" y="302"/>
                  <a:pt x="224" y="260"/>
                  <a:pt x="231" y="219"/>
                </a:cubicBezTo>
                <a:cubicBezTo>
                  <a:pt x="238" y="179"/>
                  <a:pt x="241" y="147"/>
                  <a:pt x="264" y="114"/>
                </a:cubicBezTo>
                <a:cubicBezTo>
                  <a:pt x="272" y="87"/>
                  <a:pt x="265" y="55"/>
                  <a:pt x="290" y="94"/>
                </a:cubicBezTo>
                <a:cubicBezTo>
                  <a:pt x="298" y="131"/>
                  <a:pt x="303" y="169"/>
                  <a:pt x="310" y="206"/>
                </a:cubicBezTo>
                <a:cubicBezTo>
                  <a:pt x="314" y="86"/>
                  <a:pt x="275" y="21"/>
                  <a:pt x="382" y="2"/>
                </a:cubicBezTo>
                <a:cubicBezTo>
                  <a:pt x="439" y="4"/>
                  <a:pt x="497" y="0"/>
                  <a:pt x="554" y="8"/>
                </a:cubicBezTo>
                <a:cubicBezTo>
                  <a:pt x="567" y="10"/>
                  <a:pt x="571" y="47"/>
                  <a:pt x="587" y="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819520" y="4190760"/>
            <a:ext cx="0" cy="205740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495680" y="42670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61840" y="6172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ルミの仕事関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98360" y="6172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窒化アルミニウ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9600">
            <a:off x="-533520" y="4593600"/>
            <a:ext cx="20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ガスの光吸収係数（ｃｍ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‐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59880" y="5715000"/>
            <a:ext cx="15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光の波長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Å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光のエネルギー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56920" y="441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エチレ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75160" y="4952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イソプレ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54640" y="4114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5840" y="41878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3120" y="3352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イソブタ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まと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１）試作した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estov Spark Counte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、効率が減少し　　時間分布も広がる。原因は、付着物の形成によっ　て、ストリーマー放電に至る過程が変化するため　と考えられる。付着物は、放電によってエチレン、　イソプレンがポリマー化したものと考えら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２）従来のカウンターよりも立ち上がり時間が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倍早く、　運用直後では、時間分解能が８５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１０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従来　のカウンターと同程度の性能を持っ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安定化のために、エチレンとイソプレン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使わない手段と付着物を付着させない手段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提案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粒子識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飛行時間測定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粒子の運動量（ｐ）と速度（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）を測定することによっ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質量（ｍ）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求める。その違いで粒子識別をす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5181480"/>
          <a:ext cx="4800600" cy="14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181480"/>
                    <a:ext cx="480060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80880" y="3429000"/>
            <a:ext cx="441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特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１．時間分解能は７０ｐｓであ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⇒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とｋを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4σ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、運動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.5Gev/c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まで　　　　　　分けることができ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２．位置分解能は４ｃｍ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３．コストが高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86000" y="2057400"/>
                <a:ext cx="3352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823200" y="2575080"/>
            <a:ext cx="12657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●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プラスチック・シンチレーションカウンタ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現在、高エネルギー原子核衝突実験で用いられている飛行時間測定器であ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05520" y="3429000"/>
          <a:ext cx="3343320" cy="32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429000"/>
                    <a:ext cx="33433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687000" y="3276720"/>
            <a:ext cx="246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Times New Roman"/>
              </a:rPr>
              <a:t>青　プラスチック・シン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</a:rPr>
              <a:t>レー ションカウンタ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赤　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Pestov Spark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56600" y="4191120"/>
            <a:ext cx="15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検出器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00"/>
                </a:solidFill>
                <a:latin typeface="Times New Roman"/>
              </a:rPr>
              <a:t>Pestov Spark Counter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の特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66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estov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より提唱された平行電極板ガスカウンターで、ドイツの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SI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で研究が行なわれてい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943280"/>
          <a:ext cx="784872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43280"/>
                    <a:ext cx="7848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80880" y="449568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工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66"/>
                </a:solidFill>
                <a:latin typeface="Times New Roman"/>
              </a:rPr>
              <a:t>１．希ガス＋有機ガ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紫外光を吸収し放電を局所化する。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66"/>
                </a:solidFill>
                <a:latin typeface="Times New Roman"/>
              </a:rPr>
              <a:t>２．</a:t>
            </a:r>
            <a:r>
              <a:rPr b="1" lang="ja-JP" sz="2000" spc="-1" strike="noStrike">
                <a:solidFill>
                  <a:srgbClr val="ff0066"/>
                </a:solidFill>
                <a:latin typeface="Times New Roman"/>
              </a:rPr>
              <a:t>anode</a:t>
            </a:r>
            <a:r>
              <a:rPr b="1" lang="ja-JP" sz="2000" spc="-1" strike="noStrike">
                <a:solidFill>
                  <a:srgbClr val="ff0066"/>
                </a:solidFill>
                <a:latin typeface="Times New Roman"/>
              </a:rPr>
              <a:t>の抵抗 １０</a:t>
            </a:r>
            <a:r>
              <a:rPr b="1" lang="ja-JP" sz="2000" spc="-1" strike="noStrike" baseline="30000">
                <a:solidFill>
                  <a:srgbClr val="ff0066"/>
                </a:solidFill>
                <a:latin typeface="Times New Roman"/>
              </a:rPr>
              <a:t>９</a:t>
            </a:r>
            <a:r>
              <a:rPr b="1" lang="ja-JP" sz="2000" spc="-1" strike="noStrike">
                <a:solidFill>
                  <a:srgbClr val="ff0066"/>
                </a:solidFill>
                <a:latin typeface="Times New Roman"/>
              </a:rPr>
              <a:t>～１０</a:t>
            </a:r>
            <a:r>
              <a:rPr b="1" lang="ja-JP" sz="2000" spc="-1" strike="noStrike" baseline="30000">
                <a:solidFill>
                  <a:srgbClr val="ff0066"/>
                </a:solidFill>
                <a:latin typeface="Times New Roman"/>
              </a:rPr>
              <a:t>１０</a:t>
            </a:r>
            <a:r>
              <a:rPr b="1" lang="ja-JP" sz="2000" spc="-1" strike="noStrike">
                <a:solidFill>
                  <a:srgbClr val="ff0066"/>
                </a:solidFill>
                <a:latin typeface="Times New Roman"/>
              </a:rPr>
              <a:t>Ω</a:t>
            </a:r>
            <a:r>
              <a:rPr b="1" lang="ja-JP" sz="2000" spc="-1" strike="noStrike">
                <a:solidFill>
                  <a:srgbClr val="ff0066"/>
                </a:solidFill>
                <a:latin typeface="Times New Roman"/>
              </a:rPr>
              <a:t>ｃ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放電の範囲を狭くす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495680"/>
            <a:ext cx="510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特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１．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時間分解能は３０ｐｓである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⇒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4σ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、運動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4Gev/c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まで分けるこ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ができ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２．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位置分解能は０．５ｍｍ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Pestov Spark Counter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の問題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1426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66"/>
                </a:solidFill>
                <a:latin typeface="Times New Roman"/>
              </a:rPr>
              <a:t>（１）時間分布に</a:t>
            </a:r>
            <a:r>
              <a:rPr b="1" lang="ja-JP" sz="2800" spc="-1" strike="noStrike">
                <a:solidFill>
                  <a:srgbClr val="ff0066"/>
                </a:solidFill>
                <a:latin typeface="Times New Roman"/>
              </a:rPr>
              <a:t>Tail</a:t>
            </a:r>
            <a:r>
              <a:rPr b="1" lang="ja-JP" sz="2800" spc="-1" strike="noStrike">
                <a:solidFill>
                  <a:srgbClr val="ff0066"/>
                </a:solidFill>
                <a:latin typeface="Times New Roman"/>
              </a:rPr>
              <a:t>がある。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09680" y="1752480"/>
          <a:ext cx="3581640" cy="294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752480"/>
                    <a:ext cx="35816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523880" y="574524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いままで、主要な実験に用いられたことがな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800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66"/>
                </a:solidFill>
                <a:latin typeface="Times New Roman"/>
              </a:rPr>
              <a:t>（２）持続性（経年変化）の問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71500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本研究の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目的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コストが安い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Pestov Spark Counter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実用化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のた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に、実際に試作して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時間特性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持続性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（経年変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を評価し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3809880"/>
            <a:ext cx="6933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以下のことを方針として、実行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１）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estov Spark Counte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試作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２）宇宙線を使い評価を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出力の立ち上がり、効率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時間分布、電荷分布を測定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Pestov Spark Counter 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の製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181480" y="2286000"/>
          <a:ext cx="3753000" cy="215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286000"/>
                    <a:ext cx="37530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52280" y="1066680"/>
            <a:ext cx="5791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ガ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GSI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使用されているものを使用す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アルゴン（Ａｒ）７５％＋イソブタン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）２０％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エチレン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）２．５％＋イソプレン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）０．６％の混合ガ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 カウンター内に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Fa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置き、ガスを強制対流させ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アノー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ガラスに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混ぜたものを使用す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４ｃｍ＊４ｃｍ＊２ｍｍ、５＊１０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ｃ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カソー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アルミの板で表面を良く研磨したも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７ｃｍ＊７ｃｍ＊４ｍ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スぺーサ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ガラスの板（１０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１６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ｃｍ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２ｍｍ＊２ｍｍ＊１００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シグナルの読み出しの仕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プラスチックシートの上にアルミのシートを張りつけた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ｃｍ＊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ｃｍ）をアノードの上に置き、誘起された信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読み出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76920"/>
            <a:ext cx="1371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5410080"/>
            <a:ext cx="1371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4800600"/>
            <a:ext cx="304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77204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77204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77204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8400" y="5638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8320" y="5611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アノー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0840" y="454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カソー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9080" y="43290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宇宙線による測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4560" y="4429080"/>
            <a:ext cx="2565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ng Coun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cm×5c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003400"/>
            <a:ext cx="190512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811680"/>
            <a:ext cx="1981440" cy="452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971800"/>
            <a:ext cx="1295280" cy="193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3560" y="45720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mic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2197080"/>
            <a:ext cx="0" cy="903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3100320"/>
            <a:ext cx="0" cy="905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1520" y="24559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1520" y="34243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3640" y="205272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Coun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cm×5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38040" y="3794040"/>
            <a:ext cx="176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Coun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cm×5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2400" y="2828880"/>
            <a:ext cx="14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t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cm×4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1681200"/>
            <a:ext cx="1905120" cy="128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457880"/>
            <a:ext cx="1981440" cy="128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1920" y="1380960"/>
            <a:ext cx="281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er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cm×5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2000" y="1293840"/>
            <a:ext cx="990720" cy="37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00400" y="2131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276720" y="41338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657600" y="45212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133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131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600" y="174456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6080" y="1228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31160" y="21970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1640" y="45561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5320" y="3652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1840" y="4105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05880" y="16509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5720" y="2676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1600" y="594360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esto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効率（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5575320"/>
                <a:ext cx="44830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sto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f</m:t>
                            </m:r>
                            <m:r>
                              <m:t xml:space="preserve">∩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H="1">
            <a:off x="3123720" y="30574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3680" y="51055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幾何学的に求めた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cceptanc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541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回路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1143000"/>
            <a:ext cx="7162560" cy="5058000"/>
            <a:chOff x="1219320" y="1143000"/>
            <a:chExt cx="7162560" cy="5058000"/>
          </a:xfrm>
        </p:grpSpPr>
        <p:sp>
          <p:nvSpPr>
            <p:cNvPr id="124" name=""/>
            <p:cNvSpPr/>
            <p:nvPr/>
          </p:nvSpPr>
          <p:spPr>
            <a:xfrm>
              <a:off x="1226160" y="2076480"/>
              <a:ext cx="704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25800" y="2532240"/>
              <a:ext cx="6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2986200"/>
              <a:ext cx="718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25800" y="3441960"/>
              <a:ext cx="6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389200">
              <a:off x="2553120" y="2073960"/>
              <a:ext cx="22716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389200">
              <a:off x="2552400" y="2529000"/>
              <a:ext cx="22860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389200">
              <a:off x="2553120" y="2983680"/>
              <a:ext cx="22716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389200">
              <a:off x="2553120" y="3439080"/>
              <a:ext cx="22680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1295640"/>
              <a:ext cx="685800" cy="2574720"/>
            </a:xfrm>
            <a:prstGeom prst="flowChartDelay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5480" y="275904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321336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5480" y="366876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2590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5120" y="230364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05120" y="275904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5120" y="3213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36687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0720" y="12956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コインシデン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5840" y="2133720"/>
              <a:ext cx="216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D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0364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276720" y="4343040"/>
              <a:ext cx="167616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048120" y="4038480"/>
              <a:ext cx="190476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733920" y="5028840"/>
              <a:ext cx="121896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505320" y="4724280"/>
              <a:ext cx="144756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048120" y="2305080"/>
              <a:ext cx="152280" cy="1752840"/>
              <a:chOff x="3048120" y="2305080"/>
              <a:chExt cx="152280" cy="1752840"/>
            </a:xfrm>
          </p:grpSpPr>
          <p:sp>
            <p:nvSpPr>
              <p:cNvPr id="149" name=""/>
              <p:cNvSpPr/>
              <p:nvPr/>
            </p:nvSpPr>
            <p:spPr>
              <a:xfrm>
                <a:off x="3048120" y="38293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48120" y="26100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cubicBezTo>
                      <a:pt x="72" y="32"/>
                      <a:pt x="144" y="64"/>
                      <a:pt x="144" y="96"/>
                    </a:cubicBezTo>
                    <a:cubicBezTo>
                      <a:pt x="144" y="128"/>
                      <a:pt x="24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48120" y="30672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cubicBezTo>
                      <a:pt x="72" y="32"/>
                      <a:pt x="144" y="64"/>
                      <a:pt x="144" y="96"/>
                    </a:cubicBezTo>
                    <a:cubicBezTo>
                      <a:pt x="144" y="128"/>
                      <a:pt x="24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48120" y="3524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cubicBezTo>
                      <a:pt x="72" y="32"/>
                      <a:pt x="144" y="64"/>
                      <a:pt x="144" y="96"/>
                    </a:cubicBezTo>
                    <a:cubicBezTo>
                      <a:pt x="144" y="128"/>
                      <a:pt x="24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48120" y="2305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48120" y="2914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48120" y="337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276720" y="2762280"/>
              <a:ext cx="152280" cy="1600200"/>
              <a:chOff x="3276720" y="2762280"/>
              <a:chExt cx="152280" cy="1600200"/>
            </a:xfrm>
          </p:grpSpPr>
          <p:sp>
            <p:nvSpPr>
              <p:cNvPr id="157" name=""/>
              <p:cNvSpPr/>
              <p:nvPr/>
            </p:nvSpPr>
            <p:spPr>
              <a:xfrm>
                <a:off x="3276720" y="30672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cubicBezTo>
                      <a:pt x="72" y="32"/>
                      <a:pt x="144" y="64"/>
                      <a:pt x="144" y="96"/>
                    </a:cubicBezTo>
                    <a:cubicBezTo>
                      <a:pt x="144" y="128"/>
                      <a:pt x="24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76720" y="3524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cubicBezTo>
                      <a:pt x="72" y="32"/>
                      <a:pt x="144" y="64"/>
                      <a:pt x="144" y="96"/>
                    </a:cubicBezTo>
                    <a:cubicBezTo>
                      <a:pt x="144" y="128"/>
                      <a:pt x="24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76720" y="27622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76720" y="337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76720" y="42102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76720" y="390528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cubicBezTo>
                      <a:pt x="72" y="32"/>
                      <a:pt x="144" y="64"/>
                      <a:pt x="144" y="96"/>
                    </a:cubicBezTo>
                    <a:cubicBezTo>
                      <a:pt x="144" y="128"/>
                      <a:pt x="24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6720" y="382932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505320" y="3219480"/>
              <a:ext cx="152280" cy="1524240"/>
              <a:chOff x="3505320" y="3219480"/>
              <a:chExt cx="152280" cy="1524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505320" y="3524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cubicBezTo>
                      <a:pt x="72" y="32"/>
                      <a:pt x="144" y="64"/>
                      <a:pt x="144" y="96"/>
                    </a:cubicBezTo>
                    <a:cubicBezTo>
                      <a:pt x="144" y="128"/>
                      <a:pt x="24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05320" y="390528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cubicBezTo>
                      <a:pt x="72" y="32"/>
                      <a:pt x="144" y="64"/>
                      <a:pt x="144" y="96"/>
                    </a:cubicBezTo>
                    <a:cubicBezTo>
                      <a:pt x="144" y="128"/>
                      <a:pt x="24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05320" y="32194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05320" y="4515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05320" y="42102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cubicBezTo>
                      <a:pt x="72" y="32"/>
                      <a:pt x="144" y="64"/>
                      <a:pt x="144" y="96"/>
                    </a:cubicBezTo>
                    <a:cubicBezTo>
                      <a:pt x="144" y="128"/>
                      <a:pt x="24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5320" y="3829320"/>
                <a:ext cx="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733920" y="3905280"/>
              <a:ext cx="15228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0"/>
                  </a:moveTo>
                  <a:cubicBezTo>
                    <a:pt x="72" y="32"/>
                    <a:pt x="144" y="64"/>
                    <a:pt x="144" y="96"/>
                  </a:cubicBezTo>
                  <a:cubicBezTo>
                    <a:pt x="144" y="128"/>
                    <a:pt x="24" y="176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33920" y="4286520"/>
              <a:ext cx="15228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0"/>
                  </a:moveTo>
                  <a:cubicBezTo>
                    <a:pt x="72" y="32"/>
                    <a:pt x="144" y="64"/>
                    <a:pt x="144" y="96"/>
                  </a:cubicBezTo>
                  <a:cubicBezTo>
                    <a:pt x="144" y="128"/>
                    <a:pt x="24" y="176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3676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33920" y="48960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4591080"/>
              <a:ext cx="15228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0"/>
                  </a:moveTo>
                  <a:cubicBezTo>
                    <a:pt x="72" y="32"/>
                    <a:pt x="144" y="64"/>
                    <a:pt x="144" y="96"/>
                  </a:cubicBezTo>
                  <a:cubicBezTo>
                    <a:pt x="144" y="128"/>
                    <a:pt x="24" y="176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33920" y="42102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29200" y="3886200"/>
              <a:ext cx="2362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TDC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　１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TDC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　２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TDC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　３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TDC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　４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9320" y="1143000"/>
              <a:ext cx="6858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1600200"/>
              <a:ext cx="6858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389200">
              <a:off x="2553120" y="1599120"/>
              <a:ext cx="22680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5120" y="18288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18288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389200">
              <a:off x="2553120" y="1218240"/>
              <a:ext cx="22680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5120" y="14479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95480" y="144792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5410440"/>
              <a:ext cx="1067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st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389200">
              <a:off x="3010320" y="5409360"/>
              <a:ext cx="22716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563904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2680" y="563904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11520" y="5375520"/>
              <a:ext cx="171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D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943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56390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89880" y="2992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6705720" y="299736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ef</m:t>
                          </m:r>
                          <m:r>
                            <m:t xml:space="preserve">∩</m:t>
                          </m:r>
                          <m:r>
                            <m:rPr>
                              <m:lit/>
                              <m:nor/>
                            </m:rPr>
                            <m:t xml:space="preserve">star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324480" y="5257800"/>
                  <a:ext cx="160020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stov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9:33:20Z</dcterms:created>
  <dc:creator>Daisuke Hakozaki</dc:creator>
  <dc:description>２月１５日（木）、私の運命の日です。</dc:description>
  <dc:language>en-US</dc:language>
  <cp:lastModifiedBy>Heavy ion experiment group</cp:lastModifiedBy>
  <cp:lastPrinted>2001-02-14T15:05:30Z</cp:lastPrinted>
  <dcterms:modified xsi:type="dcterms:W3CDTF">2001-02-15T22:58:23Z</dcterms:modified>
  <cp:revision>644</cp:revision>
  <dc:subject/>
  <dc:title>修論トラペ</dc:title>
</cp:coreProperties>
</file>