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AED-2F9C-4B02-B6E6-3BDD1D26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B7B-6A6C-4EF7-A9D1-56DE75C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D17-251A-43B6-AA7D-3F5EA48F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947-0572-4CFB-9C39-A4DC93B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599-F5B8-470F-A296-880FCFA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349-2A30-41D8-97E2-AE00175C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32C-735D-4B91-BA27-BE2C6D4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C3B-8F0B-4220-A3E5-151B17E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C06-8BE9-44DE-A2C8-FB6E521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F75-28DF-4922-96D5-AAC0FEC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A93-16C5-4EC8-94E4-AB3DC63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CB1-06D8-4109-89AE-3D6866B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BA8-CFED-4F7E-AC97-93B13A9626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6960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Hard probes and the identified hadr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429000"/>
            <a:ext cx="317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D.J .Kim /Y.Kw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ONSEI UNIVERS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10552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MS PGothic"/>
                <a:ea typeface="MS PGothic"/>
              </a:rPr>
              <a:t>Tsukuba-Yonsei Workshop Progra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MS PGothic"/>
                <a:ea typeface="MS PGothic"/>
              </a:rPr>
              <a:t>Inst. of Physics,Univ. of Tsukub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arton_hadron_level" descr=""/>
          <p:cNvPicPr/>
          <p:nvPr/>
        </p:nvPicPr>
        <p:blipFill>
          <a:blip r:embed="rId1"/>
          <a:stretch/>
        </p:blipFill>
        <p:spPr>
          <a:xfrm>
            <a:off x="1138320" y="1300320"/>
            <a:ext cx="68659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rton25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rton26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rton29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arton30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arton3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1976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Distinguish between Soft component and Hard compon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quantitative estimation from the analytic approach of Hard componen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(QGP vs Normal hadronic matter – Jet Quench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Cross section compi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Spectrum calcu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analytic understanding about HIJING(JETSET7.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Check the quality of the experimental 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3360" y="762120"/>
            <a:ext cx="82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Parton Distribution function(parton [quark,gluon])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                   </a:t>
            </a: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p-p : unpolorized be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                   </a:t>
            </a: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A-A : shadow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894960" y="5105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굴림"/>
              </a:rPr>
              <a:t>Uncertainty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xfx" descr=""/>
          <p:cNvPicPr/>
          <p:nvPr/>
        </p:nvPicPr>
        <p:blipFill>
          <a:blip r:embed="rId1"/>
          <a:stretch/>
        </p:blipFill>
        <p:spPr>
          <a:xfrm>
            <a:off x="1066680" y="1014480"/>
            <a:ext cx="70088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ross_hard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505320" cy="3148200"/>
          </a:xfrm>
          <a:prstGeom prst="rect">
            <a:avLst/>
          </a:prstGeom>
          <a:ln w="0">
            <a:noFill/>
          </a:ln>
        </p:spPr>
      </p:pic>
      <p:pic>
        <p:nvPicPr>
          <p:cNvPr id="50" name="cross_hard_pi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3429000" cy="3040200"/>
          </a:xfrm>
          <a:prstGeom prst="rect">
            <a:avLst/>
          </a:prstGeom>
          <a:ln w="0">
            <a:noFill/>
          </a:ln>
        </p:spPr>
      </p:pic>
      <p:pic>
        <p:nvPicPr>
          <p:cNvPr id="51" name="cross_hard_proton" descr=""/>
          <p:cNvPicPr/>
          <p:nvPr/>
        </p:nvPicPr>
        <p:blipFill>
          <a:blip r:embed="rId3"/>
          <a:stretch/>
        </p:blipFill>
        <p:spPr>
          <a:xfrm>
            <a:off x="228600" y="3483000"/>
            <a:ext cx="35053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ross_a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9528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_q2" descr=""/>
          <p:cNvPicPr/>
          <p:nvPr/>
        </p:nvPicPr>
        <p:blipFill>
          <a:blip r:embed="rId1"/>
          <a:stretch/>
        </p:blipFill>
        <p:spPr>
          <a:xfrm>
            <a:off x="0" y="914400"/>
            <a:ext cx="4419720" cy="4373640"/>
          </a:xfrm>
          <a:prstGeom prst="rect">
            <a:avLst/>
          </a:prstGeom>
          <a:ln w="0">
            <a:noFill/>
          </a:ln>
        </p:spPr>
      </p:pic>
      <p:pic>
        <p:nvPicPr>
          <p:cNvPr id="54" name="fafd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4581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uon_quark_jet" descr=""/>
          <p:cNvPicPr/>
          <p:nvPr/>
        </p:nvPicPr>
        <p:blipFill>
          <a:blip r:embed="rId1"/>
          <a:stretch/>
        </p:blipFill>
        <p:spPr>
          <a:xfrm>
            <a:off x="1219320" y="1285920"/>
            <a:ext cx="670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nch_s" descr=""/>
          <p:cNvPicPr/>
          <p:nvPr/>
        </p:nvPicPr>
        <p:blipFill>
          <a:blip r:embed="rId1"/>
          <a:stretch/>
        </p:blipFill>
        <p:spPr>
          <a:xfrm>
            <a:off x="1828800" y="704880"/>
            <a:ext cx="54864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7:59:07Z</dcterms:created>
  <dc:creator>DongJo Kim</dc:creator>
  <dc:description/>
  <dc:language>en-US</dc:language>
  <cp:lastModifiedBy>Akio Kiyomichi</cp:lastModifiedBy>
  <dcterms:modified xsi:type="dcterms:W3CDTF">2000-12-12T03:34:15Z</dcterms:modified>
  <cp:revision>8</cp:revision>
  <dc:subject/>
  <dc:title>Hard probes and the identified hadr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ppt_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