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10.png" ContentType="image/png"/>
  <Override PartName="/ppt/media/image5.png" ContentType="image/png"/>
  <Override PartName="/ppt/media/image28.pct" ContentType="image/x-pict"/>
  <Override PartName="/ppt/media/image26.pct" ContentType="image/x-pict"/>
  <Override PartName="/ppt/media/image17.png" ContentType="image/png"/>
  <Override PartName="/ppt/media/image24.pct" ContentType="image/x-pict"/>
  <Override PartName="/ppt/media/image15.png" ContentType="image/png"/>
  <Override PartName="/ppt/media/image23.pct" ContentType="image/x-pict"/>
  <Override PartName="/ppt/media/image19.png" ContentType="image/png"/>
  <Override PartName="/ppt/media/image21.png" ContentType="image/png"/>
  <Override PartName="/ppt/media/image16.png" ContentType="image/png"/>
  <Override PartName="/ppt/media/image2.pct" ContentType="image/x-pict"/>
  <Override PartName="/ppt/media/image25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907588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5638-190B-42D5-82BA-674753591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7359840"/>
            <a:ext cx="6400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881B-CE98-4AAA-81A3-57E5EE5AA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8560" y="577836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735984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8560" y="735984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F223-BF9C-4C6C-A44D-A844BC4AE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20606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92560" y="5778360"/>
            <a:ext cx="20606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56880" y="5778360"/>
            <a:ext cx="20606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7359840"/>
            <a:ext cx="20606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92560" y="7359840"/>
            <a:ext cx="20606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56880" y="7359840"/>
            <a:ext cx="20606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D8F5-9292-4821-BDDD-7CFCED23F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5778360"/>
            <a:ext cx="6400800" cy="30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C971-9A15-4444-85FA-6664BE05A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2C4C-E2FA-47C5-BE4C-FABE2A635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31233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8560" y="5778360"/>
            <a:ext cx="31233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A337-3A04-44DB-B0AB-96A5109E2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6D7D-BC1C-4D86-BB7B-0729479DF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582948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BA8D-C028-41E6-BA51-14877CC17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8560" y="5778360"/>
            <a:ext cx="31233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735984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5651-4661-4E50-BA0D-59F69259A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31233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8560" y="577836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8560" y="735984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E2E2-ADE1-4AD0-9F48-67E80FE9C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8560" y="5778360"/>
            <a:ext cx="3123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7359840"/>
            <a:ext cx="6400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603F-6BC7-49F4-BBF4-84A7642CB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Click to edit the title text format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5778360"/>
            <a:ext cx="640080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601560" indent="-231480">
              <a:lnSpc>
                <a:spcPct val="170000"/>
              </a:lnSpc>
              <a:spcBef>
                <a:spcPts val="451"/>
              </a:spcBef>
              <a:buClr>
                <a:srgbClr val="5a2d00"/>
              </a:buClr>
              <a:buFont typeface="Osa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2" marL="925560" indent="-185040">
              <a:lnSpc>
                <a:spcPct val="170000"/>
              </a:lnSpc>
              <a:spcBef>
                <a:spcPts val="451"/>
              </a:spcBef>
              <a:buClr>
                <a:srgbClr val="0000cc"/>
              </a:buClr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3" marL="1265040" indent="-18504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Osa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4" marL="1604520" indent="-18504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Osa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5" marL="1604520" indent="-18504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Osa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6" marL="1604520" indent="-18504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Osa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0160" y="9492840"/>
            <a:ext cx="283068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111280" y="9492840"/>
            <a:ext cx="10573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BEF4-D845-4463-AA53-0062512C1E00}" type="slidenum"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47680"/>
            <a:ext cx="609624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474120"/>
            <a:ext cx="609624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image" Target="../media/image19.png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27.png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520" y="809280"/>
            <a:ext cx="5790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Where we are &amp; Where to go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01240" y="235404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For PHENIX Collaboration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Yasuo Miake, Univ. of Tsukuba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9960" y="4351320"/>
            <a:ext cx="4048200" cy="2673360"/>
            <a:chOff x="399960" y="4351320"/>
            <a:chExt cx="4048200" cy="26733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99960" y="4351320"/>
              <a:ext cx="40482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399960" y="4351320"/>
              <a:ext cx="4048200" cy="267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76680" y="6002280"/>
            <a:ext cx="3181320" cy="29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EDDA-589F-4547-BEEA-6BF0DC9CF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Elliptic Flow @ Phenix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948440"/>
            <a:ext cx="64008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φ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ＭＳ ゴシック"/>
              </a:rPr>
              <a:t>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-φ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ＭＳ ゴシック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）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distribution made for all the pair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Then, normalized with Mixed Events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0000"/>
                </a:solidFill>
                <a:latin typeface="Osaka"/>
              </a:rPr>
              <a:t>ｖ</a:t>
            </a:r>
            <a:r>
              <a:rPr b="1" lang="ja-JP" sz="1400" spc="-1" strike="noStrike" baseline="-25000">
                <a:solidFill>
                  <a:srgbClr val="cc0000"/>
                </a:solidFill>
                <a:latin typeface="Osaka"/>
              </a:rPr>
              <a:t>ｏｂｓ</a:t>
            </a:r>
            <a:r>
              <a:rPr b="1" lang="ja-JP" sz="1400" spc="-1" strike="noStrike">
                <a:solidFill>
                  <a:srgbClr val="cc0000"/>
                </a:solidFill>
                <a:latin typeface="Osaka"/>
              </a:rPr>
              <a:t>＝ｖ</a:t>
            </a:r>
            <a:r>
              <a:rPr b="1" lang="ja-JP" sz="1400" spc="-1" strike="noStrike" baseline="-25000">
                <a:solidFill>
                  <a:srgbClr val="cc0000"/>
                </a:solidFill>
                <a:latin typeface="Osaka"/>
              </a:rPr>
              <a:t>２</a:t>
            </a:r>
            <a:r>
              <a:rPr b="1" lang="ja-JP" sz="1400" spc="-1" strike="noStrike" baseline="30000">
                <a:solidFill>
                  <a:srgbClr val="cc0000"/>
                </a:solidFill>
                <a:latin typeface="Osaka"/>
              </a:rPr>
              <a:t>２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78120" y="4861080"/>
            <a:ext cx="3237840" cy="2702880"/>
            <a:chOff x="1878120" y="4861080"/>
            <a:chExt cx="3237840" cy="27028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878120" y="5020560"/>
              <a:ext cx="3072960" cy="25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75640" y="4861080"/>
              <a:ext cx="184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PHENIX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557080" y="6964920"/>
              <a:ext cx="1804320" cy="2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0" y="1179360"/>
            <a:ext cx="3497400" cy="2986200"/>
            <a:chOff x="0" y="1179360"/>
            <a:chExt cx="3497400" cy="29862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291960" y="1574640"/>
              <a:ext cx="31244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1811160" y="1439280"/>
              <a:ext cx="1478160" cy="1436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0" y="2876400"/>
              <a:ext cx="1790640" cy="771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11160" y="2896920"/>
              <a:ext cx="158292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0" y="2626920"/>
              <a:ext cx="17496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811160" y="2398680"/>
              <a:ext cx="168624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74760" y="1626840"/>
              <a:ext cx="1436400" cy="12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000" y="3530520"/>
              <a:ext cx="49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ＭＳ ゴシック"/>
                  <a:ea typeface="ＭＳ ゴシック"/>
                </a:rPr>
                <a:t>φ</a:t>
              </a:r>
              <a:r>
                <a:rPr b="1" lang="zh-CN" sz="1800" spc="-1" strike="noStrike" baseline="-25000">
                  <a:solidFill>
                    <a:srgbClr val="cc0000"/>
                  </a:solidFill>
                  <a:latin typeface="ＭＳ ゴシック"/>
                  <a:ea typeface="ＭＳ ゴシック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5440" y="1179360"/>
              <a:ext cx="49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ＭＳ ゴシック"/>
                  <a:ea typeface="ＭＳ ゴシック"/>
                </a:rPr>
                <a:t>φ</a:t>
              </a:r>
              <a:r>
                <a:rPr b="1" lang="zh-CN" sz="1800" spc="-1" strike="noStrike" baseline="-25000">
                  <a:solidFill>
                    <a:srgbClr val="cc0000"/>
                  </a:solidFill>
                  <a:latin typeface="ＭＳ ゴシック"/>
                  <a:ea typeface="ＭＳ ゴシック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808440" y="2120760"/>
            <a:ext cx="3049560" cy="15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13B1-2A55-4979-8519-E12C1C4E1D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Beam Energy Dependence of </a:t>
            </a: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Ｖ</a:t>
            </a:r>
            <a:r>
              <a:rPr b="1" lang="ja-JP" sz="2400" spc="-1" strike="noStrike" baseline="-25000">
                <a:solidFill>
                  <a:srgbClr val="0000cc"/>
                </a:solidFill>
                <a:latin typeface="ＭＳ ゴシック"/>
              </a:rPr>
              <a:t>２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775560"/>
            <a:ext cx="6400800" cy="27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No structure observed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a) No phase Transition?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b) No sensitivity for the signal of phase transition?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c) Bad “Systematic” comparison? 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Such as,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	</a:t>
            </a: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protons vs pions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	</a:t>
            </a: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pt, rapidity regions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  <a:p>
            <a:pPr lvl="3" marL="1562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0000"/>
                </a:solidFill>
                <a:latin typeface="Osaka"/>
              </a:rPr>
              <a:t>Need “systematic” measurements!</a:t>
            </a:r>
            <a:endParaRPr b="1" lang="en-US" sz="1400" spc="-1" strike="noStrike">
              <a:solidFill>
                <a:srgbClr val="cc0000"/>
              </a:solidFill>
              <a:latin typeface="Osak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0280" y="1639800"/>
            <a:ext cx="5094000" cy="5273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01520" y="139068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Compilation by S.Esu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B410-5F0C-4052-B2F7-55FD268F0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Goal(1);Particle Ratios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2120" y="6372360"/>
            <a:ext cx="640080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Chemical Eq. In RHIC Collisions?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 </a:t>
            </a: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γ</a:t>
            </a:r>
            <a:r>
              <a:rPr b="1" lang="en-US" sz="1400" spc="-1" strike="noStrike" baseline="-25000">
                <a:solidFill>
                  <a:srgbClr val="5a2d00"/>
                </a:solidFill>
                <a:latin typeface="Osaka"/>
              </a:rPr>
              <a:t>s</a:t>
            </a: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; Eq. in Strangeness also?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Strangeness Enhancement?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Larger enhancement for multi-strangeness?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Temperature of chemical freezeout?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Larger than 170 MeV? 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911320"/>
            <a:ext cx="5092920" cy="3594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073160"/>
            <a:ext cx="6858000" cy="184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360" y="4529160"/>
            <a:ext cx="184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541680" y="2889360"/>
            <a:ext cx="331632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43DB-6028-432B-81D8-ED9B54A7E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Goal(2); p</a:t>
            </a:r>
            <a:r>
              <a:rPr b="1" lang="ja-JP" sz="2400" spc="-1" strike="noStrike" baseline="-25000">
                <a:solidFill>
                  <a:srgbClr val="0000cc"/>
                </a:solidFill>
                <a:latin typeface="ＭＳ ゴシック"/>
              </a:rPr>
              <a:t>T</a:t>
            </a: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 distribution 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5778000"/>
            <a:ext cx="382428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Slope parameters vs mass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Freezeout Temepature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Radial flow velocity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Systematic Comparison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022480"/>
            <a:ext cx="6986520" cy="31510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264200" y="6205320"/>
            <a:ext cx="2376360" cy="2291040"/>
            <a:chOff x="4264200" y="6205320"/>
            <a:chExt cx="2376360" cy="2291040"/>
          </a:xfrm>
        </p:grpSpPr>
        <p:sp>
          <p:nvSpPr>
            <p:cNvPr id="136" name=""/>
            <p:cNvSpPr/>
            <p:nvPr/>
          </p:nvSpPr>
          <p:spPr>
            <a:xfrm>
              <a:off x="4427640" y="6873840"/>
              <a:ext cx="934920" cy="358920"/>
            </a:xfrm>
            <a:custGeom>
              <a:avLst/>
              <a:gdLst/>
              <a:ahLst/>
              <a:rect l="l" t="t" r="r" b="b"/>
              <a:pathLst>
                <a:path w="589" h="226">
                  <a:moveTo>
                    <a:pt x="0" y="24"/>
                  </a:moveTo>
                  <a:lnTo>
                    <a:pt x="7" y="0"/>
                  </a:lnTo>
                  <a:lnTo>
                    <a:pt x="589" y="202"/>
                  </a:lnTo>
                  <a:lnTo>
                    <a:pt x="582" y="2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5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21520" y="7112160"/>
              <a:ext cx="266400" cy="203040"/>
            </a:xfrm>
            <a:custGeom>
              <a:avLst/>
              <a:gdLst/>
              <a:ahLst/>
              <a:rect l="l" t="t" r="r" b="b"/>
              <a:pathLst>
                <a:path w="168" h="128">
                  <a:moveTo>
                    <a:pt x="23" y="64"/>
                  </a:moveTo>
                  <a:lnTo>
                    <a:pt x="0" y="128"/>
                  </a:lnTo>
                  <a:lnTo>
                    <a:pt x="168" y="114"/>
                  </a:lnTo>
                  <a:lnTo>
                    <a:pt x="45" y="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55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0000" y="6620040"/>
              <a:ext cx="892440" cy="744480"/>
            </a:xfrm>
            <a:custGeom>
              <a:avLst/>
              <a:gdLst/>
              <a:ahLst/>
              <a:rect l="l" t="t" r="r" b="b"/>
              <a:pathLst>
                <a:path w="562" h="469">
                  <a:moveTo>
                    <a:pt x="16" y="469"/>
                  </a:moveTo>
                  <a:lnTo>
                    <a:pt x="0" y="452"/>
                  </a:lnTo>
                  <a:lnTo>
                    <a:pt x="547" y="0"/>
                  </a:lnTo>
                  <a:lnTo>
                    <a:pt x="562" y="18"/>
                  </a:lnTo>
                  <a:lnTo>
                    <a:pt x="16" y="469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9640" y="6480360"/>
              <a:ext cx="255600" cy="23976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44" y="97"/>
                  </a:moveTo>
                  <a:lnTo>
                    <a:pt x="87" y="151"/>
                  </a:lnTo>
                  <a:lnTo>
                    <a:pt x="161" y="0"/>
                  </a:lnTo>
                  <a:lnTo>
                    <a:pt x="0" y="45"/>
                  </a:lnTo>
                  <a:lnTo>
                    <a:pt x="44" y="97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18480" y="725652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551700"/>
                  </a:solidFill>
                  <a:latin typeface="Osaka"/>
                </a:rPr>
                <a:t>β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5360" y="647568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2a35"/>
                  </a:solidFill>
                  <a:latin typeface="Osaka"/>
                </a:rPr>
                <a:t>温度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3960" y="8298000"/>
              <a:ext cx="1081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Osaka"/>
                </a:rPr>
                <a:t>Beam Ener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720" y="7967880"/>
              <a:ext cx="32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Osaka"/>
                </a:rPr>
                <a:t>AG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57000" y="796788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Osaka"/>
                </a:rPr>
                <a:t>SP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264200" y="6205320"/>
              <a:ext cx="0" cy="16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81480" y="7802640"/>
              <a:ext cx="235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9880" y="7917120"/>
              <a:ext cx="584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Osaka"/>
                </a:rPr>
                <a:t>RH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70640" y="7275600"/>
              <a:ext cx="706320" cy="163440"/>
            </a:xfrm>
            <a:prstGeom prst="line">
              <a:avLst/>
            </a:prstGeom>
            <a:ln w="38160">
              <a:solidFill>
                <a:srgbClr val="66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479920" y="6295680"/>
              <a:ext cx="669960" cy="18108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53AC-A79B-4F07-AFE7-C657F9232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Where it goes…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4560" y="4600440"/>
            <a:ext cx="5502240" cy="4762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46440" y="1744560"/>
            <a:ext cx="2049480" cy="200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80880" y="1314360"/>
            <a:ext cx="2543400" cy="3017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940040" y="3700440"/>
            <a:ext cx="2412720" cy="1633680"/>
          </a:xfrm>
          <a:prstGeom prst="line">
            <a:avLst/>
          </a:prstGeom>
          <a:ln cap="rnd" w="7632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650B-DEEC-4A3A-A5A2-D5CF69E275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First Collision at PHENIX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3280" y="7891200"/>
            <a:ext cx="64008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ゴシック"/>
              </a:rPr>
              <a:t>Machine started on March, 2000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ゴシック"/>
              </a:rPr>
              <a:t>First Collisions at PHENIX recorded on June 15th, 2000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ゴシック"/>
              </a:rPr>
              <a:t>5 Million Collisions Recorded till September, 2000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3440" y="1214280"/>
            <a:ext cx="4459320" cy="655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1D1C-D6BA-4C49-9FCA-DCCA445AC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Nch-deta" descr=""/>
          <p:cNvPicPr/>
          <p:nvPr/>
        </p:nvPicPr>
        <p:blipFill>
          <a:blip r:embed="rId1"/>
          <a:stretch/>
        </p:blipFill>
        <p:spPr>
          <a:xfrm>
            <a:off x="339840" y="1200240"/>
            <a:ext cx="6191280" cy="433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Multiplicity Distribution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Multiplicity measurement by Drift &amp; Pad chamber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Consistent Results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Shape of distr. well explained by Glauber Model Calculation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Central collisions (Upper 6%) 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ｄｎ／ｄ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η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＝５４０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&lt;N</a:t>
            </a:r>
            <a:r>
              <a:rPr b="1" lang="ja-JP" sz="1400" spc="-1" strike="noStrike" baseline="-25000">
                <a:solidFill>
                  <a:srgbClr val="5a2d00"/>
                </a:solidFill>
                <a:latin typeface="Osaka"/>
              </a:rPr>
              <a:t>participant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&gt;~345 from Glauber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Central Pb+Pb at SPS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（√ｓ＝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17.2 GeV/A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）ｄｎ／ｄ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η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＝４００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3" marL="1562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c0000"/>
                </a:solidFill>
                <a:latin typeface="Osaka"/>
              </a:rPr>
              <a:t>４０％ </a:t>
            </a:r>
            <a:r>
              <a:rPr b="1" lang="ja-JP" sz="1400" spc="-1" strike="noStrike">
                <a:solidFill>
                  <a:srgbClr val="cc0000"/>
                </a:solidFill>
                <a:latin typeface="Osaka"/>
              </a:rPr>
              <a:t>increase !!</a:t>
            </a:r>
            <a:endParaRPr b="1" lang="en-US" sz="1400" spc="-1" strike="noStrike">
              <a:solidFill>
                <a:srgbClr val="cc0000"/>
              </a:solidFill>
              <a:latin typeface="Osa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6082-21D1-44D2-A180-C6A2A16C09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Transverse Energy Distribution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Transverse Energy by EM Cal.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Glauber Model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により分布形状の説明可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Central Collisions (Upper 2%)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ｄＥ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ＭＳ ゴシック"/>
              </a:rPr>
              <a:t>Ｔ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／ｄ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η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＝５７０ＧｅＶ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Central Pb+Pb at SPS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（√ｓ＝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17.2 GeV/A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）ｄＥ</a:t>
            </a:r>
            <a:r>
              <a:rPr b="1" lang="ja-JP" sz="1200" spc="-1" strike="noStrike" baseline="-25000">
                <a:solidFill>
                  <a:srgbClr val="5a2d00"/>
                </a:solidFill>
                <a:latin typeface="Osaka"/>
              </a:rPr>
              <a:t>Ｔ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／ｄ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η</a:t>
            </a: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＝４０５ＧｅＶ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  <a:p>
            <a:pPr lvl="3" marL="156204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c0000"/>
                </a:solidFill>
                <a:latin typeface="Osaka"/>
              </a:rPr>
              <a:t>４０％ </a:t>
            </a:r>
            <a:r>
              <a:rPr b="1" lang="ja-JP" sz="1200" spc="-1" strike="noStrike">
                <a:solidFill>
                  <a:srgbClr val="cc0000"/>
                </a:solidFill>
                <a:latin typeface="Osaka"/>
              </a:rPr>
              <a:t>increase !!</a:t>
            </a:r>
            <a:endParaRPr b="1" lang="en-US" sz="1200" spc="-1" strike="noStrike">
              <a:solidFill>
                <a:srgbClr val="cc00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Estimate of energy density by Bjorken Formula;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Compared with SPS, &gt;40% increase!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53920" y="1662120"/>
            <a:ext cx="5433840" cy="3447720"/>
            <a:chOff x="853920" y="1662120"/>
            <a:chExt cx="5433840" cy="3447720"/>
          </a:xfrm>
        </p:grpSpPr>
        <p:pic>
          <p:nvPicPr>
            <p:cNvPr id="57" name="fig9-2" descr=""/>
            <p:cNvPicPr/>
            <p:nvPr/>
          </p:nvPicPr>
          <p:blipFill>
            <a:blip r:embed="rId1"/>
            <a:stretch/>
          </p:blipFill>
          <p:spPr>
            <a:xfrm>
              <a:off x="853920" y="1662120"/>
              <a:ext cx="5433840" cy="34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67760" y="1796760"/>
              <a:ext cx="200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PHENIX 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rmalized to 10.7 ba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62320" y="8475840"/>
            <a:ext cx="2373480" cy="81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5360" y="1881360"/>
            <a:ext cx="569880" cy="73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E286-8AC3-40D9-8CE0-D3B31AAE8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More comparison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Charged Multiplicity, E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ＭＳ ゴシック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 shows ~40% increase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~50% increase if normalized with # of participants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E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ＭＳ ゴシック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/Multiplicity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ＭＳ ゴシック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ratio increases slightly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ＲＨＩＣ；（ｄＥ</a:t>
            </a:r>
            <a:r>
              <a:rPr b="1" lang="ja-JP" sz="1400" spc="-1" strike="noStrike" baseline="-25000">
                <a:solidFill>
                  <a:srgbClr val="5a2d00"/>
                </a:solidFill>
                <a:latin typeface="Osaka"/>
              </a:rPr>
              <a:t>Ｔ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／ｄ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η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）／（ｄｎ／ｄ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η 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）〜１．０５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ＳＰＳ　；（ｄＥ</a:t>
            </a:r>
            <a:r>
              <a:rPr b="1" lang="ja-JP" sz="1400" spc="-1" strike="noStrike" baseline="-25000">
                <a:solidFill>
                  <a:srgbClr val="5a2d00"/>
                </a:solidFill>
                <a:latin typeface="Osaka"/>
              </a:rPr>
              <a:t>Ｔ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／ｄ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η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）／（ｄｎ／ｄ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η 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）〜１．０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Slight increase of individual p</a:t>
            </a:r>
            <a:r>
              <a:rPr b="1" lang="ja-JP" sz="1400" spc="-1" strike="noStrike" baseline="-25000">
                <a:solidFill>
                  <a:srgbClr val="0000cc"/>
                </a:solidFill>
                <a:latin typeface="Osaka"/>
              </a:rPr>
              <a:t>t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28480" y="1420920"/>
            <a:ext cx="5824440" cy="4088880"/>
            <a:chOff x="528480" y="1420920"/>
            <a:chExt cx="5824440" cy="4088880"/>
          </a:xfrm>
        </p:grpSpPr>
        <p:pic>
          <p:nvPicPr>
            <p:cNvPr id="64" name="fig13-1" descr=""/>
            <p:cNvPicPr/>
            <p:nvPr/>
          </p:nvPicPr>
          <p:blipFill>
            <a:blip r:embed="rId1"/>
            <a:stretch/>
          </p:blipFill>
          <p:spPr>
            <a:xfrm>
              <a:off x="528480" y="1420920"/>
              <a:ext cx="5824440" cy="40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460160" y="3284280"/>
              <a:ext cx="4310280" cy="116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4680" y="398304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Times New Roman"/>
                </a:rPr>
                <a:t>NA49-WA98 @ S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71680" y="3400560"/>
              <a:ext cx="582120" cy="58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040" y="1770120"/>
              <a:ext cx="302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HENIX PRELIMIN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F695-37F1-4C99-B5B8-83919CC31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π</a:t>
            </a:r>
            <a:r>
              <a:rPr b="1" lang="zh-CN" sz="2400" spc="-1" strike="noStrike" baseline="30000">
                <a:solidFill>
                  <a:srgbClr val="0000cc"/>
                </a:solidFill>
                <a:latin typeface="ＭＳ ゴシック"/>
              </a:rPr>
              <a:t>０ </a:t>
            </a: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measurement by EM Cal.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0960" y="7453080"/>
            <a:ext cx="6400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Photons of π</a:t>
            </a:r>
            <a:r>
              <a:rPr b="1" lang="zh-CN" sz="1800" spc="-1" strike="noStrike" baseline="30000">
                <a:solidFill>
                  <a:srgbClr val="000000"/>
                </a:solidFill>
                <a:latin typeface="ＭＳ ゴシック"/>
              </a:rPr>
              <a:t>０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→２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γ detected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Evaluate invariant mass of all photon pair 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Subtract Combinatorial Background with a Mixed Event Method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145260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72" name="WestArm" descr=""/>
          <p:cNvPicPr/>
          <p:nvPr/>
        </p:nvPicPr>
        <p:blipFill>
          <a:blip r:embed="rId2"/>
          <a:stretch/>
        </p:blipFill>
        <p:spPr>
          <a:xfrm>
            <a:off x="230040" y="142704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DD8E-8647-47D1-A862-3512540E4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66920" y="1182600"/>
            <a:ext cx="3429000" cy="4484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 </a:t>
            </a: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p</a:t>
            </a:r>
            <a:r>
              <a:rPr b="1" lang="ja-JP" sz="2400" spc="-1" strike="noStrike" baseline="-25000">
                <a:solidFill>
                  <a:srgbClr val="0000cc"/>
                </a:solidFill>
                <a:latin typeface="ＭＳ ゴシック"/>
              </a:rPr>
              <a:t>T</a:t>
            </a: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 distribution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5778360"/>
            <a:ext cx="640080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Compared with CERN WA98 results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Hotter(!?) at RHIC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Tracking Results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2d00"/>
                </a:solidFill>
                <a:latin typeface="Osaka"/>
              </a:rPr>
              <a:t>Agree with in the error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1165320"/>
            <a:ext cx="3378240" cy="4000320"/>
            <a:chOff x="0" y="1165320"/>
            <a:chExt cx="3378240" cy="40003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0" y="1165320"/>
              <a:ext cx="337824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0" y="1165320"/>
              <a:ext cx="3378240" cy="40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70000"/>
                </a:lnSpc>
                <a:spcBef>
                  <a:spcPts val="349"/>
                </a:spcBef>
                <a:buClr>
                  <a:srgbClr val="cc0000"/>
                </a:buClr>
                <a:buFont typeface="ＭＳ ゴシック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D534-F511-4743-80A0-B52BCDAE8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ＭＳ ゴシック"/>
              </a:rPr>
              <a:t>PID by TOF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22640" y="6176880"/>
            <a:ext cx="3735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No Slewing, No adj. W. tracking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1316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Intrinsic Resolution of 120 ps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  <a:p>
            <a:pPr lvl="1" marL="71316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TOF resolution of 170 ps 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  <a:p>
            <a:pPr marL="329040" indent="-32904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Has been improved to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1316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TOF resolution of 120 ps aft. Slewing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  <a:p>
            <a:pPr lvl="2" marL="10972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cc"/>
                </a:solidFill>
                <a:latin typeface="Osaka"/>
              </a:rPr>
              <a:t>A. Kiyomichi/T. Chujo</a:t>
            </a:r>
            <a:endParaRPr b="1" lang="en-US" sz="1200" spc="-1" strike="noStrike">
              <a:solidFill>
                <a:srgbClr val="0000cc"/>
              </a:solidFill>
              <a:latin typeface="Osaka"/>
            </a:endParaRPr>
          </a:p>
          <a:p>
            <a:pPr marL="329040" indent="-329040">
              <a:lnSpc>
                <a:spcPct val="170000"/>
              </a:lnSpc>
              <a:spcBef>
                <a:spcPts val="400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</a:rPr>
              <a:t>Capability of a lot of physics!</a:t>
            </a:r>
            <a:endParaRPr b="1" lang="en-US" sz="16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1316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a2d00"/>
                </a:solidFill>
                <a:latin typeface="Osaka"/>
              </a:rPr>
              <a:t>Particle ratios ; Chemical eq.</a:t>
            </a:r>
            <a:endParaRPr b="1" lang="en-US" sz="1200" spc="-1" strike="noStrike">
              <a:solidFill>
                <a:srgbClr val="5a2d00"/>
              </a:solidFill>
              <a:latin typeface="Osaka"/>
            </a:endParaRPr>
          </a:p>
          <a:p>
            <a:pPr lvl="2" marL="10972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cc"/>
                </a:solidFill>
                <a:latin typeface="Osaka"/>
              </a:rPr>
              <a:t>Y. Kwon/DJ.Kim</a:t>
            </a:r>
            <a:endParaRPr b="1" lang="en-US" sz="1200" spc="-1" strike="noStrike">
              <a:solidFill>
                <a:srgbClr val="0000cc"/>
              </a:solidFill>
              <a:latin typeface="Osaka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8600" y="5803920"/>
            <a:ext cx="2657160" cy="3542760"/>
            <a:chOff x="228600" y="5803920"/>
            <a:chExt cx="2657160" cy="3542760"/>
          </a:xfrm>
        </p:grpSpPr>
        <p:pic>
          <p:nvPicPr>
            <p:cNvPr id="82" name="tof_at_bnl99sep13" descr=""/>
            <p:cNvPicPr/>
            <p:nvPr/>
          </p:nvPicPr>
          <p:blipFill>
            <a:blip r:embed="rId1"/>
            <a:stretch/>
          </p:blipFill>
          <p:spPr>
            <a:xfrm>
              <a:off x="228600" y="5803920"/>
              <a:ext cx="2657160" cy="35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V="1">
              <a:off x="1092600" y="6495120"/>
              <a:ext cx="1296000" cy="86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52520" y="614916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385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919800" y="6754320"/>
              <a:ext cx="86040" cy="112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4600" y="7791120"/>
              <a:ext cx="86400" cy="86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00" y="701352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00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6000" y="80506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00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17640" y="1165320"/>
            <a:ext cx="5154120" cy="5041440"/>
            <a:chOff x="917640" y="1165320"/>
            <a:chExt cx="5154120" cy="5041440"/>
          </a:xfrm>
        </p:grpSpPr>
        <p:pic>
          <p:nvPicPr>
            <p:cNvPr id="90" name="tof_p_inv_final_w_pidcut" descr=""/>
            <p:cNvPicPr/>
            <p:nvPr/>
          </p:nvPicPr>
          <p:blipFill>
            <a:blip r:embed="rId2"/>
            <a:srcRect l="760" t="5659" r="50261" b="50125"/>
            <a:stretch/>
          </p:blipFill>
          <p:spPr>
            <a:xfrm>
              <a:off x="917640" y="1202400"/>
              <a:ext cx="5154120" cy="50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53800" y="128520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  <a:ea typeface="ＭＳ Ｐゴシック"/>
                </a:rPr>
                <a:t>PHENIX Prelimin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7040" y="21409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Pro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20680" y="20509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7640" y="4173120"/>
              <a:ext cx="4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41680" y="125532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3280" y="4820040"/>
              <a:ext cx="52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940920" y="3605760"/>
              <a:ext cx="330480" cy="398880"/>
              <a:chOff x="3940920" y="3605760"/>
              <a:chExt cx="330480" cy="398880"/>
            </a:xfrm>
          </p:grpSpPr>
          <p:sp>
            <p:nvSpPr>
              <p:cNvPr id="98" name=""/>
              <p:cNvSpPr/>
              <p:nvPr/>
            </p:nvSpPr>
            <p:spPr>
              <a:xfrm>
                <a:off x="3940920" y="3605760"/>
                <a:ext cx="33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68360" y="3697200"/>
                <a:ext cx="126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810080" y="1165320"/>
              <a:ext cx="43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45640" y="4975560"/>
              <a:ext cx="40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CD37-EACC-4711-B8E8-A5BFD1BDE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8120" y="1220760"/>
            <a:ext cx="6519960" cy="4457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5829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 </a:t>
            </a: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p</a:t>
            </a:r>
            <a:r>
              <a:rPr b="1" lang="ja-JP" sz="2400" spc="-1" strike="noStrike" baseline="-25000">
                <a:solidFill>
                  <a:srgbClr val="0000cc"/>
                </a:solidFill>
                <a:latin typeface="ＭＳ ゴシック"/>
              </a:rPr>
              <a:t>T</a:t>
            </a:r>
            <a:r>
              <a:rPr b="1" lang="ja-JP" sz="2400" spc="-1" strike="noStrike">
                <a:solidFill>
                  <a:srgbClr val="0000cc"/>
                </a:solidFill>
                <a:latin typeface="ＭＳ ゴシック"/>
              </a:rPr>
              <a:t> distribution of Identified</a:t>
            </a:r>
            <a:endParaRPr b="1" lang="en-US" sz="2400" spc="-1" strike="noStrike">
              <a:solidFill>
                <a:srgbClr val="0000cc"/>
              </a:solidFill>
              <a:latin typeface="ＭＳ 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5551560"/>
            <a:ext cx="685800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Capability of a lot of physics!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strangeness and (net)baryon content </a:t>
            </a:r>
            <a:r>
              <a:rPr b="1" lang="ja-JP" sz="1400" spc="-1" strike="noStrike">
                <a:solidFill>
                  <a:srgbClr val="5a2d00"/>
                </a:solidFill>
                <a:latin typeface="Symbol"/>
                <a:ea typeface="Symbol"/>
              </a:rPr>
              <a:t>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 μS, μB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mean pT, variation of invariant cross section with pT </a:t>
            </a:r>
            <a:r>
              <a:rPr b="1" lang="ja-JP" sz="1400" spc="-1" strike="noStrike">
                <a:solidFill>
                  <a:srgbClr val="5a2d00"/>
                </a:solidFill>
                <a:latin typeface="Symbol"/>
                <a:ea typeface="Symbol"/>
              </a:rPr>
              <a:t>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 T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pT as function of particle species - evidence for collective motion? </a:t>
            </a:r>
            <a:r>
              <a:rPr b="1" lang="ja-JP" sz="1400" spc="-1" strike="noStrike">
                <a:solidFill>
                  <a:srgbClr val="5a2d00"/>
                </a:solidFill>
                <a:latin typeface="Symbol"/>
                <a:ea typeface="Symbol"/>
              </a:rPr>
              <a:t></a:t>
            </a: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 b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lvl="1" marL="74304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5a2d00"/>
                </a:solidFill>
                <a:latin typeface="Osaka"/>
              </a:rPr>
              <a:t>Cross section for short-lived particles, such as w and f vector mesons</a:t>
            </a:r>
            <a:endParaRPr b="1" lang="en-US" sz="1400" spc="-1" strike="noStrike">
              <a:solidFill>
                <a:srgbClr val="5a2d00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Need works on Tracking, Acceptance 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T. Chujo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cc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</a:rPr>
              <a:t>Higher pt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cc"/>
                </a:solidFill>
                <a:latin typeface="Osaka"/>
              </a:rPr>
              <a:t>S. Sato</a:t>
            </a:r>
            <a:endParaRPr b="1" lang="en-US" sz="1400" spc="-1" strike="noStrike">
              <a:solidFill>
                <a:srgbClr val="0000cc"/>
              </a:solidFill>
              <a:latin typeface="Osa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筑波大学・物理学系　三明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0E4E-FC1C-45F1-BAD2-B9C365222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2:23:40Z</dcterms:created>
  <dc:creator>Yasuo MIAKE</dc:creator>
  <dc:description/>
  <dc:language>en-US</dc:language>
  <cp:lastModifiedBy>Yasuo MIAKE</cp:lastModifiedBy>
  <cp:lastPrinted>2000-12-01T06:22:34Z</cp:lastPrinted>
  <dcterms:modified xsi:type="dcterms:W3CDTF">2000-12-11T02:41:32Z</dcterms:modified>
  <cp:revision>62</cp:revision>
  <dc:subject/>
  <dc:title>PowerPoint プレゼンテーション  -  Third Tsukuba-Yonsei Workshop</dc:title>
</cp:coreProperties>
</file>