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10A-B792-429E-9B16-6FD1D49D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20E2-9160-4FA9-9B09-0DAEBAFB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A8A8-E845-4748-9159-F111BB1E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1678-5207-4C30-AABB-C3DB5A48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D7D6-4DFC-4158-8E0E-6EB3F072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11E5-5EBC-4DC4-BB27-D507668A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E4AB-6746-4CE6-B1DB-DDEA39EC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DE9-EEA7-4458-A23D-871C3A36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86C-901E-4E33-B8F7-5AAFD378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4313-972A-4895-818A-BCF70705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8E8A-7A2F-4BE0-A2E4-C10DB0D7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7068-9B6E-48FE-AA63-DFE8D299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76B0-84CC-4674-9686-2FBCBF3532BC}" type="datetime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6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7A00-E8A3-4D23-80A8-18C94518578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3333cc"/>
                </a:solidFill>
                <a:latin typeface="Times New Roman"/>
              </a:rPr>
              <a:t>相対論的重イオン衝突実験</a:t>
            </a:r>
            <a:r>
              <a:rPr b="1" lang="ja-JP" sz="3600" spc="-1" strike="noStrike">
                <a:solidFill>
                  <a:srgbClr val="3333cc"/>
                </a:solidFill>
                <a:latin typeface="Times New Roman"/>
              </a:rPr>
              <a:t>PHENIX</a:t>
            </a:r>
            <a:r>
              <a:rPr b="1" lang="ja-JP" sz="3600" spc="-1" strike="noStrike">
                <a:solidFill>
                  <a:srgbClr val="3333cc"/>
                </a:solidFill>
                <a:latin typeface="Times New Roman"/>
              </a:rPr>
              <a:t>のための</a:t>
            </a:r>
            <a:br>
              <a:rPr sz="3600"/>
            </a:br>
            <a:r>
              <a:rPr b="1" lang="ja-JP" sz="3600" spc="-1" strike="noStrike">
                <a:solidFill>
                  <a:srgbClr val="3333cc"/>
                </a:solidFill>
                <a:latin typeface="Times New Roman"/>
              </a:rPr>
              <a:t>Aerogel Cherenkov Counter</a:t>
            </a:r>
            <a:br>
              <a:rPr sz="3600"/>
            </a:br>
            <a:r>
              <a:rPr b="1" lang="ja-JP" sz="3600" spc="-1" strike="noStrike">
                <a:solidFill>
                  <a:srgbClr val="3333cc"/>
                </a:solidFill>
                <a:latin typeface="Times New Roman"/>
              </a:rPr>
              <a:t>プロトタイプの開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89548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平成１３年度　卒業研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学群　自然学類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物理学専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９８０３１９　金野正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９８０２９０　大木俊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指導教官　：　三明康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　　　　　　　　江角晋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3200400"/>
            <a:ext cx="4572000" cy="2228040"/>
          </a:xfrm>
          <a:prstGeom prst="rect">
            <a:avLst/>
          </a:prstGeom>
          <a:solidFill>
            <a:srgbClr val="99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１．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PHENIX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実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２．卒業研究の目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３．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KEK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テスト実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４．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ACC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プロトタイプの性能評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５．まと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8391-C8C0-4700-90B4-5F9A819CA6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419720" y="53341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3GeV/c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の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中間子（上）と陽子（下）による　　　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ACC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の波高分布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ｎ 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= 1.017 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7621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Times New Roman"/>
              </a:rPr>
              <a:t>KEK</a:t>
            </a:r>
            <a:r>
              <a:rPr b="0" i="1" lang="ja-JP" sz="3600" spc="-1" strike="noStrike">
                <a:solidFill>
                  <a:srgbClr val="000000"/>
                </a:solidFill>
                <a:latin typeface="Times New Roman"/>
              </a:rPr>
              <a:t>テスト実験の結果 </a:t>
            </a:r>
            <a:r>
              <a:rPr b="0" i="1" lang="ja-JP" sz="36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i="1" lang="ja-JP" sz="3600" spc="-1" strike="noStrike">
                <a:solidFill>
                  <a:srgbClr val="000000"/>
                </a:solidFill>
                <a:latin typeface="Times New Roman"/>
              </a:rPr>
              <a:t>　ｰ　</a:t>
            </a:r>
            <a:r>
              <a:rPr b="0" i="1" lang="ja-JP" sz="3600" spc="-1" strike="noStrike">
                <a:solidFill>
                  <a:srgbClr val="000000"/>
                </a:solidFill>
                <a:latin typeface="Times New Roman"/>
              </a:rPr>
              <a:t>PID </a:t>
            </a:r>
            <a:r>
              <a:rPr b="0" i="1" lang="ja-JP" sz="3600" spc="-1" strike="noStrike">
                <a:solidFill>
                  <a:srgbClr val="000000"/>
                </a:solidFill>
                <a:latin typeface="Times New Roman"/>
              </a:rPr>
              <a:t>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838080"/>
            <a:ext cx="0" cy="556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838080"/>
            <a:ext cx="0" cy="6019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67280" y="4114800"/>
            <a:ext cx="129564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143000"/>
            <a:ext cx="0" cy="4191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8160" y="5243400"/>
            <a:ext cx="36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TOF vs. ACC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波高　（３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GeV/C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1066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TOF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による粒子選別後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71800" y="5943600"/>
            <a:ext cx="5410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9933"/>
                </a:solidFill>
                <a:latin typeface="Times New Roman"/>
              </a:rPr>
              <a:t>波高分布においても明快に</a:t>
            </a:r>
            <a:r>
              <a:rPr b="0" lang="ja-JP" sz="2400" spc="-1" strike="noStrike">
                <a:solidFill>
                  <a:srgbClr val="ff9933"/>
                </a:solidFill>
                <a:latin typeface="Times New Roman"/>
              </a:rPr>
              <a:t>PID</a:t>
            </a:r>
            <a:r>
              <a:rPr b="0" lang="ja-JP" sz="2400" spc="-1" strike="noStrike">
                <a:solidFill>
                  <a:srgbClr val="ff9933"/>
                </a:solidFill>
                <a:latin typeface="Times New Roman"/>
              </a:rPr>
              <a:t>ができ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9933"/>
                </a:solidFill>
                <a:latin typeface="Times New Roman"/>
              </a:rPr>
              <a:t>　　　　～</a:t>
            </a:r>
            <a:r>
              <a:rPr b="0" lang="ja-JP" sz="2000" spc="-1" strike="noStrike">
                <a:solidFill>
                  <a:srgbClr val="ff9933"/>
                </a:solidFill>
                <a:latin typeface="Times New Roman"/>
              </a:rPr>
              <a:t>13</a:t>
            </a:r>
            <a:r>
              <a:rPr b="0" lang="ja-JP" sz="2000" spc="-1" strike="noStrike">
                <a:solidFill>
                  <a:srgbClr val="ff9933"/>
                </a:solidFill>
                <a:latin typeface="Times New Roman"/>
              </a:rPr>
              <a:t>個の光電子数 （</a:t>
            </a:r>
            <a:r>
              <a:rPr b="0" lang="ja-JP" sz="2000" spc="-1" strike="noStrike">
                <a:solidFill>
                  <a:srgbClr val="ff9933"/>
                </a:solidFill>
                <a:latin typeface="Times New Roman"/>
              </a:rPr>
              <a:t>PMT</a:t>
            </a:r>
            <a:r>
              <a:rPr b="0" lang="ja-JP" sz="2000" spc="-1" strike="noStrike">
                <a:solidFill>
                  <a:srgbClr val="ff9933"/>
                </a:solidFill>
                <a:latin typeface="Times New Roman"/>
              </a:rPr>
              <a:t>１本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6019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ADC_ACC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572000" y="1371600"/>
            <a:ext cx="4419720" cy="3809880"/>
          </a:xfrm>
          <a:prstGeom prst="rect">
            <a:avLst/>
          </a:prstGeom>
          <a:ln w="0">
            <a:noFill/>
          </a:ln>
        </p:spPr>
      </p:pic>
      <p:pic>
        <p:nvPicPr>
          <p:cNvPr id="211" name="TOF-ACC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52280" y="1219320"/>
            <a:ext cx="4187880" cy="40384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1219320"/>
            <a:ext cx="419112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9810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β = 0.9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3886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β = 0.95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3760" y="129528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B25-3262-4A50-8A5A-DEA717FCE3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8380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000" spc="-1" strike="noStrike">
                <a:solidFill>
                  <a:srgbClr val="000000"/>
                </a:solidFill>
                <a:latin typeface="Times New Roman"/>
              </a:rPr>
              <a:t>KEK</a:t>
            </a:r>
            <a:r>
              <a:rPr b="0" i="1" lang="ja-JP" sz="3600" spc="-1" strike="noStrike">
                <a:solidFill>
                  <a:srgbClr val="000000"/>
                </a:solidFill>
                <a:latin typeface="Times New Roman"/>
              </a:rPr>
              <a:t>テスト実験の結果 </a:t>
            </a:r>
            <a:r>
              <a:rPr b="0" i="1" lang="ja-JP" sz="3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i="1" lang="ja-JP" sz="3600" spc="-1" strike="noStrike">
                <a:solidFill>
                  <a:srgbClr val="000000"/>
                </a:solidFill>
                <a:latin typeface="Times New Roman"/>
              </a:rPr>
              <a:t>　－</a:t>
            </a:r>
            <a:r>
              <a:rPr b="0" i="1" lang="ja-JP" sz="3200" spc="-1" strike="noStrike">
                <a:solidFill>
                  <a:srgbClr val="000000"/>
                </a:solidFill>
                <a:latin typeface="Times New Roman"/>
              </a:rPr>
              <a:t>実験の精度</a:t>
            </a:r>
            <a:r>
              <a:rPr b="0" i="1" lang="ja-JP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81680" y="312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3400" y="571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51055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チェレンコフ放射の飽和曲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Index-dep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52280" y="2133720"/>
            <a:ext cx="4343400" cy="2819160"/>
          </a:xfrm>
          <a:prstGeom prst="rect">
            <a:avLst/>
          </a:prstGeom>
          <a:ln w="0">
            <a:noFill/>
          </a:ln>
        </p:spPr>
      </p:pic>
      <p:pic>
        <p:nvPicPr>
          <p:cNvPr id="221" name="Momentum-dep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4648320" y="2133720"/>
            <a:ext cx="4343400" cy="2819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410080" y="54864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チェレンコフ検出器　　　　　としての動作を確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04920" y="5486400"/>
                <a:ext cx="3809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838080" y="1143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9933"/>
                </a:solidFill>
                <a:latin typeface="Times New Roman"/>
              </a:rPr>
              <a:t>ＰＩＤはチェレンコフ現象によるものなのか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1752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Ｎｐｅ－屈折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10080" y="17524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Ｎｐｅ－運動量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n=1.0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5480" y="3886200"/>
            <a:ext cx="121932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 = 0.1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 = 3.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67480" y="3809880"/>
            <a:ext cx="121932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 = 0.1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 = 1.01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DEE1-E5BC-486B-BD83-E708BE7F22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380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000" spc="-1" strike="noStrike">
                <a:solidFill>
                  <a:srgbClr val="000000"/>
                </a:solidFill>
                <a:latin typeface="Times New Roman"/>
              </a:rPr>
              <a:t>KEK</a:t>
            </a:r>
            <a:r>
              <a:rPr b="0" i="1" lang="ja-JP" sz="3600" spc="-1" strike="noStrike">
                <a:solidFill>
                  <a:srgbClr val="000000"/>
                </a:solidFill>
                <a:latin typeface="Times New Roman"/>
              </a:rPr>
              <a:t>テスト実験の結果 </a:t>
            </a:r>
            <a:r>
              <a:rPr b="0" i="1" lang="ja-JP" sz="36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i="1" lang="ja-JP" sz="3600" spc="-1" strike="noStrike">
                <a:solidFill>
                  <a:srgbClr val="000000"/>
                </a:solidFill>
                <a:latin typeface="Times New Roman"/>
              </a:rPr>
              <a:t>　ｰ検出効率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Efficiency-pion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267080" cy="2819160"/>
          </a:xfrm>
          <a:prstGeom prst="rect">
            <a:avLst/>
          </a:prstGeom>
          <a:ln w="0">
            <a:noFill/>
          </a:ln>
        </p:spPr>
      </p:pic>
      <p:pic>
        <p:nvPicPr>
          <p:cNvPr id="231" name="Inefficiency-proton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4191120" cy="28130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09480" y="4114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中間子の検出効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05520" y="4114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陽子の非検出効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2438280"/>
            <a:ext cx="1447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66"/>
                </a:solidFill>
                <a:latin typeface="Times New Roman"/>
              </a:rPr>
              <a:t>赤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: 3GeV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9900"/>
                </a:solidFill>
                <a:latin typeface="Times New Roman"/>
              </a:rPr>
              <a:t>黄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: 2GeV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Times New Roman"/>
              </a:rPr>
              <a:t>青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: 1GeV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09480" y="4572000"/>
          <a:ext cx="3429000" cy="1976400"/>
        </p:xfrm>
        <a:graphic>
          <a:graphicData uri="http://schemas.openxmlformats.org/drawingml/2006/table">
            <a:tbl>
              <a:tblPr/>
              <a:tblGrid>
                <a:gridCol w="457200"/>
                <a:gridCol w="990720"/>
                <a:gridCol w="990720"/>
                <a:gridCol w="99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GeV/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GeV/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GeV/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4038480" y="4572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運動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2560" y="5105520"/>
            <a:ext cx="45468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光電子数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閾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4120" y="4648320"/>
            <a:ext cx="29718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バックグラウンドとして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　・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　　・反射材のシンチ光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　　　・ビームライン上流で起き　　　た核反応の生成粒子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510552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C568-5455-472D-8718-42B994C7B3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380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000" spc="-1" strike="noStrike">
                <a:solidFill>
                  <a:srgbClr val="000000"/>
                </a:solidFill>
                <a:latin typeface="Times New Roman"/>
              </a:rPr>
              <a:t>KEK</a:t>
            </a:r>
            <a:r>
              <a:rPr b="0" i="1" lang="ja-JP" sz="3600" spc="-1" strike="noStrike">
                <a:solidFill>
                  <a:srgbClr val="000000"/>
                </a:solidFill>
                <a:latin typeface="Times New Roman"/>
              </a:rPr>
              <a:t>テスト実験の結果 </a:t>
            </a:r>
            <a:r>
              <a:rPr b="0" i="1" lang="ja-JP" sz="36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i="1" lang="ja-JP" sz="3600" spc="-1" strike="noStrike">
                <a:solidFill>
                  <a:srgbClr val="000000"/>
                </a:solidFill>
                <a:latin typeface="Times New Roman"/>
              </a:rPr>
              <a:t>　ｰ検出効率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81680" y="276084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Efi" descr=""/>
          <p:cNvPicPr/>
          <p:nvPr/>
        </p:nvPicPr>
        <p:blipFill>
          <a:blip r:embed="rId1"/>
          <a:stretch/>
        </p:blipFill>
        <p:spPr>
          <a:xfrm>
            <a:off x="0" y="1219320"/>
            <a:ext cx="4648320" cy="30477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04920" y="4495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343400"/>
            <a:ext cx="2667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Times New Roman"/>
              </a:rPr>
              <a:t>赤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: π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中間子の検出効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cc"/>
                </a:solidFill>
                <a:latin typeface="Times New Roman"/>
              </a:rPr>
              <a:t>青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陽子の非検出効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52578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中間子の検出効率曲線と陽子の非検出効率曲線の交点が、光電子数の最適な閾値を与えると考え、その時の検出効率を最適検出効率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とし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48320" y="1371600"/>
          <a:ext cx="4267080" cy="2181240"/>
        </p:xfrm>
        <a:graphic>
          <a:graphicData uri="http://schemas.openxmlformats.org/drawingml/2006/table">
            <a:tbl>
              <a:tblPr/>
              <a:tblGrid>
                <a:gridCol w="914400"/>
                <a:gridCol w="1143000"/>
                <a:gridCol w="1066680"/>
                <a:gridCol w="11430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運動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GeV/c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光電子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の閾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平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光電子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5029200" y="3886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の誤差は、光電子数の推定の系統誤差に起因し、その大きさは　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±0.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E6C2-DC3A-4AD9-B2CE-41C1AF9E8E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57200" y="228600"/>
            <a:ext cx="8153280" cy="7621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Type A 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と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Type B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の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比較 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5248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14800" y="8380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42670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入射位置依存性 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(type 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Hit-Position-Gore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267080" cy="31352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28600" y="4724280"/>
            <a:ext cx="4191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集光量はビームの入射位置に大きく依存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下に凸。中心位置の光電子数が集光性の指標とな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各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MT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ごとの入射位置依存は指数関数で近似でき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57800" y="4648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中心位置の集光量（予測値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29400" y="4267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PMT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間の距離 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[c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5486400"/>
            <a:ext cx="685800" cy="409680"/>
          </a:xfrm>
          <a:prstGeom prst="rightArrow">
            <a:avLst>
              <a:gd name="adj1" fmla="val 50000"/>
              <a:gd name="adj2" fmla="val 4185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01360" y="5105520"/>
            <a:ext cx="3265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Type A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は、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断面積に限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減衰長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5.5 ±0.3 cm (Tyve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7.0 ±0.3 cm (Goret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Cross-section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4114800" cy="304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0831-2E35-4D04-873F-636D136FA0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228600"/>
            <a:ext cx="8153280" cy="914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Type A 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と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Type B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の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比較 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5248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14800" y="8380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12193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Hit-Position-Mirror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4267440" cy="28195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838080" y="42670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入射位置依存性 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(type 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46483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中心と端部で、約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倍の違い、下に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42670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入射位置依存性 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(type 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47242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左右非対称、２倍、上に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51055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・光量は、断面積に限界（指数関数的減少）　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4120" y="5105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・光量は断面積に無関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0" y="5791320"/>
            <a:ext cx="6705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ＰＭＴ１本あたりの中心位置における光量は等しいが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分布全体から見れば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Type A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の方が集光性が高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Hit-position-tyvek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4191120" cy="28195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800600" y="4495680"/>
            <a:ext cx="0" cy="10670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E86C-940C-4B5E-905F-6202654996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57200" y="228600"/>
            <a:ext cx="8153280" cy="7621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Type A 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と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Type B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の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比較 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8380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Thickness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038480" y="1219320"/>
            <a:ext cx="4876920" cy="2655720"/>
          </a:xfrm>
          <a:prstGeom prst="rect">
            <a:avLst/>
          </a:prstGeom>
          <a:ln w="0">
            <a:noFill/>
          </a:ln>
        </p:spPr>
      </p:pic>
      <p:pic>
        <p:nvPicPr>
          <p:cNvPr id="279" name="angle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52280" y="4030560"/>
            <a:ext cx="4876920" cy="26751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85800" y="1371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Aerogel 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厚さ依存性 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(PMT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１本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3720" y="1828800"/>
            <a:ext cx="304848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・ＴｙｐｅＢはＴｙｐｅＡより飽和するの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早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・～２０ｃｍ以内ではＴｙｐｅ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の方がよ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集光してい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05520" y="42670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入射角度依存性　（ＴｙｐｅＡ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800600"/>
            <a:ext cx="3581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・大略は、荷電粒子の通過距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　　　　　　　　　　に比例してい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05520" y="5562720"/>
            <a:ext cx="1218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Times New Roman"/>
              </a:rPr>
              <a:t>緑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66"/>
                </a:solidFill>
                <a:latin typeface="Times New Roman"/>
              </a:rPr>
              <a:t>赤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右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Times New Roman"/>
              </a:rPr>
              <a:t>青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左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5AB0-5445-49B3-99AB-6419047C25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まと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1295280"/>
            <a:ext cx="853452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Aerogel Cherenkov Counter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プロトタイプ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によって、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中間子・陽子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識別を行え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・散乱光型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Type A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で、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光電子数２７個、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98.8%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の検出効率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得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（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3GeV/c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中間子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陽子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Aerogel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屈折率、カウンターの断面積、ビーム軸方向の長さ、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M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本数、及び、集光量の各量のどれを最適にするかで、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散乱光型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Type A /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直接光型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Type B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選択余地があ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集光量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上げる様々な因子（屈折率、反射材、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UV-PM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など）があることも定　量的に確認し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24280" y="464832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374F-5BFE-4618-AB5D-1087F0464A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400" spc="-1" strike="noStrike">
                <a:solidFill>
                  <a:srgbClr val="000000"/>
                </a:solidFill>
                <a:latin typeface="Times New Roman"/>
              </a:rPr>
              <a:t>QGP</a:t>
            </a:r>
            <a:r>
              <a:rPr b="0" i="1" lang="ja-JP" sz="3600" spc="-1" strike="noStrike">
                <a:solidFill>
                  <a:srgbClr val="000000"/>
                </a:solidFill>
                <a:latin typeface="Times New Roman"/>
              </a:rPr>
              <a:t>と </a:t>
            </a:r>
            <a:r>
              <a:rPr b="0" i="1" lang="ja-JP" sz="4400" spc="-1" strike="noStrike">
                <a:solidFill>
                  <a:srgbClr val="000000"/>
                </a:solidFill>
                <a:latin typeface="Times New Roman"/>
              </a:rPr>
              <a:t>PHENIX</a:t>
            </a:r>
            <a:r>
              <a:rPr b="0" i="1" lang="ja-JP" sz="3600" spc="-1" strike="noStrike">
                <a:solidFill>
                  <a:srgbClr val="000000"/>
                </a:solidFill>
                <a:latin typeface="Times New Roman"/>
              </a:rPr>
              <a:t>実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9907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Quark Gluon Plasma 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・・・  宇宙初期状態、未知の物質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67480" y="4191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48520" y="44197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4572000"/>
            <a:ext cx="3808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3581280"/>
            <a:ext cx="75960" cy="381240"/>
          </a:xfrm>
          <a:custGeom>
            <a:avLst/>
            <a:gdLst>
              <a:gd name="textAreaLeft" fmla="*/ 17280 w 75960"/>
              <a:gd name="textAreaRight" fmla="*/ 58680 w 75960"/>
              <a:gd name="textAreaTop" fmla="*/ 86760 h 381240"/>
              <a:gd name="textAreaBottom" fmla="*/ 2944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7712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QGP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生成の可能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609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　昨年、加速器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RHIC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（２００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GeV 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）で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Au+Au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衝突実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　（反応中心部で２～６ 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GeV/f</a:t>
            </a:r>
            <a:r>
              <a:rPr b="1" lang="ja-JP" sz="1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㎥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ものエネルギー密度の達成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2952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相対論的重イオン衝突実験によって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QGP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の実現を目指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3080" y="2743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9900"/>
                </a:solidFill>
                <a:latin typeface="Times New Roman"/>
                <a:ea typeface="MS UI Gothic"/>
              </a:rPr>
              <a:t>ＰＨＥＮＩＸ実験　・・・　</a:t>
            </a:r>
            <a:r>
              <a:rPr b="1" lang="ja-JP" sz="2000" spc="-1" strike="noStrike">
                <a:solidFill>
                  <a:srgbClr val="009900"/>
                </a:solidFill>
                <a:latin typeface="Times New Roman"/>
                <a:ea typeface="MS UI Gothic"/>
              </a:rPr>
              <a:t>QGP</a:t>
            </a:r>
            <a:r>
              <a:rPr b="1" lang="ja-JP" sz="2000" spc="-1" strike="noStrike">
                <a:solidFill>
                  <a:srgbClr val="009900"/>
                </a:solidFill>
                <a:latin typeface="Times New Roman"/>
                <a:ea typeface="MS UI Gothic"/>
              </a:rPr>
              <a:t>生成過程における多種のシグナルの測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2133720"/>
            <a:ext cx="457200" cy="409320"/>
          </a:xfrm>
          <a:prstGeom prst="rightArrow">
            <a:avLst>
              <a:gd name="adj1" fmla="val 50000"/>
              <a:gd name="adj2" fmla="val 27924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1240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高横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運動量ハドロンの生成量減少は　シグナルの重要な一つ（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Jet Quench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効果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5943600"/>
            <a:ext cx="485640" cy="380880"/>
          </a:xfrm>
          <a:prstGeom prst="downArrow">
            <a:avLst>
              <a:gd name="adj1" fmla="val 44444"/>
              <a:gd name="adj2" fmla="val 525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99800" y="6248520"/>
            <a:ext cx="43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66"/>
                </a:solidFill>
                <a:latin typeface="Times New Roman"/>
              </a:rPr>
              <a:t>　高運動量領域のハドロンの識別能力を広げ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2666880"/>
            <a:ext cx="83822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35053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現状　　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TOF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と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RICH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だけでは、ハドロン識別の　　　可能な運動量領域に限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505320"/>
            <a:ext cx="685800" cy="38088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191120"/>
            <a:ext cx="594360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ＴＯＦ（飛行時間測定器）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π/K separation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・・ ２．５Ｇｅ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V/c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ま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　　　　　　　　　　　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K/P  separation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・・  ５Ｇｅ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V/c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ま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henix" descr=""/>
          <p:cNvPicPr/>
          <p:nvPr/>
        </p:nvPicPr>
        <p:blipFill>
          <a:blip r:embed="rId1"/>
          <a:stretch/>
        </p:blipFill>
        <p:spPr>
          <a:xfrm>
            <a:off x="5715000" y="3505320"/>
            <a:ext cx="3200400" cy="2743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001000" y="3581280"/>
            <a:ext cx="838080" cy="38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77320" y="35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7924320" y="3962520"/>
            <a:ext cx="381240" cy="53316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10280" y="6324480"/>
            <a:ext cx="914400" cy="38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63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952880"/>
            <a:ext cx="480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RICH</a:t>
            </a:r>
            <a:r>
              <a:rPr b="0" lang="zh-CN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Ring</a:t>
            </a:r>
            <a:r>
              <a:rPr b="0" lang="zh-CN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Imaging</a:t>
            </a:r>
            <a:r>
              <a:rPr b="0" lang="zh-CN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Cherenkov</a:t>
            </a:r>
            <a:r>
              <a:rPr b="0" lang="zh-CN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Coun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6000" y="5257800"/>
            <a:ext cx="44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π/K separation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・・ ５～１７ＧｅＶ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/c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ま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9800" y="5656320"/>
            <a:ext cx="35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K/P  separation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・・  １７Ｇｅ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V/c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以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7391160" y="5181120"/>
            <a:ext cx="75960" cy="11430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7177-3E3D-4C8E-A6D1-D8E59560AC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000000"/>
                </a:solidFill>
                <a:latin typeface="Times New Roman"/>
              </a:rPr>
              <a:t>PHENIX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アップグレー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581280"/>
            <a:ext cx="75960" cy="381240"/>
          </a:xfrm>
          <a:custGeom>
            <a:avLst/>
            <a:gdLst>
              <a:gd name="textAreaLeft" fmla="*/ 17280 w 75960"/>
              <a:gd name="textAreaRight" fmla="*/ 58680 w 75960"/>
              <a:gd name="textAreaTop" fmla="*/ 86760 h 381240"/>
              <a:gd name="textAreaBottom" fmla="*/ 2944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676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数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GeV/c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の高運動量域ではチェレンコフ現象を粒子識別に利用できる。その閾値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48769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09360" y="1158840"/>
            <a:ext cx="33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9900"/>
                </a:solidFill>
                <a:latin typeface="Times New Roman"/>
                <a:ea typeface="MS UI Gothic"/>
              </a:rPr>
              <a:t>Cherenkov</a:t>
            </a:r>
            <a:r>
              <a:rPr b="0" lang="ja-JP" sz="2800" spc="-1" strike="noStrike">
                <a:solidFill>
                  <a:srgbClr val="009900"/>
                </a:solidFill>
                <a:latin typeface="Times New Roman"/>
                <a:ea typeface="MS UI Gothic"/>
              </a:rPr>
              <a:t>検出器の必要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2438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895480" y="35053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057400" y="41907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286000" y="38858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552720" y="5486400"/>
            <a:ext cx="38124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91320" y="685800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6019920"/>
            <a:ext cx="3200400" cy="3682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放射媒体には、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n ~ 1.01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という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低屈折率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が要求され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2743200"/>
            <a:ext cx="26672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Aerogel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が 適合す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200400"/>
            <a:ext cx="609480" cy="380880"/>
          </a:xfrm>
          <a:prstGeom prst="rightArrow">
            <a:avLst>
              <a:gd name="adj1" fmla="val 40620"/>
              <a:gd name="adj2" fmla="val 63755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31240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990099"/>
                </a:solidFill>
                <a:latin typeface="Times New Roman"/>
              </a:rPr>
              <a:t>Aerogel Cherenkov Counter</a:t>
            </a:r>
            <a:r>
              <a:rPr b="0" lang="ja-JP" sz="2400" spc="-1" strike="noStrike">
                <a:solidFill>
                  <a:srgbClr val="ff0066"/>
                </a:solidFill>
                <a:latin typeface="Times New Roman"/>
              </a:rPr>
              <a:t>　　　　　　　　　　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の研究・開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438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629400" y="5486400"/>
            <a:ext cx="9144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800600" y="1752480"/>
          <a:ext cx="4114800" cy="96336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</a:tblGrid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気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rog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液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　～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Mom-n" descr=""/>
          <p:cNvPicPr/>
          <p:nvPr/>
        </p:nvPicPr>
        <p:blipFill>
          <a:blip r:embed="rId1"/>
          <a:stretch/>
        </p:blipFill>
        <p:spPr>
          <a:xfrm>
            <a:off x="0" y="3124080"/>
            <a:ext cx="441972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2120" y="4572000"/>
            <a:ext cx="457200" cy="12193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1828800"/>
            <a:ext cx="0" cy="4876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2819520"/>
            <a:ext cx="609480" cy="380880"/>
          </a:xfrm>
          <a:prstGeom prst="rightArrow">
            <a:avLst>
              <a:gd name="adj1" fmla="val 40620"/>
              <a:gd name="adj2" fmla="val 63755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Extention" descr=""/>
          <p:cNvPicPr/>
          <p:nvPr/>
        </p:nvPicPr>
        <p:blipFill>
          <a:blip r:embed="rId2"/>
          <a:stretch/>
        </p:blipFill>
        <p:spPr>
          <a:xfrm>
            <a:off x="4876920" y="3962520"/>
            <a:ext cx="4038480" cy="2666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638680" y="4876920"/>
            <a:ext cx="45720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5562720"/>
            <a:ext cx="76212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6248520"/>
            <a:ext cx="60984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77320" y="6248520"/>
            <a:ext cx="60948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4876920"/>
            <a:ext cx="83808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53341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7GeV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85800" y="2362320"/>
                <a:ext cx="27432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m</m:t>
                                        </m:r>
                                      </m:num>
                                      <m:den>
                                        <m:r>
                                          <m:t xml:space="preserve">p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D10A-E6C7-4CEB-9E72-AA016F265D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卒業研究の目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143000"/>
            <a:ext cx="8077320" cy="116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Aerogel Cherenkov Counter</a:t>
            </a:r>
            <a:r>
              <a:rPr b="1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</a:t>
            </a:r>
            <a:r>
              <a:rPr b="1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ACC</a:t>
            </a:r>
            <a:r>
              <a:rPr b="1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）プロトタイ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の設計・製作および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KEK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におけるビームテス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2438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１．</a:t>
            </a:r>
            <a:r>
              <a:rPr b="1" lang="ja-JP" sz="2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ACC</a:t>
            </a:r>
            <a:r>
              <a:rPr b="1" lang="ja-JP" sz="2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プロトタイプの基本的性能評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3048120"/>
            <a:ext cx="3886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粒子識別能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検出効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0384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２．今後の開発方針を得るために必要なデータの収集と解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457200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5410080"/>
            <a:ext cx="26668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予備実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Aerogel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の性質の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181480"/>
            <a:ext cx="2743200" cy="129564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55627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ACC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設計、製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5410080"/>
            <a:ext cx="2133360" cy="76212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5257800"/>
            <a:ext cx="19051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KEK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テス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性能評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105520"/>
            <a:ext cx="1905120" cy="129528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5562720"/>
            <a:ext cx="609480" cy="533160"/>
          </a:xfrm>
          <a:custGeom>
            <a:avLst/>
            <a:gdLst>
              <a:gd name="textAreaLeft" fmla="*/ 95040 w 609480"/>
              <a:gd name="textAreaRight" fmla="*/ 533520 w 6094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5486400"/>
            <a:ext cx="609480" cy="533520"/>
          </a:xfrm>
          <a:custGeom>
            <a:avLst/>
            <a:gdLst>
              <a:gd name="textAreaLeft" fmla="*/ 95040 w 609480"/>
              <a:gd name="textAreaRight" fmla="*/ 533520 w 6094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4648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卒業研究の流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FC62-94FF-4A69-B904-BBA23EEDA8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Aerogel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と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チェレンコフ放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1143000"/>
            <a:ext cx="23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eroge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とは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32080" y="4975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160020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600200"/>
            <a:ext cx="54864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低密度性・・・　　　　のコロイド体であり、体積の９５％　　　　　　　　　が空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低屈折率・・・表面での反射率が低く、空気との　　　　　　　　　　　　境界がわかりにくい（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006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07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Rayleigh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散乱・・・光の吸収はほとんどなく散乱効果　　　　　　　　　　　が著し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3657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チェレンコフ放射とは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419112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41148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　　物質中を通過する荷電粒子の速度が、その物質中　での光の位相速度より大きいときに発生する光。この閾値性を利用して粒子識別を行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066680"/>
            <a:ext cx="1981080" cy="53352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3657600"/>
            <a:ext cx="3124440" cy="4572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4876920"/>
            <a:ext cx="5257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5181480"/>
            <a:ext cx="5257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光量が少ない・・・シンチレーション光の約１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指向性があ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短波長領域で強度が大きい・・・１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/λ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に比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スライド1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3046320" cy="2133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267080" y="57150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9436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5105520"/>
            <a:ext cx="304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ero23" descr=""/>
          <p:cNvPicPr/>
          <p:nvPr/>
        </p:nvPicPr>
        <p:blipFill>
          <a:blip r:embed="rId2"/>
          <a:stretch/>
        </p:blipFill>
        <p:spPr>
          <a:xfrm>
            <a:off x="5638680" y="1219320"/>
            <a:ext cx="3200400" cy="2743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828800" y="1600200"/>
                <a:ext cx="6094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5638680" y="632448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553080" y="6172200"/>
                <a:ext cx="304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6705720" y="6172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～ １０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3611-9631-432F-8C61-DCD6468E9C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152280"/>
            <a:ext cx="8534160" cy="7621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予備実験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Ⅰ ｰ 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Quality check 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10666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１．屈折率を最小偏角法で測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867280" y="1066680"/>
          <a:ext cx="3124440" cy="2238120"/>
        </p:xfrm>
        <a:graphic>
          <a:graphicData uri="http://schemas.openxmlformats.org/drawingml/2006/table">
            <a:tbl>
              <a:tblPr/>
              <a:tblGrid>
                <a:gridCol w="533520"/>
                <a:gridCol w="990720"/>
                <a:gridCol w="16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公称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測定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7±0.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8±0.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7±0.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0±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1±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bLack_box3" descr=""/>
          <p:cNvPicPr/>
          <p:nvPr/>
        </p:nvPicPr>
        <p:blipFill>
          <a:blip r:embed="rId1"/>
          <a:stretch/>
        </p:blipFill>
        <p:spPr>
          <a:xfrm>
            <a:off x="152280" y="4800600"/>
            <a:ext cx="1752840" cy="1676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52280" y="3581280"/>
            <a:ext cx="3810240" cy="15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２．透明度の測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　強度の減衰は指数関数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　 　　　　　　　　　　　 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, λ: 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透過長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[c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257800" y="4495680"/>
          <a:ext cx="3048120" cy="1600200"/>
        </p:xfrm>
        <a:graphic>
          <a:graphicData uri="http://schemas.openxmlformats.org/drawingml/2006/table">
            <a:tbl>
              <a:tblPr/>
              <a:tblGrid>
                <a:gridCol w="752760"/>
                <a:gridCol w="766440"/>
                <a:gridCol w="765360"/>
                <a:gridCol w="7635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１．００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１．０１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１．０２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３５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０．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．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１．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４１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２．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４．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５３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６．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５．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８．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4724280" y="3809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波長と屈折率を変えながら測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1880" y="449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6172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波長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[n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85760" y="1447920"/>
                <a:ext cx="1535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an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52280" y="2286000"/>
                <a:ext cx="25909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867280" y="1066680"/>
            <a:ext cx="3124440" cy="221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3581280"/>
            <a:ext cx="8610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0000" y="31240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Δn/(n-1)  ~ 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752480" y="1676520"/>
                <a:ext cx="4572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133720" y="16765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コーナーの角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laser" descr=""/>
          <p:cNvPicPr/>
          <p:nvPr/>
        </p:nvPicPr>
        <p:blipFill>
          <a:blip r:embed="rId2"/>
          <a:stretch/>
        </p:blipFill>
        <p:spPr>
          <a:xfrm>
            <a:off x="3581280" y="914400"/>
            <a:ext cx="2286000" cy="2590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904280" y="4191120"/>
            <a:ext cx="9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透過長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[cm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28600" y="4343400"/>
                <a:ext cx="1905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/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9" name="transmission-laser" descr=""/>
          <p:cNvPicPr/>
          <p:nvPr/>
        </p:nvPicPr>
        <p:blipFill>
          <a:blip r:embed="rId3"/>
          <a:stretch/>
        </p:blipFill>
        <p:spPr>
          <a:xfrm>
            <a:off x="1981080" y="4800600"/>
            <a:ext cx="3124440" cy="19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1E62-DAB4-4C2C-A599-A05B02CF7F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" y="228600"/>
            <a:ext cx="8534520" cy="685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カウンターの設計・製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5486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Belle" descr=""/>
          <p:cNvPicPr/>
          <p:nvPr/>
        </p:nvPicPr>
        <p:blipFill>
          <a:blip r:embed="rId1">
            <a:lum contrast="30000"/>
          </a:blip>
          <a:srcRect l="-7035" t="-6938" r="-6332" b="-6271"/>
          <a:stretch/>
        </p:blipFill>
        <p:spPr>
          <a:xfrm flipH="1" rot="10800000">
            <a:off x="6324480" y="2396880"/>
            <a:ext cx="2362320" cy="1865160"/>
          </a:xfrm>
          <a:prstGeom prst="rect">
            <a:avLst/>
          </a:prstGeom>
          <a:ln w="0">
            <a:noFill/>
          </a:ln>
        </p:spPr>
      </p:pic>
      <p:pic>
        <p:nvPicPr>
          <p:cNvPr id="164" name="Mirrortype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6553080" y="4343400"/>
            <a:ext cx="1597320" cy="2209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35053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透過長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は短波長域で１ｃｍ前後と短い　（予備実験Ⅰ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1143000"/>
            <a:ext cx="7391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二つのタイプを設計・製作した。共通の仕様は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材質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: 2mm thick aluminum , aerogel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の形状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: 11x11x12cm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MT : R6233 (Hamamatsu)  ,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乱反射材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内壁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) : Goretex / Millipore / Tyvek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　　　　　　　　　　　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38862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Rayleigh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散乱によるもの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1240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チェレンコフ光強度の大きい短波長域の光子を捕獲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4876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2. Type B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　（直接光型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2666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1. Type A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　（散乱光型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41911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散乱光の検出に重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51814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チェレンコフ光の指向性に注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59436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ビーム軸方向の長さの制約　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~10cm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以内　（予備実験Ⅰ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5562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直接光をミラー（平面鏡、放物面鏡）によって、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MT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にあつめ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9D7B-5436-4D03-9166-3916027387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685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4000" spc="-1" strike="noStrike">
                <a:solidFill>
                  <a:srgbClr val="000000"/>
                </a:solidFill>
                <a:latin typeface="Times New Roman"/>
              </a:rPr>
              <a:t>予備実験</a:t>
            </a:r>
            <a:r>
              <a:rPr b="1" i="1" lang="ja-JP" sz="3600" spc="-1" strike="noStrike">
                <a:solidFill>
                  <a:srgbClr val="000000"/>
                </a:solidFill>
                <a:latin typeface="Times New Roman"/>
              </a:rPr>
              <a:t>Ⅱ　ｰ</a:t>
            </a:r>
            <a:r>
              <a:rPr b="1" i="1" lang="ja-JP" sz="3600" spc="-1" strike="noStrike">
                <a:solidFill>
                  <a:srgbClr val="000000"/>
                </a:solidFill>
                <a:latin typeface="Times New Roman"/>
              </a:rPr>
              <a:t>PMT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の較正</a:t>
            </a:r>
            <a:r>
              <a:rPr b="1" i="1" lang="ja-JP" sz="3600" spc="-1" strike="noStrike">
                <a:solidFill>
                  <a:srgbClr val="000000"/>
                </a:solidFill>
                <a:latin typeface="Times New Roman"/>
              </a:rPr>
              <a:t>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9144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cc"/>
                </a:solidFill>
                <a:latin typeface="Times New Roman"/>
              </a:rPr>
              <a:t>KEK</a:t>
            </a:r>
            <a:r>
              <a:rPr b="1" lang="ja-JP" sz="2400" spc="-1" strike="noStrike">
                <a:solidFill>
                  <a:srgbClr val="3333cc"/>
                </a:solidFill>
                <a:latin typeface="Times New Roman"/>
              </a:rPr>
              <a:t>テスト実験で使用する光電子増倍管</a:t>
            </a:r>
            <a:r>
              <a:rPr b="1" lang="ja-JP" sz="2400" spc="-1" strike="noStrike">
                <a:solidFill>
                  <a:srgbClr val="3333cc"/>
                </a:solidFill>
                <a:latin typeface="Times New Roman"/>
              </a:rPr>
              <a:t>(PMT) R6233 </a:t>
            </a:r>
            <a:r>
              <a:rPr b="1" lang="ja-JP" sz="2400" spc="-1" strike="noStrike">
                <a:solidFill>
                  <a:srgbClr val="3333cc"/>
                </a:solidFill>
                <a:latin typeface="Times New Roman"/>
              </a:rPr>
              <a:t>の較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05120" y="2133720"/>
            <a:ext cx="57546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9900"/>
                </a:solidFill>
                <a:latin typeface="Times New Roman"/>
                <a:ea typeface="MS UI Gothic"/>
              </a:rPr>
              <a:t>PMT</a:t>
            </a:r>
            <a:r>
              <a:rPr b="1" lang="ja-JP" sz="2000" spc="-1" strike="noStrike">
                <a:solidFill>
                  <a:srgbClr val="009900"/>
                </a:solidFill>
                <a:latin typeface="Times New Roman"/>
                <a:ea typeface="MS UI Gothic"/>
              </a:rPr>
              <a:t>の</a:t>
            </a:r>
            <a:r>
              <a:rPr b="1" lang="ja-JP" sz="2000" spc="-1" strike="noStrike">
                <a:solidFill>
                  <a:srgbClr val="009900"/>
                </a:solidFill>
                <a:latin typeface="Times New Roman"/>
                <a:ea typeface="MS UI Gothic"/>
              </a:rPr>
              <a:t>ADC</a:t>
            </a:r>
            <a:r>
              <a:rPr b="1" lang="ja-JP" sz="2000" spc="-1" strike="noStrike">
                <a:solidFill>
                  <a:srgbClr val="009900"/>
                </a:solidFill>
                <a:latin typeface="Times New Roman"/>
                <a:ea typeface="MS UI Gothic"/>
              </a:rPr>
              <a:t>（波高）分布をポアソン分布として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9900"/>
                </a:solidFill>
                <a:latin typeface="Times New Roman"/>
                <a:ea typeface="MS UI Gothic"/>
              </a:rPr>
              <a:t>　　　　　　　　　　　　　　　　平均光電子数が推定でき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172200" y="571500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2286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371600"/>
            <a:ext cx="8610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PMT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は光子を光電効果を用いて光電子に変換し、増幅する。その過程はポアソン過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PMT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の出力は、放出光電子分布とある制限内において線形。　　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2895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ポアソン分布 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 　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平均光電子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MT_ADC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183" name="PMT_calib" descr=""/>
          <p:cNvPicPr/>
          <p:nvPr/>
        </p:nvPicPr>
        <p:blipFill>
          <a:blip r:embed="rId2"/>
          <a:stretch/>
        </p:blipFill>
        <p:spPr>
          <a:xfrm>
            <a:off x="4419720" y="3886200"/>
            <a:ext cx="4498920" cy="266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057400" y="2590920"/>
                <a:ext cx="2514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24280" y="2819520"/>
                <a:ext cx="385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609480" y="35053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レーザー（４１５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）を光電面に入射して、測定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0280" y="3048120"/>
            <a:ext cx="1447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19520" y="4419720"/>
            <a:ext cx="12189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V 1800V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2 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BEFF-140F-4CE7-A31A-6A3627DC57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400" spc="-1" strike="noStrike">
                <a:solidFill>
                  <a:srgbClr val="000000"/>
                </a:solidFill>
                <a:latin typeface="Times New Roman"/>
              </a:rPr>
              <a:t>KEK</a:t>
            </a:r>
            <a:r>
              <a:rPr b="0" i="1" lang="ja-JP" sz="3600" spc="-1" strike="noStrike">
                <a:solidFill>
                  <a:srgbClr val="000000"/>
                </a:solidFill>
                <a:latin typeface="Times New Roman"/>
              </a:rPr>
              <a:t>テスト実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1066680"/>
            <a:ext cx="5639040" cy="78552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実験目的　・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ACC 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プロトタイプの性能評価　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(Type A , 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　　　　　　・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光学系のテスト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133720"/>
            <a:ext cx="114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Se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2590920"/>
            <a:ext cx="4419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トリガー  </a:t>
            </a:r>
            <a:r>
              <a:rPr b="0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ST1∩ST2∩DF1∩DF2∩VE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</a:t>
            </a:r>
            <a:r>
              <a:rPr b="0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TOF</a:t>
            </a:r>
            <a:r>
              <a:rPr b="0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ST1</a:t>
            </a:r>
            <a:r>
              <a:rPr b="0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～</a:t>
            </a:r>
            <a:r>
              <a:rPr b="0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3 </a:t>
            </a:r>
            <a:r>
              <a:rPr b="0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で計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位置決め </a:t>
            </a:r>
            <a:r>
              <a:rPr b="0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DF1,2  </a:t>
            </a:r>
            <a:r>
              <a:rPr b="0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±</a:t>
            </a: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0.5cm</a:t>
            </a:r>
            <a:r>
              <a:rPr b="0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setup3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8153640" cy="2438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04920" y="4800600"/>
            <a:ext cx="883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21337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入射ビーム・・・４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GeV/C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の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次ビー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2666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index002" descr=""/>
          <p:cNvPicPr/>
          <p:nvPr/>
        </p:nvPicPr>
        <p:blipFill>
          <a:blip r:embed="rId2"/>
          <a:stretch/>
        </p:blipFill>
        <p:spPr>
          <a:xfrm>
            <a:off x="5867280" y="14479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86000" y="6019920"/>
            <a:ext cx="10666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0" y="59436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lbertus MT"/>
                <a:ea typeface="HGP創英角ｺﾞｼｯｸUB"/>
              </a:rPr>
              <a:t>３．０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4F27-D123-4D90-A707-09723E3A1A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20:56:33Z</dcterms:created>
  <dc:creator>ohki</dc:creator>
  <dc:description/>
  <dc:language>en-US</dc:language>
  <cp:lastModifiedBy>konno</cp:lastModifiedBy>
  <dcterms:modified xsi:type="dcterms:W3CDTF">2002-02-08T15:49:18Z</dcterms:modified>
  <cp:revision>63</cp:revision>
  <dc:subject/>
  <dc:title>相対論的高エネルギー原子核実験PHENIXのためのAerogel　Cherenkov　Counterの性能評価</dc:title>
</cp:coreProperties>
</file>