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DC28-3D87-4844-8346-4ABAE71158E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Cherenkov beam 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Experimental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.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igma=41.7 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he timing resolution of the Cherenkov beam counter is about 21 (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he number of photo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1 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D (Particle Ident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F (Time Of F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ing resolution of TOF (Time Of F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mprove timing resolution, it is necessary to improve timing resolution of the beam 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・・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xpected high timing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r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(WA98 at CERN S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Since the emission time of Cherenkov light is much faster than that of scintillation light, we think the timing resolution is expected to be better using Cherenkov radiator.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cintillation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Cherenkov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inimum ionizing particle b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N is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iming re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optical system which collects photons efficientr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iming resolution is inversely proportional to the number of photons, it is important to have optical system which collects photons efficiently.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reflecting all incoming light parallel to its axis t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focal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If the Cherenkov emission direction is parallel to the parabola axis, cherenkov photons are collected on the focal pointg”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mamatsu H24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TS = 370 (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aise Time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ll reflect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rigger = VETO 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FF1 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EF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EF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TR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T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Charge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・・２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GeV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KEK-T1 Beam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Number of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22.8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1.5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11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xperimental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onte Carlo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Courier New"/>
              </a:rPr>
              <a:t> “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experimental result was well described by Cherenkov simulation.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Courier New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Courier New"/>
              </a:rPr>
              <a:t>Q.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Courier New"/>
              </a:rPr>
              <a:t>Transmittance of Acly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2C9-67D0-4124-B65C-F6145560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FF1-B0E0-4E3D-9B98-019B7AC1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627-A71C-4E53-A3DE-04A572D5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42A-3E99-458B-9EF2-FEA52027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ECA-371A-4DF2-9425-4DFBDE52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9D8-193F-4224-B6E2-7A2F4526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ECC-C25A-4D68-B6BA-6426FBC4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B42-7247-4FDE-A488-6FA16D3B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1F5-6A2E-4274-B747-7EBEE525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C73-BB42-40AA-8306-BF3AF7DD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9D6-096C-4219-9B5C-66CAD07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0F7-71ED-44B3-928F-3637240E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1BA0-792C-48E5-A0A2-D13B05598F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7200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4197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952880"/>
            <a:ext cx="7315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.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2.Cherenkov beam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3.Experimental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4.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4876920"/>
            <a:ext cx="2590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048120"/>
            <a:ext cx="815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.Sakai S.Esumi M.Ono A.Kiyomichi Y.Kuroki S.Sato M.Shindou A.Danmura H.Tsuruoka H.Masui Y.Mi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Univ. of Tsukub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429000"/>
            <a:ext cx="8384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2210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Development of high timing resolution Cherenkov beam counter </a:t>
            </a: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（高飛行時間分解能チェレンコフ・ビームカウンターの開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74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52280" y="34290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657600"/>
            <a:ext cx="2286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37339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4648320"/>
            <a:ext cx="4572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3429000"/>
            <a:ext cx="1752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34290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3733920"/>
            <a:ext cx="19051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5920" y="5105520"/>
            <a:ext cx="759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304920"/>
            <a:ext cx="19810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29600" y="1447920"/>
            <a:ext cx="2286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33520"/>
            <a:ext cx="19051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22860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2860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533520"/>
            <a:ext cx="22096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1447920"/>
            <a:ext cx="7596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7280" y="243828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igma=41.7 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9080" y="38862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HK-RE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5000" y="441972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igma=36.3 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39625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3962520"/>
            <a:ext cx="1828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876920"/>
            <a:ext cx="304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791320"/>
            <a:ext cx="1218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tts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8534520" cy="5334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895480" y="3962520"/>
            <a:ext cx="175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609480"/>
            <a:ext cx="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19520" y="3886200"/>
            <a:ext cx="190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1143000"/>
            <a:ext cx="129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5440" y="1295280"/>
            <a:ext cx="1982880" cy="11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3962520"/>
            <a:ext cx="19047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3962520"/>
            <a:ext cx="1600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06668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1295280"/>
            <a:ext cx="16761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05920" y="2286000"/>
            <a:ext cx="3045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1523880"/>
            <a:ext cx="20574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523880"/>
            <a:ext cx="1676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2362320"/>
            <a:ext cx="76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952880"/>
            <a:ext cx="763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191120"/>
            <a:ext cx="1981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4191120"/>
            <a:ext cx="1981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05920" y="4952880"/>
            <a:ext cx="228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12952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2880" y="17524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F2-RE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68920" y="231444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igma=41.7 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4760" y="16002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HK-RE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0040" y="22096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igma=36.6 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51360" y="441972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HK-RE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68920" y="502920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igma=36.3 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61960" y="44197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HK-(REF1+REF2)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83720" y="49528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igma=28.6 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2057400"/>
            <a:ext cx="1600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1905120"/>
            <a:ext cx="1600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4724280"/>
            <a:ext cx="1600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4724280"/>
            <a:ext cx="2057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38862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3962520"/>
            <a:ext cx="76176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iming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58920" y="1828800"/>
                <a:ext cx="4082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K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K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4343400" y="228600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486400" y="1752480"/>
                <a:ext cx="2854440" cy="29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  <m:r>
                          <m:t xml:space="preserve">)</m:t>
                        </m:r>
                      </m:e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143000" y="4038480"/>
                <a:ext cx="66229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K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1901880" y="50943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124080" y="4876920"/>
                <a:ext cx="371160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/>
                          <m:sup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H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910440" y="5715000"/>
            <a:ext cx="71056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“</a:t>
            </a:r>
            <a:r>
              <a:rPr b="1" i="1" lang="ja-JP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The timing resolution of the Cherenkov beam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 </a:t>
            </a:r>
            <a:r>
              <a:rPr b="1" i="1" lang="ja-JP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is about 21 (ps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2209680"/>
            <a:ext cx="266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2209680"/>
            <a:ext cx="3124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541008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1523880"/>
            <a:ext cx="1143000" cy="2286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440" y="1447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3962520"/>
            <a:ext cx="1143000" cy="2286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440" y="3886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19320" y="1600200"/>
            <a:ext cx="662940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96080" y="1219320"/>
            <a:ext cx="4572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91520" y="1752480"/>
            <a:ext cx="2286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838080" y="1066680"/>
          <a:ext cx="75438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5438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371600" y="5715000"/>
            <a:ext cx="6477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5715000"/>
            <a:ext cx="67816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571500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1219320"/>
            <a:ext cx="662940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48720" y="1295280"/>
            <a:ext cx="75960" cy="441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77320" y="838080"/>
            <a:ext cx="533160" cy="1067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39625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Performance of 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0" y="350532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2320" y="22860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  <a:ea typeface="ＭＳ Ｐ明朝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514600" y="3200040"/>
            <a:ext cx="762120" cy="685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29400" y="274320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6560" y="45720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iming-resolution (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54280" y="6172200"/>
            <a:ext cx="34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number of photo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3579840"/>
            <a:ext cx="5715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34320" y="380988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3352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ff0066"/>
                </a:solidFill>
                <a:latin typeface="Times New Roman"/>
                <a:ea typeface="ＭＳ Ｐ明朝"/>
              </a:rPr>
              <a:t>21 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5720" y="5791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  <a:ea typeface="ＭＳ Ｐ明朝"/>
              </a:rPr>
              <a:t>4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improve timing resolution of TOF, it is necessary to improve timing resolution of the beam and stop cou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developed Cherenkov beam counter which is used parab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The timing resolution of the Cherenkov beam counter is about 21 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81280" y="5334120"/>
            <a:ext cx="1144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1120" y="388620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3434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30040"/>
            <a:ext cx="7773840" cy="114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1676520"/>
            <a:ext cx="1067040" cy="1752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676520"/>
            <a:ext cx="1066680" cy="1752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1371600"/>
            <a:ext cx="1676160" cy="2286000"/>
          </a:xfrm>
          <a:prstGeom prst="irregularSeal1">
            <a:avLst/>
          </a:prstGeom>
          <a:solidFill>
            <a:srgbClr val="ff66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3581280"/>
            <a:ext cx="228600" cy="22860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3809880"/>
            <a:ext cx="228600" cy="22860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3733920"/>
            <a:ext cx="228600" cy="22860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809880"/>
            <a:ext cx="228600" cy="22860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04960" y="320040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33560" y="327672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35268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9200" y="485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743200" y="43434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6840" y="3124080"/>
            <a:ext cx="2477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Particle Ident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880" y="41911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Quality of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4360" y="4191120"/>
            <a:ext cx="52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iming resolution of T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Time Of Fl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11320" y="5632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905120" y="4800600"/>
                <a:ext cx="4572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A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TO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78000" y="5665680"/>
            <a:ext cx="8329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“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To improve timing resolution of TOF, it is necessary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timing resolution of the beam and stop coun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32767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505320"/>
            <a:ext cx="228600" cy="22860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30040"/>
            <a:ext cx="8381880" cy="114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Why we chosen Cherenkov l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429000"/>
            <a:ext cx="289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523880" y="2514600"/>
            <a:ext cx="1143000" cy="914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590920"/>
            <a:ext cx="380880" cy="1523880"/>
          </a:xfrm>
          <a:prstGeom prst="ellipse">
            <a:avLst/>
          </a:prstGeom>
          <a:noFill/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3429000"/>
            <a:ext cx="1143000" cy="914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760" y="36831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sponse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~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ｐ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191120"/>
            <a:ext cx="19051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2743200"/>
            <a:ext cx="259056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249600" y="2741400"/>
            <a:ext cx="152280" cy="6858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400800" y="3123720"/>
            <a:ext cx="838080" cy="3049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505320"/>
            <a:ext cx="0" cy="7617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714640" y="3505320"/>
            <a:ext cx="685800" cy="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3505320"/>
            <a:ext cx="914400" cy="152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1120" y="3657600"/>
            <a:ext cx="21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spon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~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080" y="165420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herenkov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2860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4800" y="17524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cintillation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22860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4640" y="59436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Heavy ion b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60958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72000" y="5791320"/>
                <a:ext cx="3657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erenkov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402960" y="6324480"/>
            <a:ext cx="25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NA44,WA98 at CERN S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3840" y="26668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ir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3333cc"/>
                </a:solidFill>
                <a:latin typeface="Times New Roman"/>
                <a:ea typeface="ＭＳ 明朝"/>
              </a:rPr>
              <a:t>“</a:t>
            </a:r>
            <a:r>
              <a:rPr b="1" i="1" lang="ja-JP" sz="2400" spc="-1" strike="noStrike">
                <a:solidFill>
                  <a:srgbClr val="3333cc"/>
                </a:solidFill>
                <a:latin typeface="Times New Roman"/>
                <a:ea typeface="ＭＳ 明朝"/>
              </a:rPr>
              <a:t>The emission time of Cherenkov light is much faster than that of scintillation light, the timing resolution is expected to be better by using Cherenkov light.</a:t>
            </a:r>
            <a:r>
              <a:rPr b="1" i="1" lang="ja-JP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71800" y="2819520"/>
                <a:ext cx="26668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439280" y="365760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inimum ionizing particle beam (z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191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1148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number of photons is ver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48320" y="1905120"/>
                <a:ext cx="1371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2064960" y="20574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iming re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3200400"/>
            <a:ext cx="228600" cy="227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" y="4724280"/>
            <a:ext cx="838440" cy="381240"/>
          </a:xfrm>
          <a:prstGeom prst="rightArrow">
            <a:avLst>
              <a:gd name="adj1" fmla="val 50000"/>
              <a:gd name="adj2" fmla="val 5498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6483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ptical system which collects photons efficiently  need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257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“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Timing resolution is inversely proportional to the number of photons, it is important to have optical system which collects photons efficientl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7360" y="1827360"/>
            <a:ext cx="502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8288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666880"/>
            <a:ext cx="502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8288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4290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17731200">
            <a:off x="609480" y="1600200"/>
            <a:ext cx="3124080" cy="1371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2860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191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15242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33720" y="3885840"/>
            <a:ext cx="990360" cy="608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352680"/>
            <a:ext cx="213372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971800" y="3962520"/>
            <a:ext cx="1522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2514600"/>
            <a:ext cx="30456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286000"/>
            <a:ext cx="198108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5120"/>
            <a:ext cx="114300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123720" y="3352680"/>
            <a:ext cx="2286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48320" y="1600200"/>
          <a:ext cx="418608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186080" cy="37972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8600" y="1600200"/>
          <a:ext cx="4191120" cy="377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00200"/>
                    <a:ext cx="4191120" cy="37782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8600" y="3581280"/>
            <a:ext cx="22860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438280" y="4038120"/>
            <a:ext cx="6098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4080" y="2971800"/>
            <a:ext cx="1526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05320"/>
            <a:ext cx="22860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048120" y="4114440"/>
            <a:ext cx="7596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828800"/>
            <a:ext cx="20574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438280"/>
            <a:ext cx="22860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124080" y="3657600"/>
            <a:ext cx="53352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733920"/>
            <a:ext cx="4343400" cy="304560"/>
          </a:xfrm>
          <a:prstGeom prst="rightArrow">
            <a:avLst>
              <a:gd name="adj1" fmla="val 50000"/>
              <a:gd name="adj2" fmla="val 35653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934320" y="4114440"/>
            <a:ext cx="60948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095880" y="4038120"/>
            <a:ext cx="144792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962520"/>
            <a:ext cx="137160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962520"/>
            <a:ext cx="137160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“</a:t>
            </a:r>
            <a:r>
              <a:rPr b="1" i="1" lang="ja-JP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If the Cherenkov emission direction is parallel to the parabola axis, Cherenkov photons are collected on the focal point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962520"/>
            <a:ext cx="1295280" cy="761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8280" y="34290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ocal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840" y="31240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ocal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543800" y="4114440"/>
            <a:ext cx="0" cy="60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Optic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396252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9200" y="333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herenkov beam counter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90720" y="1600200"/>
          <a:ext cx="7467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467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581280" y="4038480"/>
                <a:ext cx="1295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257800" y="4648320"/>
            <a:ext cx="190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Hamamatsu H24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1800" y="54100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TS = 370 (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586728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ise Time = 0.7(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5408640"/>
            <a:ext cx="306360" cy="914400"/>
          </a:xfrm>
          <a:custGeom>
            <a:avLst/>
            <a:gdLst>
              <a:gd name="textAreaLeft" fmla="*/ 195840 w 306360"/>
              <a:gd name="textAreaRight" fmla="*/ 306360 w 306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8195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505320"/>
            <a:ext cx="4267440" cy="228600"/>
          </a:xfrm>
          <a:prstGeom prst="rightArrow">
            <a:avLst>
              <a:gd name="adj1" fmla="val 50000"/>
              <a:gd name="adj2" fmla="val 466693"/>
            </a:avLst>
          </a:prstGeom>
          <a:solidFill>
            <a:srgbClr val="ffff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286000" y="2666520"/>
            <a:ext cx="129528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743200"/>
            <a:ext cx="182880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952880"/>
            <a:ext cx="4343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523520" y="57150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9000" y="601992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tal reflection reg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・・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8769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5160" y="5029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22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3840" y="30481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Experimental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817720"/>
            <a:ext cx="306360" cy="106524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2817720"/>
            <a:ext cx="306360" cy="10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2743200"/>
            <a:ext cx="30456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124080"/>
            <a:ext cx="3045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0512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88620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190512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88620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190512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220968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3124080"/>
            <a:ext cx="3045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327672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36232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8373800">
            <a:off x="4213440" y="30772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 rot="3226200">
            <a:off x="4214160" y="19515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320040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236232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27672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5320" y="4802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7800" y="44974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V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1905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380988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herenkov beam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352680"/>
            <a:ext cx="7848360" cy="152640"/>
          </a:xfrm>
          <a:prstGeom prst="rightArrow">
            <a:avLst>
              <a:gd name="adj1" fmla="val 50000"/>
              <a:gd name="adj2" fmla="val 1285436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480" y="5943600"/>
            <a:ext cx="90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rigger = VETO 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FF1 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F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EF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TR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T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9436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819520" y="5257800"/>
                <a:ext cx="53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18040" y="5410080"/>
            <a:ext cx="23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eam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・・・２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GeV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71680" y="3657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70760" y="4368960"/>
            <a:ext cx="323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KEK-T1 Beam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(T47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Photon yields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charge_dis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5791320" cy="4114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5715000"/>
            <a:ext cx="167652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5562720"/>
            <a:ext cx="640080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447920"/>
            <a:ext cx="304920" cy="4343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447920"/>
            <a:ext cx="571500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752480"/>
            <a:ext cx="2743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9720" y="1371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960" y="4648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p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0120" y="1447920"/>
            <a:ext cx="35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rom Radiator+PMT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1080" y="541008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rom PMT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266720" y="2362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066680" y="4266720"/>
            <a:ext cx="152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0040" y="182880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222.8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520" y="571500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1.5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0320" y="1676520"/>
            <a:ext cx="30492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1905120"/>
            <a:ext cx="304920" cy="3962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5486400"/>
            <a:ext cx="3049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5410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p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638680" y="2362320"/>
          <a:ext cx="3124440" cy="28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362320"/>
                    <a:ext cx="31244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 flipH="1">
            <a:off x="5791320" y="2895480"/>
            <a:ext cx="2133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924680" y="281916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56680" y="518148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66"/>
                </a:solidFill>
                <a:latin typeface="Times New Roman"/>
                <a:ea typeface="ＭＳ Ｐ明朝"/>
              </a:rPr>
              <a:t>211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7432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ＭＳ Ｐ明朝"/>
              </a:rPr>
              <a:t>4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51055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p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92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3040" y="5943600"/>
            <a:ext cx="61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number of photoelectrons=4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10480" y="2284560"/>
            <a:ext cx="306360" cy="23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cal Monte Carlo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3581280"/>
          <a:ext cx="80773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81280"/>
                    <a:ext cx="80773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80880" y="1295280"/>
          <a:ext cx="807732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95280"/>
                    <a:ext cx="80773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371600" y="1219320"/>
            <a:ext cx="716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8720" y="1219320"/>
            <a:ext cx="30456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505320"/>
            <a:ext cx="7086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3809880"/>
            <a:ext cx="838440" cy="152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121932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ＭＳ Ｐ明朝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2760" y="342900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ＭＳ Ｐ明朝"/>
              </a:rPr>
              <a:t>Optical Monte Carlo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5791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  <a:ea typeface="Courier New"/>
              </a:rPr>
              <a:t> </a:t>
            </a:r>
            <a:r>
              <a:rPr b="1" i="1" lang="ja-JP" sz="2800" spc="-1" strike="noStrike">
                <a:solidFill>
                  <a:srgbClr val="3333cc"/>
                </a:solidFill>
                <a:latin typeface="Century"/>
                <a:ea typeface="Courier New"/>
              </a:rPr>
              <a:t>“</a:t>
            </a:r>
            <a:r>
              <a:rPr b="1" i="1" lang="ja-JP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The experimental result was well described by Cherenkov simulation.</a:t>
            </a:r>
            <a:r>
              <a:rPr b="1" i="1" lang="ja-JP" sz="2800" spc="-1" strike="noStrike">
                <a:solidFill>
                  <a:srgbClr val="3333cc"/>
                </a:solidFill>
                <a:latin typeface="Century"/>
                <a:ea typeface="Courier New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3657600"/>
            <a:ext cx="182880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97960" y="3809880"/>
            <a:ext cx="407448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8000"/>
                </a:solidFill>
                <a:latin typeface="Century"/>
                <a:ea typeface="Courier New"/>
              </a:rPr>
              <a:t>Reflectivity at the aluminum f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8000"/>
                </a:solidFill>
                <a:latin typeface="Century"/>
                <a:ea typeface="Courier New"/>
              </a:rPr>
              <a:t>Absorption in the acly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8000"/>
                </a:solidFill>
                <a:latin typeface="Century"/>
                <a:ea typeface="Courier New"/>
              </a:rPr>
              <a:t>Quantum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8000"/>
                </a:solidFill>
                <a:latin typeface="Century"/>
                <a:ea typeface="Courier New"/>
              </a:rPr>
              <a:t>Index of acly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8000"/>
                </a:solidFill>
                <a:latin typeface="Century"/>
                <a:ea typeface="Courier New"/>
              </a:rPr>
              <a:t>Beam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6:58:30Z</dcterms:created>
  <dc:creator>sakai</dc:creator>
  <dc:description/>
  <dc:language>en-US</dc:language>
  <cp:lastModifiedBy>Yasuo MIAKE</cp:lastModifiedBy>
  <dcterms:modified xsi:type="dcterms:W3CDTF">2002-04-01T05:08:59Z</dcterms:modified>
  <cp:revision>180</cp:revision>
  <dc:subject/>
  <dc:title>PowerPoint プレゼンテーション  -  JPS-mar02</dc:title>
</cp:coreProperties>
</file>