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F14-38D7-4454-872F-B4495D8E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71A-068D-4A70-8F9D-5F6843B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264-F728-4667-9A7E-E3D9F03F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C54-311D-4B99-9194-FF0CCB5F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FAB-94EB-444B-A978-09880D5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446-7AB2-4511-B97C-FF47E480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CBF-A16B-4491-92CC-6EA07F3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574-91A0-4168-ACFF-1286FE39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114-33A4-4CD6-8921-4287F334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5C7-4EB3-4B78-915A-B72F001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097-D159-4732-8867-2388353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45E-AB6C-4ABB-BB32-08E89B6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FF35-2077-47C3-BDB0-8C9EE377C8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adronic measurements and Flow at RHIC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259092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Ichi E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st. of Physics, 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0240" y="38862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and chemical freeze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nisot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signals in heavy-ion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EC1-CA17-428D-9E39-0FF5EF89512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05288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825200" y="3044880"/>
            <a:ext cx="1451160" cy="1692000"/>
            <a:chOff x="1825200" y="3044880"/>
            <a:chExt cx="1451160" cy="1692000"/>
          </a:xfrm>
        </p:grpSpPr>
        <p:sp>
          <p:nvSpPr>
            <p:cNvPr id="119" name=""/>
            <p:cNvSpPr/>
            <p:nvPr/>
          </p:nvSpPr>
          <p:spPr>
            <a:xfrm flipV="1">
              <a:off x="2540880" y="3044880"/>
              <a:ext cx="0" cy="293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61560" y="3191400"/>
              <a:ext cx="220320" cy="220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908800" y="3486240"/>
              <a:ext cx="293760" cy="146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08800" y="3927600"/>
              <a:ext cx="367560" cy="7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5360" y="4221720"/>
              <a:ext cx="294120" cy="1472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40880" y="4442760"/>
              <a:ext cx="0" cy="2941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099520" y="3191400"/>
              <a:ext cx="220320" cy="220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878480" y="3559320"/>
              <a:ext cx="294120" cy="1472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25200" y="3990240"/>
              <a:ext cx="367560" cy="73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952280" y="4295520"/>
              <a:ext cx="294120" cy="146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99520" y="3265560"/>
              <a:ext cx="882360" cy="125064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72200" y="2057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6d71"/>
                </a:solidFill>
                <a:latin typeface="Bookma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4440" y="92988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inbias Au+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t 13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ummed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pt the original orientation of the almond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99680" y="35046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ction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7800000">
            <a:off x="792360" y="3158640"/>
            <a:ext cx="6084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91" y="345"/>
                </a:moveTo>
                <a:arcTo wR="10800" hR="10800" stAng="-6271647" swAng="6271647"/>
                <a:lnTo>
                  <a:pt x="10800" y="10800"/>
                </a:lnTo>
                <a:close/>
              </a:path>
              <a:path fill="none" w="21600" h="21600">
                <a:moveTo>
                  <a:pt x="8091" y="345"/>
                </a:moveTo>
                <a:arcTo wR="10800" hR="10800" stAng="-6271647" swAng="627164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16040" y="3305160"/>
            <a:ext cx="576360" cy="21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5680" y="3516480"/>
            <a:ext cx="637560" cy="30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300000">
            <a:off x="1282680" y="3371400"/>
            <a:ext cx="158760" cy="38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178440" y="4610160"/>
            <a:ext cx="632520" cy="800280"/>
            <a:chOff x="3178440" y="4610160"/>
            <a:chExt cx="632520" cy="800280"/>
          </a:xfrm>
        </p:grpSpPr>
        <p:sp>
          <p:nvSpPr>
            <p:cNvPr id="140" name=""/>
            <p:cNvSpPr/>
            <p:nvPr/>
          </p:nvSpPr>
          <p:spPr>
            <a:xfrm flipH="1">
              <a:off x="3201840" y="4648320"/>
              <a:ext cx="60912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91" y="345"/>
                  </a:moveTo>
                  <a:arcTo wR="10800" hR="10800" stAng="-6271647" swAng="6271647"/>
                  <a:lnTo>
                    <a:pt x="10800" y="10800"/>
                  </a:lnTo>
                  <a:close/>
                </a:path>
                <a:path fill="none" w="21600" h="21600">
                  <a:moveTo>
                    <a:pt x="8091" y="345"/>
                  </a:moveTo>
                  <a:arcTo wR="10800" hR="10800" stAng="-6271647" swAng="627164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3200400" y="5029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581280" y="464796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00000">
              <a:off x="3273120" y="4620960"/>
              <a:ext cx="158760" cy="38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884-9368-4C2B-A300-8B83C02A71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838080" y="762120"/>
            <a:ext cx="6019920" cy="3888720"/>
            <a:chOff x="838080" y="762120"/>
            <a:chExt cx="6019920" cy="3888720"/>
          </a:xfrm>
        </p:grpSpPr>
        <p:pic>
          <p:nvPicPr>
            <p:cNvPr id="145" name="urqmd-cern-picture" descr=""/>
            <p:cNvPicPr/>
            <p:nvPr/>
          </p:nvPicPr>
          <p:blipFill>
            <a:blip r:embed="rId1"/>
            <a:stretch/>
          </p:blipFill>
          <p:spPr>
            <a:xfrm>
              <a:off x="838080" y="1214640"/>
              <a:ext cx="4657680" cy="29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V="1">
              <a:off x="3182760" y="1299960"/>
              <a:ext cx="0" cy="2908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98480" y="1295640"/>
              <a:ext cx="3164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82760" y="1673280"/>
              <a:ext cx="0" cy="447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2760" y="3462480"/>
              <a:ext cx="0" cy="447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2706840"/>
              <a:ext cx="44323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920" y="2743560"/>
              <a:ext cx="2966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1219320"/>
              <a:ext cx="1371600" cy="2982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4048200"/>
              <a:ext cx="0" cy="4478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44920" y="990720"/>
              <a:ext cx="0" cy="4478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18800" y="3824640"/>
              <a:ext cx="235548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00cc"/>
                  </a:solidFill>
                  <a:latin typeface="Comic Sans MS"/>
                </a:rPr>
                <a:t>XZ – the reaction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4640" y="1219320"/>
              <a:ext cx="114984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600cc"/>
                  </a:solidFill>
                  <a:latin typeface="Comic Sans MS"/>
                </a:rPr>
                <a:t>Picture: © UrQM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8680" y="2514960"/>
              <a:ext cx="1219320" cy="580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00"/>
                  </a:solidFill>
                  <a:latin typeface="Comic Sans MS"/>
                </a:rPr>
                <a:t>b : impact para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562720" y="2133360"/>
              <a:ext cx="0" cy="12193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6560" y="4191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6600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3440" y="762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6600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4640" y="3581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01840" y="144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ent anisot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57200"/>
            <a:ext cx="3044880" cy="55044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isotropic flow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rrela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th respect to </a:t>
            </a:r>
            <a:r>
              <a:rPr b="0" lang="en-US" sz="1400" spc="-1" strike="noStrike">
                <a:solidFill>
                  <a:srgbClr val="6600cc"/>
                </a:solidFill>
                <a:latin typeface="Comic Sans MS"/>
              </a:rPr>
              <a:t>the reaction 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4840" y="10666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Comic Sans MS"/>
              </a:rPr>
              <a:t>S. Volosh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 rot="10800000">
                <a:off x="801720" y="4723920"/>
                <a:ext cx="7047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962080" y="5486400"/>
            <a:ext cx="14990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rected f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54080" y="5486400"/>
            <a:ext cx="12535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liptic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078440" y="5181120"/>
            <a:ext cx="28404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30920" y="5181480"/>
            <a:ext cx="133200" cy="260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118-4599-453F-BC54-03CE62D724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v1y40pi-p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2872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540120" y="654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mic Sans MS"/>
              </a:rPr>
              <a:t>A. Wetzler (NA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v1pion15" descr=""/>
          <p:cNvPicPr/>
          <p:nvPr/>
        </p:nvPicPr>
        <p:blipFill>
          <a:blip r:embed="rId2"/>
          <a:stretch/>
        </p:blipFill>
        <p:spPr>
          <a:xfrm>
            <a:off x="628560" y="3408480"/>
            <a:ext cx="3733920" cy="2763720"/>
          </a:xfrm>
          <a:prstGeom prst="rect">
            <a:avLst/>
          </a:prstGeom>
          <a:ln w="0">
            <a:noFill/>
          </a:ln>
        </p:spPr>
      </p:pic>
      <p:pic>
        <p:nvPicPr>
          <p:cNvPr id="174" name="v1prot158" descr=""/>
          <p:cNvPicPr/>
          <p:nvPr/>
        </p:nvPicPr>
        <p:blipFill>
          <a:blip r:embed="rId3"/>
          <a:stretch/>
        </p:blipFill>
        <p:spPr>
          <a:xfrm>
            <a:off x="4676760" y="3352680"/>
            <a:ext cx="388620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2895480" y="1249200"/>
            <a:ext cx="1413360" cy="428760"/>
            <a:chOff x="2895480" y="1249200"/>
            <a:chExt cx="1413360" cy="428760"/>
          </a:xfrm>
        </p:grpSpPr>
        <p:pic>
          <p:nvPicPr>
            <p:cNvPr id="176" name="na49logo" descr=""/>
            <p:cNvPicPr/>
            <p:nvPr/>
          </p:nvPicPr>
          <p:blipFill>
            <a:blip r:embed="rId4"/>
            <a:stretch/>
          </p:blipFill>
          <p:spPr>
            <a:xfrm>
              <a:off x="2895480" y="1249200"/>
              <a:ext cx="45720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234960" y="14014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Comic Sans MS"/>
                </a:rPr>
                <a:t>Prelimin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072200" y="3625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58 GeV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3240" y="3625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58 GeV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8720" y="160020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40 GeV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ggle (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w component) i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2057400"/>
            <a:ext cx="990720" cy="3049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4648320"/>
            <a:ext cx="99036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E7F-CCE5-468B-84B1-562C1D69F2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07520" cy="51753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7162920" y="1585800"/>
            <a:ext cx="810720" cy="776160"/>
            <a:chOff x="7162920" y="1585800"/>
            <a:chExt cx="810720" cy="776160"/>
          </a:xfrm>
        </p:grpSpPr>
        <p:sp>
          <p:nvSpPr>
            <p:cNvPr id="186" name=""/>
            <p:cNvSpPr/>
            <p:nvPr/>
          </p:nvSpPr>
          <p:spPr>
            <a:xfrm>
              <a:off x="7162920" y="1585800"/>
              <a:ext cx="589680" cy="776160"/>
            </a:xfrm>
            <a:prstGeom prst="star5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1560" y="1902600"/>
              <a:ext cx="2440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31560" y="1928520"/>
              <a:ext cx="2440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7640" y="1833480"/>
              <a:ext cx="576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ST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low and non-flow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2057400"/>
            <a:ext cx="19814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2100000">
            <a:off x="3886200" y="3428280"/>
            <a:ext cx="403848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C22-6F74-4408-BA16-D6D0ADD3EC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sky_mon22" descr=""/>
          <p:cNvPicPr/>
          <p:nvPr/>
        </p:nvPicPr>
        <p:blipFill>
          <a:blip r:embed="rId1"/>
          <a:stretch/>
        </p:blipFill>
        <p:spPr>
          <a:xfrm>
            <a:off x="1066680" y="1068480"/>
            <a:ext cx="6858000" cy="4929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16200000">
            <a:off x="596520" y="1906560"/>
            <a:ext cx="9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931120" y="19112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5074200" y="1815480"/>
            <a:ext cx="129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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351720" y="4309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&lt;cos(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7200" y="58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d multipl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2562480" y="4319640"/>
            <a:ext cx="13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&lt;cos(2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1104840"/>
            <a:ext cx="693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357012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65760" y="781200"/>
            <a:ext cx="20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 vs 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(directed : n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4240" y="809640"/>
            <a:ext cx="20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 vs 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(elliptic : n=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44960" y="809640"/>
            <a:ext cx="222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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 vs 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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&lt; 0.3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(elliptic : n=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08920" y="3276720"/>
            <a:ext cx="10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+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920" y="3276720"/>
            <a:ext cx="10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+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56440" y="3279600"/>
            <a:ext cx="114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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&lt; 0.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3640" y="3809880"/>
            <a:ext cx="1738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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83880" y="3821040"/>
            <a:ext cx="157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3720" y="4343400"/>
            <a:ext cx="133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4760" y="4905360"/>
            <a:ext cx="133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4916880" y="4319640"/>
            <a:ext cx="13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&lt;cos(2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69880" y="3824280"/>
            <a:ext cx="157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53400" y="490536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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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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6062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action plane determination in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67E-2966-4B09-8C37-5C6ADDBCE2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sky-fig17" descr=""/>
          <p:cNvPicPr/>
          <p:nvPr/>
        </p:nvPicPr>
        <p:blipFill>
          <a:blip r:embed="rId1"/>
          <a:stretch/>
        </p:blipFill>
        <p:spPr>
          <a:xfrm>
            <a:off x="1852560" y="341280"/>
            <a:ext cx="5996160" cy="5754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84800" y="1066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67320" y="1066680"/>
            <a:ext cx="3539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asured at (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|&lt;0.35)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different reaction planes at (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|=3~4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720" y="4114800"/>
            <a:ext cx="1229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|&lt;0.3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vs  centr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3360" y="324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3360" y="3733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3360" y="3497400"/>
            <a:ext cx="152280" cy="1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5021280"/>
            <a:ext cx="152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50212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5021280"/>
            <a:ext cx="152280" cy="16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36000" y="49100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&lt;sin(2(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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)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" y="3352680"/>
            <a:ext cx="1860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u+Au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qrt(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=200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0680" y="57913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ty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" y="4753080"/>
            <a:ext cx="187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harged p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.2 &lt; pT &lt; 10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13520" y="3119400"/>
            <a:ext cx="14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-4~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3520" y="3348000"/>
            <a:ext cx="13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91200" y="359100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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59840" y="2057400"/>
            <a:ext cx="163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 statistic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---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ystematic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7680" y="40528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measurement at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F6F-5A4B-417E-A811-37BBF39317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final_v2_pt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4520" cy="5333760"/>
          </a:xfrm>
          <a:prstGeom prst="rect">
            <a:avLst/>
          </a:prstGeom>
          <a:ln w="0">
            <a:noFill/>
          </a:ln>
        </p:spPr>
      </p:pic>
      <p:pic>
        <p:nvPicPr>
          <p:cNvPr id="238" name="sky-fig18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3124080" cy="373392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0" y="228600"/>
            <a:ext cx="3276720" cy="6476400"/>
            <a:chOff x="0" y="228600"/>
            <a:chExt cx="3276720" cy="6476400"/>
          </a:xfrm>
        </p:grpSpPr>
        <p:grpSp>
          <p:nvGrpSpPr>
            <p:cNvPr id="240" name=""/>
            <p:cNvGrpSpPr/>
            <p:nvPr/>
          </p:nvGrpSpPr>
          <p:grpSpPr>
            <a:xfrm>
              <a:off x="0" y="228600"/>
              <a:ext cx="3276720" cy="6476400"/>
              <a:chOff x="0" y="228600"/>
              <a:chExt cx="3276720" cy="6476400"/>
            </a:xfrm>
          </p:grpSpPr>
          <p:pic>
            <p:nvPicPr>
              <p:cNvPr id="241" name="na45v2pt" descr=""/>
              <p:cNvPicPr/>
              <p:nvPr/>
            </p:nvPicPr>
            <p:blipFill>
              <a:blip r:embed="rId3"/>
              <a:stretch/>
            </p:blipFill>
            <p:spPr>
              <a:xfrm>
                <a:off x="139320" y="228600"/>
                <a:ext cx="2998080" cy="64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0" y="228600"/>
                <a:ext cx="3276720" cy="28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rot="19590000">
              <a:off x="583560" y="5396760"/>
              <a:ext cx="583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152280" y="838080"/>
          <a:ext cx="2819520" cy="262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838080"/>
                    <a:ext cx="28195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971800" y="838080"/>
          <a:ext cx="304812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838080"/>
                    <a:ext cx="30481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000840" y="838080"/>
          <a:ext cx="2819160" cy="262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838080"/>
                    <a:ext cx="281916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1447920" y="1371600"/>
            <a:ext cx="1482480" cy="565920"/>
            <a:chOff x="1447920" y="1371600"/>
            <a:chExt cx="1482480" cy="565920"/>
          </a:xfrm>
        </p:grpSpPr>
        <p:grpSp>
          <p:nvGrpSpPr>
            <p:cNvPr id="251" name=""/>
            <p:cNvGrpSpPr/>
            <p:nvPr/>
          </p:nvGrpSpPr>
          <p:grpSpPr>
            <a:xfrm>
              <a:off x="1447920" y="1371600"/>
              <a:ext cx="603000" cy="411120"/>
              <a:chOff x="1447920" y="1371600"/>
              <a:chExt cx="603000" cy="411120"/>
            </a:xfrm>
          </p:grpSpPr>
          <p:sp>
            <p:nvSpPr>
              <p:cNvPr id="252" name=""/>
              <p:cNvSpPr/>
              <p:nvPr/>
            </p:nvSpPr>
            <p:spPr>
              <a:xfrm>
                <a:off x="1447920" y="1371600"/>
                <a:ext cx="438840" cy="411120"/>
              </a:xfrm>
              <a:prstGeom prst="star5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22240" y="1539360"/>
                <a:ext cx="18144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22240" y="1553040"/>
                <a:ext cx="18144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22520" y="1502640"/>
                <a:ext cx="42840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T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789560" y="163044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na45xs" descr=""/>
          <p:cNvPicPr/>
          <p:nvPr/>
        </p:nvPicPr>
        <p:blipFill>
          <a:blip r:embed="rId10"/>
          <a:stretch/>
        </p:blipFill>
        <p:spPr>
          <a:xfrm>
            <a:off x="609480" y="5400720"/>
            <a:ext cx="1600200" cy="314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176200" y="5029200"/>
            <a:ext cx="695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hlogoColorA04" descr=""/>
          <p:cNvPicPr/>
          <p:nvPr/>
        </p:nvPicPr>
        <p:blipFill>
          <a:blip r:embed="rId11"/>
          <a:stretch/>
        </p:blipFill>
        <p:spPr>
          <a:xfrm>
            <a:off x="4191120" y="495288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260" name="phenix2" descr=""/>
          <p:cNvPicPr/>
          <p:nvPr/>
        </p:nvPicPr>
        <p:blipFill>
          <a:blip r:embed="rId12"/>
          <a:stretch/>
        </p:blipFill>
        <p:spPr>
          <a:xfrm>
            <a:off x="7315200" y="4800600"/>
            <a:ext cx="1143000" cy="399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saturates or drops at high 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9680" y="6019920"/>
            <a:ext cx="96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DBF-F0AE-44F1-AF3B-07EC8826E9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sky-fig08" descr=""/>
          <p:cNvPicPr/>
          <p:nvPr/>
        </p:nvPicPr>
        <p:blipFill>
          <a:blip r:embed="rId1"/>
          <a:stretch/>
        </p:blipFill>
        <p:spPr>
          <a:xfrm>
            <a:off x="1143000" y="895320"/>
            <a:ext cx="7238880" cy="5200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729040" y="582480"/>
            <a:ext cx="282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u+Au at sqrt(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=200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1640" y="5867280"/>
            <a:ext cx="118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84320" y="5867280"/>
            <a:ext cx="118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371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7600" y="4270320"/>
            <a:ext cx="154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h-,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pi-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ja-JP" sz="1800" spc="-1" strike="noStrike">
                <a:solidFill>
                  <a:srgbClr val="00ff00"/>
                </a:solidFill>
                <a:latin typeface="Times New Roman"/>
              </a:rPr>
              <a:t>K-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p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8920" y="4270320"/>
            <a:ext cx="1364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+,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i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K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371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7680" y="8334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=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11920" y="8352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.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72840" y="1546200"/>
            <a:ext cx="2851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ydro model including the1st or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hase transition with T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=120MeV (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p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lang="ja-JP" sz="1600" spc="-1" strike="noStrike">
                <a:solidFill>
                  <a:srgbClr val="00ff00"/>
                </a:solidFill>
                <a:latin typeface="Times New Roman"/>
              </a:rPr>
              <a:t>ka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pro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166840"/>
            <a:ext cx="228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1480" y="2414520"/>
            <a:ext cx="2286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1480" y="26528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800" y="50436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9400" y="50292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1520" y="1523880"/>
            <a:ext cx="252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(*)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.Huovinen, P.F.Kolb, U.W.Heinz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.V.Ruuskanen and S.A.Voloshin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hys. Lett. B503, 58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dentified had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66F-4105-434D-AB05-1235E92B46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sky-fig15" descr=""/>
          <p:cNvPicPr/>
          <p:nvPr/>
        </p:nvPicPr>
        <p:blipFill>
          <a:blip r:embed="rId1"/>
          <a:stretch/>
        </p:blipFill>
        <p:spPr>
          <a:xfrm>
            <a:off x="533520" y="15796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82" name="v2_k0_lambda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733560" cy="3136680"/>
          </a:xfrm>
          <a:prstGeom prst="rect">
            <a:avLst/>
          </a:prstGeom>
          <a:ln w="0">
            <a:noFill/>
          </a:ln>
        </p:spPr>
      </p:pic>
      <p:pic>
        <p:nvPicPr>
          <p:cNvPr id="283" name="v2_rich_nohydro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3733560" cy="334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09240" y="4921200"/>
            <a:ext cx="130860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ntipro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+ p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63160" y="4921200"/>
            <a:ext cx="9259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ro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+ p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41960" y="5105520"/>
            <a:ext cx="1381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Pions+ka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94680" y="2133720"/>
            <a:ext cx="105228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Comic Sans MS"/>
              </a:rPr>
              <a:t>Lamb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1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108240" y="2101680"/>
            <a:ext cx="1143000" cy="688320"/>
            <a:chOff x="3108240" y="2101680"/>
            <a:chExt cx="1143000" cy="688320"/>
          </a:xfrm>
        </p:grpSpPr>
        <p:pic>
          <p:nvPicPr>
            <p:cNvPr id="289" name="phenix2" descr=""/>
            <p:cNvPicPr/>
            <p:nvPr/>
          </p:nvPicPr>
          <p:blipFill>
            <a:blip r:embed="rId4"/>
            <a:stretch/>
          </p:blipFill>
          <p:spPr>
            <a:xfrm>
              <a:off x="3108240" y="2101680"/>
              <a:ext cx="114300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08240" y="2482920"/>
              <a:ext cx="114156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omic Sans MS"/>
                </a:rPr>
                <a:t>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175280" y="58356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78480" y="911160"/>
            <a:ext cx="739440" cy="609480"/>
            <a:chOff x="6378480" y="911160"/>
            <a:chExt cx="739440" cy="609480"/>
          </a:xfrm>
        </p:grpSpPr>
        <p:sp>
          <p:nvSpPr>
            <p:cNvPr id="293" name=""/>
            <p:cNvSpPr/>
            <p:nvPr/>
          </p:nvSpPr>
          <p:spPr>
            <a:xfrm>
              <a:off x="6378480" y="911160"/>
              <a:ext cx="537840" cy="609480"/>
            </a:xfrm>
            <a:prstGeom prst="star5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14720" y="1159920"/>
              <a:ext cx="22248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14720" y="1180440"/>
              <a:ext cx="22248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92680" y="1105920"/>
              <a:ext cx="525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ST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688440" y="762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mic Sans MS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22240" y="2101680"/>
            <a:ext cx="1143000" cy="688320"/>
            <a:chOff x="822240" y="2101680"/>
            <a:chExt cx="1143000" cy="688320"/>
          </a:xfrm>
        </p:grpSpPr>
        <p:pic>
          <p:nvPicPr>
            <p:cNvPr id="299" name="phenix2" descr=""/>
            <p:cNvPicPr/>
            <p:nvPr/>
          </p:nvPicPr>
          <p:blipFill>
            <a:blip r:embed="rId5"/>
            <a:stretch/>
          </p:blipFill>
          <p:spPr>
            <a:xfrm>
              <a:off x="822240" y="2101680"/>
              <a:ext cx="114300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22240" y="2482920"/>
              <a:ext cx="114156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omic Sans MS"/>
                </a:rPr>
                <a:t>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956280" y="3429000"/>
            <a:ext cx="739440" cy="609120"/>
            <a:chOff x="6956280" y="3429000"/>
            <a:chExt cx="739440" cy="609120"/>
          </a:xfrm>
        </p:grpSpPr>
        <p:sp>
          <p:nvSpPr>
            <p:cNvPr id="302" name=""/>
            <p:cNvSpPr/>
            <p:nvPr/>
          </p:nvSpPr>
          <p:spPr>
            <a:xfrm>
              <a:off x="6956280" y="3429000"/>
              <a:ext cx="537840" cy="609120"/>
            </a:xfrm>
            <a:prstGeom prst="star5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92520" y="3677760"/>
              <a:ext cx="22248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92520" y="3697920"/>
              <a:ext cx="22248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70480" y="3623400"/>
              <a:ext cx="525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ST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298280" y="33526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mic Sans MS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versed 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t 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&gt; 2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F58-2298-4C5C-8C64-1C0371959C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v2epsall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934320" cy="52750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1828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BD4-BCF3-4A10-8BC8-D210C95B82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7545" r="7615" b="0"/>
          <a:stretch/>
        </p:blipFill>
        <p:spPr>
          <a:xfrm>
            <a:off x="304920" y="990720"/>
            <a:ext cx="8305560" cy="556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58120" y="53352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iled by T. Ullich and  F. La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ransverse momentum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5147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transverse flow than SPS with similar freeze-out temperature at RH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BE7-629C-4BC8-82E6-70F79F6F27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495680" y="431640"/>
            <a:ext cx="4419720" cy="2997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495680" y="3327480"/>
            <a:ext cx="4419720" cy="2997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315560" y="25884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Hardtk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80880" y="2774880"/>
            <a:ext cx="403884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972160" y="2514600"/>
            <a:ext cx="141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 Chi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I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irect measurement of 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1371600"/>
            <a:ext cx="990720" cy="11430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1371600"/>
            <a:ext cx="990720" cy="11430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4343400"/>
            <a:ext cx="990720" cy="11430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4267080"/>
            <a:ext cx="990720" cy="11430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371600"/>
            <a:ext cx="2759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on the survived je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-like near side c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nishing away side peak in central coll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B7B-B861-489E-8C45-CEF54CFE7A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23960" y="1219320"/>
            <a:ext cx="7520040" cy="5089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175440" y="353880"/>
            <a:ext cx="2511360" cy="1703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318440" y="430200"/>
            <a:ext cx="457200" cy="129528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0000" y="430200"/>
            <a:ext cx="304920" cy="1295280"/>
          </a:xfrm>
          <a:prstGeom prst="rect">
            <a:avLst/>
          </a:prstGeom>
          <a:solidFill>
            <a:srgbClr val="0000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8800" y="430200"/>
            <a:ext cx="304920" cy="1295280"/>
          </a:xfrm>
          <a:prstGeom prst="rect">
            <a:avLst/>
          </a:prstGeom>
          <a:solidFill>
            <a:srgbClr val="0000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ion of back-to-back 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4EA-91A8-44CE-8AF4-8BFDCD3F70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312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447920"/>
            <a:ext cx="7788240" cy="38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GS - SPS - R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1) transverse expansion increases with beam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saturating the thermal freeze-out temperatur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reaching the chemical freeze-out temperature to the phase-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approaching the baryon free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2) space-momentum correlation unchanged (from HBT rad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freeze-out at constant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3) elliptic flow increases with bea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special anisotropy remained as an initial almond orientation (HBT with R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saturation at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~ 2GeV/c (depart from the hydro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quark coalescence might account for reversed trend of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vs mass 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4) evidence of jets and their su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* effect 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as a non-flow contribution or this could be the driving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A82-69D4-4A2A-989F-476341CC9A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59791" b="0"/>
          <a:stretch/>
        </p:blipFill>
        <p:spPr>
          <a:xfrm>
            <a:off x="457200" y="1557360"/>
            <a:ext cx="3505320" cy="400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0760" y="114300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. van Leeuwen (NA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4800600" cy="316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0080" y="114300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. Suire (ST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1680" y="36291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S/NA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31280" y="30481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5640" y="1600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mega f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876920"/>
            <a:ext cx="45720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ydro fit also describes the dat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ith the same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as for other hadrons (S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ith a higher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an the others (RH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32B-07BE-46DD-BE22-A4B054EC43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333" t="43843" r="20797" b="4041"/>
          <a:stretch/>
        </p:blipFill>
        <p:spPr>
          <a:xfrm>
            <a:off x="303120" y="1292400"/>
            <a:ext cx="3967200" cy="39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898360" y="2163600"/>
            <a:ext cx="3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2811" t="53669" r="38152" b="5532"/>
          <a:stretch/>
        </p:blipFill>
        <p:spPr>
          <a:xfrm>
            <a:off x="4281480" y="1063800"/>
            <a:ext cx="4329000" cy="423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809480" y="25146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14440" y="3930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another origin of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54720" y="9144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. Xu, Z. X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1320" y="990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. Xu, Z. X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334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f there is parton flow, the less interacting particles would show “semi” flow like sign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737-28BE-43CE-BA3F-9FD7DF3F23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01000" cy="3736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emical freeze-out  with therm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518148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the time when the particle composition is fixed (chemical freeze-ou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ching the chemical freeze-out temperature to the phase-bound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aching to the baryon-free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A7E-FF4C-40B8-AD7C-26C5975415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5568" t="38976" r="51821" b="3934"/>
          <a:stretch/>
        </p:blipFill>
        <p:spPr>
          <a:xfrm>
            <a:off x="457200" y="457200"/>
            <a:ext cx="3225960" cy="5791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5811" t="63508" r="37897" b="6239"/>
          <a:stretch/>
        </p:blipFill>
        <p:spPr>
          <a:xfrm>
            <a:off x="3809880" y="1371600"/>
            <a:ext cx="4876920" cy="3713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43400" y="5335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and freeze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257800"/>
            <a:ext cx="4191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rmal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is saturating already at A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hemical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is reaching the bound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ransverse and elliptic flows are still increasin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F9F-38D2-4A9F-9385-05E458BCB9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380880" y="1752480"/>
            <a:ext cx="8305920" cy="3200400"/>
            <a:chOff x="380880" y="1752480"/>
            <a:chExt cx="8305920" cy="3200400"/>
          </a:xfrm>
        </p:grpSpPr>
        <p:grpSp>
          <p:nvGrpSpPr>
            <p:cNvPr id="74" name=""/>
            <p:cNvGrpSpPr/>
            <p:nvPr/>
          </p:nvGrpSpPr>
          <p:grpSpPr>
            <a:xfrm>
              <a:off x="380880" y="1752480"/>
              <a:ext cx="4114800" cy="3200400"/>
              <a:chOff x="380880" y="1752480"/>
              <a:chExt cx="4114800" cy="3200400"/>
            </a:xfrm>
          </p:grpSpPr>
          <p:pic>
            <p:nvPicPr>
              <p:cNvPr id="75" name="" descr=""/>
              <p:cNvPicPr/>
              <p:nvPr/>
            </p:nvPicPr>
            <p:blipFill>
              <a:blip r:embed="rId1"/>
              <a:srcRect l="6362" t="22255" r="23284" b="3337"/>
              <a:stretch/>
            </p:blipFill>
            <p:spPr>
              <a:xfrm>
                <a:off x="380880" y="1752480"/>
                <a:ext cx="411480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568240" y="2023560"/>
                <a:ext cx="1823040" cy="18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218960" y="18730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Au+Au     40% to 8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8960" y="2711160"/>
              <a:ext cx="2133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Rounded MT Bold"/>
                </a:rPr>
                <a:t>0.2 </a:t>
              </a: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 Rounded MT Bold"/>
                </a:rPr>
                <a:t> p</a:t>
              </a:r>
              <a:r>
                <a:rPr b="0" lang="en-US" sz="1600" spc="-1" strike="noStrike" baseline="-25000">
                  <a:solidFill>
                    <a:srgbClr val="000099"/>
                  </a:solidFill>
                  <a:latin typeface="Arial Rounded MT Bold"/>
                </a:rPr>
                <a:t>T </a:t>
              </a: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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 Rounded MT Bold"/>
                </a:rPr>
                <a:t> 0.9 GeV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9880" y="2514240"/>
              <a:ext cx="6094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0    </a:t>
              </a:r>
              <a:r>
                <a:rPr b="1" lang="en-US" sz="18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33cc33"/>
                  </a:solidFill>
                  <a:latin typeface="Times New Roman"/>
                </a:rPr>
                <a:t>0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ff00ff"/>
                  </a:solidFill>
                  <a:latin typeface="Times New Roman"/>
                </a:rPr>
                <a:t>0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S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99ff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0099ff"/>
                  </a:solidFill>
                  <a:latin typeface="Times New Roman"/>
                </a:rPr>
                <a:t>*0</a:t>
              </a: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66880" y="190476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Rounded MT Bold"/>
                </a:rPr>
                <a:t>STAR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495680" y="1752480"/>
              <a:ext cx="4191120" cy="3200040"/>
              <a:chOff x="4495680" y="1752480"/>
              <a:chExt cx="4191120" cy="3200040"/>
            </a:xfrm>
          </p:grpSpPr>
          <p:pic>
            <p:nvPicPr>
              <p:cNvPr id="82" name="" descr=""/>
              <p:cNvPicPr/>
              <p:nvPr/>
            </p:nvPicPr>
            <p:blipFill>
              <a:blip r:embed="rId2"/>
              <a:srcRect l="5344" t="23226" r="22523" b="2890"/>
              <a:stretch/>
            </p:blipFill>
            <p:spPr>
              <a:xfrm>
                <a:off x="4495680" y="1752480"/>
                <a:ext cx="4191120" cy="32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6823800" y="1948680"/>
                <a:ext cx="1707840" cy="191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933960" y="190476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Rounded MT Bold"/>
                </a:rPr>
                <a:t>STAR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76960" y="2514240"/>
              <a:ext cx="60984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0    </a:t>
              </a:r>
              <a:r>
                <a:rPr b="1" lang="en-US" sz="18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33cc33"/>
                  </a:solidFill>
                  <a:latin typeface="Times New Roman"/>
                </a:rPr>
                <a:t>0 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ff00ff"/>
                  </a:solidFill>
                  <a:latin typeface="Times New Roman"/>
                </a:rPr>
                <a:t>0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S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99ff"/>
                  </a:solidFill>
                  <a:latin typeface="Times New Roman"/>
                </a:rPr>
                <a:t>K</a:t>
              </a:r>
              <a:r>
                <a:rPr b="1" lang="en-US" sz="1800" spc="-1" strike="noStrike" baseline="30000">
                  <a:solidFill>
                    <a:srgbClr val="0099ff"/>
                  </a:solidFill>
                  <a:latin typeface="Times New Roman"/>
                </a:rPr>
                <a:t>*0</a:t>
              </a: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57800" y="263484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Rounded MT Bold"/>
                </a:rPr>
                <a:t>0.2 </a:t>
              </a: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 Rounded MT Bold"/>
                </a:rPr>
                <a:t> p</a:t>
              </a:r>
              <a:r>
                <a:rPr b="0" lang="en-US" sz="1600" spc="-1" strike="noStrike" baseline="-25000">
                  <a:solidFill>
                    <a:srgbClr val="000099"/>
                  </a:solidFill>
                  <a:latin typeface="Arial Rounded MT Bold"/>
                </a:rPr>
                <a:t>T </a:t>
              </a: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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 Rounded MT Bold"/>
                </a:rPr>
                <a:t> 0.8 GeV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57800" y="1828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157400" y="1371600"/>
            <a:ext cx="58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0(770)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-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f0(980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|y| &lt;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55640" y="1519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. Fachini (ST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 challenge to e+e-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105520"/>
            <a:ext cx="586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tool to investigate the in-medium property of vector mes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 of TPC, feasibility in the central Au+Au collis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314-3C68-47CC-A8BC-4D1E248A71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t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352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ion HBT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5640" y="106668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Enokiz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11480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8858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09680" y="441936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09680" y="388584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1148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0384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38480" y="3809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39625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038480" y="39621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38480" y="3809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14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343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495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65760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429000"/>
            <a:ext cx="12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anding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105-CB8E-4C8A-B811-A53C619555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971800" y="304920"/>
          <a:ext cx="5888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5888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ha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895480"/>
            <a:ext cx="2438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adronic re-scattering and expansion produce space-momentum corre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BT is sensitive to the space-momentum correlation, not directly to the expansion veloc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why Rts ~ Rto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PS meeting, 15/Sep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507-132A-450B-8037-AA5B3C5F74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hinIchi 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9:56:59Z</dcterms:created>
  <dc:creator>江角晋一</dc:creator>
  <dc:description/>
  <dc:language>en-US</dc:language>
  <cp:lastModifiedBy>三明 康郎</cp:lastModifiedBy>
  <dcterms:modified xsi:type="dcterms:W3CDTF">2002-09-18T01:23:06Z</dcterms:modified>
  <cp:revision>16</cp:revision>
  <dc:subject/>
  <dc:title>PowerPoint プレゼンテーション</dc:title>
</cp:coreProperties>
</file>